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72E6-0479-457C-8EE0-E744ECECD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5704-92BC-4240-8D67-6EFA1EB8260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A708-0D3E-4449-B548-AC24312C39B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FE36-584D-43A0-96ED-57D5C8D9E6D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025C-D5EC-4802-A158-31585FD43FB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7282-2CD2-408D-AA88-70687A69C0B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3837-CC7A-4B07-90B6-D3740B12D8A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F899-174A-4073-B281-7B777F81C8D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F0B4-7EB7-4778-8A44-026917D8F651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2A7B-B3CF-48B9-8133-0240BB55AA8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E2C9-B0FE-44E5-896D-D1F3B867E8B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5CBC-3E09-48A4-9C6E-8C1722431F9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C551-1C02-4C20-8A69-25BA70BB41DC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B8AA-690B-4461-8619-50F0768C8D9A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5F31-876E-4E5F-85A8-24C28E4F76F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5DE8-B1CA-4025-BB55-C333D2A50F3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B043-EB73-40C2-B25D-F27A95CB8A6A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AF11-B655-4E66-9F1F-119953B8386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A965-D509-4B77-85EB-55BFFD503DA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F9FD-87AC-497F-9E53-4AD9EC118C4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9ACE-B00B-43A6-8014-EFE88D545CD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92E4-9F33-4DEE-B206-B99B5A8FA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4F358-2EF6-4AF4-8B62-9D431B06F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C9FB-6883-4189-B9F8-3876DD234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D296-CF0A-42B9-928E-809215584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E8B3-D58D-4473-A0D0-8BDCBF208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0262-2A1B-4896-8C5A-E53AED6CD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5ED6-F3F9-4E8E-BB43-75F7CD38C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AB67-50DB-4248-B37D-2E6D4387A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1774-F61C-492A-A724-9B78FA3C5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12F4B-46B2-49B0-99F9-A7358167F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03F0-D062-44B3-A8ED-4F89DADE3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9154-E1F7-44E7-A639-BD1656A71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E42A-973B-4164-85DE-E262DCC51E4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1413-7CA6-475D-B983-CD52F237BF2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67B7-DDEE-4D0D-AB80-E8D7F7B594E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F7A1-92DC-42A2-AC22-DD3056ADBAA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D53E-1B3B-448B-8278-63760747D93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EF9E-4DEC-4115-A36A-7B1B18AEC9A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C01F-0A59-4097-ACB9-7BF38320379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9691-CBB1-4C1B-B6EF-2047D32925B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BBBB-9D9B-480B-92B6-5996A02607B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D85F-421A-418C-BD04-C19859594E8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A735-B00D-4633-8350-4ADF9C2938B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15" descr="0726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9A9C-A675-4640-A009-41705C9BF02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3D2E-BC90-4A19-A0DD-C0D1F8639F4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F21A-8C0C-4279-9E02-135E3A684C2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3A87-B8F5-4071-91AF-9145702FB16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1CF5-0CB0-4872-A3B7-37D5E321189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B4B8-9760-40B0-9AF9-7470E0DEFB3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69BA-FF76-4618-A9A6-AC28F950643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B0D8-0941-41E8-837F-75D82A7D920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9393-B7B2-40A2-9E3E-8FB2F6405FF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h</cp:lastModifiedBy>
  <dcterms:modified xsi:type="dcterms:W3CDTF">2017-09-19T08:32:00Z</dcterms:modified>
  <cp:revision>168</cp:revision>
  <dc:subject>Normal Probability Distribution</dc:subject>
  <dc:title>Chapter 7</dc:title>
</cp:coreProperties>
</file>