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9D6-053E-4FA0-9D46-C7CE7771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167-9903-4BB1-81EF-07EE06FCD5F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C12-CE5E-4058-8CE9-97E02E669C5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778-0849-4692-B34A-FC7D3477E25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61C6-90B3-4618-8A15-E721A527D29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CA3-46EF-446D-88DE-8F74EAF3559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EAB2-E56F-4FC2-AB55-11E6266E243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1BC-D6BD-4C49-BD3A-23CAA5D7F82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401D-1360-4A87-9590-7E9FFF768F1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2A9-C538-414E-B3B8-BF28083759C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787-AC0E-427B-894B-D4B521B81C6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9ACB-1A68-45EB-B203-1535B603556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AA0-36B7-4F00-93BE-731F11A4263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552-3179-47A9-A8A0-C2FD8BE2C51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7757-59E9-48B9-AB26-E3A61AB23A6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221B-A568-4C94-B94F-59063EE5B14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E9B7-1A7F-4008-834C-525F932C0F6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34D8-F9AB-42E5-AD92-1E967DCE7C1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D91-769E-44F8-B62E-340A8AB2B020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BE6-6205-44CE-A0D8-137E63A6A0A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6B33-01A7-410E-BF1D-C704A67DF95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0B2C-B3C3-456C-889F-627D0E2E1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B317-4D4F-486E-BB6F-18E1AB10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3FA9-522F-486A-9CE0-69E7FC96C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B221-3DF4-4865-A444-A2028098B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A5C6-32BE-4B34-B4E1-38CD3E749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77CA-612E-4F56-AB7F-28E71C47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F14E-7FC2-45D8-9C24-894BADDFD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BB3A-30D0-467C-BE96-32E3DEED1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417C-D60A-41BF-B4E6-979443D5E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6DA3-7318-4252-802D-BCC802A92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3B75-0DB3-4FE7-8BD9-51EDD2C26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BDBB-E3D0-4E3A-92ED-42D24DA26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1DE-F031-4D8F-A3E0-7CD2B38C172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6D5-CED3-4F45-A0B5-099EB86512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CC0-B46F-4BFC-8F65-EFCD6CD32E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AA7-8E93-41BA-93D0-972DF327F0D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03B-E5FE-4D13-94E8-DB4ED55C9B0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F237-85FA-4C88-AF92-5F5F8CEEE60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9094-8179-4327-BFA9-610F88E632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EE9-E829-4263-8A2F-04E5C144B1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227-5889-4105-B79E-77CC7CC1C8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F3E-DF7D-43B6-831E-6973A2E4BC1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502-C99F-4BA5-8B19-A240A3C591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FCD-E2E2-4C39-AA09-B393CB09BA2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5951-6135-4446-ACD0-E99E97F6A66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A6A2-46DA-491D-A0D0-EAEF253C7A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0EB-F069-4907-AAB0-2986CF1A6BF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8E08-ABE0-44B5-8E69-5B80593C99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66D-4994-48AA-9D94-AD042866EE1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8D5B-D7E4-497E-A343-286B9E5C156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ACD-5F89-4B24-AA20-E6BF30888F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FAE-3432-4CB2-B388-88EF9BE36B9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h</cp:lastModifiedBy>
  <dcterms:modified xsi:type="dcterms:W3CDTF">2017-09-19T08:32:00Z</dcterms:modified>
  <cp:revision>168</cp:revision>
  <dc:subject>Normal Probability Distribution</dc:subject>
  <dc:title>Chapter 7</dc:title>
</cp:coreProperties>
</file>