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4BBD-1ADE-4C4C-A1E7-39BD1D03B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ED01-E538-475F-BCEA-24C35CB7B9D4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3168-471D-4800-A153-01EA325D504F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0E5D-BD41-4E68-A0A4-A7BDDA001D8A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36AF-6C13-4774-B83D-B337F5056FAF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1AA7-10F9-4460-9AB6-4CE9FA022A05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8FEC-32F7-4614-A347-E23C028C82B6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6BC4-4CE4-4975-B424-5E2698B79B4A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42DB-4C21-4145-98C8-A9C105801A5D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99B9-9333-46EA-86D2-472CB44A0F52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096F-A997-4330-B7B5-37A015EE5845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952A3-7509-4770-A724-E7B28C51ED3C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3BC6-41E0-45A0-BB0B-C2CBB0B2A7EB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AC96-42E2-4A78-8B41-6685334CC2F3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DADC-3D4A-469F-B239-A5E703B9D46E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6D82-2EEB-44BE-ACA7-3C31CAD599B0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ECD1-4556-482D-9BC5-ED953F7AC877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1127-0C1E-48B8-9F69-8C51E51A4488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E2CE-98D9-4451-842A-84A94CDE4373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FC6D-72C1-4FD3-8E68-186B0D534C8E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0361-F7B0-43D3-B31C-B0C24820513D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82C3-2227-47B4-A31C-E77D74A29891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54C4-96A8-4121-A016-0E5EDC71C453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3507-74ED-45BD-A0A8-4A4409C60CEA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3BA7-60DF-40F0-9D55-A019B442CC4B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6167-B036-442F-95A5-4C9BECFF9448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01A0-F43A-4861-9A67-B930BB86919B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19A3-8804-4661-9B0C-7E5FEC3894A0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3466-2C74-47BC-BF1C-206B828D147E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8FA9-73C0-4877-9C20-7772B99F3ED9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ACBF-A275-497C-A623-A353F0600090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F24D-399B-44B5-B65B-130D3A15891F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2472-DAFE-4EB3-9076-E3C4B5434BBA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6ED5-6286-4F43-880D-4A2BE1B483C0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9312-3203-4E4A-9C0E-E8F5110FF518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035D-86FE-4FE8-B419-39D61E9A92DB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D647-0FDD-4C13-B137-A1316D125566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A6A67-2CA2-458B-8B24-3BD90FC5DA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DEDE7-5BCE-4678-BBCD-6EB2A009D8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72279-D30F-41BD-B756-8531312C32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FEC2C-6127-4D9B-AF09-DFC62A4C39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67FF8-26DA-4E44-A837-6B90E37501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BBF33-8F15-42A8-80CE-03C2F4A355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430EB-B0AD-4EF7-9C86-AD127915E4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839DC-392A-4C54-B650-8443006470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276A1-E268-4A13-8E2A-F68DEB4864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B20DE-30C2-46E6-B0C9-3D3F343C8C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0D410-9F2D-49D1-995A-5FE3E99A4F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5B331-23E3-4B1F-B64D-B39291E5B0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3886200" cy="685800"/>
          </a:xfrm>
          <a:prstGeom prst="pie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8589-8F7F-4247-A4EB-805796CADFFD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" name="Text Box 12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Normal Probability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Picture 5" descr="intro"/>
          <p:cNvPicPr/>
          <p:nvPr/>
        </p:nvPicPr>
        <p:blipFill>
          <a:blip r:embed="rId1"/>
          <a:stretch/>
        </p:blipFill>
        <p:spPr>
          <a:xfrm>
            <a:off x="736560" y="4178160"/>
            <a:ext cx="2562120" cy="1809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0CE0-959E-48BB-A3DE-E9EBCFEF08A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racteristics of a Normal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ability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9000"/>
          </a:bodyPr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bell-shaped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nd has a single peak at the center of the distributio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arithmetic mean, median, and mode are equa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total area under the curve is 1.00; half the area under the normal curve is to the right of this center point and the other half to the left of i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ymmetrical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the mea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symptotic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curve gets closer and closer to th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axis but never actually touches it. To put it another way, the tails of the curve extend indefinitely in both direction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location of a normal distribution is determined by the mean,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the dispersion or spread of the distribution is determined by the standard deviation,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Arial"/>
              </a:rPr>
              <a:t>σ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935C-B57E-4D99-B6F6-5603D488015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Normal Distribution - Graphicall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7" name="Picture 8" descr="0711"/>
          <p:cNvPicPr/>
          <p:nvPr/>
        </p:nvPicPr>
        <p:blipFill>
          <a:blip r:embed="rId1"/>
          <a:stretch/>
        </p:blipFill>
        <p:spPr>
          <a:xfrm>
            <a:off x="1930320" y="2349360"/>
            <a:ext cx="5734080" cy="3581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E68D-1C51-486E-8C5F-67D463CDA754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Normal Distribution - Famil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0" name="Picture 13" descr="0712a"/>
          <p:cNvPicPr/>
          <p:nvPr/>
        </p:nvPicPr>
        <p:blipFill>
          <a:blip r:embed="rId1"/>
          <a:stretch/>
        </p:blipFill>
        <p:spPr>
          <a:xfrm>
            <a:off x="1104840" y="1981080"/>
            <a:ext cx="2781360" cy="1914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5" descr="0712b"/>
          <p:cNvPicPr/>
          <p:nvPr/>
        </p:nvPicPr>
        <p:blipFill>
          <a:blip r:embed="rId2"/>
          <a:stretch/>
        </p:blipFill>
        <p:spPr>
          <a:xfrm>
            <a:off x="5054760" y="1943280"/>
            <a:ext cx="2743200" cy="2009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7" descr="0712c"/>
          <p:cNvPicPr/>
          <p:nvPr/>
        </p:nvPicPr>
        <p:blipFill>
          <a:blip r:embed="rId3"/>
          <a:stretch/>
        </p:blipFill>
        <p:spPr>
          <a:xfrm>
            <a:off x="2286000" y="4280040"/>
            <a:ext cx="5105520" cy="1962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CDA9-DB67-493C-B9E9-820C08C3024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Standard Normal  Probability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5800" y="1834920"/>
            <a:ext cx="7499520" cy="14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6000"/>
          </a:bodyPr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standard normal distribution is a normal distribution with a mean of 0 and a standard deviation of 1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t is also called th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tribution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33cccc"/>
                </a:solidFill>
                <a:latin typeface="Arial"/>
              </a:rPr>
              <a:t>z-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value</a:t>
            </a:r>
            <a:r>
              <a:rPr b="0" lang="en-US" sz="2400" spc="-1" strike="noStrike">
                <a:solidFill>
                  <a:srgbClr val="4db14b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s the distance between a selected value, designat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and the population mean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divided by the population standard deviation, </a:t>
            </a:r>
            <a:r>
              <a:rPr b="0" lang="el-GR" sz="2400" spc="-1" strike="noStrike">
                <a:solidFill>
                  <a:srgbClr val="003366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formula i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7" name="Picture 9" descr="0713"/>
          <p:cNvPicPr/>
          <p:nvPr/>
        </p:nvPicPr>
        <p:blipFill>
          <a:blip r:embed="rId1"/>
          <a:stretch/>
        </p:blipFill>
        <p:spPr>
          <a:xfrm>
            <a:off x="3530520" y="5499000"/>
            <a:ext cx="2457360" cy="866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583A-BFFC-4403-BCE7-31FB26782D6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reas Under the Normal Curv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0" name="Picture 12" descr="0714"/>
          <p:cNvPicPr/>
          <p:nvPr/>
        </p:nvPicPr>
        <p:blipFill>
          <a:blip r:embed="rId1"/>
          <a:stretch/>
        </p:blipFill>
        <p:spPr>
          <a:xfrm>
            <a:off x="1028880" y="1879560"/>
            <a:ext cx="78102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4DF1-340C-4B44-9F83-6A8CD14E7B1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Normal Distribution –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333216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weekly incomes of shift foremen in the glass industry follow the normal probability distribution with a mean of $1,000 and a standard deviation of $100. What is th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alue for the income, let’s call i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f a foreman who earns $1,100 per week? For a foreman who earns $900 per week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4" name="Picture 8" descr="0715"/>
          <p:cNvPicPr/>
          <p:nvPr/>
        </p:nvPicPr>
        <p:blipFill>
          <a:blip r:embed="rId1"/>
          <a:stretch/>
        </p:blipFill>
        <p:spPr>
          <a:xfrm>
            <a:off x="4559400" y="2781360"/>
            <a:ext cx="4228920" cy="29052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A9F2-5F2D-4FCD-A718-992DD8E6A98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mpirical Ru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23712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68 percent of the area under the normal curve is within one standard deviation of the mea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95 percent is within two standard deviations of the mea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actically all is within three standard deviations of the mea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9" name="Picture 11" descr="0716"/>
          <p:cNvPicPr/>
          <p:nvPr/>
        </p:nvPicPr>
        <p:blipFill>
          <a:blip r:embed="rId1"/>
          <a:stretch/>
        </p:blipFill>
        <p:spPr>
          <a:xfrm>
            <a:off x="4267080" y="2870280"/>
            <a:ext cx="4534200" cy="2495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8AC1-C5F5-41E3-B095-2521834BB8E8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mpirical Rule -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276084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s part of its quality assurance program, the Autolite Battery Company conducts tests on battery life. For a particular D-cell alkaline battery, the mean life is 19 hours. The useful life of the battery follows a normal distribution with a standard deviation of 1.2 hours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nswer the following questions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bout 68 percent of the batteries failed between what two values?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bout 95 percent of the batteries failed between what two values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Virtually all of the batteries failed between what two values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3" name="Picture 14" descr="0717"/>
          <p:cNvPicPr/>
          <p:nvPr/>
        </p:nvPicPr>
        <p:blipFill>
          <a:blip r:embed="rId1"/>
          <a:stretch/>
        </p:blipFill>
        <p:spPr>
          <a:xfrm>
            <a:off x="4254480" y="2286000"/>
            <a:ext cx="458172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8339-6DC0-4F50-946E-E81EF5F5052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Distribution – Finding Probabiliti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07512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an earlier example we reported that the mean weekly income of a shift foreman in the glass industry is normally distributed with a mean of $1,000 and a standard deviation of $100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likelihood of selecting a foreman whose weekly income is between $1,000 and $1,1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7" name="Picture 20" descr="0718"/>
          <p:cNvPicPr/>
          <p:nvPr/>
        </p:nvPicPr>
        <p:blipFill>
          <a:blip r:embed="rId1"/>
          <a:stretch/>
        </p:blipFill>
        <p:spPr>
          <a:xfrm>
            <a:off x="4406760" y="2806560"/>
            <a:ext cx="4524480" cy="2686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DDA4-32B7-44A6-8077-EEF008815F6E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9" name="Picture 15" descr=""/>
          <p:cNvPicPr/>
          <p:nvPr/>
        </p:nvPicPr>
        <p:blipFill>
          <a:blip r:embed="rId1"/>
          <a:stretch/>
        </p:blipFill>
        <p:spPr>
          <a:xfrm>
            <a:off x="6740640" y="6076800"/>
            <a:ext cx="2092320" cy="2286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1" name="Picture 25" descr="0719"/>
          <p:cNvPicPr/>
          <p:nvPr/>
        </p:nvPicPr>
        <p:blipFill>
          <a:blip r:embed="rId2"/>
          <a:stretch/>
        </p:blipFill>
        <p:spPr>
          <a:xfrm>
            <a:off x="914400" y="2141640"/>
            <a:ext cx="7473960" cy="41259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DD52-1017-4C3A-B534-E3805AE048E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the difference between discrete and continuous distribution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ute the mean and the standard deviation for a uniform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ute probabilities by using the uniform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st the characteristics of the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fine and calculate z valu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termine the probability an observation is between two points on a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termine the probability an observation is above (or below) a point on a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e the normal probability distribution to approximate the binomial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BF3F-9D3C-4EB5-B8D8-180717E35EE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ding Areas for Z Using Exc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4" name="Picture 17" descr="0720"/>
          <p:cNvPicPr/>
          <p:nvPr/>
        </p:nvPicPr>
        <p:blipFill>
          <a:blip r:embed="rId1"/>
          <a:stretch/>
        </p:blipFill>
        <p:spPr>
          <a:xfrm>
            <a:off x="1359000" y="1943280"/>
            <a:ext cx="7572240" cy="44859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3"/>
          <p:cNvSpPr/>
          <p:nvPr/>
        </p:nvSpPr>
        <p:spPr>
          <a:xfrm>
            <a:off x="568800" y="2446200"/>
            <a:ext cx="458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Excel functio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=NORMDIST(x,Mean,Standard_dev,Cumu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101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NORMDIST(1100,1000,100,true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enerates area (probability) from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Z=1 and below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569D-F38B-475E-A21F-CD5A48002978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790 and $1,0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2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9" name="Picture 15" descr="0721"/>
          <p:cNvPicPr/>
          <p:nvPr/>
        </p:nvPicPr>
        <p:blipFill>
          <a:blip r:embed="rId1"/>
          <a:stretch/>
        </p:blipFill>
        <p:spPr>
          <a:xfrm>
            <a:off x="5003640" y="2019240"/>
            <a:ext cx="3714840" cy="4410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4659-BDA9-450A-A27B-807A4E95653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Less than $79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3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3" name="Picture 11" descr="0722"/>
          <p:cNvPicPr/>
          <p:nvPr/>
        </p:nvPicPr>
        <p:blipFill>
          <a:blip r:embed="rId1"/>
          <a:stretch/>
        </p:blipFill>
        <p:spPr>
          <a:xfrm>
            <a:off x="5054760" y="2031840"/>
            <a:ext cx="3695400" cy="4410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94CC-3A67-4925-B46E-3B565BED050D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840 and $1,2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4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7" name="Picture 13" descr="0723"/>
          <p:cNvPicPr/>
          <p:nvPr/>
        </p:nvPicPr>
        <p:blipFill>
          <a:blip r:embed="rId1"/>
          <a:stretch/>
        </p:blipFill>
        <p:spPr>
          <a:xfrm>
            <a:off x="5118120" y="1930320"/>
            <a:ext cx="3771720" cy="4533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3C31-BCE4-45B1-9480-63367BF47EDE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1,150 and $1,25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6268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rmal Distribution – Finding Probabilities (Example 5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1" name="Picture 77" descr="0724"/>
          <p:cNvPicPr/>
          <p:nvPr/>
        </p:nvPicPr>
        <p:blipFill>
          <a:blip r:embed="rId1"/>
          <a:stretch/>
        </p:blipFill>
        <p:spPr>
          <a:xfrm>
            <a:off x="4952880" y="2044800"/>
            <a:ext cx="3800520" cy="4257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713B-F83F-471C-A7A6-9DC15483B6F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ampl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yton Tire and Rubber Company wishes to set a minimum mileage guarantee on its new MX100 tire. Tests reveal the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mean mileage is 67,90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with a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standard deviation of 2,05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miles and that the distribution of miles follows the normal probability distribution. It wants to set the minimum guaranteed mileage so that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no more than 4 percen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of the tires will have to be replaced. What minimum guaranteed mileage should Layton announce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5" name="Picture 8" descr="0725"/>
          <p:cNvPicPr/>
          <p:nvPr/>
        </p:nvPicPr>
        <p:blipFill>
          <a:blip r:embed="rId1"/>
          <a:stretch/>
        </p:blipFill>
        <p:spPr>
          <a:xfrm>
            <a:off x="5079960" y="2070000"/>
            <a:ext cx="3533760" cy="4181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0826A-4905-4A6C-934D-103315D6F5F4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ampl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8" name="Picture 15" descr="0726"/>
          <p:cNvPicPr/>
          <p:nvPr/>
        </p:nvPicPr>
        <p:blipFill>
          <a:blip r:embed="rId1"/>
          <a:stretch/>
        </p:blipFill>
        <p:spPr>
          <a:xfrm>
            <a:off x="571680" y="2082960"/>
            <a:ext cx="8410320" cy="4000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A5FE-A3DA-4561-AA29-AE5B1327799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ce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1" name="Picture 12" descr="0727"/>
          <p:cNvPicPr/>
          <p:nvPr/>
        </p:nvPicPr>
        <p:blipFill>
          <a:blip r:embed="rId1"/>
          <a:stretch/>
        </p:blipFill>
        <p:spPr>
          <a:xfrm>
            <a:off x="2120760" y="2235240"/>
            <a:ext cx="4753080" cy="4057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E5DF-A078-46A1-AE49-C6DF5E54692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ebyshev’s Theore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693200" cy="16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arithmetic mean biweekly amount contributed by the Dupree Paint employees to the company’s profit-sharing plan is $51.54, and the standard deviation is $7.51. At least what percent of the contributions lie within plus 3.5 standard deviations and minus 3.5 standard deviations of the mean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5" name="Picture 6" descr="0329"/>
          <p:cNvPicPr/>
          <p:nvPr/>
        </p:nvPicPr>
        <p:blipFill>
          <a:blip r:embed="rId1"/>
          <a:stretch/>
        </p:blipFill>
        <p:spPr>
          <a:xfrm>
            <a:off x="1271520" y="3919680"/>
            <a:ext cx="7220160" cy="238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3173-25FC-4995-9418-199B852BB0CE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Approximation to the Binomi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104840" y="1914480"/>
            <a:ext cx="693432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normal distribution (a continuous distribution) yields a good approximation of the binomial distribution (a discrete distribution) for large value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normal probability distribution is generally a good approximation to the binomial probability distribution w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(1-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re both greater than 5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775F-DBA3-4E79-84D7-2442AA6D6E5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Uniform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26556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uniform probability distribution is perhaps the simplest distribution for a continuous random variable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s distribution is rectangular in shape and is defined by minimum and maximum valu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12" descr="0703"/>
          <p:cNvPicPr/>
          <p:nvPr/>
        </p:nvPicPr>
        <p:blipFill>
          <a:blip r:embed="rId1"/>
          <a:stretch/>
        </p:blipFill>
        <p:spPr>
          <a:xfrm>
            <a:off x="4457880" y="2641680"/>
            <a:ext cx="4209840" cy="3114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2A31-9FE5-4DEF-A592-E73D04727578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Rectangle 22"/>
          <p:cNvSpPr/>
          <p:nvPr/>
        </p:nvSpPr>
        <p:spPr>
          <a:xfrm>
            <a:off x="771480" y="1909800"/>
            <a:ext cx="7486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ing the normal distribution (a continuous distribution) as a substitute for a binomial distribution (a discrete distribution) for large values of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ems reasonable because, as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creases, a binomial distribution gets closer and closer to a normal distribution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Approximation to the Binomi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2" name="Picture 28" descr="0729"/>
          <p:cNvPicPr/>
          <p:nvPr/>
        </p:nvPicPr>
        <p:blipFill>
          <a:blip r:embed="rId1"/>
          <a:stretch/>
        </p:blipFill>
        <p:spPr>
          <a:xfrm>
            <a:off x="1206360" y="3606840"/>
            <a:ext cx="7562880" cy="2914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E652-12A8-45DD-A0F2-4CD40F49D0F7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inuity Correction Facto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52328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e value .5 subtracted or added, depending on the problem, to a selected value when a binomial probability distribution (a discrete probability distribution) is being approximated by a continuous probability distribution (the normal distribution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F820-AFD5-419D-88A5-B4087D4AF23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w to Apply the Correction Facto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ly four cases may arise. These cases ar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 For the probability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at least X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ccurs, use the area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above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5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 For the probability tha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more than X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ccurs, use the area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above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+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5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 For the probability tha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 or fewer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ccurs, use the area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below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.5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 For the probability tha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fewer than X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ccurs, use the area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below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+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5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410B-9A6D-4D96-AA53-F9E520E1B5D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704880" y="1819080"/>
            <a:ext cx="40068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ppose the management of the Santoni Pizza Restaurant found that 70 percent of its new customers return for another meal. For a week in which 80 new (first-time) customers dined at Santoni’s, </a:t>
            </a:r>
            <a:r>
              <a:rPr b="0" lang="en-US" sz="2400" spc="-1" strike="noStrike">
                <a:solidFill>
                  <a:srgbClr val="ff3101"/>
                </a:solidFill>
                <a:latin typeface="Arial"/>
              </a:rPr>
              <a:t>what is the probability that 60 or more will return for another meal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533520" y="457200"/>
            <a:ext cx="7924680" cy="9144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Approximation to the Binomial - Exampl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3" name="Picture 9" descr="0732"/>
          <p:cNvPicPr/>
          <p:nvPr/>
        </p:nvPicPr>
        <p:blipFill>
          <a:blip r:embed="rId1"/>
          <a:stretch/>
        </p:blipFill>
        <p:spPr>
          <a:xfrm>
            <a:off x="5092560" y="2654280"/>
            <a:ext cx="3762360" cy="2247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7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136A-102D-4339-AF56-52D6F876286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Approximation to the Binomial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6" name="Picture 28" descr="0733"/>
          <p:cNvPicPr/>
          <p:nvPr/>
        </p:nvPicPr>
        <p:blipFill>
          <a:blip r:embed="rId1"/>
          <a:stretch/>
        </p:blipFill>
        <p:spPr>
          <a:xfrm>
            <a:off x="974880" y="2206800"/>
            <a:ext cx="6810120" cy="3571560"/>
          </a:xfrm>
          <a:prstGeom prst="rect">
            <a:avLst/>
          </a:prstGeom>
          <a:ln w="0">
            <a:noFill/>
          </a:ln>
        </p:spPr>
      </p:pic>
      <p:grpSp>
        <p:nvGrpSpPr>
          <p:cNvPr id="227" name="Group 25"/>
          <p:cNvGrpSpPr/>
          <p:nvPr/>
        </p:nvGrpSpPr>
        <p:grpSpPr>
          <a:xfrm>
            <a:off x="2581200" y="4324320"/>
            <a:ext cx="5295960" cy="2170800"/>
            <a:chOff x="2581200" y="4324320"/>
            <a:chExt cx="5295960" cy="2170800"/>
          </a:xfrm>
        </p:grpSpPr>
        <p:grpSp>
          <p:nvGrpSpPr>
            <p:cNvPr id="228" name="Group 24"/>
            <p:cNvGrpSpPr/>
            <p:nvPr/>
          </p:nvGrpSpPr>
          <p:grpSpPr>
            <a:xfrm>
              <a:off x="2581200" y="4581360"/>
              <a:ext cx="4992840" cy="1913760"/>
              <a:chOff x="2581200" y="4581360"/>
              <a:chExt cx="4992840" cy="1913760"/>
            </a:xfrm>
          </p:grpSpPr>
          <p:sp>
            <p:nvSpPr>
              <p:cNvPr id="229" name="Rectangle 20"/>
              <p:cNvSpPr/>
              <p:nvPr/>
            </p:nvSpPr>
            <p:spPr>
              <a:xfrm>
                <a:off x="2581200" y="4581360"/>
                <a:ext cx="1028880" cy="12668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Text Box 21"/>
              <p:cNvSpPr/>
              <p:nvPr/>
            </p:nvSpPr>
            <p:spPr>
              <a:xfrm>
                <a:off x="3249720" y="6157800"/>
                <a:ext cx="4324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Arial"/>
                  </a:rPr>
                  <a:t>P(X </a:t>
                </a:r>
                <a:r>
                  <a:rPr b="0" lang="en-US" sz="1600" spc="-1" strike="noStrike">
                    <a:solidFill>
                      <a:srgbClr val="003366"/>
                    </a:solidFill>
                    <a:latin typeface="Arial"/>
                    <a:ea typeface="Times New Roman"/>
                  </a:rPr>
                  <a:t>≥ 60) = 0.063+0.048+ … + 0.001) = 0.197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Line 22"/>
              <p:cNvSpPr/>
              <p:nvPr/>
            </p:nvSpPr>
            <p:spPr>
              <a:xfrm>
                <a:off x="3400560" y="5867280"/>
                <a:ext cx="266400" cy="37152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232" name="Rectangle 23"/>
            <p:cNvSpPr/>
            <p:nvPr/>
          </p:nvSpPr>
          <p:spPr>
            <a:xfrm>
              <a:off x="6534000" y="4324320"/>
              <a:ext cx="1343160" cy="1266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A85E-EB58-44FB-9936-615B16ED1F27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5038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tep 1.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nd the mean and the variance of a binomial distribution and find th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rresponding to an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f 59.5  (x-.5, the correction factor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tep 2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Determine the area from 59.5 and beyo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AutoShape 10"/>
          <p:cNvSpPr/>
          <p:nvPr/>
        </p:nvSpPr>
        <p:spPr>
          <a:xfrm>
            <a:off x="533520" y="457200"/>
            <a:ext cx="7924680" cy="9144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Approximation to the Binomial - Examp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6" name="Picture 13" descr="0734"/>
          <p:cNvPicPr/>
          <p:nvPr/>
        </p:nvPicPr>
        <p:blipFill>
          <a:blip r:embed="rId1"/>
          <a:stretch/>
        </p:blipFill>
        <p:spPr>
          <a:xfrm>
            <a:off x="4851360" y="2006640"/>
            <a:ext cx="3952800" cy="44672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3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C704-E261-4113-A0E7-297266D7E3D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7962-639D-430D-9B2A-6D6B1DA419B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– Mean and Standard Devi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Picture 24" descr="0704"/>
          <p:cNvPicPr/>
          <p:nvPr/>
        </p:nvPicPr>
        <p:blipFill>
          <a:blip r:embed="rId1"/>
          <a:stretch/>
        </p:blipFill>
        <p:spPr>
          <a:xfrm>
            <a:off x="723960" y="2336760"/>
            <a:ext cx="820080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4494-E356-4BB6-8D18-72D6B1B227D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outhwest Arizona State University provides bus service to students while they are on campus. A bus arrives at the North Main Street and College Drive stop every 30 minutes between 6 A.M. and 11 P.M. during weekdays. Students arrive at the bus stop at random times. The time that a student waits is uniformly distributed from 0 to 30 minut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 Draw a graph of this distribution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 How long will a student “typically” have to wait for a bus? In other words what is the mean waiting time? What is the standard deviation of the waiting times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 What is the probability a student will wait more than 25 minutes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 What is the probability a student will wait between 10 and 20 minutes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3D64-9966-43B1-AF95-19B47F3C09F4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757080" y="1924200"/>
            <a:ext cx="4551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aw a graph of this distribution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8" name="Picture 12" descr="0706"/>
          <p:cNvPicPr/>
          <p:nvPr/>
        </p:nvPicPr>
        <p:blipFill>
          <a:blip r:embed="rId1"/>
          <a:stretch/>
        </p:blipFill>
        <p:spPr>
          <a:xfrm>
            <a:off x="876240" y="2997360"/>
            <a:ext cx="7696440" cy="2761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BD09-9E9C-4A78-9FE0-2791F689AC1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4848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long will a student “typically” have to wait for a bus? In other words what is the mean waiting time? What is the standard deviation of the waiting tim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Picture 7" descr="0707"/>
          <p:cNvPicPr/>
          <p:nvPr/>
        </p:nvPicPr>
        <p:blipFill>
          <a:blip r:embed="rId1"/>
          <a:stretch/>
        </p:blipFill>
        <p:spPr>
          <a:xfrm>
            <a:off x="4597560" y="2971800"/>
            <a:ext cx="4267080" cy="2085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79CA-3D25-44E1-B7D4-14556395FEA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19896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is the probability a student will wait more than 25 minut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10" descr="0708"/>
          <p:cNvPicPr/>
          <p:nvPr/>
        </p:nvPicPr>
        <p:blipFill>
          <a:blip r:embed="rId1"/>
          <a:stretch/>
        </p:blipFill>
        <p:spPr>
          <a:xfrm>
            <a:off x="4254480" y="2629080"/>
            <a:ext cx="4686480" cy="3362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95B3-C60F-4DDE-9CF3-F38D92931D0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is the probability a student will wait between 10 and 20 minut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Picture 10" descr="0709"/>
          <p:cNvPicPr/>
          <p:nvPr/>
        </p:nvPicPr>
        <p:blipFill>
          <a:blip r:embed="rId1"/>
          <a:stretch/>
        </p:blipFill>
        <p:spPr>
          <a:xfrm>
            <a:off x="4203720" y="2717640"/>
            <a:ext cx="4714920" cy="32101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maltib</cp:lastModifiedBy>
  <dcterms:modified xsi:type="dcterms:W3CDTF">2016-01-21T05:32:44Z</dcterms:modified>
  <cp:revision>166</cp:revision>
  <dc:subject>Normal Probability Distribution</dc:subject>
  <dc:title>Chapter 7</dc:title>
</cp:coreProperties>
</file>