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DB80-92D9-480B-B96F-FECE84D78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35D-B034-4A70-9200-F895DED2E3F4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0382-6DFD-4F7C-B33C-13845121979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32F4-533D-444E-8AD6-BCE735AFE76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5BE8-9115-4C13-BE26-8CEF8F239C4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31A6-B53C-401D-9C5F-BC800F64C1D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83C8-621F-4CFA-BFB5-CACC3EB1CA2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9644-C55A-4420-BA84-89FE28D9CCB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C6CA-3223-44E9-BFA2-E1EC27EF0E71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1524-5C60-41E4-9B2E-6A531451517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02C0-C4FC-49DD-B59A-8D7AFA8ABFF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89A0-B9C0-4C23-A1F1-7E1B6BE793D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32CF-ACB2-482A-91F5-1CC04825EAE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F2A9-0A5A-444C-AE7B-9DDE790E16D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0DA5-DECC-4216-B38A-2668CB40129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C21B-6134-4365-8C6A-D8BC858CACE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A2A9-56B8-4859-8B45-0C23035A899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2D1A-1539-48FA-BA09-DE07D67BF1F8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3F91-09DD-4956-8241-B5A82227E0C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1EC6-D873-48B1-886B-1D3C5D8A9917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9F98-5510-43A0-B3F7-9F0C2F05851D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CAA7-306A-47E6-B762-1786F7F137A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F1FB-60D1-4E84-8BDB-F4D83F1E5B03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645F-1D2F-40F0-9A53-11F3CE3E42D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702E-B683-4489-8F76-37EE8C96DCA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1BE5-8E3E-4E54-A121-64062250EF0C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3CB3-D1E1-4387-B2B3-DB214BF0C316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6076-CCEA-40C9-B77E-A3922EF4D86F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A8BD-97D2-46DD-8505-E3548FE4B115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E321-9A24-4744-9E7F-A7A2C8E123F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9A42-3EC8-4794-AFBB-A668AF5F65FB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6A8C-7E84-431D-952A-0685F2C03F6E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04A7-DB9B-441F-9DA8-32478BFF9A6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BD83-B0FF-467A-B865-87D93A72AAFA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C1F2-F87C-4B75-951D-DB2DAD8D8219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1DB7-DE7F-4525-A94D-23C1D316E2D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BE97-A9DC-44BB-9EEF-A00810BB90F2}" type="slidenum">
              <a:rPr b="0" lang="en-US" sz="1200" spc="-1" strike="noStrike">
                <a:solidFill>
                  <a:srgbClr val="0033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D502-5995-4828-9B79-6D16CADDF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4708-24FD-43EF-8E39-305121060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4E74-F428-48BA-AE03-C8A229A46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4378-8DD2-4217-AB2A-819275E75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AA025-7374-44BE-A1F6-16BACB3FF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F656-128F-43A7-82EB-C090B8A91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7FDE0-C97A-401C-A149-74B7FC596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0469-293B-4257-B44A-D76EA73AB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3D07F-1EEE-4D71-804A-8B7F3DB26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FC3E3-D37B-4C11-8C79-31F47D9A4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EFFD6-531A-4C63-B16E-2B9691849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57F6C-269B-423E-80F5-1CB91E8B2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1B1B-51A3-4F52-9753-ED59A8A9A1B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Normal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Picture 5" descr="intro"/>
          <p:cNvPicPr/>
          <p:nvPr/>
        </p:nvPicPr>
        <p:blipFill>
          <a:blip r:embed="rId1"/>
          <a:stretch/>
        </p:blipFill>
        <p:spPr>
          <a:xfrm>
            <a:off x="736560" y="4178160"/>
            <a:ext cx="2562120" cy="1809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C065-E98B-4232-96F4-F85E55E6E30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acteristics of a Normal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9000"/>
          </a:bodyPr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bell-shaped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d has a single peak at the center of the distribu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, median, and mode are equ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otal area under the curve is 1.00; half the area under the normal curve is to the right of this center point and the other half to the left of i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ymmetrical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symptotic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curve gets closer and closer to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axis but never actually touches it. To put it another way, the tails of the curve extend indefinitely in both direc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-1335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location of a normal distribution is determined by the mean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3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35E4-A7BC-40E7-9F99-883C9A45367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ormal Distribution - Graphicall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Picture 8" descr="0711"/>
          <p:cNvPicPr/>
          <p:nvPr/>
        </p:nvPicPr>
        <p:blipFill>
          <a:blip r:embed="rId1"/>
          <a:stretch/>
        </p:blipFill>
        <p:spPr>
          <a:xfrm>
            <a:off x="1930320" y="2349360"/>
            <a:ext cx="573408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D3CF-D653-4A69-B127-AE16877648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- Famil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Picture 13" descr="0712a"/>
          <p:cNvPicPr/>
          <p:nvPr/>
        </p:nvPicPr>
        <p:blipFill>
          <a:blip r:embed="rId1"/>
          <a:stretch/>
        </p:blipFill>
        <p:spPr>
          <a:xfrm>
            <a:off x="1104840" y="1981080"/>
            <a:ext cx="2781360" cy="1914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0712b"/>
          <p:cNvPicPr/>
          <p:nvPr/>
        </p:nvPicPr>
        <p:blipFill>
          <a:blip r:embed="rId2"/>
          <a:stretch/>
        </p:blipFill>
        <p:spPr>
          <a:xfrm>
            <a:off x="5054760" y="1943280"/>
            <a:ext cx="2743200" cy="200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0712c"/>
          <p:cNvPicPr/>
          <p:nvPr/>
        </p:nvPicPr>
        <p:blipFill>
          <a:blip r:embed="rId3"/>
          <a:stretch/>
        </p:blipFill>
        <p:spPr>
          <a:xfrm>
            <a:off x="2286000" y="4280040"/>
            <a:ext cx="5105520" cy="196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9D99-117A-4D56-B1D0-39A4C99B0D1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tandard Normal  Probability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749952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also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33cccc"/>
                </a:solidFill>
                <a:latin typeface="Arial"/>
              </a:rPr>
              <a:t>z-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value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distance between a selected value, designat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and the population mean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population standard deviation,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-191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91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Picture 9" descr="0713"/>
          <p:cNvPicPr/>
          <p:nvPr/>
        </p:nvPicPr>
        <p:blipFill>
          <a:blip r:embed="rId1"/>
          <a:stretch/>
        </p:blipFill>
        <p:spPr>
          <a:xfrm>
            <a:off x="3530520" y="5499000"/>
            <a:ext cx="24573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5621-76E6-4277-9CAC-6F174CFD722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as Under the Normal Cur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12" descr="0714"/>
          <p:cNvPicPr/>
          <p:nvPr/>
        </p:nvPicPr>
        <p:blipFill>
          <a:blip r:embed="rId1"/>
          <a:stretch/>
        </p:blipFill>
        <p:spPr>
          <a:xfrm>
            <a:off x="1028880" y="1879560"/>
            <a:ext cx="78102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48FC-D6AB-4BA7-8A8D-F06AA3BA537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weekly incomes of shift foremen in the glass industry follow the normal probability distribution with a mean of $1,000 and a standard deviation of $100. What is th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alue for the income, let’s call i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f a foreman who earns $1,100 per week? For a foreman who earns $900 per week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9DEB-444A-40C8-9E9A-C2494EAD96D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2371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68 percent of the area under the normal curve is within one standard deviation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bout 95 percent is within two standard deviations of the mea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actically all is within three standard deviations of the mea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Picture 11" descr="0716"/>
          <p:cNvPicPr/>
          <p:nvPr/>
        </p:nvPicPr>
        <p:blipFill>
          <a:blip r:embed="rId1"/>
          <a:stretch/>
        </p:blipFill>
        <p:spPr>
          <a:xfrm>
            <a:off x="4267080" y="2870280"/>
            <a:ext cx="4534200" cy="249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D473-6F29-486A-A708-D4E3C24AA5A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276084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nswer the following question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68 percent of the batteries failed between what two values?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bout 95 percent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irtually all of the batteries failed between what two values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14" descr="0717"/>
          <p:cNvPicPr/>
          <p:nvPr/>
        </p:nvPicPr>
        <p:blipFill>
          <a:blip r:embed="rId1"/>
          <a:stretch/>
        </p:blipFill>
        <p:spPr>
          <a:xfrm>
            <a:off x="4254480" y="2286000"/>
            <a:ext cx="45817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5121-CF6F-4FC9-B91A-0FD0E769CBC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0751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n earlier example we reported that the mean weekly income of a shift foreman in the glass industry is normally distributed with a mean of $1,000 and a standard deviation of $10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20" descr="0718"/>
          <p:cNvPicPr/>
          <p:nvPr/>
        </p:nvPicPr>
        <p:blipFill>
          <a:blip r:embed="rId1"/>
          <a:stretch/>
        </p:blipFill>
        <p:spPr>
          <a:xfrm>
            <a:off x="4406760" y="2806560"/>
            <a:ext cx="4524480" cy="2686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8BD-507A-4E38-BF55-AD799D802A4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6740640" y="6076800"/>
            <a:ext cx="2092320" cy="228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Picture 25" descr="0719"/>
          <p:cNvPicPr/>
          <p:nvPr/>
        </p:nvPicPr>
        <p:blipFill>
          <a:blip r:embed="rId2"/>
          <a:stretch/>
        </p:blipFill>
        <p:spPr>
          <a:xfrm>
            <a:off x="914400" y="2141640"/>
            <a:ext cx="7473960" cy="412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9D9-2AF0-4A93-921D-3389107780B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the difference between discrete and continuous distribu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the mean and the standard deviation for a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ute probabilities by using the uniform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st the characteristics of the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fine and calculate z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between two points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termine the probability an observation is above (or below) a point on a normal probability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the normal probability distribution to approximate the binomial distribu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8C51-6547-4E05-92D8-CE4D1D1D11A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Areas for Z Using Exc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Picture 17" descr="0720"/>
          <p:cNvPicPr/>
          <p:nvPr/>
        </p:nvPicPr>
        <p:blipFill>
          <a:blip r:embed="rId1"/>
          <a:stretch/>
        </p:blipFill>
        <p:spPr>
          <a:xfrm>
            <a:off x="1359000" y="1943280"/>
            <a:ext cx="7572240" cy="4485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3"/>
          <p:cNvSpPr/>
          <p:nvPr/>
        </p:nvSpPr>
        <p:spPr>
          <a:xfrm>
            <a:off x="568800" y="2446200"/>
            <a:ext cx="458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Excel functio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=NORMDIST(x,Mean,Standard_dev,Cum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101"/>
                </a:solidFill>
                <a:latin typeface="Times New Roman"/>
              </a:rPr>
              <a:t>=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RMDIST(1100,1000,100,true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erates area (probability) fro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Z=1 and below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B461-9D82-4766-B359-34F75BD8215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9" name="Picture 15" descr="0721"/>
          <p:cNvPicPr/>
          <p:nvPr/>
        </p:nvPicPr>
        <p:blipFill>
          <a:blip r:embed="rId1"/>
          <a:stretch/>
        </p:blipFill>
        <p:spPr>
          <a:xfrm>
            <a:off x="5003640" y="2019240"/>
            <a:ext cx="371484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4945-2F0F-4ED0-B66A-81F3DD3EB36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A864-B323-4B6D-A422-35FF5FA93BE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840 and $1,20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4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7" name="Picture 13" descr="0723"/>
          <p:cNvPicPr/>
          <p:nvPr/>
        </p:nvPicPr>
        <p:blipFill>
          <a:blip r:embed="rId1"/>
          <a:stretch/>
        </p:blipFill>
        <p:spPr>
          <a:xfrm>
            <a:off x="5118120" y="1930320"/>
            <a:ext cx="377172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505-83BC-4396-AD01-FC6ED3E4786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1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74F3-40C7-43DC-A153-CEF4DB14801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with a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miles and that the distribution of miles follows the normal probability distribution. It wants to set the minimum guaranteed mileage so that </a:t>
            </a:r>
            <a:r>
              <a:rPr b="0" lang="en-US" sz="18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of the tires will have to be replaced. What minimum guaranteed mileage should Layton announc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8" descr="0725"/>
          <p:cNvPicPr/>
          <p:nvPr/>
        </p:nvPicPr>
        <p:blipFill>
          <a:blip r:embed="rId1"/>
          <a:stretch/>
        </p:blipFill>
        <p:spPr>
          <a:xfrm>
            <a:off x="5079960" y="2070000"/>
            <a:ext cx="3533760" cy="4181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9BFC-6DCB-4338-9B4A-CE5192A36D3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8" name="Picture 15" descr="0726"/>
          <p:cNvPicPr/>
          <p:nvPr/>
        </p:nvPicPr>
        <p:blipFill>
          <a:blip r:embed="rId1"/>
          <a:stretch/>
        </p:blipFill>
        <p:spPr>
          <a:xfrm>
            <a:off x="571680" y="2082960"/>
            <a:ext cx="8410320" cy="4000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4B76-E35D-44A3-B4B9-67DDE3023F3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20" y="668520"/>
            <a:ext cx="7625160" cy="55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sing Z in Finding X Given Area - Exce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12" descr="0727"/>
          <p:cNvPicPr/>
          <p:nvPr/>
        </p:nvPicPr>
        <p:blipFill>
          <a:blip r:embed="rId1"/>
          <a:stretch/>
        </p:blipFill>
        <p:spPr>
          <a:xfrm>
            <a:off x="2120760" y="2235240"/>
            <a:ext cx="475308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976D-1C5D-4F03-996C-9834AC7FFFA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ebyshev’s Theor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69320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arithmetic mean biweekly amount contributed by the Dupree Paint employees to the company’s profit-sharing plan is $51.54, and the standard deviation is $7.51. At least what percent of the contributions lie within plus 3.5 standard deviations and minus 3.5 standard deviations of the mean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6" descr="0329"/>
          <p:cNvPicPr/>
          <p:nvPr/>
        </p:nvPicPr>
        <p:blipFill>
          <a:blip r:embed="rId1"/>
          <a:stretch/>
        </p:blipFill>
        <p:spPr>
          <a:xfrm>
            <a:off x="1271520" y="3919680"/>
            <a:ext cx="722016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0CC0-923D-4256-998D-5B25A934120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104840" y="1914480"/>
            <a:ext cx="69343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ormal probability distribution is generally a good approximation to the binomial probability distribution 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e both greater than 5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8609-666E-4D8B-8A9C-E6B6E8F72C7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Uniform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2655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niform probability distribution is perhaps the simplest distribution for a continuous random variab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distribution is rectangular in shape and is defined by minimum and maximum valu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2" descr="0703"/>
          <p:cNvPicPr/>
          <p:nvPr/>
        </p:nvPicPr>
        <p:blipFill>
          <a:blip r:embed="rId1"/>
          <a:stretch/>
        </p:blipFill>
        <p:spPr>
          <a:xfrm>
            <a:off x="4457880" y="2641680"/>
            <a:ext cx="4209840" cy="31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C97A-2861-479D-883B-4D141AA4CA0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771480" y="1909800"/>
            <a:ext cx="748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the normal distribution (a continuous distribution) as a substitute for a binomial distribution (a discrete distribution) for large values of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ems reasonable because, a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reases, a binomial distribution gets closer and closer to a normal distribu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2" name="Picture 28" descr="0729"/>
          <p:cNvPicPr/>
          <p:nvPr/>
        </p:nvPicPr>
        <p:blipFill>
          <a:blip r:embed="rId1"/>
          <a:stretch/>
        </p:blipFill>
        <p:spPr>
          <a:xfrm>
            <a:off x="1206360" y="3606840"/>
            <a:ext cx="7562880" cy="291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DCEF-0398-4F6A-8557-7CF2475A835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ity Correction Fac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52328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value .5 subtracted or added, depending on the problem, to a selected value when a binomial probability distribution (a discrete probability distribution) is being approximated by a continuous probability distribution (the normal distribution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208E-BA13-4BDF-8620-8E9082A125A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o Apply the Correction Fact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ly four cases may arise. These cases a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For the probability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t least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ore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ove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or fewer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For the probability that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ewer than X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ccurs, use the area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low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X+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5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7A07-2EEC-47B5-B18F-C2498673D9B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704880" y="1819080"/>
            <a:ext cx="4006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se the management of the Santoni Pizza Restaurant found that 70 percent of its new customers return for another meal. For a week in which 80 new (first-time) customers dined at Santoni’s, 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what is the probability that 60 or more will return for another mea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3" name="Picture 9" descr="0732"/>
          <p:cNvPicPr/>
          <p:nvPr/>
        </p:nvPicPr>
        <p:blipFill>
          <a:blip r:embed="rId1"/>
          <a:stretch/>
        </p:blipFill>
        <p:spPr>
          <a:xfrm>
            <a:off x="5092560" y="2654280"/>
            <a:ext cx="3762360" cy="2247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7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E6CF-00D6-4509-8ADF-107DE3CEE5F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6" name="Picture 28" descr="0733"/>
          <p:cNvPicPr/>
          <p:nvPr/>
        </p:nvPicPr>
        <p:blipFill>
          <a:blip r:embed="rId1"/>
          <a:stretch/>
        </p:blipFill>
        <p:spPr>
          <a:xfrm>
            <a:off x="974880" y="2206800"/>
            <a:ext cx="6810120" cy="357156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25"/>
          <p:cNvGrpSpPr/>
          <p:nvPr/>
        </p:nvGrpSpPr>
        <p:grpSpPr>
          <a:xfrm>
            <a:off x="2581200" y="4324320"/>
            <a:ext cx="5295960" cy="2170800"/>
            <a:chOff x="2581200" y="4324320"/>
            <a:chExt cx="5295960" cy="2170800"/>
          </a:xfrm>
        </p:grpSpPr>
        <p:grpSp>
          <p:nvGrpSpPr>
            <p:cNvPr id="228" name="Group 24"/>
            <p:cNvGrpSpPr/>
            <p:nvPr/>
          </p:nvGrpSpPr>
          <p:grpSpPr>
            <a:xfrm>
              <a:off x="2581200" y="4581360"/>
              <a:ext cx="4992840" cy="1913760"/>
              <a:chOff x="2581200" y="4581360"/>
              <a:chExt cx="4992840" cy="1913760"/>
            </a:xfrm>
          </p:grpSpPr>
          <p:sp>
            <p:nvSpPr>
              <p:cNvPr id="229" name="Rectangle 20"/>
              <p:cNvSpPr/>
              <p:nvPr/>
            </p:nvSpPr>
            <p:spPr>
              <a:xfrm>
                <a:off x="2581200" y="4581360"/>
                <a:ext cx="1028880" cy="12668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Text Box 21"/>
              <p:cNvSpPr/>
              <p:nvPr/>
            </p:nvSpPr>
            <p:spPr>
              <a:xfrm>
                <a:off x="3249720" y="6157800"/>
                <a:ext cx="432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</a:rPr>
                  <a:t>P(X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Arial"/>
                    <a:ea typeface="Times New Roman"/>
                  </a:rPr>
                  <a:t>≥ 60) = 0.063+0.048+ … + 0.001) = 0.197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22"/>
              <p:cNvSpPr/>
              <p:nvPr/>
            </p:nvSpPr>
            <p:spPr>
              <a:xfrm>
                <a:off x="3400560" y="5867280"/>
                <a:ext cx="266400" cy="3715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32" name="Rectangle 23"/>
            <p:cNvSpPr/>
            <p:nvPr/>
          </p:nvSpPr>
          <p:spPr>
            <a:xfrm>
              <a:off x="6534000" y="4324320"/>
              <a:ext cx="1343160" cy="1266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0167-0545-445E-9043-5B9C59ADB05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5038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1.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the mean and the variance of a binomial distribution and find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z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rresponding to a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59.5  (x-.5, the correction fa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ep 2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termine the area from 59.5 and beyo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>
            <a:off x="533520" y="457200"/>
            <a:ext cx="7924680" cy="9144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Approximation to the Binomial - Exam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6" name="Picture 13" descr="0734"/>
          <p:cNvPicPr/>
          <p:nvPr/>
        </p:nvPicPr>
        <p:blipFill>
          <a:blip r:embed="rId1"/>
          <a:stretch/>
        </p:blipFill>
        <p:spPr>
          <a:xfrm>
            <a:off x="4851360" y="2006640"/>
            <a:ext cx="3952800" cy="44672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E236-E8E2-4E71-BE48-22530916031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7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35B-D025-4F5E-A2ED-D8EDBB8B4D6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– Mean and Standard Dev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4" descr="0704"/>
          <p:cNvPicPr/>
          <p:nvPr/>
        </p:nvPicPr>
        <p:blipFill>
          <a:blip r:embed="rId1"/>
          <a:stretch/>
        </p:blipFill>
        <p:spPr>
          <a:xfrm>
            <a:off x="723960" y="2336760"/>
            <a:ext cx="82008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9D6-C1E8-4785-BA35-CCA7EB6E26C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thwest Arizona State University provides bus service to students while they are on campus. A bus arrives at the North Main Street and College Drive stop every 30 minutes between 6 A.M. and 11 P.M. during weekdays. Students arrive at the bus stop at random times. The time that a student waits is uniformly distributed from 0 to 30 minu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. Draw a graph of this distribu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. How long will a student “typically” have to wait for a bus? In other words what is the mean waiting time? What is the standard deviation of the waiting tim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. What is the probability a student will wait more than 25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. What is the probability a student will wait between 10 and 20 minut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CB11-8697-426C-99CB-BD5E669379C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757080" y="1924200"/>
            <a:ext cx="4551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graph of this distributio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8" name="Picture 12" descr="0706"/>
          <p:cNvPicPr/>
          <p:nvPr/>
        </p:nvPicPr>
        <p:blipFill>
          <a:blip r:embed="rId1"/>
          <a:stretch/>
        </p:blipFill>
        <p:spPr>
          <a:xfrm>
            <a:off x="876240" y="2997360"/>
            <a:ext cx="7696440" cy="276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040-16E4-49F6-BFC8-001FDD42CFF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484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long will a student “typically” have to wait for a bus? In other words what is the mean waiting time? What is the standard deviation of the waiting tim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7" descr="0707"/>
          <p:cNvPicPr/>
          <p:nvPr/>
        </p:nvPicPr>
        <p:blipFill>
          <a:blip r:embed="rId1"/>
          <a:stretch/>
        </p:blipFill>
        <p:spPr>
          <a:xfrm>
            <a:off x="4597560" y="2971800"/>
            <a:ext cx="4267080" cy="2085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431B-CB0B-41B9-8ABD-99F9BA4F872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319896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more than 25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10" descr="0708"/>
          <p:cNvPicPr/>
          <p:nvPr/>
        </p:nvPicPr>
        <p:blipFill>
          <a:blip r:embed="rId1"/>
          <a:stretch/>
        </p:blipFill>
        <p:spPr>
          <a:xfrm>
            <a:off x="4254480" y="2629080"/>
            <a:ext cx="4686480" cy="3362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9CF-81D1-403B-8D48-BEF120DA707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Uniform Distribution -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probability a student will wait between 10 and 20 minut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10" descr="0709"/>
          <p:cNvPicPr/>
          <p:nvPr/>
        </p:nvPicPr>
        <p:blipFill>
          <a:blip r:embed="rId1"/>
          <a:stretch/>
        </p:blipFill>
        <p:spPr>
          <a:xfrm>
            <a:off x="4203720" y="2717640"/>
            <a:ext cx="4714920" cy="321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altib</cp:lastModifiedBy>
  <dcterms:modified xsi:type="dcterms:W3CDTF">2016-01-21T05:32:44Z</dcterms:modified>
  <cp:revision>166</cp:revision>
  <dc:subject>Normal Probability Distribution</dc:subject>
  <dc:title>Chapter 7</dc:title>
</cp:coreProperties>
</file>