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31D-22FE-42F5-9C15-E0449AEA7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6A4-691E-426B-AEDD-AE115CABDAC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68E5-585F-4736-A3A3-1491C0F1A28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EF36-302E-4BDB-A601-34201C51505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1EA1-29C0-4C15-A83E-B1CF99B1D84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5E3-7991-44DD-9711-9B3B3538088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A67-CB9F-49EC-9233-9BB253F29F7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24C9-557D-44BD-968C-1A4E08127C9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7E9-A5B1-4C71-870D-F1A26FF01E9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DD4C-419D-4FEB-9A37-E8F79156108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201-B182-4004-B497-B68F9E9E1F4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4ED7-1C04-4E66-9FE9-E3F0C4946CF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9519-EAB6-460D-9FCB-45D64C0F8DC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4651-7C87-4C98-97FE-07A8F427D8D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04E-CA83-419D-BF40-4F62934D57E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B15A-8246-4D10-94CD-7AAA9F3E31A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6407-4503-44E7-A436-0F0ADAA5FEB1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C50C-6B2C-42FD-ADAE-654D348CFC6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F4D-B80C-40EE-A187-89994B6AE8A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99AA-AA4C-4247-8B27-AC2DC61C280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7FD-C89A-48E6-90A6-5CB8A93C523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73A1-19DD-41AD-8570-3749CB4FC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DBBC-972D-4BD6-AF3D-3D1049077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1ECF-E405-432D-8E39-14783B2A4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4893-A2C5-49C6-AFED-5B955AC24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6681-FA57-4B70-83A7-7182B06F5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A2B8-F105-43F0-A97F-422B5B2A8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6D42-CCCA-4871-852B-99C4E40C9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8FDE-1406-4B49-82A3-FC355EE0B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CDCA-873D-4019-A6B2-FE549EF7A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E1CF-705B-462F-850C-507C84609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2AFE-84CF-40E8-B12F-07D087169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B36B-31C9-4CD1-9C9F-62256A5C3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E2C7-3A61-4504-9D01-64C603E4092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5BB-7218-4EE6-B150-75E841AB436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88BD-2963-4914-A5B7-6A1EC4948E0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C2D7-8BCF-4FA9-AFBB-7836DFF98A2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0BC-3D26-455A-9719-0CF484DD7CA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A255-8F40-4FBF-92D5-29DB763446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D41-72DB-460B-9BEA-99887BC69D3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FB4B-D526-43DE-B7AA-737342ACE85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64C-BD73-4726-8C85-455C12D181F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960-5248-4E43-99D3-5711719B99A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4463-F072-4F05-AB13-FBF5DFC6FA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A7C-9BE4-41BB-9EDD-8220C5CAE2C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B5B-D2A0-476E-92AB-731797B6910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C676-EAC0-41AC-99D7-CF1B29701AC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F441-EB2A-4F7B-8B31-252FB4BA628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890-AB4B-421C-84B1-CD955E63DA6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0C7-78F5-4F5E-8201-EF9CBDFA949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2B37-9F2C-4E9E-B30C-B1B56548E28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AC91-8A68-4E2E-BD82-4D4A9451D2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49BF-970B-448F-98FB-C91EC3DAB2F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7-09-17T08:56:46Z</dcterms:modified>
  <cp:revision>168</cp:revision>
  <dc:subject>Normal Probability Distribution</dc:subject>
  <dc:title>Chapter 7</dc:title>
</cp:coreProperties>
</file>