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30D-9EA4-4A3A-809E-DED3E3D6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8D6-6F98-4D77-AB4D-EFFD2BA979F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CE0-8255-4E9E-9193-26367D2DD2C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CBC-2970-4C6A-9696-AA7E5A3C52E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306D-373A-430A-ACD6-0B2E6BA2210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51DF-27D1-488B-A88C-992FADB5EB8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E14E-1938-4B3D-AC5E-D47F8BD3E0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00FB-1A94-4409-B8DA-0133AC1552A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B4A-CC40-4767-BC29-2047F327867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57F5-A1C0-4C71-AD22-D22F99D7958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D84F-6CDB-424E-A512-75F6FADEF01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2C87-1B6F-4BAC-892C-656035C362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F15-6FC6-4028-8365-8C1A9161AC0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D27-022A-4906-B41D-F64E608298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794-1C76-4052-9D4A-98D3D564665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0F0-A8C5-44DA-9D3F-EC4EAE5F6ED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BB0-1D56-4247-B959-8767B24A0F0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49F7-D114-4C33-981B-DFABDC23FA8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C6A-48F5-4318-A3B8-8E92DDC994A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13F-2E45-4337-A29A-7EA353BC2A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2A7-7D6F-48BE-901B-69467C1418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152D-CD19-4CF4-915B-5AD577AFBA2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61AC-9A67-4000-B072-1EBD13A9D69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AE1-16BF-44C0-8875-EB727501372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291A-EADE-48AD-8AEA-5F6ED4EA038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812C-A7AB-4299-A430-5AB736A60C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C9C-3F66-438C-8875-1B67BD8F35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257F-A745-4B40-8404-B2B8388FA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4B77-F5E1-4A20-8C67-3DC194C0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807D-58BB-4497-9125-8AB69DCA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10D8-1779-4C69-AEDB-58B64E354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76EA-7F65-495E-BEC6-435AAC4F1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B09B-C69F-4A1E-BD2D-89B7132F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60F8-6D24-4E71-BFEE-25A91D3C6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3B1A-BF4D-47B0-B2E7-3503C05F8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0BA6-8D15-4216-B675-F036CDB8B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1683-1D88-45CF-8B4E-7346121DC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1CC2-B58F-4EDE-BB6E-4469641B8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BDAC-C594-483A-AC5D-74CBAB9EB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0BA-0511-41C7-92A5-488F24D23C2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57D-1EBE-4CC6-B3AD-E72B9BAD08B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1C4-3ECD-476C-AE0B-802FF27EF8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602C-B0C0-4766-AA28-B8801243AAA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D98-0FB0-416E-BB56-B6A7EF5D7A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4D2-A8ED-4035-A27D-7F5CF0B65CC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35F9-0CE3-41AA-9571-25074B43FF7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059-0547-4A1C-86BA-1DF38046DE6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704-E453-4057-BEA8-DCEB4BC4CBE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681-1493-446A-875A-8214873CF5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4311-B09C-494E-99CC-DF8880E3F80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25F-08CE-4CA0-BA67-B304AAAF06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907-1AEC-416E-A702-1E9FD587A9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C32-E56B-46C9-A998-422D12ECC11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A38-65D8-4FDE-BE09-3B3859D600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AF43-6C7B-422F-83A8-C11F4EADEE8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9E4C-6C0F-43FD-BCBC-6BF4D0C223B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5" descr="0726"/>
          <p:cNvPicPr/>
          <p:nvPr/>
        </p:nvPicPr>
        <p:blipFill>
          <a:blip r:embed="rId1"/>
          <a:stretch/>
        </p:blipFill>
        <p:spPr>
          <a:xfrm>
            <a:off x="733320" y="2082960"/>
            <a:ext cx="8410680" cy="4000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>
            <a:off x="4267080" y="4781520"/>
            <a:ext cx="57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248000" y="5181480"/>
            <a:ext cx="57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F240-7F17-4E04-A77A-D8602104279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29FD-69ED-4DF3-B3F4-9BEA796F836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3DF-5BF5-4FE0-810D-665D1D91D8C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5F9-B772-4D9D-A07F-48A7D5B2295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57B6-4515-4255-A50E-A8CD7CE31A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FC63-4A30-4853-9846-A400E28AFC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82B-1226-41BB-9C54-765F113B03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6BAA-A690-46C0-ABF7-F6473979A20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BC8-D8EC-45B3-A5D5-9ECE8F6D22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12-02T21:53:28Z</dcterms:modified>
  <cp:revision>169</cp:revision>
  <dc:subject>Normal Probability Distribution</dc:subject>
  <dc:title>Chapter 7</dc:title>
</cp:coreProperties>
</file>