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B7FE-1B7A-4DFC-B871-671AFF47D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A8D8-4E56-4C64-A5DA-82A4E78FE5B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C5E1-B01E-40C5-BB9F-237B236E8F4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233D-E708-414F-891A-BAE29E35DFA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1059-0CC3-47E6-B059-E7B62771635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AD3E-BBA2-406B-AFE5-F78F780A6A1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0D96-1707-4156-A041-A79540445CE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8CF7-1EB0-4AF5-A998-012FEA8D5A3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4B41-54C3-4434-98B9-911E3861045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2571-41D5-4EE2-ADC9-761C70B0F56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ECC-84F5-4AB7-B359-59425EDF8CC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2924-3C2A-4070-A0D6-2DFF05650C2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F4AC-BE69-4F61-AB8C-6CDBC54D3BC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8F06-5AFB-4AAF-8539-CB0F964CD6D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1129-3645-4B1C-91CE-8CF4DC7587F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E214-4600-451C-BE60-4B8B352A077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99C7-CDC4-4274-ADDA-83ECE5D8E24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FCCE-D20C-45C5-985A-69594D4F7A7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42A1-A576-4990-930B-E42D86959B2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8187-FD6E-43F5-93AD-1427CBD423F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958C-615E-455B-ADED-526EB166620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F65B-D2BD-409E-95E2-C4C2240CB1B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73FB-9FB9-425F-82EB-CC4184A6E47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7F3E-A260-40D6-A63D-2853C9C443A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A761-0352-421C-89A7-CA6B7493AC1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D2EA-3DC3-42DC-8DA5-A4792E31074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518-AC93-4CAA-8D74-65DEC329FCE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4E71-D75E-44ED-AF30-1ECB22A71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0A7E-7A67-4BF9-946C-BB0D7D9F9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E93E-D4A3-41D4-8595-9E8B315A7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1DB1-FB04-47D9-A39C-1B56462B2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67CD-681E-4331-BF2E-BD26601D3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D446-EC50-470D-9845-799F08403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9CB6-CBC3-41AA-B407-C68BAA7B5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DDCC-A97A-4794-9E9C-32C2100E7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36A0-A32B-49F7-B6C3-94FEB374B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818F-DFE6-45AF-81D9-2C9E6882A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E64A-EEDF-4EAB-A96F-A60D1D529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C4C7-8E44-434C-9251-69E1DDE3C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4F11-7782-4DA3-814F-6F67E689FAD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7ED3-1476-47E4-AB49-50253F388EA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4201-AC68-4F34-939E-21CAB5296E2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B0DD-04FB-448A-BA29-27FE8AA625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3533-A259-48A9-ADD4-52B0700EE74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8343-44DE-49FE-8CED-9667218AEA5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58DE-C2F9-44A5-A629-78D60DBFE7F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E428-7E7A-4D67-9692-BED206477DB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0A83-A733-4AFF-A004-327CF07F5B1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EFCD-B8E2-48A5-9CC2-962720F077F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6767-1842-4804-92F8-A2BF5C4216C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61CC-3E3B-4F09-86EB-90D849E80DE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7AEE-9D94-43BA-B634-056B4BA68B0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06C3-63DB-48FE-8525-FC66D82255E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5224-F63E-4880-A930-6DE4ED188AA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C5E7-F60A-498F-A5F2-946190082A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A8A2-5E41-450D-9D36-3C933478B0B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Picture 15" descr="0726"/>
          <p:cNvPicPr/>
          <p:nvPr/>
        </p:nvPicPr>
        <p:blipFill>
          <a:blip r:embed="rId1"/>
          <a:stretch/>
        </p:blipFill>
        <p:spPr>
          <a:xfrm>
            <a:off x="733320" y="2082960"/>
            <a:ext cx="8410680" cy="4000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6"/>
          <p:cNvSpPr/>
          <p:nvPr/>
        </p:nvSpPr>
        <p:spPr>
          <a:xfrm>
            <a:off x="4267080" y="4781520"/>
            <a:ext cx="57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248000" y="5181480"/>
            <a:ext cx="57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06C9-BF79-4111-9D96-B66F1DAD99A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Picture 12" descr="0727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313-3BB3-44CA-B805-87C80BB5A6B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EA87-4A95-475F-B999-29FD63C5062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8916-5F11-4D77-B017-DBEEF25CC8B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856-B75C-4439-A14A-C708530EC84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F140-1600-48DB-9505-2D889C7F244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85F7-D6EC-4AB0-A62C-1A7536A44C3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E876-EEE6-4931-B0E6-B4F2B0D29AB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1D69-CBA6-440A-BF3F-C21054A9E47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7-12-02T21:53:28Z</dcterms:modified>
  <cp:revision>169</cp:revision>
  <dc:subject>Normal Probability Distribution</dc:subject>
  <dc:title>Chapter 7</dc:title>
</cp:coreProperties>
</file>