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4805-2E64-4E83-ABCE-D1C9D3958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8B2C-61B2-4EFA-9BD4-CEBD93ED551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41F8-6624-46AF-A1AA-F78F605028C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5AF8-42EE-4872-9656-D7807373B74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563C-8EEB-4D03-9876-FA2F9FB830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DA84-437D-458B-A857-8C54A3D8FC1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7A4C-6125-46D0-AD7E-574AADEDC1F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787A-6142-4F55-90AD-C4A9B1B364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9DEB-EFCF-41DF-AF45-ED6D6D24CF3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30D0-A009-40EA-8BFF-1BF070F4A73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257A-662B-44D3-83AC-6936A2D3CA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D3CE-7DC1-427A-9FE9-AFC1776F7AB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5869-2F10-4D36-B86B-C087F50BF77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798663-AD54-4AE9-A62C-B79AB8AAB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5DFF0E-6385-4C70-8883-A75589754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2C7A14-7401-40C3-B6D4-A91EA1C11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360BC0-227B-4452-9D0E-574AFDB4A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7EC807-04FA-44DB-8683-61C84E102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66CCDC-8D82-43B3-830A-63618AE2F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C5C429-766C-4845-8517-7F73135AD8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2F990B-0A04-4770-BEED-F9A66F486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C4D67D-C81D-4917-99A5-2B2BF55AAE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6799F4-8C00-4202-A31E-D9D3EF73A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448F06-BEFF-4F07-806B-AB2A4D14224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FDEA7F-647F-47B7-A29C-1744346B441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440646A-F1AA-40C6-9506-944DD2A975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CC71-EFD3-4669-BE8E-4AF6C37AE3E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NTRAL LIMIT THEOREM </a:t>
              </a:r>
              <a:r>
                <a:rPr b="0" lang="en-US" sz="1200" spc="-1" strike="noStrike">
                  <a:solidFill>
                    <a:srgbClr val="00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Simple Random Sample:</a:t>
              </a:r>
              <a:r>
                <a:rPr b="0" lang="en-US" sz="1200" spc="-1" strike="noStrike">
                  <a:solidFill>
                    <a:srgbClr val="000000"/>
                  </a:solidFill>
                  <a:latin typeface="Arial"/>
                  <a:ea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Stratified Random Sampling:</a:t>
              </a:r>
              <a:r>
                <a:rPr b="0" lang="en-US" sz="1400" spc="-1" strike="noStrike">
                  <a:solidFill>
                    <a:srgbClr val="000000"/>
                  </a:solidFill>
                  <a:latin typeface="Arial"/>
                  <a:ea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Cluster Sampling: </a:t>
              </a:r>
              <a:r>
                <a:rPr b="0" lang="en-US" sz="1400" spc="-1" strike="noStrike">
                  <a:solidFill>
                    <a:srgbClr val="000000"/>
                  </a:solidFill>
                  <a:latin typeface="Arial"/>
                  <a:ea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3:45Z</dcterms:modified>
  <cp:revision>214</cp:revision>
  <dc:subject>Sampling Methods and the Central Limit Theorem</dc:subject>
  <dc:title>Chapter 8</dc:title>
</cp:coreProperties>
</file>