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9956-FB04-4251-8C93-40EC80353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DD82-660A-49A7-B0CE-864BB20FC15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24CC-DB52-47EE-8F29-92B14CE120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2624-9EC5-43DB-AE04-042886A761F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C0A5-3A07-4DA7-B3E7-9384822AA4A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1BF4-44B6-4676-A65D-1234634D536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6D04-6A69-4A6A-8A98-94E01BD5E4D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AB21-D9BE-4B9A-A7E6-392AA2F71EA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0AF6-9351-4CDD-9378-3112908461B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9ED7-0703-4D35-81D8-0C749E3CB77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1206-3069-4251-ABE3-FC0DF671CB6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617B-3F88-44E0-A6AE-6DEFC5415C6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5E72-D83D-4227-A949-BC261700276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2639168-4465-45EE-AE3D-281436F3D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3FE381-7BE0-45F5-9833-BC79C6A81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920641-A96F-4CE6-A8A5-F99A8DD5A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2A7BE5-0D06-4299-BACB-6A16401F3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CA87B5-3FE4-4A22-9E54-DC614DA01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D0B468-99BD-4759-8CE0-A92A067CF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5EFAD6-27D2-453C-A7DF-2C25B5CA2D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C34C07-ADFE-4144-8165-E82A9D9BB2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E6A306-1D25-474B-880C-62A838D649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AC29FA-CB34-44D8-AD02-0D836BE96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4F7F1AD-0E27-4DFD-ADA9-069C20F0814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5E66B2-D980-4EB5-B2FB-B349882933E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3D07D893-AD59-4090-AE70-5F6922066D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2309-65E7-4E35-8309-6016F650387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NTRAL LIMIT THEOREM </a:t>
              </a:r>
              <a:r>
                <a:rPr b="0" lang="en-US" sz="1200" spc="-1" strike="noStrike">
                  <a:solidFill>
                    <a:srgbClr val="00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4760"/>
            <a:ext cx="7963200" cy="4181400"/>
          </a:xfrm>
          <a:prstGeom prst="rect">
            <a:avLst/>
          </a:prstGeom>
          <a:noFill/>
          <a:ln w="0">
            <a:noFill/>
          </a:ln>
        </p:spPr>
        <p:txBody>
          <a:bodyPr lIns="92160" rIns="92160" tIns="46080" bIns="46080" anchor="t">
            <a:normAutofit fontScale="88000"/>
          </a:bodyPr>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ea typeface="Arial"/>
                </a:rPr>
                <a:t>Simple Random Sample:</a:t>
              </a:r>
              <a:r>
                <a:rPr b="0" lang="en-US" sz="1200" spc="-1" strike="noStrike">
                  <a:solidFill>
                    <a:srgbClr val="000000"/>
                  </a:solidFill>
                  <a:latin typeface="Arial"/>
                  <a:ea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Stratified Random Sampling:</a:t>
              </a:r>
              <a:r>
                <a:rPr b="0" lang="en-US" sz="1400" spc="-1" strike="noStrike">
                  <a:solidFill>
                    <a:srgbClr val="000000"/>
                  </a:solidFill>
                  <a:latin typeface="Arial"/>
                  <a:ea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Cluster Sampling: </a:t>
              </a:r>
              <a:r>
                <a:rPr b="0" lang="en-US" sz="1400" spc="-1" strike="noStrike">
                  <a:solidFill>
                    <a:srgbClr val="000000"/>
                  </a:solidFill>
                  <a:latin typeface="Arial"/>
                  <a:ea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7-01-21T08:13:45Z</dcterms:modified>
  <cp:revision>214</cp:revision>
  <dc:subject>Sampling Methods and the Central Limit Theorem</dc:subject>
  <dc:title>Chapter 8</dc:title>
</cp:coreProperties>
</file>