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E392-1AFB-4B72-995E-F8F5B2FB4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4425-EB45-4D80-A2B6-A2B72696AA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0501-5174-4BF9-9AEB-ECB7CC4FC89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945D-1BA5-49C1-AF31-95C6F310674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D2F5-1E2F-4473-8DBC-2F4DB5FC97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2ADD-B0B7-4BDD-A66C-7860186C14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70E4-5B9D-4CDA-A884-2ABEF3D5EF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D697-0F3D-454B-9397-5F5BF63363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322A-4CF1-41AB-9584-514C5333A0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8B26-48CB-4D96-A2CE-8EB461E82D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5197-F3E7-48F7-BD7D-9E5BF62DB9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46E4-D6EA-4069-9076-3F5B4F432D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F1DC-8DE1-4A0C-A27A-03588F359D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0E870B-30AC-460C-8145-D09F5BF7F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F2E699-021D-49D0-AFAA-516A83233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3C31C6-A35E-4D0B-8992-1E67BB594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BBA48B-1BF6-48B6-9853-1A49839A4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E61CC1-D953-4FDB-A1BB-6AF2344D8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B9CFB4-06E2-4869-B2BA-DD4042D94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D57B97-223D-49E1-A2CE-6E1E5C371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C52D78-9CC8-47A0-B3A2-38D6E2489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D13E64-3B40-4DC5-ABCC-0ECDF0950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BEAA0C-795E-494D-8B15-A3621077A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9430B1-5C2C-4933-AF9C-5BD198BD00F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8B1E67-E214-45FB-BDAC-3D33F43A86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BAEDDA8-1479-4913-A18E-0E1235D8AA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D2F7-C8A0-445B-A1D6-04D47865B31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32:28Z</dcterms:modified>
  <cp:revision>214</cp:revision>
  <dc:subject>Sampling Methods and the Central Limit Theorem</dc:subject>
  <dc:title>Chapter 8</dc:title>
</cp:coreProperties>
</file>