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2D46-05ED-4290-AD55-698B1396E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53EC-D236-44D7-882E-BC287D98655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C555-AE93-4C95-855E-A25AEBDCA62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0223-B034-45F7-8B8F-A02702ED059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4D6A-98B7-402D-9E6F-5B136872581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C7FF-A360-4229-9AF1-A695C1FCE88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FFF6-5E43-4349-AB59-9828B25AB00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F03B-12CA-4EB6-8332-C4FE85D9302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85B8-CB56-48E0-8704-60F4C40B03C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E1A2-5EC0-4EB3-965F-FE0E7C2A5AE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AF0C-6FE8-41A2-98B8-C7692BC80DE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8842-D09B-46DE-8A8A-2546222F6D3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6D59-D23B-4D6D-B886-924FEE7FABC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E0D636-0071-41FC-A20A-C3FDA2DB0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91AA52-02FA-4C91-AB94-7538AD672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A6ED6A-3224-4254-8CB5-2EF06BF3A2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3A1746-C58E-4D34-9C45-FA48670C9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B53A72-BEEA-4B35-A020-24C027916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72B57B-D7B1-4E2F-9636-4201FB27C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D3F0A8-898A-47C1-8E50-CBD69FD661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26FEB8-F1F7-4647-890B-5560C029AB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7E325E-79DA-43E7-8D58-7262769A11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CDCA48-C491-4607-8FBC-202BC636F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D9F5E57-FED6-4188-9B17-C9E3A1B8066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E5D686-C4E8-41AB-972E-8226741272C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4BCB120-FB07-4A9B-AE46-943A47188FE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8D1B-A158-43C5-9F31-7FD6C1A8025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ENTRAL LIMIT THEOREM </a:t>
              </a:r>
              <a:r>
                <a:rPr b="0" lang="en-US" sz="1200" spc="-1" strike="noStrike">
                  <a:solidFill>
                    <a:srgbClr val="000000"/>
                  </a:solidFill>
                  <a:latin typeface="Arial"/>
                  <a:ea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4760"/>
            <a:ext cx="7963200" cy="4181400"/>
          </a:xfrm>
          <a:prstGeom prst="rect">
            <a:avLst/>
          </a:prstGeom>
          <a:noFill/>
          <a:ln w="0">
            <a:noFill/>
          </a:ln>
        </p:spPr>
        <p:txBody>
          <a:bodyPr lIns="92160" rIns="92160" tIns="46080" bIns="46080" anchor="t">
            <a:normAutofit fontScale="88000"/>
          </a:bodyPr>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452520" indent="-45252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452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2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653760" indent="-25128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ea typeface="Arial"/>
                </a:rPr>
                <a:t>Simple Random Sample:</a:t>
              </a:r>
              <a:r>
                <a:rPr b="0" lang="en-US" sz="1200" spc="-1" strike="noStrike">
                  <a:solidFill>
                    <a:srgbClr val="000000"/>
                  </a:solidFill>
                  <a:latin typeface="Arial"/>
                  <a:ea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Stratified Random Sampling:</a:t>
              </a:r>
              <a:r>
                <a:rPr b="0" lang="en-US" sz="1400" spc="-1" strike="noStrike">
                  <a:solidFill>
                    <a:srgbClr val="000000"/>
                  </a:solidFill>
                  <a:latin typeface="Arial"/>
                  <a:ea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Arial"/>
                </a:rPr>
                <a:t>Cluster Sampling: </a:t>
              </a:r>
              <a:r>
                <a:rPr b="0" lang="en-US" sz="1400" spc="-1" strike="noStrike">
                  <a:solidFill>
                    <a:srgbClr val="000000"/>
                  </a:solidFill>
                  <a:latin typeface="Arial"/>
                  <a:ea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cp:lastModifiedBy>
  <dcterms:modified xsi:type="dcterms:W3CDTF">2017-09-19T08:32:28Z</dcterms:modified>
  <cp:revision>214</cp:revision>
  <dc:subject>Sampling Methods and the Central Limit Theorem</dc:subject>
  <dc:title>Chapter 8</dc:title>
</cp:coreProperties>
</file>