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E70-2EE4-4EF2-B45A-E15016A2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3EC-A2E6-47F6-9243-E0A9862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5D4-AE9E-442B-94A6-27F2465E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A6A-CA68-4C3E-971C-B474734E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330-0C3C-406F-8008-DD3F8944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A0-987A-48DE-ACA3-0A8BA93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30E-BA83-4CF6-BD0A-DF4B5E3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F8C-02EB-44A4-8F8E-BAFFCB9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519-2DD5-436F-B427-AB5FE0F9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E09-B6C6-4A4D-B2EC-9C1457C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80E-AA7F-4B1D-AFD2-770F44D7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810-D335-4AE7-88E0-E6A2434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3F8D-B27A-42D3-AA78-AEAC2F4A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اهية نظم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دعم القرار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System (D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نظم الخبير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نظام المعلومات و المستوي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449440" y="1600200"/>
          <a:ext cx="4245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5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غيرات العالمية المؤثرة على أهمية نظ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عولمة الإقتص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الإقتصاد القائم على خدم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ظهور شكل جديد من المنظ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قل من المستوي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لا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فصل بين القيام بالعمل و الموق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قليل التكلفة باستخدام اجراءات آ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يادة سرعة الإستج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غيير العملية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أعادة تعريف حدود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و دورها في اتخاذ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راحل 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إستخب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رحلة الإختيار و التنف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مراحل اتخاذ القرارات و انواع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523880" y="1523880"/>
          <a:ext cx="59770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77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رجة هيكلة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r" rtl="1">
              <a:spcBef>
                <a:spcPts val="499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معالجة البيانات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حويل الأرقام والحروف بغرض زيادة منفعة استخدم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المعلومات الإدار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كون في شكل تقارير دورية يمكن للمديرين  استخدامها في اتخاذ القرار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نظم دعم القرا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لك النظم التي تساند المدير في حل المشاكل غير الهيكل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النظم الخبيرة والذكاء الاصطناع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ختص بالآلة وجعلها قادرة على ممارسة سلوك ويمكن  أن يوصف  بأنة ذكاء إذا قام به العنصر البشر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دور الحاسب في حيات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نظم المعلومات الإدارية و مكون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أهمية نظم المعلومات الإدار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ور الحاسب في المنظ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حفظ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ظيم و عرض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شارك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لكل من العنصر البشري و الآلة و الذي يهدف إلى تزويد المنظمة بالمعلومات اللازمة لتدعيم و استمرار العمليات العادية و اليومية للمشروع سواء كانت تلك المعلومات تتعلق بالعمليات الداخلية للمنظمة أو واجهات النظام مع البيئة الخارجية كما و تدعم هذا المعلومات عمليات اتخاذ القرار بمختلف مستو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ناصر التعر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من الآلة و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عمل النظام على تزويد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دعم النظام 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وجد النظام ضمن مشروع أو 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جراءات معرفة للتعامل مع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نماذج خ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28600" y="668160"/>
          <a:ext cx="86104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لامح الأساسية ل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جراءات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فرق بين نظم المعلومات و الحاسب الآلي و برمج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ناك فرق بين البيانات و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برمجيات مختلفة لنظم المعلومات لتدعيم القرارات بمختلف اشك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المعلومات هو أحد النظم الفرع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 ال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تعام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ب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 System (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به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المعلومات الإداري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20:03Z</dcterms:created>
  <dc:creator>Qasem Kharma</dc:creator>
  <dc:description/>
  <dc:language>en-US</dc:language>
  <cp:lastModifiedBy>mashael</cp:lastModifiedBy>
  <dcterms:modified xsi:type="dcterms:W3CDTF">2012-09-10T07:04:55Z</dcterms:modified>
  <cp:revision>17</cp:revision>
  <dc:subject/>
  <dc:title>نظم المعلومات الإدارية</dc:title>
</cp:coreProperties>
</file>