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51F6-B66E-45C1-962D-A26407734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5F20-BABC-4886-B1AB-2F818C16A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D433-26E3-469A-A0FB-AE3B27EFB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195B-31A3-44A8-BE61-9800EA287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5A1E-1B00-4E26-9D3B-2D84CB5D9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C133-48F6-46C8-AB7C-D740B5A1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7C3E-1DDF-48F0-B10A-C4FD08918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28AA-4793-48F1-9E3F-418D7D140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A2BD-EA8E-4232-BAC8-EC0B97B0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D7D4-6E51-4625-923D-03758C71B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B666-66E8-42CE-8A15-915C11209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FB7B-33D4-436A-8800-583E2B865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F64-92A8-47E2-AA29-5CAB5978B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1B36-0B72-49A0-ABB0-E8A232F9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207F-A297-4F6B-8E4F-E4EC2129E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3815-8CDD-4663-9445-F7C961D3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6BC1-2CB0-4EE8-882D-072A33043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F542-C593-433A-9406-16F2B736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8A5F-83CE-46D6-9ABD-876DFEBBF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18C8-B80D-45F3-B4A3-6155D7F6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ADCC-5A9B-414B-8C3B-E5FF30C0A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6765-3D26-4CC8-A2B5-A25074962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23DD-2D69-42E0-87CB-6256635EA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136F-FADE-4BE0-9A11-69F116088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21F8-EBAA-4F90-A7DF-7FE8E93A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3D58-4A6E-4617-9ACD-AA47B1B48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0971-3BCF-4A7D-AF79-C8672649C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5695-A0A7-44FC-B656-86D2ADBD7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45E-49F2-40C3-8DB1-1179347C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A96-1A96-4E09-A85A-1DD30B2D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75A-37EB-4FD5-85DD-D768D00A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655-E705-428F-91AC-732A2987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31F7-5B53-4F26-968D-DE614C36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AD5A-2E7B-4542-81D0-C044270E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4046-BA54-48B0-B405-91B5D524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A90B-B496-4754-B7D4-31709EC7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A6FF-93E0-4651-A57A-09F49C2F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F06D-72AB-48B2-AA1C-2B6E6DB6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A45D-012E-4828-9E59-19070531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5A7-11BA-49D7-8C15-370FA37D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376E-FA5A-460C-AF85-BB4D2EA0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B986-AA79-4C0C-A9CD-7A42483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B139-46CA-4B2D-90C7-DDEBBE0B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C1C-C8BC-40AA-973D-A8DE751F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106A-DA89-4B77-954B-0DAB2AED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062-E655-4191-A9FC-8ECB3330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9F0-9662-4DCF-A8BC-953069E4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FC1-633D-4E45-B108-E3851AC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052-4235-41EA-92D2-F4E505B8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EEA-E253-419E-B72C-F6D91C9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4D3-CC72-4C74-BBC8-9A073010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137-F1A7-445F-A8B6-1D97186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0EE1-BC59-4EBA-9215-51517AAAFD5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9A38-BFA3-45AC-B635-18C36408B46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mbria"/>
              </a:rPr>
              <a:t>Chapter 10           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Behavioral Objectiv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86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Blending what the learner wants to learn and what the teacher has assessed the learner needs to know provides for a mutually accountable, respectful, and fulfilling educational  experi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mbria"/>
              </a:rPr>
              <a:t>The Debate about Using Behavioral Objectives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751d"/>
                </a:solidFill>
                <a:uFillTx/>
                <a:latin typeface="Cambria"/>
              </a:rPr>
              <a:t>Arguments Agains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Superfluous\not necess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Reductionist\not inclusiv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Time-consum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Pedagogic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Stifles creativity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Not compatible with complex field such as nurs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Interferes with freedom to lear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560" y="45720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751d"/>
                </a:solidFill>
                <a:uFillTx/>
                <a:latin typeface="Cambria"/>
              </a:rPr>
              <a:t>Arguments f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Keeps teaching learner-center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ommunicates plan to oth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Helps learners stay on track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Organizes educational approac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Ensures that process is deliber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Tailors teaching to learner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s nee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Focuses attention on learn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Orients teacher and learner to outcom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mbria"/>
              </a:rPr>
              <a:t>Three Major Advantages  to  Writing Objectives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Provides basis for selection and design of instructional content, methods, and material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Provides learner with means to organize efforts toward accomplishing objectiv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Allows for determination as to the extent that objectives have been accomplish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Writing Behavioral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ill Sans MT"/>
              </a:rPr>
              <a:t>Well-written Behavioral objectives give learner very clear statements about what is expected of them and assist teachers in being able to measure learner progress toward achieving outcomes of learning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Elements of  Behavioral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رسم تخطيطي 13" descr=""/>
          <p:cNvPicPr/>
          <p:nvPr/>
        </p:nvPicPr>
        <p:blipFill>
          <a:blip r:embed="rId1"/>
          <a:stretch/>
        </p:blipFill>
        <p:spPr>
          <a:xfrm>
            <a:off x="1298520" y="2206800"/>
            <a:ext cx="63216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mbria"/>
              </a:rPr>
              <a:t>Writing Behavioral Objectives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60360" y="12189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5760" indent="-2152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Three important characteristic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75760" indent="-2152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Cambria"/>
              </a:rPr>
              <a:t>1. </a:t>
            </a:r>
            <a:r>
              <a:rPr b="1" lang="en-US" sz="2800" spc="-1" strike="noStrike">
                <a:solidFill>
                  <a:srgbClr val="00cc99"/>
                </a:solidFill>
                <a:latin typeface="Cambria"/>
              </a:rPr>
              <a:t>Performance</a:t>
            </a:r>
            <a:r>
              <a:rPr b="1" lang="en-US" sz="2800" spc="-1" strike="noStrike">
                <a:solidFill>
                  <a:srgbClr val="595959"/>
                </a:solidFill>
                <a:latin typeface="Cambria"/>
              </a:rPr>
              <a:t>—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describes what the learner is expected to be able to do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75760" indent="-2152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Cambria"/>
              </a:rPr>
              <a:t>2. </a:t>
            </a:r>
            <a:r>
              <a:rPr b="1" lang="en-US" sz="2800" spc="-1" strike="noStrike">
                <a:solidFill>
                  <a:srgbClr val="00cc99"/>
                </a:solidFill>
                <a:latin typeface="Cambria"/>
              </a:rPr>
              <a:t>Condition</a:t>
            </a:r>
            <a:r>
              <a:rPr b="1" lang="en-US" sz="2800" spc="-1" strike="noStrike">
                <a:solidFill>
                  <a:srgbClr val="595959"/>
                </a:solidFill>
                <a:latin typeface="Cambria"/>
              </a:rPr>
              <a:t>—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describes the situation under which behavior will be observ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75760" indent="-2152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Cambria"/>
              </a:rPr>
              <a:t>3. </a:t>
            </a:r>
            <a:r>
              <a:rPr b="1" lang="en-US" sz="2800" spc="-1" strike="noStrike">
                <a:solidFill>
                  <a:srgbClr val="00cc99"/>
                </a:solidFill>
                <a:latin typeface="Cambria"/>
              </a:rPr>
              <a:t>Criterion—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describes how well or with what accuracy the learner must be able to perform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mbria"/>
              </a:rPr>
              <a:t>The Four Step Approach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To link a behavioral objective together, the following three steps are recommended: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1. Identify the testing situation (condition)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2. Identify who will perform (learner)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3. State what the learner will demonstrate (performance)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   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4. State how well the learner will perform (criterion)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mbria"/>
              </a:rPr>
              <a:t>The ABCD Rule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A—Audience (wh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B—Behavior (what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—Condition (under what circumstance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—Degree (how much, to what extent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rcRect l="0" t="23533" r="0" b="23533"/>
          <a:stretch/>
        </p:blipFill>
        <p:spPr>
          <a:xfrm>
            <a:off x="6477120" y="1752480"/>
            <a:ext cx="2361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News Gothic MT"/>
              </a:rPr>
              <a:t>SMART Objective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987480" y="1547640"/>
            <a:ext cx="77850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8804"/>
                </a:solidFill>
                <a:latin typeface="Cambria"/>
              </a:rPr>
              <a:t>Behavioral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371600" y="2349360"/>
            <a:ext cx="67057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News Gothic MT"/>
              </a:rPr>
              <a:t>SMART Objective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523880" y="1994040"/>
            <a:ext cx="5715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0" name="Picture 4" descr="C:\Documents and Settings\Olfat\My Documents\My Scans\2009-03 (Mar)\scan0002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2" name="Content Placeholder 3" descr="C:\Documents and Settings\Olfat\My Documents\My Scans\2009-03 (Mar)\scan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9b1b"/>
                </a:solidFill>
                <a:latin typeface="Cambria"/>
              </a:rPr>
              <a:t>Common Mistakes When Writing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8288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scribing what the instructor will do rather than what the learner will 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Including more than one behavior in a single objec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Forgetting to include all three characteristic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Using performance terms subject to many interpretations and that are not action-orient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riting an unattainable, unrealistic objec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riting objectives unrelated to stated go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luttering an objective with unnecessary inform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aking an objective too general so that the outcome is not cle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9b1b"/>
                </a:solidFill>
                <a:latin typeface="News Gothic MT"/>
              </a:rPr>
              <a:t>Taxonomy of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ill Sans MT"/>
              </a:rPr>
              <a:t>Taxonomy is a mechanism used to categorize things according to how they are related to one anoth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9b1b"/>
                </a:solidFill>
                <a:latin typeface="Cambria"/>
              </a:rPr>
              <a:t>Taxonomy of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Behavior is defined according to type (domain category) and level of complexity (simple to complex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751d"/>
                </a:solidFill>
                <a:latin typeface="Cambria"/>
              </a:rPr>
              <a:t>Three Types of Learning Domains </a:t>
            </a:r>
            <a:r>
              <a:rPr b="0" i="1" lang="en-US" sz="2400" spc="-1" strike="noStrike" u="sng">
                <a:solidFill>
                  <a:srgbClr val="e2751d"/>
                </a:solidFill>
                <a:uFillTx/>
                <a:latin typeface="Cambria"/>
              </a:rPr>
              <a:t>(</a:t>
            </a:r>
            <a:r>
              <a:rPr b="0" i="1" lang="en-US" sz="2400" spc="-1" strike="noStrike">
                <a:solidFill>
                  <a:srgbClr val="e2751d"/>
                </a:solidFill>
                <a:latin typeface="Cambria"/>
              </a:rPr>
              <a:t>domain category</a:t>
            </a:r>
            <a:r>
              <a:rPr b="0" i="1" lang="en-US" sz="2400" spc="-1" strike="noStrike" u="sng">
                <a:solidFill>
                  <a:srgbClr val="e2751d"/>
                </a:solidFill>
                <a:uFillTx/>
                <a:latin typeface="Cambria"/>
              </a:rPr>
              <a:t>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1. Cognitive—the 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“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thinking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”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oma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2. Affective—the 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“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feeling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”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oma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3. Psychomotor—the 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“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skills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”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oma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d77"/>
                </a:solidFill>
                <a:latin typeface="Cambria"/>
              </a:rPr>
              <a:t>Complexity of Domain Level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2189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Hierarchy from low (most simple), to medium (moderately difficult), and to high (most complex) levels of behavi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751d"/>
                </a:solidFill>
                <a:uFillTx/>
                <a:latin typeface="Cambria"/>
              </a:rPr>
              <a:t>Cognitive Leve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Knowledge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                        Evalu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810"/>
                </a:solidFill>
                <a:uFillTx/>
                <a:latin typeface="Cambria"/>
              </a:rPr>
              <a:t>Affective Levels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Receiving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         Characterizing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810"/>
                </a:solidFill>
                <a:uFillTx/>
                <a:latin typeface="Cambria"/>
              </a:rPr>
              <a:t>Psychomot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Perception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    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          Origination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2514600" y="5257800"/>
            <a:ext cx="15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666880" y="2971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590920" y="4038480"/>
            <a:ext cx="16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Cambria"/>
              </a:rPr>
              <a:t>Taxonomy of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6" name="Picture 11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Cambria"/>
              </a:rPr>
              <a:t>Taxonomy of objectives  ; Action Verb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ill Sans MT"/>
              </a:rPr>
              <a:t>Different action verbs used for each taxonomy (see book  Chapter 10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73"/>
                </a:solidFill>
                <a:latin typeface="Cambria"/>
              </a:rPr>
              <a:t>Definition of Term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2133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73"/>
                </a:solidFill>
                <a:uFillTx/>
                <a:latin typeface="Cambria"/>
              </a:rPr>
              <a:t>Goal: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 the final outcome of what is achieved at the end of the teaching–learning proces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73"/>
                </a:solidFill>
                <a:uFillTx/>
                <a:latin typeface="Cambria"/>
              </a:rPr>
              <a:t>Objective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mbria"/>
              </a:rPr>
              <a:t>: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 a behavior describing the performance that learners should be able to exhibit to be considered competen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Cambria"/>
              </a:rPr>
              <a:t>Cognitive VS AFFECTIVE Domai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7816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000"/>
                </a:solidFill>
                <a:latin typeface="News Gothic MT"/>
              </a:rPr>
              <a:t>Psychomotor Domai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447920" y="2006640"/>
            <a:ext cx="56386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042400" cy="59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533520" y="1720800"/>
            <a:ext cx="73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8804"/>
                </a:solidFill>
                <a:latin typeface="Cambria"/>
              </a:rPr>
              <a:t>Class Exercise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15d77"/>
                </a:solidFill>
                <a:latin typeface="Cambria"/>
              </a:rPr>
              <a:t>write  the type of  learning domains (Cognitive, Affective, Psychomotor)  for  the following Behavioral objectives  listed be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533520"/>
          <a:ext cx="8001000" cy="52401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5048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. Following a discussion related to nurse-patient interaction, the registered nurse will identify in writing four phases of nurse-patient relationsh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. After observing a demonstration of an intramuscular injection, the licensed practical nurse will repeat the demonstration in accordance with established procedu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. Given the opportunity for attending a leadership development workshop - the registered nurse demonstrates interest by participating in discussion and completing written assignm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. Following 20 mints  lecture   ,the students will explain why older age  are at increased risk of chronic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0880" y="609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Cambria"/>
              </a:rPr>
              <a:t>5. After three observations , the students will perform a full antenatal examination on a pregnant woman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69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Cambria"/>
              </a:rPr>
              <a:t>6. Following  simulation , the nurse will  demonstrate a willingness to maintain confidentiality in interactions with adolescent patien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69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Cambria"/>
              </a:rPr>
              <a:t>7. Following  discussion  ,  the students will List the nutritional needs of infants younger than 6 months old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69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Cambria"/>
              </a:rPr>
              <a:t>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685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Times New Roman"/>
              </a:rPr>
              <a:t>8. Given the opportunity for attending  three months counseling training  the nurse will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Cambria"/>
              </a:rPr>
              <a:t>counsel patients using nonjudgmental language (both verbal and non-verbal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69840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Cambria"/>
              </a:rPr>
              <a:t>9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Cambria"/>
              </a:rPr>
              <a:t>.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Cambria"/>
              </a:rPr>
              <a:t>Following two weeks ethical workshop, the nurse will demonstrate a willingness to maintain confidentiality in interactions with adolescent pati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698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Times New Roman"/>
              </a:rPr>
              <a:t>10. Following  different  discussion related to communication , the registered nurse will appreciate feedback cycle in communication proces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Teaching in the Cognitive Domai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Learning in this domain involves acquisition of information based on the learner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s intellectual abilities and thinking process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ethods most often used to stimulate learning in the cognitive domain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Lectur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One-to-one instr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Computer-assisted instr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ognitive-domain learning is the traditional focus of most teach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ognitive knowledge is an essential prerequisite for learning affective and psychomotor skill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Teaching in the Affective Domai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192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26712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Learning in this domain involves an increasing internalization or commitment to feelings; affective learning involves the degree to which feelings or attitudes are incorporated into one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s personality or value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267120">
              <a:lnSpc>
                <a:spcPct val="13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ethods most often used to stimulate learning in the affective domain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26712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Group discus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26712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Role-play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26712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26712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- Role-model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- Simulation gam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- Question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Nurse educators are encouraged to attend to the needs of the whole person by recognizing that learning is subjective and values driven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More time in teaching needs to focus on exploring and clarifying learner feelings, emotions, and attitudes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73"/>
                </a:solidFill>
                <a:latin typeface="Cambria"/>
              </a:rPr>
              <a:t>Types of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751d"/>
                </a:solidFill>
                <a:uFillTx/>
                <a:latin typeface="Cambria"/>
              </a:rPr>
              <a:t>Educational Objectives:</a:t>
            </a:r>
            <a:r>
              <a:rPr b="0" lang="en-US" sz="2800" spc="-1" strike="noStrike">
                <a:solidFill>
                  <a:srgbClr val="e2751d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identify intended outcomes of the education process in reference to an aspect of a program or a total program of stud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Cambria"/>
              </a:rPr>
              <a:t>Instructional Objectives</a:t>
            </a:r>
            <a:r>
              <a:rPr b="0" lang="en-US" sz="2800" spc="-1" strike="noStrike">
                <a:solidFill>
                  <a:srgbClr val="ff6600"/>
                </a:solidFill>
                <a:latin typeface="Cambri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escribe teaching activities and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resources used to facilitate effective learning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751d"/>
                </a:solidFill>
                <a:uFillTx/>
                <a:latin typeface="Cambria"/>
              </a:rPr>
              <a:t>Behavioral/Learning Objectives: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action-oriented, learner-centered outcomes of the teaching/learning proces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Teaching in the Psychomotor Domai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Learning in this domain involves acquiring fine and gross motor abilities with increasing complexity of neuromuscular coordin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ethods most often used to stimulate learning in the psychomotor domain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Demonst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Return demonst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Simul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Gam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Self-instr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282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Psychomotor skill development is very egocentric and requires learner concentr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Asking questions that demand a cognitive or affective response during psychomotor learning interferes with psychomotor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The ability to perform a skill is not equivalent to learning a skill (performance is transitory; learning is more permanent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Practice makes perfect</a:t>
            </a:r>
            <a:r>
              <a:rPr b="0" lang="ja-JP" sz="28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—repetition leads to perfection and reinforcement of behavior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Factors Influencing Psychomotor Skill Acquisitio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The amount of practice required to learn a new skill varies with the individual, depending upon such things a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Readiness to lear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Motivation to learn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Past experien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Health stat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E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nvironmental stimuli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- Anxiety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- Developmental stag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- Practice session length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Development of Teaching Plan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Predetermined goals and objectives serve as a basis for developing a teaching pla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utually agreed upon goals and objectives clarify what the learner is to learn and what the teacher is to teach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Reasons to Construct Teaching Plan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6676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1. Ensures a logical approach to teaching and keeps instruction on targe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2. Communicates in writing an action plan for the learner, teacher, and other provid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3. Serves as a legal document that indicates a plan is in place and the extent of progress toward implement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Basic Elements of a Teaching Pla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Purpos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Goal statem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Objectives (sub-objective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ontent outli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ethods of teach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Time allotm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Resources for instr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Evalu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The Major Criterion for Judging a Teaching Pla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240" y="15235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751d"/>
                </a:solidFill>
                <a:latin typeface="Cambria"/>
              </a:rPr>
              <a:t>Internal consistency</a:t>
            </a:r>
            <a:r>
              <a:rPr b="0" lang="en-US" sz="2400" spc="-1" strike="noStrike">
                <a:solidFill>
                  <a:srgbClr val="e2751d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exists when you can answer 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yes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to the following question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1 - Does the plan facilitate a relationship between its part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2 - Do all 8 elements of the plan 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hang together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 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3- Is the identified domain of learning in each objective reflected in the purpose and goal, as well as across the plan, all the way through to the end process of evaluation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ac810"/>
                </a:solidFill>
                <a:latin typeface="Cambria"/>
              </a:rPr>
              <a:t>Summary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52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Assessment of the learner is a prerequisite to formulating objectiv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riting clear and concise behavioral objectives is fundamental to the education proces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Goals and objectives serve as a guide to planning, implementation, and evaluation of teaching and learn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ference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astable, S. (2014): Nurse As Educator: Principles of Teaching and Learning For  Nursing Practice. 3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rd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ed Jones and Bartlett Publishers, Sudbur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Differences between Goals and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324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Differences between Goals and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2260440"/>
            <a:ext cx="62485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Differences between Goals and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80880" y="1828800"/>
          <a:ext cx="838224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News Gothic MT"/>
              </a:rPr>
              <a:t>Why educators develop goals\objectives 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52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3480" indent="-30348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ill Sans MT"/>
              </a:rPr>
              <a:t>Help educators make appropriate instructional decis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ill Sans MT"/>
              </a:rPr>
              <a:t>Assist learners to know what they need and expected to know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ill Sans MT"/>
              </a:rPr>
              <a:t>Assist educators in organizing instructional content for learners functioning at various levels of ability 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Responsibility for Establishing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 Goals and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Setting of goals and objectives must be a mutual decision-making process between the teacher and the learner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Both parties must </a:t>
            </a:r>
            <a:r>
              <a:rPr b="0" lang="ja-JP" sz="28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buy into</a:t>
            </a:r>
            <a:r>
              <a:rPr b="0" lang="ja-JP" sz="28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 and participate in establishing predetermined objectives and goals prior to initiating the teaching/learning proces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7:09:48Z</dcterms:created>
  <dc:creator>nicoleh</dc:creator>
  <dc:description/>
  <dc:language>en-US</dc:language>
  <cp:lastModifiedBy>Abdualrahman Alshehry</cp:lastModifiedBy>
  <cp:lastPrinted>2001-07-16T14:26:40Z</cp:lastPrinted>
  <dcterms:modified xsi:type="dcterms:W3CDTF">2016-11-21T01:47:28Z</dcterms:modified>
  <cp:revision>90</cp:revision>
  <dc:subject/>
  <dc:title>PowerPoint Presentation</dc:title>
</cp:coreProperties>
</file>