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1A8-E403-44B1-9D96-4BEA6039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3CB3-2B6E-41E4-9428-8DDF156A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2E5-CB13-4D80-9E8B-572DBEC0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3B5-99F6-40CD-BEDD-8EF09CB5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C00-610E-45A2-B6F6-C47DB30D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6E7-E908-45A0-969F-F26574D8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46F3-6F51-4BC6-B3E4-8C827C46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9AA2-235B-477B-9C75-14901A0B5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05D0-AF40-4BE5-8B23-43A63A9A4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7BF7-EA06-421E-A834-C31BBD070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B88-5EFD-4EF4-A48E-8255A167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5D0-544B-4051-A41F-4F10C6BB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FF5-D7EB-4BE7-8986-644B8C74A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94E-9066-44A2-86D4-82E6EA99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021A-012A-4609-AA1C-049C2396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71F-D44B-4189-880F-1B16C26A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EEB6-2C47-41C1-9CF7-329B6012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94D-7729-47C4-A1FA-5FD99F6B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BC1F-B486-4AF8-B16E-9878B034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1B79-473E-41CD-B03D-BD86ACC6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51D0-9C16-48A5-8BB3-817289FD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C93-AA74-4EB8-9EC3-569D6B44C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6B09-23F0-4546-BDE4-A97CBE12A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272C-6423-49EA-A155-BD28B89A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A6B8-89E6-433C-A4C3-5EFCE409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DD69-74F4-4155-982E-F22095B5E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91B-AA23-4B9B-98FA-288D5D9FA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B45-3FA0-49D2-8B86-2E93655A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3B4-6706-4BED-A6C5-2F9992F5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D11-4F2D-42F1-BBAF-CA5AE155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6D4-DC21-49B0-9B6A-9BC3A27C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2BB-7F97-4547-8665-DD66520C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1DA-F770-4259-A5FB-B94EE93B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DC4-D5D7-45F5-A849-9920E222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EC1-3447-48BF-B6AE-E7999B7B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8FD-461E-44CD-ADA4-17CD0D4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18E5-5217-453B-AB06-199B0AB1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E233-815E-48D7-9E8A-D105227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CFE6-8628-4826-8C32-B1B4638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155-286A-4BCD-B981-A24BF7FB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489-136C-435A-BB96-AC6668C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EE9-D367-460F-B8DF-3A784D8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4A2C-F217-4A5F-9764-4A04473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7AD-37A0-44EF-AFBF-E42DD1E8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5F76-D24D-455D-8A48-788D46E7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5FC-3B55-4C4B-AD4B-72C55E2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D0A-0B4B-4D34-AD00-1645EF94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1F2-DAC2-40E6-9376-458D4E87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0F5-E6DF-448A-9F65-9F486A0F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7DB-D646-4E96-91A0-D52EB15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141-3A3F-46B0-AE57-FAD6735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B2A-5D95-4862-8FE5-F1698E8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C63-E7B9-4537-BBAF-15E4F2FDAA4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4259-F0C1-4092-A812-C329DAFA83C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mbria"/>
              </a:rPr>
              <a:t>Chapter 10           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Behavioral Objectiv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lending what the learner wants to learn and what the teacher has assessed the learner needs to know provides for a mutually accountable, respectful, and fulfilling educational  experi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Debate about Using Behavioral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751d"/>
                </a:solidFill>
                <a:uFillTx/>
                <a:latin typeface="Cambria"/>
              </a:rPr>
              <a:t>Arguments Again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uperfluous\not necess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Reductionist\not inclusiv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Time-consum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Pedagog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tifles creativity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Not compatible with complex field such as nur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2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Interferes with freedom to lea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560" y="45720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Arguments f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eeps teaching learner-cente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mmunicates plan to oth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elps learners stay on trac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rganizes educational approac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nsures that process is deliber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ailors teaching to learn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nee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Focuses attention on learn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rients teacher and learner to outcom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ree Major Advantages  to  Writing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ovides basis for selection and design of instructional content, methods, and material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ovides learner with means to organize efforts toward accomplishing objectiv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llows for determination as to the extent that objectives have been accomplish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Writing 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Well-written Behavioral objectives give learner very clear statements about what is expected of them and assist teachers in being able to measure learner progress toward achieving outcomes of learning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Elements of  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رسم تخطيطي 13" descr=""/>
          <p:cNvPicPr/>
          <p:nvPr/>
        </p:nvPicPr>
        <p:blipFill>
          <a:blip r:embed="rId1"/>
          <a:stretch/>
        </p:blipFill>
        <p:spPr>
          <a:xfrm>
            <a:off x="1298520" y="2206800"/>
            <a:ext cx="6321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Writing Behavioral Objectiv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036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Three important characteristic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1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Performance</a:t>
            </a:r>
            <a:r>
              <a:rPr b="1" lang="en-US" sz="2800" spc="-1" strike="noStrike">
                <a:solidFill>
                  <a:srgbClr val="595959"/>
                </a:solidFill>
                <a:latin typeface="Cambria"/>
              </a:rPr>
              <a:t>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what the learner is expected to be able to do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2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Condition</a:t>
            </a:r>
            <a:r>
              <a:rPr b="1" lang="en-US" sz="2800" spc="-1" strike="noStrike">
                <a:solidFill>
                  <a:srgbClr val="595959"/>
                </a:solidFill>
                <a:latin typeface="Cambria"/>
              </a:rPr>
              <a:t>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the situation under which behavior will be observ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75760" indent="-2152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Cambria"/>
              </a:rPr>
              <a:t>3. </a:t>
            </a:r>
            <a:r>
              <a:rPr b="1" lang="en-US" sz="2800" spc="-1" strike="noStrike">
                <a:solidFill>
                  <a:srgbClr val="00cc99"/>
                </a:solidFill>
                <a:latin typeface="Cambria"/>
              </a:rPr>
              <a:t>Criterion—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scribes how well or with what accuracy the learner must be able to perfor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Four Step Approach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To link a behavioral objective together, the following three steps are recommended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1. Identify the testing situation (condition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2. Identify who will perform (learner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3. State what the learner will demonstrate (performance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   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4. State how well the learner will perform (criterion)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mbria"/>
              </a:rPr>
              <a:t>The ABCD Rule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A—Audience (wh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—Behavior (wha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—Condition (under what circumstanc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—Degree (how much, to what exten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0" t="23533" r="0" b="23533"/>
          <a:stretch/>
        </p:blipFill>
        <p:spPr>
          <a:xfrm>
            <a:off x="6477120" y="1752480"/>
            <a:ext cx="2361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News Gothic MT"/>
              </a:rPr>
              <a:t>SMART Objectiv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987480" y="1547640"/>
            <a:ext cx="77850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8804"/>
                </a:solidFill>
                <a:latin typeface="Cambria"/>
              </a:rPr>
              <a:t>Behavioral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371600" y="2349360"/>
            <a:ext cx="6705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News Gothic MT"/>
              </a:rPr>
              <a:t>SMART Objectiv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523880" y="1994040"/>
            <a:ext cx="5715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0" name="Picture 4" descr="C:\Documents and Settings\Olfat\My Documents\My Scans\2009-03 (Mar)\scan0002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2" name="Content Placeholder 3" descr="C:\Documents and Settings\Olfat\My Documents\My Scans\2009-03 (Mar)\scan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Cambria"/>
              </a:rPr>
              <a:t>Common Mistakes When Writing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scribing what the instructor will do rather than what the learner will 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Including more than one behavior in a single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Forgetting to include all three characteristic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ing performance terms subject to many interpretations and that are not action-orient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an unattainable, unrealistic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objectives unrelated to stated go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luttering an objective with unnecessary inform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aking an objective too general so that the outcome is not cl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News Gothic MT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ill Sans MT"/>
              </a:rPr>
              <a:t>Taxonomy is a mechanism used to categorize things according to how they are related to one anoth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9b1b"/>
                </a:solidFill>
                <a:latin typeface="Cambria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ehavior is defined according to type (domain category) and level of complexity (simple to complex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751d"/>
                </a:solidFill>
                <a:latin typeface="Cambria"/>
              </a:rPr>
              <a:t>Three Types of Learning Domains </a:t>
            </a:r>
            <a:r>
              <a:rPr b="0" i="1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e2751d"/>
                </a:solidFill>
                <a:latin typeface="Cambria"/>
              </a:rPr>
              <a:t>domain category</a:t>
            </a:r>
            <a:r>
              <a:rPr b="0" i="1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. Cognitive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thinking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. Affective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feeling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. Psychomotor—the 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skills</a:t>
            </a:r>
            <a:r>
              <a:rPr b="0" lang="ja-JP" sz="2400" spc="-1" strike="noStrike">
                <a:solidFill>
                  <a:srgbClr val="fac810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fac81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oma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d77"/>
                </a:solidFill>
                <a:latin typeface="Cambria"/>
              </a:rPr>
              <a:t>Complexity of Domain Level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2189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ierarchy from low (most simple), to medium (moderately difficult), and to high (most complex) levels of behavi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751d"/>
                </a:solidFill>
                <a:uFillTx/>
                <a:latin typeface="Cambria"/>
              </a:rPr>
              <a:t>Cognitive Lev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nowledge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               Evalu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810"/>
                </a:solidFill>
                <a:uFillTx/>
                <a:latin typeface="Cambria"/>
              </a:rPr>
              <a:t>Affective Levels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Receiving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Characterizing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810"/>
                </a:solidFill>
                <a:uFillTx/>
                <a:latin typeface="Cambria"/>
              </a:rPr>
              <a:t>Psychomo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erceptio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        Originatio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2514600" y="5257800"/>
            <a:ext cx="15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666880" y="2971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590920" y="4038480"/>
            <a:ext cx="16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Taxonomy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6" name="Picture 11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Taxonomy of objectives  ; Action Verb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ill Sans MT"/>
              </a:rPr>
              <a:t>Different action verbs used for each taxonomy (see book  Chapter 10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73"/>
                </a:solidFill>
                <a:latin typeface="Cambria"/>
              </a:rPr>
              <a:t>Definition of Term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213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73"/>
                </a:solidFill>
                <a:uFillTx/>
                <a:latin typeface="Cambria"/>
              </a:rPr>
              <a:t>Goal: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the final outcome of what is achieved at the end of the teaching–learning proces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73"/>
                </a:solidFill>
                <a:uFillTx/>
                <a:latin typeface="Cambria"/>
              </a:rPr>
              <a:t>Objective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mbria"/>
              </a:rPr>
              <a:t>: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a behavior describing the performance that learners should be able to exhibit to be considered competen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Cambria"/>
              </a:rPr>
              <a:t>Cognitive VS AFFEC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781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000"/>
                </a:solidFill>
                <a:latin typeface="News Gothic MT"/>
              </a:rPr>
              <a:t>Psychomotor Doma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47920" y="2006640"/>
            <a:ext cx="56386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042400" cy="59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72080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8804"/>
                </a:solidFill>
                <a:latin typeface="Cambria"/>
              </a:rPr>
              <a:t>Class Exercise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15d77"/>
                </a:solidFill>
                <a:latin typeface="Cambria"/>
              </a:rPr>
              <a:t>write  the type of  learning domains (Cognitive, Affective, Psychomotor)  for  the following Behavioral objectives  listed be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533520"/>
          <a:ext cx="8001000" cy="52401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5048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. Following a discussion related to nurse-patient interaction, the registered nurse will identify in writing four phases of nurse-patient relationsh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 After observing a demonstration of an intramuscular injection, the licensed practical nurse will repeat the demonstration in accordance with established procedu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 Given the opportunity for attending a leadership development workshop - the registered nurse demonstrates interest by participating in discussion and completing written assignm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. Following 20 mints  lecture   ,the students will explain why older age  are at increased risk of chronic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609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5. After three observations , the students will perform a full antenatal examination on a pregnant woma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6. Following  simulation , the nurse will  demonstrate a willingness to maintain confidentiality in interactions with adolescent pati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7. Following  discussion  ,  the students will List the nutritional needs of infants younger than 6 months ol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  <a:ea typeface="Cambria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685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Times New Roman"/>
              </a:rPr>
              <a:t>8. Given the opportunity for attending  three months counseling training  the nurse will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counsel patients using nonjudgmental language (both verbal and non-verbal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9840" rtl="1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9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.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Cambria"/>
              </a:rPr>
              <a:t>Following two weeks ethical workshop, the nurse will demonstrate a willingness to maintain confidentiality in interactions with adolescent pat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9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Times New Roman"/>
              </a:rPr>
              <a:t>10. Following  different  discussion related to communication , the registered nurse will appreciate feedback cycle in communication proces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Cogni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cquisition of information based on the learn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intellectual abilities and thinking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cognitive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Le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One-to-one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Computer-assisted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gnitive-domain learning is the traditional focus of most teach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gnitive knowledge is an essential prerequisite for learning affective and psychomotor skil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Affective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192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n increasing internalization or commitment to feelings; affective learning involves the degree to which feelings or attitudes are incorporated into one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personality or value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affective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Group discus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ole-play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26712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Role-model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Simulation gam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- Question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Nurse educators are encouraged to attend to the needs of the whole person by recognizing that learning is subjective and values driven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More time in teaching needs to focus on exploring and clarifying learner feelings, emotions, and attitud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73"/>
                </a:solidFill>
                <a:latin typeface="Cambria"/>
              </a:rPr>
              <a:t>Types of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Educational Objectives:</a:t>
            </a:r>
            <a:r>
              <a:rPr b="0" lang="en-US" sz="2800" spc="-1" strike="noStrike">
                <a:solidFill>
                  <a:srgbClr val="e2751d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identify intended outcomes of the education process in reference to an aspect of a program or a total program of stud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Cambria"/>
              </a:rPr>
              <a:t>Instructional Objectives</a:t>
            </a:r>
            <a:r>
              <a:rPr b="0" lang="en-US" sz="2800" spc="-1" strike="noStrike">
                <a:solidFill>
                  <a:srgbClr val="ff6600"/>
                </a:solidFill>
                <a:latin typeface="Cambri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escribe teaching activities and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resources used to facilitate effective learning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751d"/>
                </a:solidFill>
                <a:uFillTx/>
                <a:latin typeface="Cambria"/>
              </a:rPr>
              <a:t>Behavioral/Learning Objectives: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ction-oriented, learner-centered outcomes of the teaching/learning proces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eaching in the Psychomotor Domai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Learning in this domain involves acquiring fine and gross motor abilities with increasing complexity of neuromuscular coordin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most often used to stimulate learning in the psychomotor domain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Demonst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eturn demonst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Gam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Self-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282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sychomotor skill development is very egocentric and requires learner concen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Asking questions that demand a cognitive or affective response during psychomotor learning interferes with psychomotor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The ability to perform a skill is not equivalent to learning a skill (performance is transitory; learning is more permanent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4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Practice makes perfect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—repetition leads to perfection and reinforcement of behavio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Factors Influencing Psychomotor Skill Acquisitio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he amount of practice required to learn a new skill varies with the individual, depending upon such things a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Readiness to lear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Motivation to learn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Past experie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Health stat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25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- E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nvironmental stimuli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Anxiety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Developmental stag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- Practice session length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evelopment of Teaching Pla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redetermined goals and objectives serve as a basis for developing a teaching pla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utually agreed upon goals and objectives clarify what the learner is to learn and what the teacher is to teac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Reasons to Construct Teaching Plan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6676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. Ensures a logical approach to teaching and keeps instruction on targ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. Communicates in writing an action plan for the learner, teacher, and other provid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. Serves as a legal document that indicates a plan is in place and the extent of progress toward implement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Basic Elements of a Teaching Pla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urpo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oal stat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Objectives (sub-objectiv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Content outli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Methods of teach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Time allot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Resources for instr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valu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The Major Criterion for Judging a Teaching Pla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24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751d"/>
                </a:solidFill>
                <a:latin typeface="Cambria"/>
              </a:rPr>
              <a:t>Internal consistency</a:t>
            </a:r>
            <a:r>
              <a:rPr b="0" lang="en-US" sz="2400" spc="-1" strike="noStrike">
                <a:solidFill>
                  <a:srgbClr val="e2751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xists when you can answer 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yes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to the following questi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1 - Does the plan facilitate a relationship between its part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2 - Do all 8 elements of the plan 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hang togeth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3- Is the identified domain of learning in each objective reflected in the purpose and goal, as well as across the plan, all the way through to the end process of evaluation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ac810"/>
                </a:solidFill>
                <a:latin typeface="Cambria"/>
              </a:rPr>
              <a:t>Summa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Assessment of the learner is a prerequisite to formulating objectiv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riting clear and concise behavioral objectives is fundamental to the education proces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oals and objectives serve as a guide to planning, implementation, and evaluation of teaching and lear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stable, S. (2014): Nurse As Educator: Principles of Teaching and Learning For  Nursing Practice. 3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rd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ed Jones and Bartlett Publishers, Sudbur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24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2260440"/>
            <a:ext cx="62485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Differences between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80880" y="1828800"/>
          <a:ext cx="838224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News Gothic MT"/>
              </a:rPr>
              <a:t>Why educators develop goals\objectives 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52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lnSpc>
                <a:spcPct val="2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Help educators make appropriate instructional decis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Assist learners to know what they need and expected to know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03480" indent="-30348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Gill Sans MT"/>
              </a:rPr>
              <a:t>Assist educators in organizing instructional content for learners functioning at various levels of ability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Responsibility for Establishing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ambria"/>
              </a:rPr>
              <a:t> Goals and Objectiv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272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Setting of goals and objectives must be a mutual decision-making process between the teacher and the learne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272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Both parties must 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buy into</a:t>
            </a:r>
            <a:r>
              <a:rPr b="0" lang="ja-JP" sz="2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 and participate in establishing predetermined objectives and goals prior to initiating the teaching/learning proces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7:09:48Z</dcterms:created>
  <dc:creator>nicoleh</dc:creator>
  <dc:description/>
  <dc:language>en-US</dc:language>
  <cp:lastModifiedBy>Abdualrahman Alshehry</cp:lastModifiedBy>
  <cp:lastPrinted>2001-07-16T14:26:40Z</cp:lastPrinted>
  <dcterms:modified xsi:type="dcterms:W3CDTF">2016-11-21T01:47:28Z</dcterms:modified>
  <cp:revision>90</cp:revision>
  <dc:subject/>
  <dc:title>PowerPoint Presentation</dc:title>
</cp:coreProperties>
</file>