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077-FFE0-474B-8C53-901F9E1E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688-218E-4115-80CA-7CB8B21E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0B0-96BD-4FDB-8FBD-3919B149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CA8E-5CE2-4D28-B7BA-0F7DAB47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E4D8-FA00-4B9B-B0F0-A7D338F8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56E9-5C79-4675-9207-2199AB48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BFC2-9AA9-4E28-9218-F8C1AF2F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69EC-758A-48D4-9216-FC324149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C605-D926-44D7-9030-03E9EC89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9180-F30F-4F58-8298-3324C63E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0EC3-D84E-48D4-A01A-4BC6F1EE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BAD-CDF7-4167-90A9-4C5D6EE6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4B6F-8334-408C-BECC-BA008337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9A1E-92EA-4D43-9146-B6121CB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9A78-F120-4DBD-A711-176940B7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74D8-CA15-4E72-BDD4-AC8CF59E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70F7-6309-41F9-9C64-C6E07CE9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9A7-3CF7-493F-9F74-71EBE813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51C-7171-42C2-BC9A-333F387B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A3FF-5EFA-4011-85E3-2F99D821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828-225C-46E4-B4B0-900455E7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A78-3C41-44DF-9500-B0B11720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5FA-9A4E-4EDC-B531-2A3C5C88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B94-3C62-40BF-8AC1-80FEA40D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A55F-7D2F-47F9-AB85-509346BB3E25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7DD7-6870-4881-A993-28FA0E3D556F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APTER   10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imes New Roman"/>
              </a:rPr>
              <a:t>SHOCK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762120"/>
            <a:ext cx="9144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752480"/>
            <a:ext cx="9144000" cy="54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(1)Reduction  of  blood  volume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Hemorrhage, Dehydration, Bur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(2)Decrease   of  cardicoutput            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Myocardial  infar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(3)Increase  of  vascular-bed volume 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Anaphylactic  rea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228600" y="3048120"/>
            <a:ext cx="910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1295280" y="2895480"/>
            <a:ext cx="9903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5257800" y="4114800"/>
            <a:ext cx="30481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228600" y="5667480"/>
            <a:ext cx="9372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2.Stages  of  Shock  and  Changes  of  Microcirulation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020160" cy="14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1.Starting   Factors  of   Shoc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1)Stage  of  Vasoconstriction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(Stage  of  Ischemic  Anoxia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4371840" cy="396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auses  of   shoc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ffective  blood  volume  </a:t>
            </a:r>
            <a:r>
              <a:rPr b="1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ympathetic  nerve  (+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A  Release  </a:t>
            </a:r>
            <a:r>
              <a:rPr b="1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Vasocon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(Arterioles  and  venous constrict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9480" y="2590920"/>
            <a:ext cx="4371840" cy="36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blood  flow  in      microcirculation  </a:t>
            </a:r>
            <a:r>
              <a:rPr b="1" lang="zh-CN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Ischemic  anoxia  of  tiss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Harmful  Effe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2895480"/>
            <a:ext cx="0" cy="297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3657600"/>
            <a:ext cx="0" cy="297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743200"/>
            <a:ext cx="0" cy="297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4952880"/>
            <a:ext cx="0" cy="297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4876920"/>
            <a:ext cx="0" cy="296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3962520"/>
            <a:ext cx="0" cy="296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04920" y="-5355000"/>
            <a:ext cx="22860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37184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uses  of  shock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ffective  blood  volume  </a:t>
            </a:r>
            <a:r>
              <a:rPr b="0" lang="en-US" sz="2800" spc="-1" strike="noStrike">
                <a:solidFill>
                  <a:srgbClr val="ffffcc"/>
                </a:solidFill>
                <a:latin typeface="Wingdings 3"/>
                <a:ea typeface="Wingdings 3"/>
              </a:rPr>
              <a:t>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ympathetic  nerve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  Release  </a:t>
            </a:r>
            <a:r>
              <a:rPr b="0" lang="en-US" sz="2800" spc="-1" strike="noStrike">
                <a:solidFill>
                  <a:srgbClr val="ffffcc"/>
                </a:solidFill>
                <a:latin typeface="Wingdings 3"/>
                <a:ea typeface="Wingdings 3"/>
              </a:rPr>
              <a:t>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Vasoconstri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elf-infu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elf-blood  transfu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495680" y="914040"/>
            <a:ext cx="46483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lood   flow   redistribu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nservation   of            Na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&amp;H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creased  functions  of  hea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rotective  Eff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1447920"/>
            <a:ext cx="0" cy="457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2362320"/>
            <a:ext cx="0" cy="457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3809880"/>
            <a:ext cx="0" cy="457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4724280"/>
            <a:ext cx="0" cy="457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4191120"/>
            <a:ext cx="0" cy="457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0"/>
            <a:ext cx="88851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2)Stage  of  Vasodilation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(Stage  of  Stagnant  Anoxia)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Anoxia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Acidosis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Endotoxins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hemorheology changes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Blood stasi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4876920"/>
            <a:ext cx="76320" cy="609480"/>
          </a:xfrm>
          <a:prstGeom prst="downArrow">
            <a:avLst>
              <a:gd name="adj1" fmla="val 50000"/>
              <a:gd name="adj2" fmla="val 1996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510552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4952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914400"/>
            <a:ext cx="88851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3)Stage  of  Vasofailure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(Stage  of  DIC)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Blood stasis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Endothelium damage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coagulation cascade initiation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thrombus  formation and MO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4876920"/>
            <a:ext cx="76320" cy="609480"/>
          </a:xfrm>
          <a:prstGeom prst="downArrow">
            <a:avLst>
              <a:gd name="adj1" fmla="val 50000"/>
              <a:gd name="adj2" fmla="val 1996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510552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297180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42670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5638680"/>
            <a:ext cx="76320" cy="609840"/>
          </a:xfrm>
          <a:prstGeom prst="downArrow">
            <a:avLst>
              <a:gd name="adj1" fmla="val 50000"/>
              <a:gd name="adj2" fmla="val 199764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3048120"/>
            <a:ext cx="76320" cy="533160"/>
          </a:xfrm>
          <a:prstGeom prst="downArrow">
            <a:avLst>
              <a:gd name="adj1" fmla="val 50000"/>
              <a:gd name="adj2" fmla="val 174646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3.Mechanisms   of  Shoc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(1)Neurogenic   Mechanism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Sympathetic  stim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Constriction                     Rapid  heart  rat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of  arterioles                    and  Strengthe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and  venules                     Constriction  of  hea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590920" y="3276720"/>
            <a:ext cx="1295280" cy="6094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6920" y="3276720"/>
            <a:ext cx="1143000" cy="6094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4640" y="685440"/>
            <a:ext cx="8885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(2)Cellular  Mechanism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5000" y="1447560"/>
            <a:ext cx="8896320" cy="48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Endotoxin                    Complement  Split  produ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Activation    of   Macrophages  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Polymorphonuclear   Leukocy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Rele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Lysosomal  enzym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Oxy-free   redicals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IL-1          TN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Cells  and  Tissues  Inju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190512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190512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312408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12408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396252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396252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563868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640" y="533160"/>
            <a:ext cx="888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(3)Humoral  Mechanism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5000" y="1752120"/>
            <a:ext cx="437184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Catecholami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Noradrenaline   and    Adrena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RAA  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Renin-Angiotension-Aldoster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Vasopress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Histamine  and  Seroton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Kini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4371840" cy="44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Neuropept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Activated  Compl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Tumor  Necrosis  Fact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Oxygen  Free  Radic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Prostaglandins  and  Leukotrie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9144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914400"/>
            <a:ext cx="883908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048120"/>
            <a:ext cx="9144000" cy="41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750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Effects  on  tension  of  vess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750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Effects  on  permeability  of     vess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750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Direct  harmful  effects  on  cel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14479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In  brief, Roles  that  humoral    factors  play  in  development  of  shock are  as  follows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066680"/>
            <a:ext cx="8915400" cy="72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.</a:t>
            </a:r>
            <a:r>
              <a:rPr b="1" i="1" lang="zh-CN" sz="4400" spc="-1" strike="noStrike">
                <a:solidFill>
                  <a:srgbClr val="ff9900"/>
                </a:solidFill>
                <a:latin typeface="Times New Roman"/>
              </a:rPr>
              <a:t>Shock-</a:t>
            </a:r>
            <a:r>
              <a:rPr b="1" lang="zh-CN" sz="4400" spc="-1" strike="noStrike">
                <a:solidFill>
                  <a:srgbClr val="ff9900"/>
                </a:solidFill>
                <a:latin typeface="Arial Black"/>
              </a:rPr>
              <a:t>Lung  </a:t>
            </a:r>
            <a:r>
              <a:rPr b="1" i="1" lang="zh-CN" sz="4400" spc="-1" strike="noStrike">
                <a:solidFill>
                  <a:srgbClr val="ff9900"/>
                </a:solidFill>
                <a:latin typeface="Times New Roman"/>
              </a:rPr>
              <a:t>Syndrom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 &amp; Hypox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isturbance  of  pulmolary  circul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ung  edema      Hemorrhage      microthrombi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dult   Respiratory   Distress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yndrome(ARDS)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26668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266688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266688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3733920"/>
            <a:ext cx="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38480" y="266688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266688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487692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2590920"/>
            <a:ext cx="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ffects  of  Shock  on  Vital  Organ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43200" y="3733920"/>
            <a:ext cx="137160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3733920"/>
            <a:ext cx="144792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571640" y="4800600"/>
            <a:ext cx="213372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4800600"/>
            <a:ext cx="175248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What  is  Shock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1)Reduction  of   blood   perfusion t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tissues microcirculation.                                     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2)Dysfunction   of   orga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3)Disturbance   of   metabolism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-304920" y="533520"/>
            <a:ext cx="876312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600200"/>
            <a:ext cx="853416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Sympathetic  stimulation &amp; Secretion  of  CA 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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Arteriolar  constriction 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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renal  ischemia  and  hypoxia 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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tubule  necrosis  and  decrease  of  glomerular  Filtration  rate 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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3366ff"/>
                </a:solidFill>
                <a:latin typeface="Arial Black"/>
              </a:rPr>
              <a:t>Renal  Failur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8480" y="380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9900"/>
                </a:solidFill>
                <a:latin typeface="Times New Roman"/>
              </a:rPr>
              <a:t>2.Shock  </a:t>
            </a:r>
            <a:r>
              <a:rPr b="1" lang="zh-CN" sz="4800" spc="-1" strike="noStrike">
                <a:solidFill>
                  <a:srgbClr val="ff9900"/>
                </a:solidFill>
                <a:latin typeface="Arial Black"/>
              </a:rPr>
              <a:t>Kidne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9900"/>
                </a:solidFill>
                <a:latin typeface="Times New Roman"/>
              </a:rPr>
              <a:t>3. Effects  of  Shock  on  </a:t>
            </a:r>
            <a:r>
              <a:rPr b="0" lang="zh-CN" sz="4800" spc="-1" strike="noStrike">
                <a:solidFill>
                  <a:srgbClr val="ff9900"/>
                </a:solidFill>
                <a:latin typeface="Arial Black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2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28600" y="0"/>
            <a:ext cx="891540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9900"/>
                </a:solidFill>
                <a:latin typeface="Times New Roman"/>
              </a:rPr>
              <a:t>3. Effects  of  Shock  on  </a:t>
            </a:r>
            <a:r>
              <a:rPr b="0" lang="zh-CN" sz="4800" spc="-1" strike="noStrike">
                <a:solidFill>
                  <a:srgbClr val="ff9900"/>
                </a:solidFill>
                <a:latin typeface="Arial Black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2357280"/>
            <a:ext cx="876312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Ischemia , hypoxia  and  toxic  substances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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 liver  dysfunction 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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GTP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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 and  metabolic  diturbance  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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hyperglycemia (early)  and  hypoglycemia (late)  and  blood  amino  acids 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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 and  so  on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2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52280" y="152280"/>
            <a:ext cx="8991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990720"/>
            <a:ext cx="914400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In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early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  stage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,  due  to  blood  flow  redistribution  and  autoregulatory  mechanism,  functions  of  brain  still  are  normal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In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late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stage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,  functions  of  brain  are  disturbed  by  cytotoxic  edema,  nerosis  of  brain  cells  resulting  from  harmful  effects  of  OFR, Kinins  and  PGs,  ec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Clinically  Restless, Lassitude  and  Coma  are  manifeste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4.Effects  of  Shock  on  </a:t>
            </a:r>
            <a:r>
              <a:rPr b="0" lang="en-US" sz="4400" spc="-1" strike="noStrike">
                <a:solidFill>
                  <a:srgbClr val="ff9900"/>
                </a:solidFill>
                <a:latin typeface="Arial Black"/>
              </a:rPr>
              <a:t>Brain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2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28600" y="22860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143000"/>
            <a:ext cx="9144000" cy="55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In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early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  stage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,  due  to  blood  flow  redistribution  and  autoregulatory  vasodilation, performance  of  heart  still  is  normal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In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late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stage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,  functions  of  heart  are  disturbed  by  imbalance  between  availability  and  consumption  of  oxygen,  acidosis, hyperkalemia,MDF  and  DIC  in  myocardium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Clinically  heart  failure  are  manifeste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9900"/>
                </a:solidFill>
                <a:latin typeface="Times New Roman"/>
              </a:rPr>
              <a:t>5. Effects  of  Shock  on  </a:t>
            </a:r>
            <a:r>
              <a:rPr b="0" lang="zh-CN" sz="4400" spc="-1" strike="noStrike">
                <a:solidFill>
                  <a:srgbClr val="ff9900"/>
                </a:solidFill>
                <a:latin typeface="Arial Black"/>
              </a:rPr>
              <a:t>Heart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2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28600" y="3049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1676520"/>
            <a:ext cx="845820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MOF  </a:t>
            </a:r>
            <a:r>
              <a:rPr b="0" lang="en-US" sz="4000" spc="-1" strike="noStrike">
                <a:solidFill>
                  <a:srgbClr val="3366ff"/>
                </a:solidFill>
                <a:latin typeface="Times New Roman"/>
              </a:rPr>
              <a:t>is  a  comprehensive  outcome  of  dysfunctions  of  the  above  organs  in  shock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ell  damage  is  a  fundamental  cause  of  MOF, many  harmful  factors  can  induce  cell  damage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020160" cy="17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9900"/>
                </a:solidFill>
                <a:latin typeface="Times New Roman"/>
              </a:rPr>
              <a:t>6.Multiple  Organ  Failue(MOF)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80880" y="2286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2362320"/>
            <a:ext cx="8686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 Black"/>
              </a:rPr>
              <a:t>1.Hypovolemic   shock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Common  causes:</a:t>
            </a: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Hemorrhage,  Burn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Dehydration 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A  key  link  of  pathogenesi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Inadequate  circulating  blood  volu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Main  mechanism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Sympathetic  nervous  system  activ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8480" y="6091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cc33"/>
                </a:solidFill>
                <a:uFillTx/>
                <a:latin typeface="Impact"/>
              </a:rPr>
              <a:t>Characteristics</a:t>
            </a:r>
            <a:br>
              <a:rPr sz="6000"/>
            </a:br>
            <a:r>
              <a:rPr b="0" lang="en-US" sz="4800" spc="-1" strike="noStrike">
                <a:solidFill>
                  <a:srgbClr val="33cc33"/>
                </a:solidFill>
                <a:latin typeface="Impact"/>
              </a:rPr>
              <a:t>of Various Types of Shock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28600" y="152280"/>
            <a:ext cx="8915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990720"/>
            <a:ext cx="9144000" cy="61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宋体"/>
              </a:rPr>
              <a:t>Common causes:</a:t>
            </a:r>
            <a:br>
              <a:rPr sz="3600"/>
            </a:b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  Serious systemic infection of</a:t>
            </a:r>
            <a:br>
              <a:rPr sz="3600"/>
            </a:b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bacteria,fungi,viruses,parasites,</a:t>
            </a:r>
            <a:br>
              <a:rPr sz="3600"/>
            </a:b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particularly gram-negative bacterem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宋体"/>
              </a:rPr>
              <a:t>Main mechanism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The above organisms→Monocytes and          macrophages→cytokines(TNF,IL1)→cell damage,specially impairment of cellular uptake and/or utilization of O</a:t>
            </a:r>
            <a:r>
              <a:rPr b="0" lang="zh-CN" sz="3600" spc="-1" strike="noStrike" baseline="-25000">
                <a:solidFill>
                  <a:srgbClr val="006699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 Black"/>
              </a:rPr>
              <a:t>2.Septic shock</a:t>
            </a:r>
            <a:br>
              <a:rPr sz="4000"/>
            </a:b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66560"/>
            <a:ext cx="4876920" cy="59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cc33"/>
                </a:solidFill>
                <a:latin typeface="宋体"/>
              </a:rPr>
              <a:t>＊</a:t>
            </a:r>
            <a:r>
              <a:rPr b="1" i="1" lang="zh-CN" sz="4000" spc="-1" strike="noStrike">
                <a:solidFill>
                  <a:srgbClr val="33cc33"/>
                </a:solidFill>
                <a:latin typeface="宋体"/>
              </a:rPr>
              <a:t>Hyperdynamic</a:t>
            </a:r>
            <a:r>
              <a:rPr b="1" i="1" lang="zh-CN" sz="3600" spc="-1" strike="noStrike">
                <a:solidFill>
                  <a:srgbClr val="3366ff"/>
                </a:solidFill>
                <a:latin typeface="宋体"/>
              </a:rPr>
              <a:t> type-warm sh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High cardiac outpu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Low vessel resist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Flushed and warm sk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Mechanism:Histamine and   Kinins induced-vasodila-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295280"/>
            <a:ext cx="441972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cc33"/>
                </a:solidFill>
                <a:latin typeface="宋体"/>
              </a:rPr>
              <a:t>＊</a:t>
            </a:r>
            <a:r>
              <a:rPr b="1" i="1" lang="zh-CN" sz="4000" spc="-1" strike="noStrike">
                <a:solidFill>
                  <a:srgbClr val="33cc33"/>
                </a:solidFill>
                <a:latin typeface="宋体"/>
              </a:rPr>
              <a:t>Hypodynamic</a:t>
            </a:r>
            <a:r>
              <a:rPr b="1" i="1" lang="zh-CN" sz="4000" spc="-1" strike="noStrike">
                <a:solidFill>
                  <a:srgbClr val="3366ff"/>
                </a:solidFill>
                <a:latin typeface="宋体"/>
              </a:rPr>
              <a:t> </a:t>
            </a:r>
            <a:r>
              <a:rPr b="1" i="1" lang="zh-CN" sz="3600" spc="-1" strike="noStrike">
                <a:solidFill>
                  <a:srgbClr val="3366ff"/>
                </a:solidFill>
                <a:latin typeface="宋体"/>
              </a:rPr>
              <a:t>type-cold sh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Low cardiac outpu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High vessel resist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Cold and wet sk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Mechanism: endotoxin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Stagnant Microcircula-tion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Sympathetic stimulation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Vasocon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宋体"/>
              </a:rPr>
              <a:t>Two types of septic shock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838080"/>
            <a:ext cx="868680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宋体"/>
              </a:rPr>
              <a:t>Common cause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6699"/>
                </a:solidFill>
                <a:latin typeface="宋体"/>
              </a:rPr>
              <a:t>Myocardial infarction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宋体"/>
              </a:rPr>
              <a:t>Main mechanism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6699"/>
                </a:solidFill>
                <a:latin typeface="宋体"/>
              </a:rPr>
              <a:t>decrease of cardiac 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3505320"/>
            <a:ext cx="853416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Impact"/>
              </a:rPr>
              <a:t>4.Anaphylactic  shock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Common  cause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Hypersensitivity  to  some  substances(antigen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such  as  penicillin, fish, shrimp 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Impact"/>
              </a:rPr>
              <a:t>3.Cardiogenic shock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04920" y="533520"/>
            <a:ext cx="883908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宋体"/>
              </a:rPr>
              <a:t>Main mechanism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Massive </a:t>
            </a:r>
            <a:r>
              <a:rPr b="0" lang="zh-CN" sz="4400" spc="-1" strike="noStrike" u="sng">
                <a:solidFill>
                  <a:srgbClr val="33cc33"/>
                </a:solidFill>
                <a:uFillTx/>
                <a:latin typeface="Impact"/>
              </a:rPr>
              <a:t>release</a:t>
            </a:r>
            <a:r>
              <a:rPr b="1" lang="zh-CN" sz="4400" spc="-1" strike="noStrike" u="sng">
                <a:solidFill>
                  <a:srgbClr val="33cc33"/>
                </a:solidFill>
                <a:uFillTx/>
                <a:latin typeface="宋体"/>
              </a:rPr>
              <a:t>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of mediators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   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such as histamine→</a:t>
            </a:r>
            <a:r>
              <a:rPr b="0" lang="zh-CN" sz="4400" spc="-1" strike="noStrike">
                <a:solidFill>
                  <a:srgbClr val="006699"/>
                </a:solidFill>
                <a:latin typeface="Impact"/>
              </a:rPr>
              <a:t>dilation</a:t>
            </a:r>
            <a:r>
              <a:rPr b="1" lang="zh-CN" sz="4400" spc="-1" strike="noStrike">
                <a:solidFill>
                  <a:srgbClr val="006699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of arterioles and venules,and </a:t>
            </a:r>
            <a:r>
              <a:rPr b="0" lang="zh-CN" sz="4400" spc="-1" strike="noStrike">
                <a:solidFill>
                  <a:srgbClr val="006699"/>
                </a:solidFill>
                <a:latin typeface="Impact"/>
              </a:rPr>
              <a:t>increase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 of capillary permeability→</a:t>
            </a:r>
            <a:r>
              <a:rPr b="0" lang="zh-CN" sz="4400" spc="-1" strike="noStrike">
                <a:solidFill>
                  <a:srgbClr val="006699"/>
                </a:solidFill>
                <a:latin typeface="Impact"/>
              </a:rPr>
              <a:t>imbalance</a:t>
            </a:r>
            <a:r>
              <a:rPr b="0" lang="zh-CN" sz="3600" spc="-1" strike="noStrike">
                <a:solidFill>
                  <a:srgbClr val="006699"/>
                </a:solidFill>
                <a:latin typeface="Impact"/>
              </a:rPr>
              <a:t> 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between volume of vessel bed and blood volume(the former﹥the latter) →</a:t>
            </a:r>
            <a:r>
              <a:rPr b="0" lang="zh-CN" sz="4400" spc="-1" strike="noStrike">
                <a:solidFill>
                  <a:srgbClr val="006699"/>
                </a:solidFill>
                <a:latin typeface="Impact"/>
              </a:rPr>
              <a:t>shoc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133720"/>
            <a:ext cx="9144000" cy="32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1)Hypovolemic  sh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Loss  of  plasma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宋体"/>
              </a:rPr>
              <a:t>bur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Loss  of  whole  blood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宋体"/>
              </a:rPr>
              <a:t>hemorra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Loss  of  other  body  fluid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宋体"/>
              </a:rPr>
              <a:t>diarrhe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76920"/>
            <a:ext cx="853452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2)Cardiogenic  shock      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注意：此点有误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宋体"/>
              </a:rPr>
              <a:t>Anaphylectic  reaction 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必改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宋体"/>
              </a:rPr>
              <a:t>Neurologic  inhibi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What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are   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causes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and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types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of  shoc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1143000"/>
            <a:ext cx="8915400" cy="56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66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3366ff"/>
                </a:solidFill>
                <a:latin typeface="宋体"/>
              </a:rPr>
              <a:t>Common causes</a:t>
            </a:r>
            <a:r>
              <a:rPr b="1" i="1" lang="zh-CN" sz="3600" spc="-1" strike="noStrike">
                <a:solidFill>
                  <a:srgbClr val="3366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Severe pain,spinal cord injury,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3366ff"/>
                </a:solidFill>
                <a:latin typeface="宋体"/>
              </a:rPr>
              <a:t>Main mechanism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Lack of vasomotor tone→</a:t>
            </a:r>
            <a:r>
              <a:rPr b="1" lang="zh-CN" sz="3600" spc="-1" strike="noStrike">
                <a:solidFill>
                  <a:srgbClr val="006699"/>
                </a:solidFill>
                <a:latin typeface="Impact"/>
              </a:rPr>
              <a:t>dilation</a:t>
            </a:r>
            <a:r>
              <a:rPr b="1" lang="zh-CN" sz="2800" spc="-1" strike="noStrike">
                <a:solidFill>
                  <a:srgbClr val="006699"/>
                </a:solidFill>
                <a:latin typeface="Arial Black"/>
              </a:rPr>
              <a:t> </a:t>
            </a: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of peripheral vessel→</a:t>
            </a:r>
            <a:r>
              <a:rPr b="1" lang="zh-CN" sz="3600" spc="-1" strike="noStrike">
                <a:solidFill>
                  <a:srgbClr val="006699"/>
                </a:solidFill>
                <a:latin typeface="Impact"/>
              </a:rPr>
              <a:t>decrease </a:t>
            </a: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of periph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resistance→</a:t>
            </a:r>
            <a:r>
              <a:rPr b="1" lang="zh-CN" sz="3600" spc="-1" strike="noStrike">
                <a:solidFill>
                  <a:srgbClr val="006699"/>
                </a:solidFill>
                <a:latin typeface="Impact"/>
              </a:rPr>
              <a:t>inadepuate return</a:t>
            </a:r>
            <a:r>
              <a:rPr b="1" lang="zh-CN" sz="2800" spc="-1" strike="noStrike">
                <a:solidFill>
                  <a:srgbClr val="0066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of blood to heart→</a:t>
            </a:r>
            <a:r>
              <a:rPr b="1" lang="zh-CN" sz="3600" spc="-1" strike="noStrike">
                <a:solidFill>
                  <a:srgbClr val="006699"/>
                </a:solidFill>
                <a:latin typeface="Impact"/>
              </a:rPr>
              <a:t>decrease</a:t>
            </a:r>
            <a:r>
              <a:rPr b="1" lang="zh-CN" sz="2800" spc="-1" strike="noStrike">
                <a:solidFill>
                  <a:srgbClr val="0066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of cardiac output→</a:t>
            </a:r>
            <a:r>
              <a:rPr b="1" lang="zh-CN" sz="3600" spc="-1" strike="noStrike">
                <a:solidFill>
                  <a:srgbClr val="006699"/>
                </a:solidFill>
                <a:latin typeface="Impact"/>
              </a:rPr>
              <a:t>sh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791560" cy="20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Impact"/>
              </a:rPr>
              <a:t>5.Neurogenic shock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2f75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4640" y="380880"/>
            <a:ext cx="8885160" cy="166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Principle  of  Treatment of Shock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5000" y="1904760"/>
            <a:ext cx="8896320" cy="43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1.Elimination  of  initiating  causes  of  sh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For  example, anti-infection, stop  bleeding, anti-anaphylactic 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2.Restoration  of  blood  volume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Intravenous  administration  of  normal  saline, glucose  solution, blood, plasma  and  so 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3.Application  of  vasoactive  drugs</a:t>
            </a:r>
            <a:br>
              <a:rPr sz="40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According  to  different  stages  and  types of  shock,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administer  different  agents. </a:t>
            </a:r>
            <a:r>
              <a:rPr b="1" i="1" lang="zh-CN" sz="3200" spc="-1" strike="noStrike">
                <a:solidFill>
                  <a:srgbClr val="ffffcc"/>
                </a:solidFill>
                <a:latin typeface="Times New Roman"/>
              </a:rPr>
              <a:t>For  example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, in  early 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stage, use  dilating  vessel  agents, , use constricting 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vessel  agents  for  anaphylactic  shock  and  so  on.   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-360" y="3580920"/>
            <a:ext cx="8704440" cy="282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4.Improvement  of  cardiac  func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Cardiac  tonic  such  as  digitalis  and  digoxin  improves  functions  of 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5.Treatment  of  complication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e.g.acidosis, hypoxia, DIC 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14400"/>
            <a:ext cx="8763120" cy="40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3)Vasogenic  sh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ff"/>
                </a:solidFill>
                <a:latin typeface="Times New Roman"/>
                <a:ea typeface="宋体"/>
              </a:rPr>
              <a:t>Anaphylectic  reaction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ff"/>
                </a:solidFill>
                <a:latin typeface="Times New Roman"/>
                <a:ea typeface="宋体"/>
              </a:rPr>
              <a:t>Neurologic  inhib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581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352680"/>
            <a:ext cx="914400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4)Septic  sh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宋体"/>
              </a:rPr>
              <a:t>Gram-negative  bacteria  infec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宋体"/>
              </a:rPr>
              <a:t>Gram-positive  bacteria  infec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763120" cy="10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There  are  other  2  kinds  of  classification  of  shock:    </a:t>
            </a:r>
            <a:br>
              <a:rPr sz="3600"/>
            </a:br>
            <a:r>
              <a:rPr b="1" i="1" lang="zh-CN" sz="3600" spc="-1" strike="noStrike">
                <a:solidFill>
                  <a:srgbClr val="ffffcc"/>
                </a:solidFill>
                <a:latin typeface="Times New Roman"/>
              </a:rPr>
              <a:t>1.Hemodynamic  classificatio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2590560"/>
            <a:ext cx="45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Characteristics  of  hypodynamic  shock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Vasoconstri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Peripheral   resistance  </a:t>
            </a:r>
            <a:r>
              <a:rPr b="0" lang="zh-CN" sz="3200" spc="-1" strike="noStrike">
                <a:solidFill>
                  <a:srgbClr val="ff9900"/>
                </a:solidFill>
                <a:latin typeface="Wingdings 3"/>
                <a:ea typeface="Wingdings 3"/>
              </a:rPr>
              <a:t>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Cardiac  output  </a:t>
            </a:r>
            <a:r>
              <a:rPr b="0" lang="zh-CN" sz="3200" spc="-1" strike="noStrike">
                <a:solidFill>
                  <a:srgbClr val="ff9900"/>
                </a:solidFill>
                <a:latin typeface="Wingdings 3"/>
                <a:ea typeface="Wingdings 3"/>
              </a:rPr>
              <a:t>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Cold  sk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9480" y="2590920"/>
            <a:ext cx="4371840" cy="36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Characteristics  of  hyperdynamic  shock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Vasodi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Peripheral   resistance </a:t>
            </a:r>
            <a:r>
              <a:rPr b="0" lang="zh-CN" sz="3200" spc="-1" strike="noStrike">
                <a:solidFill>
                  <a:srgbClr val="ff9900"/>
                </a:solidFill>
                <a:latin typeface="Wingdings 3"/>
                <a:ea typeface="Wingdings 3"/>
              </a:rPr>
              <a:t>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Cardiac  output </a:t>
            </a:r>
            <a:r>
              <a:rPr b="0" lang="zh-CN" sz="3200" spc="-1" strike="noStrike">
                <a:solidFill>
                  <a:srgbClr val="ff9900"/>
                </a:solidFill>
                <a:latin typeface="Wingdings 3"/>
                <a:ea typeface="Wingdings 3"/>
              </a:rPr>
              <a:t>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Warm  sk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9072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457200" y="1905120"/>
            <a:ext cx="960120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Stage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Early  reversible  shock</a:t>
            </a: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Compensatory  mechanis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          </a:t>
            </a:r>
            <a:r>
              <a:rPr b="1" lang="en-US" sz="4800" spc="-1" strike="noStrike">
                <a:solidFill>
                  <a:srgbClr val="ff3300"/>
                </a:solidFill>
                <a:latin typeface="Arial Black"/>
                <a:ea typeface="宋体"/>
              </a:rPr>
              <a:t>dominat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533520" y="4267080"/>
            <a:ext cx="9677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-609480" y="7892280"/>
            <a:ext cx="9753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1" i="1" lang="zh-CN" sz="3200" spc="-1" strike="noStrike">
                <a:solidFill>
                  <a:srgbClr val="ffffcc"/>
                </a:solidFill>
                <a:latin typeface="Times New Roman"/>
              </a:rPr>
              <a:t>classification   of  shock  by  severity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99072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457200" y="1905120"/>
            <a:ext cx="9601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228600" y="2590920"/>
            <a:ext cx="9677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Stage  II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cc"/>
                </a:solidFill>
                <a:latin typeface="Arial Black"/>
              </a:rPr>
              <a:t>Late  reversible  shock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Compensatory  mechanis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ccccff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</a:rPr>
              <a:t>exahauste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-609480" y="7892280"/>
            <a:ext cx="9753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1" i="1" lang="zh-CN" sz="3200" spc="-1" strike="noStrike">
                <a:solidFill>
                  <a:srgbClr val="ffffcc"/>
                </a:solidFill>
                <a:latin typeface="Times New Roman"/>
              </a:rPr>
              <a:t>classification   of  shock  by  sever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14400"/>
            <a:ext cx="9144000" cy="72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i="1" lang="zh-CN" sz="36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1" i="1" lang="zh-CN" sz="3200" spc="-1" strike="noStrike">
                <a:solidFill>
                  <a:srgbClr val="ffffcc"/>
                </a:solidFill>
                <a:latin typeface="Times New Roman"/>
              </a:rPr>
              <a:t>classification   of  shock  by  severity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Stage  III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ffffcc"/>
                </a:solidFill>
                <a:latin typeface="Arial Black"/>
              </a:rPr>
              <a:t>Refractory shock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Disseminated Intravascular Coagula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</a:rPr>
              <a:t>initiate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380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44792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  part  consists  of  three  key   point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905120"/>
            <a:ext cx="87631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1.Starting  Factors  of  Shock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2.Stages  of  Shock  and Changes  of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Microcircul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3.Mechanisms  of  Sho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7086600" y="2286000"/>
            <a:ext cx="1699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-2057400" y="365760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4419720"/>
            <a:ext cx="8991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Vascular-Bed   Volu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5410080"/>
            <a:ext cx="251460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lood Volu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5334120"/>
            <a:ext cx="29718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ardiac 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-6017400" y="7975440"/>
            <a:ext cx="342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62164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4038480" y="7302600"/>
            <a:ext cx="259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8480" y="5335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Pathogenesis  of  Shoc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624852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971800" y="624852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191120" y="5028840"/>
            <a:ext cx="76176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429000" y="5028840"/>
            <a:ext cx="4572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42840" y="5334120"/>
            <a:ext cx="60948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5257800"/>
            <a:ext cx="6858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9T01:01:48Z</dcterms:created>
  <dc:creator>cccJ2MV9-JYYQ6-JM44K-QMYTH-8RB2W</dc:creator>
  <dc:description/>
  <dc:language>en-US</dc:language>
  <cp:lastModifiedBy>ZonaNet</cp:lastModifiedBy>
  <dcterms:modified xsi:type="dcterms:W3CDTF">2008-05-02T23:39:02Z</dcterms:modified>
  <cp:revision>47</cp:revision>
  <dc:subject/>
  <dc:title>CHAPTER   10</dc:title>
</cp:coreProperties>
</file>