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AA28-D21C-418A-B184-A5C4EA7AD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D377-7421-4A16-B687-FE690FFE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DA37-301A-4D57-AF8F-C29955B06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0887-03AF-4F3E-872E-3E8E07FFD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2CA2-4C71-4F9C-87E2-DD14C24AE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4950-A4C8-48FC-AC9A-92882ABA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9D7E-DDD2-425B-B2B7-9B032C52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641F-C480-4778-99BA-C7DDB91D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9C31-908B-4F56-90BA-63237F90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61CC-7791-4800-969E-97F68455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2B828-090B-494E-ABF0-A5643BD7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5C5A-06D7-445E-9F7B-8A62A75A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82B8-5DB6-4364-A911-22A12FE8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2C8B-F744-406D-96BF-ECAAC012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001C-C8E7-4D7E-8C32-753F8BED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283F-DDB5-4D97-B7D8-AEE1F0689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1431E-0F5F-4C33-9B6C-06CE21496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F614-7061-433B-A0E6-5FA3A5B9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ABAA-EE52-42A3-96B3-CE67B813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56A2-C2B5-4D99-B6B2-213A1FA2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4536-17A5-4555-8B38-DBAD316C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07D4-2D6D-40BE-B74B-D984EB7D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84E5-90D8-4CF6-8EA6-96C97A25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B5D2-6573-42EE-BEEC-F0CDF528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D5AC-953C-4EFD-BE52-529119F380B0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9D9D-0D46-4FA5-A14A-1121150667AB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HAPTER   10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cc"/>
                </a:solidFill>
                <a:latin typeface="Times New Roman"/>
              </a:rPr>
              <a:t>SHOCK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762120"/>
            <a:ext cx="91440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752480"/>
            <a:ext cx="9144000" cy="54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(1)Reduction  of  blood  volume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</a:rPr>
              <a:t>Hemorrhage, Dehydration, Bur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(2)Decrease   of  cardicoutput            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</a:rPr>
              <a:t>Myocardial  infarcti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(3)Increase  of  vascular-bed volume </a:t>
            </a:r>
            <a:r>
              <a:rPr b="0" lang="zh-CN" sz="3600" spc="-1" strike="noStrike">
                <a:solidFill>
                  <a:srgbClr val="ffffcc"/>
                </a:solidFill>
                <a:latin typeface="Times New Roman"/>
              </a:rPr>
              <a:t>Anaphylactic  reacti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-228600" y="3048120"/>
            <a:ext cx="9101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-1295280" y="2895480"/>
            <a:ext cx="9903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-5257800" y="4114800"/>
            <a:ext cx="30481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-228600" y="5667480"/>
            <a:ext cx="93726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2.Stages  of  Shock  and  Changes  of  Microcirulation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020160" cy="14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1.Starting   Factors  of   Shock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1)Stage  of  Vasoconstriction</a:t>
            </a:r>
            <a:br>
              <a:rPr sz="4400"/>
            </a:b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(Stage  of  Ischemic  Anoxia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4371840" cy="396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auses  of   shock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ffective  blood  volume  </a:t>
            </a:r>
            <a:r>
              <a:rPr b="1" lang="en-US" sz="2400" spc="-1" strike="noStrike">
                <a:solidFill>
                  <a:srgbClr val="ffffcc"/>
                </a:solidFill>
                <a:latin typeface="Wingdings 3"/>
                <a:ea typeface="Wingdings 3"/>
              </a:rPr>
              <a:t>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ympathetic  nerve  (+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A  Release  </a:t>
            </a:r>
            <a:r>
              <a:rPr b="1" lang="en-US" sz="2400" spc="-1" strike="noStrike">
                <a:solidFill>
                  <a:srgbClr val="ffffcc"/>
                </a:solidFill>
                <a:latin typeface="Wingdings 3"/>
                <a:ea typeface="Wingdings 3"/>
              </a:rPr>
              <a:t>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Vasoconstri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(Arterioles  and  venous constrictio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59480" y="2590920"/>
            <a:ext cx="4371840" cy="366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blood  flow  in      microcirculation  </a:t>
            </a:r>
            <a:r>
              <a:rPr b="1" lang="zh-CN" sz="2400" spc="-1" strike="noStrike">
                <a:solidFill>
                  <a:srgbClr val="ffffcc"/>
                </a:solidFill>
                <a:latin typeface="Wingdings 3"/>
                <a:ea typeface="Wingdings 3"/>
              </a:rPr>
              <a:t>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Ischemic  anoxia  of  tissu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Harmful  Effec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57400" y="2895480"/>
            <a:ext cx="0" cy="2970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057400" y="3657600"/>
            <a:ext cx="0" cy="2970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2743200"/>
            <a:ext cx="0" cy="2970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57400" y="4952880"/>
            <a:ext cx="0" cy="2970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0" y="4876920"/>
            <a:ext cx="0" cy="29664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3962520"/>
            <a:ext cx="0" cy="29664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04920" y="-5355000"/>
            <a:ext cx="228600" cy="121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437184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uses  of  shock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ffective  blood  volume  </a:t>
            </a:r>
            <a:r>
              <a:rPr b="0" lang="en-US" sz="2800" spc="-1" strike="noStrike">
                <a:solidFill>
                  <a:srgbClr val="ffffcc"/>
                </a:solidFill>
                <a:latin typeface="Wingdings 3"/>
                <a:ea typeface="Wingdings 3"/>
              </a:rPr>
              <a:t>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ympathetic  nerve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(+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  Release  </a:t>
            </a:r>
            <a:r>
              <a:rPr b="0" lang="en-US" sz="2800" spc="-1" strike="noStrike">
                <a:solidFill>
                  <a:srgbClr val="ffffcc"/>
                </a:solidFill>
                <a:latin typeface="Wingdings 3"/>
                <a:ea typeface="Wingdings 3"/>
              </a:rPr>
              <a:t>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Vasoconstri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elf-infus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elf-blood  transfus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495680" y="914040"/>
            <a:ext cx="4648320" cy="541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Blood   flow   redistribu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onservation   of            Na</a:t>
            </a:r>
            <a:r>
              <a:rPr b="1" lang="en-US" sz="3200" spc="-1" strike="noStrike" baseline="30000">
                <a:solidFill>
                  <a:srgbClr val="ffff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&amp;H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Increased  functions  of  hear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Protective  Effec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133720" y="1447920"/>
            <a:ext cx="0" cy="4572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33720" y="2362320"/>
            <a:ext cx="0" cy="4572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133720" y="3809880"/>
            <a:ext cx="0" cy="4572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33720" y="4724280"/>
            <a:ext cx="0" cy="4572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10280" y="4191120"/>
            <a:ext cx="0" cy="4572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4640" y="0"/>
            <a:ext cx="888516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2)Stage  of  Vasodilation</a:t>
            </a:r>
            <a:br>
              <a:rPr sz="4400"/>
            </a:b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(Stage  of  Stagnant  Anoxia)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Anoxia</a:t>
            </a:r>
            <a:br>
              <a:rPr sz="4400"/>
            </a:b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Acidosis</a:t>
            </a:r>
            <a:br>
              <a:rPr sz="4400"/>
            </a:b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Endotoxins</a:t>
            </a:r>
            <a:br>
              <a:rPr sz="4400"/>
            </a:b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hemorheology changes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Blood stasis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4800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0" y="4876920"/>
            <a:ext cx="76320" cy="609480"/>
          </a:xfrm>
          <a:prstGeom prst="downArrow">
            <a:avLst>
              <a:gd name="adj1" fmla="val 50000"/>
              <a:gd name="adj2" fmla="val 19964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95680" y="5105520"/>
            <a:ext cx="76320" cy="457200"/>
          </a:xfrm>
          <a:prstGeom prst="downArrow">
            <a:avLst>
              <a:gd name="adj1" fmla="val 50000"/>
              <a:gd name="adj2" fmla="val 14976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95680" y="4952880"/>
            <a:ext cx="76320" cy="533520"/>
          </a:xfrm>
          <a:prstGeom prst="down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4640" y="914400"/>
            <a:ext cx="88851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3)Stage  of  Vasofailure</a:t>
            </a:r>
            <a:br>
              <a:rPr sz="4400"/>
            </a:b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(Stage  of  DIC)</a:t>
            </a:r>
            <a:br>
              <a:rPr sz="4400"/>
            </a:b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Blood stasis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Endothelium damage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coagulation cascade initiation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thrombus  formation and MOF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4800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0" y="4876920"/>
            <a:ext cx="76320" cy="609480"/>
          </a:xfrm>
          <a:prstGeom prst="downArrow">
            <a:avLst>
              <a:gd name="adj1" fmla="val 50000"/>
              <a:gd name="adj2" fmla="val 19964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95680" y="5105520"/>
            <a:ext cx="76320" cy="457200"/>
          </a:xfrm>
          <a:prstGeom prst="downArrow">
            <a:avLst>
              <a:gd name="adj1" fmla="val 50000"/>
              <a:gd name="adj2" fmla="val 14976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2971800"/>
            <a:ext cx="76320" cy="533520"/>
          </a:xfrm>
          <a:prstGeom prst="downArrow">
            <a:avLst>
              <a:gd name="adj1" fmla="val 50000"/>
              <a:gd name="adj2" fmla="val 17476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4267080"/>
            <a:ext cx="76320" cy="533520"/>
          </a:xfrm>
          <a:prstGeom prst="downArrow">
            <a:avLst>
              <a:gd name="adj1" fmla="val 50000"/>
              <a:gd name="adj2" fmla="val 174764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5638680"/>
            <a:ext cx="76320" cy="609840"/>
          </a:xfrm>
          <a:prstGeom prst="downArrow">
            <a:avLst>
              <a:gd name="adj1" fmla="val 50000"/>
              <a:gd name="adj2" fmla="val 199764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0" y="3048120"/>
            <a:ext cx="76320" cy="533160"/>
          </a:xfrm>
          <a:prstGeom prst="downArrow">
            <a:avLst>
              <a:gd name="adj1" fmla="val 50000"/>
              <a:gd name="adj2" fmla="val 174646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3.Mechanisms   of  Shock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(1)Neurogenic   Mechanism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Sympathetic  stimul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Constriction                     Rapid  heart  rat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of  arterioles                    and  Strengthen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and  venules                     Constriction  of  hear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590920" y="3276720"/>
            <a:ext cx="1295280" cy="60948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76920" y="3276720"/>
            <a:ext cx="1143000" cy="60948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4640" y="685440"/>
            <a:ext cx="8885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(2)Cellular  Mechanism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5000" y="1447560"/>
            <a:ext cx="8896320" cy="48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              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Endotoxin                    Complement  Split  produc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Activation    of   Macrophages  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Polymorphonuclear   Leukocy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Relea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Lysosomal  enzym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Oxy-free   redicals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IL-1          TN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Cells  and  Tissues  Inju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1905120"/>
            <a:ext cx="0" cy="45720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943600" y="1905120"/>
            <a:ext cx="0" cy="45720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3124080"/>
            <a:ext cx="0" cy="45720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124080"/>
            <a:ext cx="0" cy="45720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3962520"/>
            <a:ext cx="0" cy="45720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15000" y="3962520"/>
            <a:ext cx="0" cy="45720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5638680"/>
            <a:ext cx="0" cy="457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4640" y="533160"/>
            <a:ext cx="888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(3)Humoral  Mechanism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5000" y="1752120"/>
            <a:ext cx="4371840" cy="449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Catecholamin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Noradrenaline   and    Adrenali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RAA   Syst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Renin-Angiotension-Aldostero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Vasopressi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Histamine  and  Serotoni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Kini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59480" y="1828440"/>
            <a:ext cx="4371840" cy="442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Neuropeptid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Activated  Complem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Tumor  Necrosis  Fact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Oxygen  Free  Radica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Prostaglandins  and  Leukotrien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91440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914400"/>
            <a:ext cx="883908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3048120"/>
            <a:ext cx="9144000" cy="41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750"/>
              </a:spcBef>
              <a:buClr>
                <a:srgbClr val="ffff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Effects  on  tension  of  vessel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750"/>
              </a:spcBef>
              <a:buClr>
                <a:srgbClr val="ffff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Effects  on  permeability  of     vessel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750"/>
              </a:spcBef>
              <a:buClr>
                <a:srgbClr val="ffff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Direct  harmful  effects  on  cell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144792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Times New Roman"/>
              </a:rPr>
              <a:t>In  brief, Roles  that  humoral    factors  play  in  development  of  shock are  as  follows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1066680"/>
            <a:ext cx="8915400" cy="72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ff9900"/>
                </a:solidFill>
                <a:latin typeface="Times New Roman"/>
              </a:rPr>
              <a:t>.</a:t>
            </a:r>
            <a:r>
              <a:rPr b="1" i="1" lang="zh-CN" sz="4400" spc="-1" strike="noStrike">
                <a:solidFill>
                  <a:srgbClr val="ff9900"/>
                </a:solidFill>
                <a:latin typeface="Times New Roman"/>
              </a:rPr>
              <a:t>Shock-</a:t>
            </a:r>
            <a:r>
              <a:rPr b="1" lang="zh-CN" sz="4400" spc="-1" strike="noStrike">
                <a:solidFill>
                  <a:srgbClr val="ff9900"/>
                </a:solidFill>
                <a:latin typeface="Arial Black"/>
              </a:rPr>
              <a:t>Lung  </a:t>
            </a:r>
            <a:r>
              <a:rPr b="1" i="1" lang="zh-CN" sz="4400" spc="-1" strike="noStrike">
                <a:solidFill>
                  <a:srgbClr val="ff9900"/>
                </a:solidFill>
                <a:latin typeface="Times New Roman"/>
              </a:rPr>
              <a:t>Syndrom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A &amp; Hypoxi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isturbance  of  pulmolary  circulation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lung  edema      Hemorrhage      microthrombi</a:t>
            </a:r>
            <a:r>
              <a:rPr b="0" lang="zh-CN" sz="40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Adult   Respiratory   Distress    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Syndrome(ARDS)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38480" y="26668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14800" y="266688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14800" y="266688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14800" y="3733920"/>
            <a:ext cx="0" cy="6094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38480" y="266688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38480" y="266688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4800" y="4876920"/>
            <a:ext cx="0" cy="4572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14800" y="2590920"/>
            <a:ext cx="0" cy="5331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Effects  of  Shock  on  Vital  Organs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743200" y="3733920"/>
            <a:ext cx="1371600" cy="5331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14800" y="3733920"/>
            <a:ext cx="1447920" cy="5331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4571640" y="4800600"/>
            <a:ext cx="2133720" cy="5335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28800" y="4800600"/>
            <a:ext cx="1752480" cy="5335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What  is  Shock?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1)Reduction  of   blood   perfusion t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tissues microcirculation.                                       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2)Dysfunction   of   organ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3)Disturbance   of   metabolism.  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-304920" y="533520"/>
            <a:ext cx="8763120" cy="19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1600200"/>
            <a:ext cx="853416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Times New Roman"/>
              </a:rPr>
              <a:t>Sympathetic  stimulation &amp; Secretion  of  CA </a:t>
            </a:r>
            <a:r>
              <a:rPr b="0" lang="zh-CN" sz="4000" spc="-1" strike="noStrike">
                <a:solidFill>
                  <a:srgbClr val="3366ff"/>
                </a:solidFill>
                <a:latin typeface="Wingdings 3"/>
                <a:ea typeface="Wingdings 3"/>
              </a:rPr>
              <a:t></a:t>
            </a:r>
            <a:r>
              <a:rPr b="0" lang="zh-CN" sz="4000" spc="-1" strike="noStrike">
                <a:solidFill>
                  <a:srgbClr val="3366ff"/>
                </a:solidFill>
                <a:latin typeface="Times New Roman"/>
              </a:rPr>
              <a:t> Arteriolar  constriction </a:t>
            </a:r>
            <a:r>
              <a:rPr b="0" lang="zh-CN" sz="4000" spc="-1" strike="noStrike">
                <a:solidFill>
                  <a:srgbClr val="3366ff"/>
                </a:solidFill>
                <a:latin typeface="Wingdings 3"/>
                <a:ea typeface="Wingdings 3"/>
              </a:rPr>
              <a:t></a:t>
            </a:r>
            <a:r>
              <a:rPr b="0" lang="zh-CN" sz="4000" spc="-1" strike="noStrike">
                <a:solidFill>
                  <a:srgbClr val="3366ff"/>
                </a:solidFill>
                <a:latin typeface="Times New Roman"/>
              </a:rPr>
              <a:t> renal  ischemia  and  hypoxia </a:t>
            </a:r>
            <a:r>
              <a:rPr b="0" lang="zh-CN" sz="4000" spc="-1" strike="noStrike">
                <a:solidFill>
                  <a:srgbClr val="3366ff"/>
                </a:solidFill>
                <a:latin typeface="Wingdings 3"/>
                <a:ea typeface="Wingdings 3"/>
              </a:rPr>
              <a:t></a:t>
            </a:r>
            <a:r>
              <a:rPr b="0" lang="zh-CN" sz="4000" spc="-1" strike="noStrike">
                <a:solidFill>
                  <a:srgbClr val="3366ff"/>
                </a:solidFill>
                <a:latin typeface="Times New Roman"/>
              </a:rPr>
              <a:t> tubule  necrosis  and  decrease  of  glomerular  Filtration  rate </a:t>
            </a:r>
            <a:r>
              <a:rPr b="0" lang="zh-CN" sz="4000" spc="-1" strike="noStrike">
                <a:solidFill>
                  <a:srgbClr val="3366ff"/>
                </a:solidFill>
                <a:latin typeface="Wingdings 3"/>
                <a:ea typeface="Wingdings 3"/>
              </a:rPr>
              <a:t>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3366ff"/>
                </a:solidFill>
                <a:latin typeface="Arial Black"/>
              </a:rPr>
              <a:t>Renal  Failure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8480" y="38052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9900"/>
                </a:solidFill>
                <a:latin typeface="Times New Roman"/>
              </a:rPr>
              <a:t>2.Shock  </a:t>
            </a:r>
            <a:r>
              <a:rPr b="1" lang="zh-CN" sz="4800" spc="-1" strike="noStrike">
                <a:solidFill>
                  <a:srgbClr val="ff9900"/>
                </a:solidFill>
                <a:latin typeface="Arial Black"/>
              </a:rPr>
              <a:t>Kidney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9900"/>
                </a:solidFill>
                <a:latin typeface="Times New Roman"/>
              </a:rPr>
              <a:t>3. Effects  of  Shock  on  </a:t>
            </a:r>
            <a:r>
              <a:rPr b="0" lang="zh-CN" sz="4800" spc="-1" strike="noStrike">
                <a:solidFill>
                  <a:srgbClr val="ff9900"/>
                </a:solidFill>
                <a:latin typeface="Arial Black"/>
              </a:rPr>
              <a:t>Liv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2" name="2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28600" y="0"/>
            <a:ext cx="8915400" cy="19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9900"/>
                </a:solidFill>
                <a:latin typeface="Times New Roman"/>
              </a:rPr>
              <a:t>3. Effects  of  Shock  on  </a:t>
            </a:r>
            <a:r>
              <a:rPr b="0" lang="zh-CN" sz="4800" spc="-1" strike="noStrike">
                <a:solidFill>
                  <a:srgbClr val="ff9900"/>
                </a:solidFill>
                <a:latin typeface="Arial Black"/>
              </a:rPr>
              <a:t>Liv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2357280"/>
            <a:ext cx="8763120" cy="38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</a:rPr>
              <a:t>Ischemia , hypoxia  and  toxic  substances</a:t>
            </a:r>
            <a:r>
              <a:rPr b="0" lang="zh-CN" sz="4000" spc="-1" strike="noStrike">
                <a:solidFill>
                  <a:srgbClr val="3366ff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3366ff"/>
                </a:solidFill>
                <a:latin typeface="Wingdings 3"/>
                <a:ea typeface="Wingdings 3"/>
              </a:rPr>
              <a:t></a:t>
            </a:r>
            <a:r>
              <a:rPr b="0" lang="zh-CN" sz="4000" spc="-1" strike="noStrike">
                <a:solidFill>
                  <a:srgbClr val="3366ff"/>
                </a:solidFill>
                <a:latin typeface="Times New Roman"/>
              </a:rPr>
              <a:t>  liver  dysfunction </a:t>
            </a:r>
            <a:r>
              <a:rPr b="0" lang="zh-CN" sz="4000" spc="-1" strike="noStrike">
                <a:solidFill>
                  <a:srgbClr val="3366ff"/>
                </a:solidFill>
                <a:latin typeface="Wingdings 3"/>
                <a:ea typeface="Wingdings 3"/>
              </a:rPr>
              <a:t></a:t>
            </a:r>
            <a:r>
              <a:rPr b="0" lang="zh-CN" sz="4000" spc="-1" strike="noStrike">
                <a:solidFill>
                  <a:srgbClr val="3366ff"/>
                </a:solidFill>
                <a:latin typeface="Times New Roman"/>
              </a:rPr>
              <a:t> GTP</a:t>
            </a:r>
            <a:r>
              <a:rPr b="0" lang="zh-CN" sz="4000" spc="-1" strike="noStrike">
                <a:solidFill>
                  <a:srgbClr val="3366ff"/>
                </a:solidFill>
                <a:latin typeface="Wingdings 3"/>
                <a:ea typeface="Wingdings 3"/>
              </a:rPr>
              <a:t></a:t>
            </a:r>
            <a:r>
              <a:rPr b="0" lang="zh-CN" sz="4000" spc="-1" strike="noStrike">
                <a:solidFill>
                  <a:srgbClr val="3366ff"/>
                </a:solidFill>
                <a:latin typeface="Times New Roman"/>
              </a:rPr>
              <a:t>  and  metabolic  diturbance  </a:t>
            </a:r>
            <a:r>
              <a:rPr b="0" lang="zh-CN" sz="4000" spc="-1" strike="noStrike">
                <a:solidFill>
                  <a:srgbClr val="3366ff"/>
                </a:solidFill>
                <a:latin typeface="Wingdings 3"/>
                <a:ea typeface="Wingdings 3"/>
              </a:rPr>
              <a:t></a:t>
            </a:r>
            <a:r>
              <a:rPr b="0" lang="zh-CN" sz="4000" spc="-1" strike="noStrike">
                <a:solidFill>
                  <a:srgbClr val="3366ff"/>
                </a:solidFill>
                <a:latin typeface="Times New Roman"/>
              </a:rPr>
              <a:t> hyperglycemia (early)  and  hypoglycemia (late)  and  blood  amino  acids </a:t>
            </a:r>
            <a:r>
              <a:rPr b="0" lang="zh-CN" sz="4000" spc="-1" strike="noStrike">
                <a:solidFill>
                  <a:srgbClr val="3366ff"/>
                </a:solidFill>
                <a:latin typeface="Wingdings 3"/>
                <a:ea typeface="Wingdings 3"/>
              </a:rPr>
              <a:t></a:t>
            </a:r>
            <a:r>
              <a:rPr b="0" lang="zh-CN" sz="4000" spc="-1" strike="noStrike">
                <a:solidFill>
                  <a:srgbClr val="3366ff"/>
                </a:solidFill>
                <a:latin typeface="Times New Roman"/>
              </a:rPr>
              <a:t>  and  so  on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2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52280" y="152280"/>
            <a:ext cx="8991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990720"/>
            <a:ext cx="9144000" cy="60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In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early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  stage</a:t>
            </a:r>
            <a:r>
              <a:rPr b="0" lang="zh-CN" sz="3600" spc="-1" strike="noStrike">
                <a:solidFill>
                  <a:srgbClr val="3366ff"/>
                </a:solidFill>
                <a:latin typeface="Times New Roman"/>
              </a:rPr>
              <a:t>,  due  to  blood  flow  redistribution  and  autoregulatory  mechanism,  functions  of  brain  still  are  normal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In</a:t>
            </a:r>
            <a:r>
              <a:rPr b="0" lang="zh-CN" sz="3600" spc="-1" strike="noStrike">
                <a:solidFill>
                  <a:srgbClr val="3366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late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stage</a:t>
            </a:r>
            <a:r>
              <a:rPr b="0" lang="zh-CN" sz="3600" spc="-1" strike="noStrike">
                <a:solidFill>
                  <a:srgbClr val="3366ff"/>
                </a:solidFill>
                <a:latin typeface="Times New Roman"/>
              </a:rPr>
              <a:t>,  functions  of  brain  are  disturbed  by  cytotoxic  edema,  nerosis  of  brain  cells  resulting  from  harmful  effects  of  OFR, Kinins  and  PGs,  ect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3366ff"/>
                </a:solidFill>
                <a:latin typeface="Times New Roman"/>
              </a:rPr>
              <a:t>Clinically  Restless, Lassitude  and  Coma  are  manifested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4.Effects  of  Shock  on  </a:t>
            </a:r>
            <a:r>
              <a:rPr b="0" lang="en-US" sz="4400" spc="-1" strike="noStrike">
                <a:solidFill>
                  <a:srgbClr val="ff9900"/>
                </a:solidFill>
                <a:latin typeface="Arial Black"/>
              </a:rPr>
              <a:t>Brain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2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228600" y="228600"/>
            <a:ext cx="8915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1143000"/>
            <a:ext cx="9144000" cy="55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In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early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  stage</a:t>
            </a:r>
            <a:r>
              <a:rPr b="0" lang="zh-CN" sz="3600" spc="-1" strike="noStrike">
                <a:solidFill>
                  <a:srgbClr val="3366ff"/>
                </a:solidFill>
                <a:latin typeface="Times New Roman"/>
              </a:rPr>
              <a:t>,  due  to  blood  flow  redistribution  and  autoregulatory  vasodilation, performance  of  heart  still  is  normal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In</a:t>
            </a:r>
            <a:r>
              <a:rPr b="0" lang="zh-CN" sz="3600" spc="-1" strike="noStrike">
                <a:solidFill>
                  <a:srgbClr val="3366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late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stage</a:t>
            </a:r>
            <a:r>
              <a:rPr b="0" lang="zh-CN" sz="3600" spc="-1" strike="noStrike">
                <a:solidFill>
                  <a:srgbClr val="3366ff"/>
                </a:solidFill>
                <a:latin typeface="Times New Roman"/>
              </a:rPr>
              <a:t>,  functions  of  heart  are  disturbed  by  imbalance  between  availability  and  consumption  of  oxygen,  acidosis, hyperkalemia,MDF  and  DIC  in  myocardium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3366ff"/>
                </a:solidFill>
                <a:latin typeface="Times New Roman"/>
              </a:rPr>
              <a:t>Clinically  heart  failure  are  manifested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9900"/>
                </a:solidFill>
                <a:latin typeface="Times New Roman"/>
              </a:rPr>
              <a:t>5. Effects  of  Shock  on  </a:t>
            </a:r>
            <a:r>
              <a:rPr b="0" lang="zh-CN" sz="4400" spc="-1" strike="noStrike">
                <a:solidFill>
                  <a:srgbClr val="ff9900"/>
                </a:solidFill>
                <a:latin typeface="Arial Black"/>
              </a:rPr>
              <a:t>Heart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2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228600" y="304920"/>
            <a:ext cx="8915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" y="1676520"/>
            <a:ext cx="8458200" cy="46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3366ff"/>
                </a:solidFill>
                <a:latin typeface="Times New Roman"/>
              </a:rPr>
              <a:t>MOF  </a:t>
            </a:r>
            <a:r>
              <a:rPr b="0" lang="en-US" sz="4000" spc="-1" strike="noStrike">
                <a:solidFill>
                  <a:srgbClr val="3366ff"/>
                </a:solidFill>
                <a:latin typeface="Times New Roman"/>
              </a:rPr>
              <a:t>is  a  comprehensive  outcome  of  dysfunctions  of  the  above  organs  in  shock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3366ff"/>
                </a:solidFill>
                <a:latin typeface="Times New Roman"/>
              </a:rPr>
              <a:t>Cell  damage  is  a  fundamental  cause  of  MOF, many  harmful  factors  can  induce  cell  damage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020160" cy="17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9900"/>
                </a:solidFill>
                <a:latin typeface="Times New Roman"/>
              </a:rPr>
              <a:t>6.Multiple  Organ  Failue(MOF)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4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380880" y="228600"/>
            <a:ext cx="8382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8600" y="2362320"/>
            <a:ext cx="86868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Arial Black"/>
              </a:rPr>
              <a:t>1.Hypovolemic   shock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6699"/>
                </a:solidFill>
                <a:latin typeface="Times New Roman"/>
              </a:rPr>
              <a:t>Common  causes:</a:t>
            </a:r>
            <a:r>
              <a:rPr b="0" lang="zh-CN" sz="3200" spc="-1" strike="noStrike">
                <a:solidFill>
                  <a:srgbClr val="006699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Hemorrhage,  Burn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Dehydration  et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6699"/>
                </a:solidFill>
                <a:latin typeface="Times New Roman"/>
              </a:rPr>
              <a:t>A  key  link  of  pathogenesis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Inadequate  circulating  blood  volu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6699"/>
                </a:solidFill>
                <a:latin typeface="Times New Roman"/>
              </a:rPr>
              <a:t>Main  mechanism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Sympathetic  nervous  system  activ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8480" y="60912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cc33"/>
                </a:solidFill>
                <a:uFillTx/>
                <a:latin typeface="Impact"/>
              </a:rPr>
              <a:t>Characteristics</a:t>
            </a:r>
            <a:br>
              <a:rPr sz="6000"/>
            </a:br>
            <a:r>
              <a:rPr b="0" lang="en-US" sz="4800" spc="-1" strike="noStrike">
                <a:solidFill>
                  <a:srgbClr val="33cc33"/>
                </a:solidFill>
                <a:latin typeface="Impact"/>
              </a:rPr>
              <a:t>of Various Types of Shock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4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228600" y="152280"/>
            <a:ext cx="8915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990720"/>
            <a:ext cx="9144000" cy="61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宋体"/>
              </a:rPr>
              <a:t>Common causes:</a:t>
            </a:r>
            <a:br>
              <a:rPr sz="3600"/>
            </a:br>
            <a:r>
              <a:rPr b="0" lang="zh-CN" sz="3600" spc="-1" strike="noStrike">
                <a:solidFill>
                  <a:srgbClr val="006699"/>
                </a:solidFill>
                <a:latin typeface="宋体"/>
              </a:rPr>
              <a:t>  Serious systemic infection of</a:t>
            </a:r>
            <a:br>
              <a:rPr sz="3600"/>
            </a:br>
            <a:r>
              <a:rPr b="0" lang="zh-CN" sz="3600" spc="-1" strike="noStrike">
                <a:solidFill>
                  <a:srgbClr val="006699"/>
                </a:solidFill>
                <a:latin typeface="宋体"/>
              </a:rPr>
              <a:t>bacteria,fungi,viruses,parasites,</a:t>
            </a:r>
            <a:br>
              <a:rPr sz="3600"/>
            </a:br>
            <a:r>
              <a:rPr b="0" lang="zh-CN" sz="3600" spc="-1" strike="noStrike">
                <a:solidFill>
                  <a:srgbClr val="006699"/>
                </a:solidFill>
                <a:latin typeface="宋体"/>
              </a:rPr>
              <a:t>particularly gram-negative bacteremi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宋体"/>
              </a:rPr>
              <a:t>Main mechanism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宋体"/>
              </a:rPr>
              <a:t>  </a:t>
            </a:r>
            <a:r>
              <a:rPr b="0" lang="zh-CN" sz="3600" spc="-1" strike="noStrike">
                <a:solidFill>
                  <a:srgbClr val="006699"/>
                </a:solidFill>
                <a:latin typeface="宋体"/>
              </a:rPr>
              <a:t>The above organisms→Monocytes and          macrophages→cytokines(TNF,IL1)→cell damage,specially impairment of cellular uptake and/or utilization of O</a:t>
            </a:r>
            <a:r>
              <a:rPr b="0" lang="zh-CN" sz="3600" spc="-1" strike="noStrike" baseline="-25000">
                <a:solidFill>
                  <a:srgbClr val="006699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006699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-228600"/>
            <a:ext cx="87631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Arial Black"/>
              </a:rPr>
              <a:t>2.Septic shock</a:t>
            </a:r>
            <a:br>
              <a:rPr sz="4000"/>
            </a:b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4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466560"/>
            <a:ext cx="4876920" cy="59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cc33"/>
                </a:solidFill>
                <a:latin typeface="宋体"/>
              </a:rPr>
              <a:t>＊</a:t>
            </a:r>
            <a:r>
              <a:rPr b="1" i="1" lang="zh-CN" sz="4000" spc="-1" strike="noStrike">
                <a:solidFill>
                  <a:srgbClr val="33cc33"/>
                </a:solidFill>
                <a:latin typeface="宋体"/>
              </a:rPr>
              <a:t>Hyperdynamic</a:t>
            </a:r>
            <a:r>
              <a:rPr b="1" i="1" lang="zh-CN" sz="3600" spc="-1" strike="noStrike">
                <a:solidFill>
                  <a:srgbClr val="3366ff"/>
                </a:solidFill>
                <a:latin typeface="宋体"/>
              </a:rPr>
              <a:t> type-warm shock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High cardiac output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Low vessel resistan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Flushed and warm ski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Mechanism:Histamine and   Kinins induced-vasodila-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724280" y="1295280"/>
            <a:ext cx="4419720" cy="58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cc33"/>
                </a:solidFill>
                <a:latin typeface="宋体"/>
              </a:rPr>
              <a:t>＊</a:t>
            </a:r>
            <a:r>
              <a:rPr b="1" i="1" lang="zh-CN" sz="4000" spc="-1" strike="noStrike">
                <a:solidFill>
                  <a:srgbClr val="33cc33"/>
                </a:solidFill>
                <a:latin typeface="宋体"/>
              </a:rPr>
              <a:t>Hypodynamic</a:t>
            </a:r>
            <a:r>
              <a:rPr b="1" i="1" lang="zh-CN" sz="4000" spc="-1" strike="noStrike">
                <a:solidFill>
                  <a:srgbClr val="3366ff"/>
                </a:solidFill>
                <a:latin typeface="宋体"/>
              </a:rPr>
              <a:t> </a:t>
            </a:r>
            <a:r>
              <a:rPr b="1" i="1" lang="zh-CN" sz="3600" spc="-1" strike="noStrike">
                <a:solidFill>
                  <a:srgbClr val="3366ff"/>
                </a:solidFill>
                <a:latin typeface="宋体"/>
              </a:rPr>
              <a:t>type-cold shock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Low cardiac output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High vessel resistan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Cold and wet ski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Mechanism: endotoxin,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Stagnant Microcircula-tion,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Sympathetic stimulation,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Vasoconstri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8516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宋体"/>
              </a:rPr>
              <a:t>Two types of septic shock</a:t>
            </a: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4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0" y="838080"/>
            <a:ext cx="8686800" cy="32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宋体"/>
              </a:rPr>
              <a:t>Common causes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6699"/>
                </a:solidFill>
                <a:latin typeface="宋体"/>
              </a:rPr>
              <a:t>Myocardial infarction et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宋体"/>
              </a:rPr>
              <a:t>Main mechanism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6699"/>
                </a:solidFill>
                <a:latin typeface="宋体"/>
              </a:rPr>
              <a:t>decrease of cardiac outpu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3505320"/>
            <a:ext cx="8534160" cy="38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00"/>
                </a:solidFill>
                <a:latin typeface="Impact"/>
              </a:rPr>
              <a:t>4.Anaphylactic  shock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Common  causes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6699"/>
                </a:solidFill>
                <a:latin typeface="Times New Roman"/>
              </a:rPr>
              <a:t>Hypersensitivity  to  some  substances(antigen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6699"/>
                </a:solidFill>
                <a:latin typeface="Times New Roman"/>
              </a:rPr>
              <a:t>such  as  penicillin, fish, shrimp  et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00"/>
                </a:solidFill>
                <a:latin typeface="Impact"/>
              </a:rPr>
              <a:t>3.Cardiogenic shock</a:t>
            </a: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4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304920" y="533520"/>
            <a:ext cx="8839080" cy="64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宋体"/>
              </a:rPr>
              <a:t>Main mechanism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Massive </a:t>
            </a:r>
            <a:r>
              <a:rPr b="0" lang="zh-CN" sz="4400" spc="-1" strike="noStrike" u="sng">
                <a:solidFill>
                  <a:srgbClr val="33cc33"/>
                </a:solidFill>
                <a:uFillTx/>
                <a:latin typeface="Impact"/>
              </a:rPr>
              <a:t>release</a:t>
            </a:r>
            <a:r>
              <a:rPr b="1" lang="zh-CN" sz="4400" spc="-1" strike="noStrike" u="sng">
                <a:solidFill>
                  <a:srgbClr val="33cc33"/>
                </a:solidFill>
                <a:uFillTx/>
                <a:latin typeface="宋体"/>
              </a:rPr>
              <a:t> 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of mediators</a:t>
            </a:r>
            <a:r>
              <a:rPr b="0" lang="zh-CN" sz="3600" spc="-1" strike="noStrike">
                <a:solidFill>
                  <a:srgbClr val="006699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99"/>
                </a:solidFill>
                <a:latin typeface="宋体"/>
              </a:rPr>
              <a:t>   </a:t>
            </a:r>
            <a:r>
              <a:rPr b="0" lang="zh-CN" sz="3600" spc="-1" strike="noStrike">
                <a:solidFill>
                  <a:srgbClr val="006699"/>
                </a:solidFill>
                <a:latin typeface="宋体"/>
              </a:rPr>
              <a:t>such as histamine→</a:t>
            </a:r>
            <a:r>
              <a:rPr b="0" lang="zh-CN" sz="4400" spc="-1" strike="noStrike">
                <a:solidFill>
                  <a:srgbClr val="006699"/>
                </a:solidFill>
                <a:latin typeface="Impact"/>
              </a:rPr>
              <a:t>dilation</a:t>
            </a:r>
            <a:r>
              <a:rPr b="1" lang="zh-CN" sz="4400" spc="-1" strike="noStrike">
                <a:solidFill>
                  <a:srgbClr val="006699"/>
                </a:solidFill>
                <a:latin typeface="宋体"/>
              </a:rPr>
              <a:t> </a:t>
            </a:r>
            <a:r>
              <a:rPr b="0" lang="zh-CN" sz="3600" spc="-1" strike="noStrike">
                <a:solidFill>
                  <a:srgbClr val="006699"/>
                </a:solidFill>
                <a:latin typeface="宋体"/>
              </a:rPr>
              <a:t>of arterioles and venules,and </a:t>
            </a:r>
            <a:r>
              <a:rPr b="0" lang="zh-CN" sz="4400" spc="-1" strike="noStrike">
                <a:solidFill>
                  <a:srgbClr val="006699"/>
                </a:solidFill>
                <a:latin typeface="Impact"/>
              </a:rPr>
              <a:t>increase</a:t>
            </a:r>
            <a:r>
              <a:rPr b="0" lang="zh-CN" sz="3600" spc="-1" strike="noStrike">
                <a:solidFill>
                  <a:srgbClr val="006699"/>
                </a:solidFill>
                <a:latin typeface="宋体"/>
              </a:rPr>
              <a:t> of capillary permeability→</a:t>
            </a:r>
            <a:r>
              <a:rPr b="0" lang="zh-CN" sz="4400" spc="-1" strike="noStrike">
                <a:solidFill>
                  <a:srgbClr val="006699"/>
                </a:solidFill>
                <a:latin typeface="Impact"/>
              </a:rPr>
              <a:t>imbalance</a:t>
            </a:r>
            <a:r>
              <a:rPr b="0" lang="zh-CN" sz="3600" spc="-1" strike="noStrike">
                <a:solidFill>
                  <a:srgbClr val="006699"/>
                </a:solidFill>
                <a:latin typeface="Impact"/>
              </a:rPr>
              <a:t> </a:t>
            </a:r>
            <a:r>
              <a:rPr b="0" lang="zh-CN" sz="3600" spc="-1" strike="noStrike">
                <a:solidFill>
                  <a:srgbClr val="006699"/>
                </a:solidFill>
                <a:latin typeface="宋体"/>
              </a:rPr>
              <a:t>between volume of vessel bed and blood volume(the former﹥the latter) →</a:t>
            </a:r>
            <a:r>
              <a:rPr b="0" lang="zh-CN" sz="4400" spc="-1" strike="noStrike">
                <a:solidFill>
                  <a:srgbClr val="006699"/>
                </a:solidFill>
                <a:latin typeface="Impact"/>
              </a:rPr>
              <a:t>shock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2133720"/>
            <a:ext cx="9144000" cy="32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1)Hypovolemic  shock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Loss  of  plasma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   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宋体"/>
              </a:rPr>
              <a:t>burn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Loss  of  whole  blood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 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宋体"/>
              </a:rPr>
              <a:t>hemorrag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Loss  of  other  body  fluid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 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宋体"/>
              </a:rPr>
              <a:t>diarrhe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876920"/>
            <a:ext cx="8534520" cy="18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2)Cardiogenic  shock        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注意：此点有误，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宋体"/>
              </a:rPr>
              <a:t>Anaphylectic  reaction   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宋体"/>
              </a:rPr>
              <a:t>必改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宋体"/>
              </a:rPr>
              <a:t>Neurologic  inhibiti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What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 are   </a:t>
            </a:r>
            <a:r>
              <a:rPr b="1" lang="en-US" sz="4800" spc="-1" strike="noStrike">
                <a:solidFill>
                  <a:srgbClr val="ff9900"/>
                </a:solidFill>
                <a:latin typeface="Times New Roman"/>
              </a:rPr>
              <a:t>causes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and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9900"/>
                </a:solidFill>
                <a:latin typeface="Times New Roman"/>
              </a:rPr>
              <a:t>types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  of  shock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4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" y="1143000"/>
            <a:ext cx="8915400" cy="56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66ff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3366ff"/>
                </a:solidFill>
                <a:latin typeface="宋体"/>
              </a:rPr>
              <a:t>Common causes</a:t>
            </a:r>
            <a:r>
              <a:rPr b="1" i="1" lang="zh-CN" sz="3600" spc="-1" strike="noStrike">
                <a:solidFill>
                  <a:srgbClr val="3366ff"/>
                </a:solidFill>
                <a:latin typeface="宋体"/>
              </a:rPr>
              <a:t>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6699"/>
                </a:solidFill>
                <a:latin typeface="宋体"/>
              </a:rPr>
              <a:t>Severe pain,spinal cord injury,et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3366ff"/>
                </a:solidFill>
                <a:latin typeface="宋体"/>
              </a:rPr>
              <a:t>Main mechanism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6699"/>
                </a:solidFill>
                <a:latin typeface="宋体"/>
              </a:rPr>
              <a:t>Lack of vasomotor tone→</a:t>
            </a:r>
            <a:r>
              <a:rPr b="1" lang="zh-CN" sz="3600" spc="-1" strike="noStrike">
                <a:solidFill>
                  <a:srgbClr val="006699"/>
                </a:solidFill>
                <a:latin typeface="Impact"/>
              </a:rPr>
              <a:t>dilation</a:t>
            </a:r>
            <a:r>
              <a:rPr b="1" lang="zh-CN" sz="2800" spc="-1" strike="noStrike">
                <a:solidFill>
                  <a:srgbClr val="006699"/>
                </a:solidFill>
                <a:latin typeface="Arial Black"/>
              </a:rPr>
              <a:t> </a:t>
            </a:r>
            <a:r>
              <a:rPr b="1" lang="zh-CN" sz="3200" spc="-1" strike="noStrike">
                <a:solidFill>
                  <a:srgbClr val="006699"/>
                </a:solidFill>
                <a:latin typeface="宋体"/>
              </a:rPr>
              <a:t>of peripheral vessel→</a:t>
            </a:r>
            <a:r>
              <a:rPr b="1" lang="zh-CN" sz="3600" spc="-1" strike="noStrike">
                <a:solidFill>
                  <a:srgbClr val="006699"/>
                </a:solidFill>
                <a:latin typeface="Impact"/>
              </a:rPr>
              <a:t>decrease </a:t>
            </a:r>
            <a:r>
              <a:rPr b="1" lang="zh-CN" sz="3200" spc="-1" strike="noStrike">
                <a:solidFill>
                  <a:srgbClr val="006699"/>
                </a:solidFill>
                <a:latin typeface="宋体"/>
              </a:rPr>
              <a:t>of peripher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6699"/>
                </a:solidFill>
                <a:latin typeface="宋体"/>
              </a:rPr>
              <a:t>resistance→</a:t>
            </a:r>
            <a:r>
              <a:rPr b="1" lang="zh-CN" sz="3600" spc="-1" strike="noStrike">
                <a:solidFill>
                  <a:srgbClr val="006699"/>
                </a:solidFill>
                <a:latin typeface="Impact"/>
              </a:rPr>
              <a:t>inadepuate return</a:t>
            </a:r>
            <a:r>
              <a:rPr b="1" lang="zh-CN" sz="2800" spc="-1" strike="noStrike">
                <a:solidFill>
                  <a:srgbClr val="006699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6699"/>
                </a:solidFill>
                <a:latin typeface="宋体"/>
              </a:rPr>
              <a:t>of blood to heart→</a:t>
            </a:r>
            <a:r>
              <a:rPr b="1" lang="zh-CN" sz="3600" spc="-1" strike="noStrike">
                <a:solidFill>
                  <a:srgbClr val="006699"/>
                </a:solidFill>
                <a:latin typeface="Impact"/>
              </a:rPr>
              <a:t>decrease</a:t>
            </a:r>
            <a:r>
              <a:rPr b="1" lang="zh-CN" sz="2800" spc="-1" strike="noStrike">
                <a:solidFill>
                  <a:srgbClr val="006699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6699"/>
                </a:solidFill>
                <a:latin typeface="宋体"/>
              </a:rPr>
              <a:t>of cardiac output→</a:t>
            </a:r>
            <a:r>
              <a:rPr b="1" lang="zh-CN" sz="3600" spc="-1" strike="noStrike">
                <a:solidFill>
                  <a:srgbClr val="006699"/>
                </a:solidFill>
                <a:latin typeface="Impact"/>
              </a:rPr>
              <a:t>shock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791560" cy="204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9900"/>
                </a:solidFill>
                <a:latin typeface="Impact"/>
              </a:rPr>
              <a:t>5.Neurogenic shock</a:t>
            </a:r>
            <a:br>
              <a:rPr sz="5400"/>
            </a:b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2f75"/>
            </a:gs>
            <a:gs pos="100000">
              <a:srgbClr val="00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4640" y="380880"/>
            <a:ext cx="8885160" cy="166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Principle  of  Treatment of Shock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35000" y="1904760"/>
            <a:ext cx="8896320" cy="434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1.Elimination  of  initiating  causes  of  shock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For  example, anti-infection, stop  bleeding, anti-anaphylactic  reac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2.Restoration  of  blood  volume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Intravenous  administration  of  normal  saline, glucose  solution, blood, plasma  and  so 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19810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3.Application  of  vasoactive  drugs</a:t>
            </a:r>
            <a:br>
              <a:rPr sz="4000"/>
            </a:b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According  to  different  stages  and  types of  shock,</a:t>
            </a:r>
            <a:br>
              <a:rPr sz="3200"/>
            </a:b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administer  different  agents. </a:t>
            </a:r>
            <a:r>
              <a:rPr b="1" i="1" lang="zh-CN" sz="3200" spc="-1" strike="noStrike">
                <a:solidFill>
                  <a:srgbClr val="ffffcc"/>
                </a:solidFill>
                <a:latin typeface="Times New Roman"/>
              </a:rPr>
              <a:t>For  example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, in  early </a:t>
            </a:r>
            <a:br>
              <a:rPr sz="3200"/>
            </a:b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stage, use  dilating  vessel  agents, , use constricting </a:t>
            </a:r>
            <a:br>
              <a:rPr sz="3200"/>
            </a:b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vessel  agents  for  anaphylactic  shock  and  so  on.   </a:t>
            </a:r>
            <a:br>
              <a:rPr sz="3200"/>
            </a:b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-360" y="3580920"/>
            <a:ext cx="8704440" cy="282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4.Improvement  of  cardiac  functio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Cardiac  tonic  such  as  digitalis  and  digoxin  improves  functions  of  hear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5.Treatment  of  complication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e.g.acidosis, hypoxia, DIC  et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914400"/>
            <a:ext cx="8763120" cy="40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3)Vasogenic  shock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00"/>
              </a:spcBef>
              <a:buClr>
                <a:srgbClr val="cccc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ccff"/>
                </a:solidFill>
                <a:latin typeface="Times New Roman"/>
                <a:ea typeface="宋体"/>
              </a:rPr>
              <a:t>Anaphylectic  reaction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00"/>
              </a:spcBef>
              <a:buClr>
                <a:srgbClr val="cccc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ccff"/>
                </a:solidFill>
                <a:latin typeface="Times New Roman"/>
                <a:ea typeface="宋体"/>
              </a:rPr>
              <a:t>Neurologic  inhibi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581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352680"/>
            <a:ext cx="9144000" cy="30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4)Septic  shock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ccff"/>
                </a:solidFill>
                <a:latin typeface="Times New Roman"/>
                <a:ea typeface="宋体"/>
              </a:rPr>
              <a:t>Gram-negative  bacteria  infectio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ccff"/>
                </a:solidFill>
                <a:latin typeface="Times New Roman"/>
                <a:ea typeface="宋体"/>
              </a:rPr>
              <a:t>Gram-positive  bacteria  infectio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1523880"/>
            <a:ext cx="8763120" cy="109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There  are  other  2  kinds  of  classification  of  shock:    </a:t>
            </a:r>
            <a:br>
              <a:rPr sz="3600"/>
            </a:br>
            <a:r>
              <a:rPr b="1" i="1" lang="zh-CN" sz="3600" spc="-1" strike="noStrike">
                <a:solidFill>
                  <a:srgbClr val="ffffcc"/>
                </a:solidFill>
                <a:latin typeface="Times New Roman"/>
              </a:rPr>
              <a:t>1.Hemodynamic  classification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2590560"/>
            <a:ext cx="45068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Characteristics  of  hypodynamic  shock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Vasoconstri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Peripheral   resistance  </a:t>
            </a:r>
            <a:r>
              <a:rPr b="0" lang="zh-CN" sz="3200" spc="-1" strike="noStrike">
                <a:solidFill>
                  <a:srgbClr val="ff9900"/>
                </a:solidFill>
                <a:latin typeface="Wingdings 3"/>
                <a:ea typeface="Wingdings 3"/>
              </a:rPr>
              <a:t>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Cardiac  output  </a:t>
            </a:r>
            <a:r>
              <a:rPr b="0" lang="zh-CN" sz="3200" spc="-1" strike="noStrike">
                <a:solidFill>
                  <a:srgbClr val="ff9900"/>
                </a:solidFill>
                <a:latin typeface="Wingdings 3"/>
                <a:ea typeface="Wingdings 3"/>
              </a:rPr>
              <a:t>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Cold  sk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59480" y="2590920"/>
            <a:ext cx="4371840" cy="366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Characteristics  of  hyperdynamic  shock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Vasodil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Peripheral   resistance </a:t>
            </a:r>
            <a:r>
              <a:rPr b="0" lang="zh-CN" sz="3200" spc="-1" strike="noStrike">
                <a:solidFill>
                  <a:srgbClr val="ff9900"/>
                </a:solidFill>
                <a:latin typeface="Wingdings 3"/>
                <a:ea typeface="Wingdings 3"/>
              </a:rPr>
              <a:t>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Cardiac  output </a:t>
            </a:r>
            <a:r>
              <a:rPr b="0" lang="zh-CN" sz="3200" spc="-1" strike="noStrike">
                <a:solidFill>
                  <a:srgbClr val="ff9900"/>
                </a:solidFill>
                <a:latin typeface="Wingdings 3"/>
                <a:ea typeface="Wingdings 3"/>
              </a:rPr>
              <a:t>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Warm  sk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990720"/>
            <a:ext cx="914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-457200" y="1905120"/>
            <a:ext cx="9601200" cy="38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Stage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Black"/>
              </a:rPr>
              <a:t>Early  reversible  shock</a:t>
            </a:r>
            <a:r>
              <a:rPr b="1" lang="en-US" sz="40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       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  <a:ea typeface="宋体"/>
              </a:rPr>
              <a:t>Compensatory  mechanism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  <a:ea typeface="宋体"/>
              </a:rPr>
              <a:t>               </a:t>
            </a:r>
            <a:r>
              <a:rPr b="1" lang="en-US" sz="4800" spc="-1" strike="noStrike">
                <a:solidFill>
                  <a:srgbClr val="ff3300"/>
                </a:solidFill>
                <a:latin typeface="Arial Black"/>
                <a:ea typeface="宋体"/>
              </a:rPr>
              <a:t>dominating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-533520" y="4267080"/>
            <a:ext cx="96775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-609480" y="7892280"/>
            <a:ext cx="97534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cc"/>
                </a:solidFill>
                <a:latin typeface="Times New Roman"/>
              </a:rPr>
              <a:t>2. </a:t>
            </a:r>
            <a:r>
              <a:rPr b="1" i="1" lang="zh-CN" sz="3200" spc="-1" strike="noStrike">
                <a:solidFill>
                  <a:srgbClr val="ffffcc"/>
                </a:solidFill>
                <a:latin typeface="Times New Roman"/>
              </a:rPr>
              <a:t>classification   of  shock  by  severity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990720"/>
            <a:ext cx="914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-457200" y="1905120"/>
            <a:ext cx="96012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-228600" y="2590920"/>
            <a:ext cx="96775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ffffcc"/>
                </a:solidFill>
                <a:latin typeface="Times New Roman"/>
              </a:rPr>
              <a:t>Stage  II</a:t>
            </a: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ffffcc"/>
                </a:solidFill>
                <a:latin typeface="Arial Black"/>
              </a:rPr>
              <a:t>Late  reversible  shock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              </a:t>
            </a:r>
            <a:r>
              <a:rPr b="1" lang="zh-CN" sz="4400" spc="-1" strike="noStrike">
                <a:solidFill>
                  <a:srgbClr val="ffffcc"/>
                </a:solidFill>
                <a:latin typeface="Times New Roman"/>
              </a:rPr>
              <a:t>Compensatory  mechanism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ccccff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ff3300"/>
                </a:solidFill>
                <a:latin typeface="Arial Black"/>
              </a:rPr>
              <a:t>exahausted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-609480" y="7892280"/>
            <a:ext cx="97534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cc"/>
                </a:solidFill>
                <a:latin typeface="Times New Roman"/>
              </a:rPr>
              <a:t>2. </a:t>
            </a:r>
            <a:r>
              <a:rPr b="1" i="1" lang="zh-CN" sz="3200" spc="-1" strike="noStrike">
                <a:solidFill>
                  <a:srgbClr val="ffffcc"/>
                </a:solidFill>
                <a:latin typeface="Times New Roman"/>
              </a:rPr>
              <a:t>classification   of  shock  by  sever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914400"/>
            <a:ext cx="9144000" cy="72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1" i="1" lang="zh-CN" sz="3600" spc="-1" strike="noStrike">
                <a:solidFill>
                  <a:srgbClr val="ffffcc"/>
                </a:solidFill>
                <a:latin typeface="Times New Roman"/>
              </a:rPr>
              <a:t>2. </a:t>
            </a:r>
            <a:r>
              <a:rPr b="1" i="1" lang="zh-CN" sz="3200" spc="-1" strike="noStrike">
                <a:solidFill>
                  <a:srgbClr val="ffffcc"/>
                </a:solidFill>
                <a:latin typeface="Times New Roman"/>
              </a:rPr>
              <a:t>classification   of  shock  by  severity</a:t>
            </a: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                     </a:t>
            </a:r>
            <a:r>
              <a:rPr b="1" lang="zh-CN" sz="4800" spc="-1" strike="noStrike">
                <a:solidFill>
                  <a:srgbClr val="ffffcc"/>
                </a:solidFill>
                <a:latin typeface="Times New Roman"/>
              </a:rPr>
              <a:t>Stage  III 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           </a:t>
            </a:r>
            <a:r>
              <a:rPr b="1" lang="zh-CN" sz="4800" spc="-1" strike="noStrike">
                <a:solidFill>
                  <a:srgbClr val="ffffcc"/>
                </a:solidFill>
                <a:latin typeface="Arial Black"/>
              </a:rPr>
              <a:t>Refractory shock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Disseminated Intravascular Coagulatio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                    </a:t>
            </a:r>
            <a:r>
              <a:rPr b="1" lang="zh-CN" sz="4800" spc="-1" strike="noStrike">
                <a:solidFill>
                  <a:srgbClr val="ff3300"/>
                </a:solidFill>
                <a:latin typeface="Arial Black"/>
              </a:rPr>
              <a:t>initiated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838080"/>
            <a:ext cx="91440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447920"/>
            <a:ext cx="9144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he  part  consists  of  three  key   points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1905120"/>
            <a:ext cx="876312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1.Starting  Factors  of  Shock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2.Stages  of  Shock  and Changes  of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Microcirculation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3.Mechanisms  of  Shoc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-7086600" y="2286000"/>
            <a:ext cx="1699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-2057400" y="3657600"/>
            <a:ext cx="129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280" y="4419720"/>
            <a:ext cx="8991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Vascular-Bed   Volu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8080" y="5410080"/>
            <a:ext cx="2514600" cy="10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Blood Volu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5334120"/>
            <a:ext cx="297180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ardiac Outpu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-6017400" y="7975440"/>
            <a:ext cx="342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05520" y="6216480"/>
            <a:ext cx="175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buClr>
                <a:srgbClr val="ff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-4038480" y="7302600"/>
            <a:ext cx="2590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8480" y="53352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Pathogenesis  of  Shock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38480" y="6248520"/>
            <a:ext cx="9907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971800" y="6248520"/>
            <a:ext cx="9144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4191120" y="5028840"/>
            <a:ext cx="76176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429000" y="5028840"/>
            <a:ext cx="45720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742840" y="5334120"/>
            <a:ext cx="609480" cy="3045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29200" y="5257800"/>
            <a:ext cx="68580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9T01:01:48Z</dcterms:created>
  <dc:creator>cccJ2MV9-JYYQ6-JM44K-QMYTH-8RB2W</dc:creator>
  <dc:description/>
  <dc:language>en-US</dc:language>
  <cp:lastModifiedBy>ZonaNet</cp:lastModifiedBy>
  <dcterms:modified xsi:type="dcterms:W3CDTF">2008-05-02T23:39:02Z</dcterms:modified>
  <cp:revision>47</cp:revision>
  <dc:subject/>
  <dc:title>CHAPTER   10</dc:title>
</cp:coreProperties>
</file>