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EAAA-CD25-410A-9B25-C7B5DDB39B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751A-AE29-43E3-A097-B950C3861C0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BEB2-4173-41FB-8FDF-E9E2E885470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330E-9DF7-4A1E-953F-17AB3466F18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960D-5149-4552-B834-A5E9B212DDD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3018-0618-4F4B-9434-09980481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F66-CF41-4F0B-A0F5-81193252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F299-4D74-441F-8A53-65B509A4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C0A1-7F2A-48AE-9812-1106AAB9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392-2C6E-48F0-9BB9-9275475B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835A-EE42-40B1-B467-2FD876EC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575-93D8-424D-96EF-2D988BA6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7D1-678D-426D-ABFD-3BEC2091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D7C0-ABCD-46E6-814A-D5FB0211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402-88DC-449E-A1A0-4B7482C4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33A-D582-4C61-9954-ADEC12C4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8F40-D004-4363-A7C9-E1F79128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7C85-B2CE-4662-BD99-96CAFF3E6CF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10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vey Research: Basic Communication Metho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4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Mail Survey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26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Speed of data collection</a:t>
            </a:r>
            <a:r>
              <a:rPr b="0" lang="tr-TR" sz="29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Researcher has no control over return of questionnaire; slow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26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Geographical flexibility</a:t>
            </a:r>
            <a:r>
              <a:rPr b="0" lang="tr-TR" sz="29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High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26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Respondent cooperation</a:t>
            </a:r>
            <a:r>
              <a:rPr b="0" lang="tr-TR" sz="29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Moderate</a:t>
            </a:r>
            <a:r>
              <a:rPr b="0" lang="tr-TR" sz="29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tr-TR" sz="2900" spc="-1" strike="noStrike">
                <a:solidFill>
                  <a:srgbClr val="ffffcc"/>
                </a:solidFill>
                <a:latin typeface="Times New Roman"/>
              </a:rPr>
              <a:t> but, 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poorly designed questionnaire will have low response rate 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26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Versatility of questioning</a:t>
            </a:r>
            <a:r>
              <a:rPr b="0" lang="tr-TR" sz="29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Highly standardized format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26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Questionnaire length</a:t>
            </a:r>
            <a:r>
              <a:rPr b="0" lang="tr-TR" sz="29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Varies depending on incentive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26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Item non</a:t>
            </a:r>
            <a:r>
              <a:rPr b="0" lang="tr-TR" sz="29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response</a:t>
            </a:r>
            <a:r>
              <a:rPr b="0" lang="tr-TR" sz="29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900" spc="-1" strike="noStrike">
                <a:solidFill>
                  <a:srgbClr val="ffffcc"/>
                </a:solidFill>
                <a:latin typeface="Times New Roman"/>
              </a:rPr>
              <a:t>High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Mail Survey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ssibility of respondent misunderstanding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est--no interviewer present for clarifi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gree of interviewer influence of answer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rviewer abs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pervision of interviewer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pplic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nymity of responden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ase of call back or follow-up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asy, but takes 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s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5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E-Mail Questionnaire Survey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ed of data collec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stantaneo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ographic flexibilit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ldw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eaper distribution and processing co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lexible, b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tensive differences in the capabilities of respondents’ computers and e-mail software limit the types of questions and the layou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-mails are not secure and “eavesdropping” can possibly occu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pondent coopera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es depending if e-mail is seen as “spam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6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ternet Survey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self-administered questionnaire posted on a Web sit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pondents provide answers to questions displayed online by highlighting a phrase, clicking an icon, or keying in an answer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ternet Surveys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ed of data collec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stantaneo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ographic flexibilit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ldw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st effectiv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, v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ual and interac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pondent coopera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es depending on web s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es depending on type of s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en user does not opt-in or expect a voluntary survey cooperation is low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lf-selection problems in web site visitation surveys - participants tend to be more deeply involved than the average pers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ternet Surveys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satility of questioning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tremely versati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Questionnaire length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varying according to the answers of each respond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em non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ponse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ftware can assure n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ssibility for respondent misunderstanding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g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erviewer  influence of answers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ervision of interviewers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onymity of Respondent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pondent can be anonymous or know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se of Callback or Follow-up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fficult unless e-mail address is know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pecial Features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ows graphics and streaming med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hapter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10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: 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urvey Research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: Basic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ommunication Methods 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560" y="198072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* Comparison of Basic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ommunication Methods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in Survey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* Questionnaires administered by an interviewe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1. Door-to door interview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2. Mall intercept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3. Telephone interview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* Self-administered questionnaires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4. Questionnaires sent by mail, fax, or e-mail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-21240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5.  Internet questionnaire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1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oor-to-Door Personal Interview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Speed of data colle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rate to fa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Geographical flexi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to moder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Respondent coop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ll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Versatility of questioning</a:t>
            </a: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te versati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Rectangle 1027"/>
          <p:cNvSpPr/>
          <p:nvPr/>
        </p:nvSpPr>
        <p:spPr>
          <a:xfrm>
            <a:off x="4724280" y="1828800"/>
            <a:ext cx="419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stionnaire leng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em n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pon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ssibility of respondent misunderstan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oor-to-Door Personal Interview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gree of interviewer influence of answer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tr-TR" sz="3200" spc="-1" strike="noStrike">
                <a:solidFill>
                  <a:srgbClr val="ffff9e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ig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pervision of interviewer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Moder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nymity of responden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L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ase of call back or follow-up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Difficul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s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High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cial feature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9e"/>
                </a:solidFill>
                <a:latin typeface="Times New Roman"/>
              </a:rPr>
              <a:t>Visual materials may be shown or demonstrated; extended probing possi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1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Mall Intercept Personal Interview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99"/>
              </a:spcBef>
              <a:spcAft>
                <a:spcPts val="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ed of data collec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spcAft>
                <a:spcPts val="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ographical flexibilit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fined, urban b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spcAft>
                <a:spcPts val="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pondent cooper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derate to l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spcAft>
                <a:spcPts val="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satility of questioning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emely versati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spcAft>
                <a:spcPts val="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stionnaire length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derate to lo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spcAft>
                <a:spcPts val="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em n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pons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d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spcAft>
                <a:spcPts val="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ssibility of respondent misunderstanding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Mall Intercept Personal Interview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gree of interviewer influence of answer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pervision of interviewer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derate to hig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nymity of responden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L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ase of call back or follow-up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icul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s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derate to hig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cial feature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ste test, viewing of TV commercial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ssi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elephone Survey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Speed of Data Collection</a:t>
            </a:r>
            <a:r>
              <a:rPr b="0" lang="tr-TR" sz="31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Very fast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Geographical Flexibility</a:t>
            </a:r>
            <a:r>
              <a:rPr b="0" lang="tr-TR" sz="31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High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Respondent Cooperation</a:t>
            </a:r>
            <a:r>
              <a:rPr b="0" lang="tr-TR" sz="31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Good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Versatility of Questioning</a:t>
            </a:r>
            <a:r>
              <a:rPr b="0" lang="tr-TR" sz="31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Moderate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Questionnaire Length</a:t>
            </a:r>
            <a:r>
              <a:rPr b="0" lang="tr-TR" sz="31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Moderate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Item Non</a:t>
            </a:r>
            <a:r>
              <a:rPr b="0" lang="tr-TR" sz="31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response</a:t>
            </a:r>
            <a:r>
              <a:rPr b="0" lang="tr-TR" sz="31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Medium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Possibility of Respondent</a:t>
            </a: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Misunderstanding</a:t>
            </a:r>
            <a:r>
              <a:rPr b="0" lang="tr-TR" sz="31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Average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Degree of Interviewer Influence of Answer</a:t>
            </a:r>
            <a:r>
              <a:rPr b="0" lang="tr-TR" sz="31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100" spc="-1" strike="noStrike">
                <a:solidFill>
                  <a:srgbClr val="ffffcc"/>
                </a:solidFill>
                <a:latin typeface="Times New Roman"/>
              </a:rPr>
              <a:t>Moderate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elephone Survey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ervision of interviewers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gh, especially with central location WATS 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(Wide Area Telecommunications Service)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erview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onymity of respondent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der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se of call back or follow-up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s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st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w to modera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pecial features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eldwork and supervision of data collection are simplified; quite adaptable to computer technology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 (e.g.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ntral location interviewing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uter-assisted telephone interviewing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uterized voice-activated interviews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304920" y="2057400"/>
          <a:ext cx="82216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2216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elf-Administered Questionnair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47:22Z</dcterms:created>
  <dc:creator>zikmund</dc:creator>
  <dc:description/>
  <dc:language>en-US</dc:language>
  <cp:lastModifiedBy>Soad</cp:lastModifiedBy>
  <dcterms:modified xsi:type="dcterms:W3CDTF">2016-10-29T09:54:39Z</dcterms:modified>
  <cp:revision>542</cp:revision>
  <dc:subject>Chapter 1</dc:subject>
  <dc:title>Business Research Methods  William G. Zikmund</dc:title>
</cp:coreProperties>
</file>