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A7B0-6484-4DDD-B8BF-FB55C37374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C3D1-CA1A-4E9C-9672-D4B21D6B761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CCC-3FD3-4D01-9CB4-4226947EAE3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389E-3DE4-4EBA-996C-CE48FE21135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0B3B-E938-4CA5-BEE7-4545A3B3FB5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0FB-184F-47F6-B6E7-80E508C3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897-B3A1-4200-A83F-62E0726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E4E-E0D7-4075-8460-42767F6C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D5B-A8D8-41A6-8244-AEEBE1D9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091-CEED-45D1-A00F-092B5333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3F2-B3EC-4ADF-8FFF-E08ACAFB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921-B002-474B-891F-04C347DB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36B-68FF-415B-A810-71EFCB8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EA1-25A5-4869-A363-69671E5A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E24-3B30-4C97-A600-6F2877E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49C-EBBC-4E68-A933-8EB60CF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E06-3E17-47EA-8D06-10AA2DA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4DA5-5C08-470A-AFE7-F2EFC2EBD12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0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vey Research: Basic Communication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il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Researcher has no control over return of questionnaire; slow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Geographical flexibility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 but,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poorly designed questionnaire will have low response rate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Highly standardized format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Varies depending on incentive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il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ility of respondent misunderstan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est--no interviewer present for clar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interviewer influence of answe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viewer abs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y, but takes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5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-Mail Questionnair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antane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graphic flexibili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ldw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eaper distribution and processing c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exible, b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ve differences in the capabilities of respondents’ computers and e-mail software limit the types of questions and the layou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-mails are not secure and “eavesdropping” can possibly occ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depending if e-mail is seen as “spa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6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elf-administered questionnaire posted on a Web si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dents provide answers to questions displayed online by highlighting a phrase, clicking an icon, or keying in an answe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Surveys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antane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graphic flexibili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ldw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 effectiv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v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ual and intera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depending on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depending on type of s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user does not opt-in or expect a voluntary survey cooperation is low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f-selection problems in web site visitation surveys - participants tend to be more deeply involved than the average per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Surveys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remely versat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varying according to the answers of each respond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can assure n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ility for respondent misunderstand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viewer  influence of answer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dent can be anonymous or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se of Callback or Follow-up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fficult unless e-mail address is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s graphics and streaming med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urvey Research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: Basic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mmunication Methods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9807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Comparison of Basic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ommunication Methods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in Survey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Questionnaires administered by an interview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1. Door-to door interview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2. Mall intercept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3. Telephone interview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Self-administered questionnaires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4. Questionnaires sent by mail, fax, or e-mai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5.  Internet questionnaire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oor-to-Door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Speed of data coll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rate to f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Geographical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to moder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Respondent coop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Versatility of questioning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e versat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Rectangle 1027"/>
          <p:cNvSpPr/>
          <p:nvPr/>
        </p:nvSpPr>
        <p:spPr>
          <a:xfrm>
            <a:off x="4724280" y="182880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ility of respondent misundersta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oor-to-Door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interviewer influence of answe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3200" spc="-1" strike="noStrike">
                <a:solidFill>
                  <a:srgbClr val="ffff9e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Mode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Difficul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Hig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Visual materials may be shown or demonstrated; extended probing pos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ll Intercept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graphical flexibili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ined, urban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ly versat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lo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ility of respondent misunderstan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ll Intercept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interviewer influence of ans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icul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ste test, viewing of TV commercial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elephon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Very fast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Geographical Flexibility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Good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edium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Possibility of Respondent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isunderstanding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Averag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Degree of Interviewer Influence of Answer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elephon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, especially with central location WATS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(Wide Area Telecommunications Service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view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s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w to moder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eldwork and supervision of data collection are simplified; quite adaptable to computer technology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(e.g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ntral location interview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er-assisted telephone interview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erized voice-activated interview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304920" y="2057400"/>
          <a:ext cx="82216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1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lf-Administered Questionnair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29T09:54:39Z</dcterms:modified>
  <cp:revision>542</cp:revision>
  <dc:subject>Chapter 1</dc:subject>
  <dc:title>Business Research Methods  William G. Zikmund</dc:title>
</cp:coreProperties>
</file>