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16AA-9BE7-448D-8FEC-FB2D2DF902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9303-7ECA-4D34-937A-6C492F191D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551F-4736-40C8-B234-41A2C347B1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B039-5B9A-40F6-902B-E72612715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E1CD-2C5D-40B7-AE6A-47CAC8B43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D7943-E2FB-44FD-98AE-AFC1CAE5BB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AC05-9523-40AB-B854-F53986D8A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E414-864B-4555-AC4E-3AA8FB23D9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84AE-B8BD-4D69-9102-BB6848A33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89E0-C09A-4BBC-A253-4BF67527E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8517-42CA-47A7-91DA-2E82E49E25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971C-E905-424D-902B-42432AB1D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7D42-0D9E-4C8F-9443-8F440AF0ECA2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Rectangle 23"/>
          <p:cNvSpPr/>
          <p:nvPr/>
        </p:nvSpPr>
        <p:spPr>
          <a:xfrm>
            <a:off x="228600" y="1143000"/>
            <a:ext cx="8686800" cy="21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ror can be detected by using block cod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ved the message into blocks, each of k bits, called datawo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r redundant bits to each block to make the leng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= k + 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ing n bits blocks are called codew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2763720" y="152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73911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1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2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2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2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2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3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3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6304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341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Rectangle 1"/>
          <p:cNvSpPr/>
          <p:nvPr/>
        </p:nvSpPr>
        <p:spPr>
          <a:xfrm>
            <a:off x="3012120" y="68580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rity Che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33520" y="1676520"/>
            <a:ext cx="7048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and least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mple or Two 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000"/>
                </a:solidFill>
                <a:latin typeface="Times New Roman"/>
              </a:rPr>
              <a:t>simple parity che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609480" y="3492360"/>
            <a:ext cx="6019920" cy="29847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3"/>
          <p:cNvSpPr/>
          <p:nvPr/>
        </p:nvSpPr>
        <p:spPr>
          <a:xfrm>
            <a:off x="6781680" y="3618000"/>
            <a:ext cx="1905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ity bit (extra bit) is added to every data unit so that the total number of 1s is even or odd (for odd-parity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294480" y="762120"/>
            <a:ext cx="712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0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er and decoder for simple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587520" y="1474920"/>
            <a:ext cx="809928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609480" y="1295280"/>
            <a:ext cx="75438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sender wants to send the word world. In ASCII the five characters are coded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W      o        r        l       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10111     1101111    1110010   1101100    11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ollowing shows the actual bits 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11101110   11011110   11100100   11011000   1100100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7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8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9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609480" y="129528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ow suppose the word world in Example 1 is received by the receiver without being corrupted in trans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0111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101111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11001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110110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100100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r counts the 1s in each character and comes up with even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, 6, 4, 4, 4). The data are acce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Rectangle 24"/>
          <p:cNvSpPr/>
          <p:nvPr/>
        </p:nvSpPr>
        <p:spPr>
          <a:xfrm>
            <a:off x="2754000" y="1522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metho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5"/>
          <p:cNvSpPr/>
          <p:nvPr/>
        </p:nvSpPr>
        <p:spPr>
          <a:xfrm>
            <a:off x="609480" y="129528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Now suppose the word world in Example 1 is corrupted during 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11111110   11011110   11101100   11011000   11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ceiver counts the 1s in each character and comes up with even and odd numb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6, 5, 4, 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The receiver knows that the data are corrupted, discards them, and asks for retransmis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2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436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3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Rectangle 24"/>
          <p:cNvSpPr/>
          <p:nvPr/>
        </p:nvSpPr>
        <p:spPr>
          <a:xfrm>
            <a:off x="1774080" y="2286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of Simple Parity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609480" y="1776240"/>
            <a:ext cx="754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an even-parity data unit where the total number of 1s, including the parity bit, is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6: 100011101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ny 3 bits changed, the resulting parity will be odd and the error will be det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11111011: “ 9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0110111011: “7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00010011: “ 5 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The same holds true for any odd number of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"/>
          <p:cNvSpPr/>
          <p:nvPr/>
        </p:nvSpPr>
        <p:spPr>
          <a:xfrm>
            <a:off x="804960" y="83340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46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Rectangle 24"/>
          <p:cNvSpPr/>
          <p:nvPr/>
        </p:nvSpPr>
        <p:spPr>
          <a:xfrm>
            <a:off x="1774080" y="228600"/>
            <a:ext cx="50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formance of Simple Parity Ch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25"/>
          <p:cNvSpPr/>
          <p:nvPr/>
        </p:nvSpPr>
        <p:spPr>
          <a:xfrm>
            <a:off x="609480" y="177624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2 bits are chang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10111011: ”8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1100011011: ”6 ones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The number of 1s in the data unit is still even .The same holds true for any even number of err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86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 parity checker cannot detect errors when number of bits changed is even. The change cancel each other and the data unit will pass a parity check even though the data unit is damaged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804960" y="83340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7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8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8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Line 23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24"/>
          <p:cNvSpPr/>
          <p:nvPr/>
        </p:nvSpPr>
        <p:spPr>
          <a:xfrm>
            <a:off x="458640" y="518004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5"/>
          <p:cNvSpPr/>
          <p:nvPr/>
        </p:nvSpPr>
        <p:spPr>
          <a:xfrm>
            <a:off x="495360" y="2759040"/>
            <a:ext cx="8116920" cy="23464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mple parity check can detect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all single--bit err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It can detect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bur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rrors only if the total number of errors in each data unit is 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od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26"/>
          <p:cNvGrpSpPr/>
          <p:nvPr/>
        </p:nvGrpSpPr>
        <p:grpSpPr>
          <a:xfrm>
            <a:off x="533520" y="2023920"/>
            <a:ext cx="1143000" cy="566640"/>
            <a:chOff x="533520" y="2023920"/>
            <a:chExt cx="1143000" cy="566640"/>
          </a:xfrm>
        </p:grpSpPr>
        <p:pic>
          <p:nvPicPr>
            <p:cNvPr id="501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20239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28"/>
            <p:cNvSpPr/>
            <p:nvPr/>
          </p:nvSpPr>
          <p:spPr>
            <a:xfrm>
              <a:off x="666720" y="20239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3"/>
          <p:cNvSpPr/>
          <p:nvPr/>
        </p:nvSpPr>
        <p:spPr>
          <a:xfrm>
            <a:off x="914400" y="198108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2057400" y="228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ata link layer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84872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505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Rectangle 1"/>
          <p:cNvSpPr/>
          <p:nvPr/>
        </p:nvSpPr>
        <p:spPr>
          <a:xfrm>
            <a:off x="1534320" y="685800"/>
            <a:ext cx="55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e0000"/>
                </a:solidFill>
                <a:latin typeface="Times New Roman"/>
              </a:rPr>
              <a:t>Two-dimensional par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1752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parity bit for each data unit, then organize them into table (rows and colum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parity bit for each column and create a new row (column par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dundant row of bits is added to the whole blo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1143000" y="3691080"/>
            <a:ext cx="685800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Line 23"/>
          <p:cNvSpPr/>
          <p:nvPr/>
        </p:nvSpPr>
        <p:spPr>
          <a:xfrm>
            <a:off x="457200" y="2057400"/>
            <a:ext cx="815328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4"/>
          <p:cNvSpPr/>
          <p:nvPr/>
        </p:nvSpPr>
        <p:spPr>
          <a:xfrm>
            <a:off x="474840" y="42670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5"/>
          <p:cNvSpPr/>
          <p:nvPr/>
        </p:nvSpPr>
        <p:spPr>
          <a:xfrm>
            <a:off x="495360" y="2187720"/>
            <a:ext cx="8077320" cy="19494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wo-dimensional parity check, a block of bits is divided into rows and a redundant row of bits is added to the whole blo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26"/>
          <p:cNvGrpSpPr/>
          <p:nvPr/>
        </p:nvGrpSpPr>
        <p:grpSpPr>
          <a:xfrm>
            <a:off x="533520" y="1371600"/>
            <a:ext cx="1143000" cy="566640"/>
            <a:chOff x="533520" y="1371600"/>
            <a:chExt cx="1143000" cy="566640"/>
          </a:xfrm>
        </p:grpSpPr>
        <p:pic>
          <p:nvPicPr>
            <p:cNvPr id="536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Rectangle 28"/>
            <p:cNvSpPr/>
            <p:nvPr/>
          </p:nvSpPr>
          <p:spPr>
            <a:xfrm>
              <a:off x="666720" y="137160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"/>
          <p:cNvSpPr/>
          <p:nvPr/>
        </p:nvSpPr>
        <p:spPr>
          <a:xfrm>
            <a:off x="533520" y="1752480"/>
            <a:ext cx="754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the following block is s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10101001    00111001   11011101   11100111    10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it is hit by a burst noise of length 8, and some bits are corru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1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11101   11100111    10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receiver checks the parity bits, some of the bits do not follow the even-parity rule and the whole block is discarded.( see next sli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rcRect l="24243" t="29291" r="25795" b="20896"/>
          <a:stretch/>
        </p:blipFill>
        <p:spPr>
          <a:xfrm>
            <a:off x="609480" y="1521000"/>
            <a:ext cx="72392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56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366840" y="1319040"/>
            <a:ext cx="81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s the likelihood of detecting burst err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dundancy of n-bits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can detect a burst error of n 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urst error of more than n bits is also detected with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a very high prob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attern of errors still elusive: 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If 2 bits in one data unit are damaged and two bits in </a:t>
            </a:r>
            <a:r>
              <a:rPr b="0" lang="en-US" sz="2800" spc="-1" strike="noStrike">
                <a:solidFill>
                  <a:srgbClr val="7e0000"/>
                </a:solidFill>
                <a:latin typeface="Times New Roman"/>
              </a:rPr>
              <a:t>exactly the same position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 in anther data unite are also damaged. </a:t>
            </a:r>
            <a:r>
              <a:rPr b="0" lang="en-US" sz="2800" spc="-1" strike="noStrike">
                <a:solidFill>
                  <a:srgbClr val="7e0000"/>
                </a:solidFill>
                <a:latin typeface="Times New Roman"/>
              </a:rPr>
              <a:t>The error will not be detec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304920" y="2247840"/>
            <a:ext cx="85471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98440" y="762120"/>
            <a:ext cx="5596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1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-dimensional parity-che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6" descr=""/>
          <p:cNvPicPr/>
          <p:nvPr/>
        </p:nvPicPr>
        <p:blipFill>
          <a:blip r:embed="rId1"/>
          <a:stretch/>
        </p:blipFill>
        <p:spPr>
          <a:xfrm>
            <a:off x="216000" y="2189160"/>
            <a:ext cx="854712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2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588" name="Rectangle 3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4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22040" y="304920"/>
            <a:ext cx="686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yclic Redundancy Check CR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304920" y="2827440"/>
            <a:ext cx="8153280" cy="2863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477000" y="16765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Module-2 Binary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9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9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0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04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0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1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1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"/>
          <p:cNvSpPr/>
          <p:nvPr/>
        </p:nvSpPr>
        <p:spPr>
          <a:xfrm>
            <a:off x="490680" y="855720"/>
            <a:ext cx="804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In CRC generator (At send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ing of n 0s is appended to the data un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n is 1 less than the number of bits in the di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the data word plus appended zeros by the di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Use module-2 binary divis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ere is no carry when you add or subtract two digits in a colum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Addition and subtraction gives the same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This means: you can us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ヒラギノ明朝 ProN W3"/>
              </a:rPr>
              <a:t>XOR operation for both Addition and subt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der resulting from the division is the C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C of n bits replaces the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ppended 0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data un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nding CRC to the end of the data must make resulting bit sequence divisible by the divi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318240" y="304920"/>
            <a:ext cx="579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division in a CRC gen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8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6553080" cy="48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34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24"/>
          <p:cNvSpPr/>
          <p:nvPr/>
        </p:nvSpPr>
        <p:spPr>
          <a:xfrm>
            <a:off x="1531800" y="10152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-dimensional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490680" y="855720"/>
            <a:ext cx="804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In CRC generator (At receiv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receiving the data appended with the CRC, it does the same module -2 di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mainder is all 0s the CRC dropped and the data are accepted ( the data is correc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remainder is not equal zero, the received stream of bits is discarded and data must be resent ( the data is corrupt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302040" y="304920"/>
            <a:ext cx="448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CRC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1100160" y="1066680"/>
            <a:ext cx="636732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2"/>
          <p:cNvSpPr/>
          <p:nvPr/>
        </p:nvSpPr>
        <p:spPr>
          <a:xfrm>
            <a:off x="152280" y="763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152280" y="9144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302040" y="304920"/>
            <a:ext cx="448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5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CRC enco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"/>
          <p:cNvSpPr/>
          <p:nvPr/>
        </p:nvSpPr>
        <p:spPr>
          <a:xfrm>
            <a:off x="152280" y="63244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6" descr=""/>
          <p:cNvPicPr/>
          <p:nvPr/>
        </p:nvPicPr>
        <p:blipFill>
          <a:blip r:embed="rId1"/>
          <a:stretch/>
        </p:blipFill>
        <p:spPr>
          <a:xfrm>
            <a:off x="1698480" y="1000080"/>
            <a:ext cx="485460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299160" y="762120"/>
            <a:ext cx="628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16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 in the CRC decoder for two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Picture 6" descr=""/>
          <p:cNvPicPr/>
          <p:nvPr/>
        </p:nvPicPr>
        <p:blipFill>
          <a:blip r:embed="rId1"/>
          <a:stretch/>
        </p:blipFill>
        <p:spPr>
          <a:xfrm>
            <a:off x="493560" y="1550880"/>
            <a:ext cx="765972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362320" y="9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ヒラギノ明朝 ProN W3"/>
              </a:rPr>
              <a:t>Using Polynomi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ivisor in CRC generator is most often represented not as string of 1s and 0s, but as an algebraic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ynomi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use a polynomial to represent a binary w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it from right to left is mapped onto a power ter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ightmost bit represents the “0” power term. The bit next to it the “1” power term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2984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bit is of value zero, the power term is deleted from the express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6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7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7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678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8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8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8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2"/>
          <p:cNvSpPr/>
          <p:nvPr/>
        </p:nvSpPr>
        <p:spPr>
          <a:xfrm>
            <a:off x="152280" y="533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152280" y="137160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297720" y="762120"/>
            <a:ext cx="621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1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nomial to represent a binary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Picture 6" descr=""/>
          <p:cNvPicPr/>
          <p:nvPr/>
        </p:nvPicPr>
        <p:blipFill>
          <a:blip r:embed="rId1"/>
          <a:stretch/>
        </p:blipFill>
        <p:spPr>
          <a:xfrm>
            <a:off x="76320" y="2560680"/>
            <a:ext cx="8848440" cy="23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"/>
          <p:cNvSpPr/>
          <p:nvPr/>
        </p:nvSpPr>
        <p:spPr>
          <a:xfrm>
            <a:off x="300240" y="380880"/>
            <a:ext cx="523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division using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6" descr=""/>
          <p:cNvPicPr/>
          <p:nvPr/>
        </p:nvPicPr>
        <p:blipFill>
          <a:blip r:embed="rId1"/>
          <a:stretch/>
        </p:blipFill>
        <p:spPr>
          <a:xfrm>
            <a:off x="1446120" y="1523880"/>
            <a:ext cx="609768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23"/>
          <p:cNvGrpSpPr/>
          <p:nvPr/>
        </p:nvGrpSpPr>
        <p:grpSpPr>
          <a:xfrm>
            <a:off x="228600" y="2057400"/>
            <a:ext cx="8686800" cy="3659040"/>
            <a:chOff x="228600" y="2057400"/>
            <a:chExt cx="8686800" cy="3659040"/>
          </a:xfrm>
        </p:grpSpPr>
        <p:sp>
          <p:nvSpPr>
            <p:cNvPr id="724" name="Line 24"/>
            <p:cNvSpPr/>
            <p:nvPr/>
          </p:nvSpPr>
          <p:spPr>
            <a:xfrm>
              <a:off x="228600" y="2057400"/>
              <a:ext cx="8683560" cy="14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>
              <a:off x="230040" y="5715000"/>
              <a:ext cx="8685360" cy="1440"/>
            </a:xfrm>
            <a:prstGeom prst="line">
              <a:avLst/>
            </a:prstGeom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26"/>
          <p:cNvSpPr/>
          <p:nvPr/>
        </p:nvSpPr>
        <p:spPr>
          <a:xfrm>
            <a:off x="343080" y="2149560"/>
            <a:ext cx="8496000" cy="3378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a cyclic cod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 ≠ 0, one or more bits is corrup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x) = 0, eith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No bit is corrupted.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ome bits are corrupted, but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decoder failed to detec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27"/>
          <p:cNvGrpSpPr/>
          <p:nvPr/>
        </p:nvGrpSpPr>
        <p:grpSpPr>
          <a:xfrm>
            <a:off x="304920" y="1371600"/>
            <a:ext cx="1143000" cy="566640"/>
            <a:chOff x="304920" y="1371600"/>
            <a:chExt cx="1143000" cy="566640"/>
          </a:xfrm>
        </p:grpSpPr>
        <p:pic>
          <p:nvPicPr>
            <p:cNvPr id="728" name="Picture 28" descr=""/>
            <p:cNvPicPr/>
            <p:nvPr/>
          </p:nvPicPr>
          <p:blipFill>
            <a:blip r:embed="rId1"/>
            <a:stretch/>
          </p:blipFill>
          <p:spPr>
            <a:xfrm>
              <a:off x="304920" y="13716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Rectangle 29"/>
            <p:cNvSpPr/>
            <p:nvPr/>
          </p:nvSpPr>
          <p:spPr>
            <a:xfrm>
              <a:off x="438120" y="137160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3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3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3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11"/>
          <p:cNvGrpSpPr/>
          <p:nvPr/>
        </p:nvGrpSpPr>
        <p:grpSpPr>
          <a:xfrm>
            <a:off x="835200" y="533520"/>
            <a:ext cx="1728720" cy="474480"/>
            <a:chOff x="835200" y="533520"/>
            <a:chExt cx="1728720" cy="474480"/>
          </a:xfrm>
        </p:grpSpPr>
        <p:sp>
          <p:nvSpPr>
            <p:cNvPr id="741" name="Rectangle 12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13"/>
            <p:cNvSpPr/>
            <p:nvPr/>
          </p:nvSpPr>
          <p:spPr>
            <a:xfrm>
              <a:off x="835200" y="533520"/>
              <a:ext cx="17287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4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4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5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24"/>
          <p:cNvSpPr/>
          <p:nvPr/>
        </p:nvSpPr>
        <p:spPr>
          <a:xfrm>
            <a:off x="2322360" y="101520"/>
            <a:ext cx="35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C 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2"/>
          <p:cNvSpPr/>
          <p:nvPr/>
        </p:nvSpPr>
        <p:spPr>
          <a:xfrm>
            <a:off x="457200" y="1371600"/>
            <a:ext cx="7604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CRC is very effective error detection metho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C Can detect all burst errors that affect an odd number of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CRC Can detect all burst errors of length less than or equal to the degree of the poly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CRC can detect, with very high probability, burst errors of length greater than the degree of the polynom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"/>
          <p:cNvSpPr/>
          <p:nvPr/>
        </p:nvSpPr>
        <p:spPr>
          <a:xfrm>
            <a:off x="152280" y="152280"/>
            <a:ext cx="876312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3"/>
          <p:cNvSpPr/>
          <p:nvPr/>
        </p:nvSpPr>
        <p:spPr>
          <a:xfrm>
            <a:off x="152280" y="990720"/>
            <a:ext cx="87631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300240" y="380880"/>
            <a:ext cx="5233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gure 10.2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division using polynom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5"/>
          <p:cNvSpPr/>
          <p:nvPr/>
        </p:nvSpPr>
        <p:spPr>
          <a:xfrm>
            <a:off x="152280" y="6248520"/>
            <a:ext cx="87631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"/>
          <p:cNvSpPr/>
          <p:nvPr/>
        </p:nvSpPr>
        <p:spPr>
          <a:xfrm>
            <a:off x="304920" y="153684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The CRC-12 x12 + x11 + x3 + x + 1 which has a degree of 12, will det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all burst errors affecting an odd number of bi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will detect all burst errors with a length less than or equal to 12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will detect, 99.97 percent of the time, burst errors with a length of 12 or m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3"/>
          <p:cNvSpPr/>
          <p:nvPr/>
        </p:nvSpPr>
        <p:spPr>
          <a:xfrm>
            <a:off x="685800" y="144792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Error Detection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and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Corre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2"/>
          <p:cNvGrpSpPr/>
          <p:nvPr/>
        </p:nvGrpSpPr>
        <p:grpSpPr>
          <a:xfrm>
            <a:off x="0" y="0"/>
            <a:ext cx="9144000" cy="1371600"/>
            <a:chOff x="0" y="0"/>
            <a:chExt cx="9144000" cy="1371600"/>
          </a:xfrm>
        </p:grpSpPr>
        <p:sp>
          <p:nvSpPr>
            <p:cNvPr id="762" name="Rectangle 3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4"/>
            <p:cNvSpPr/>
            <p:nvPr/>
          </p:nvSpPr>
          <p:spPr>
            <a:xfrm>
              <a:off x="0" y="0"/>
              <a:ext cx="91440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Rectangle 5"/>
          <p:cNvSpPr/>
          <p:nvPr/>
        </p:nvSpPr>
        <p:spPr>
          <a:xfrm>
            <a:off x="224280" y="406440"/>
            <a:ext cx="3533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5   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52280" y="1576440"/>
            <a:ext cx="8229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st error detection method we discuss here is called the checksum. The checksum is used in the Internet by several protocols although not at the data link lay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sum used for example in network layer ). However, we briefly discuss it here to complete our discussion on error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6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7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7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7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8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8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8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24"/>
          <p:cNvSpPr/>
          <p:nvPr/>
        </p:nvSpPr>
        <p:spPr>
          <a:xfrm>
            <a:off x="1210320" y="0"/>
            <a:ext cx="236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ECK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26" descr=""/>
          <p:cNvPicPr/>
          <p:nvPr/>
        </p:nvPicPr>
        <p:blipFill>
          <a:blip r:embed="rId1"/>
          <a:stretch/>
        </p:blipFill>
        <p:spPr>
          <a:xfrm>
            <a:off x="566640" y="1447920"/>
            <a:ext cx="8102520" cy="45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Rectangle 1"/>
          <p:cNvSpPr/>
          <p:nvPr/>
        </p:nvSpPr>
        <p:spPr>
          <a:xfrm>
            <a:off x="2146320" y="65160"/>
            <a:ext cx="49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Data unit and check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76320" y="1219320"/>
            <a:ext cx="447984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The sender follows these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1.The unit is divided into k sections, each of n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2.All sections are added using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one’s comple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 to get the 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3.The sum is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complemen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 and becomes the check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4.The checksum is sent with the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4556160" y="1227240"/>
            <a:ext cx="4435560" cy="411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The receiver follows these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1.The unit is divided into k sections, each of n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2.All sections are added using </a:t>
            </a:r>
            <a:r>
              <a:rPr b="0" lang="en-US" sz="2400" spc="-1" strike="noStrike">
                <a:solidFill>
                  <a:srgbClr val="7e0000"/>
                </a:solidFill>
                <a:latin typeface="Tahoma"/>
                <a:ea typeface="ヒラギノ角ゴ ProN W3"/>
              </a:rPr>
              <a:t>one’s comple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to get the s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ヒラギノ角ゴ ProN W3"/>
              </a:rPr>
              <a:t>3.The sum is complemen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ahoma"/>
                <a:ea typeface="ヒラギノ角ゴ ProN W3"/>
              </a:rPr>
              <a:t>4.If the result is zero, the data are accepted: otherwise, rej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26" descr=""/>
          <p:cNvPicPr/>
          <p:nvPr/>
        </p:nvPicPr>
        <p:blipFill>
          <a:blip r:embed="rId1"/>
          <a:stretch/>
        </p:blipFill>
        <p:spPr>
          <a:xfrm>
            <a:off x="690480" y="5506920"/>
            <a:ext cx="7182000" cy="9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1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2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2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2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3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3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3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Rectangle 25"/>
          <p:cNvSpPr/>
          <p:nvPr/>
        </p:nvSpPr>
        <p:spPr>
          <a:xfrm>
            <a:off x="1170720" y="0"/>
            <a:ext cx="1576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"/>
          <p:cNvSpPr/>
          <p:nvPr/>
        </p:nvSpPr>
        <p:spPr>
          <a:xfrm>
            <a:off x="355680" y="1052640"/>
            <a:ext cx="8102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Suppose the following block of 16 bits is to be sent using a checksum of 8 bi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0101001   00111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s are added using one’s compl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 1 0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1 1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 1 0 0 0 1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Checksum 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00011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sent is 10101001 00111001 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00111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Straight Connector 3"/>
          <p:cNvSpPr/>
          <p:nvPr/>
        </p:nvSpPr>
        <p:spPr>
          <a:xfrm>
            <a:off x="1981080" y="4267080"/>
            <a:ext cx="25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4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4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4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5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5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5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6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Rectangle 25"/>
          <p:cNvSpPr/>
          <p:nvPr/>
        </p:nvSpPr>
        <p:spPr>
          <a:xfrm>
            <a:off x="1171800" y="0"/>
            <a:ext cx="188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"/>
          <p:cNvSpPr/>
          <p:nvPr/>
        </p:nvSpPr>
        <p:spPr>
          <a:xfrm>
            <a:off x="442800" y="1052640"/>
            <a:ext cx="80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Now suppose the receiver receives the pattern sent in Example 7 and there is no err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0101001  00111001  0001110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eceiver adds the three sections, it will get all 1s, which, after complementing, is all 0s and shows that there is no err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 1 0 1 0 0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1 1 1 0 0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0 0 1 1 1 0 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1 1 1 1 1 1  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Complement 00000000 means</a:t>
            </a:r>
            <a:r>
              <a:rPr b="1" i="1" lang="en-U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that the pattern is O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traight Connector 3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6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7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7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7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8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8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8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Rectangle 24"/>
          <p:cNvSpPr/>
          <p:nvPr/>
        </p:nvSpPr>
        <p:spPr>
          <a:xfrm>
            <a:off x="1170360" y="0"/>
            <a:ext cx="167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"/>
          <p:cNvSpPr/>
          <p:nvPr/>
        </p:nvSpPr>
        <p:spPr>
          <a:xfrm>
            <a:off x="355680" y="1371600"/>
            <a:ext cx="831348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Now suppose there is a burst error of length 5 that affects 4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01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1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001   0001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the receiver adds the three sections, it 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0 1 0 1 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1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1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1 1 0 0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 0 0 1 1 1 0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artial S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1 1 1 0 0 0 1 0 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ar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1 0 0 0 1 1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Complement 00111001 the pattern is corrup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Straight Connector 3"/>
          <p:cNvSpPr/>
          <p:nvPr/>
        </p:nvSpPr>
        <p:spPr>
          <a:xfrm>
            <a:off x="2666880" y="4648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Straight Connector 5"/>
          <p:cNvSpPr/>
          <p:nvPr/>
        </p:nvSpPr>
        <p:spPr>
          <a:xfrm>
            <a:off x="2590920" y="541008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9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9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0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0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0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0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1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" name="Rectangle 1"/>
          <p:cNvSpPr/>
          <p:nvPr/>
        </p:nvSpPr>
        <p:spPr>
          <a:xfrm>
            <a:off x="1780560" y="71280"/>
            <a:ext cx="53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formance of checksu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"/>
          <p:cNvSpPr/>
          <p:nvPr/>
        </p:nvSpPr>
        <p:spPr>
          <a:xfrm>
            <a:off x="865080" y="1297080"/>
            <a:ext cx="7440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most detects all errors involving odd numbers of bits or 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r more bits of a segment are damaged and the corresponding bit or bits of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opposite valu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second segment are also damage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</a:t>
            </a:r>
            <a:r>
              <a:rPr b="1" i="1" lang="en-US" sz="2800" spc="-1" strike="noStrike">
                <a:solidFill>
                  <a:srgbClr val="7e0000"/>
                </a:solidFill>
                <a:latin typeface="Times New Roman"/>
                <a:ea typeface="Times New Roman"/>
              </a:rPr>
              <a:t>the sum of columns will not change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will not be able to detect the err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6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6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7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7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7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8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Line 23"/>
          <p:cNvSpPr/>
          <p:nvPr/>
        </p:nvSpPr>
        <p:spPr>
          <a:xfrm>
            <a:off x="457200" y="190332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380880" y="4724280"/>
            <a:ext cx="815364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495360" y="1981080"/>
            <a:ext cx="7886520" cy="2590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must be able to transfer data from one device to another with acceptable accurac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corrupted during transmission. For reliable communication, errors must be detected and correc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26"/>
          <p:cNvGrpSpPr/>
          <p:nvPr/>
        </p:nvGrpSpPr>
        <p:grpSpPr>
          <a:xfrm>
            <a:off x="533520" y="1219320"/>
            <a:ext cx="1143000" cy="566640"/>
            <a:chOff x="533520" y="1219320"/>
            <a:chExt cx="1143000" cy="566640"/>
          </a:xfrm>
        </p:grpSpPr>
        <p:pic>
          <p:nvPicPr>
            <p:cNvPr id="188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2193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28"/>
            <p:cNvSpPr/>
            <p:nvPr/>
          </p:nvSpPr>
          <p:spPr>
            <a:xfrm>
              <a:off x="666720" y="12193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Rectangle 23"/>
          <p:cNvSpPr/>
          <p:nvPr/>
        </p:nvSpPr>
        <p:spPr>
          <a:xfrm>
            <a:off x="1676520" y="2057400"/>
            <a:ext cx="48765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Single-Bit Err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Burst Err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2743200" y="152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pes of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3"/>
          <p:cNvSpPr/>
          <p:nvPr/>
        </p:nvSpPr>
        <p:spPr>
          <a:xfrm>
            <a:off x="228600" y="3124080"/>
            <a:ext cx="8686800" cy="21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 single-bit error, only one bit in the data unit has changed. (0 to 1 or 1 to 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Does the Single-bit error happen in parallel or serial transmission ? Wh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-bit error most likely to occur in</a:t>
            </a:r>
            <a:r>
              <a:rPr b="1" lang="en-US" sz="2800" spc="-1" strike="noStrike">
                <a:solidFill>
                  <a:srgbClr val="222268"/>
                </a:solidFill>
                <a:latin typeface="Times New Roman"/>
              </a:rPr>
              <a:t> parallel transmiss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eg. between CPU and memor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3155760" y="152280"/>
            <a:ext cx="25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gle-bit err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88644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23"/>
          <p:cNvSpPr/>
          <p:nvPr/>
        </p:nvSpPr>
        <p:spPr>
          <a:xfrm>
            <a:off x="228600" y="1143000"/>
            <a:ext cx="8686800" cy="21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434360" cy="21366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25"/>
          <p:cNvSpPr/>
          <p:nvPr/>
        </p:nvSpPr>
        <p:spPr>
          <a:xfrm>
            <a:off x="317880" y="3276720"/>
            <a:ext cx="8737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burst error means that 2 or more bits in the data unit have chang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rst error does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not necessari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n that the errors occur in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consecutiv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e0000"/>
                </a:solidFill>
                <a:latin typeface="Times New Roman"/>
              </a:rPr>
              <a:t>Most likely to happen in a serial transmi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bits affected depends on the data rate and noise du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data is sent at 1 kbps,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 a noise of 1/100 s can affect 10 b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data is sent at 1 Mbps,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a noise of 1/100 s can affect 10000 bi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</a:rPr>
              <a:t>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3136680" y="0"/>
            <a:ext cx="24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urst err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24"/>
          <p:cNvSpPr/>
          <p:nvPr/>
        </p:nvSpPr>
        <p:spPr>
          <a:xfrm>
            <a:off x="2687400" y="152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6"/>
          <p:cNvSpPr/>
          <p:nvPr/>
        </p:nvSpPr>
        <p:spPr>
          <a:xfrm>
            <a:off x="1066680" y="990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ror detection uses the concept of redundancy, which means adding extra bits for detecting errors at the destin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3-15T18:04:27Z</dcterms:modified>
  <cp:revision>31</cp:revision>
  <dc:subject/>
  <dc:title>PowerPoint Presentation</dc:title>
</cp:coreProperties>
</file>