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5A4-99E3-4DF5-BDEA-73C29B6F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872-2EC6-403A-B9F4-EE1B644F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828-D73D-488B-9EBF-7E0CCFD7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C56-30F0-49C3-82F1-8881761D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57B-0939-44D1-99B8-EE49AE0E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0C3-0CF8-4E5E-9327-5BCCB90D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9DE-5FCC-4004-A143-929BA41A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AA3-C995-4B83-808C-604D504A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CEB-0939-4AF7-B7B2-9B058716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46BF-E704-45B1-A472-B9D144CA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9993-1493-478D-8F57-A8F6C68E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79A-79F8-463C-8A5F-A5BC43FB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09CC-BD75-4490-B66D-D536CEABD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101520"/>
            <a:ext cx="647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s of Human Anatomy &amp; Physi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7248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712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8794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aine N. Mari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362320"/>
            <a:ext cx="6858000" cy="25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Chapter 11</a:t>
            </a:r>
            <a:br>
              <a:rPr sz="48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ardiovascular System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3124080"/>
            <a:ext cx="510552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76320"/>
            <a:ext cx="152640" cy="1066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609480"/>
            <a:ext cx="7238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7984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Valv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298520"/>
            <a:ext cx="853452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low blood to flow in only one di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val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rioventricular valves – between atria and ventric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cuspid valve (le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uspid valve (right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milunar valves between ventricle and art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semilunar va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rtic semilunar va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Valv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362320"/>
            <a:ext cx="824544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alves open as blood is pumped throug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eld in place by chordae tendineae (“heart strings”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ose to prevent backflo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304920"/>
            <a:ext cx="8382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Operation of Heart Val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2887"/>
          <a:stretch/>
        </p:blipFill>
        <p:spPr>
          <a:xfrm>
            <a:off x="1114560" y="838080"/>
            <a:ext cx="3843360" cy="5629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0" t="0" r="0" b="2887"/>
          <a:stretch/>
        </p:blipFill>
        <p:spPr>
          <a:xfrm>
            <a:off x="5160960" y="838080"/>
            <a:ext cx="3570120" cy="5627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2280" y="620244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ve Path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etent valve = backflow and rep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nosis = stiff= heart workload incr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repla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p Dub Heart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04920"/>
            <a:ext cx="85345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he Heart: Associated Great Vess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371600"/>
            <a:ext cx="824544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ves left ventri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lmonary arter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ve right ventri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ers right atr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lmonary veins (four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er left atr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oronary Circul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600200"/>
            <a:ext cx="8245440" cy="46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lood in the heart chambers does not nourish the myocardiu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heart has its own nourishing circulatory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onary art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diac ve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od empties into the right atrium via the coronary sin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diac Path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pid heart b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Inadequate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Angina Pecto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Conduction Syst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3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274320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rinsic conduction syste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nodal system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rt muscle cells contract, without nerve impulses, in a regular, continuous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Conduction Syst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752480"/>
            <a:ext cx="838224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al tissue sets the p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oatrial node (right atriu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9520" indent="-23508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cemak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rioventricular node (junction of r&amp;l atria   and ventricl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rioventricular bundle (Bundle of Hi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ndle branches (right and lef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kinje fib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Heart Contract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2305080"/>
            <a:ext cx="2819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143000" y="990720"/>
            <a:ext cx="6877080" cy="5352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66680" y="601992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Cardiovascular Syst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2454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closed system of the heart and blood vesse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eart pumps bl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od vessels allow blood to circulate to all parts of the bod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unction of the cardiovascular system is to deliver oxygen and nutrients and to remove carbon dioxide and other waste produc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2232360"/>
            <a:ext cx="861048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3200" indent="-403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wave: impulse across a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RS complex: spread of impulse down septum, around ventricles in Purkinje f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wave: end of electrical activity in ventr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4776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243000"/>
            <a:ext cx="85345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22440"/>
                <a:tab algn="l" pos="216864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cardiograms (EKG/EC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28600"/>
            <a:ext cx="8686800" cy="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243000"/>
            <a:ext cx="876312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22440"/>
                <a:tab algn="l" pos="216864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cardiograms (EKG/ECG)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cont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28600"/>
            <a:ext cx="8686800" cy="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93120" y="6324480"/>
            <a:ext cx="1166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Times New Roman"/>
              </a:rPr>
              <a:t>Figure 8.15B,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2687760" y="990720"/>
            <a:ext cx="3767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ology of the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age to AV node = release of ventricles from control = slower heart b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er heart beat can lead to fibri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rillation = lack of blood flow to the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chycardia = more than 100 beats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dychardia = less than 60 beats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Cardiac Cy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09680"/>
            <a:ext cx="824544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ria contract simultaneous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ria relax, then ventricles contra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ystole = contra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astole = relax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Filling of Heart Chambers – </a:t>
            </a:r>
            <a:br>
              <a:rPr sz="4100"/>
            </a:b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Cardiac Cy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6230"/>
          <a:stretch/>
        </p:blipFill>
        <p:spPr>
          <a:xfrm>
            <a:off x="165240" y="2163600"/>
            <a:ext cx="8813520" cy="3399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8600" y="579132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Cardiac Outpu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600200"/>
            <a:ext cx="824544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rdiac output (C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ount of blood pumped by each side of the heart in one minu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 = (heart rate [HR]) x (stroke volume [SV]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oke volu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ume of blood pumped by each ventricle in one contr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diac output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 = HR x S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250 ml/min = 75 beats/min x 70 mls/b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 = 5000 ml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re blood supply passes through body once per min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 varies with demands of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ardiac Output Regul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0" b="4205"/>
          <a:stretch/>
        </p:blipFill>
        <p:spPr>
          <a:xfrm>
            <a:off x="762120" y="1143000"/>
            <a:ext cx="7975440" cy="4879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85800" y="612612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3049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Regulation of Heart Rat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905120"/>
            <a:ext cx="82454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oke volume usually remains relatively const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ling’s law of the heart – the more  that the cardiac muscle is stretched, the stronger the contr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nging heart rate is the most common way to change cardiac outpu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Regulation of Heart Rat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295280"/>
            <a:ext cx="8245440" cy="49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ed heart r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mpathetic nervous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 blood press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inephr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yrox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ed blood 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86000"/>
            <a:ext cx="8153640" cy="30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orax between the lu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inted apex directed toward left hi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out the size of your fis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than 1 lb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0880" y="3049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Regulation of Heart Rat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362320"/>
            <a:ext cx="82454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creased heart r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sympathetic nervous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blood pressure or blood 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eased venous retur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ongestive Heart Failure the heart is worn out and pumps weakly.  Digitalis works to provide a slow, steady, but stronger bea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estive Heart Failure (CH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ine in pumping efficiency of he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dequate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ive, also coronary atherosclerosis, high blood pressure and history of multiple Myocardial Infar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side fails = pulmonary congestion and suff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side fails = peripheral congestion and ed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Blood Vessels: The Vascular Syst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133720"/>
            <a:ext cx="8245440" cy="35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king blood to the tissues and bac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terio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u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Vascular Syst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247760" y="1219320"/>
            <a:ext cx="6648480" cy="5094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477120" y="601992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Blood Vessels: Anatom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190520"/>
            <a:ext cx="8245440" cy="51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ree layers (tunic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nic inti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thel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nic med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ooth mus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olled by sympathetic nervous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nic exter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ly fibrous connective tiss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Differences  Between Blood Vessel Typ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1905120"/>
            <a:ext cx="824544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alls of arteries are the thickes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umens of veins are larg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keletal muscle “milks” blood in veins toward the hear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alls of capillaries are only one cell  layer thick to allow for exchanges between blood and tissu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ovement of Blood Through Vessel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2381400"/>
            <a:ext cx="4724640" cy="26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arterial blood is pumped by the hear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eins use the milking action  of muscles to help move bloo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5410080" y="1219320"/>
            <a:ext cx="3327480" cy="52578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419720" y="609588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apillary Bed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8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2057400"/>
            <a:ext cx="426744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pillary beds consist of two types of vesse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scular shunt – directly connects an arteriole to a ven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4921200" y="685800"/>
            <a:ext cx="3967200" cy="56386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915080" y="64008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apillary Bed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8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676520"/>
            <a:ext cx="42674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ue capillaries – exchange vesse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xygen and nutrients cross to ce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bon dioxide and metabolic waste products cross into bl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4921200" y="685800"/>
            <a:ext cx="3967200" cy="5638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915080" y="64008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0880" y="304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Diffusion at Capillary B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295280" y="928800"/>
            <a:ext cx="6553440" cy="554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7162920" y="586728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3609"/>
          <a:stretch/>
        </p:blipFill>
        <p:spPr>
          <a:xfrm>
            <a:off x="914400" y="995400"/>
            <a:ext cx="7620120" cy="5343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400" y="601992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l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rial pu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iratory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indicate the efficiency of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Puls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828800"/>
            <a:ext cx="35816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lse – pressure wave of bloo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nitored at “pressure points” where pulse is easily palpat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4381560" y="609480"/>
            <a:ext cx="4554360" cy="5784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971800" y="617220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Blood Pressur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1447920"/>
            <a:ext cx="824544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asurements by health professionals are made on the pressure in large arter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olic – pressure at the peak of ventricular contr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stolic – pressure when ventricles rel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ssure in blood vessels decreases as the distance away from the heart increas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easuring Arterial Blood Pressur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0" t="0" r="0" b="4317"/>
          <a:stretch/>
        </p:blipFill>
        <p:spPr>
          <a:xfrm>
            <a:off x="279360" y="1752480"/>
            <a:ext cx="8585280" cy="40467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28600" y="594360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Blood Pressure: Effects of Factor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3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905120"/>
            <a:ext cx="824544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ural facto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nomic nervous system adjustments (sympathetic divisio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nal facto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ulation by altering blood 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nin – hormonal contr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Blood Pressure: Effects of Factor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39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1676520"/>
            <a:ext cx="8245440" cy="43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t has a vasodilation eff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d has a vasoconstricting eff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ous substances can cause increases or decrea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Variations in Blood Pressur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285920"/>
            <a:ext cx="824544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uman normal range is variab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0–110 mm Hg systol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–75 mm Hg diastol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 systolic (below 110 mm HG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ten associated with ill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systolic (above 140 mm HG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dangerous if it is chron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Covering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600200"/>
            <a:ext cx="824544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icardium – a double serous membr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ceral pericard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xt to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ietal pericard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side lay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rous fluid fills the space between the layers of pericardiu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Heart Wall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219320"/>
            <a:ext cx="861084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ree lay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icard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is the parietal pericar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ve tissue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ocard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cardiac mus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6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6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thel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External Heart Anatom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504"/>
          <a:stretch/>
        </p:blipFill>
        <p:spPr>
          <a:xfrm>
            <a:off x="609480" y="1219320"/>
            <a:ext cx="7925040" cy="5181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362640" y="640080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Heart: Chamber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217520"/>
            <a:ext cx="8610840" cy="52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ight and left side act as separate pum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chamb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811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ceiving chambe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3680" indent="-219240">
              <a:lnSpc>
                <a:spcPct val="70000"/>
              </a:lnSpc>
              <a:spcAft>
                <a:spcPts val="162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3680" indent="-219240">
              <a:lnSpc>
                <a:spcPct val="70000"/>
              </a:lnSpc>
              <a:spcAft>
                <a:spcPts val="162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7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tric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70000"/>
              </a:lnSpc>
              <a:spcAft>
                <a:spcPts val="1811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ischarging chambe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3680" indent="-219240">
              <a:lnSpc>
                <a:spcPct val="70000"/>
              </a:lnSpc>
              <a:spcAft>
                <a:spcPts val="162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3680" indent="-219240">
              <a:lnSpc>
                <a:spcPct val="70000"/>
              </a:lnSpc>
              <a:spcAft>
                <a:spcPts val="162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304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Blood Cir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1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2579760" y="838080"/>
            <a:ext cx="4037040" cy="5639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86080" y="61722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7:22:37Z</dcterms:created>
  <dc:creator>Hawkeye Community College</dc:creator>
  <dc:description/>
  <dc:language>en-US</dc:language>
  <cp:lastModifiedBy>Hawkeye Community College</cp:lastModifiedBy>
  <dcterms:modified xsi:type="dcterms:W3CDTF">2003-02-25T17:01:16Z</dcterms:modified>
  <cp:revision>22</cp:revision>
  <dc:subject/>
  <dc:title>PowerPoint Presentation</dc:title>
</cp:coreProperties>
</file>