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30B-2A11-4C53-832F-E3F93D97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BF2-1F87-48BB-A775-AC4C84C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8E6-F8CD-47EE-B5F5-25D1E54F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18A-E990-406E-9500-C31BBBE7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2DB-188E-497D-A1B6-FEAD9E7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02D-6A7E-49C3-9164-DCD6553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897-C29C-4D35-8D32-F4514C02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587-47C8-47CC-8F4B-E74ECD1F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2A3-0467-4C27-B56E-70D8C870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6E8-EA7E-4BD0-9816-E41DCBF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546-2598-4FF1-A7F2-8F35D2A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3C5-75B2-459E-850B-98DB0159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B582-A164-44E7-9B92-C01DDAE9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101520"/>
            <a:ext cx="647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s of Human Anatomy &amp; Physi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248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712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879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aine N. Mar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685800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Chapter 11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rdiovascular Syste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124080"/>
            <a:ext cx="51055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6320"/>
            <a:ext cx="152640" cy="1066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09480"/>
            <a:ext cx="7238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7984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Valv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8520"/>
            <a:ext cx="85345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ow blood to flow in only one di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val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oventricular valves – between atria and ventr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uspid valve (le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uspid valve (right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ilunar valves between ventricle and art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Valv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362320"/>
            <a:ext cx="82454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lves open as blood is pumped throug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ld in place by chordae tendineae (“heart strings”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ose to prevent backflo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04920"/>
            <a:ext cx="8382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peration of Heart Val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2887"/>
          <a:stretch/>
        </p:blipFill>
        <p:spPr>
          <a:xfrm>
            <a:off x="1114560" y="838080"/>
            <a:ext cx="3843360" cy="562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0" b="2887"/>
          <a:stretch/>
        </p:blipFill>
        <p:spPr>
          <a:xfrm>
            <a:off x="5160960" y="838080"/>
            <a:ext cx="3570120" cy="562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280" y="620244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ve Pat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etent valve = backflow and rep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nosis = stiff= heart workload incr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repla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p Dub Heart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4920"/>
            <a:ext cx="8534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e Heart: Associated Great Vess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371600"/>
            <a:ext cx="82454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s left ventri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lmonary arter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right ventri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s right atr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lmonary veins (four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 left atr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ronary Circul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824544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in the heart chambers does not nourish the myocardi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heart has its own nourishing circulatory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diac v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empties into the right atrium via the coronary sin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Pat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 heart 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Inadequat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Angina Pect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onduction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3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74320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rinsic conduction syste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nodal system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t muscle cells contract, without nerve impulses, in a regular, continuous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onduction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752480"/>
            <a:ext cx="83822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 tissue sets the 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oatrial node (right atriu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9520" indent="-23508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emak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oventricular node (junction of r&amp;l atria   and ventricl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oventricular bundle (Bundle of H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ndle branches (right and lef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kinje fi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Heart Contract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305080"/>
            <a:ext cx="281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143000" y="990720"/>
            <a:ext cx="6877080" cy="5352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66680" y="60199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Cardiova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245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closed system of the heart and blood vess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eart pumps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vessels allow blood to circulate to all parts of the bo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unction of the cardiovascular system is to deliver oxygen and nutrients and to remove carbon dioxide and other waste produc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2232360"/>
            <a:ext cx="86104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3200" indent="-403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wave: impulse across a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RS complex: spread of impulse down septum, around ventricles in Purkinje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wave: end of electrical activity in ventr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243000"/>
            <a:ext cx="8534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2440"/>
                <a:tab algn="l" pos="216864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ardiograms (EKG/EC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28600"/>
            <a:ext cx="86868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243000"/>
            <a:ext cx="87631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2440"/>
                <a:tab algn="l" pos="216864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ardiograms (EKG/ECG)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cont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28600"/>
            <a:ext cx="86868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93120" y="6324480"/>
            <a:ext cx="1166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Times New Roman"/>
              </a:rPr>
              <a:t>Figure 8.15B,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687760" y="990720"/>
            <a:ext cx="3767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y 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 to AV node = release of ventricles from control = slower heart 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heart beat can lead to fibr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llation = lack of blood flow to 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a = more than 100 beats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dychardia = less than 60 beats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ardiac Cy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09680"/>
            <a:ext cx="824544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ria contract simultaneous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ria relax, then ventricles contr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stole = contr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astole = relax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Filling of Heart Chambers – 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Cardiac Cy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6230"/>
          <a:stretch/>
        </p:blipFill>
        <p:spPr>
          <a:xfrm>
            <a:off x="165240" y="2163600"/>
            <a:ext cx="8813520" cy="3399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57913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ardiac Outpu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00200"/>
            <a:ext cx="824544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diac output (C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blood pumped by each side of the heart in one 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 = (heart rate [HR]) x (stroke volume [SV]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 of blood pumped by each ventricle in one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output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= HR x 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250 ml/min = 75 beats/min x 70 mls/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 = 500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blood supply passes through body once per min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varies with demand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rdiac Output Regul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0" b="4205"/>
          <a:stretch/>
        </p:blipFill>
        <p:spPr>
          <a:xfrm>
            <a:off x="762120" y="1143000"/>
            <a:ext cx="7975440" cy="4879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5800" y="61261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Regulation of Heart Ra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905120"/>
            <a:ext cx="82454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oke volume usually remains relatively const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ling’s law of the heart – the more  that the cardiac muscle is stretched, the stronger the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ing heart rate is the most common way to change cardiac outpu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gulation of Heart Ra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295280"/>
            <a:ext cx="824544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athetic nervou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 blood press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yrox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ed blood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0"/>
            <a:ext cx="815364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rax between the lu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ed apex directed toward left 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out the size of your fi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1 l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Regulation of Heart Ra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362320"/>
            <a:ext cx="82454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sympathetic nervou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blood pressure or blood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ased venous retur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gestive Heart Failure the heart is worn out and pumps weakly.  Digitalis works to provide a slow, steady, but stronger bea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estive Heart Failure (CH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 in pumping efficiency of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dequate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ive, also coronary atherosclerosis, high blood pressure and history of multiple Myocardial Infar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side fails = pulmonary congestion and suff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ide fails = peripheral congestion and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Vessels: The Va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133720"/>
            <a:ext cx="824544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king blood to the tissues and bac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erio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Va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247760" y="1219320"/>
            <a:ext cx="6648480" cy="5094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477120" y="60199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Vessels: Anatom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190520"/>
            <a:ext cx="824544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layers (tunic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nic inti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nic med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led by sympathetic nervou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nic exte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ly fibrous connective tiss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ifferences  Between Blood Vessel Typ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905120"/>
            <a:ext cx="824544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alls of arteries are the thicke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mens of veins are lar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keletal muscle “milks” blood in veins toward the hea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alls of capillaries are only one cell  layer thick to allow for exchanges between blood and tiss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ovement of Blood Through Vessel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2381400"/>
            <a:ext cx="472464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arterial blood is pumped by the hea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ins use the milking action  of muscles to help move bl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5410080" y="1219320"/>
            <a:ext cx="3327480" cy="5257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19720" y="609588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pillary Bed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057400"/>
            <a:ext cx="426744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pillary beds consist of two types of vess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scular shunt – directly connects an arteriole to a ven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921200" y="685800"/>
            <a:ext cx="3967200" cy="5638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915080" y="6400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pillary Bed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76520"/>
            <a:ext cx="42674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e capillaries – exchange vess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 and nutrients cross to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bon dioxide and metabolic waste products cross into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921200" y="685800"/>
            <a:ext cx="3967200" cy="563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15080" y="6400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iffusion at Capillary B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295280" y="928800"/>
            <a:ext cx="6553440" cy="554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162920" y="586728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3609"/>
          <a:stretch/>
        </p:blipFill>
        <p:spPr>
          <a:xfrm>
            <a:off x="914400" y="995400"/>
            <a:ext cx="7620120" cy="5343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60199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l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rial pu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iratory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dicate the efficiency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Pul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828800"/>
            <a:ext cx="35816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lse – pressure wave of bl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nitored at “pressure points” where pulse is easily palpa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381560" y="609480"/>
            <a:ext cx="4554360" cy="5784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971800" y="617220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Pressu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447920"/>
            <a:ext cx="824544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surements by health professionals are made on the pressure in large arter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olic – pressure at the peak of ventricular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stolic – pressure when ventricles rel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sure in blood vessels decreases as the distance away from the heart increa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easuring Arterial Blood Pressu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0" r="0" b="4317"/>
          <a:stretch/>
        </p:blipFill>
        <p:spPr>
          <a:xfrm>
            <a:off x="279360" y="1752480"/>
            <a:ext cx="8585280" cy="4046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28600" y="594360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Pressure: Effects of Factor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05120"/>
            <a:ext cx="82454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al fact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nomic nervous system adjustments (sympathetic divis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nal fact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ulation by altering blood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in – hormonal c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Pressure: Effects of Factor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676520"/>
            <a:ext cx="824544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t has a vasodilation eff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 has a vasoconstricting eff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ous substances can cause increases or decrea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Variations in Blood Pressu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285920"/>
            <a:ext cx="824544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uman normal range is varia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0–110 mm Hg systo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–75 mm Hg diasto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 systolic (below 110 mm H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 associated with ill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systolic (above 140 mm H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dangerous if it is chron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overing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00200"/>
            <a:ext cx="824544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icardium – a double serous membr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ceral peri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ietal peri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side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ous fluid fills the space between the layers of pericardi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Heart Wal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219320"/>
            <a:ext cx="861084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lay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the parietal pericar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 tissu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o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cardiac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xternal Heart Anatom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504"/>
          <a:stretch/>
        </p:blipFill>
        <p:spPr>
          <a:xfrm>
            <a:off x="609480" y="1219320"/>
            <a:ext cx="7925040" cy="518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62640" y="640080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hamber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217520"/>
            <a:ext cx="8610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ight and left side act as separate pum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cham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11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ceiving chamb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11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harging chamb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lood Cir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2579760" y="838080"/>
            <a:ext cx="4037040" cy="5639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86080" y="61722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7:22:37Z</dcterms:created>
  <dc:creator>Hawkeye Community College</dc:creator>
  <dc:description/>
  <dc:language>en-US</dc:language>
  <cp:lastModifiedBy>Hawkeye Community College</cp:lastModifiedBy>
  <dcterms:modified xsi:type="dcterms:W3CDTF">2003-02-25T17:01:16Z</dcterms:modified>
  <cp:revision>22</cp:revision>
  <dc:subject/>
  <dc:title>PowerPoint Presentation</dc:title>
</cp:coreProperties>
</file>