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36E-3B15-4AB4-9DB5-26BFAAE36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51AD-9B1B-4E49-B11B-24AD4B22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F7B-2C0A-44AC-9089-0DFA32FA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CC7-A21C-4141-9E28-263488D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66C-BF78-4E4D-84CA-FA04655C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F06-AC33-4A3A-9C0B-11EDC5EB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F179-C5E7-4C27-9195-D0542EAF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01DE-780C-4FCC-96E9-BDC5CC7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29C-B202-4044-8027-263C22DC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699-F9F9-49D3-A861-4155807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E948-5D58-48E9-9ADC-CAE553F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BB69-D22C-4E8D-9AF5-E0E0507F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132C-5CC6-475F-8464-BCA46D7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B05-4419-495E-8C92-C089E10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FED-42ED-4FBD-919C-68869F6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42FA-628F-4436-82D7-2909039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060D-B240-4072-BEEC-89808AE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12CA-81D8-43DD-AE0F-86F6A142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BFA6-4C54-476F-95C9-9E029828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5CF1-BC17-4EBF-81B4-DF4E4636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6F6C-48B1-4616-8BD5-8B186FD2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47C7-6656-402C-A74D-C0918CF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8AF9-514D-4DE9-AD9F-070712A9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6518-EE47-480C-914D-222A8D59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0FA-9B4E-498D-9A2E-6D00FBA4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082DA-1576-4F78-A41B-91CF964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1643-5DD3-47F3-9D15-8E434F04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97CC-2BE9-4AF6-8335-37B08A3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0BB5-6856-43A2-8883-AECD171E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9998-A73B-4140-BE28-FEEA6FA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CD6B-A29E-489A-B918-C876F35F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997E-195B-4D5F-AE50-EC4610AC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7FCF-BF6A-4794-9010-30214007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B2B1-9D74-473E-B221-F909D8F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C3AE-CDCA-4ED3-8379-B5FAD58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A79-BD85-460A-BDAD-2BF5585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3C85-7B62-4153-B5F3-4F7613E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3D98-DA6A-4C51-97B9-E7E9A6A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CEB0-095A-4B81-83DB-6822FDFE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E6FF-BDCF-45C3-B416-6822F22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B7F1-6ADC-43F5-9A22-73892C4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9A49-444D-4479-839A-D809681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AAA2-EEEC-4FF9-A084-E2E9A9DB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868C-85A8-4A07-A518-B5AC682D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A894-6202-42E4-8607-2DFE1158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0FE-AF21-4752-AA89-5736A09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ACD-71D1-4646-AD6E-74AAC97D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F7F-8453-44D0-AAD1-D23C3BA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2B1-38B0-498B-9286-405588E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45B-E6B0-4AC2-A69F-FD6908A6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CC2E-B73B-4AE0-B99E-C411D4087AAF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CF51-E0B4-4E73-81AC-98890478084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9B0-1D3C-4BB1-9E93-BD7CD5005CB9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A52-B389-427C-A335-7250E218F88E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171-EA16-4ACA-B5FB-3BBD60A8712A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C35-2727-4277-882D-7264140851B3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03E-DF83-49BE-8FAD-C9F173ABA3F5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291A-3034-4B5F-9B5E-60398132FB4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حاسبة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حادي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ضبط وقت الموظف أو العامل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95480" y="2041200"/>
            <a:ext cx="67500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ن الوسائل التي تستخدم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ورقة و قلم رصاص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سجل يكتب به أسماء الموظفين و العمال وقت الدخول و وقت الخروج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آلة ضبط الوقت (ساعة + بطاقات بأسماء من يعمل من الموظفين + البصمة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طوات الأساسية لإعداد بند الرواتب و الأجور</a:t>
            </a:r>
            <a:r>
              <a:rPr b="1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Diagram 3" descr=""/>
          <p:cNvPicPr/>
          <p:nvPr/>
        </p:nvPicPr>
        <p:blipFill>
          <a:blip r:embed="rId1"/>
          <a:stretch/>
        </p:blipFill>
        <p:spPr>
          <a:xfrm>
            <a:off x="871560" y="1731960"/>
            <a:ext cx="7192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سير الرواتب والأجور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Flowchart: Card 3"/>
          <p:cNvSpPr/>
          <p:nvPr/>
        </p:nvSpPr>
        <p:spPr>
          <a:xfrm>
            <a:off x="2544840" y="2292480"/>
            <a:ext cx="4213080" cy="1952640"/>
          </a:xfrm>
          <a:prstGeom prst="flowChartPunchedCard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” </a:t>
            </a:r>
            <a:r>
              <a:rPr b="1" lang="ar-SA" sz="2800" spc="-1" strike="noStrike">
                <a:solidFill>
                  <a:srgbClr val="354675"/>
                </a:solidFill>
                <a:latin typeface="Franklin Gothic Book"/>
                <a:cs typeface="Arial"/>
              </a:rPr>
              <a:t>هو كشف أو بيان تفصيلي لمعلومات تخص راتب كل موظف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able 1" descr=""/>
          <p:cNvPicPr/>
          <p:nvPr/>
        </p:nvPicPr>
        <p:blipFill>
          <a:blip r:embed="rId1"/>
          <a:stretch/>
        </p:blipFill>
        <p:spPr>
          <a:xfrm>
            <a:off x="792000" y="1384200"/>
            <a:ext cx="7613640" cy="3827520"/>
          </a:xfrm>
          <a:prstGeom prst="rect">
            <a:avLst/>
          </a:prstGeom>
          <a:ln w="0">
            <a:noFill/>
          </a:ln>
        </p:spPr>
      </p:pic>
      <p:cxnSp>
        <p:nvCxnSpPr>
          <p:cNvPr id="268" name="Straight Arrow Connector 10"/>
          <p:cNvCxnSpPr/>
          <p:nvPr/>
        </p:nvCxnSpPr>
        <p:spPr>
          <a:xfrm flipV="1">
            <a:off x="7513200" y="1151640"/>
            <a:ext cx="134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1"/>
          <p:cNvCxnSpPr/>
          <p:nvPr/>
        </p:nvCxnSpPr>
        <p:spPr>
          <a:xfrm flipH="1" flipV="1">
            <a:off x="7798680" y="1151640"/>
            <a:ext cx="1530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0" name="Straight Connector 15"/>
          <p:cNvSpPr/>
          <p:nvPr/>
        </p:nvSpPr>
        <p:spPr>
          <a:xfrm>
            <a:off x="5684760" y="1152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1" name="Straight Arrow Connector 17"/>
          <p:cNvCxnSpPr/>
          <p:nvPr/>
        </p:nvCxnSpPr>
        <p:spPr>
          <a:xfrm>
            <a:off x="568440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Straight Arrow Connector 19"/>
          <p:cNvCxnSpPr/>
          <p:nvPr/>
        </p:nvCxnSpPr>
        <p:spPr>
          <a:xfrm>
            <a:off x="722268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Straight Connector 21"/>
          <p:cNvSpPr/>
          <p:nvPr/>
        </p:nvSpPr>
        <p:spPr>
          <a:xfrm>
            <a:off x="3895560" y="1152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4" name="Straight Arrow Connector 23"/>
          <p:cNvCxnSpPr/>
          <p:nvPr/>
        </p:nvCxnSpPr>
        <p:spPr>
          <a:xfrm flipV="1">
            <a:off x="3895200" y="115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Straight Arrow Connector 26"/>
          <p:cNvCxnSpPr/>
          <p:nvPr/>
        </p:nvCxnSpPr>
        <p:spPr>
          <a:xfrm>
            <a:off x="490356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Straight Connector 28"/>
          <p:cNvSpPr/>
          <p:nvPr/>
        </p:nvSpPr>
        <p:spPr>
          <a:xfrm>
            <a:off x="2664000" y="115236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7" name="Straight Arrow Connector 30"/>
          <p:cNvCxnSpPr/>
          <p:nvPr/>
        </p:nvCxnSpPr>
        <p:spPr>
          <a:xfrm>
            <a:off x="266364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32"/>
          <p:cNvCxnSpPr/>
          <p:nvPr/>
        </p:nvCxnSpPr>
        <p:spPr>
          <a:xfrm>
            <a:off x="366984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Oval 8"/>
          <p:cNvSpPr/>
          <p:nvPr/>
        </p:nvSpPr>
        <p:spPr>
          <a:xfrm flipH="1">
            <a:off x="74192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Oval 8"/>
          <p:cNvSpPr/>
          <p:nvPr/>
        </p:nvSpPr>
        <p:spPr>
          <a:xfrm flipH="1">
            <a:off x="613980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Oval 8"/>
          <p:cNvSpPr/>
          <p:nvPr/>
        </p:nvSpPr>
        <p:spPr>
          <a:xfrm flipH="1">
            <a:off x="4903200" y="92700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Oval 8"/>
          <p:cNvSpPr/>
          <p:nvPr/>
        </p:nvSpPr>
        <p:spPr>
          <a:xfrm flipH="1">
            <a:off x="40856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Oval 8"/>
          <p:cNvSpPr/>
          <p:nvPr/>
        </p:nvSpPr>
        <p:spPr>
          <a:xfrm flipH="1">
            <a:off x="289332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Oval 8"/>
          <p:cNvSpPr/>
          <p:nvPr/>
        </p:nvSpPr>
        <p:spPr>
          <a:xfrm flipH="1">
            <a:off x="1927080" y="927000"/>
            <a:ext cx="53208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Oval 8"/>
          <p:cNvSpPr/>
          <p:nvPr/>
        </p:nvSpPr>
        <p:spPr>
          <a:xfrm flipH="1">
            <a:off x="1144440" y="927000"/>
            <a:ext cx="53208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Rectangle 55"/>
          <p:cNvSpPr/>
          <p:nvPr/>
        </p:nvSpPr>
        <p:spPr>
          <a:xfrm>
            <a:off x="2448000" y="5538960"/>
            <a:ext cx="1955880" cy="344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انب الدائن في القي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87" name="Straight Arrow Connector 58"/>
          <p:cNvCxnSpPr>
            <a:stCxn id="286" idx="0"/>
          </p:cNvCxnSpPr>
          <p:nvPr/>
        </p:nvCxnSpPr>
        <p:spPr>
          <a:xfrm flipV="1">
            <a:off x="3425400" y="5141160"/>
            <a:ext cx="24480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Straight Arrow Connector 59"/>
          <p:cNvCxnSpPr>
            <a:stCxn id="286" idx="0"/>
          </p:cNvCxnSpPr>
          <p:nvPr/>
        </p:nvCxnSpPr>
        <p:spPr>
          <a:xfrm flipV="1">
            <a:off x="3425400" y="5141160"/>
            <a:ext cx="10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61"/>
          <p:cNvCxnSpPr>
            <a:stCxn id="286" idx="0"/>
          </p:cNvCxnSpPr>
          <p:nvPr/>
        </p:nvCxnSpPr>
        <p:spPr>
          <a:xfrm flipH="1" flipV="1">
            <a:off x="3138120" y="5095080"/>
            <a:ext cx="28800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63"/>
          <p:cNvCxnSpPr>
            <a:stCxn id="286" idx="0"/>
          </p:cNvCxnSpPr>
          <p:nvPr/>
        </p:nvCxnSpPr>
        <p:spPr>
          <a:xfrm flipH="1" flipV="1">
            <a:off x="2447640" y="5095080"/>
            <a:ext cx="97848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8"/>
          <p:cNvSpPr/>
          <p:nvPr/>
        </p:nvSpPr>
        <p:spPr>
          <a:xfrm flipH="1">
            <a:off x="74192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Oval 8"/>
          <p:cNvSpPr/>
          <p:nvPr/>
        </p:nvSpPr>
        <p:spPr>
          <a:xfrm flipH="1">
            <a:off x="7419240" y="124452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Oval 8"/>
          <p:cNvSpPr/>
          <p:nvPr/>
        </p:nvSpPr>
        <p:spPr>
          <a:xfrm flipH="1">
            <a:off x="7419240" y="190656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Oval 8"/>
          <p:cNvSpPr/>
          <p:nvPr/>
        </p:nvSpPr>
        <p:spPr>
          <a:xfrm flipH="1">
            <a:off x="7419240" y="254484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Oval 8"/>
          <p:cNvSpPr/>
          <p:nvPr/>
        </p:nvSpPr>
        <p:spPr>
          <a:xfrm flipH="1">
            <a:off x="7419240" y="397044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Oval 8"/>
          <p:cNvSpPr/>
          <p:nvPr/>
        </p:nvSpPr>
        <p:spPr>
          <a:xfrm flipH="1">
            <a:off x="7419240" y="460224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Oval 8"/>
          <p:cNvSpPr/>
          <p:nvPr/>
        </p:nvSpPr>
        <p:spPr>
          <a:xfrm flipH="1">
            <a:off x="7419240" y="550872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800280" y="1703160"/>
            <a:ext cx="661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جمع الساعات العادية التي عملها الموظف في خانة ، ثم تضاف ساعات العمل الإضافية فقط في الخانة الثانية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-1724040" y="234972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جمالي استحقاق الموظف وذلك عن طريق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675"/>
                </a:solidFill>
                <a:latin typeface="Traditional Arabic"/>
                <a:cs typeface="Traditional Arabic"/>
              </a:rPr>
              <a:t>معدل أجر الساعة العادية × مجموع عدد الساعات العادي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685800" y="2681640"/>
            <a:ext cx="6734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675"/>
                </a:solidFill>
                <a:latin typeface="Traditional Arabic"/>
                <a:cs typeface="Traditional Arabic"/>
              </a:rPr>
              <a:t>معدل أجر الساعة الإضافية × مجموع عدد الساعات الإضافية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إذا لم يذكر في السؤال  معدل أجر الساعة الإضافية بالتالي تحسب معدل الساعة الإضافية </a:t>
            </a:r>
            <a:r>
              <a:rPr b="1" lang="ar-SA" sz="2000" spc="-1" strike="noStrike">
                <a:solidFill>
                  <a:srgbClr val="aa2b1e"/>
                </a:solidFill>
                <a:latin typeface="Traditional Arabic"/>
                <a:ea typeface="Traditional Arabic"/>
              </a:rPr>
              <a:t>150</a:t>
            </a:r>
            <a:r>
              <a:rPr b="1" lang="ar-SA" sz="2000" spc="-1" strike="noStrike">
                <a:solidFill>
                  <a:srgbClr val="aa2b1e"/>
                </a:solidFill>
                <a:latin typeface="Traditional Arabic"/>
                <a:ea typeface="Traditional Arabic"/>
              </a:rPr>
              <a:t>%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 أجر الساعة العادية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5191200" y="700200"/>
            <a:ext cx="21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ضع بها بيانات الموظ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2219040" y="1297080"/>
            <a:ext cx="64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وضع أيام الأسبوع السبعة بما فيها الجمعة والسبت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976320" y="3956040"/>
            <a:ext cx="64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ظهر إجمالي  الحسميات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}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ها قسط التأمينات الاجتماعية ، الحسميات المتكررة ، أخرى ( الحسميات الغير متكررة)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976320" y="4664160"/>
            <a:ext cx="64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صافي استحقاق الموظف (المبلغ المدفوع) =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اصل طرح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جمالي استحقاق 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- إجمالي  الحسميات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156040" y="5510160"/>
            <a:ext cx="65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قسم الجانب المدين إلى أنواع المصاريف الرئيسية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لخص مسير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95480" y="1855800"/>
          <a:ext cx="6964200" cy="3203640"/>
        </p:xfrm>
        <a:graphic>
          <a:graphicData uri="http://schemas.openxmlformats.org/drawingml/2006/table">
            <a:tbl>
              <a:tblPr/>
              <a:tblGrid>
                <a:gridCol w="3481200"/>
                <a:gridCol w="3483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ستحقاق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قسط التأمينات الاجتماعية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الأجر العادي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معدل أجر الساعة العادية × مجموع عدد الساعات العادي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متكرر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غير متكرر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الأجر الإضافي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معدل أجر الساعة الإضافية × مجموع عدد الساعات الإضافية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9" name="مستطيل 5"/>
          <p:cNvSpPr/>
          <p:nvPr/>
        </p:nvSpPr>
        <p:spPr>
          <a:xfrm>
            <a:off x="782640" y="5129280"/>
            <a:ext cx="7529400" cy="703800"/>
          </a:xfrm>
          <a:prstGeom prst="rect">
            <a:avLst/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صافي استحقاق الموظف (المبلغ المدفوع) = استحقاقات الموظف – حسميات الموظ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مستطيل 4"/>
          <p:cNvSpPr/>
          <p:nvPr/>
        </p:nvSpPr>
        <p:spPr>
          <a:xfrm>
            <a:off x="882720" y="552924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لاحظة: (إذا لم يذكر في السؤال  معدل أجر الساعة الإضافية بالتالي تحسب معدل الساعة الإضافية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% من أجر الساعة العادي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95120" y="1669680"/>
            <a:ext cx="70786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ليك البيانات المستخرجه من سجلات شركة صدق عن شهر رجب من العام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43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ل موظف يتبرع بمبلغ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ريال لأسر شهداء فلسطين 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Arial"/>
                <a:cs typeface="Arial"/>
              </a:rPr>
              <a:t>المطلوب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Arial"/>
                <a:cs typeface="Arial"/>
              </a:rPr>
              <a:t>إعداد مسير الرواتب عن شهر رجب 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726840"/>
            <a:ext cx="696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مثال على مسير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95480" y="2106720"/>
          <a:ext cx="7078680" cy="1868400"/>
        </p:xfrm>
        <a:graphic>
          <a:graphicData uri="http://schemas.openxmlformats.org/drawingml/2006/table">
            <a:tbl>
              <a:tblPr/>
              <a:tblGrid>
                <a:gridCol w="1049400"/>
                <a:gridCol w="1188720"/>
                <a:gridCol w="1768680"/>
                <a:gridCol w="1573200"/>
                <a:gridCol w="149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جز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سل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راتب الإضاف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راتب الشهر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سم الموظ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فه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زي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سع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حــــــــــل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عنصر نائب للمحتوى 6" descr=""/>
          <p:cNvPicPr/>
          <p:nvPr/>
        </p:nvPicPr>
        <p:blipFill>
          <a:blip r:embed="rId1"/>
          <a:stretch/>
        </p:blipFill>
        <p:spPr>
          <a:xfrm>
            <a:off x="853920" y="1347840"/>
            <a:ext cx="754092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ـا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040" y="1855440"/>
            <a:ext cx="7327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عمل كل من سلطان، زياد، عبد الله كمستخدمين في شركة الربيع وجميعهم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سعوديون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 إليك بيانات خاصة بكل موظف علما بأنهم وجميعهم من مندوبي البيع بالشرك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- </a:t>
            </a: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حساب صافي استحقاقات الموظفين 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ea typeface="Arial"/>
              </a:rPr>
              <a:t>2</a:t>
            </a: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ea typeface="Arial"/>
              </a:rPr>
              <a:t>- حساب نصيب صاحب العمل للتأمينات الاجتماعية وما يورد لحساب التامينات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95480" y="3193920"/>
          <a:ext cx="6964200" cy="1935360"/>
        </p:xfrm>
        <a:graphic>
          <a:graphicData uri="http://schemas.openxmlformats.org/drawingml/2006/table">
            <a:tbl>
              <a:tblPr/>
              <a:tblGrid>
                <a:gridCol w="1741320"/>
                <a:gridCol w="1741680"/>
                <a:gridCol w="1739880"/>
                <a:gridCol w="17413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عبد ال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زي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لط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ب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راتب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وقت الإضا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 (استرداداً لسلفة  سبق حصوله عليها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( نفقه شرعية لزوجت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خصم الشركة من راتبه شهري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ـــــــ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95120" y="1815840"/>
            <a:ext cx="6964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[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,000+1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[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00+3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+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9%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×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=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0+144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=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94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= 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14060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378080" y="1816200"/>
            <a:ext cx="6242040" cy="911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1378080" y="1667160"/>
            <a:ext cx="62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صافي الاستحقاقات = إجمالي الاستحقاق – إجمالي الحسميات ( بما فيها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صة العامل السعودي في التأمينات الاجتماعية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% من الراتب الأساسي + بدل غلاء المعيشة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raditional Arabic"/>
                <a:ea typeface="Traditional Arabic"/>
              </a:rPr>
              <a:t> فقط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Oval 5"/>
          <p:cNvSpPr/>
          <p:nvPr/>
        </p:nvSpPr>
        <p:spPr>
          <a:xfrm>
            <a:off x="5964120" y="2727360"/>
            <a:ext cx="209556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سلطان الأساسي والأضافي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4572000" y="2727360"/>
            <a:ext cx="102060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زيا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3273480" y="2727360"/>
            <a:ext cx="104616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عبدالله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1378080" y="2862360"/>
            <a:ext cx="1444320" cy="676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جميع الحسميات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Right Arrow 9"/>
          <p:cNvSpPr/>
          <p:nvPr/>
        </p:nvSpPr>
        <p:spPr>
          <a:xfrm>
            <a:off x="1563840" y="3929040"/>
            <a:ext cx="3870000" cy="56376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رواتب ×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9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% ( قسط التامينات 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فهوم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5120" y="1908000"/>
            <a:ext cx="6964200" cy="32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صاريف الرواتب والأجور: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يحمل إيراد السنة من مصاريف مقابل الحصول على الخدمة التي قدمت للمنشأة في شكل عمل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lnSpc>
                <a:spcPct val="10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جميع ما يصرف للعامل أو الموظف في شكل نقدي أو عيني مقابل تأديته العمل للمنشأة ، وما تتحمله المنشأة من نفقات في سبيل الحصول على العمل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ـــــ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Content Placeholder 4" descr=""/>
          <p:cNvPicPr/>
          <p:nvPr/>
        </p:nvPicPr>
        <p:blipFill>
          <a:blip r:embed="rId1"/>
          <a:stretch/>
        </p:blipFill>
        <p:spPr>
          <a:xfrm>
            <a:off x="1432080" y="1590840"/>
            <a:ext cx="6248160" cy="19936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0"/>
          <p:cNvSpPr/>
          <p:nvPr/>
        </p:nvSpPr>
        <p:spPr>
          <a:xfrm>
            <a:off x="1463760" y="3763800"/>
            <a:ext cx="619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بذلك مستحقات المؤسسة العامة للتأمينات الشهري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-658440" y="4156560"/>
            <a:ext cx="1009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= حصة العامل السعودي في التأمينات الاجتماعية+ حصة صاحب العمل في التأمينات الاجتماعي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35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يال +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6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0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300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يال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الات خاص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94880" y="1709280"/>
            <a:ext cx="7580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إذا بقى شيء من الرواتب و الأجور لم يستلمها أصحابها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34" name="Elbow Connector 4"/>
          <p:cNvCxnSpPr/>
          <p:nvPr/>
        </p:nvCxnSpPr>
        <p:spPr>
          <a:xfrm flipH="1" rot="16200000">
            <a:off x="5823720" y="2246760"/>
            <a:ext cx="704160" cy="63576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Elbow Connector 13"/>
          <p:cNvCxnSpPr/>
          <p:nvPr/>
        </p:nvCxnSpPr>
        <p:spPr>
          <a:xfrm rot="5400000">
            <a:off x="2477520" y="2298600"/>
            <a:ext cx="662760" cy="4910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Rectangle 16"/>
          <p:cNvSpPr/>
          <p:nvPr/>
        </p:nvSpPr>
        <p:spPr>
          <a:xfrm>
            <a:off x="4599000" y="2916360"/>
            <a:ext cx="3460680" cy="1152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أن يظهر اسم الموظف أو العامل ضمن مسير الرواتب و الأجور و يظهر استحقاقه ضمن جملة استحقاق الموظفين و العمال . إلا انه تأخر عن استلام صافي استحقاقه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853920" y="2916360"/>
            <a:ext cx="3200400" cy="132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795240" y="2646360"/>
            <a:ext cx="32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لا يظهر اسم الموظف أو العامل ضمن مسير الرواتب و الأجور رغم  استحقاقه للراتب أو الأجر ( لاسباب إدارية كأن يكون الموظف في سفر أو إجازة...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39" name="Elbow Connector 19"/>
          <p:cNvCxnSpPr/>
          <p:nvPr/>
        </p:nvCxnSpPr>
        <p:spPr>
          <a:xfrm flipH="1" rot="16200000">
            <a:off x="6917400" y="4100760"/>
            <a:ext cx="702360" cy="637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Elbow Connector 20"/>
          <p:cNvCxnSpPr/>
          <p:nvPr/>
        </p:nvCxnSpPr>
        <p:spPr>
          <a:xfrm rot="5400000">
            <a:off x="5525280" y="4154040"/>
            <a:ext cx="662760" cy="4914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Rectangle 21"/>
          <p:cNvSpPr/>
          <p:nvPr/>
        </p:nvSpPr>
        <p:spPr>
          <a:xfrm>
            <a:off x="6294600" y="4770360"/>
            <a:ext cx="2081160" cy="144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6102360" y="4412160"/>
            <a:ext cx="227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</a:t>
            </a: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ندما يبقى شيء من رواتب الموظفين أو أجور العمال لم يستلمه أصحابه فانه يعاد إلى الخزينة من مأمور الصرف و يتم الاحتفاظ به لصاحب الحق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3830760" y="4770360"/>
            <a:ext cx="2027160" cy="144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أن يتم الصرف لكل موظف أو عامل من خزينة المنشأة ( لا يوسط مأمور الصرف 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44" name="Straight Arrow Connector 25"/>
          <p:cNvCxnSpPr/>
          <p:nvPr/>
        </p:nvCxnSpPr>
        <p:spPr>
          <a:xfrm>
            <a:off x="2563560" y="4240080"/>
            <a:ext cx="1080" cy="29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Rectangle 26"/>
          <p:cNvSpPr/>
          <p:nvPr/>
        </p:nvSpPr>
        <p:spPr>
          <a:xfrm>
            <a:off x="1095480" y="4730760"/>
            <a:ext cx="1958760" cy="1127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عمل قيد منفصل للعامل الذي لم يدرج اسمه في الكش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الات خاص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95120" y="2119320"/>
            <a:ext cx="6964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ثــال للحالة الأولى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لنفرض أن رائد جلال  لم يستلم صافي استحقاقه(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2500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ريال) في حينه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يكون القيد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بن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إلى ح/ رواتب و أجور مستحق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 إذا تقدم ماهر جلال لقبض صافي استحقاقه ( نعكس القيد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رواتب و أجور مستحق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إلى ح/ البن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كافأة نهاية الخد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61480" y="1815840"/>
            <a:ext cx="738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دفع إذا انتهت مدة العقد المحدد ، أو كان الفسخ من قبل صاحب العمل في العقود الغير محدد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2016"/>
                </a:solidFill>
                <a:latin typeface="Arial"/>
                <a:cs typeface="Arial"/>
              </a:rPr>
              <a:t>تحسب على أساس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رتب نصف شهر عن كل سن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cs typeface="Arial"/>
              </a:rPr>
              <a:t>إذا لم تتجاوز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دة الخدم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خمس سنوات عمل أو أقل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رتب شهر كامل عن كل سن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cs typeface="Arial"/>
              </a:rPr>
              <a:t>إذا تجاوزت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دة الخدمة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سنوات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أكثر من خمس سنوات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تخذ الأجر الأخير أساس لحساب المكافأ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مستطيل 3"/>
          <p:cNvSpPr/>
          <p:nvPr/>
        </p:nvSpPr>
        <p:spPr>
          <a:xfrm>
            <a:off x="1095480" y="3708360"/>
            <a:ext cx="4081320" cy="48096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دد السنوات  × [ الراتب الأخير ×½] × عدد الع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مستطيل 4"/>
          <p:cNvSpPr/>
          <p:nvPr/>
        </p:nvSpPr>
        <p:spPr>
          <a:xfrm>
            <a:off x="1811160" y="4943520"/>
            <a:ext cx="4081680" cy="39852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سنوات × [ الراتب الأخير×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× عدد الع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ـلاحـظا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تحسب مكافأة نهاية الخدمة للموظف السعودي و الغير سعودي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لحساب مكافأة نهاية الخدمة لابد من تحديد 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عاملين الذين قدمو استقالتهم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راتب الأخير=××××× 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دة الخدمة=×××× سنو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ا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95120" y="1841040"/>
            <a:ext cx="696420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فرض أن أحد العمال عمل لمدة سنتين و نصف و كان آخر راتب تقضاه يبلغ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كم مكافأة نهاية الخدمة 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Arial"/>
                <a:cs typeface="Arial"/>
              </a:rPr>
              <a:t>الحــــــــ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ما أن عدد سنوات التعويض اقل من خمس سنوات فإن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كافأة نهاية الخدمه = </a:t>
            </a:r>
            <a:r>
              <a:rPr b="1" lang="ar-SA" sz="2400" spc="-1" strike="noStrike">
                <a:solidFill>
                  <a:srgbClr val="40749b"/>
                </a:solidFill>
                <a:latin typeface="Arial"/>
                <a:cs typeface="Arial"/>
              </a:rPr>
              <a:t>عدد السنوات  × [ الراتب ×½] × عدد العم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×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500/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 ×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312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ـال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95120" y="1855440"/>
            <a:ext cx="69642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فرض أن أحد العمال عمل لمدة سبع سنوات و ربع و كان آخر راتب تقضاه يبلغ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كم مكافأة نهاية الخدمة 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حــل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ما أن عدد سنوات التعويض أكثر من خمس سنوات فإ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كافأة نهاية الخدمة =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مس سنوات ×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[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+ (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نتين و ربع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[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)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25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62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187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إظهار مكافأة نهاية الخدمة في قائمة المركز المالي</a:t>
            </a:r>
            <a:r>
              <a:rPr b="0" lang="ar-SA" sz="4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مثل مخصص مكافاة نهاية الخدمة التزما على المنشأة غير محدد بزمن يظهر ضمن 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التزامات طويلة الاجل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في قائمة المركز المالي .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ذا اتضح أن جزءا من الالتزام بدفع مكافاة نهاية الخدمة سيتم خلال أقل من سنه فإن ذلك الجزء يظهر ضمن 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تزامات قصيرة الاج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فرق بين الرواتب والاجور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95480" y="2306520"/>
          <a:ext cx="6964200" cy="2835360"/>
        </p:xfrm>
        <a:graphic>
          <a:graphicData uri="http://schemas.openxmlformats.org/drawingml/2006/table">
            <a:tbl>
              <a:tblPr/>
              <a:tblGrid>
                <a:gridCol w="2320920"/>
                <a:gridCol w="2322360"/>
                <a:gridCol w="232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7f2016"/>
                          </a:solidFill>
                          <a:latin typeface="Franklin Gothic Book"/>
                          <a:cs typeface="Arial"/>
                        </a:rPr>
                        <a:t>الأجـــو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7f2016"/>
                          </a:solidFill>
                          <a:latin typeface="Franklin Gothic Book"/>
                          <a:cs typeface="Arial"/>
                        </a:rPr>
                        <a:t>الـــروا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ا يدفع لمن يعمل في المنشأة بصفة مؤقتة (العمال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ا يدفع لمن يعمل في المنشأة بصفة دائمة (الموظف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المفهوم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تدفع كل أسبوع ( و تحسب على أساس ساعات العمل أو على أساس القطعة المنتج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غالباً تدفع على أساس شه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طريقة 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ايتضمنه بند الرواتب والأجور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5480" y="1841400"/>
            <a:ext cx="71611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تضمن ما يصرف للعامل أو الموظف في شكل نقدي أو عيني مقابل تأدية العمل للمنشأة  و ما تتحمله المنشأة من نفقات في سبيل الحصول على العم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ويشمل ما يلي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ounded Rectangle 3"/>
          <p:cNvSpPr/>
          <p:nvPr/>
        </p:nvSpPr>
        <p:spPr>
          <a:xfrm>
            <a:off x="1095480" y="3525840"/>
            <a:ext cx="69642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914400" y="3229920"/>
            <a:ext cx="714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تب الأساسي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}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ميع البدلات (مثل بدل السكن ، بدل النقل، بدل غلاء المعيشة...).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صة صاحب العمل من التأمينات الاجتماعية ( سواء كان للمساهمة في المعاش  التقاعدي أو التعويض من  الأضرار التي تصيب العامل أثناء العمل)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بلغ مكافئة نهاية الخدم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--------------------------------   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</a:t>
            </a:r>
            <a:r>
              <a:rPr b="1" lang="en-US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= </a:t>
            </a:r>
            <a:r>
              <a:rPr b="1" lang="ar-SA" sz="20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إجمـــــــــــــــــــــــالــــــــــي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تب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ا يخصم من بند الرواتب والأجو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( الحسميات )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1311120" y="2517840"/>
            <a:ext cx="6481800" cy="23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311120" y="2298960"/>
            <a:ext cx="6481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7f2016"/>
              </a:buClr>
              <a:buFont typeface="Traditional Arabic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9%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ن راتب الموظف السعودي (قسط التأمينات الاجتماعية)  (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raditional Arabic"/>
                <a:cs typeface="Traditional Arabic"/>
              </a:rPr>
              <a:t>دائما تحسم طلما الموظف سعودي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buClr>
                <a:srgbClr val="7f2016"/>
              </a:buClr>
              <a:buFont typeface="Franklin Gothic Book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lnSpc>
                <a:spcPct val="100000"/>
              </a:lnSpc>
              <a:buClr>
                <a:srgbClr val="7f2016"/>
              </a:buClr>
              <a:buFont typeface="Traditional Arabic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سميات أخرى (أقساط، اشتراكات ، غرامات، سلف .....)    تختلف من شركة لشركة أخر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311120" y="1935000"/>
            <a:ext cx="6653520" cy="194796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صافي الراتب = مجمل الراتب – إجمالي الحسميات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127160" y="941040"/>
            <a:ext cx="714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ان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صافي الراتب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27160" y="1590840"/>
          <a:ext cx="7145280" cy="4041720"/>
        </p:xfrm>
        <a:graphic>
          <a:graphicData uri="http://schemas.openxmlformats.org/drawingml/2006/table">
            <a:tbl>
              <a:tblPr/>
              <a:tblGrid>
                <a:gridCol w="3260520"/>
                <a:gridCol w="3884760"/>
              </a:tblGrid>
              <a:tr h="43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الراتب الأساس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يخصم منه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يضاف إليه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%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من راتب الموظف للسعودي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(قسط التأمينات الاجتماع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جميع البدلا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مثل بدل السكن ، بدل النقل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</a:tr>
              <a:tr h="1222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ي حسميات أخرى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(أقساط، اشتراكات ، غرامات، سلف .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صاحب العمل من التأمينات الاجتماعي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 سواء كان للمساهمة في المعاش التقاعدي أو التعويض من  الأضرار التي تصيب العامل أثناء العم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بلغ مكافئة نهاية الخد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</a:tr>
              <a:tr h="65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ي نفقات أخرى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 نفقات التعليم ، الرعاية الصحية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نظام التأمينات الأجتماعية في المملكة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Diagram 6" descr=""/>
          <p:cNvPicPr/>
          <p:nvPr/>
        </p:nvPicPr>
        <p:blipFill>
          <a:blip r:embed="rId1"/>
          <a:stretch/>
        </p:blipFill>
        <p:spPr>
          <a:xfrm>
            <a:off x="1371600" y="1468440"/>
            <a:ext cx="619920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49" name="Straight Arrow Connector 8"/>
          <p:cNvCxnSpPr/>
          <p:nvPr/>
        </p:nvCxnSpPr>
        <p:spPr>
          <a:xfrm>
            <a:off x="6254640" y="4439880"/>
            <a:ext cx="15120" cy="238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Oval 10"/>
          <p:cNvSpPr/>
          <p:nvPr/>
        </p:nvSpPr>
        <p:spPr>
          <a:xfrm>
            <a:off x="5711760" y="4691160"/>
            <a:ext cx="2305080" cy="901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016680" y="4534920"/>
            <a:ext cx="179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9%</a:t>
            </a:r>
            <a:r>
              <a:rPr b="1" lang="ar-SA" sz="16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 استحقاق رواتب الموظفين السعوديين (فقط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Oval 17"/>
          <p:cNvSpPr/>
          <p:nvPr/>
        </p:nvSpPr>
        <p:spPr>
          <a:xfrm>
            <a:off x="3340080" y="4718160"/>
            <a:ext cx="2119320" cy="1060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Oval 18"/>
          <p:cNvSpPr/>
          <p:nvPr/>
        </p:nvSpPr>
        <p:spPr>
          <a:xfrm>
            <a:off x="762120" y="4856040"/>
            <a:ext cx="2352600" cy="1212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340080" y="4549680"/>
            <a:ext cx="202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11%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إجمالي استحقاق رواتب الموظفين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Traditional Arabic"/>
                <a:cs typeface="Traditional Arabic"/>
              </a:rPr>
              <a:t>السعودي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Elbow Connector 24"/>
          <p:cNvCxnSpPr/>
          <p:nvPr/>
        </p:nvCxnSpPr>
        <p:spPr>
          <a:xfrm flipV="1" rot="10800000">
            <a:off x="2331360" y="4452480"/>
            <a:ext cx="491040" cy="46440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Elbow Connector 28"/>
          <p:cNvCxnSpPr/>
          <p:nvPr/>
        </p:nvCxnSpPr>
        <p:spPr>
          <a:xfrm>
            <a:off x="2795760" y="4440240"/>
            <a:ext cx="545040" cy="529200"/>
          </a:xfrm>
          <a:prstGeom prst="bentConnector3">
            <a:avLst>
              <a:gd name="adj1" fmla="val 4996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angle 7"/>
          <p:cNvSpPr/>
          <p:nvPr/>
        </p:nvSpPr>
        <p:spPr>
          <a:xfrm>
            <a:off x="762120" y="4860000"/>
            <a:ext cx="25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2%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إجمالي استحقاق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رواتب الموظفين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Traditional Arabic"/>
                <a:cs typeface="Traditional Arabic"/>
              </a:rPr>
              <a:t>غير السعودي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ular Callout 4"/>
          <p:cNvSpPr/>
          <p:nvPr/>
        </p:nvSpPr>
        <p:spPr>
          <a:xfrm>
            <a:off x="2133720" y="1112760"/>
            <a:ext cx="5778360" cy="155124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1496880" y="1119960"/>
            <a:ext cx="64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7f2016"/>
                </a:solidFill>
                <a:uFillTx/>
                <a:latin typeface="Traditional Arabic"/>
                <a:cs typeface="Traditional Arabic"/>
              </a:rPr>
              <a:t>ملاحظة  هام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ا بد من التمييز بين السعوديين و غير السعوديين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66960" y="3390840"/>
          <a:ext cx="7208640" cy="1676520"/>
        </p:xfrm>
        <a:graphic>
          <a:graphicData uri="http://schemas.openxmlformats.org/drawingml/2006/table">
            <a:tbl>
              <a:tblPr/>
              <a:tblGrid>
                <a:gridCol w="2403360"/>
                <a:gridCol w="2401920"/>
                <a:gridCol w="24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غير سعو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سعو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العامل في التأمينات الاجتماع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 منها أخطا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صاحب العامل في التأمينات الاجتما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3-29T17:34:15Z</dcterms:modified>
  <cp:revision>129</cp:revision>
  <dc:subject/>
  <dc:title>مقدمة في الفكر المحاسبي </dc:title>
</cp:coreProperties>
</file>