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57FD-F6EB-47DF-9A6E-E14827056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F2A-54F1-47B1-A044-EDFAEAD8F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E2D-EE34-409B-BA40-690927EF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5BA-C656-4337-8B5C-41DDDC3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BC5-B57D-4810-B8BA-CDFA6F48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250-08C7-4AE4-822D-29356E7F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F278-C76F-4825-B3D6-4E08436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95A-292C-436E-B33F-760463F7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2E2-5B46-4449-9442-660A80F9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F01-8C2E-43AE-8A0A-44819B0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83C-B503-49AB-8170-9A39945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2FC-E877-47D8-8275-B4D11CD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DE1A-C2A5-4799-8ABB-D607C9C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488-D9A3-4819-BCA9-0ACC587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05D-245F-4A93-8370-430A478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23E-9219-4552-8E9F-2236529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C30-551B-49F9-903C-42DC3B2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7801-D9B2-40B6-8045-BD78045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F068-504A-4B4A-AFD2-A3C3DF4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E7FE-0F26-43C4-B31B-E0F58E97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537A-C76F-46EF-829D-3E07F580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BB35-577F-4550-8899-1A96BF1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C4CA-3B1E-4F3F-9506-8BFCF0D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0B8B-54AF-40E9-BBDF-01E8396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5C3-72A7-491B-964F-34429D4A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300D-A69A-4EED-8D11-3AE3992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3DEC-84A2-47D3-A806-6052FF0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A12D-4EE1-4402-A77E-1E4D31D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1759-13CF-408B-8FA5-53A047CD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9137-ED34-4605-B68D-9C11BD7B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DCEC-0BA4-4DD7-8BD6-90C36754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8953-7E88-4BB2-B8EF-51DCC57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B3A4-D26A-4C03-A9FE-E9A2D3F7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1BE1-359E-43B1-BB08-72B59AE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F1DC-3F2A-4B77-ACE0-172DF24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699-A013-4F3B-AE30-951B572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3594-5681-4133-A82F-34D10AB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89EE-27AB-48AD-AFAC-31DA2759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78AD-3359-4827-A93D-95A16F7E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2244-FF90-4E87-B063-49DCE24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4AB9-A192-43E1-B5EA-F7107EC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4F92-932B-40C4-B77D-113B6FB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B979-DF94-41CF-9004-1BF1134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01EC-FBA1-499D-BF6D-1083C468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6F74-EEE8-49B7-83A3-0FBE4F97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A76-6256-417E-9997-CB8430D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BC2-BBC7-4B42-ACA2-2FB1D50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6DC-9386-48D7-98CA-7994E64F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75F-9B3D-478C-82B3-F2EFF3E4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FEB-286D-4AC1-B076-163A211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5B50-3020-43AA-B565-DCCFFA1A509B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AB4-359D-48A9-B56C-3A92B118F7D1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EF61-45E8-4C24-9ECB-F50401DD7ECE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89B-2729-43CB-B2DB-84C082369F48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A08-12D2-4988-9B47-EFD3B77D0600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722D-CA02-4CC9-8976-136E96FEABC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2F2-1662-44F9-BDCC-F2FC94642AD1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1AC-E382-4433-ACD7-008A4B8D67D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حاسبة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حادي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ضبط وقت الموظف أو العامل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95480" y="2041200"/>
            <a:ext cx="67500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ن الوسائل التي تستخدم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ورقة و قلم رصاص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سجل يكتب به أسماء الموظفين و العمال وقت الدخول و وقت الخروج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آلة ضبط الوقت (ساعة + بطاقات بأسماء من يعمل من الموظفين + البصمة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طوات الأساسية لإعداد بند الرواتب و الأجور</a:t>
            </a:r>
            <a:r>
              <a:rPr b="1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Diagram 3" descr=""/>
          <p:cNvPicPr/>
          <p:nvPr/>
        </p:nvPicPr>
        <p:blipFill>
          <a:blip r:embed="rId1"/>
          <a:stretch/>
        </p:blipFill>
        <p:spPr>
          <a:xfrm>
            <a:off x="871560" y="1731960"/>
            <a:ext cx="7192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سير الرواتب والأجور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Flowchart: Card 3"/>
          <p:cNvSpPr/>
          <p:nvPr/>
        </p:nvSpPr>
        <p:spPr>
          <a:xfrm>
            <a:off x="2544840" y="2292480"/>
            <a:ext cx="4213080" cy="1952640"/>
          </a:xfrm>
          <a:prstGeom prst="flowChartPunchedCard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” </a:t>
            </a:r>
            <a:r>
              <a:rPr b="1" lang="ar-SA" sz="2800" spc="-1" strike="noStrike">
                <a:solidFill>
                  <a:srgbClr val="354675"/>
                </a:solidFill>
                <a:latin typeface="Franklin Gothic Book"/>
                <a:cs typeface="Arial"/>
              </a:rPr>
              <a:t>هو كشف أو بيان تفصيلي لمعلومات تخص راتب كل موظف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able 1" descr=""/>
          <p:cNvPicPr/>
          <p:nvPr/>
        </p:nvPicPr>
        <p:blipFill>
          <a:blip r:embed="rId1"/>
          <a:stretch/>
        </p:blipFill>
        <p:spPr>
          <a:xfrm>
            <a:off x="792000" y="1384200"/>
            <a:ext cx="7613640" cy="3827520"/>
          </a:xfrm>
          <a:prstGeom prst="rect">
            <a:avLst/>
          </a:prstGeom>
          <a:ln w="0">
            <a:noFill/>
          </a:ln>
        </p:spPr>
      </p:pic>
      <p:cxnSp>
        <p:nvCxnSpPr>
          <p:cNvPr id="268" name="Straight Arrow Connector 10"/>
          <p:cNvCxnSpPr/>
          <p:nvPr/>
        </p:nvCxnSpPr>
        <p:spPr>
          <a:xfrm flipV="1">
            <a:off x="7513200" y="1151640"/>
            <a:ext cx="134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1"/>
          <p:cNvCxnSpPr/>
          <p:nvPr/>
        </p:nvCxnSpPr>
        <p:spPr>
          <a:xfrm flipH="1" flipV="1">
            <a:off x="7798680" y="1151640"/>
            <a:ext cx="1530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0" name="Straight Connector 15"/>
          <p:cNvSpPr/>
          <p:nvPr/>
        </p:nvSpPr>
        <p:spPr>
          <a:xfrm>
            <a:off x="5684760" y="1152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1" name="Straight Arrow Connector 17"/>
          <p:cNvCxnSpPr/>
          <p:nvPr/>
        </p:nvCxnSpPr>
        <p:spPr>
          <a:xfrm>
            <a:off x="568440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Straight Arrow Connector 19"/>
          <p:cNvCxnSpPr/>
          <p:nvPr/>
        </p:nvCxnSpPr>
        <p:spPr>
          <a:xfrm>
            <a:off x="722268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Straight Connector 21"/>
          <p:cNvSpPr/>
          <p:nvPr/>
        </p:nvSpPr>
        <p:spPr>
          <a:xfrm>
            <a:off x="3895560" y="1152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4" name="Straight Arrow Connector 23"/>
          <p:cNvCxnSpPr/>
          <p:nvPr/>
        </p:nvCxnSpPr>
        <p:spPr>
          <a:xfrm flipV="1">
            <a:off x="3895200" y="115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Straight Arrow Connector 26"/>
          <p:cNvCxnSpPr/>
          <p:nvPr/>
        </p:nvCxnSpPr>
        <p:spPr>
          <a:xfrm>
            <a:off x="490356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Straight Connector 28"/>
          <p:cNvSpPr/>
          <p:nvPr/>
        </p:nvSpPr>
        <p:spPr>
          <a:xfrm>
            <a:off x="2664000" y="115236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7" name="Straight Arrow Connector 30"/>
          <p:cNvCxnSpPr/>
          <p:nvPr/>
        </p:nvCxnSpPr>
        <p:spPr>
          <a:xfrm>
            <a:off x="266364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32"/>
          <p:cNvCxnSpPr/>
          <p:nvPr/>
        </p:nvCxnSpPr>
        <p:spPr>
          <a:xfrm>
            <a:off x="3669840" y="11520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Oval 8"/>
          <p:cNvSpPr/>
          <p:nvPr/>
        </p:nvSpPr>
        <p:spPr>
          <a:xfrm flipH="1">
            <a:off x="74192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Oval 8"/>
          <p:cNvSpPr/>
          <p:nvPr/>
        </p:nvSpPr>
        <p:spPr>
          <a:xfrm flipH="1">
            <a:off x="613980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Oval 8"/>
          <p:cNvSpPr/>
          <p:nvPr/>
        </p:nvSpPr>
        <p:spPr>
          <a:xfrm flipH="1">
            <a:off x="4903200" y="92700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Oval 8"/>
          <p:cNvSpPr/>
          <p:nvPr/>
        </p:nvSpPr>
        <p:spPr>
          <a:xfrm flipH="1">
            <a:off x="40856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Oval 8"/>
          <p:cNvSpPr/>
          <p:nvPr/>
        </p:nvSpPr>
        <p:spPr>
          <a:xfrm flipH="1">
            <a:off x="289332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Oval 8"/>
          <p:cNvSpPr/>
          <p:nvPr/>
        </p:nvSpPr>
        <p:spPr>
          <a:xfrm flipH="1">
            <a:off x="1927080" y="927000"/>
            <a:ext cx="53208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Oval 8"/>
          <p:cNvSpPr/>
          <p:nvPr/>
        </p:nvSpPr>
        <p:spPr>
          <a:xfrm flipH="1">
            <a:off x="1144440" y="927000"/>
            <a:ext cx="53208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Rectangle 55"/>
          <p:cNvSpPr/>
          <p:nvPr/>
        </p:nvSpPr>
        <p:spPr>
          <a:xfrm>
            <a:off x="2448000" y="5538960"/>
            <a:ext cx="1955880" cy="344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انب الدائن في القي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87" name="Straight Arrow Connector 58"/>
          <p:cNvCxnSpPr>
            <a:stCxn id="286" idx="0"/>
          </p:cNvCxnSpPr>
          <p:nvPr/>
        </p:nvCxnSpPr>
        <p:spPr>
          <a:xfrm flipV="1">
            <a:off x="3425400" y="5141160"/>
            <a:ext cx="24480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Straight Arrow Connector 59"/>
          <p:cNvCxnSpPr>
            <a:stCxn id="286" idx="0"/>
          </p:cNvCxnSpPr>
          <p:nvPr/>
        </p:nvCxnSpPr>
        <p:spPr>
          <a:xfrm flipV="1">
            <a:off x="3425400" y="5141160"/>
            <a:ext cx="108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61"/>
          <p:cNvCxnSpPr>
            <a:stCxn id="286" idx="0"/>
          </p:cNvCxnSpPr>
          <p:nvPr/>
        </p:nvCxnSpPr>
        <p:spPr>
          <a:xfrm flipH="1" flipV="1">
            <a:off x="3138120" y="5095080"/>
            <a:ext cx="28800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63"/>
          <p:cNvCxnSpPr>
            <a:stCxn id="286" idx="0"/>
          </p:cNvCxnSpPr>
          <p:nvPr/>
        </p:nvCxnSpPr>
        <p:spPr>
          <a:xfrm flipH="1" flipV="1">
            <a:off x="2447640" y="5095080"/>
            <a:ext cx="97848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8"/>
          <p:cNvSpPr/>
          <p:nvPr/>
        </p:nvSpPr>
        <p:spPr>
          <a:xfrm flipH="1">
            <a:off x="7419240" y="700200"/>
            <a:ext cx="531720" cy="45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Oval 8"/>
          <p:cNvSpPr/>
          <p:nvPr/>
        </p:nvSpPr>
        <p:spPr>
          <a:xfrm flipH="1">
            <a:off x="7419240" y="124452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Oval 8"/>
          <p:cNvSpPr/>
          <p:nvPr/>
        </p:nvSpPr>
        <p:spPr>
          <a:xfrm flipH="1">
            <a:off x="7419240" y="190656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Oval 8"/>
          <p:cNvSpPr/>
          <p:nvPr/>
        </p:nvSpPr>
        <p:spPr>
          <a:xfrm flipH="1">
            <a:off x="7419240" y="254484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Oval 8"/>
          <p:cNvSpPr/>
          <p:nvPr/>
        </p:nvSpPr>
        <p:spPr>
          <a:xfrm flipH="1">
            <a:off x="7419240" y="397044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Oval 8"/>
          <p:cNvSpPr/>
          <p:nvPr/>
        </p:nvSpPr>
        <p:spPr>
          <a:xfrm flipH="1">
            <a:off x="7419240" y="4602240"/>
            <a:ext cx="531720" cy="453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Oval 8"/>
          <p:cNvSpPr/>
          <p:nvPr/>
        </p:nvSpPr>
        <p:spPr>
          <a:xfrm flipH="1">
            <a:off x="7419240" y="5508720"/>
            <a:ext cx="531720" cy="452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800280" y="1703160"/>
            <a:ext cx="661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جمع الساعات العادية التي عملها الموظف في خانة ، ثم تضاف ساعات العمل الإضافية فقط في الخانة الثانية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-1724040" y="234972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جمالي استحقاق الموظف وذلك عن طريق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675"/>
                </a:solidFill>
                <a:latin typeface="Traditional Arabic"/>
                <a:cs typeface="Traditional Arabic"/>
              </a:rPr>
              <a:t>معدل أجر الساعة العادية × مجموع عدد الساعات العادي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685800" y="2681640"/>
            <a:ext cx="6734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54675"/>
                </a:solidFill>
                <a:latin typeface="Traditional Arabic"/>
                <a:cs typeface="Traditional Arabic"/>
              </a:rPr>
              <a:t>معدل أجر الساعة الإضافية × مجموع عدد الساعات الإضافية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إذا لم يذكر في السؤال  معدل أجر الساعة الإضافية بالتالي تحسب معدل الساعة الإضافية </a:t>
            </a:r>
            <a:r>
              <a:rPr b="1" lang="ar-SA" sz="2000" spc="-1" strike="noStrike">
                <a:solidFill>
                  <a:srgbClr val="aa2b1e"/>
                </a:solidFill>
                <a:latin typeface="Traditional Arabic"/>
                <a:ea typeface="Traditional Arabic"/>
              </a:rPr>
              <a:t>150</a:t>
            </a:r>
            <a:r>
              <a:rPr b="1" lang="ar-SA" sz="2000" spc="-1" strike="noStrike">
                <a:solidFill>
                  <a:srgbClr val="aa2b1e"/>
                </a:solidFill>
                <a:latin typeface="Traditional Arabic"/>
                <a:ea typeface="Traditional Arabic"/>
              </a:rPr>
              <a:t>%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 أجر الساعة العادية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5191200" y="700200"/>
            <a:ext cx="21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ضع بها بيانات الموظ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2219040" y="1297080"/>
            <a:ext cx="64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وضع أيام الأسبوع السبعة بما فيها الجمعة والسبت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976320" y="3956040"/>
            <a:ext cx="64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ظهر إجمالي  الحسميات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}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ها قسط التأمينات الاجتماعية ، الحسميات المتكررة ، أخرى ( الحسميات الغير متكررة)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976320" y="4664160"/>
            <a:ext cx="644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صافي استحقاق الموظف (المبلغ المدفوع) =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اصل طرح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جمالي استحقاق 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- إجمالي  الحسميات(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156040" y="5510160"/>
            <a:ext cx="65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قسم الجانب المدين إلى أنواع المصاريف الرئيسية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لخص مسير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95480" y="1855800"/>
          <a:ext cx="6964200" cy="3203640"/>
        </p:xfrm>
        <a:graphic>
          <a:graphicData uri="http://schemas.openxmlformats.org/drawingml/2006/table">
            <a:tbl>
              <a:tblPr/>
              <a:tblGrid>
                <a:gridCol w="3481200"/>
                <a:gridCol w="3483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ستحقاق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قسط التأمينات الاجتماعية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الأجر العادي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معدل أجر الساعة العادية × مجموع عدد الساعات العادي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متكرر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حسميات غير متكرر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الأجر الإضافي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203a4e"/>
                          </a:solidFill>
                          <a:latin typeface="Arial"/>
                          <a:cs typeface="Arial"/>
                        </a:rPr>
                        <a:t>معدل أجر الساعة الإضافية × مجموع عدد الساعات الإضافية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9" name="مستطيل 5"/>
          <p:cNvSpPr/>
          <p:nvPr/>
        </p:nvSpPr>
        <p:spPr>
          <a:xfrm>
            <a:off x="782640" y="5129280"/>
            <a:ext cx="7529400" cy="703800"/>
          </a:xfrm>
          <a:prstGeom prst="rect">
            <a:avLst/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صافي استحقاق الموظف (المبلغ المدفوع) = استحقاقات الموظف – حسميات الموظ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مستطيل 4"/>
          <p:cNvSpPr/>
          <p:nvPr/>
        </p:nvSpPr>
        <p:spPr>
          <a:xfrm>
            <a:off x="882720" y="552924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لاحظة: (إذا لم يذكر في السؤال  معدل أجر الساعة الإضافية بالتالي تحسب معدل الساعة الإضافية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% من أجر الساعة العادي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95120" y="1669680"/>
            <a:ext cx="70786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ليك البيانات المستخرجه من سجلات شركة صدق عن شهر رجب من العام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43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ل موظف يتبرع بمبلغ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ريال لأسر شهداء فلسطين 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Arial"/>
                <a:cs typeface="Arial"/>
              </a:rPr>
              <a:t>المطلوب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Arial"/>
                <a:cs typeface="Arial"/>
              </a:rPr>
              <a:t>إعداد مسير الرواتب عن شهر رجب 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726840"/>
            <a:ext cx="696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مثال على مسير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95480" y="2106720"/>
          <a:ext cx="7078680" cy="1868400"/>
        </p:xfrm>
        <a:graphic>
          <a:graphicData uri="http://schemas.openxmlformats.org/drawingml/2006/table">
            <a:tbl>
              <a:tblPr/>
              <a:tblGrid>
                <a:gridCol w="1049400"/>
                <a:gridCol w="1188720"/>
                <a:gridCol w="1768680"/>
                <a:gridCol w="1573200"/>
                <a:gridCol w="149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جز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سل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راتب الإضاف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الراتب الشهر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سم الموظ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فهد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زي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سع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حــــــــــل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عنصر نائب للمحتوى 6" descr=""/>
          <p:cNvPicPr/>
          <p:nvPr/>
        </p:nvPicPr>
        <p:blipFill>
          <a:blip r:embed="rId1"/>
          <a:stretch/>
        </p:blipFill>
        <p:spPr>
          <a:xfrm>
            <a:off x="853920" y="1347840"/>
            <a:ext cx="754092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ـا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040" y="1855440"/>
            <a:ext cx="7327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عمل كل من سلطان، زياد، عبد الله كمستخدمين في شركة الربيع وجميعهم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سعوديون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 إليك بيانات خاصة بكل موظف علما بأنهم وجميعهم من مندوبي البيع بالشرك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- </a:t>
            </a: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حساب صافي استحقاقات الموظفين 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ea typeface="Arial"/>
              </a:rPr>
              <a:t>2</a:t>
            </a:r>
            <a:r>
              <a:rPr b="1" lang="ar-SA" sz="2000" spc="-1" strike="noStrike">
                <a:solidFill>
                  <a:srgbClr val="7f2016"/>
                </a:solidFill>
                <a:latin typeface="Franklin Gothic Book"/>
                <a:ea typeface="Arial"/>
              </a:rPr>
              <a:t>- حساب نصيب صاحب العمل للتأمينات الاجتماعية وما يورد لحساب التامينات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95480" y="3193920"/>
          <a:ext cx="6964200" cy="1935360"/>
        </p:xfrm>
        <a:graphic>
          <a:graphicData uri="http://schemas.openxmlformats.org/drawingml/2006/table">
            <a:tbl>
              <a:tblPr/>
              <a:tblGrid>
                <a:gridCol w="1741320"/>
                <a:gridCol w="1741680"/>
                <a:gridCol w="1739880"/>
                <a:gridCol w="17413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عبد ال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زي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لط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ب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راتب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,0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وقت الإضا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 (استرداداً لسلفة  سبق حصوله عليها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ريال( نفقه شرعية لزوجت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خصم الشركة من راتبه شهري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ـــــــ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95120" y="1815840"/>
            <a:ext cx="6964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[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,000+1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[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00+3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+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9%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×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=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0+144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=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94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= 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14060</a:t>
            </a:r>
            <a:r>
              <a:rPr b="1" lang="ar-SA" sz="2400" spc="-1" strike="noStrike">
                <a:solidFill>
                  <a:srgbClr val="0070c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378080" y="1816200"/>
            <a:ext cx="6242040" cy="911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1378080" y="1667160"/>
            <a:ext cx="62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صافي الاستحقاقات = إجمالي الاستحقاق – إجمالي الحسميات ( بما فيها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صة العامل السعودي في التأمينات الاجتماعية 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9</a:t>
            </a: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% من الراتب الأساسي + بدل غلاء المعيشة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raditional Arabic"/>
                <a:ea typeface="Traditional Arabic"/>
              </a:rPr>
              <a:t> فقط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Oval 5"/>
          <p:cNvSpPr/>
          <p:nvPr/>
        </p:nvSpPr>
        <p:spPr>
          <a:xfrm>
            <a:off x="5964120" y="2727360"/>
            <a:ext cx="209556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سلطان الأساسي والأضافي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4572000" y="2727360"/>
            <a:ext cx="102060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زيا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3273480" y="2727360"/>
            <a:ext cx="1046160" cy="811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اتب عبدالله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1378080" y="2862360"/>
            <a:ext cx="1444320" cy="676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جميع الحسميات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Right Arrow 9"/>
          <p:cNvSpPr/>
          <p:nvPr/>
        </p:nvSpPr>
        <p:spPr>
          <a:xfrm>
            <a:off x="1563840" y="3929040"/>
            <a:ext cx="3870000" cy="56376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رواتب ×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9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% ( قسط التامينات 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فهوم الرواتب والأجور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5120" y="1908000"/>
            <a:ext cx="6964200" cy="32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صاريف الرواتب والأجور: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يحمل إيراد السنة من مصاريف مقابل الحصول على الخدمة التي قدمت للمنشأة في شكل عمل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lnSpc>
                <a:spcPct val="10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جميع ما يصرف للعامل أو الموظف في شكل نقدي أو عيني مقابل تأديته العمل للمنشأة ، وما تتحمله المنشأة من نفقات في سبيل الحصول على العمل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ـــــ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Content Placeholder 4" descr=""/>
          <p:cNvPicPr/>
          <p:nvPr/>
        </p:nvPicPr>
        <p:blipFill>
          <a:blip r:embed="rId1"/>
          <a:stretch/>
        </p:blipFill>
        <p:spPr>
          <a:xfrm>
            <a:off x="1432080" y="1590840"/>
            <a:ext cx="6248160" cy="19936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0"/>
          <p:cNvSpPr/>
          <p:nvPr/>
        </p:nvSpPr>
        <p:spPr>
          <a:xfrm>
            <a:off x="1463760" y="3763800"/>
            <a:ext cx="619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بذلك مستحقات المؤسسة العامة للتأمينات الشهري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-658440" y="4156560"/>
            <a:ext cx="1009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= حصة العامل السعودي في التأمينات الاجتماعية+ حصة صاحب العمل في التأمينات الاجتماعي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35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يال +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6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0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3000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يال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الات خاص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94880" y="1709280"/>
            <a:ext cx="7580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إذا بقى شيء من الرواتب و الأجور لم يستلمها أصحابها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34" name="Elbow Connector 4"/>
          <p:cNvCxnSpPr/>
          <p:nvPr/>
        </p:nvCxnSpPr>
        <p:spPr>
          <a:xfrm flipH="1" rot="16200000">
            <a:off x="5823720" y="2246760"/>
            <a:ext cx="704160" cy="63576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Elbow Connector 13"/>
          <p:cNvCxnSpPr/>
          <p:nvPr/>
        </p:nvCxnSpPr>
        <p:spPr>
          <a:xfrm rot="5400000">
            <a:off x="2477520" y="2298600"/>
            <a:ext cx="662760" cy="4910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Rectangle 16"/>
          <p:cNvSpPr/>
          <p:nvPr/>
        </p:nvSpPr>
        <p:spPr>
          <a:xfrm>
            <a:off x="4599000" y="2916360"/>
            <a:ext cx="3460680" cy="1152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أن يظهر اسم الموظف أو العامل ضمن مسير الرواتب و الأجور و يظهر استحقاقه ضمن جملة استحقاق الموظفين و العمال . إلا انه تأخر عن استلام صافي استحقاقه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853920" y="2916360"/>
            <a:ext cx="3200400" cy="132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795240" y="2646360"/>
            <a:ext cx="32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لا يظهر اسم الموظف أو العامل ضمن مسير الرواتب و الأجور رغم  استحقاقه للراتب أو الأجر ( لاسباب إدارية كأن يكون الموظف في سفر أو إجازة...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39" name="Elbow Connector 19"/>
          <p:cNvCxnSpPr/>
          <p:nvPr/>
        </p:nvCxnSpPr>
        <p:spPr>
          <a:xfrm flipH="1" rot="16200000">
            <a:off x="6917400" y="4100760"/>
            <a:ext cx="702360" cy="6372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Elbow Connector 20"/>
          <p:cNvCxnSpPr/>
          <p:nvPr/>
        </p:nvCxnSpPr>
        <p:spPr>
          <a:xfrm rot="5400000">
            <a:off x="5525280" y="4154040"/>
            <a:ext cx="662760" cy="4914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Rectangle 21"/>
          <p:cNvSpPr/>
          <p:nvPr/>
        </p:nvSpPr>
        <p:spPr>
          <a:xfrm>
            <a:off x="6294600" y="4770360"/>
            <a:ext cx="2081160" cy="144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6102360" y="4412160"/>
            <a:ext cx="2273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</a:t>
            </a: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ندما يبقى شيء من رواتب الموظفين أو أجور العمال لم يستلمه أصحابه فانه يعاد إلى الخزينة من مأمور الصرف و يتم الاحتفاظ به لصاحب الحق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3830760" y="4770360"/>
            <a:ext cx="2027160" cy="144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أن يتم الصرف لكل موظف أو عامل من خزينة المنشأة ( لا يوسط مأمور الصرف 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44" name="Straight Arrow Connector 25"/>
          <p:cNvCxnSpPr/>
          <p:nvPr/>
        </p:nvCxnSpPr>
        <p:spPr>
          <a:xfrm>
            <a:off x="2563560" y="4240080"/>
            <a:ext cx="1080" cy="29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Rectangle 26"/>
          <p:cNvSpPr/>
          <p:nvPr/>
        </p:nvSpPr>
        <p:spPr>
          <a:xfrm>
            <a:off x="1095480" y="4730760"/>
            <a:ext cx="1958760" cy="1127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نعمل قيد منفصل للعامل الذي لم يدرج اسمه في الكش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الات خاصة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95120" y="2119320"/>
            <a:ext cx="6964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ثــال للحالة الأولى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لنفرض أن رائد جلال  لم يستلم صافي استحقاقه(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2500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ريال) في حينه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يكون القيد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بن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إلى ح/ رواتب و أجور مستحق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 إذا تقدم ماهر جلال لقبض صافي استحقاقه ( نعكس القيد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رواتب و أجور مستحق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إلى ح/ البن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كافأة نهاية الخد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61480" y="1815840"/>
            <a:ext cx="738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دفع إذا انتهت مدة العقد المحدد ، أو كان الفسخ من قبل صاحب العمل في العقود الغير محدد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2016"/>
                </a:solidFill>
                <a:latin typeface="Arial"/>
                <a:cs typeface="Arial"/>
              </a:rPr>
              <a:t>تحسب على أساس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رتب نصف شهر عن كل سن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cs typeface="Arial"/>
              </a:rPr>
              <a:t>إذا لم تتجاوز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دة الخدم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خمس سنوات عمل أو أقل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رتب شهر كامل عن كل سنة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cs typeface="Arial"/>
              </a:rPr>
              <a:t>إذا تجاوزت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Arial"/>
              </a:rPr>
              <a:t>مدة الخدمة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 سنوات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أكثر من خمس سنوات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تخذ الأجر الأخير أساس لحساب المكافأ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مستطيل 3"/>
          <p:cNvSpPr/>
          <p:nvPr/>
        </p:nvSpPr>
        <p:spPr>
          <a:xfrm>
            <a:off x="1095480" y="3708360"/>
            <a:ext cx="4081320" cy="48096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دد السنوات  × [ الراتب الأخير ×½] × عدد الع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مستطيل 4"/>
          <p:cNvSpPr/>
          <p:nvPr/>
        </p:nvSpPr>
        <p:spPr>
          <a:xfrm>
            <a:off x="1811160" y="4943520"/>
            <a:ext cx="4081680" cy="39852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د السنوات × [ الراتب الأخير×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× عدد الع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ـلاحـظا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تحسب مكافأة نهاية الخدمة للموظف السعودي و الغير سعودي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لحساب مكافأة نهاية الخدمة لابد من تحديد 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عاملين الذين قدمو استقالتهم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راتب الأخير=××××× 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دة الخدمة=×××× سنو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ال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95120" y="1841040"/>
            <a:ext cx="696420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فرض أن أحد العمال عمل لمدة سنتين و نصف و كان آخر راتب تقضاه يبلغ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كم مكافأة نهاية الخدمة 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Arial"/>
                <a:cs typeface="Arial"/>
              </a:rPr>
              <a:t>الحــــــــ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ما أن عدد سنوات التعويض اقل من خمس سنوات فإن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مكافأة نهاية الخدمه = </a:t>
            </a:r>
            <a:r>
              <a:rPr b="1" lang="ar-SA" sz="2400" spc="-1" strike="noStrike">
                <a:solidFill>
                  <a:srgbClr val="40749b"/>
                </a:solidFill>
                <a:latin typeface="Arial"/>
                <a:cs typeface="Arial"/>
              </a:rPr>
              <a:t>عدد السنوات  × [ الراتب ×½] × عدد العم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× 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500/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 ×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312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مثـــــال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95120" y="1855440"/>
            <a:ext cx="69642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فرض أن أحد العمال عمل لمدة سبع سنوات و ربع و كان آخر راتب تقضاه يبلغ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طلوب: كم مكافأة نهاية الخدمة 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حــل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بما أن عدد سنوات التعويض أكثر من خمس سنوات فإ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كافأة نهاية الخدمة =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مس سنوات ×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[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+ (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نتين و ربع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[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,5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])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25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62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187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إظهار مكافأة نهاية الخدمة في قائمة المركز المالي</a:t>
            </a:r>
            <a:r>
              <a:rPr b="0" lang="ar-SA" sz="4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مثل مخصص مكافاة نهاية الخدمة التزما على المنشأة غير محدد بزمن يظهر ضمن 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التزامات طويلة الاجل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في قائمة المركز المالي .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إذا اتضح أن جزءا من الالتزام بدفع مكافاة نهاية الخدمة سيتم خلال أقل من سنه فإن ذلك الجزء يظهر ضمن 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تزامات قصيرة الاج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فرق بين الرواتب والاجور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95480" y="2306520"/>
          <a:ext cx="6964200" cy="2835360"/>
        </p:xfrm>
        <a:graphic>
          <a:graphicData uri="http://schemas.openxmlformats.org/drawingml/2006/table">
            <a:tbl>
              <a:tblPr/>
              <a:tblGrid>
                <a:gridCol w="2320920"/>
                <a:gridCol w="2322360"/>
                <a:gridCol w="232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7f2016"/>
                          </a:solidFill>
                          <a:latin typeface="Franklin Gothic Book"/>
                          <a:cs typeface="Arial"/>
                        </a:rPr>
                        <a:t>الأجـــو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7f2016"/>
                          </a:solidFill>
                          <a:latin typeface="Franklin Gothic Book"/>
                          <a:cs typeface="Arial"/>
                        </a:rPr>
                        <a:t>الـــروا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ا يدفع لمن يعمل في المنشأة بصفة مؤقتة (العمال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ا يدفع لمن يعمل في المنشأة بصفة دائمة (الموظف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المفهوم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تدفع كل أسبوع ( و تحسب على أساس ساعات العمل أو على أساس القطعة المنتجة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غالباً تدفع على أساس شه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طريقة 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ايتضمنه بند الرواتب والأجور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5480" y="1841400"/>
            <a:ext cx="716112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تضمن ما يصرف للعامل أو الموظف في شكل نقدي أو عيني مقابل تأدية العمل للمنشأة  و ما تتحمله المنشأة من نفقات في سبيل الحصول على العم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ويشمل ما يلي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ounded Rectangle 3"/>
          <p:cNvSpPr/>
          <p:nvPr/>
        </p:nvSpPr>
        <p:spPr>
          <a:xfrm>
            <a:off x="1095480" y="3525840"/>
            <a:ext cx="69642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914400" y="3229920"/>
            <a:ext cx="7145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تب الأساسي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}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جميع البدلات (مثل بدل السكن ، بدل النقل، بدل غلاء المعيشة...).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raditional Arabic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صة صاحب العمل من التأمينات الاجتماعية ( سواء كان للمساهمة في المعاش  التقاعدي أو التعويض من  الأضرار التي تصيب العامل أثناء العمل)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+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بلغ مكافئة نهاية الخدم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--------------------------------   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</a:t>
            </a:r>
            <a:r>
              <a:rPr b="1" lang="en-US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         </a:t>
            </a:r>
            <a:r>
              <a:rPr b="1" lang="ar-SA" sz="2000" spc="-1" strike="noStrike">
                <a:solidFill>
                  <a:srgbClr val="7f2016"/>
                </a:solidFill>
                <a:latin typeface="Traditional Arabic"/>
                <a:ea typeface="Traditional Arabic"/>
              </a:rPr>
              <a:t>= </a:t>
            </a:r>
            <a:r>
              <a:rPr b="1" lang="ar-SA" sz="20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إجمـــــــــــــــــــــــالــــــــــي 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تب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ا يخصم من بند الرواتب والأجو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( الحسميات )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1311120" y="2517840"/>
            <a:ext cx="6481800" cy="2332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311120" y="2298960"/>
            <a:ext cx="6481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7f2016"/>
              </a:buClr>
              <a:buFont typeface="Traditional Arabic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9%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ن راتب الموظف السعودي (قسط التأمينات الاجتماعية)  (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raditional Arabic"/>
                <a:cs typeface="Traditional Arabic"/>
              </a:rPr>
              <a:t>دائما تحسم طلما الموظف سعودي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buClr>
                <a:srgbClr val="7f2016"/>
              </a:buClr>
              <a:buFont typeface="Franklin Gothic Book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lnSpc>
                <a:spcPct val="100000"/>
              </a:lnSpc>
              <a:buClr>
                <a:srgbClr val="7f2016"/>
              </a:buClr>
              <a:buFont typeface="Traditional Arabic"/>
              <a:buAutoNum type="arabicParenR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حسميات أخرى (أقساط، اشتراكات ، غرامات، سلف .....)    تختلف من شركة لشركة أخرى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311120" y="1935000"/>
            <a:ext cx="6653520" cy="1947960"/>
          </a:xfrm>
          <a:prstGeom prst="rect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صافي الراتب = مجمل الراتب – إجمالي الحسميات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127160" y="941040"/>
            <a:ext cx="714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ان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صافي الراتب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27160" y="1590840"/>
          <a:ext cx="7145280" cy="4041720"/>
        </p:xfrm>
        <a:graphic>
          <a:graphicData uri="http://schemas.openxmlformats.org/drawingml/2006/table">
            <a:tbl>
              <a:tblPr/>
              <a:tblGrid>
                <a:gridCol w="3260520"/>
                <a:gridCol w="3884760"/>
              </a:tblGrid>
              <a:tr h="43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الراتب الأساس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يخصم منه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0749b"/>
                          </a:solidFill>
                          <a:latin typeface="Franklin Gothic Book"/>
                          <a:cs typeface="Arial"/>
                        </a:rPr>
                        <a:t>يضاف إليه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%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من راتب الموظف للسعودي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(قسط التأمينات الاجتماع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جميع البدلا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مثل بدل السكن ، بدل النقل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</a:tr>
              <a:tr h="1222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ي حسميات أخرى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(أقساط، اشتراكات ، غرامات، سلف .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صاحب العمل من التأمينات الاجتماعي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 سواء كان للمساهمة في المعاش التقاعدي أو التعويض من  الأضرار التي تصيب العامل أثناء العم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مبلغ مكافئة نهاية الخد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ebebea"/>
                    </a:solidFill>
                  </a:tcPr>
                </a:tc>
              </a:tr>
              <a:tr h="65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أي نفقات أخرى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( نفقات التعليم ، الرعاية الصحية.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d5d4d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نظام التأمينات الأجتماعية في المملكة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Diagram 6" descr=""/>
          <p:cNvPicPr/>
          <p:nvPr/>
        </p:nvPicPr>
        <p:blipFill>
          <a:blip r:embed="rId1"/>
          <a:stretch/>
        </p:blipFill>
        <p:spPr>
          <a:xfrm>
            <a:off x="1371600" y="1468440"/>
            <a:ext cx="6199200" cy="4078440"/>
          </a:xfrm>
          <a:prstGeom prst="rect">
            <a:avLst/>
          </a:prstGeom>
          <a:ln w="0">
            <a:noFill/>
          </a:ln>
        </p:spPr>
      </p:pic>
      <p:cxnSp>
        <p:nvCxnSpPr>
          <p:cNvPr id="249" name="Straight Arrow Connector 8"/>
          <p:cNvCxnSpPr/>
          <p:nvPr/>
        </p:nvCxnSpPr>
        <p:spPr>
          <a:xfrm>
            <a:off x="6254640" y="4439880"/>
            <a:ext cx="15120" cy="238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Oval 10"/>
          <p:cNvSpPr/>
          <p:nvPr/>
        </p:nvSpPr>
        <p:spPr>
          <a:xfrm>
            <a:off x="5711760" y="4691160"/>
            <a:ext cx="2305080" cy="901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016680" y="4534920"/>
            <a:ext cx="179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9%</a:t>
            </a:r>
            <a:r>
              <a:rPr b="1" lang="ar-SA" sz="16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 استحقاق رواتب الموظفين السعوديين (فقط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Oval 17"/>
          <p:cNvSpPr/>
          <p:nvPr/>
        </p:nvSpPr>
        <p:spPr>
          <a:xfrm>
            <a:off x="3340080" y="4718160"/>
            <a:ext cx="2119320" cy="1060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Oval 18"/>
          <p:cNvSpPr/>
          <p:nvPr/>
        </p:nvSpPr>
        <p:spPr>
          <a:xfrm>
            <a:off x="762120" y="4856040"/>
            <a:ext cx="2352600" cy="12128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340080" y="4549680"/>
            <a:ext cx="202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11%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إجمالي استحقاق رواتب الموظفين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Traditional Arabic"/>
                <a:cs typeface="Traditional Arabic"/>
              </a:rPr>
              <a:t>السعودي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Elbow Connector 24"/>
          <p:cNvCxnSpPr/>
          <p:nvPr/>
        </p:nvCxnSpPr>
        <p:spPr>
          <a:xfrm flipV="1" rot="10800000">
            <a:off x="2331360" y="4452480"/>
            <a:ext cx="491040" cy="46440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Elbow Connector 28"/>
          <p:cNvCxnSpPr/>
          <p:nvPr/>
        </p:nvCxnSpPr>
        <p:spPr>
          <a:xfrm>
            <a:off x="2795760" y="4440240"/>
            <a:ext cx="545040" cy="529200"/>
          </a:xfrm>
          <a:prstGeom prst="bentConnector3">
            <a:avLst>
              <a:gd name="adj1" fmla="val 4996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ectangle 7"/>
          <p:cNvSpPr/>
          <p:nvPr/>
        </p:nvSpPr>
        <p:spPr>
          <a:xfrm>
            <a:off x="762120" y="4860000"/>
            <a:ext cx="25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2%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من إجمالي استحقاق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رواتب الموظفين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Traditional Arabic"/>
                <a:cs typeface="Traditional Arabic"/>
              </a:rPr>
              <a:t>غير السعودي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ular Callout 4"/>
          <p:cNvSpPr/>
          <p:nvPr/>
        </p:nvSpPr>
        <p:spPr>
          <a:xfrm>
            <a:off x="2133720" y="1112760"/>
            <a:ext cx="5778360" cy="155124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1496880" y="1119960"/>
            <a:ext cx="64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7f2016"/>
                </a:solidFill>
                <a:uFillTx/>
                <a:latin typeface="Traditional Arabic"/>
                <a:cs typeface="Traditional Arabic"/>
              </a:rPr>
              <a:t>ملاحظة  هامة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ا بد من التمييز بين السعوديين و غير السعوديين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966960" y="3390840"/>
          <a:ext cx="7208640" cy="1676520"/>
        </p:xfrm>
        <a:graphic>
          <a:graphicData uri="http://schemas.openxmlformats.org/drawingml/2006/table">
            <a:tbl>
              <a:tblPr/>
              <a:tblGrid>
                <a:gridCol w="2403360"/>
                <a:gridCol w="2401920"/>
                <a:gridCol w="24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غير سعو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سعو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12240">
                      <a:solidFill>
                        <a:srgbClr val="71685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العامل في التأمينات الاجتماع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1224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solidFill>
                      <a:srgbClr val="71685c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(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% منها أخطا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ة صاحب العامل في التأمينات الاجتما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71685c"/>
                      </a:solidFill>
                    </a:lnL>
                    <a:lnR w="5760">
                      <a:solidFill>
                        <a:srgbClr val="71685c"/>
                      </a:solidFill>
                    </a:lnR>
                    <a:lnT w="5760">
                      <a:solidFill>
                        <a:srgbClr val="71685c"/>
                      </a:solidFill>
                    </a:lnT>
                    <a:lnB w="5760">
                      <a:solidFill>
                        <a:srgbClr val="71685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3-29T17:34:15Z</dcterms:modified>
  <cp:revision>129</cp:revision>
  <dc:subject/>
  <dc:title>مقدمة في الفكر المحاسبي </dc:title>
</cp:coreProperties>
</file>