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FA4B-9787-47C2-A237-F567CDE433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67DE-F03A-499E-A907-0A585233E9D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8671-64E0-4A47-B024-AC4A3A4EE379}" type="slidenum">
              <a:rPr b="0" lang="tr-TR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84320" y="704880"/>
            <a:ext cx="4689360" cy="35161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0000" y="4220640"/>
            <a:ext cx="5058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0685-1FB9-4B60-AA58-270C68C84A21}" type="slidenum">
              <a:rPr b="0" lang="tr-TR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84320" y="704880"/>
            <a:ext cx="4689360" cy="35161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0000" y="4220640"/>
            <a:ext cx="5058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B3BF-E4CD-4A43-B2BC-4C674E36579C}" type="slidenum">
              <a:rPr b="0" lang="tr-TR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84320" y="704880"/>
            <a:ext cx="4689360" cy="35161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0000" y="4220640"/>
            <a:ext cx="505800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0F6C-DAAD-403E-9566-94A9294A9C2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62A1-1068-429F-BF91-DB9FA74D402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FBDA-8F13-4319-96F2-51EC4B5F87C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016C-CC4C-4916-9A92-D7613289F87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8A9D-48B9-4582-BA0C-24B884DE693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84C0-8877-46AD-A288-0C67A0FBA8A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9F84-02D8-4EBD-B722-760A7D32117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96F3-3CAF-441E-8A4B-AD2D02273CD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734E-B5E4-4BA8-9116-B57F684FEC1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6168-8FC7-4586-BF65-FB29C4B36A1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712-699C-4778-998A-65714390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0C2-2D1B-4894-B922-5EDC3902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965-5C68-4E4F-B2A7-598ED785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508-C3E0-4EE6-B827-ABA709BE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E4E-BF12-4D03-9DAE-F07A73B4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0E6-BAA4-4B35-B976-D4256B4E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7E2-94BD-4899-84E9-638AF26D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509-3E8F-4F9C-9EE6-CFADBCDC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5A4-4F86-4A22-9DD6-C974BC95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C283-311C-42BD-B8BA-82101B30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BC1-484A-4B6E-8F7B-F688F658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F5C-ABDC-4C4A-8E95-693F3BE2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7C3A-D4E7-4EAB-AB4F-CB7C3FFDD96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1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servation Metho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436248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 rot="16185600">
            <a:off x="-2900160" y="2977920"/>
            <a:ext cx="6858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r-TR" sz="4800" spc="-1" strike="noStrike">
                <a:solidFill>
                  <a:srgbClr val="ffffcc"/>
                </a:solidFill>
                <a:latin typeface="Times New Roman"/>
              </a:rPr>
              <a:t>selective percept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346720" cy="56390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 rot="16185600">
            <a:off x="-2900160" y="2977920"/>
            <a:ext cx="6858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r-TR" sz="4800" spc="-1" strike="noStrike">
                <a:solidFill>
                  <a:srgbClr val="ffffcc"/>
                </a:solidFill>
                <a:latin typeface="Times New Roman"/>
              </a:rPr>
              <a:t>selective percept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 rot="16185600">
            <a:off x="-2095200" y="308556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r-TR" sz="4800" spc="-1" strike="noStrike">
                <a:solidFill>
                  <a:srgbClr val="ffffcc"/>
                </a:solidFill>
                <a:latin typeface="Times New Roman"/>
              </a:rPr>
              <a:t>misinterpretatio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69608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Types of Observation Techniqu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Natural versus Contrived Obser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irect versus Indirect Obser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isguised versus Nondisguised Obser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al-trace evidence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bser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chanical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Observ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3.1.Natural versus Contrived Observation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Natural Observa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ctions and behavior observed as they occur naturally in real-life situation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wide variety of companies are sending researchers to the field to observe consumers in their natural environmen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tural observation i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ls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ited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thnographic research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n foreig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ultur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6858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ontrived Observa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vironment artificially set up by the researche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archers are increasingly relying on computers to conduct simulated market test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fers a greater degree of contro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ed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fficien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ss expensiv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However, it may be questionable as to whether or not the data collected does truly reflect a "real life" situ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3.2. Direct versus Indirect Observation</a:t>
            </a:r>
            <a:br>
              <a:rPr sz="3300"/>
            </a:b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56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rect observation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tures actual behavior or phenomenon of interes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direct observation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sists of examining the results of the phenomeno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give only relatively crude or imprecise indications of a phenomen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efficient use of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research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m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efficient use of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research budge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y be the only way to get data from situations impractical to observe directly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3.3. Disguised versus Nondisguised Observation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disguised observ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dents are aware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a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are being observ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may be contaminated by respondent-induced erro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gathered through using disguised observation might not be as rich as those from nondisguised observatio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28600" y="6094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guised Observ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dents are unaware they are being observ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ows for monitoring of the true reactions of individual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ethical if disguised observation monitor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mally private behavior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haviors that may not be voluntarily revealed to researche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stery shopping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pular disguised observational techniqu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stery shopp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known to the retail establishmen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sits the sto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s a structured script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serves and records the shopping experienc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bservation Method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040" y="28195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ypes of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served Phenomen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dvantages and Disadvantages of Observ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ypes of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serv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Techniq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6692760" y="228600"/>
            <a:ext cx="2146320" cy="3137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3.4.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Physical-trace evidence</a:t>
            </a:r>
            <a:r>
              <a:rPr b="0" lang="tr-TR" sz="3600" spc="-1" strike="noStrike">
                <a:solidFill>
                  <a:srgbClr val="ff9900"/>
                </a:solidFill>
                <a:latin typeface="Times New Roman"/>
              </a:rPr>
              <a:t> Observation</a:t>
            </a: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r and tear of a book  indicat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often it has been re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arbology - looking for traces of purchase patterns in garbag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tecting store traffic patterns by observing the wear in the floor (long term) or the dirt on the floor (short term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3.5. Types of Mechanical Observation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Eye-Track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Response Latenc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Voice Pitch Analysi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People Met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Psychogalvanomet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nitoring Web Site Traff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Eye Tracking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1" marL="690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Measure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unconscious eye movements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Record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how the subject actually reads or views an advertisement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product packaging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promotional display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ebsite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, etc.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Measures which sections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ttract customers' attention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how much time they spend looking at those sections  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Oculometers - what the subject is looking at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Pupilometers - how interested is the viewer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device observes and records changes in the diameter of the subject’s pupil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Voice Pitch Analysis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asures emotional reactions through physiological changes in a person’s vo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d to determin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strongly a respondent feels about an answe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much emotional commitment is attached to an answe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riations from normal voice pitch is considered a measure of emotional commitment to the question's answe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5664240" y="174600"/>
            <a:ext cx="340344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Response Latency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t measures 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speed with which a respondent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gives a decision about a choic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tween alternativ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t r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r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e decision time necessary to make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oic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For instance: it can 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asure the effectivenes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f a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vertisemen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n brand preferenc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t 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sumes that a quick expression of brand preference indicates a stronger preferenc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People Meter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ectronic device to monitor television viewing behavio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o is watch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shows are being watch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Psychogalvanometer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asures galvanic skin respon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voluntary changes in the electrical resistance of the sk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umption: physiological changes accompany emotional re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Types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bserved Phenomena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al 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bal behavi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ressive behavi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atial relations and lo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oral patter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bal and pictorial reco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973800" y="1219320"/>
            <a:ext cx="4918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henomen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        Exa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13280" y="2057400"/>
            <a:ext cx="7437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uman behavior or physic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oppers </a:t>
            </a:r>
            <a:r>
              <a:rPr b="0" lang="tr-TR" sz="2400" spc="-1" strike="noStrike">
                <a:solidFill>
                  <a:srgbClr val="ffffcc"/>
                </a:solidFill>
                <a:latin typeface="Times New Roman"/>
              </a:rPr>
              <a:t>(buyers)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ttern in a sto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bal behavio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tements mad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irline travelers who wa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ressive behavio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cial expressions, ton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oice, and other form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dy langu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xample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s for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 Observed Phenomena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6"/>
          <p:cNvSpPr/>
          <p:nvPr/>
        </p:nvSpPr>
        <p:spPr>
          <a:xfrm>
            <a:off x="973800" y="1219320"/>
            <a:ext cx="590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henomen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Rectangle 1027"/>
          <p:cNvSpPr/>
          <p:nvPr/>
        </p:nvSpPr>
        <p:spPr>
          <a:xfrm>
            <a:off x="679680" y="2133720"/>
            <a:ext cx="77104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patial relatio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close visitors at 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locatio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t museum stand to paint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mporal pattern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long fast-food custo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ait for their order to be serv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hysical objec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brand name items a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red in consumers’ pa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bal and Pictori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r codes on product pack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co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Example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s for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 Observed Phenomena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5334120" y="2362320"/>
          <a:ext cx="3151080" cy="31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362320"/>
                    <a:ext cx="315108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3"/>
          <p:cNvSpPr/>
          <p:nvPr/>
        </p:nvSpPr>
        <p:spPr>
          <a:xfrm>
            <a:off x="376200" y="2514600"/>
            <a:ext cx="4359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SEE, BUT YOU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NOT OBSERVE.”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herlock Hol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Advantages and Disadvantages of Observa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2.1.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Benefits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 of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Observ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ing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Human Behavior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munication with respondent is not necess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without distortions due to self-report (e.g.: without social desirability) B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rely on respondents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verbal behavior data may be obtain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Benefits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 of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Observ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ing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Human Behavior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rtain data may be obtained more quick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vironmental conditions may be record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y be combined with survey to provide supplemental evid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2.2.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Limitations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 of 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Observ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ing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3300"/>
            </a:b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Human Behavior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gnitive phenomena cannot be observ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pretation of data may be a problem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(e.g. misinterpret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l activity can be record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ly short periods can be observ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server bias possibl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(e.g. selective percep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le invasion of priva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11-06T15:04:19Z</dcterms:modified>
  <cp:revision>542</cp:revision>
  <dc:subject>Chapter 1</dc:subject>
  <dc:title>Business Research Methods  William G. Zikmund</dc:title>
</cp:coreProperties>
</file>