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B789-09F2-4CDF-ABD9-ECB0A424EE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3C45-12FF-4290-911B-0BCEAE5492FC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64BF-3DB9-4306-881A-16D3292DD730}" type="slidenum">
              <a:rPr b="0" lang="tr-TR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084320" y="704880"/>
            <a:ext cx="4689360" cy="35161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00000" y="4220640"/>
            <a:ext cx="5058000" cy="42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2441-8E77-4160-BFD8-5F1F1DA64317}" type="slidenum">
              <a:rPr b="0" lang="tr-TR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084320" y="704880"/>
            <a:ext cx="4689360" cy="35161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00000" y="4220640"/>
            <a:ext cx="5058000" cy="42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63C5-5117-43F8-88A7-596F9E0AB000}" type="slidenum">
              <a:rPr b="0" lang="tr-TR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084320" y="704880"/>
            <a:ext cx="4689360" cy="35161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00000" y="4220640"/>
            <a:ext cx="5058000" cy="42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F14F-05C1-4CBC-B668-201B925FBE8B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E462-EEBA-446F-B786-14AE376641BA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5373-2D5D-48FC-AC70-657A35240DD0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70F8-B256-4242-862E-13669C5B890C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A92E-5AB5-498E-AE41-DBDFC3B7CED0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F506-63FB-475B-8666-C631F9298632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2AEB-35AA-43A1-ADF0-392CC98F5B10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4188-86C1-4FD9-9A41-EE8CF89A1A58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0175-2CD2-4A1D-B34E-8BEA13D642BE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F75A-9476-4042-BD53-02A44EA0C28A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34C6-8A79-461E-84B5-128B4148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92A0-BD00-4850-B453-78BEE621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EB40-FAB7-45AD-BEDC-C9C603D74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A3B4-B8F1-4FC4-AC8C-EF2261F6A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2325-22DA-4F77-AEFD-D20E30BF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2811-C9B4-4C16-8A12-CC51C26C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5F32-00A4-41A0-83BE-08AA11E2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7EF3-1C6E-44DD-A46F-602DCD00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2BDB-64E5-40A5-A676-4D3824D9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94C3-316B-488A-A1E4-44DF00D5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7228-62A0-45A6-9ADD-9C23B178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D69F-6F73-4749-B382-752F1C8D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8057-3287-4CCC-88EA-CE7438ABA64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usiness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 Research Methods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illiam G. Zikmund</a:t>
            </a:r>
            <a:br>
              <a:rPr sz="2800"/>
            </a:b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pter 11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bservation Metho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666880" y="609480"/>
            <a:ext cx="4362480" cy="60199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 rot="16185600">
            <a:off x="-2900160" y="2977920"/>
            <a:ext cx="68580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r-TR" sz="4800" spc="-1" strike="noStrike">
                <a:solidFill>
                  <a:srgbClr val="ffffcc"/>
                </a:solidFill>
                <a:latin typeface="Times New Roman"/>
              </a:rPr>
              <a:t>selective perceptio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5346720" cy="56390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 rot="16185600">
            <a:off x="-2900160" y="2977920"/>
            <a:ext cx="68580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r-TR" sz="4800" spc="-1" strike="noStrike">
                <a:solidFill>
                  <a:srgbClr val="ffffcc"/>
                </a:solidFill>
                <a:latin typeface="Times New Roman"/>
              </a:rPr>
              <a:t>selective perceptio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 rot="16185600">
            <a:off x="-2095200" y="3085560"/>
            <a:ext cx="5105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r-TR" sz="4800" spc="-1" strike="noStrike">
                <a:solidFill>
                  <a:srgbClr val="ffffcc"/>
                </a:solidFill>
                <a:latin typeface="Times New Roman"/>
              </a:rPr>
              <a:t>misinterpretatio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769608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3. Types of Observation Technique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Natural versus Contrived Observ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Direct versus Indirect Observ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Disguised versus Nondisguised Observ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hysical-trace evidence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Observ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chanical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Observ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300" spc="-1" strike="noStrike">
                <a:solidFill>
                  <a:srgbClr val="ff9900"/>
                </a:solidFill>
                <a:latin typeface="Times New Roman"/>
              </a:rPr>
              <a:t>3.1.Natural versus Contrived Observation</a:t>
            </a:r>
            <a:endParaRPr b="0" lang="en-US" sz="33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Natural Observatio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actions and behavior observed as they occur naturally in real-life situation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wide variety of companies are sending researchers to the field to observe consumers in their natural environment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tural observation is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also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ited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thnographic research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on foreig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culture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6858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Contrived Observatio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nvironment artificially set up by the researcher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earchers are increasingly relying on computers to conduct simulated market testing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ffers a greater degree of control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peed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fficien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ess expensiv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However, it may be questionable as to whether or not the data collected does truly reflect a "real life" situa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300" spc="-1" strike="noStrike">
                <a:solidFill>
                  <a:srgbClr val="ff9900"/>
                </a:solidFill>
                <a:latin typeface="Times New Roman"/>
              </a:rPr>
              <a:t>3.2. Direct versus Indirect Observation</a:t>
            </a:r>
            <a:br>
              <a:rPr sz="3300"/>
            </a:br>
            <a:endParaRPr b="0" lang="en-US" sz="33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04560" y="11430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rect observation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ptures actual behavior or phenomenon of interest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direct observation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nsists of examining the results of the phenomenon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n give only relatively crude or imprecise indications of a phenomeno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re efficient use of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research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im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re efficient use of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research budge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y be the only way to get data from situations impractical to observe directly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300" spc="-1" strike="noStrike">
                <a:solidFill>
                  <a:srgbClr val="ff9900"/>
                </a:solidFill>
                <a:latin typeface="Times New Roman"/>
              </a:rPr>
              <a:t>3.3. Disguised versus Nondisguised Observation</a:t>
            </a:r>
            <a:endParaRPr b="0" lang="en-US" sz="33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ndisguised observation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pondents are aware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that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y are being observed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 may be contaminated by respondent-induced error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 gathered through using disguised observation might not be as rich as those from nondisguised observation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28600" y="6094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guised Observatio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pondents are unaware they are being observed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lows for monitoring of the true reactions of individual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ethical if disguised observation monitor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rmally private behavior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ehaviors that may not be voluntarily revealed to researcher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ystery shopping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pular disguised observational techniqu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ystery shopper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known to the retail establishment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isits the stor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s a structured script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bserves and records the shopping experienc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hapter 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: 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Observation Method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14040" y="281952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Types of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bserved Phenomen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Advantages and Disadvantages of Observatio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Types of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bservation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Techniqu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6692760" y="228600"/>
            <a:ext cx="2146320" cy="3137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300" spc="-1" strike="noStrike">
                <a:solidFill>
                  <a:srgbClr val="ff9900"/>
                </a:solidFill>
                <a:latin typeface="Times New Roman"/>
              </a:rPr>
              <a:t>3.4.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 Physical-trace evidence</a:t>
            </a:r>
            <a:r>
              <a:rPr b="0" lang="tr-TR" sz="3600" spc="-1" strike="noStrike">
                <a:solidFill>
                  <a:srgbClr val="ff9900"/>
                </a:solidFill>
                <a:latin typeface="Times New Roman"/>
              </a:rPr>
              <a:t> Observation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ar and tear of a book  indicate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w often it has been rea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arbology - looking for traces of purchase patterns in garbag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tecting store traffic patterns by observing the wear in the floor (long term) or the dirt on the floor (short term)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300" spc="-1" strike="noStrike">
                <a:solidFill>
                  <a:srgbClr val="ff9900"/>
                </a:solidFill>
                <a:latin typeface="Times New Roman"/>
              </a:rPr>
              <a:t>3.5. Types of Mechanical Observation</a:t>
            </a:r>
            <a:endParaRPr b="0" lang="en-US" sz="33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Eye-Track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Response Latency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Voice Pitch Analysi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People Meter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Psychogalvanometer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nitoring Web Site Traff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9900"/>
                </a:solidFill>
                <a:latin typeface="Times New Roman"/>
              </a:rPr>
              <a:t>Eye Tracking</a:t>
            </a:r>
            <a:endParaRPr b="0" lang="en-US" sz="33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lvl="1" marL="690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Measure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unconscious eye movements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Record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how the subject actually reads or views an advertisement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product packaging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promotional displays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websites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, etc.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Measures which sections 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ttract customers' attention 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and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how much time they spend looking at those sections  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Oculometers - what the subject is looking at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Pupilometers - how interested is the viewer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 device observes and records changes in the diameter of the subject’s pupils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9900"/>
                </a:solidFill>
                <a:latin typeface="Times New Roman"/>
              </a:rPr>
              <a:t>Voice Pitch Analysis</a:t>
            </a:r>
            <a:endParaRPr b="0" lang="en-US" sz="33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asures emotional reactions through physiological changes in a person’s vo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d to determin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ow strongly a respondent feels about an answer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ow much emotional commitment is attached to an answer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ariations from normal voice pitch is considered a measure of emotional commitment to the question's answer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5664240" y="174600"/>
            <a:ext cx="3403440" cy="18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9900"/>
                </a:solidFill>
                <a:latin typeface="Times New Roman"/>
              </a:rPr>
              <a:t>Response Latency</a:t>
            </a:r>
            <a:endParaRPr b="0" lang="en-US" sz="33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It measures 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e speed with which a respondent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gives a decision about a choic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tween alternative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It r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rd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he decision time necessary to make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thi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oice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For instance: it can m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asure the effectiveness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of an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vertisemen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n brand preference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It 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sumes that a quick expression of brand preference indicates a stronger preferenc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300" spc="-1" strike="noStrike">
                <a:solidFill>
                  <a:srgbClr val="ff9900"/>
                </a:solidFill>
                <a:latin typeface="Times New Roman"/>
              </a:rPr>
              <a:t>People Meter</a:t>
            </a:r>
            <a:endParaRPr b="0" lang="en-US" sz="33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ectronic device to monitor television viewing behavior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o is watching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at shows are being watch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9900"/>
                </a:solidFill>
                <a:latin typeface="Times New Roman"/>
              </a:rPr>
              <a:t>Psychogalvanometer</a:t>
            </a:r>
            <a:endParaRPr b="0" lang="en-US" sz="33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asures galvanic skin respon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voluntary changes in the electrical resistance of the sk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ssumption: physiological changes accompany emotional reac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1. Types of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Observed Phenomena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hysical ac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bal behavi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pressive behavi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atial relations and loc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oral patter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bal and pictorial recor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973800" y="1219320"/>
            <a:ext cx="4918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henomena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          Exa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413280" y="2057400"/>
            <a:ext cx="743796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uman behavior or physical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hoppers </a:t>
            </a:r>
            <a:r>
              <a:rPr b="0" lang="tr-TR" sz="2400" spc="-1" strike="noStrike">
                <a:solidFill>
                  <a:srgbClr val="ffffcc"/>
                </a:solidFill>
                <a:latin typeface="Times New Roman"/>
              </a:rPr>
              <a:t>(buyers)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v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tio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ttern in a sto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erbal behavior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atements made b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irline travelers who wa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l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pressive behavior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cial expressions, tone of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oice, and other form of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ody languag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300" spc="-1" strike="noStrike">
                <a:solidFill>
                  <a:srgbClr val="ff9900"/>
                </a:solidFill>
                <a:latin typeface="Times New Roman"/>
              </a:rPr>
              <a:t>E</a:t>
            </a:r>
            <a:r>
              <a:rPr b="0" lang="en-US" sz="3300" spc="-1" strike="noStrike">
                <a:solidFill>
                  <a:srgbClr val="ff9900"/>
                </a:solidFill>
                <a:latin typeface="Times New Roman"/>
              </a:rPr>
              <a:t>xample</a:t>
            </a:r>
            <a:r>
              <a:rPr b="0" lang="tr-TR" sz="3300" spc="-1" strike="noStrike">
                <a:solidFill>
                  <a:srgbClr val="ff9900"/>
                </a:solidFill>
                <a:latin typeface="Times New Roman"/>
              </a:rPr>
              <a:t>s for</a:t>
            </a:r>
            <a:r>
              <a:rPr b="0" lang="en-US" sz="3300" spc="-1" strike="noStrike">
                <a:solidFill>
                  <a:srgbClr val="ff9900"/>
                </a:solidFill>
                <a:latin typeface="Times New Roman"/>
              </a:rPr>
              <a:t> Observed Phenomena</a:t>
            </a:r>
            <a:endParaRPr b="0" lang="en-US" sz="33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026"/>
          <p:cNvSpPr/>
          <p:nvPr/>
        </p:nvSpPr>
        <p:spPr>
          <a:xfrm>
            <a:off x="973800" y="1219320"/>
            <a:ext cx="590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henomena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Rectangle 1027"/>
          <p:cNvSpPr/>
          <p:nvPr/>
        </p:nvSpPr>
        <p:spPr>
          <a:xfrm>
            <a:off x="679680" y="2133720"/>
            <a:ext cx="771048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patial relation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w close visitors at 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d location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rt museum stand to painting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emporal pattern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w long fast-food custom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ait for their order to be serv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hysical object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brand name items a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ored in consumers’ pa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erbal and Pictorial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ar codes on product packa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cord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9900"/>
                </a:solidFill>
                <a:latin typeface="Times New Roman"/>
              </a:rPr>
              <a:t>Example</a:t>
            </a:r>
            <a:r>
              <a:rPr b="0" lang="tr-TR" sz="3300" spc="-1" strike="noStrike">
                <a:solidFill>
                  <a:srgbClr val="ff9900"/>
                </a:solidFill>
                <a:latin typeface="Times New Roman"/>
              </a:rPr>
              <a:t>s for</a:t>
            </a:r>
            <a:r>
              <a:rPr b="0" lang="en-US" sz="3300" spc="-1" strike="noStrike">
                <a:solidFill>
                  <a:srgbClr val="ff9900"/>
                </a:solidFill>
                <a:latin typeface="Times New Roman"/>
              </a:rPr>
              <a:t> Observed Phenomena</a:t>
            </a:r>
            <a:endParaRPr b="0" lang="en-US" sz="33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5334120" y="2362320"/>
          <a:ext cx="3151080" cy="31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362320"/>
                    <a:ext cx="3151080" cy="31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3"/>
          <p:cNvSpPr/>
          <p:nvPr/>
        </p:nvSpPr>
        <p:spPr>
          <a:xfrm>
            <a:off x="376200" y="2514600"/>
            <a:ext cx="43592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OU SEE, BUT YOU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 NOT OBSERVE.”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herlock Holm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2. Advantages and Disadvantages of Observation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300" spc="-1" strike="noStrike">
                <a:solidFill>
                  <a:srgbClr val="ff9900"/>
                </a:solidFill>
                <a:latin typeface="Times New Roman"/>
              </a:rPr>
              <a:t>2.1. </a:t>
            </a:r>
            <a:r>
              <a:rPr b="0" lang="en-US" sz="3300" spc="-1" strike="noStrike">
                <a:solidFill>
                  <a:srgbClr val="ff9900"/>
                </a:solidFill>
                <a:latin typeface="Times New Roman"/>
              </a:rPr>
              <a:t>Benefits</a:t>
            </a:r>
            <a:r>
              <a:rPr b="0" lang="tr-TR" sz="3300" spc="-1" strike="noStrike">
                <a:solidFill>
                  <a:srgbClr val="ff9900"/>
                </a:solidFill>
                <a:latin typeface="Times New Roman"/>
              </a:rPr>
              <a:t> of </a:t>
            </a:r>
            <a:r>
              <a:rPr b="0" lang="en-US" sz="3300" spc="-1" strike="noStrike">
                <a:solidFill>
                  <a:srgbClr val="ff9900"/>
                </a:solidFill>
                <a:latin typeface="Times New Roman"/>
              </a:rPr>
              <a:t>Observ</a:t>
            </a:r>
            <a:r>
              <a:rPr b="0" lang="tr-TR" sz="3300" spc="-1" strike="noStrike">
                <a:solidFill>
                  <a:srgbClr val="ff9900"/>
                </a:solidFill>
                <a:latin typeface="Times New Roman"/>
              </a:rPr>
              <a:t>ing </a:t>
            </a:r>
            <a:r>
              <a:rPr b="0" lang="en-US" sz="3300" spc="-1" strike="noStrike">
                <a:solidFill>
                  <a:srgbClr val="ff9900"/>
                </a:solidFill>
                <a:latin typeface="Times New Roman"/>
              </a:rPr>
              <a:t>Human Behavior</a:t>
            </a:r>
            <a:endParaRPr b="0" lang="en-US" sz="33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munication with respondent is not necessa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 without distortions due to self-report (e.g.: without social desirability) Bi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 need to rely on respondents mem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nverbal behavior data may be obtain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9900"/>
                </a:solidFill>
                <a:latin typeface="Times New Roman"/>
              </a:rPr>
              <a:t>Benefits</a:t>
            </a:r>
            <a:r>
              <a:rPr b="0" lang="tr-TR" sz="3300" spc="-1" strike="noStrike">
                <a:solidFill>
                  <a:srgbClr val="ff9900"/>
                </a:solidFill>
                <a:latin typeface="Times New Roman"/>
              </a:rPr>
              <a:t> of </a:t>
            </a:r>
            <a:r>
              <a:rPr b="0" lang="en-US" sz="3300" spc="-1" strike="noStrike">
                <a:solidFill>
                  <a:srgbClr val="ff9900"/>
                </a:solidFill>
                <a:latin typeface="Times New Roman"/>
              </a:rPr>
              <a:t>Observ</a:t>
            </a:r>
            <a:r>
              <a:rPr b="0" lang="tr-TR" sz="3300" spc="-1" strike="noStrike">
                <a:solidFill>
                  <a:srgbClr val="ff9900"/>
                </a:solidFill>
                <a:latin typeface="Times New Roman"/>
              </a:rPr>
              <a:t>ing </a:t>
            </a:r>
            <a:r>
              <a:rPr b="0" lang="en-US" sz="3300" spc="-1" strike="noStrike">
                <a:solidFill>
                  <a:srgbClr val="ff9900"/>
                </a:solidFill>
                <a:latin typeface="Times New Roman"/>
              </a:rPr>
              <a:t>Human Behavior</a:t>
            </a:r>
            <a:endParaRPr b="0" lang="en-US" sz="33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ertain data may be obtained more quick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nvironmental conditions may be record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y be combined with survey to provide supplemental evid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300" spc="-1" strike="noStrike">
                <a:solidFill>
                  <a:srgbClr val="ff9900"/>
                </a:solidFill>
                <a:latin typeface="Times New Roman"/>
              </a:rPr>
              <a:t>2.2. </a:t>
            </a:r>
            <a:r>
              <a:rPr b="0" lang="en-US" sz="3300" spc="-1" strike="noStrike">
                <a:solidFill>
                  <a:srgbClr val="ff9900"/>
                </a:solidFill>
                <a:latin typeface="Times New Roman"/>
              </a:rPr>
              <a:t>Limitations</a:t>
            </a:r>
            <a:r>
              <a:rPr b="0" lang="tr-TR" sz="3300" spc="-1" strike="noStrike">
                <a:solidFill>
                  <a:srgbClr val="ff9900"/>
                </a:solidFill>
                <a:latin typeface="Times New Roman"/>
              </a:rPr>
              <a:t> of </a:t>
            </a:r>
            <a:r>
              <a:rPr b="0" lang="en-US" sz="3300" spc="-1" strike="noStrike">
                <a:solidFill>
                  <a:srgbClr val="ff9900"/>
                </a:solidFill>
                <a:latin typeface="Times New Roman"/>
              </a:rPr>
              <a:t>Observ</a:t>
            </a:r>
            <a:r>
              <a:rPr b="0" lang="tr-TR" sz="3300" spc="-1" strike="noStrike">
                <a:solidFill>
                  <a:srgbClr val="ff9900"/>
                </a:solidFill>
                <a:latin typeface="Times New Roman"/>
              </a:rPr>
              <a:t>ing</a:t>
            </a:r>
            <a:r>
              <a:rPr b="0" lang="en-US" sz="3300" spc="-1" strike="noStrike">
                <a:solidFill>
                  <a:srgbClr val="ff9900"/>
                </a:solidFill>
                <a:latin typeface="Times New Roman"/>
              </a:rPr>
              <a:t> </a:t>
            </a:r>
            <a:br>
              <a:rPr sz="3300"/>
            </a:br>
            <a:r>
              <a:rPr b="0" lang="en-US" sz="3300" spc="-1" strike="noStrike">
                <a:solidFill>
                  <a:srgbClr val="ff9900"/>
                </a:solidFill>
                <a:latin typeface="Times New Roman"/>
              </a:rPr>
              <a:t>Human Behavior</a:t>
            </a:r>
            <a:endParaRPr b="0" lang="en-US" sz="33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gnitive phenomena cannot be observ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terpretation of data may be a problem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(e.g. misinterpretatio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all activity can be record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nly short periods can be observ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bserver bias possible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(e.g. selective perceptio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ssible invasion of priva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6:47:22Z</dcterms:created>
  <dc:creator>zikmund</dc:creator>
  <dc:description/>
  <dc:language>en-US</dc:language>
  <cp:lastModifiedBy>Soad</cp:lastModifiedBy>
  <dcterms:modified xsi:type="dcterms:W3CDTF">2016-11-06T15:04:19Z</dcterms:modified>
  <cp:revision>542</cp:revision>
  <dc:subject>Chapter 1</dc:subject>
  <dc:title>Business Research Methods  William G. Zikmund</dc:title>
</cp:coreProperties>
</file>