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288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9224-9B1E-4381-BDE2-E3F724AFF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080" y="375624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C6B3-0EC8-4326-AB8B-37BB426EE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2640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49425-4F05-437A-80EC-7D42D5251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5752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0060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408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5752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0060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1963-A476-4578-9333-512C45D03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0CF32-D374-4C75-8295-1CA1CAD1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A5649-BC95-4447-84EA-92F06BE9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32866-787B-4414-B174-09B836E0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7FB9C-DE50-4EEA-A7C9-08206539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D1B63-F568-4297-8BF7-74C38FB8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79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310E1-E1F3-4478-9C86-3C9D7F73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C6518-725C-48CE-9294-C7277163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98DFE-EFB5-4A3B-A8DE-8522ACD34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2640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D76C7-2829-4EDE-BA13-B1FFCDB7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20F7A-F45D-4CE7-B106-5070D6CA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080" y="375624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0DE71-73FE-4A96-9CCE-4F4A66E4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2640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3FBCE-4385-4139-AAA1-904D51EB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5752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0060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408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5752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0060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F5955-C3FD-48A2-AD23-8A778F1E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B8EF-6BEA-4C98-95BC-835CFB309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1CA2-1686-41F8-8A8E-BF62DB5D3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A3C4-54C4-4653-917F-7A1F55EEF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702E-9721-490D-99E8-E7C734EC8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DBE0-2780-40E3-8E45-7CA5BDB47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2640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19403-6881-4655-B0F3-521908A15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284B-6FF3-48BA-A60D-523EFB7DE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287000" cy="1295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1435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CBB0-BE8B-4C32-A825-3D3E1DCF7D32}" type="slidenum">
              <a:rPr b="1" lang="en-GB" sz="2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dr_logo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10287000" cy="1295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6" name="hdr_logo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514368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1480" y="990720"/>
            <a:ext cx="5829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086000" y="4889520"/>
            <a:ext cx="5486400" cy="318960"/>
            <a:chOff x="4086000" y="4889520"/>
            <a:chExt cx="5486400" cy="318960"/>
          </a:xfrm>
        </p:grpSpPr>
        <p:sp>
          <p:nvSpPr>
            <p:cNvPr id="46" name=""/>
            <p:cNvSpPr/>
            <p:nvPr/>
          </p:nvSpPr>
          <p:spPr>
            <a:xfrm flipH="1">
              <a:off x="4085640" y="4889520"/>
              <a:ext cx="52038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279720" y="4889520"/>
              <a:ext cx="2926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2"/>
          </p:nvPr>
        </p:nvSpPr>
        <p:spPr>
          <a:xfrm>
            <a:off x="3000240" y="6550560"/>
            <a:ext cx="21434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5845320" y="6550560"/>
            <a:ext cx="3689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11160" y="6358320"/>
            <a:ext cx="6602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2874-E767-49F2-8177-5CD1488FBBE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1053720" y="1425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s 1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 System – Cerebell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1295280"/>
            <a:ext cx="62481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981080"/>
            <a:ext cx="95536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1295280"/>
            <a:ext cx="1143000" cy="13716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371600"/>
              <a:gd name="textAreaBottom" fmla="*/ 1315800 h 1371600"/>
            </a:gdLst>
            <a:ahLst/>
            <a:rect l="textAreaLeft" t="textAreaTop" r="textAreaRight" b="textAreaBottom"/>
            <a:pathLst>
              <a:path w="21600" h="25919">
                <a:moveTo>
                  <a:pt x="3600" y="0"/>
                </a:moveTo>
                <a:arcTo wR="3600" hR="3600" stAng="16200000" swAng="-5400000"/>
                <a:lnTo>
                  <a:pt x="0" y="22319"/>
                </a:lnTo>
                <a:arcTo wR="3600" hR="3600" stAng="10800000" swAng="-5400000"/>
                <a:lnTo>
                  <a:pt x="18000" y="259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hris Rorde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46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University of South Carolina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46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"/>
              </a:rPr>
              <a:t>Norman J. Arnold School of Public Health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46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"/>
              </a:rPr>
              <a:t>Department of Communication Sciences and Disorder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46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University of South Carolina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3" name="native-space_wholebrain" descr=""/>
          <p:cNvPicPr/>
          <p:nvPr/>
        </p:nvPicPr>
        <p:blipFill>
          <a:blip r:embed="rId1"/>
          <a:stretch/>
        </p:blipFill>
        <p:spPr>
          <a:xfrm>
            <a:off x="6172200" y="3286080"/>
            <a:ext cx="4076640" cy="35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646A-C5DE-41A0-A65A-A9150706A60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gray707" descr=""/>
          <p:cNvPicPr/>
          <p:nvPr/>
        </p:nvPicPr>
        <p:blipFill>
          <a:blip r:embed="rId1"/>
          <a:stretch/>
        </p:blipFill>
        <p:spPr>
          <a:xfrm>
            <a:off x="0" y="1295280"/>
            <a:ext cx="3962520" cy="3160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tate Nucle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Fig12_2b" descr=""/>
          <p:cNvPicPr/>
          <p:nvPr/>
        </p:nvPicPr>
        <p:blipFill>
          <a:blip r:embed="rId2"/>
          <a:stretch/>
        </p:blipFill>
        <p:spPr>
          <a:xfrm>
            <a:off x="3581280" y="1752480"/>
            <a:ext cx="5905800" cy="375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161960" y="573876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on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34440" y="4430880"/>
            <a:ext cx="21909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ontin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rojection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319720" y="4887720"/>
            <a:ext cx="762120" cy="106668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786200" y="3440160"/>
            <a:ext cx="914400" cy="137160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46040" y="4205160"/>
            <a:ext cx="16498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Dentat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ucleu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7453080" y="3211560"/>
            <a:ext cx="1066680" cy="144792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55960" y="5224320"/>
            <a:ext cx="2053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uperior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erebellar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eduncl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148520" y="3516120"/>
            <a:ext cx="457200" cy="198108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C006-6044-43DA-B2DD-1A989B1641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atotopic 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791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actile information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psilateral anterior lobule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ilateral paramedian lobule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erebral Cortex and Cerebellum have similar representation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otor representation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ame area as sensory mapping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ay have auditory and visual processing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50" name="figure5-12" descr=""/>
          <p:cNvPicPr/>
          <p:nvPr/>
        </p:nvPicPr>
        <p:blipFill>
          <a:blip r:embed="rId1"/>
          <a:stretch/>
        </p:blipFill>
        <p:spPr>
          <a:xfrm>
            <a:off x="6019920" y="1371600"/>
            <a:ext cx="4190760" cy="305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071E-A6CA-478C-93ED-821C2CDD38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verse Cerebellar Reg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9906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Floccular nodular lobe (Archicerebellum 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804600" indent="-40212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Oldest, related to vestibular part of VIII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804600" indent="-40212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egulates equilibrium through vestibulospinal tract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nterior lobe (Paleocerebellum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804600" indent="-40212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ostral to Primary Fissur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804600" indent="-40212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General Sensory Receptor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804600" indent="-40212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oncerned with muscle tone and walking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osterior lobe (Neocerebellum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804600" indent="-40212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Newest and Largest, Receives afferent projections from contralateral sensorimotor cortex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804600" indent="-40212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rojects to contralateral motor cortex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804600" indent="-40212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unctions in coordination of fine and skilled movement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3F9B-FEAD-4475-97FE-3A38627AEE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itudinal Cerebellar Reg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ermi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ntributes to body posture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aravermal region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gulates movements of ipsilateral extremities (e.g. walking)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ateral Zone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gulates skilled movements of ipsilateral extremity (e.g. tying your shoe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448C-3743-46D3-9FE1-026DE044A9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ellar Conn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hree Peduncle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ferior – afferent: mediate sensorimotor input to the cerebellum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iddle – afferent: same as abov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uperior – efferent: transmit output from the cerebellum to the brainstem and on to the thalamus, motor cortex, and spinal cord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Varied afferents to Cerebellum :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pinal cord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brainstem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otor cortex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fferenet:Efferent Ratio = 40:1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or each going from cerebellum to body, 40 coming in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447D-6097-4E9C-86C2-7578BA9201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erent Pathways (Inferior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estibulocerebellar Trac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fo From Semicircular Canals Through Inferior Peduncl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aintains Upright Postur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Dorsal Spinocerebellar Trac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fo From Reticular Nuclei (involved in regulation of sleep, respiration, heartbeat, etc.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Unconscious Proprioception From Muscle Spindles, Golgi Tendons and Tactile Receptor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26F4-AB4D-483D-9F58-3FD124ADD0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erent Pathways (Inferior 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ticulocerebellar Tract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fo From Cerebral Cortices, Spinal Cord, Vestibular Complex, and Red Nucleu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Olivocerebellar Tract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fo From Spinal Cord Through Olivary N to Contralateral Cerebellar Hemisphere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ource of Climbing Fibers for Direct Input to Cerebellum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uneocerebellar Tract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diate Proprioception From Upper Limbs and Neck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E32B-0A7D-4FDA-9E77-E5E3B4FDA1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erent and Efferent Proje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Fig12_4" descr=""/>
          <p:cNvPicPr/>
          <p:nvPr/>
        </p:nvPicPr>
        <p:blipFill>
          <a:blip r:embed="rId1"/>
          <a:srcRect l="0" t="0" r="0" b="4056"/>
          <a:stretch/>
        </p:blipFill>
        <p:spPr>
          <a:xfrm>
            <a:off x="2819520" y="1447920"/>
            <a:ext cx="4084560" cy="5410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920" y="3668760"/>
            <a:ext cx="239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uperior Cerebellar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eduncle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79600" y="4038480"/>
            <a:ext cx="20574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6000" y="2602080"/>
            <a:ext cx="15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Red nucleus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93800" y="2895480"/>
            <a:ext cx="2819520" cy="1219320"/>
          </a:xfrm>
          <a:prstGeom prst="line">
            <a:avLst/>
          </a:prstGeom>
          <a:ln w="38160">
            <a:solidFill>
              <a:srgbClr val="7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6720" y="183996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Thalamus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65200" y="2133720"/>
            <a:ext cx="3505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9400" y="4648320"/>
            <a:ext cx="322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Middle Cerebellar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eduncle (pontocerebellar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bers)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60840" y="4952880"/>
            <a:ext cx="685800" cy="1526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3920" y="4964040"/>
            <a:ext cx="321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Inferior Cerebellar Nucleus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(olivocerebellar fibers)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284720" y="5181480"/>
            <a:ext cx="2362320" cy="5335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191120" y="4190760"/>
            <a:ext cx="457200" cy="53316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3657240" y="5105160"/>
            <a:ext cx="1066680" cy="15228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3886200" y="5715000"/>
            <a:ext cx="990720" cy="45720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79F5-6E19-4B7C-8A73-654EF797D5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erent Pathways (Middl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Info From Pontine Nuclei From Opposite Cerebral Cortex, Visual and Auditory Input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o Opposite Cerebellar Hemisphere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1907-6660-4B36-9A5B-6E0AD2E539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rent Pathway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rise From Cerebellar Nuclei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entate nucleu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mboliform nucleu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Globose Nucleu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rough Superior Cerebellar Peduncle to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d Nucleus (Brainstem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halamu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otor Cortex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6685-2B74-4EED-AB91-D4A51F44B6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 of Cerebell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Error Control Device - Monitor, Quality Contro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onitors outputs to muscles from motor cortex and sensory signals from receptor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mpares the efferent project plan with execution at motor action sit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nsiders related factors and makes adjustment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214C-363B-43DA-960C-8094BBF2AF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ellar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tructured in Three Parallel Layer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olecula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urkinje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onnecting Surface and Deep Cerebellar Nuclei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ource of All Efferent Fiber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erebellar Cortex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Granula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Have Mossy Fiber Axons to Purkinje Axon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F80BF-E061-41A8-A459-5D5E881FBF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nical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86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gns of Dysfunction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mpaired Muscle Synerg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duced Muscle Ton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vident in Skilled Task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taxia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ack of Order and Coordination in Activitie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low Movement (Bradykinesia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ild Muscular Weakness (Asthenia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synergia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peech difficulties (Ataxic Dysarthria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affects respiration, phonation, resonance and articulation, but most pronounced in articulation and prosody.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B1C4E-64D9-47C7-AA9F-DEB2324C41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nical Considerations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ysdiadochokinesia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lumsiness in Alternating Movement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apping, Speech Sound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ysarthria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taxic Dysarthria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canning Speech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lurred and Disjointed Speech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ysmetria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rror in Judgment of Range and Distance of Target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Undershooting or Overshooting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DAF1-7EB4-4470-B7B2-43466C2979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nical Considerations 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tentional Tremo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Accessory Movement During Volitional Task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vs. Parkinson’s Disease Where Tremor Lessens During Volitional Movement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Hypotonia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educed Resistance to Passive Stretch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bounding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ability to Predict Movement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annot Hold Back Movement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isequilibrium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Unsteady Gait, Body Wavering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F5F1-AD5A-4279-89F3-4E5803688C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ellar Patholog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5960" y="1752120"/>
            <a:ext cx="9001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erebrovascular Accident (CVA)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hrombotic, embolic or hemorrhagic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Vertebrobasilar Arter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oxicity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hronic Alcoholism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rogressive Cerebellar Degeneration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Friedrich's Ataxia: Autosomal Recessive Heredity Degenerative Conditio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mbined Sensory and Motor Dysfunction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90" name="c16ct2" descr=""/>
          <p:cNvPicPr/>
          <p:nvPr/>
        </p:nvPicPr>
        <p:blipFill>
          <a:blip r:embed="rId1"/>
          <a:srcRect l="14544" t="6237" r="21818" b="8530"/>
          <a:stretch/>
        </p:blipFill>
        <p:spPr>
          <a:xfrm>
            <a:off x="7620120" y="1295280"/>
            <a:ext cx="266688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1E55-00FE-48B4-A8DF-43EDFB7C8D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50% of brain’s neurons, 10% of volume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an change movements as necessary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.G. Walking or talking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Does not reach conscious awarenes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uscle synergy or coordination monitored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Important in running, speaking  - all fluid movement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D767-B35C-42D2-93C2-B0C88E313F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ntorium cerebell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40" y="1447920"/>
            <a:ext cx="5124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"tent of the cerebellum"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dura mater that separates the cerebellum from the inferior portion of the occipital lobes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0" name="Gray766" descr=""/>
          <p:cNvPicPr/>
          <p:nvPr/>
        </p:nvPicPr>
        <p:blipFill>
          <a:blip r:embed="rId1"/>
          <a:stretch/>
        </p:blipFill>
        <p:spPr>
          <a:xfrm>
            <a:off x="5702400" y="1676520"/>
            <a:ext cx="4584600" cy="5181480"/>
          </a:xfrm>
          <a:prstGeom prst="rect">
            <a:avLst/>
          </a:prstGeom>
          <a:ln w="0">
            <a:noFill/>
          </a:ln>
        </p:spPr>
      </p:pic>
      <p:pic>
        <p:nvPicPr>
          <p:cNvPr id="101" name="Illu_tentorium" descr=""/>
          <p:cNvPicPr/>
          <p:nvPr/>
        </p:nvPicPr>
        <p:blipFill>
          <a:blip r:embed="rId2"/>
          <a:srcRect l="0" t="15534" r="0" b="0"/>
          <a:stretch/>
        </p:blipFill>
        <p:spPr>
          <a:xfrm>
            <a:off x="914400" y="4191120"/>
            <a:ext cx="441972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696A-EFD5-4A3F-A1C5-35A653DD24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erior Cranial Foss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5352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ssa is a depression or cavity in the bone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erebellum, pons, and medulla oblongata sit in the Posterior cranial fossa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4" name="Gray193" descr=""/>
          <p:cNvPicPr/>
          <p:nvPr/>
        </p:nvPicPr>
        <p:blipFill>
          <a:blip r:embed="rId1"/>
          <a:stretch/>
        </p:blipFill>
        <p:spPr>
          <a:xfrm>
            <a:off x="6550200" y="1362240"/>
            <a:ext cx="3736800" cy="5495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001000" y="4052880"/>
            <a:ext cx="1676520" cy="2077920"/>
          </a:xfrm>
          <a:custGeom>
            <a:avLst/>
            <a:gdLst/>
            <a:ahLst/>
            <a:rect l="l" t="t" r="r" b="b"/>
            <a:pathLst>
              <a:path w="1056" h="1309">
                <a:moveTo>
                  <a:pt x="0" y="1309"/>
                </a:moveTo>
                <a:lnTo>
                  <a:pt x="46" y="0"/>
                </a:lnTo>
                <a:lnTo>
                  <a:pt x="336" y="39"/>
                </a:lnTo>
                <a:lnTo>
                  <a:pt x="576" y="423"/>
                </a:lnTo>
                <a:lnTo>
                  <a:pt x="1056" y="615"/>
                </a:lnTo>
                <a:lnTo>
                  <a:pt x="960" y="951"/>
                </a:lnTo>
                <a:lnTo>
                  <a:pt x="432" y="1239"/>
                </a:lnTo>
                <a:lnTo>
                  <a:pt x="0" y="1309"/>
                </a:lnTo>
                <a:close/>
              </a:path>
            </a:pathLst>
          </a:custGeom>
          <a:noFill/>
          <a:ln w="38160">
            <a:solidFill>
              <a:srgbClr val="99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6B3C-7675-40C8-8ACF-5CE8D796F8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gray703" descr=""/>
          <p:cNvPicPr/>
          <p:nvPr/>
        </p:nvPicPr>
        <p:blipFill>
          <a:blip r:embed="rId1"/>
          <a:stretch/>
        </p:blipFill>
        <p:spPr>
          <a:xfrm>
            <a:off x="5334120" y="1295280"/>
            <a:ext cx="4686120" cy="27338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ellar Anatom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ocated dorsal to pons and medulla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In posterior fossa under tentorium cerebelli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ob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Floccular Nodular(small fluffy mass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nterio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osterior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78800" y="838080"/>
            <a:ext cx="1874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en from fee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10" name="CerebellumRegions" descr=""/>
          <p:cNvPicPr/>
          <p:nvPr/>
        </p:nvPicPr>
        <p:blipFill>
          <a:blip r:embed="rId2"/>
          <a:stretch/>
        </p:blipFill>
        <p:spPr>
          <a:xfrm>
            <a:off x="5486400" y="4556160"/>
            <a:ext cx="2705040" cy="2301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844760" y="6324480"/>
            <a:ext cx="2089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osterior lobe (I)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314840" y="4419720"/>
            <a:ext cx="304920" cy="2286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16520" y="4114800"/>
            <a:ext cx="20757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Anterior lobe (H)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7619760" y="6019920"/>
            <a:ext cx="685800" cy="30456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2557-2023-4CB8-B084-C0C6F399A3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attened Cerebell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133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ongitudinally separated into hemispheres and cortic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edian (Vermal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Vermis=worm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aramedian (Paraverma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Latera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7" name="cerebellumDiv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5570640" cy="38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5B574-2060-4114-A511-35B6965467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Fig12_1b1" descr=""/>
          <p:cNvPicPr/>
          <p:nvPr/>
        </p:nvPicPr>
        <p:blipFill>
          <a:blip r:embed="rId1"/>
          <a:stretch/>
        </p:blipFill>
        <p:spPr>
          <a:xfrm>
            <a:off x="2438280" y="1978200"/>
            <a:ext cx="6400800" cy="4849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973240" y="19051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edian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255760"/>
            <a:ext cx="1066680" cy="30492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6600" y="172260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aramedian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095880" y="2255760"/>
            <a:ext cx="76320" cy="38124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11080" y="1792440"/>
            <a:ext cx="15811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rimary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ssur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086600" y="2332080"/>
            <a:ext cx="990720" cy="53352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12680" y="2789280"/>
            <a:ext cx="18068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osterior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uperior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ssur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620120" y="3094200"/>
            <a:ext cx="380880" cy="15228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87320" y="5421240"/>
            <a:ext cx="20095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orizonta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ssur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8381880" y="4160520"/>
            <a:ext cx="609840" cy="121932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248520"/>
            <a:ext cx="3095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osterolateral Fissure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5715000"/>
            <a:ext cx="29718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repyramidal Fissure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76720" y="6019920"/>
            <a:ext cx="1143000" cy="38088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124080" y="5790960"/>
            <a:ext cx="914400" cy="15228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7D21-8DBB-4102-91C4-7238800213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ellar Nucle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uclei = deep cluster of neuron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entate nucleu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Largest, communicates through cerebellar peduncle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arries information important for coordination of limb movements (along with the motor cortex and basal ganglia)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mboliform  nucleus (medial side of the nucleus dentatus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Regulates movements of ipsilateral extremity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Globose nucleu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Regulates movements of ipsilateral extremity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astigial nucleu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Regulates body posture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Is related to the flocculo nodular lobe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6" name="nuclei" descr=""/>
          <p:cNvPicPr/>
          <p:nvPr/>
        </p:nvPicPr>
        <p:blipFill>
          <a:blip r:embed="rId1"/>
          <a:stretch/>
        </p:blipFill>
        <p:spPr>
          <a:xfrm>
            <a:off x="7238880" y="1371600"/>
            <a:ext cx="2982960" cy="49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B1FD-7B3B-4AE3-9CC0-AACADBAE20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8T15:33:43Z</dcterms:created>
  <dc:creator>Chris Rorden</dc:creator>
  <dc:description/>
  <dc:language>en-US</dc:language>
  <cp:lastModifiedBy>Chris Rorden</cp:lastModifiedBy>
  <cp:lastPrinted>1999-01-08T00:45:34Z</cp:lastPrinted>
  <dcterms:modified xsi:type="dcterms:W3CDTF">2007-10-30T14:58:38Z</dcterms:modified>
  <cp:revision>153</cp:revision>
  <dc:subject/>
  <dc:title>Temporal Aspects of Visual Extinction</dc:title>
</cp:coreProperties>
</file>