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7160-C75A-48FF-B493-D57FA57B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57A7-98BF-499A-95AD-B2CB2F529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170B-BDD5-4AC7-B6A7-770E3E87E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D44A-D7E7-4A8E-ABD3-E90274850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CFB7-0269-412C-9570-565C131E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DDEAE-1F39-485B-A222-0BAA5FC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2742B-6173-4F55-A1AF-142EF4A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8E64-E5C2-4D60-9E47-316528C2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F2B77-17E2-4F4F-84BC-FC325991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C20AF-184F-4E13-9388-19E0779F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FF93B-6A8D-49D4-993A-6466C6F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694C-0509-4050-9DF6-0B6C80E2C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A8339-68E3-4E2B-9FCD-04F5261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DB39E-F537-44D3-92CE-E2540D4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3505-D6A0-43CA-BCCF-B2AC616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03DAC-AE95-422F-AB48-61730033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A569-E07E-47BC-AFE7-A9CC8873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8E2A-EBD5-40C6-A234-62E240BE0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A833-27DB-4523-807A-B1CEC5D44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0F65-C538-4BA8-A5A1-EB796E8AA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4A0D-9016-4059-B292-58920CC08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5BD-ECC3-4B32-BB5C-61627A007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0AC8-3A96-4D7A-9B4E-F341A72F6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AC6B-F238-484D-83C9-CCDF70CBE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8DE-4C8B-4E07-9436-74553E3B2C06}" type="slidenum">
              <a:rPr b="1" lang="en-GB" sz="2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dr_logo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" name="hdr_logo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990720"/>
            <a:ext cx="5829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86000" y="4889520"/>
            <a:ext cx="5486400" cy="318960"/>
            <a:chOff x="4086000" y="4889520"/>
            <a:chExt cx="5486400" cy="318960"/>
          </a:xfrm>
        </p:grpSpPr>
        <p:sp>
          <p:nvSpPr>
            <p:cNvPr id="46" name=""/>
            <p:cNvSpPr/>
            <p:nvPr/>
          </p:nvSpPr>
          <p:spPr>
            <a:xfrm flipH="1">
              <a:off x="4085640" y="4889520"/>
              <a:ext cx="52038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79720" y="4889520"/>
              <a:ext cx="292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3000240" y="6550560"/>
            <a:ext cx="2143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5845320" y="6550560"/>
            <a:ext cx="3689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11160" y="6358320"/>
            <a:ext cx="66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3ADF-88F4-4933-B4F4-39295DD67C5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053720" y="1425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s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 System – Cerebell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1295280"/>
            <a:ext cx="6248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81080"/>
            <a:ext cx="9553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295280"/>
            <a:ext cx="1143000" cy="1371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371600"/>
              <a:gd name="textAreaBottom" fmla="*/ 1315800 h 13716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is Rord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iversity of South Carolin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Norman J. Arnold School of Public Healt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Department of Communication Sciences and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University of South Carolin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3" name="native-space_wholebrain" descr=""/>
          <p:cNvPicPr/>
          <p:nvPr/>
        </p:nvPicPr>
        <p:blipFill>
          <a:blip r:embed="rId1"/>
          <a:stretch/>
        </p:blipFill>
        <p:spPr>
          <a:xfrm>
            <a:off x="6172200" y="3286080"/>
            <a:ext cx="407664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8D65-EC9A-444D-800F-59D9861D6E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ay707" descr=""/>
          <p:cNvPicPr/>
          <p:nvPr/>
        </p:nvPicPr>
        <p:blipFill>
          <a:blip r:embed="rId1"/>
          <a:stretch/>
        </p:blipFill>
        <p:spPr>
          <a:xfrm>
            <a:off x="0" y="1295280"/>
            <a:ext cx="3962520" cy="3160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ate Nucle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Fig12_2b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5905800" cy="375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61960" y="57387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34440" y="4430880"/>
            <a:ext cx="219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ntin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ojecti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19720" y="4887720"/>
            <a:ext cx="762120" cy="10666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6200" y="3440160"/>
            <a:ext cx="914400" cy="137160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46040" y="4205160"/>
            <a:ext cx="1649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entat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7453080" y="3211560"/>
            <a:ext cx="1066680" cy="14479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5960" y="5224320"/>
            <a:ext cx="2053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up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ella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dun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8520" y="3516120"/>
            <a:ext cx="457200" cy="19810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6E95-F529-4463-A06B-60DF23F51A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actile inform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psilateral anterior lobul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lateral paramedian lobul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rebral Cortex and Cerebellum have similar represent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tor represent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me area as sensory mapp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have auditory and visual process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0" name="figure5-12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4190760" cy="30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13E1-20F4-4C5C-B86F-5069DD01AE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verse Cerebellar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9906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loccular nodular lobe (Archicerebellum 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ldest, related to vestibular part of VIII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gulates equilibrium through vestibulospinal trac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erior lobe (Paleocerebellu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ostral to Primary Fissur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eral Sensory Recepto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cerned with muscle tone and walk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terior lobe (Neocerebellu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ewest and Largest, Receives afferent projections from contralateral sensori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ojects to contralateral 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unctions in coordination of fine and skilled mov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A1B7-32BE-466B-8E24-D04B1B87C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itudinal Cerebellar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rm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ributes to body postur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avermal reg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gulates movements of ipsilateral extremities (e.g. walking)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 Z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gulates skilled movements of ipsilateral extremity (e.g. tying your shoe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4700-2855-4268-8CFA-0C4FD9034E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Conn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ee Peduncl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erior – afferent: mediate sensorimotor input to the cerebellu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iddle – afferent: same as abov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perior – efferent: transmit output from the cerebellum to the brainstem and on to the thalamus, motor cortex, and spinal cor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aried afferents to Cerebellum 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inal cord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rainstem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fferenet:Efferent Ratio = 40:1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each going from cerebellum to body, 40 coming i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2B59-27A1-4E36-BB89-ADDFF762D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Inferio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stibulocerebellar Trac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fo From Semicircular Canals Through Inferior Pedunc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s Upright Postur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orsal Spinocerebellar Trac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fo From Reticular Nuclei (involved in regulation of sleep, respiration, heartbeat, etc.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nconscious Proprioception From Muscle Spindles, Golgi Tendons and Tactile Recep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22AD-E8FE-4AD1-B28D-B70AB42AA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Inferior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icul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o From Cerebral Cortices, Spinal Cord, Vestibular Complex, and Red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liv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o From Spinal Cord Through Olivary N to Contralateral Cerebellar Hemispher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urce of Climbing Fibers for Direct Input to Cerebellu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une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ate Proprioception From Upper Limbs and Nec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2DB0-A6E3-46F8-B3A0-DB71630EA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and Efferent Proj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ig12_4" descr=""/>
          <p:cNvPicPr/>
          <p:nvPr/>
        </p:nvPicPr>
        <p:blipFill>
          <a:blip r:embed="rId1"/>
          <a:srcRect l="0" t="0" r="0" b="4056"/>
          <a:stretch/>
        </p:blipFill>
        <p:spPr>
          <a:xfrm>
            <a:off x="2819520" y="1447920"/>
            <a:ext cx="4084560" cy="54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3668760"/>
            <a:ext cx="23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uperior Cerebella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duncl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79600" y="4038480"/>
            <a:ext cx="20574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60208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d nucle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3800" y="2895480"/>
            <a:ext cx="2819520" cy="1219320"/>
          </a:xfrm>
          <a:prstGeom prst="line">
            <a:avLst/>
          </a:prstGeom>
          <a:ln w="381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720" y="18399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5200" y="2133720"/>
            <a:ext cx="3505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9400" y="4648320"/>
            <a:ext cx="322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iddle Cerebella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duncle (pontocerebellar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bers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0840" y="49528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3920" y="4964040"/>
            <a:ext cx="32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ferior Cerebellar Nucle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(olivocerebellar fibers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84720" y="5181480"/>
            <a:ext cx="236232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4190760"/>
            <a:ext cx="457200" cy="533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657240" y="5105160"/>
            <a:ext cx="1066680" cy="15228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886200" y="5715000"/>
            <a:ext cx="990720" cy="45720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CC09-DC84-44E0-B512-E67AF57E64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Midd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fo From Pontine Nuclei From Opposite Cerebral Cortex, Visual and Auditory Inpu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 Opposite Cerebellar Hemispher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02EE-6A8A-45EB-8771-471FB8A85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Path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rise From Cerebellar Nuclei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ntate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mboliform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lobose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rough Superior Cerebellar Peduncle to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d Nucleus (Brainste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tor Cortex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904A-A666-4310-BBBA-3F85E9C8C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 of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rror Control Device - Monitor, Quality Contro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nitors outputs to muscles from motor cortex and sensory signals from recep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pares the efferent project plan with execution at motor action sit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siders related factors and makes adjustm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6410-EE60-418B-B409-2E300889B3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ructured in Three Parallel Layer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lecula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urkinj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necting Surface and Deep Cerebellar Nuclei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urce of All Efferent Fib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ella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ranula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ave Mossy Fiber Axons to Purkinje Ax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B3E2-096D-485F-9D17-440096674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86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gns of Dysfunc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aired Muscle Syner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duced Muscle To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vident in Skilled Task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taxia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ck of Order and Coordination in Activiti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ow Movement (Bradykines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ild Muscular Weakness (Asthen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synerg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eech difficulties (Ataxic Dysarthr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ffects respiration, phonation, resonance and articulation, but most pronounced in articulation and prosody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B3C5-DA8E-4DC1-A4A0-52F91A2B35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diadochokines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umsiness in Alternating Mov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apping, Speech Soun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arthr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taxic Dysarthr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canning Speech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urred and Disjointed Speec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metr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rror in Judgment of Range and Distance of Targe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dershooting or Overshoot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D009-4C32-4781-905D-0B26BC978E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ntional Trem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ccessory Movement During Volitional Tas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s. Parkinson’s Disease Where Tremor Lessens During Volitional Movemen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ypoto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duced Resistance to Passive Stretc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bound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ability to Predict Movemen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annot Hold Back Moveme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isequilibriu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steady Gait, Body Waver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167A-A1A6-4F88-8C13-C2FBA078D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Path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9001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rovascular Accident (CVA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ombotic, embolic or hemorrhagic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ertebrobasilar Arte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xicit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onic Alcoholis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ogressive Cerebellar Degener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riedrich's Ataxia: Autosomal Recessive Heredity Degenerative Condi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bined Sensory and Motor Dysfunc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0" name="c16ct2" descr=""/>
          <p:cNvPicPr/>
          <p:nvPr/>
        </p:nvPicPr>
        <p:blipFill>
          <a:blip r:embed="rId1"/>
          <a:srcRect l="14544" t="6237" r="21818" b="8530"/>
          <a:stretch/>
        </p:blipFill>
        <p:spPr>
          <a:xfrm>
            <a:off x="7620120" y="1295280"/>
            <a:ext cx="26668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CA67-D2D0-4B6F-B44F-857C4CABC0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0% of brain’s neurons, 10% of volum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n change movements as necessar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.G. Walking or talk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oes not reach conscious aware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scle synergy or coordination monitore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portant in running, speaking  - all fluid movemen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D82-56D3-4C5E-AF4B-4B6E2280F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torium cerebel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5124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"tent of the cerebellum"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ura mater that separates the cerebellum from the inferior portion of the occipital lob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Gray766" descr=""/>
          <p:cNvPicPr/>
          <p:nvPr/>
        </p:nvPicPr>
        <p:blipFill>
          <a:blip r:embed="rId1"/>
          <a:stretch/>
        </p:blipFill>
        <p:spPr>
          <a:xfrm>
            <a:off x="5702400" y="1676520"/>
            <a:ext cx="4584600" cy="5181480"/>
          </a:xfrm>
          <a:prstGeom prst="rect">
            <a:avLst/>
          </a:prstGeom>
          <a:ln w="0">
            <a:noFill/>
          </a:ln>
        </p:spPr>
      </p:pic>
      <p:pic>
        <p:nvPicPr>
          <p:cNvPr id="101" name="Illu_tentorium" descr=""/>
          <p:cNvPicPr/>
          <p:nvPr/>
        </p:nvPicPr>
        <p:blipFill>
          <a:blip r:embed="rId2"/>
          <a:srcRect l="0" t="15534" r="0" b="0"/>
          <a:stretch/>
        </p:blipFill>
        <p:spPr>
          <a:xfrm>
            <a:off x="914400" y="419112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6E03-4083-472B-AB93-0CC3814E5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erior Cranial Fos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352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ssa is a depression or cavity in the b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ellum, pons, and medulla oblongata sit in the Posterior cranial fossa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4" name="Gray193" descr=""/>
          <p:cNvPicPr/>
          <p:nvPr/>
        </p:nvPicPr>
        <p:blipFill>
          <a:blip r:embed="rId1"/>
          <a:stretch/>
        </p:blipFill>
        <p:spPr>
          <a:xfrm>
            <a:off x="6550200" y="1362240"/>
            <a:ext cx="3736800" cy="549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01000" y="4052880"/>
            <a:ext cx="1676520" cy="2077920"/>
          </a:xfrm>
          <a:custGeom>
            <a:avLst/>
            <a:gdLst/>
            <a:ahLst/>
            <a:rect l="l" t="t" r="r" b="b"/>
            <a:pathLst>
              <a:path w="1056" h="1309">
                <a:moveTo>
                  <a:pt x="0" y="1309"/>
                </a:moveTo>
                <a:lnTo>
                  <a:pt x="46" y="0"/>
                </a:lnTo>
                <a:lnTo>
                  <a:pt x="336" y="39"/>
                </a:lnTo>
                <a:lnTo>
                  <a:pt x="576" y="423"/>
                </a:lnTo>
                <a:lnTo>
                  <a:pt x="1056" y="615"/>
                </a:lnTo>
                <a:lnTo>
                  <a:pt x="960" y="951"/>
                </a:lnTo>
                <a:lnTo>
                  <a:pt x="432" y="1239"/>
                </a:lnTo>
                <a:lnTo>
                  <a:pt x="0" y="1309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7664-A866-47CB-9D01-840FA6D8C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ray703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4686120" cy="2733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cated dorsal to pons and medull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 posterior fossa under tentorium cerebelli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b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loccular Nodular(small fluffy mass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ter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78800" y="838080"/>
            <a:ext cx="1874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en from fee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10" name="CerebellumRegions" descr=""/>
          <p:cNvPicPr/>
          <p:nvPr/>
        </p:nvPicPr>
        <p:blipFill>
          <a:blip r:embed="rId2"/>
          <a:stretch/>
        </p:blipFill>
        <p:spPr>
          <a:xfrm>
            <a:off x="5486400" y="4556160"/>
            <a:ext cx="2705040" cy="230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844760" y="6324480"/>
            <a:ext cx="2089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osterior lobe (I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314840" y="4419720"/>
            <a:ext cx="304920" cy="2286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16520" y="4114800"/>
            <a:ext cx="2075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nterior lobe (H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619760" y="6019920"/>
            <a:ext cx="685800" cy="3045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9645-A014-457C-BDF0-D15D42B034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ttened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133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ngitudinally separated into hemispheres and cort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an (Vermal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rmis=wor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ramedian (Paraverm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7" name="cerebellumDiv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5570640" cy="38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6A96-32E8-4DA6-85E2-02257AA1E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Fig12_1b1" descr=""/>
          <p:cNvPicPr/>
          <p:nvPr/>
        </p:nvPicPr>
        <p:blipFill>
          <a:blip r:embed="rId1"/>
          <a:stretch/>
        </p:blipFill>
        <p:spPr>
          <a:xfrm>
            <a:off x="2438280" y="1978200"/>
            <a:ext cx="6400800" cy="4849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3240" y="1905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55760"/>
            <a:ext cx="1066680" cy="3049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6600" y="17226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amedia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95880" y="2255760"/>
            <a:ext cx="76320" cy="38124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1080" y="1792440"/>
            <a:ext cx="15811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086600" y="2332080"/>
            <a:ext cx="990720" cy="5335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12680" y="2789280"/>
            <a:ext cx="18068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st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up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620120" y="3094200"/>
            <a:ext cx="380880" cy="1522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7320" y="5421240"/>
            <a:ext cx="2009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8381880" y="4160520"/>
            <a:ext cx="60984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248520"/>
            <a:ext cx="3095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osterolateral Fissur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715000"/>
            <a:ext cx="297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epyramidal Fissur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76720" y="6019920"/>
            <a:ext cx="1143000" cy="3808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24080" y="5790960"/>
            <a:ext cx="914400" cy="1522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C1E8-99BF-475D-B78A-E06FB0F6A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Nucle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uclei = deep cluster of neuron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ntat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argest, communicates through cerebellar peduncl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arries information important for coordination of limb movements (along with the motor cortex and basal ganglia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mboliform  nucleus (medial side of the nucleus dentatus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movements of ipsilateral extrem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lobos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movements of ipsilateral extrem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astigial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body postur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s related to the flocculo nodular lob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nuclei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298296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E38C-C62A-4DC5-A1ED-B35E3640C7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5:33:43Z</dcterms:created>
  <dc:creator>Chris Rorden</dc:creator>
  <dc:description/>
  <dc:language>en-US</dc:language>
  <cp:lastModifiedBy>Chris Rorden</cp:lastModifiedBy>
  <cp:lastPrinted>1999-01-08T00:45:34Z</cp:lastPrinted>
  <dcterms:modified xsi:type="dcterms:W3CDTF">2007-10-30T14:58:38Z</dcterms:modified>
  <cp:revision>153</cp:revision>
  <dc:subject/>
  <dc:title>Temporal Aspects of Visual Extinction</dc:title>
</cp:coreProperties>
</file>