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3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25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  <p:sldId id="310" r:id="rId69"/>
    <p:sldId id="311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slide" Target="slides/slide55.xml"/><Relationship Id="rId70" Type="http://schemas.openxmlformats.org/officeDocument/2006/relationships/slide" Target="slides/slide56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6F0A7-DD9E-43EB-92AA-CD938ACEB2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2B139-EAD8-468B-B8F3-11BFEB9D862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74C81-27C7-418A-85D3-4D9A805877B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AA56F-A8D3-4F89-95AD-3DFD777042B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24C3B-205D-42ED-B663-B3665EDF9B8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24AC9-73BD-42BB-BABF-F14A3D981D5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72056-79FB-4B8C-BCD7-A81139D6EF4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076E2-26AD-4F18-B364-3E24B945405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9E740-5375-487F-AE69-C9BBA7489AE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F5CC1-599D-43EB-ABC7-E2EA5B9B46C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D406A-360C-46A9-BF04-DC9437BE70A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E4097-C124-46CF-92CA-01F4A4A548F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1CB7A-3E61-4F49-BCAE-D3525F1D819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FA68D-C900-4F8D-ACA4-CAC5ACDB15D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286CA-CAE4-4F38-B458-D82CACFC562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E9C86-7A2C-4E31-A354-723AAE80AF1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836EF-97E9-4CDF-8A2A-8BA87F8DA00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33135-B98D-4F52-BF33-1AB8CA2DC87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81898-7829-4F5F-83E8-2C013AD20E5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122CD-9427-4E2B-83A4-F9A9FC3942E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D6BDF-D67D-477E-BC4F-676EEF34BB2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18EA5-2298-42D7-9316-17501F31E1E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62BDE-9309-42BE-8D71-A0EA925554B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11394-74BE-47BF-BD26-87B4C5AF590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0E9FC-4D88-4590-9BAB-3394417249E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7D23C-BCB6-4C90-A4FF-C4620DCE080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BB8B-20AF-4632-A4BC-44C0EFFE7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1F84-704D-4419-81FB-FF697969A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144C90-B85F-40E7-B7A1-226106CBE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4DC4E0-E709-40BB-BF02-4B77E8C5E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E5DC9C-88F4-4CCF-9019-889CA32D7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5B3A37-9090-473C-8F5F-873634F7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0EB969-0066-467A-BC27-2ED93118B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307E63-9C7F-44A3-9F26-544CC2FE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50B353-B13E-4468-9DEB-297D3FF4A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6ADF9E-B60E-4689-A492-9DA3CC64A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CCE2E3-946F-4F8F-933B-988D1CF45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8DE115-4672-4933-BBBF-DDE188E78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C51C-C879-4E5F-9637-74EF29CCE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CB96F0-2390-45BC-97B9-8243DCD72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11436F-9CCA-460F-A01F-FFD37D5E9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039B97-AF67-4B75-9293-F36202E40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2CC9F6-FFBD-4D1E-BA6D-D0C9198B3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CBF165-2AF1-4A54-86E1-E034578BD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52E944-7C99-4469-85A1-BF256321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EA2A3C-A550-4B63-A695-A1B1A91F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AFA15B-39AF-471F-9910-52B5A9829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AD3EC3-CF44-4708-934C-5B921EC1F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C182BF-6419-483F-9768-55233B959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12AD-7F9C-4F60-8C9F-228D6B3E0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FB93DF-7ACD-4D96-B27F-10A7F586C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BF519F-3F17-4ECC-8BED-1380502DC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4FD555-0FB7-4637-866A-7AEDCA6F6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3EB977-2F4E-4A67-BF2B-BBFF89841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94B488-3B5F-4EB1-841B-F156C1D06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F80AAE-8E4B-418E-BADC-2A360E2CD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DAD536-FBA0-47CD-9FB0-13C15B3F0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BCBE47-5176-479F-92EC-FF22920A0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B3734D-02FF-4528-9350-699102ABB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6E5623-70CB-43F2-90E7-0E5A6AEE3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83CF9-3A63-452A-9E8A-F4A36AF17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E60BF0-AC30-41B8-9B61-F6ED4D151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2318FF-0EB7-4B6D-B032-1413AB41E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EF4DF0-A363-4C02-95A5-B9DE42A71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A99831-22EB-4DC2-BD7F-0E20B8A44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02FBEB-7DF7-4EC4-B7BD-F04B19F05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E3CBD6-EA00-4398-AD9E-B5B681BA2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BC0994-BA90-47B2-B3B9-F579BE446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6B3F17-9752-4EF0-BB2C-6878728A4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870BB8-8EFB-414F-A5ED-AB34812A4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ED51EE-AA5F-46D8-A29A-3B74E90B5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4258C-949D-4295-8816-44C8321D0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B9903C-A670-4C5A-80F6-3CFB2AD4B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0C15D2-3C64-4C91-A9CB-41E15DFC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CC4F4E-ACC2-43B2-91CD-EF036A417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52B0D7-24D8-42E3-989B-D03EAFAD5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60C103-70CC-4B30-BDAA-C980C5AFC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5128D-3329-4CC2-BE5E-BA84AF4EA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0E34E-6A34-4D58-8549-1367F40B9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02C41-6AD2-4A8A-9758-688673D33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41623-CD35-4252-8195-829357B49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9AF59-0230-4351-89D2-3D9EB916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3893-C0C2-4F91-ABDF-12F1A86F8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6E17F-B848-4D6B-AB6A-DBD54ADF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EAA89-6882-4480-A6B7-F2E16C1E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16A80-8783-4909-AB8D-8733E7E2F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9C830-2174-4E27-BA99-41BCAF4B9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0A215-FC86-4986-89DF-8C01714D3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D5FEE-981D-4319-B66C-444DA7EC5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E0343-B8CB-4BBA-8871-2C699AE89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37AEC-0978-487B-BC1D-EDE090DC3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19EB3-57DD-4BD7-BA98-B41BD5E09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8638E-7E42-4BAA-ACED-33ADEC2F0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D9FA-2970-4537-8C88-CECC21071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FD448-7971-44EE-9F78-967C01B34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524C7-F511-41CF-B952-E9C48DC44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0F796-1ACB-41B5-A982-72BF0D875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A505C-B584-4B62-96ED-D7785003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6ECDE-6B2C-49C7-A7D5-8C98D9DA1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F6DD1-E798-4F16-ADCC-F6AD00A32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EEB40-0D00-4E1C-A254-AB7986D2B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D95F6-41C7-47C9-B5BB-5B86D632C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C447C-7888-4042-9069-726E3BEE0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BE481-AB9D-4156-A56A-2130F91E1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5FF8-F2ED-4D63-A2E2-5A366C4B2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B1FE1-C43D-44C6-9ACE-1412B0624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CAF3B-8EF4-499E-AAC4-A59BF1CB6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1A396-93A7-45B7-981A-38AD74A94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F116C-08D5-4CAD-9498-3AB8FD9E8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03707-1DC2-47FA-8F9A-9C000C64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9024B-800E-485A-AB40-EF75C8259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51AAF-38D5-46F2-915B-62C7BB0AE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33E50-35FC-4534-9F23-3148AEA37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A4FA2-0F00-4426-B2D8-611B858A7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8FF90-6100-4415-A445-9E55EC2E2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5159-0024-4A4C-BB1D-E51E3AEE5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ACE67-EAA7-47CB-842B-A68CB40A3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4C405C-5C80-4D20-A5EB-FEB7851EF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09C3C-8FF2-401C-AF0D-37EBE77DF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29FE10-EAE8-4859-B0DB-39CF00F97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A7375D-E6B1-4D21-9774-1BA5E0ABC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8A7A82-0B3C-4D72-87B3-8D370EAA0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1AF863-89A5-4D4F-9446-65DE0FD79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534008-E758-46CB-9843-2587DE04E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67B4E-1841-4398-BB61-D884CD00D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35789-7D55-4DB4-BDAF-BDE44CB1B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FE14-29FC-486B-A8DA-480BA0364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00B52-AAE7-4407-A9E5-3FCA0ADEE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1465C9-F46A-47A7-A864-CD41E67C5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95F8DD-724E-4258-A021-AA0FCB14D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17BA82-5BB1-4B9A-B3B3-2101225ED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CF4EDF-AC86-464A-AED8-3DC37EBE4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C191D1-7DAE-4D11-92D7-9A8CD2E03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6F7EB9-444F-4557-9F16-0DCF7621B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8C849D-F2B6-4260-89E7-569F409A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5AAA74-6ABB-4753-9DB5-2B977C350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3B7DC1-8353-45C8-819A-A188DC48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E40C-7874-4533-B053-C45F8B52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7EA81E-72EF-4133-94DD-54972894F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048078-B46C-4B28-B158-7267738E2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C45C21-C6D0-4249-8625-64FE515A6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B356E7-5CA2-465D-A5D5-06D0B5446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A97F79-49CA-4C39-B9CC-D258543F4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51D31D-CA8B-429F-A006-06A392122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4FEE0F-4A43-4F8D-A226-076904ED6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BE6CEC-8D39-4B39-B1F8-59BA3FDF3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D5CA81-FF12-4098-AE5B-40184B8B1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39324F-4D02-499A-9E68-30CE9B09F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BDF8-7F00-4217-B4F8-D90BAEF21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E0FB83-BD18-4657-9787-922CCCCB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8D01BD-CB01-47C4-A9FF-FB8B7105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5BB965-622F-4509-AE70-17EFC645C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5A4376-B4D9-4225-B8B9-724E51555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2A9413-F116-4F41-8712-216113B94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1906DF-CAF2-4589-BF0D-C426B2B35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16015B-DFC1-4EF4-BF17-995990F03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2CD7DD-B45A-4FD8-BADC-003F42236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60C956-8292-4E8A-B94D-B158D05A7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CA074C-132F-4A7F-AE3B-F7F873FA3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3B53-ECCF-4B76-B639-DA879D25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048FD6-428F-4BB7-9D3D-230459FFA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E1177B-43FC-427A-87D6-60EC4759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C8496B-C69B-4E1E-9F9B-11664987A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0C4658-9EF8-447C-A636-3B0F688D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D5BFD3-085B-43B8-8781-3C4955F38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4BDD44-3099-4EEC-990D-ED68D664C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4DACB7-E60F-4B1D-874B-E632F0FFF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735178-2E79-40BB-98CA-AC08AC92C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115FC1-EA60-44F2-9E2A-892A32A81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497692-BB8A-4291-8ADF-999C84D7D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 algn="r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 algn="r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 algn="r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 algn="r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 algn="r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 algn="r" rtl="1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 algn="r" rtl="1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98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0116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792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0D525-3E67-49D6-BBFE-4C8CF63CDB2D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35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7" name="Freeform 7"/>
          <p:cNvSpPr/>
          <p:nvPr/>
        </p:nvSpPr>
        <p:spPr>
          <a:xfrm flipH="1">
            <a:off x="0" y="6148440"/>
            <a:ext cx="73389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Freeform 8"/>
          <p:cNvSpPr/>
          <p:nvPr/>
        </p:nvSpPr>
        <p:spPr>
          <a:xfrm flipH="1">
            <a:off x="190656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Freeform 9"/>
          <p:cNvSpPr/>
          <p:nvPr/>
        </p:nvSpPr>
        <p:spPr>
          <a:xfrm flipH="1">
            <a:off x="1541520" y="5411880"/>
            <a:ext cx="76039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Freeform 10"/>
          <p:cNvSpPr/>
          <p:nvPr/>
        </p:nvSpPr>
        <p:spPr>
          <a:xfrm flipH="1">
            <a:off x="-720" y="6116760"/>
            <a:ext cx="74660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 algn="r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 algn="r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 algn="r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 algn="r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 algn="r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 algn="r" rtl="1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 algn="r" rtl="1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28"/>
          </p:nvPr>
        </p:nvSpPr>
        <p:spPr>
          <a:xfrm>
            <a:off x="6998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9"/>
          </p:nvPr>
        </p:nvSpPr>
        <p:spPr>
          <a:xfrm>
            <a:off x="60116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0"/>
          </p:nvPr>
        </p:nvSpPr>
        <p:spPr>
          <a:xfrm>
            <a:off x="1792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36BC3-F319-45E9-A8D0-72B318DDCBD5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83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5" name="Freeform 6"/>
          <p:cNvSpPr/>
          <p:nvPr/>
        </p:nvSpPr>
        <p:spPr>
          <a:xfrm flipH="1">
            <a:off x="190656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Freeform 7"/>
          <p:cNvSpPr/>
          <p:nvPr/>
        </p:nvSpPr>
        <p:spPr>
          <a:xfrm flipH="1">
            <a:off x="0" y="6148440"/>
            <a:ext cx="73389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Freeform 8"/>
          <p:cNvSpPr/>
          <p:nvPr/>
        </p:nvSpPr>
        <p:spPr>
          <a:xfrm flipH="1">
            <a:off x="1541520" y="5411880"/>
            <a:ext cx="76039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Freeform 9"/>
          <p:cNvSpPr/>
          <p:nvPr/>
        </p:nvSpPr>
        <p:spPr>
          <a:xfrm flipH="1">
            <a:off x="-720" y="6116760"/>
            <a:ext cx="74660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 algn="r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 algn="r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 algn="r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 algn="r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 algn="r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 algn="r" rtl="1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 algn="r" rtl="1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31"/>
          </p:nvPr>
        </p:nvSpPr>
        <p:spPr>
          <a:xfrm>
            <a:off x="6998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32"/>
          </p:nvPr>
        </p:nvSpPr>
        <p:spPr>
          <a:xfrm>
            <a:off x="60116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33"/>
          </p:nvPr>
        </p:nvSpPr>
        <p:spPr>
          <a:xfrm>
            <a:off x="1792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29181-7305-4A9E-B4B6-494E0476E19C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31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3" name="Freeform 6"/>
          <p:cNvSpPr/>
          <p:nvPr/>
        </p:nvSpPr>
        <p:spPr>
          <a:xfrm flipH="1">
            <a:off x="190656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Freeform 7"/>
          <p:cNvSpPr/>
          <p:nvPr/>
        </p:nvSpPr>
        <p:spPr>
          <a:xfrm flipH="1">
            <a:off x="0" y="6148440"/>
            <a:ext cx="73389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Freeform 8"/>
          <p:cNvSpPr/>
          <p:nvPr/>
        </p:nvSpPr>
        <p:spPr>
          <a:xfrm flipH="1">
            <a:off x="1541520" y="5411880"/>
            <a:ext cx="76039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Freeform 9"/>
          <p:cNvSpPr/>
          <p:nvPr/>
        </p:nvSpPr>
        <p:spPr>
          <a:xfrm flipH="1">
            <a:off x="-720" y="6116760"/>
            <a:ext cx="74660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 algn="r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 algn="r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 algn="r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 algn="r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 algn="r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 algn="r" rtl="1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 algn="r" rtl="1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34"/>
          </p:nvPr>
        </p:nvSpPr>
        <p:spPr>
          <a:xfrm>
            <a:off x="6998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35"/>
          </p:nvPr>
        </p:nvSpPr>
        <p:spPr>
          <a:xfrm>
            <a:off x="60116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36"/>
          </p:nvPr>
        </p:nvSpPr>
        <p:spPr>
          <a:xfrm>
            <a:off x="1792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61CF3-664A-4883-822C-6ABABF538E67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Freeform 6"/>
          <p:cNvSpPr/>
          <p:nvPr/>
        </p:nvSpPr>
        <p:spPr>
          <a:xfrm flipH="1">
            <a:off x="720" y="5292720"/>
            <a:ext cx="9145800" cy="1442880"/>
          </a:xfrm>
          <a:custGeom>
            <a:avLst/>
            <a:gdLst/>
            <a:ahLst/>
            <a:rect l="l" t="t" r="r" b="b"/>
            <a:pathLst>
              <a:path w="9089556" h="1443038">
                <a:moveTo>
                  <a:pt x="57" y="7145"/>
                </a:moveTo>
                <a:lnTo>
                  <a:pt x="9089556" y="0"/>
                </a:lnTo>
                <a:cubicBezTo>
                  <a:pt x="9087979" y="82550"/>
                  <a:pt x="9088768" y="172243"/>
                  <a:pt x="9087191" y="254793"/>
                </a:cubicBezTo>
                <a:lnTo>
                  <a:pt x="6260746" y="1443038"/>
                </a:lnTo>
                <a:lnTo>
                  <a:pt x="0" y="366713"/>
                </a:lnTo>
                <a:lnTo>
                  <a:pt x="57" y="7145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" name="Freeform 7"/>
          <p:cNvGrpSpPr/>
          <p:nvPr/>
        </p:nvGrpSpPr>
        <p:grpSpPr>
          <a:xfrm>
            <a:off x="0" y="5291280"/>
            <a:ext cx="9143640" cy="1444320"/>
            <a:chOff x="0" y="5291280"/>
            <a:chExt cx="9143640" cy="1444320"/>
          </a:xfrm>
        </p:grpSpPr>
        <p:pic>
          <p:nvPicPr>
            <p:cNvPr id="49" name="Freeform 7" descr=""/>
            <p:cNvPicPr/>
            <p:nvPr/>
          </p:nvPicPr>
          <p:blipFill>
            <a:blip r:embed="rId4"/>
            <a:stretch/>
          </p:blipFill>
          <p:spPr>
            <a:xfrm>
              <a:off x="0" y="5291280"/>
              <a:ext cx="9140760" cy="14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1080" y="5292720"/>
              <a:ext cx="9142560" cy="14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Freeform 8"/>
          <p:cNvSpPr/>
          <p:nvPr/>
        </p:nvSpPr>
        <p:spPr>
          <a:xfrm flipH="1">
            <a:off x="0" y="5546880"/>
            <a:ext cx="9145440" cy="1312560"/>
          </a:xfrm>
          <a:custGeom>
            <a:avLst/>
            <a:gdLst/>
            <a:ahLst/>
            <a:rect l="l" t="t" r="r" b="b"/>
            <a:pathLst>
              <a:path w="9117860" h="1314449">
                <a:moveTo>
                  <a:pt x="0" y="130968"/>
                </a:moveTo>
                <a:lnTo>
                  <a:pt x="6305550" y="1197768"/>
                </a:lnTo>
                <a:lnTo>
                  <a:pt x="9113111" y="0"/>
                </a:lnTo>
                <a:lnTo>
                  <a:pt x="9117860" y="1314449"/>
                </a:lnTo>
                <a:lnTo>
                  <a:pt x="0" y="1312068"/>
                </a:lnTo>
                <a:lnTo>
                  <a:pt x="0" y="130968"/>
                </a:lnTo>
                <a:close/>
              </a:path>
            </a:pathLst>
          </a:custGeom>
          <a:gradFill rotWithShape="0">
            <a:gsLst>
              <a:gs pos="0">
                <a:srgbClr val="fde99f"/>
              </a:gs>
              <a:gs pos="100000">
                <a:srgbClr val="fcde7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Rectangle 9"/>
          <p:cNvSpPr/>
          <p:nvPr/>
        </p:nvSpPr>
        <p:spPr>
          <a:xfrm flipH="1">
            <a:off x="1440" y="526248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10"/>
          <p:cNvSpPr/>
          <p:nvPr/>
        </p:nvSpPr>
        <p:spPr>
          <a:xfrm flipH="1">
            <a:off x="1440" y="5502240"/>
            <a:ext cx="9144000" cy="1271520"/>
          </a:xfrm>
          <a:custGeom>
            <a:avLst/>
            <a:gdLst/>
            <a:ahLst/>
            <a:rect l="l" t="t" r="r" b="b"/>
            <a:pathLst>
              <a:path w="9144066" h="1271150">
                <a:moveTo>
                  <a:pt x="2252" y="121494"/>
                </a:moveTo>
                <a:lnTo>
                  <a:pt x="6307948" y="1194321"/>
                </a:lnTo>
                <a:lnTo>
                  <a:pt x="9144066" y="0"/>
                </a:lnTo>
                <a:cubicBezTo>
                  <a:pt x="9143272" y="26405"/>
                  <a:pt x="9142477" y="52809"/>
                  <a:pt x="9141683" y="79214"/>
                </a:cubicBezTo>
                <a:lnTo>
                  <a:pt x="6315286" y="1271150"/>
                </a:lnTo>
                <a:lnTo>
                  <a:pt x="65" y="200706"/>
                </a:lnTo>
                <a:cubicBezTo>
                  <a:pt x="0" y="172714"/>
                  <a:pt x="2317" y="149486"/>
                  <a:pt x="2252" y="12149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 algn="r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 algn="r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 algn="r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 algn="r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 algn="r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 algn="r" rtl="1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 algn="r" rtl="1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6998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60116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1792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DBFD2-6786-4096-9357-ECAC390E0A12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96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8" name="Freeform 6"/>
          <p:cNvSpPr/>
          <p:nvPr/>
        </p:nvSpPr>
        <p:spPr>
          <a:xfrm flipH="1">
            <a:off x="190656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Freeform 7"/>
          <p:cNvSpPr/>
          <p:nvPr/>
        </p:nvSpPr>
        <p:spPr>
          <a:xfrm flipH="1">
            <a:off x="0" y="6148440"/>
            <a:ext cx="73389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Freeform 8"/>
          <p:cNvSpPr/>
          <p:nvPr/>
        </p:nvSpPr>
        <p:spPr>
          <a:xfrm flipH="1">
            <a:off x="1541520" y="5411880"/>
            <a:ext cx="76039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Freeform 9"/>
          <p:cNvSpPr/>
          <p:nvPr/>
        </p:nvSpPr>
        <p:spPr>
          <a:xfrm flipH="1">
            <a:off x="-720" y="6116760"/>
            <a:ext cx="74660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 algn="r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 algn="r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 algn="r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 algn="r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 algn="r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 algn="r" rtl="1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 algn="r" rtl="1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998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60116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1792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93DC8-0895-4993-931C-99392FDE8A79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4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6" name="Freeform 6"/>
          <p:cNvSpPr/>
          <p:nvPr/>
        </p:nvSpPr>
        <p:spPr>
          <a:xfrm flipH="1">
            <a:off x="0" y="5546880"/>
            <a:ext cx="9145440" cy="1312560"/>
          </a:xfrm>
          <a:custGeom>
            <a:avLst/>
            <a:gdLst/>
            <a:ahLst/>
            <a:rect l="l" t="t" r="r" b="b"/>
            <a:pathLst>
              <a:path w="9117860" h="1314449">
                <a:moveTo>
                  <a:pt x="0" y="130968"/>
                </a:moveTo>
                <a:lnTo>
                  <a:pt x="6305550" y="1197768"/>
                </a:lnTo>
                <a:lnTo>
                  <a:pt x="9113111" y="0"/>
                </a:lnTo>
                <a:lnTo>
                  <a:pt x="9117860" y="1314449"/>
                </a:lnTo>
                <a:lnTo>
                  <a:pt x="0" y="1312068"/>
                </a:lnTo>
                <a:lnTo>
                  <a:pt x="0" y="130968"/>
                </a:lnTo>
                <a:close/>
              </a:path>
            </a:pathLst>
          </a:custGeom>
          <a:gradFill rotWithShape="0">
            <a:gsLst>
              <a:gs pos="0">
                <a:srgbClr val="cfefa4"/>
              </a:gs>
              <a:gs pos="100000">
                <a:srgbClr val="b7e7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Freeform 7"/>
          <p:cNvSpPr/>
          <p:nvPr/>
        </p:nvSpPr>
        <p:spPr>
          <a:xfrm flipH="1">
            <a:off x="720" y="5292720"/>
            <a:ext cx="9145800" cy="1442880"/>
          </a:xfrm>
          <a:custGeom>
            <a:avLst/>
            <a:gdLst/>
            <a:ahLst/>
            <a:rect l="l" t="t" r="r" b="b"/>
            <a:pathLst>
              <a:path w="9089556" h="1443038">
                <a:moveTo>
                  <a:pt x="57" y="7145"/>
                </a:moveTo>
                <a:lnTo>
                  <a:pt x="9089556" y="0"/>
                </a:lnTo>
                <a:cubicBezTo>
                  <a:pt x="9087979" y="82550"/>
                  <a:pt x="9088768" y="172243"/>
                  <a:pt x="9087191" y="254793"/>
                </a:cubicBezTo>
                <a:lnTo>
                  <a:pt x="6260746" y="1443038"/>
                </a:lnTo>
                <a:lnTo>
                  <a:pt x="0" y="366713"/>
                </a:lnTo>
                <a:lnTo>
                  <a:pt x="57" y="7145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8" name="Freeform 8"/>
          <p:cNvGrpSpPr/>
          <p:nvPr/>
        </p:nvGrpSpPr>
        <p:grpSpPr>
          <a:xfrm>
            <a:off x="0" y="5291280"/>
            <a:ext cx="9143640" cy="1444320"/>
            <a:chOff x="0" y="5291280"/>
            <a:chExt cx="9143640" cy="1444320"/>
          </a:xfrm>
        </p:grpSpPr>
        <p:pic>
          <p:nvPicPr>
            <p:cNvPr id="149" name="Freeform 8" descr=""/>
            <p:cNvPicPr/>
            <p:nvPr/>
          </p:nvPicPr>
          <p:blipFill>
            <a:blip r:embed="rId4"/>
            <a:stretch/>
          </p:blipFill>
          <p:spPr>
            <a:xfrm>
              <a:off x="0" y="5291280"/>
              <a:ext cx="9140760" cy="14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1080" y="5292720"/>
              <a:ext cx="9142560" cy="14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1" name="Rectangle 9"/>
          <p:cNvSpPr/>
          <p:nvPr/>
        </p:nvSpPr>
        <p:spPr>
          <a:xfrm flipH="1">
            <a:off x="1440" y="526248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Freeform 10"/>
          <p:cNvSpPr/>
          <p:nvPr/>
        </p:nvSpPr>
        <p:spPr>
          <a:xfrm flipH="1">
            <a:off x="1440" y="5502240"/>
            <a:ext cx="9144000" cy="1271520"/>
          </a:xfrm>
          <a:custGeom>
            <a:avLst/>
            <a:gdLst/>
            <a:ahLst/>
            <a:rect l="l" t="t" r="r" b="b"/>
            <a:pathLst>
              <a:path w="9144066" h="1271150">
                <a:moveTo>
                  <a:pt x="2252" y="121494"/>
                </a:moveTo>
                <a:lnTo>
                  <a:pt x="6307948" y="1194321"/>
                </a:lnTo>
                <a:lnTo>
                  <a:pt x="9144066" y="0"/>
                </a:lnTo>
                <a:cubicBezTo>
                  <a:pt x="9143272" y="26405"/>
                  <a:pt x="9142477" y="52809"/>
                  <a:pt x="9141683" y="79214"/>
                </a:cubicBezTo>
                <a:lnTo>
                  <a:pt x="6315286" y="1271150"/>
                </a:lnTo>
                <a:lnTo>
                  <a:pt x="65" y="200706"/>
                </a:lnTo>
                <a:cubicBezTo>
                  <a:pt x="0" y="172714"/>
                  <a:pt x="2317" y="149486"/>
                  <a:pt x="2252" y="12149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 algn="r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 algn="r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 algn="r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 algn="r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 algn="r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 algn="r" rtl="1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 algn="r" rtl="1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6998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60116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1792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2A724-9E63-4B21-957B-68A15E18FC6A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95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7" name="Freeform 6"/>
          <p:cNvSpPr/>
          <p:nvPr/>
        </p:nvSpPr>
        <p:spPr>
          <a:xfrm flipH="1">
            <a:off x="190656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Freeform 7"/>
          <p:cNvSpPr/>
          <p:nvPr/>
        </p:nvSpPr>
        <p:spPr>
          <a:xfrm flipH="1">
            <a:off x="0" y="6148440"/>
            <a:ext cx="73389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Freeform 8"/>
          <p:cNvSpPr/>
          <p:nvPr/>
        </p:nvSpPr>
        <p:spPr>
          <a:xfrm flipH="1">
            <a:off x="1541520" y="5411880"/>
            <a:ext cx="76039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Freeform 9"/>
          <p:cNvSpPr/>
          <p:nvPr/>
        </p:nvSpPr>
        <p:spPr>
          <a:xfrm flipH="1">
            <a:off x="-720" y="6116760"/>
            <a:ext cx="74660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 algn="r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 algn="r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 algn="r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 algn="r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 algn="r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 algn="r" rtl="1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 algn="r" rtl="1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6998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60116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1792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A23C0-6354-457E-9A15-04237042CCAB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43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5" name="Freeform 9"/>
          <p:cNvSpPr/>
          <p:nvPr/>
        </p:nvSpPr>
        <p:spPr>
          <a:xfrm flipH="1">
            <a:off x="0" y="6148440"/>
            <a:ext cx="73389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Freeform 10"/>
          <p:cNvSpPr/>
          <p:nvPr/>
        </p:nvSpPr>
        <p:spPr>
          <a:xfrm flipH="1">
            <a:off x="190656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Freeform 11"/>
          <p:cNvSpPr/>
          <p:nvPr/>
        </p:nvSpPr>
        <p:spPr>
          <a:xfrm flipH="1">
            <a:off x="1541520" y="5411880"/>
            <a:ext cx="76039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Freeform 12"/>
          <p:cNvSpPr/>
          <p:nvPr/>
        </p:nvSpPr>
        <p:spPr>
          <a:xfrm flipH="1">
            <a:off x="-720" y="6116760"/>
            <a:ext cx="74660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 algn="r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 algn="r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 algn="r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 algn="r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 algn="r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 algn="r" rtl="1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 algn="r" rtl="1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6"/>
          </p:nvPr>
        </p:nvSpPr>
        <p:spPr>
          <a:xfrm>
            <a:off x="6998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7"/>
          </p:nvPr>
        </p:nvSpPr>
        <p:spPr>
          <a:xfrm>
            <a:off x="60116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8"/>
          </p:nvPr>
        </p:nvSpPr>
        <p:spPr>
          <a:xfrm>
            <a:off x="1792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17D13-9D44-45B1-8A14-77612D0C181C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91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3" name="Freeform 5"/>
          <p:cNvSpPr/>
          <p:nvPr/>
        </p:nvSpPr>
        <p:spPr>
          <a:xfrm flipH="1">
            <a:off x="1706400" y="5010120"/>
            <a:ext cx="7439040" cy="1571760"/>
          </a:xfrm>
          <a:custGeom>
            <a:avLst/>
            <a:gdLst/>
            <a:ahLst/>
            <a:rect l="l" t="t" r="r" b="b"/>
            <a:pathLst>
              <a:path w="7415827" h="1571625">
                <a:moveTo>
                  <a:pt x="0" y="0"/>
                </a:moveTo>
                <a:lnTo>
                  <a:pt x="7415827" y="866775"/>
                </a:lnTo>
                <a:lnTo>
                  <a:pt x="0" y="157162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Freeform 6"/>
          <p:cNvSpPr/>
          <p:nvPr/>
        </p:nvSpPr>
        <p:spPr>
          <a:xfrm flipH="1">
            <a:off x="-3960" y="5730840"/>
            <a:ext cx="9148680" cy="1127160"/>
          </a:xfrm>
          <a:custGeom>
            <a:avLst/>
            <a:gdLst/>
            <a:ahLst/>
            <a:rect l="l" t="t" r="r" b="b"/>
            <a:pathLst>
              <a:path w="9128161" h="1068407">
                <a:moveTo>
                  <a:pt x="20" y="818007"/>
                </a:moveTo>
                <a:lnTo>
                  <a:pt x="9124990" y="0"/>
                </a:lnTo>
                <a:cubicBezTo>
                  <a:pt x="9124198" y="354630"/>
                  <a:pt x="9128161" y="713777"/>
                  <a:pt x="9127369" y="1068407"/>
                </a:cubicBezTo>
                <a:lnTo>
                  <a:pt x="0" y="1065657"/>
                </a:lnTo>
                <a:cubicBezTo>
                  <a:pt x="7" y="983107"/>
                  <a:pt x="13" y="900557"/>
                  <a:pt x="20" y="818007"/>
                </a:cubicBez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Freeform 7"/>
          <p:cNvSpPr/>
          <p:nvPr/>
        </p:nvSpPr>
        <p:spPr>
          <a:xfrm flipH="1">
            <a:off x="1469160" y="4973760"/>
            <a:ext cx="7675560" cy="928440"/>
          </a:xfrm>
          <a:custGeom>
            <a:avLst/>
            <a:gdLst/>
            <a:ahLst/>
            <a:rect l="l" t="t" r="r" b="b"/>
            <a:pathLst>
              <a:path w="7674867" h="928299">
                <a:moveTo>
                  <a:pt x="194" y="0"/>
                </a:moveTo>
                <a:cubicBezTo>
                  <a:pt x="129" y="24947"/>
                  <a:pt x="65" y="49893"/>
                  <a:pt x="0" y="74840"/>
                </a:cubicBezTo>
                <a:lnTo>
                  <a:pt x="7298289" y="928299"/>
                </a:lnTo>
                <a:lnTo>
                  <a:pt x="7674867" y="897731"/>
                </a:lnTo>
                <a:lnTo>
                  <a:pt x="19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Freeform 8"/>
          <p:cNvSpPr/>
          <p:nvPr/>
        </p:nvSpPr>
        <p:spPr>
          <a:xfrm flipH="1">
            <a:off x="720" y="5695920"/>
            <a:ext cx="9145800" cy="930240"/>
          </a:xfrm>
          <a:custGeom>
            <a:avLst/>
            <a:gdLst/>
            <a:ahLst/>
            <a:rect l="l" t="t" r="r" b="b"/>
            <a:pathLst>
              <a:path w="9155715" h="930294">
                <a:moveTo>
                  <a:pt x="9155715" y="0"/>
                </a:moveTo>
                <a:lnTo>
                  <a:pt x="0" y="855842"/>
                </a:lnTo>
                <a:cubicBezTo>
                  <a:pt x="795" y="884628"/>
                  <a:pt x="1589" y="901508"/>
                  <a:pt x="2384" y="930294"/>
                </a:cubicBezTo>
                <a:lnTo>
                  <a:pt x="9155715" y="74452"/>
                </a:lnTo>
                <a:lnTo>
                  <a:pt x="915571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 algn="r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 algn="r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 algn="r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 algn="r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 algn="r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 algn="r" rtl="1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 algn="r" rtl="1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19"/>
          </p:nvPr>
        </p:nvSpPr>
        <p:spPr>
          <a:xfrm>
            <a:off x="6998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20"/>
          </p:nvPr>
        </p:nvSpPr>
        <p:spPr>
          <a:xfrm>
            <a:off x="60116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1"/>
          </p:nvPr>
        </p:nvSpPr>
        <p:spPr>
          <a:xfrm>
            <a:off x="1792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CA846-C940-4DCD-A20A-295380B06790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39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1" name="Freeform 4"/>
          <p:cNvSpPr/>
          <p:nvPr/>
        </p:nvSpPr>
        <p:spPr>
          <a:xfrm flipH="1">
            <a:off x="-3960" y="5730840"/>
            <a:ext cx="9148680" cy="1127160"/>
          </a:xfrm>
          <a:custGeom>
            <a:avLst/>
            <a:gdLst/>
            <a:ahLst/>
            <a:rect l="l" t="t" r="r" b="b"/>
            <a:pathLst>
              <a:path w="9128161" h="1068407">
                <a:moveTo>
                  <a:pt x="20" y="818007"/>
                </a:moveTo>
                <a:lnTo>
                  <a:pt x="9124990" y="0"/>
                </a:lnTo>
                <a:cubicBezTo>
                  <a:pt x="9124198" y="354630"/>
                  <a:pt x="9128161" y="713777"/>
                  <a:pt x="9127369" y="1068407"/>
                </a:cubicBezTo>
                <a:lnTo>
                  <a:pt x="0" y="1065657"/>
                </a:lnTo>
                <a:cubicBezTo>
                  <a:pt x="7" y="983107"/>
                  <a:pt x="13" y="900557"/>
                  <a:pt x="20" y="818007"/>
                </a:cubicBez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Freeform 5"/>
          <p:cNvSpPr/>
          <p:nvPr/>
        </p:nvSpPr>
        <p:spPr>
          <a:xfrm flipH="1">
            <a:off x="5859360" y="5381640"/>
            <a:ext cx="3286080" cy="1208160"/>
          </a:xfrm>
          <a:custGeom>
            <a:avLst/>
            <a:gdLst/>
            <a:ahLst/>
            <a:rect l="l" t="t" r="r" b="b"/>
            <a:pathLst>
              <a:path w="7227290" h="1207294">
                <a:moveTo>
                  <a:pt x="0" y="0"/>
                </a:moveTo>
                <a:lnTo>
                  <a:pt x="7227290" y="885825"/>
                </a:lnTo>
                <a:lnTo>
                  <a:pt x="0" y="120729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Freeform 6"/>
          <p:cNvSpPr/>
          <p:nvPr/>
        </p:nvSpPr>
        <p:spPr>
          <a:xfrm flipH="1">
            <a:off x="720" y="5695920"/>
            <a:ext cx="9145800" cy="930240"/>
          </a:xfrm>
          <a:custGeom>
            <a:avLst/>
            <a:gdLst/>
            <a:ahLst/>
            <a:rect l="l" t="t" r="r" b="b"/>
            <a:pathLst>
              <a:path w="9155715" h="930294">
                <a:moveTo>
                  <a:pt x="9155715" y="0"/>
                </a:moveTo>
                <a:lnTo>
                  <a:pt x="0" y="855842"/>
                </a:lnTo>
                <a:cubicBezTo>
                  <a:pt x="795" y="884628"/>
                  <a:pt x="1589" y="901508"/>
                  <a:pt x="2384" y="930294"/>
                </a:cubicBezTo>
                <a:lnTo>
                  <a:pt x="9155715" y="74452"/>
                </a:lnTo>
                <a:lnTo>
                  <a:pt x="915571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Freeform 7"/>
          <p:cNvSpPr/>
          <p:nvPr/>
        </p:nvSpPr>
        <p:spPr>
          <a:xfrm flipH="1">
            <a:off x="5718240" y="5346720"/>
            <a:ext cx="3427200" cy="944640"/>
          </a:xfrm>
          <a:custGeom>
            <a:avLst/>
            <a:gdLst/>
            <a:ahLst/>
            <a:rect l="l" t="t" r="r" b="b"/>
            <a:pathLst>
              <a:path w="3426231" h="944725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3204530" y="944725"/>
                </a:lnTo>
                <a:lnTo>
                  <a:pt x="3426231" y="923877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 algn="r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 algn="r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 algn="r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 algn="r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 algn="r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 algn="r" rtl="1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 algn="r" rtl="1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2"/>
          </p:nvPr>
        </p:nvSpPr>
        <p:spPr>
          <a:xfrm>
            <a:off x="6998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3"/>
          </p:nvPr>
        </p:nvSpPr>
        <p:spPr>
          <a:xfrm>
            <a:off x="60116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4"/>
          </p:nvPr>
        </p:nvSpPr>
        <p:spPr>
          <a:xfrm>
            <a:off x="1792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85F24-F0B2-4107-9593-304AE0F311B6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87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9" name="Freeform 7"/>
          <p:cNvSpPr/>
          <p:nvPr/>
        </p:nvSpPr>
        <p:spPr>
          <a:xfrm flipH="1">
            <a:off x="1706400" y="5010120"/>
            <a:ext cx="7439040" cy="1571760"/>
          </a:xfrm>
          <a:custGeom>
            <a:avLst/>
            <a:gdLst/>
            <a:ahLst/>
            <a:rect l="l" t="t" r="r" b="b"/>
            <a:pathLst>
              <a:path w="7415827" h="1571625">
                <a:moveTo>
                  <a:pt x="0" y="0"/>
                </a:moveTo>
                <a:lnTo>
                  <a:pt x="7415827" y="866775"/>
                </a:lnTo>
                <a:lnTo>
                  <a:pt x="0" y="157162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Freeform 8"/>
          <p:cNvSpPr/>
          <p:nvPr/>
        </p:nvSpPr>
        <p:spPr>
          <a:xfrm flipH="1">
            <a:off x="-3960" y="5730840"/>
            <a:ext cx="9148680" cy="1127160"/>
          </a:xfrm>
          <a:custGeom>
            <a:avLst/>
            <a:gdLst/>
            <a:ahLst/>
            <a:rect l="l" t="t" r="r" b="b"/>
            <a:pathLst>
              <a:path w="9128161" h="1068407">
                <a:moveTo>
                  <a:pt x="20" y="818007"/>
                </a:moveTo>
                <a:lnTo>
                  <a:pt x="9124990" y="0"/>
                </a:lnTo>
                <a:cubicBezTo>
                  <a:pt x="9124198" y="354630"/>
                  <a:pt x="9128161" y="713777"/>
                  <a:pt x="9127369" y="1068407"/>
                </a:cubicBezTo>
                <a:lnTo>
                  <a:pt x="0" y="1065657"/>
                </a:lnTo>
                <a:cubicBezTo>
                  <a:pt x="7" y="983107"/>
                  <a:pt x="13" y="900557"/>
                  <a:pt x="20" y="818007"/>
                </a:cubicBez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Freeform 9"/>
          <p:cNvSpPr/>
          <p:nvPr/>
        </p:nvSpPr>
        <p:spPr>
          <a:xfrm flipH="1">
            <a:off x="1469160" y="4973760"/>
            <a:ext cx="7675560" cy="928440"/>
          </a:xfrm>
          <a:custGeom>
            <a:avLst/>
            <a:gdLst/>
            <a:ahLst/>
            <a:rect l="l" t="t" r="r" b="b"/>
            <a:pathLst>
              <a:path w="7674867" h="928299">
                <a:moveTo>
                  <a:pt x="194" y="0"/>
                </a:moveTo>
                <a:cubicBezTo>
                  <a:pt x="129" y="24947"/>
                  <a:pt x="65" y="49893"/>
                  <a:pt x="0" y="74840"/>
                </a:cubicBezTo>
                <a:lnTo>
                  <a:pt x="7298289" y="928299"/>
                </a:lnTo>
                <a:lnTo>
                  <a:pt x="7674867" y="897731"/>
                </a:lnTo>
                <a:lnTo>
                  <a:pt x="19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Freeform 10"/>
          <p:cNvSpPr/>
          <p:nvPr/>
        </p:nvSpPr>
        <p:spPr>
          <a:xfrm flipH="1">
            <a:off x="720" y="5695920"/>
            <a:ext cx="9145800" cy="930240"/>
          </a:xfrm>
          <a:custGeom>
            <a:avLst/>
            <a:gdLst/>
            <a:ahLst/>
            <a:rect l="l" t="t" r="r" b="b"/>
            <a:pathLst>
              <a:path w="9155715" h="930294">
                <a:moveTo>
                  <a:pt x="9155715" y="0"/>
                </a:moveTo>
                <a:lnTo>
                  <a:pt x="0" y="855842"/>
                </a:lnTo>
                <a:cubicBezTo>
                  <a:pt x="795" y="884628"/>
                  <a:pt x="1589" y="901508"/>
                  <a:pt x="2384" y="930294"/>
                </a:cubicBezTo>
                <a:lnTo>
                  <a:pt x="9155715" y="74452"/>
                </a:lnTo>
                <a:lnTo>
                  <a:pt x="915571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 algn="r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 algn="r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 algn="r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 algn="r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 algn="r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 algn="r" rtl="1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 algn="r" rtl="1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998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60116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1792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C399D-2D56-4A67-BA03-F8171668465C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762120" y="34286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HAPTER 12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INSTRUCTIONAL MATERIALS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1371240" y="32004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  <a:p>
            <a:pPr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CHOOSING INSTRUCTIONAL MATERIAL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1" marL="468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ce24"/>
                </a:solidFill>
                <a:latin typeface="Cambria"/>
              </a:rPr>
              <a:t>2. Characteristics of the Media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46836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Print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46836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Nonprint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46836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Model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46836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Audiovisua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46836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609" name="Picture 2" descr=""/>
          <p:cNvPicPr/>
          <p:nvPr/>
        </p:nvPicPr>
        <p:blipFill>
          <a:blip r:embed="rId1"/>
          <a:stretch/>
        </p:blipFill>
        <p:spPr>
          <a:xfrm>
            <a:off x="4267080" y="2286000"/>
            <a:ext cx="38102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HOOSING INSTRUCTIONAL MATERIAL</a:t>
            </a: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1" marL="468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ce24"/>
                </a:solidFill>
                <a:latin typeface="Cambria"/>
              </a:rPr>
              <a:t>3. Characteristics of the Task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46836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Learning domain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46836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Complexity of behavior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 algn="r" rtl="1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612" name="Picture 3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367020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REE MAJOR COMPONENTS OF INSTRUCTIONAL MATERIALS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525600" indent="-45720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ce24"/>
                </a:solidFill>
                <a:latin typeface="Cambria"/>
              </a:rPr>
              <a:t>Delivery System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Definition : both the software (physical form) and the hardware used to present materials 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35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Examples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35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Software (physical form) : Power Point slides , DVD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35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Hardware : computer, DVD player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</a:rPr>
              <a:t>COMPONENTS (CONT</a:t>
            </a:r>
            <a:r>
              <a:rPr b="0" lang="ja-JP" sz="3600" spc="-1" strike="noStrike">
                <a:solidFill>
                  <a:srgbClr val="ffffff"/>
                </a:solidFill>
                <a:latin typeface="Cambria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Cambria"/>
              </a:rPr>
              <a:t>D)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68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6ce24"/>
                </a:solidFill>
                <a:latin typeface="Cambria"/>
              </a:rPr>
              <a:t>2. </a:t>
            </a:r>
            <a:r>
              <a:rPr b="1" lang="en-US" sz="2400" spc="-1" strike="noStrike">
                <a:solidFill>
                  <a:srgbClr val="86ce24"/>
                </a:solidFill>
                <a:latin typeface="Cambria"/>
              </a:rPr>
              <a:t>Content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Definition: actual information imparted to the learner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35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Selection criteria for content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Accuracy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Appropriateness for skill determination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Readability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</a:rPr>
              <a:t>COMPONENTS (CONT</a:t>
            </a:r>
            <a:r>
              <a:rPr b="0" lang="ja-JP" sz="3600" spc="-1" strike="noStrike">
                <a:solidFill>
                  <a:srgbClr val="ffffff"/>
                </a:solidFill>
                <a:latin typeface="Cambria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Cambria"/>
              </a:rPr>
              <a:t>D)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68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ce24"/>
                </a:solidFill>
                <a:latin typeface="Cambria"/>
              </a:rPr>
              <a:t>3. Presentation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Definition: Weston and Canston (1986) states that the form of the message;  in other words how information is presented is  the form most important for selecting/developing instructional material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35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They describe the form of  the message as occurring a long a continuum from  Concrete to Abstract  including ;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OMPONENTS (CONT</a:t>
            </a:r>
            <a:r>
              <a:rPr b="0" lang="ja-JP" sz="3600" spc="-1" strike="noStrike">
                <a:solidFill>
                  <a:srgbClr val="ffffff"/>
                </a:solidFill>
                <a:latin typeface="Gill Sans MT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D)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1000"/>
          </a:bodyPr>
          <a:p>
            <a:pPr marL="312120" indent="-24840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6ce24"/>
                </a:solidFill>
                <a:latin typeface="Gill Sans MT"/>
              </a:rPr>
              <a:t>Realia: </a:t>
            </a: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most Concrete  and accurate form of stimuli used to deliver information  e.g . An actual woman or mannequin demonstrating breast-self examination 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12120" indent="-24840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6ce24"/>
                </a:solidFill>
                <a:latin typeface="Gill Sans MT"/>
              </a:rPr>
              <a:t>Illusionary representations: </a:t>
            </a: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Less concrete e.g. real life visual and auditory media such as audiotapes on how to discriminate between normal and abnormal lung sound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12120" indent="-24840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6ce24"/>
                </a:solidFill>
                <a:latin typeface="Gill Sans MT"/>
              </a:rPr>
              <a:t>Symbolic representations: </a:t>
            </a: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most abstract types of message /stimuli used for instruction  e.g.  Audiotapes ,oral; presentation, graphs written text ,handout…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12120" indent="-24840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12120" indent="-248400" algn="r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YPES OF INSTRUCTIONAL MATERIALS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6ce24"/>
                </a:solidFill>
                <a:latin typeface="Cambria"/>
              </a:rPr>
              <a:t> </a:t>
            </a:r>
            <a:r>
              <a:rPr b="1" lang="en-US" sz="2400" spc="-1" strike="noStrike">
                <a:solidFill>
                  <a:srgbClr val="86ce24"/>
                </a:solidFill>
                <a:latin typeface="Cambria"/>
              </a:rPr>
              <a:t>Written (Printed) Material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623" name="Picture 1" descr=""/>
          <p:cNvPicPr/>
          <p:nvPr/>
        </p:nvPicPr>
        <p:blipFill>
          <a:blip r:embed="rId1"/>
          <a:stretch/>
        </p:blipFill>
        <p:spPr>
          <a:xfrm>
            <a:off x="2209680" y="2463840"/>
            <a:ext cx="419112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en-US" sz="2900" spc="-1" strike="noStrike">
                <a:solidFill>
                  <a:srgbClr val="86ce24"/>
                </a:solidFill>
                <a:latin typeface="Cambria"/>
              </a:rPr>
              <a:t>Written (Printed) Materials</a:t>
            </a:r>
            <a:br>
              <a:rPr sz="2900"/>
            </a:br>
            <a:br>
              <a:rPr sz="3200"/>
            </a:br>
            <a:endParaRPr b="0" lang="en-US" sz="29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6ce24"/>
                </a:solidFill>
                <a:latin typeface="Cambria"/>
              </a:rPr>
              <a:t>Advantage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Available to learner in absence of teacher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Widely acceptable, familiar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Readily available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Relatively cheap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Convenient form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Learner controls rate of reading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Content easily altered to target specific audience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 algn="r" rtl="1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WRITTEN MATERIALS (CONT</a:t>
            </a:r>
            <a:r>
              <a:rPr b="0" lang="ja-JP" sz="3200" spc="-1" strike="noStrike">
                <a:solidFill>
                  <a:srgbClr val="ffffff"/>
                </a:solidFill>
                <a:latin typeface="Cambria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D)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6ce24"/>
                </a:solidFill>
                <a:latin typeface="Cambria"/>
              </a:rPr>
              <a:t>Disadvantage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Most abstract form of reality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Immediate feedback limited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Proper reading level essential for full usefulnes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Less useful with low literate learners or visually or cognitively impaired learner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Inappropriate for illiterate learner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</a:rPr>
              <a:t>WRITTEN MATERIALS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68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6ce24"/>
                </a:solidFill>
                <a:latin typeface="Cambria"/>
              </a:rPr>
              <a:t>Example of Written Materials  ;  Commercially Prepared materials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68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68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These materials includes material that prepared by companies that may or may not produced in collaboration with health professionals ,which raises the questions of how factual the information may be.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68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8088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IS THERE A DIFFERENCE BETWEEN INSTRUCTIONAL METHODS AND INSTRUCTIONAL  MATERIALS</a:t>
            </a: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</a:rPr>
              <a:t>WRITTEN MATERIALS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Factors to be considered when using Commercially Prepared materials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mbria"/>
              </a:rPr>
              <a:t>Who produced the item?  Was there any input by healthcare professionals?</a:t>
            </a: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mbria"/>
              </a:rPr>
              <a:t>Can the item be previewed?</a:t>
            </a: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mbria"/>
              </a:rPr>
              <a:t>The price must be consistent with its educational value.</a:t>
            </a: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 algn="r" rtl="1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</a:rPr>
              <a:t>WRITTEN MATERIALS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533520" y="198108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2" marL="868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6ce24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86ce24"/>
                </a:solidFill>
                <a:latin typeface="Cambria"/>
              </a:rPr>
              <a:t>Example of Written Materials  ;Instructor Composed Material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2" marL="868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2" marL="868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Educators may choose to write their own instructional material for the purpose of cost saving or the need to tailor content to specific audience.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 txBox="1"/>
          <p:nvPr/>
        </p:nvSpPr>
        <p:spPr>
          <a:xfrm>
            <a:off x="380880" y="7617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68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6ce24"/>
                </a:solidFill>
                <a:latin typeface="Gill Sans MT"/>
              </a:rPr>
              <a:t>Guidelines for writing  Effective Instructor Composed Material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68400">
              <a:lnSpc>
                <a:spcPct val="15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Fit your own institution</a:t>
            </a:r>
            <a:r>
              <a:rPr b="0" lang="ja-JP" sz="2400" spc="-1" strike="noStrike">
                <a:solidFill>
                  <a:srgbClr val="ffffff"/>
                </a:solidFill>
                <a:latin typeface="Cambria"/>
              </a:rPr>
              <a:t>’</a:t>
            </a: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s policies, procedures and equipment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68400">
              <a:lnSpc>
                <a:spcPct val="15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Build in answers to those questions asked most frequently by your patients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68400">
              <a:lnSpc>
                <a:spcPct val="15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Highlight points considered especially important by your healthcare team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68400">
              <a:lnSpc>
                <a:spcPct val="15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Reinforce specific oral instructions and clarify difficult concepts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68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68400" algn="r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</a:rPr>
              <a:t>EVALUATING PRINTED MATERIALS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Educator must consider :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Nature of the audience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Literacy level required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Linguistic variety available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Brevity and clarity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Layout and appearance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Opportunity for repetition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Concreteness and familiarity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DEMONSTRATION MATERIALS</a:t>
            </a: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 rtl="1">
              <a:lnSpc>
                <a:spcPct val="2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Demonstration materials includes many types of non-print media, such as models and real equipment as well as displays, such as posters ,diagrams, illustrations ,charts bulletin boards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 …..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 rtl="1">
              <a:lnSpc>
                <a:spcPct val="2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DEMONSTRATION MATERIALS 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68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6ce24"/>
                </a:solidFill>
                <a:latin typeface="Gill Sans MT"/>
              </a:rPr>
              <a:t>Advantages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6840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ast way to attract attention, make a poin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6840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lexible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6840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Portable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6840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Reusable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6840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timulate interest or ideas in observer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6840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an change or influence attitudes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6840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Purchasable and/or can be made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6840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mbria"/>
              </a:rPr>
              <a:t>DEMONSTRATION MATERIALS</a:t>
            </a:r>
            <a:br>
              <a:rPr sz="2900"/>
            </a:br>
            <a:r>
              <a:rPr b="0" lang="en-US" sz="2900" spc="-1" strike="noStrike">
                <a:solidFill>
                  <a:srgbClr val="ffffff"/>
                </a:solidFill>
                <a:latin typeface="Cambria"/>
              </a:rPr>
              <a:t>  (CONT</a:t>
            </a:r>
            <a:r>
              <a:rPr b="0" lang="ja-JP" sz="2900" spc="-1" strike="noStrike">
                <a:solidFill>
                  <a:srgbClr val="ffffff"/>
                </a:solidFill>
                <a:latin typeface="Cambria"/>
              </a:rPr>
              <a:t>’</a:t>
            </a:r>
            <a:r>
              <a:rPr b="0" lang="en-US" sz="2900" spc="-1" strike="noStrike">
                <a:solidFill>
                  <a:srgbClr val="ffffff"/>
                </a:solidFill>
                <a:latin typeface="Cambria"/>
              </a:rPr>
              <a:t>D)</a:t>
            </a:r>
            <a:endParaRPr b="0" lang="en-US" sz="29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685800" y="18284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6ce24"/>
                </a:solidFill>
                <a:latin typeface="Cambria"/>
              </a:rPr>
              <a:t>Disadvantage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Take up a lot of space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Time-consuming to prepare—often reused, outdated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May be overused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Unsuitable for large audience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</a:rPr>
              <a:t>DEMONSTRATION MATERIALS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644" name="Picture 3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3187800" cy="1295280"/>
          </a:xfrm>
          <a:prstGeom prst="rect">
            <a:avLst/>
          </a:prstGeom>
          <a:ln w="0">
            <a:noFill/>
          </a:ln>
        </p:spPr>
      </p:pic>
      <p:sp>
        <p:nvSpPr>
          <p:cNvPr id="645" name=""/>
          <p:cNvSpPr txBox="1"/>
          <p:nvPr/>
        </p:nvSpPr>
        <p:spPr>
          <a:xfrm>
            <a:off x="0" y="12952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69840" rtl="1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6ce24"/>
                </a:solidFill>
                <a:latin typeface="Cambria"/>
              </a:rPr>
              <a:t>   </a:t>
            </a:r>
            <a:r>
              <a:rPr b="0" lang="en-US" sz="2400" spc="-1" strike="noStrike">
                <a:solidFill>
                  <a:srgbClr val="86ce24"/>
                </a:solidFill>
                <a:latin typeface="Cambria"/>
              </a:rPr>
              <a:t>Model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646" name="Picture 4" descr=""/>
          <p:cNvPicPr/>
          <p:nvPr/>
        </p:nvPicPr>
        <p:blipFill>
          <a:blip r:embed="rId2"/>
          <a:stretch/>
        </p:blipFill>
        <p:spPr>
          <a:xfrm>
            <a:off x="5029200" y="2666880"/>
            <a:ext cx="28576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</a:rPr>
              <a:t>DEMONSTRATION MATERIALS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Models are usually three-dimensional instructional tools that allow the learner to immediately apply knowledge and psychomotor skills by observing ,examining ,manipulating handling ,assembling and disassembling objects while the teacher provides feedback (Rankin &amp; Stealing 2001)</a:t>
            </a: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DEMONSTRATION MATERIALS MODELS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762120" y="1294920"/>
            <a:ext cx="761976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6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6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6ce24"/>
                </a:solidFill>
                <a:latin typeface="Cambria"/>
              </a:rPr>
              <a:t>Advantages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Useful when real object is too small, too large, too expensive, unavailable, or too complex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Allows safe, hands-on practice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More active involvement by the learner with immediate feedback available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Readily available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INSTRUCTIONAL METHOD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589" name="Picture 2" descr=""/>
          <p:cNvPicPr/>
          <p:nvPr/>
        </p:nvPicPr>
        <p:blipFill>
          <a:blip r:embed="rId1"/>
          <a:stretch/>
        </p:blipFill>
        <p:spPr>
          <a:xfrm>
            <a:off x="2590920" y="243828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3" descr=""/>
          <p:cNvPicPr/>
          <p:nvPr/>
        </p:nvPicPr>
        <p:blipFill>
          <a:blip r:embed="rId2"/>
          <a:stretch/>
        </p:blipFill>
        <p:spPr>
          <a:xfrm>
            <a:off x="5791320" y="169236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4" descr=""/>
          <p:cNvPicPr/>
          <p:nvPr/>
        </p:nvPicPr>
        <p:blipFill>
          <a:blip r:embed="rId3"/>
          <a:stretch/>
        </p:blipFill>
        <p:spPr>
          <a:xfrm>
            <a:off x="1447920" y="4419720"/>
            <a:ext cx="27432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mbria"/>
              </a:rPr>
              <a:t>DEMONSTRATION MATERIALS</a:t>
            </a:r>
            <a:br>
              <a:rPr sz="2900"/>
            </a:br>
            <a:r>
              <a:rPr b="0" lang="en-US" sz="2900" spc="-1" strike="noStrike">
                <a:solidFill>
                  <a:srgbClr val="ffffff"/>
                </a:solidFill>
                <a:latin typeface="Cambria"/>
              </a:rPr>
              <a:t>MODELS (CONT</a:t>
            </a:r>
            <a:r>
              <a:rPr b="0" lang="ja-JP" sz="2900" spc="-1" strike="noStrike">
                <a:solidFill>
                  <a:srgbClr val="ffffff"/>
                </a:solidFill>
                <a:latin typeface="Cambria"/>
              </a:rPr>
              <a:t>’</a:t>
            </a:r>
            <a:r>
              <a:rPr b="0" lang="en-US" sz="2900" spc="-1" strike="noStrike">
                <a:solidFill>
                  <a:srgbClr val="ffffff"/>
                </a:solidFill>
                <a:latin typeface="Cambria"/>
              </a:rPr>
              <a:t>D)</a:t>
            </a:r>
            <a:endParaRPr b="0" lang="en-US" sz="29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685800" y="1905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6ce24"/>
                </a:solidFill>
                <a:latin typeface="Cambria"/>
              </a:rPr>
              <a:t>Disadvantages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May not be suitable for learner with poor abstraction abilities or for visually impaired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Some models fragile, expensive, bulky, or difficult to transport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Cannot be observed or manipulated by more than a few learners at a time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</a:rPr>
              <a:t>DEMONSTRATION MATERIALS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6984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6ce24"/>
                </a:solidFill>
                <a:latin typeface="Gill Sans MT"/>
              </a:rPr>
              <a:t>Displays</a:t>
            </a:r>
            <a:r>
              <a:rPr b="0" lang="en-US" sz="2000" spc="-1" strike="noStrike">
                <a:solidFill>
                  <a:srgbClr val="86ce24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6984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6984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6ce24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655" name="Picture 3" descr=""/>
          <p:cNvPicPr/>
          <p:nvPr/>
        </p:nvPicPr>
        <p:blipFill>
          <a:blip r:embed="rId1"/>
          <a:stretch/>
        </p:blipFill>
        <p:spPr>
          <a:xfrm>
            <a:off x="3505320" y="1905120"/>
            <a:ext cx="3289320" cy="175248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4" descr=""/>
          <p:cNvPicPr/>
          <p:nvPr/>
        </p:nvPicPr>
        <p:blipFill>
          <a:blip r:embed="rId2"/>
          <a:stretch/>
        </p:blipFill>
        <p:spPr>
          <a:xfrm>
            <a:off x="457200" y="3733920"/>
            <a:ext cx="2666880" cy="198108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5" descr=""/>
          <p:cNvPicPr/>
          <p:nvPr/>
        </p:nvPicPr>
        <p:blipFill>
          <a:blip r:embed="rId3"/>
          <a:stretch/>
        </p:blipFill>
        <p:spPr>
          <a:xfrm>
            <a:off x="5257800" y="3987720"/>
            <a:ext cx="285768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</a:rPr>
              <a:t>DEMONSTRATION MATERIALS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 rtl="1">
              <a:lnSpc>
                <a:spcPct val="2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Displays such as chalkboards, boards, flipchart  are two-dimensional objects ,they are useful tools for a variety of teaching purposes to clarify, reinforce or summarize information on important topics and themes</a:t>
            </a: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 algn="r" rtl="1">
              <a:lnSpc>
                <a:spcPct val="2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DEMONSTRATION MATERIAL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456840" y="12949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6000"/>
          </a:bodyPr>
          <a:p>
            <a:pPr marL="6696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ce24"/>
                </a:solidFill>
                <a:latin typeface="Gill Sans MT"/>
              </a:rPr>
              <a:t>Display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6696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Babcock and Miller (1994) suggested important guidelines when using chalkboards and white marker boards as follows</a:t>
            </a: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; 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6696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66960" rtl="1">
              <a:spcBef>
                <a:spcPts val="700"/>
              </a:spcBef>
              <a:buClr>
                <a:srgbClr val="86ce2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Be sure that writing is legible and discernible</a:t>
            </a: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66960" rtl="1">
              <a:spcBef>
                <a:spcPts val="700"/>
              </a:spcBef>
              <a:buClr>
                <a:srgbClr val="86ce2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Step a side and face the audience after putting notations on the boards to maintain contact with audience</a:t>
            </a: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66960" rtl="1">
              <a:spcBef>
                <a:spcPts val="700"/>
              </a:spcBef>
              <a:buClr>
                <a:srgbClr val="86ce2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Allow audience time to copy the message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66960" rtl="1">
              <a:spcBef>
                <a:spcPts val="700"/>
              </a:spcBef>
              <a:buClr>
                <a:srgbClr val="86ce2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Enlist a good note taker to capture a creative design or record an idea before the board is erased</a:t>
            </a: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66960" algn="r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DEMONSTRATION MATERIAL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6ce24"/>
                </a:solidFill>
                <a:latin typeface="Cambria"/>
              </a:rPr>
              <a:t>Poster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Which poster is more helpful ….!!!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 algn="r" rtl="1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664" name="Picture 3" descr=""/>
          <p:cNvPicPr/>
          <p:nvPr/>
        </p:nvPicPr>
        <p:blipFill>
          <a:blip r:embed="rId1"/>
          <a:stretch/>
        </p:blipFill>
        <p:spPr>
          <a:xfrm>
            <a:off x="914400" y="2743200"/>
            <a:ext cx="2857680" cy="190512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4" descr=""/>
          <p:cNvPicPr/>
          <p:nvPr/>
        </p:nvPicPr>
        <p:blipFill>
          <a:blip r:embed="rId2"/>
          <a:stretch/>
        </p:blipFill>
        <p:spPr>
          <a:xfrm>
            <a:off x="4952880" y="3048120"/>
            <a:ext cx="3314880" cy="144756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5" descr=""/>
          <p:cNvPicPr/>
          <p:nvPr/>
        </p:nvPicPr>
        <p:blipFill>
          <a:blip r:embed="rId3"/>
          <a:stretch/>
        </p:blipFill>
        <p:spPr>
          <a:xfrm>
            <a:off x="2590920" y="4876920"/>
            <a:ext cx="327636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DEMONSTRATION MATERIAL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 rtl="1">
              <a:lnSpc>
                <a:spcPct val="2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Although they are a type of display material ,posters are being addressed separately because they have become increasingly unique, popular and important educational tools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 rtl="1">
              <a:lnSpc>
                <a:spcPct val="2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DEMONSTRATION MATERIAL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6ce24"/>
                </a:solidFill>
                <a:latin typeface="Cambria"/>
              </a:rPr>
              <a:t>Posters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When using poster the educators must Consider: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Color (opposite spectrum, one color should make up as 70% of the display)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Graphics should be easily interpreted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White space and another background color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Avoid unfamiliar words and symbols 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KISS principle   (keep it small and simple)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Keep learning objectives in mind for the focus of the display too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Be sure content is free from spelling and grammar mistake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Balance  Titles / Scrip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 algn="r" rtl="1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AUDIOVISUAL MATERIALS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685800" y="13712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Factors in selection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Technical feasibility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Economic feasibility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Social/political acceptability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Instructor familiarity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</a:rPr>
              <a:t>AUDIOVISUAL MATERIALS</a:t>
            </a:r>
            <a:r>
              <a:rPr b="0" lang="en-US" sz="3600" spc="-1" strike="noStrike">
                <a:solidFill>
                  <a:srgbClr val="ffffff"/>
                </a:solidFill>
                <a:latin typeface="Cambria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674" name="Picture 4" descr=""/>
          <p:cNvPicPr/>
          <p:nvPr/>
        </p:nvPicPr>
        <p:blipFill>
          <a:blip r:embed="rId1"/>
          <a:stretch/>
        </p:blipFill>
        <p:spPr>
          <a:xfrm>
            <a:off x="4876920" y="2743200"/>
            <a:ext cx="3047760" cy="233676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8" descr=""/>
          <p:cNvPicPr/>
          <p:nvPr/>
        </p:nvPicPr>
        <p:blipFill>
          <a:blip r:embed="rId2"/>
          <a:stretch/>
        </p:blipFill>
        <p:spPr>
          <a:xfrm>
            <a:off x="380880" y="2743200"/>
            <a:ext cx="280692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</a:rPr>
              <a:t>AUDIOVISUAL MATERIALS</a:t>
            </a:r>
            <a:r>
              <a:rPr b="0" lang="en-US" sz="36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 rtl="1">
              <a:lnSpc>
                <a:spcPct val="2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echnology software and hardware are exceptional aids because many can influence all three domains of learning by promoting cognitive development ,stimulating attitude change, and helps to build psychomotor skills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 algn="r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INSTRUCTIONAL MATERIALS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593" name="Picture 2" descr=""/>
          <p:cNvPicPr/>
          <p:nvPr/>
        </p:nvPicPr>
        <p:blipFill>
          <a:blip r:embed="rId1"/>
          <a:stretch/>
        </p:blipFill>
        <p:spPr>
          <a:xfrm>
            <a:off x="1523880" y="2514600"/>
            <a:ext cx="57913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</a:rPr>
              <a:t>AUDIOVISUAL MATERIALS</a:t>
            </a:r>
            <a:r>
              <a:rPr b="0" lang="en-US" sz="36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 rtl="1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Audiovisual materials can be categorized in to five major types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 ; 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 rtl="1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 rtl="1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Projected Learning Resource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 rtl="1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Audio Learning Resource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 rtl="1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Video Learning Resource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 rtl="1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Telecommunications Learning Resource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 rtl="1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Computer Learning Resource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mbria"/>
              </a:rPr>
              <a:t>PROJECTED LEARNING RESOURCES</a:t>
            </a:r>
            <a:endParaRPr b="0" lang="en-US" sz="29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609480" y="14475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6ce24"/>
                </a:solidFill>
                <a:latin typeface="Cambria"/>
              </a:rPr>
              <a:t>Projected Learning Resources such as;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Power Point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Overhead transparencie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682" name="Picture 2" descr=""/>
          <p:cNvPicPr/>
          <p:nvPr/>
        </p:nvPicPr>
        <p:blipFill>
          <a:blip r:embed="rId1"/>
          <a:stretch/>
        </p:blipFill>
        <p:spPr>
          <a:xfrm>
            <a:off x="762120" y="3733920"/>
            <a:ext cx="2539800" cy="1676160"/>
          </a:xfrm>
          <a:prstGeom prst="rect">
            <a:avLst/>
          </a:prstGeom>
          <a:ln w="0">
            <a:noFill/>
          </a:ln>
        </p:spPr>
      </p:pic>
      <p:pic>
        <p:nvPicPr>
          <p:cNvPr id="683" name="Picture 6" descr=""/>
          <p:cNvPicPr/>
          <p:nvPr/>
        </p:nvPicPr>
        <p:blipFill>
          <a:blip r:embed="rId2"/>
          <a:stretch/>
        </p:blipFill>
        <p:spPr>
          <a:xfrm>
            <a:off x="4572000" y="3581280"/>
            <a:ext cx="328932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PROJECTED LEARNING RESOURCES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6ce24"/>
                </a:solidFill>
                <a:latin typeface="Cambria"/>
              </a:rPr>
              <a:t>Advantage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Most effectively used with group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Especially beneficial with hearing-impaired, low-literate learner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Excellent media for use in teaching psychomotor skill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mbria"/>
              </a:rPr>
              <a:t>PROJECTED LEARNING RESOURCES (CONT</a:t>
            </a:r>
            <a:r>
              <a:rPr b="0" lang="ja-JP" sz="2900" spc="-1" strike="noStrike">
                <a:solidFill>
                  <a:srgbClr val="ffffff"/>
                </a:solidFill>
                <a:latin typeface="Cambria"/>
              </a:rPr>
              <a:t>’</a:t>
            </a:r>
            <a:r>
              <a:rPr b="0" lang="en-US" sz="2900" spc="-1" strike="noStrike">
                <a:solidFill>
                  <a:srgbClr val="ffffff"/>
                </a:solidFill>
                <a:latin typeface="Cambria"/>
              </a:rPr>
              <a:t>D)</a:t>
            </a:r>
            <a:endParaRPr b="0" lang="en-US" sz="29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6ce24"/>
                </a:solidFill>
                <a:latin typeface="Cambria"/>
              </a:rPr>
              <a:t>Disadvantage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Lack of flexibility due to static content of some form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Some forms may be expensive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Requires darkened room for some form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Requires special equipment for use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AUDIO LEARNING RESOURCES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6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Audio Learning Resources includes CDs, Digital Sound Files, Radio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6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6ce24"/>
                </a:solidFill>
                <a:latin typeface="Cambria"/>
              </a:rPr>
              <a:t>Advantage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Widely available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May be especially beneficial to visually-impaired, low literate learner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May be listened to repeatedly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Most forms practical, cheap, small, portable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mbria"/>
              </a:rPr>
              <a:t>AUDIO LEARNING RESOURCES (CONT</a:t>
            </a:r>
            <a:r>
              <a:rPr b="0" lang="ja-JP" sz="2900" spc="-1" strike="noStrike">
                <a:solidFill>
                  <a:srgbClr val="ffffff"/>
                </a:solidFill>
                <a:latin typeface="Cambria"/>
              </a:rPr>
              <a:t>’</a:t>
            </a:r>
            <a:r>
              <a:rPr b="0" lang="en-US" sz="2900" spc="-1" strike="noStrike">
                <a:solidFill>
                  <a:srgbClr val="ffffff"/>
                </a:solidFill>
                <a:latin typeface="Cambria"/>
              </a:rPr>
              <a:t>D)</a:t>
            </a:r>
            <a:endParaRPr b="0" lang="en-US" sz="29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6ce24"/>
                </a:solidFill>
                <a:latin typeface="Cambria"/>
              </a:rPr>
              <a:t>Disadvantage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Relies only on sense of hearing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Some forms may be expensive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Lack of opportunity for interaction between instructor and learner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VIDEO LEARNING RESOURCES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6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Video Learning Resources includes ; Digital Video Files, DVDs, Webinar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698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6ce24"/>
                </a:solidFill>
                <a:latin typeface="Cambria"/>
              </a:rPr>
              <a:t>Advantage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Widely used educational too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Inexpensive; uses visual, auditory sense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Flexible for use with different audience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Powerful tool for role-modeling and demonstration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Effective for teaching psychomotor skills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VIDEO LEARNING RESOURCES (CONT</a:t>
            </a:r>
            <a:r>
              <a:rPr b="0" lang="ja-JP" sz="3200" spc="-1" strike="noStrike">
                <a:solidFill>
                  <a:srgbClr val="ffffff"/>
                </a:solidFill>
                <a:latin typeface="Cambria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D)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6ce24"/>
                </a:solidFill>
                <a:latin typeface="Cambria"/>
              </a:rPr>
              <a:t>Disadvantage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Viewing formats limited depending on use of VHS or DVD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Some commercial products may be expensive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Some purchased materials may be too long or inappropriate for audience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ELECOMMUNICATIONS LEARNING RESOURCES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Telecommunications Learning Resources includes Television, Telephone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6ce24"/>
                </a:solidFill>
                <a:latin typeface="Cambria"/>
              </a:rPr>
              <a:t>Advantage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Relatively inexpensive, widely available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6ce24"/>
                </a:solidFill>
                <a:latin typeface="Cambria"/>
              </a:rPr>
              <a:t>Disadvantage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Complicated to set up interactive capability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Expensive to broadcast via satellite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OMPUTER LEARNING RESOURCES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685800" y="13712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6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In our technological society ,the computer has changed our lives dramatically and has found widespread application in industry, business, schools and home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6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698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Examples of Computer Learning Resources (See chapter 12 page 504)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 txBox="1"/>
          <p:nvPr/>
        </p:nvSpPr>
        <p:spPr>
          <a:xfrm>
            <a:off x="762120" y="4568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Instructional Methods and Material are NOT the same and a clear distinction should be made between them 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6ce24"/>
                </a:solidFill>
                <a:latin typeface="Gill Sans MT"/>
              </a:rPr>
              <a:t>Instructional Methods </a:t>
            </a: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are the way information is thought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6ce24"/>
                </a:solidFill>
                <a:latin typeface="Gill Sans MT"/>
              </a:rPr>
              <a:t>Instructional  Material </a:t>
            </a: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include print and non print media used to transmit information  and the accompanying hardware and software needed for delivery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OMPUTER LEARNING RESOURCE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(CONT</a:t>
            </a:r>
            <a:r>
              <a:rPr b="0" lang="ja-JP" sz="3200" spc="-1" strike="noStrike">
                <a:solidFill>
                  <a:srgbClr val="ffffff"/>
                </a:solidFill>
                <a:latin typeface="Cambria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D)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701" name="Picture 4" descr=""/>
          <p:cNvPicPr/>
          <p:nvPr/>
        </p:nvPicPr>
        <p:blipFill>
          <a:blip r:embed="rId1"/>
          <a:stretch/>
        </p:blipFill>
        <p:spPr>
          <a:xfrm>
            <a:off x="1981080" y="2362320"/>
            <a:ext cx="42674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OMPUTER LEARNING RESOURCE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6ce24"/>
                </a:solidFill>
                <a:latin typeface="Cambria"/>
              </a:rPr>
              <a:t>Advantage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Interactive potential: quick feedback, retention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Potential database is enormou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Can individualize to suit different types of learners, different pace of learning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Time efficien</a:t>
            </a:r>
            <a:r>
              <a:rPr b="0" lang="en-US" sz="1600" spc="-1" strike="noStrike">
                <a:solidFill>
                  <a:srgbClr val="ffffff"/>
                </a:solidFill>
                <a:latin typeface="Cambria"/>
              </a:rPr>
              <a:t>t</a:t>
            </a: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 algn="r" rtl="1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mbria"/>
              </a:rPr>
              <a:t>COMPUTER LEARNING RESOURCES</a:t>
            </a:r>
            <a:br>
              <a:rPr sz="2900"/>
            </a:br>
            <a:r>
              <a:rPr b="0" lang="en-US" sz="2900" spc="-1" strike="noStrike">
                <a:solidFill>
                  <a:srgbClr val="ffffff"/>
                </a:solidFill>
                <a:latin typeface="Cambria"/>
              </a:rPr>
              <a:t>(CONT</a:t>
            </a:r>
            <a:r>
              <a:rPr b="0" lang="ja-JP" sz="2900" spc="-1" strike="noStrike">
                <a:solidFill>
                  <a:srgbClr val="ffffff"/>
                </a:solidFill>
                <a:latin typeface="Cambria"/>
              </a:rPr>
              <a:t>’</a:t>
            </a:r>
            <a:r>
              <a:rPr b="0" lang="en-US" sz="2900" spc="-1" strike="noStrike">
                <a:solidFill>
                  <a:srgbClr val="ffffff"/>
                </a:solidFill>
                <a:latin typeface="Cambria"/>
              </a:rPr>
              <a:t>D)</a:t>
            </a:r>
            <a:endParaRPr b="0" lang="en-US" sz="29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6ce24"/>
                </a:solidFill>
                <a:latin typeface="Cambria"/>
              </a:rPr>
              <a:t>Disadvantages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Primary learning efficacy: cognitive domain  less useful for attitude/behavior change or psychomotor skill development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Software and hardware expensive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Must be purchased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Limited use for most older adults, low-literate learners, those with physical limitatio</a:t>
            </a:r>
            <a:r>
              <a:rPr b="0" lang="en-US" sz="1600" spc="-1" strike="noStrike">
                <a:solidFill>
                  <a:srgbClr val="ffffff"/>
                </a:solidFill>
                <a:latin typeface="Cambria"/>
              </a:rPr>
              <a:t>ns</a:t>
            </a: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EVALUATION CRITERIA FOR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LECTING MATERIALS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837720" y="175212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Considerations for Selecting Material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Learner characteristic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Task(s) to be achieved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Media available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</a:rPr>
              <a:t>STATE OF THE EVIDENCE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lnSpc>
                <a:spcPct val="15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Performance is improved and learner satisfaction increased with visual reinforcement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15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Distance learning is an increasingly viable option for learners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777240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6ce24"/>
                </a:solidFill>
                <a:latin typeface="Gill Sans MT"/>
              </a:rPr>
              <a:t>LEARNING PYRAMID ; INFORMATION RETENTION BASED ON THE LEVEL OF ACTIVE LEARNER INVOLVEMENT</a:t>
            </a:r>
            <a:br>
              <a:rPr sz="1800"/>
            </a:br>
            <a:r>
              <a:rPr b="0" lang="en-US" sz="1800" spc="-1" strike="noStrike">
                <a:solidFill>
                  <a:srgbClr val="86ce24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711" name="Picture 4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7556760" cy="3733920"/>
          </a:xfrm>
          <a:prstGeom prst="rect">
            <a:avLst/>
          </a:prstGeom>
          <a:ln w="0">
            <a:noFill/>
          </a:ln>
        </p:spPr>
      </p:pic>
      <p:sp>
        <p:nvSpPr>
          <p:cNvPr id="712" name="TextBox 5"/>
          <p:cNvSpPr/>
          <p:nvPr/>
        </p:nvSpPr>
        <p:spPr>
          <a:xfrm>
            <a:off x="558360" y="5410080"/>
            <a:ext cx="610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Source : Adopted from National Training Laboratories. Institutes of Applied Behavioral Scienc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</a:rPr>
              <a:t>SUMMARY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 algn="ctr" rtl="1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Instructional materials should be used to support learning by complementing and supplementing your teaching, not by substituting for it</a:t>
            </a: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INSTRUCTIONAL MATERIAL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228600" y="1600200"/>
            <a:ext cx="876312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6ce24"/>
                </a:solidFill>
                <a:latin typeface="Cambria"/>
              </a:rPr>
              <a:t>Definition: </a:t>
            </a: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It is a  vehicle by which information is communicated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6ce24"/>
                </a:solidFill>
                <a:latin typeface="Cambria"/>
              </a:rPr>
              <a:t>Purposes: </a:t>
            </a: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to help the nurse educator deliver a message creatively and clearly intended to supplement, rather than replace, the act of teaching and the role of the teacher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GENERAL PRINCIPLES OF EFFECTIVENESS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1028520" y="159984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ce24"/>
                </a:solidFill>
                <a:latin typeface="Cambria"/>
              </a:rPr>
              <a:t>Media should</a:t>
            </a:r>
            <a:r>
              <a:rPr b="1" lang="en-US" sz="2400" spc="-1" strike="noStrike">
                <a:solidFill>
                  <a:srgbClr val="86ce24"/>
                </a:solidFill>
                <a:latin typeface="Cambri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Change behavior by influencing a gain in cognitive, affective, and/or psychomotor skill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Enhance learning—no one tool is better than another 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Complement the instructional method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 txBox="1"/>
          <p:nvPr/>
        </p:nvSpPr>
        <p:spPr>
          <a:xfrm>
            <a:off x="990360" y="1523880"/>
            <a:ext cx="73911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6ce24"/>
                </a:solidFill>
                <a:latin typeface="Cambria"/>
              </a:rPr>
              <a:t>Media should (cont</a:t>
            </a:r>
            <a:r>
              <a:rPr b="0" lang="ja-JP" sz="2400" spc="-1" strike="noStrike">
                <a:solidFill>
                  <a:srgbClr val="86ce24"/>
                </a:solidFill>
                <a:latin typeface="Cambria"/>
              </a:rPr>
              <a:t>’</a:t>
            </a:r>
            <a:r>
              <a:rPr b="0" lang="en-US" sz="2400" spc="-1" strike="noStrike">
                <a:solidFill>
                  <a:srgbClr val="86ce24"/>
                </a:solidFill>
                <a:latin typeface="Cambria"/>
              </a:rPr>
              <a:t>d):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Match available financial resource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Be appropriate for physical environmen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Complement learners</a:t>
            </a:r>
            <a:r>
              <a:rPr b="0" lang="ja-JP" sz="2800" spc="-1" strike="noStrike">
                <a:solidFill>
                  <a:srgbClr val="ffffff"/>
                </a:solidFill>
                <a:latin typeface="Cambria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 sensory abilities, developmental stage, and educational level 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Impart accurate, current, valid and appropriate message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Add diversity and information to learning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0" name="Rectangle 4"/>
          <p:cNvSpPr/>
          <p:nvPr/>
        </p:nvSpPr>
        <p:spPr>
          <a:xfrm>
            <a:off x="838080" y="380880"/>
            <a:ext cx="7620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Text Box 5"/>
          <p:cNvSpPr/>
          <p:nvPr/>
        </p:nvSpPr>
        <p:spPr>
          <a:xfrm>
            <a:off x="838080" y="304920"/>
            <a:ext cx="5639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Text Box 7"/>
          <p:cNvSpPr/>
          <p:nvPr/>
        </p:nvSpPr>
        <p:spPr>
          <a:xfrm>
            <a:off x="83808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Text Box 8"/>
          <p:cNvSpPr/>
          <p:nvPr/>
        </p:nvSpPr>
        <p:spPr>
          <a:xfrm>
            <a:off x="685800" y="4572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4d4d4"/>
                </a:solidFill>
                <a:latin typeface="Cambria"/>
                <a:ea typeface="Arial"/>
              </a:rPr>
              <a:t>General Principles (cont</a:t>
            </a:r>
            <a:r>
              <a:rPr b="0" lang="ja-JP" sz="3600" spc="-1" strike="noStrike">
                <a:solidFill>
                  <a:srgbClr val="d4d4d4"/>
                </a:solidFill>
                <a:latin typeface="Cambria"/>
                <a:ea typeface="Arial"/>
              </a:rPr>
              <a:t>’</a:t>
            </a:r>
            <a:r>
              <a:rPr b="0" lang="en-US" sz="3600" spc="-1" strike="noStrike">
                <a:solidFill>
                  <a:srgbClr val="d4d4d4"/>
                </a:solidFill>
                <a:latin typeface="Cambria"/>
                <a:ea typeface="Arial"/>
              </a:rPr>
              <a:t>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HOOSING INSTRUCTIONAL MATERIALS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mbria"/>
              </a:rPr>
              <a:t>Three Major Variables to Consider when choosing instructional material 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ts val="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ce24"/>
                </a:solidFill>
                <a:latin typeface="Cambria"/>
              </a:rPr>
              <a:t>1. Characteristics of the Learner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Sensorimotor abilitie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Physical attribute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Reading skill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Motivational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Developmental stage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Learning style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606" name="Picture 2" descr=""/>
          <p:cNvPicPr/>
          <p:nvPr/>
        </p:nvPicPr>
        <p:blipFill>
          <a:blip r:embed="rId1"/>
          <a:stretch/>
        </p:blipFill>
        <p:spPr>
          <a:xfrm>
            <a:off x="4952880" y="3657600"/>
            <a:ext cx="32511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2T17:09:48Z</dcterms:created>
  <dc:creator>nicoleh</dc:creator>
  <dc:description/>
  <dc:language>en-US</dc:language>
  <cp:lastModifiedBy>abdalshehri</cp:lastModifiedBy>
  <cp:lastPrinted>2001-03-20T02:17:28Z</cp:lastPrinted>
  <dcterms:modified xsi:type="dcterms:W3CDTF">2016-12-11T21:04:04Z</dcterms:modified>
  <cp:revision>66</cp:revision>
  <dc:subject/>
  <dc:title>PowerPoint Presentation</dc:title>
</cp:coreProperties>
</file>