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CEE8-126B-42CC-AA7D-EC713320F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D6D3-D848-4223-8D02-F997A65D9F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126E-E958-44FD-8DF1-E5AC0FC16A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9C44-F4C8-40EA-9418-583CC264CF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8F35-C60F-451D-A03E-B167F1D6EF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9AA2-A842-4F52-8392-D16CAF7751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08E8-967B-4A00-8D9F-137BE9E5E6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62A7-BF62-436C-99A5-6E9DDD6351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69EF-ACC4-4BF4-A59E-AA8A9194A8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B0F5-4319-4D27-B3A2-49B7CC52F9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6CE8-A5BD-4E2F-A481-0D6D37AF77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0F83-FDB7-4F74-B252-4EEC7E4F08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7A1B-79AE-44CB-B3B8-EF5E39538F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1E1A-0884-461A-8D09-1ED107815C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D37A-177C-441F-99C7-8A53E84E90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1DC4-DACD-4ED5-AFBA-C0E6009B94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285A-CDF4-4E39-BD04-59A45DA094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DF68-76CA-42AE-9909-361A0474B3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828D-FAF9-44ED-ACC1-45D80CB7A9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EEC1-775D-4CE1-ABC7-B31228FD61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54D5-B528-4650-A511-D945CDD8D8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2E15-FC06-47DA-86EF-1D3A6C063F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7E7A-A68E-4674-9F2A-795DA6B805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B1E7-990E-4943-BC21-EB9E2BC824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51E1-B0C0-4B94-8DC5-D08EB8A0F1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6DAD-906C-4F84-B68D-81B73F32F8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A81F-BA4C-4D2B-9393-7A101B18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214A-BDDE-4342-AC99-0FF4DE91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18679-FB27-4BC1-99E7-1E227F5B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C7EB2-6944-423C-A22D-4D39B7E8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A5FAB-10C9-445F-A593-0E93E362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B2AC7-2ECA-42B2-8E7A-947C47AA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D6129-6A3D-46BD-A9AB-2151CC33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E6803-F72C-4296-99BB-DDB2B936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C45F5-FD67-4349-976D-083A16A4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CE5A3-D566-4017-95FB-E72E19F0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E9622-0BF0-48A7-9210-0DDE4844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654AE-118D-49F7-8BEF-CEFB5545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9D11-E121-4B61-B2F4-28E3A46A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0E3F2-4556-476A-8EF8-58C74995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660CF-3E97-439D-B753-3656BCCE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1C112-CF6F-4522-B3AC-E31E920E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CD1DB-8545-4D02-B89C-6972FB6D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AEB80-80E5-4481-A1A2-F655C176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1CF61-1714-4DFC-9B9B-60CF9447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A0195-2D74-4B30-8EF5-7786D5C9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F155D-6243-465D-BEDC-74AE9786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E75AA-3E29-42F7-BB9E-D73AAA80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29D4C-7AF7-4905-AF61-F35B7367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483-FBAF-47BE-BDD1-C3DE5BC4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BCD90-F780-42AC-9F1F-6732F333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12689-FDA6-42BB-8EBC-A055B47C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B0C4D-B35F-4DD2-9577-20C646D0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B7A5A-B049-4A12-8E53-740A037C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69E19-6716-4A57-8787-3BAA58A5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1C849-F0F4-41A8-9FD4-DEB963F9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E7796-5E24-4F44-8AC5-913966BE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9B2BA-3384-4F58-9958-3717E4FA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26A2A-6F23-4603-A65B-34C388B6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C67DE-4132-43FD-9897-53253E1C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CC44-F33B-4A7D-AF2C-7F4AD137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79BF9-0E18-42E7-BDE7-DECD6CA7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420F6-D924-4C43-A211-27C38B86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E4135-F4EA-46EC-B946-36F00D10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A6DB7-209B-4E9D-A4E5-D7A87CCD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3C950-979E-49C9-AC23-AD62741A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994E0-F832-4E81-B3E1-E528B490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EFBC1-3FA2-4065-BA19-BF80D22E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B7C91-E542-4B13-BEFA-CD404160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44F2C-DBFF-42E5-B6A7-64CEE4FD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FC8FA-539D-4095-9D79-19474026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16D7-1398-4F98-8C3A-45D95D2B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C94E0-9BB0-4352-8E5F-3D312DCE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7B82E-B8B6-45DA-BD19-E995131F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9960A-C8BE-43DC-A05D-6C6C6D5F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F2489-FEFF-4C98-BFD4-72DC29B0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555EA-CD50-43A8-B22D-16A86566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57BE-AF58-4991-ACE3-D4BA19E6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38DF-1A78-4D49-894B-4167BB62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C803-7B3F-4101-BBF3-0AC3AF0C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EC71-7E2B-4653-88F9-CE7D4E24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F68C-8DEB-4EA8-9678-72219136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6ACA-0D18-46DE-AEE2-2B7FB90F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21D1-B55A-4D18-B0AB-44B75A9D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B936-09C4-4384-A440-2EC16D51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B5B4-9E8D-4554-BD2D-45E95FEB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8BD3-B203-4F50-B998-1762E327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701F-0EC7-4F81-B511-4DCE681A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AC08C-9861-4BA0-B9C1-CC1CDF15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CED71-54C2-4C8E-A56B-678B2238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5D312-6518-49DE-BCAB-19218A23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4CE3C-FDCC-4D98-8596-B3E4C253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3CE28-2662-4ED4-B3C5-AFF58DB2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39DF-44F7-4C37-B40D-CE72F3FD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401CC-EFBB-4E5E-A1F9-ADA7802A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99DA8-C682-4E93-BA47-13394557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62C47-0387-4DF2-BEB7-7F883A5F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D83D9-9C6B-4644-9DBF-CE21392C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15DD9-5E2F-4F7C-BB80-88AD7073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66FAB-996C-4DF9-A69D-40064E0B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CA230-3185-4F9F-8309-24D1945D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A81E0-FA4E-41E2-A3E9-75417271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8F1C7-B64C-44F4-9C5F-1D1907FD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F6C99-B2BB-4F10-89C7-9AF0961F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CBA-90F8-4473-979A-99DF859A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FD3E8-07F7-4AFD-AD7A-29304FC7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191C3-7CA2-4573-9DD0-D7337176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9C19C-6F88-48DF-BAF0-1AF43F0C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63DCC-BDAA-418E-A398-5EFDECD8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C73A2-B5AA-4820-BB1A-24350A45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A0CF-9FC8-4641-AA9C-2DB3B0C6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62531-34D9-42AA-8B74-3ADB5685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2C48C-DD3D-4426-A23A-8A820492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9AF9B-2F90-4CC9-850F-D15D3E86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50E49-19CF-4E12-8064-E726F32B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6EF-3CA6-42CB-B958-D25766BC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3B1EF-6E6C-496A-8032-A527555B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3D488-0650-4DA2-8538-58880801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44197-7506-4A64-8BC4-A863CAB5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2A94D-D99E-4A8A-9985-50184204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6835F-CCD8-46FA-9F83-7CC413C5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75D55-A522-43FD-9F38-E1F48554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31D7A-162E-49CB-8FBC-8E91C6CA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4CEAD-FC8C-432B-972D-490058AE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D11D9-2191-47D9-8FFD-CF7D4E92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F9F78-AA97-4996-9BAA-76BE3CB7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4743-BBF3-480B-B9E9-497B8A2F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1AEB8-02AB-409C-9666-DD7E99F0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A00D7-9617-4432-B936-9506FDCC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1B3ED-477C-4ED9-BF8E-759ABD82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0BBEB-5A7E-4F4D-9112-2B311E9C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2225C-5601-4F1E-8471-15D81D28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B1899-2666-4294-B016-38033E27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AE37F-4C68-4065-A37C-0658EBCB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19DBC-299F-4516-B3B7-23202566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810C1-B633-44E0-9486-5B45A7B1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480B2-A521-4482-9A93-D269A017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673-805D-44BE-AC81-7EE2F1D4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C087A-9497-4EFF-B2AA-13F0DA97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453BB-9A32-4B13-B834-5F2E27E5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CE0D2-8AD0-456E-ADCF-56830F45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869B0-FB5D-47F2-BDFC-CBE87210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8FA46-4F8A-4AC8-BBD8-96B2255A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6DDA1-D79F-4A32-AD56-F3CDA88B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33DA3-AD80-4FDD-90A8-CA62A6B3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6998B-1C9A-4200-AA50-41598C69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3C99B-B768-4D63-A421-EB3C3B0B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3715B-9F79-4D3A-A78A-F8513088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E67-A3F0-4421-A457-3BF2FAC0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3621C-49C2-4FBB-AFA1-B8C8FAC2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9B980-8715-4461-8FD4-E471BFFE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0287F-D128-4610-A4E1-3B125E59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1C732-2160-4068-B02C-05DAA200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B97B8-E664-4BB0-98B1-D8D45F25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7A27B-9D2A-4E90-8B22-B5DA2739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C8CD0-D58C-4BF8-B210-72E8D3CA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240B7-2B5B-49FA-B5EF-219500B0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B6078-9074-4E1E-9206-6EB9AFE5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94B1B-8196-44B4-9845-777F57E0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262-398E-43BB-AAF0-24B34B3C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5A928-E5FE-4A41-BE4D-8FD65F23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37B75-4886-4DD6-8EFF-6F1CC34E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00E50-AD19-4E50-8FB2-25A44394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DDDCF-2CFB-4739-A5D0-E0BC8776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03381-EE68-4804-BDAD-B63F5EBE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5F7A6-D946-4021-A9F9-D591AC78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495EB-1090-43FB-9838-A4C74D35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7D90F-0DE5-4BF7-B7CB-80DEBFFC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F70D0-876C-42A3-9779-5F70F200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08A95-A824-4F9F-BF2A-425EDD11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015A-6834-40E7-AB94-81D1ADEB77B4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Freeform 7"/>
          <p:cNvSpPr/>
          <p:nvPr/>
        </p:nvSpPr>
        <p:spPr>
          <a:xfrm flipH="1">
            <a:off x="0" y="6148440"/>
            <a:ext cx="73389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Freeform 8"/>
          <p:cNvSpPr/>
          <p:nvPr/>
        </p:nvSpPr>
        <p:spPr>
          <a:xfrm flipH="1">
            <a:off x="190656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9"/>
          <p:cNvSpPr/>
          <p:nvPr/>
        </p:nvSpPr>
        <p:spPr>
          <a:xfrm flipH="1">
            <a:off x="1541520" y="5411880"/>
            <a:ext cx="76039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Freeform 10"/>
          <p:cNvSpPr/>
          <p:nvPr/>
        </p:nvSpPr>
        <p:spPr>
          <a:xfrm flipH="1">
            <a:off x="-720" y="6116760"/>
            <a:ext cx="74660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75B6-BA30-4AF3-BDE3-2FBFEC9FC5B4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Freeform 6"/>
          <p:cNvSpPr/>
          <p:nvPr/>
        </p:nvSpPr>
        <p:spPr>
          <a:xfrm flipH="1">
            <a:off x="190656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Freeform 7"/>
          <p:cNvSpPr/>
          <p:nvPr/>
        </p:nvSpPr>
        <p:spPr>
          <a:xfrm flipH="1">
            <a:off x="0" y="6148440"/>
            <a:ext cx="73389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Freeform 8"/>
          <p:cNvSpPr/>
          <p:nvPr/>
        </p:nvSpPr>
        <p:spPr>
          <a:xfrm flipH="1">
            <a:off x="1541520" y="5411880"/>
            <a:ext cx="76039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Freeform 9"/>
          <p:cNvSpPr/>
          <p:nvPr/>
        </p:nvSpPr>
        <p:spPr>
          <a:xfrm flipH="1">
            <a:off x="-720" y="6116760"/>
            <a:ext cx="74660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C508-8E31-46F1-B19F-6C5F46464826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3" name="Freeform 6"/>
          <p:cNvSpPr/>
          <p:nvPr/>
        </p:nvSpPr>
        <p:spPr>
          <a:xfrm flipH="1">
            <a:off x="190656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Freeform 7"/>
          <p:cNvSpPr/>
          <p:nvPr/>
        </p:nvSpPr>
        <p:spPr>
          <a:xfrm flipH="1">
            <a:off x="0" y="6148440"/>
            <a:ext cx="73389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reeform 8"/>
          <p:cNvSpPr/>
          <p:nvPr/>
        </p:nvSpPr>
        <p:spPr>
          <a:xfrm flipH="1">
            <a:off x="1541520" y="5411880"/>
            <a:ext cx="76039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Freeform 9"/>
          <p:cNvSpPr/>
          <p:nvPr/>
        </p:nvSpPr>
        <p:spPr>
          <a:xfrm flipH="1">
            <a:off x="-720" y="6116760"/>
            <a:ext cx="74660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35C2-DEF8-4E69-9F93-A812C27197A3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Freeform 6"/>
          <p:cNvSpPr/>
          <p:nvPr/>
        </p:nvSpPr>
        <p:spPr>
          <a:xfrm flipH="1">
            <a:off x="720" y="5292720"/>
            <a:ext cx="91458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Freeform 7"/>
          <p:cNvGrpSpPr/>
          <p:nvPr/>
        </p:nvGrpSpPr>
        <p:grpSpPr>
          <a:xfrm>
            <a:off x="0" y="5291280"/>
            <a:ext cx="9143640" cy="1444320"/>
            <a:chOff x="0" y="5291280"/>
            <a:chExt cx="9143640" cy="1444320"/>
          </a:xfrm>
        </p:grpSpPr>
        <p:pic>
          <p:nvPicPr>
            <p:cNvPr id="49" name="Freeform 7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076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080" y="5292720"/>
              <a:ext cx="914256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Freeform 8"/>
          <p:cNvSpPr/>
          <p:nvPr/>
        </p:nvSpPr>
        <p:spPr>
          <a:xfrm flipH="1">
            <a:off x="0" y="5546880"/>
            <a:ext cx="91454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fde99f"/>
              </a:gs>
              <a:gs pos="100000">
                <a:srgbClr val="fcde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 flipH="1">
            <a:off x="144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10"/>
          <p:cNvSpPr/>
          <p:nvPr/>
        </p:nvSpPr>
        <p:spPr>
          <a:xfrm flipH="1">
            <a:off x="144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C0F7-7FF1-4394-A804-9EAF8DB8D64F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Freeform 6"/>
          <p:cNvSpPr/>
          <p:nvPr/>
        </p:nvSpPr>
        <p:spPr>
          <a:xfrm flipH="1">
            <a:off x="190656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Freeform 7"/>
          <p:cNvSpPr/>
          <p:nvPr/>
        </p:nvSpPr>
        <p:spPr>
          <a:xfrm flipH="1">
            <a:off x="0" y="6148440"/>
            <a:ext cx="73389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8"/>
          <p:cNvSpPr/>
          <p:nvPr/>
        </p:nvSpPr>
        <p:spPr>
          <a:xfrm flipH="1">
            <a:off x="1541520" y="5411880"/>
            <a:ext cx="76039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9"/>
          <p:cNvSpPr/>
          <p:nvPr/>
        </p:nvSpPr>
        <p:spPr>
          <a:xfrm flipH="1">
            <a:off x="-720" y="6116760"/>
            <a:ext cx="74660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F868-3E6F-4673-840E-2260BEDAA178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Freeform 6"/>
          <p:cNvSpPr/>
          <p:nvPr/>
        </p:nvSpPr>
        <p:spPr>
          <a:xfrm flipH="1">
            <a:off x="0" y="5546880"/>
            <a:ext cx="91454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cfefa4"/>
              </a:gs>
              <a:gs pos="100000">
                <a:srgbClr val="b7e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Freeform 7"/>
          <p:cNvSpPr/>
          <p:nvPr/>
        </p:nvSpPr>
        <p:spPr>
          <a:xfrm flipH="1">
            <a:off x="720" y="5292720"/>
            <a:ext cx="91458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Freeform 8"/>
          <p:cNvGrpSpPr/>
          <p:nvPr/>
        </p:nvGrpSpPr>
        <p:grpSpPr>
          <a:xfrm>
            <a:off x="0" y="5291280"/>
            <a:ext cx="9143640" cy="1444320"/>
            <a:chOff x="0" y="5291280"/>
            <a:chExt cx="9143640" cy="1444320"/>
          </a:xfrm>
        </p:grpSpPr>
        <p:pic>
          <p:nvPicPr>
            <p:cNvPr id="149" name="Freeform 8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076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080" y="5292720"/>
              <a:ext cx="914256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Rectangle 9"/>
          <p:cNvSpPr/>
          <p:nvPr/>
        </p:nvSpPr>
        <p:spPr>
          <a:xfrm flipH="1">
            <a:off x="144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Freeform 10"/>
          <p:cNvSpPr/>
          <p:nvPr/>
        </p:nvSpPr>
        <p:spPr>
          <a:xfrm flipH="1">
            <a:off x="144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6131-7770-4FF7-B5FB-34E8D0DEBFA9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Freeform 6"/>
          <p:cNvSpPr/>
          <p:nvPr/>
        </p:nvSpPr>
        <p:spPr>
          <a:xfrm flipH="1">
            <a:off x="190656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Freeform 7"/>
          <p:cNvSpPr/>
          <p:nvPr/>
        </p:nvSpPr>
        <p:spPr>
          <a:xfrm flipH="1">
            <a:off x="0" y="6148440"/>
            <a:ext cx="73389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eeform 8"/>
          <p:cNvSpPr/>
          <p:nvPr/>
        </p:nvSpPr>
        <p:spPr>
          <a:xfrm flipH="1">
            <a:off x="1541520" y="5411880"/>
            <a:ext cx="76039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eeform 9"/>
          <p:cNvSpPr/>
          <p:nvPr/>
        </p:nvSpPr>
        <p:spPr>
          <a:xfrm flipH="1">
            <a:off x="-720" y="6116760"/>
            <a:ext cx="74660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D8D1-4A22-4641-9F85-D19704FFF872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Freeform 9"/>
          <p:cNvSpPr/>
          <p:nvPr/>
        </p:nvSpPr>
        <p:spPr>
          <a:xfrm flipH="1">
            <a:off x="0" y="6148440"/>
            <a:ext cx="73389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Freeform 10"/>
          <p:cNvSpPr/>
          <p:nvPr/>
        </p:nvSpPr>
        <p:spPr>
          <a:xfrm flipH="1">
            <a:off x="190656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Freeform 11"/>
          <p:cNvSpPr/>
          <p:nvPr/>
        </p:nvSpPr>
        <p:spPr>
          <a:xfrm flipH="1">
            <a:off x="1541520" y="5411880"/>
            <a:ext cx="76039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Freeform 12"/>
          <p:cNvSpPr/>
          <p:nvPr/>
        </p:nvSpPr>
        <p:spPr>
          <a:xfrm flipH="1">
            <a:off x="-720" y="6116760"/>
            <a:ext cx="74660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F5A1-BAC9-4CB8-A866-24F8ED531162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Freeform 5"/>
          <p:cNvSpPr/>
          <p:nvPr/>
        </p:nvSpPr>
        <p:spPr>
          <a:xfrm flipH="1">
            <a:off x="170640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Freeform 6"/>
          <p:cNvSpPr/>
          <p:nvPr/>
        </p:nvSpPr>
        <p:spPr>
          <a:xfrm flipH="1">
            <a:off x="-3960" y="5730840"/>
            <a:ext cx="914868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Freeform 7"/>
          <p:cNvSpPr/>
          <p:nvPr/>
        </p:nvSpPr>
        <p:spPr>
          <a:xfrm flipH="1">
            <a:off x="146916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reeform 8"/>
          <p:cNvSpPr/>
          <p:nvPr/>
        </p:nvSpPr>
        <p:spPr>
          <a:xfrm flipH="1">
            <a:off x="720" y="5695920"/>
            <a:ext cx="914580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35CE-345F-4D33-9A7D-BD089FC54749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Freeform 4"/>
          <p:cNvSpPr/>
          <p:nvPr/>
        </p:nvSpPr>
        <p:spPr>
          <a:xfrm flipH="1">
            <a:off x="-3960" y="5730840"/>
            <a:ext cx="914868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5"/>
          <p:cNvSpPr/>
          <p:nvPr/>
        </p:nvSpPr>
        <p:spPr>
          <a:xfrm flipH="1">
            <a:off x="585936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6"/>
          <p:cNvSpPr/>
          <p:nvPr/>
        </p:nvSpPr>
        <p:spPr>
          <a:xfrm flipH="1">
            <a:off x="720" y="5695920"/>
            <a:ext cx="914580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7"/>
          <p:cNvSpPr/>
          <p:nvPr/>
        </p:nvSpPr>
        <p:spPr>
          <a:xfrm flipH="1">
            <a:off x="5718240" y="5346720"/>
            <a:ext cx="342720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0FB7-F4D0-44AE-A930-6735A31FB527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Freeform 7"/>
          <p:cNvSpPr/>
          <p:nvPr/>
        </p:nvSpPr>
        <p:spPr>
          <a:xfrm flipH="1">
            <a:off x="170640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Freeform 8"/>
          <p:cNvSpPr/>
          <p:nvPr/>
        </p:nvSpPr>
        <p:spPr>
          <a:xfrm flipH="1">
            <a:off x="-3960" y="5730840"/>
            <a:ext cx="914868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Freeform 9"/>
          <p:cNvSpPr/>
          <p:nvPr/>
        </p:nvSpPr>
        <p:spPr>
          <a:xfrm flipH="1">
            <a:off x="146916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Freeform 10"/>
          <p:cNvSpPr/>
          <p:nvPr/>
        </p:nvSpPr>
        <p:spPr>
          <a:xfrm flipH="1">
            <a:off x="720" y="5695920"/>
            <a:ext cx="914580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 algn="r" rtl="1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998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60116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1792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2F5B-CC64-4203-809A-21B19AAF630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6212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HAPTER 12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NSTRUCTIONAL MATERIA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371240" y="32004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HOOSING INSTRUCTIONAL MATERIAL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468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ce24"/>
                </a:solidFill>
                <a:latin typeface="Cambria"/>
              </a:rPr>
              <a:t>2. Characteristics of the Medi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46836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Prin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46836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Nonprint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46836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odel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46836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Audiovisua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4683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4267080" y="2286000"/>
            <a:ext cx="3810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HOOSING INSTRUCTIONAL MATERIAL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468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ce24"/>
                </a:solidFill>
                <a:latin typeface="Cambria"/>
              </a:rPr>
              <a:t>3. Characteristics of the Task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46836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Learning domai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46836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omplexity of behavior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r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367020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REE MAJOR COMPONENTS OF INSTRUCTIONAL MATERIA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ce24"/>
                </a:solidFill>
                <a:latin typeface="Cambria"/>
              </a:rPr>
              <a:t>Delivery System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Definition : both the software (physical form) and the hardware used to present materials 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35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Example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35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oftware (physical form) : Power Point slides , DVD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35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Hardware : computer, DVD player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COMPONENTS (CONT</a:t>
            </a:r>
            <a:r>
              <a:rPr b="0" lang="ja-JP" sz="36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D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ce24"/>
                </a:solidFill>
                <a:latin typeface="Cambria"/>
              </a:rPr>
              <a:t>2. </a:t>
            </a:r>
            <a:r>
              <a:rPr b="1" lang="en-US" sz="2400" spc="-1" strike="noStrike">
                <a:solidFill>
                  <a:srgbClr val="86ce24"/>
                </a:solidFill>
                <a:latin typeface="Cambria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Definition: actual information imparted to the learner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35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election criteria for conten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Accuracy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Appropriateness for skill determinatio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eadability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COMPONENTS (CONT</a:t>
            </a:r>
            <a:r>
              <a:rPr b="0" lang="ja-JP" sz="36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D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ce24"/>
                </a:solidFill>
                <a:latin typeface="Cambria"/>
              </a:rPr>
              <a:t>3. Presentatio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Definition: Weston and Canston (1986) states that the form of the message;  in other words how information is presented is  the form most important for selecting/developing instructional material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35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hey describe the form of  the message as occurring a long a continuum from  Concrete to Abstract  including ;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OMPONENTS (CONT</a:t>
            </a:r>
            <a:r>
              <a:rPr b="0" lang="ja-JP" sz="3600" spc="-1" strike="noStrike">
                <a:solidFill>
                  <a:srgbClr val="ffffff"/>
                </a:solidFill>
                <a:latin typeface="Gill Sans MT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 marL="312120" indent="-24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Gill Sans MT"/>
              </a:rPr>
              <a:t>Realia: 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most Concrete  and accurate form of stimuli used to deliver information  e.g . An actual woman or mannequin demonstrating breast-self examination 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12120" indent="-24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Gill Sans MT"/>
              </a:rPr>
              <a:t>Illusionary representations: 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Less concrete e.g. real life visual and auditory media such as audiotapes on how to discriminate between normal and abnormal lung sound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12120" indent="-24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Gill Sans MT"/>
              </a:rPr>
              <a:t>Symbolic representations: 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most abstract types of message /stimuli used for instruction  e.g.  Audiotapes ,oral; presentation, graphs written text ,handout…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12120" indent="-24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12120" indent="-24840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YPES OF INSTRUCTIONAL MATERIA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6ce24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86ce24"/>
                </a:solidFill>
                <a:latin typeface="Cambria"/>
              </a:rPr>
              <a:t>Written (Printed) Material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23" name="Picture 1" descr=""/>
          <p:cNvPicPr/>
          <p:nvPr/>
        </p:nvPicPr>
        <p:blipFill>
          <a:blip r:embed="rId1"/>
          <a:stretch/>
        </p:blipFill>
        <p:spPr>
          <a:xfrm>
            <a:off x="2209680" y="2463840"/>
            <a:ext cx="41911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86ce24"/>
                </a:solidFill>
                <a:latin typeface="Cambria"/>
              </a:rPr>
              <a:t>Written (Printed) Materials</a:t>
            </a:r>
            <a:br>
              <a:rPr sz="2900"/>
            </a:br>
            <a:br>
              <a:rPr sz="3200"/>
            </a:b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ce24"/>
                </a:solidFill>
                <a:latin typeface="Cambria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Available to learner in absence of teacher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Widely acceptable, familiar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eadily availabl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elatively cheap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onvenient form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Learner controls rate of reading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ontent easily altered to target specific audienc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r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WRITTEN MATERIALS (CONT</a:t>
            </a:r>
            <a:r>
              <a:rPr b="0" lang="ja-JP" sz="32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D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ce24"/>
                </a:solidFill>
                <a:latin typeface="Cambria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ost abstract form of reality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Immediate feedback limited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Proper reading level essential for full usefulnes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Less useful with low literate learners or visually or cognitively impaired learner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Inappropriate for illiterate learner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WRITTEN MATERI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Example of Written Materials  ;  Commercially Prepared material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ese materials includes material that prepared by companies that may or may not produced in collaboration with health professionals ,which raises the questions of how factual the information may be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IS THERE A DIFFERENCE BETWEEN INSTRUCTIONAL METHODS AND INSTRUCTIONAL  MATERIALS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WRITTEN MATERI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actors to be considered when using Commercially Prepared material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Who produced the item?  Was there any input by healthcare professionals?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Can the item be previewed?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The price must be consistent with its educational value.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r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WRITTEN MATERI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335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2" marL="868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Example of Written Materials  ;Instructor Composed Material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868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868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Educators may choose to write their own instructional material for the purpose of cost saving or the need to tailor content to specific audience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Gill Sans MT"/>
              </a:rPr>
              <a:t>Guidelines for writing  Effective Instructor Composed Material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15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Fit your own institution</a:t>
            </a:r>
            <a:r>
              <a:rPr b="0" lang="ja-JP" sz="24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 policies, procedures and equipment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15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Build in answers to those questions asked most frequently by your patient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15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Highlight points considered especially important by your healthcare team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lnSpc>
                <a:spcPct val="15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einforce specific oral instructions and clarify difficult concept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840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EVALUATING PRINTED MATERI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Educator must consider :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Nature of the audienc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Literacy level required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Linguistic variety availabl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Brevity and clarit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Layout and appearanc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Opportunity for repeti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oncreteness and familiarit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EMONSTRATION MATERIALS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 rtl="1">
              <a:lnSpc>
                <a:spcPct val="2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Demonstration materials includes many types of non-print media, such as models and real equipment as well as displays, such as posters ,diagrams, illustrations ,charts bulletin boards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 ….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rtl="1">
              <a:lnSpc>
                <a:spcPct val="2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EMONSTRATION MATERIALS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ce24"/>
                </a:solidFill>
                <a:latin typeface="Gill Sans MT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ast way to attract attention, make a poin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Portabl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Reusabl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timulate interest or ideas in observer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an change or influence attitud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Purchasable and/or can be mad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840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DEMONSTRATION MATERIALS</a:t>
            </a:r>
            <a:br>
              <a:rPr sz="2900"/>
            </a:b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  (CONT</a:t>
            </a:r>
            <a:r>
              <a:rPr b="0" lang="ja-JP" sz="29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D)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ake up a lot of spac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ime-consuming to prepare—often reused, outdated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ay be overused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Unsuitable for large audienc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DEMONSTRATION MATERI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44" name="Picture 3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187800" cy="12952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 txBox="1"/>
          <p:nvPr/>
        </p:nvSpPr>
        <p:spPr>
          <a:xfrm>
            <a:off x="0" y="1295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9840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   </a:t>
            </a: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Model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46" name="Picture 4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2857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DEMONSTRATION MATERI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Models are usually three-dimensional instructional tools that allow the learner to immediately apply knowledge and psychomotor skills by observing ,examining ,manipulating handling ,assembling and disassembling objects while the teacher provides feedback (Rankin &amp; Stealing 2001)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DEMONSTRATION MATERIALS MODE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762120" y="1294920"/>
            <a:ext cx="76197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ce24"/>
                </a:solidFill>
                <a:latin typeface="Cambria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Useful when real object is too small, too large, too expensive, unavailable, or too complex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Allows safe, hands-on practic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ore active involvement by the learner with immediate feedback availabl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eadily availabl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INSTRUCTIONAL METHOD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3" descr=""/>
          <p:cNvPicPr/>
          <p:nvPr/>
        </p:nvPicPr>
        <p:blipFill>
          <a:blip r:embed="rId2"/>
          <a:stretch/>
        </p:blipFill>
        <p:spPr>
          <a:xfrm>
            <a:off x="5791320" y="169236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" descr=""/>
          <p:cNvPicPr/>
          <p:nvPr/>
        </p:nvPicPr>
        <p:blipFill>
          <a:blip r:embed="rId3"/>
          <a:stretch/>
        </p:blipFill>
        <p:spPr>
          <a:xfrm>
            <a:off x="1447920" y="4419720"/>
            <a:ext cx="2743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DEMONSTRATION MATERIALS</a:t>
            </a:r>
            <a:br>
              <a:rPr sz="2900"/>
            </a:b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MODELS (CONT</a:t>
            </a:r>
            <a:r>
              <a:rPr b="0" lang="ja-JP" sz="29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D)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ce24"/>
                </a:solidFill>
                <a:latin typeface="Cambria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ay not be suitable for learner with poor abstraction abilities or for visually impaired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ome models fragile, expensive, bulky, or difficult to transpor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annot be observed or manipulated by more than a few learners at a tim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DEMONSTRATION MATERI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98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ce24"/>
                </a:solidFill>
                <a:latin typeface="Gill Sans MT"/>
              </a:rPr>
              <a:t>Displays</a:t>
            </a:r>
            <a:r>
              <a:rPr b="0" lang="en-US" sz="2000" spc="-1" strike="noStrike">
                <a:solidFill>
                  <a:srgbClr val="86ce24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98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98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ce24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3505320" y="1905120"/>
            <a:ext cx="3289320" cy="1752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4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2666880" cy="1981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" descr=""/>
          <p:cNvPicPr/>
          <p:nvPr/>
        </p:nvPicPr>
        <p:blipFill>
          <a:blip r:embed="rId3"/>
          <a:stretch/>
        </p:blipFill>
        <p:spPr>
          <a:xfrm>
            <a:off x="5257800" y="3987720"/>
            <a:ext cx="285768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DEMONSTRATION MATERI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 rtl="1">
              <a:lnSpc>
                <a:spcPct val="2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isplays such as chalkboards, boards, flipchart  are two-dimensional objects ,they are useful tools for a variety of teaching purposes to clarify, reinforce or summarize information on important topics and themes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r" rtl="1">
              <a:lnSpc>
                <a:spcPct val="2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DEMONSTRATION MATERIAL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6840" y="12949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66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ce24"/>
                </a:solidFill>
                <a:latin typeface="Gill Sans MT"/>
              </a:rPr>
              <a:t>Display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6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Babcock and Miller (1994) suggested important guidelines when using chalkboards and white marker boards as follows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; 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6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6960" rtl="1">
              <a:spcBef>
                <a:spcPts val="700"/>
              </a:spcBef>
              <a:buClr>
                <a:srgbClr val="86ce2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Be sure that writing is legible and discernible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6960" rtl="1">
              <a:spcBef>
                <a:spcPts val="700"/>
              </a:spcBef>
              <a:buClr>
                <a:srgbClr val="86ce2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tep a side and face the audience after putting notations on the boards to maintain contact with audience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6960" rtl="1">
              <a:spcBef>
                <a:spcPts val="700"/>
              </a:spcBef>
              <a:buClr>
                <a:srgbClr val="86ce2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Allow audience time to copy the messag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6960" rtl="1">
              <a:spcBef>
                <a:spcPts val="700"/>
              </a:spcBef>
              <a:buClr>
                <a:srgbClr val="86ce2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Enlist a good note taker to capture a creative design or record an idea before the board is erased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696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DEMONSTRATION MATERIAL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Poster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Which poster is more helpful ….!!!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r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64" name="Picture 3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4" descr=""/>
          <p:cNvPicPr/>
          <p:nvPr/>
        </p:nvPicPr>
        <p:blipFill>
          <a:blip r:embed="rId2"/>
          <a:stretch/>
        </p:blipFill>
        <p:spPr>
          <a:xfrm>
            <a:off x="4952880" y="3048120"/>
            <a:ext cx="3314880" cy="144756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5" descr=""/>
          <p:cNvPicPr/>
          <p:nvPr/>
        </p:nvPicPr>
        <p:blipFill>
          <a:blip r:embed="rId3"/>
          <a:stretch/>
        </p:blipFill>
        <p:spPr>
          <a:xfrm>
            <a:off x="2590920" y="4876920"/>
            <a:ext cx="32763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DEMONSTRATION MATERIAL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 rtl="1">
              <a:lnSpc>
                <a:spcPct val="2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Although they are a type of display material ,posters are being addressed separately because they have become increasingly unique, popular and important educational tool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rtl="1">
              <a:lnSpc>
                <a:spcPct val="2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DEMONSTRATION MATERIAL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ce24"/>
                </a:solidFill>
                <a:latin typeface="Cambria"/>
              </a:rPr>
              <a:t>Poster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When using poster the educators must Consider: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olor (opposite spectrum, one color should make up as 70% of the display)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Graphics should be easily interpreted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White space and another background color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Avoid unfamiliar words and symbols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KISS principle   (keep it small and simple)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Keep learning objectives in mind for the focus of the display too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Be sure content is free from spelling and grammar mistak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Balance  Titles / Scrip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r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AUDIOVISUAL MATERIA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685800" y="1371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Factors in selectio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echnical feasibility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Economic feasibility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ocial/political acceptability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Instructor familiarity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AUDIOVISUAL MATERIALS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876920" y="2743200"/>
            <a:ext cx="3047760" cy="23367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8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28069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AUDIOVISUAL MATERIALS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 rtl="1">
              <a:lnSpc>
                <a:spcPct val="2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echnology software and hardware are exceptional aids because many can influence all three domains of learning by promoting cognitive development ,stimulating attitude change, and helps to build psychomotor skill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r" rtl="1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INSTRUCTIONAL MATERIA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5791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AUDIOVISUAL MATERIALS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Audiovisual materials can be categorized in to five major types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 ;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Projected Learning Resourc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Audio Learning Resourc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Video Learning Resourc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elecommunications Learning Resourc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omputer Learning Resourc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PROJECTED LEARNING RESOURCES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09480" y="14475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Projected Learning Resources such as;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Power Point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Overhead transparenci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2539800" cy="167616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32893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PROJECTED LEARNING RESOURC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ost effectively used with group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Especially beneficial with hearing-impaired, low-literate learner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Excellent media for use in teaching psychomotor skill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PROJECTED LEARNING RESOURCES (CONT</a:t>
            </a:r>
            <a:r>
              <a:rPr b="0" lang="ja-JP" sz="29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D)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Lack of flexibility due to static content of some form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ome forms may be expensiv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equires darkened room for some form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equires special equipment for us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AUDIO LEARNING RESOURC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Audio Learning Resources includes CDs, Digital Sound Files, Radio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Widely availabl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ay be especially beneficial to visually-impaired, low literate learner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ay be listened to repeatedly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ost forms practical, cheap, small, portabl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AUDIO LEARNING RESOURCES (CONT</a:t>
            </a:r>
            <a:r>
              <a:rPr b="0" lang="ja-JP" sz="29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D)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elies only on sense of hearing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ome forms may be expensiv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Lack of opportunity for interaction between instructor and learner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VIDEO LEARNING RESOURC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Video Learning Resources includes ; Digital Video Files, DVDs, Webinar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98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Widely used educational too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Inexpensive; uses visual, auditory sens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Flexible for use with different audienc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Powerful tool for role-modeling and demonstratio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Effective for teaching psychomotor skill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VIDEO LEARNING RESOURCES (CONT</a:t>
            </a:r>
            <a:r>
              <a:rPr b="0" lang="ja-JP" sz="32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D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Viewing formats limited depending on use of VHS or DVD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ome commercial products may be expensiv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ome purchased materials may be too long or inappropriate for audienc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ELECOMMUNICATIONS LEARNING RESOURC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elecommunications Learning Resources includes Television, Telephon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elatively inexpensive, widely availabl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omplicated to set up interactive capability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Expensive to broadcast via satellit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OMPUTER LEARNING RESOURC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In our technological society ,the computer has changed our lives dramatically and has found widespread application in industry, business, schools and hom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698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Examples of Computer Learning Resources (See chapter 12 page 504)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762120" y="456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Instructional Methods and Material are NOT the same and a clear distinction should be made between them 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Gill Sans MT"/>
              </a:rPr>
              <a:t>Instructional Methods 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are the way information is though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Gill Sans MT"/>
              </a:rPr>
              <a:t>Instructional  Material 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include print and non print media used to transmit information  and the accompanying hardware and software needed for delivery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OMPUTER LEARNING RESOURC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(CONT</a:t>
            </a:r>
            <a:r>
              <a:rPr b="0" lang="ja-JP" sz="32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D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01" name="Picture 4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267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OMPUTER LEARNING RESOURC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Interactive potential: quick feedback, retentio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Potential database is enormou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an individualize to suit different types of learners, different pace of learning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ime efficien</a:t>
            </a: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r" rtl="1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COMPUTER LEARNING RESOURCES</a:t>
            </a:r>
            <a:br>
              <a:rPr sz="2900"/>
            </a:b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(CONT</a:t>
            </a:r>
            <a:r>
              <a:rPr b="0" lang="ja-JP" sz="29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2900" spc="-1" strike="noStrike">
                <a:solidFill>
                  <a:srgbClr val="ffffff"/>
                </a:solidFill>
                <a:latin typeface="Cambria"/>
              </a:rPr>
              <a:t>D)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ce24"/>
                </a:solidFill>
                <a:latin typeface="Cambria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Primary learning efficacy: cognitive domain  less useful for attitude/behavior change or psychomotor skill developmen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oftware and hardware expensiv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ust be purchased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Limited use for most older adults, low-literate learners, those with physical limitatio</a:t>
            </a: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ns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EVALUATION CRITERIA FO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LECTING MATERIA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8377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onsiderations for Selecting Material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Learner characteristic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ask(s) to be achieved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edia availabl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STATE OF THE EVIDENC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5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Performance is improved and learner satisfaction increased with visual reinforcement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5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Distance learning is an increasingly viable option for learner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6ce24"/>
                </a:solidFill>
                <a:latin typeface="Gill Sans MT"/>
              </a:rPr>
              <a:t>LEARNING PYRAMID ; INFORMATION RETENTION BASED ON THE LEVEL OF ACTIVE LEARNER INVOLVEMENT</a:t>
            </a:r>
            <a:br>
              <a:rPr sz="1800"/>
            </a:br>
            <a:r>
              <a:rPr b="0" lang="en-US" sz="1800" spc="-1" strike="noStrike">
                <a:solidFill>
                  <a:srgbClr val="86ce24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11" name="Picture 4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556760" cy="3733920"/>
          </a:xfrm>
          <a:prstGeom prst="rect">
            <a:avLst/>
          </a:prstGeom>
          <a:ln w="0">
            <a:noFill/>
          </a:ln>
        </p:spPr>
      </p:pic>
      <p:sp>
        <p:nvSpPr>
          <p:cNvPr id="712" name="TextBox 5"/>
          <p:cNvSpPr/>
          <p:nvPr/>
        </p:nvSpPr>
        <p:spPr>
          <a:xfrm>
            <a:off x="558360" y="5410080"/>
            <a:ext cx="610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 : Adopted from National Training Laboratories. Institutes of Applied Behavioral Scie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 algn="ctr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Instructional materials should be used to support learning by complementing and supplementing your teaching, not by substituting for it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INSTRUCTIONAL MATERIAL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228600" y="160020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Definition: 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It is a  vehicle by which information is communicated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Purposes: 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o help the nurse educator deliver a message creatively and clearly intended to supplement, rather than replace, the act of teaching and the role of the teacher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GENERAL PRINCIPLES OF EFFECTIVENES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028520" y="15998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ce24"/>
                </a:solidFill>
                <a:latin typeface="Cambria"/>
              </a:rPr>
              <a:t>Media should</a:t>
            </a:r>
            <a:r>
              <a:rPr b="1" lang="en-US" sz="2400" spc="-1" strike="noStrike">
                <a:solidFill>
                  <a:srgbClr val="86ce24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hange behavior by influencing a gain in cognitive, affective, and/or psychomotor skill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Enhance learning—no one tool is better than another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omplement the instructional method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990360" y="1523880"/>
            <a:ext cx="7391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Media should (cont</a:t>
            </a:r>
            <a:r>
              <a:rPr b="0" lang="ja-JP" sz="2400" spc="-1" strike="noStrike">
                <a:solidFill>
                  <a:srgbClr val="86ce24"/>
                </a:solidFill>
                <a:latin typeface="Cambria"/>
              </a:rPr>
              <a:t>’</a:t>
            </a:r>
            <a:r>
              <a:rPr b="0" lang="en-US" sz="2400" spc="-1" strike="noStrike">
                <a:solidFill>
                  <a:srgbClr val="86ce24"/>
                </a:solidFill>
                <a:latin typeface="Cambria"/>
              </a:rPr>
              <a:t>d):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Match available financial resourc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Be appropriate for physical environmen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omplement learners</a:t>
            </a:r>
            <a:r>
              <a:rPr b="0" lang="ja-JP" sz="2800" spc="-1" strike="noStrike">
                <a:solidFill>
                  <a:srgbClr val="ffffff"/>
                </a:solidFill>
                <a:latin typeface="Cambri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 sensory abilities, developmental stage, and educational level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Impart accurate, current, valid and appropriate messag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Add diversity and information to learning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838080" y="3808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838080" y="304920"/>
            <a:ext cx="5639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8380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685800" y="457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4d4"/>
                </a:solidFill>
                <a:latin typeface="Cambria"/>
                <a:ea typeface="Arial"/>
              </a:rPr>
              <a:t>General Principles (cont</a:t>
            </a:r>
            <a:r>
              <a:rPr b="0" lang="ja-JP" sz="3600" spc="-1" strike="noStrike">
                <a:solidFill>
                  <a:srgbClr val="d4d4d4"/>
                </a:solidFill>
                <a:latin typeface="Cambria"/>
                <a:ea typeface="Arial"/>
              </a:rPr>
              <a:t>’</a:t>
            </a:r>
            <a:r>
              <a:rPr b="0" lang="en-US" sz="3600" spc="-1" strike="noStrike">
                <a:solidFill>
                  <a:srgbClr val="d4d4d4"/>
                </a:solidFill>
                <a:latin typeface="Cambria"/>
                <a:ea typeface="Arial"/>
              </a:rPr>
              <a:t>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HOOSING INSTRUCTIONAL MATERIA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Three Major Variables to Consider when choosing instructional material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ts val="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ce24"/>
                </a:solidFill>
                <a:latin typeface="Cambria"/>
              </a:rPr>
              <a:t>1. Characteristics of the Learner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ensorimotor abiliti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Physical attribut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eading skill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otivational lev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Developmental stag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Learning styl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06" name="Picture 2" descr=""/>
          <p:cNvPicPr/>
          <p:nvPr/>
        </p:nvPicPr>
        <p:blipFill>
          <a:blip r:embed="rId1"/>
          <a:stretch/>
        </p:blipFill>
        <p:spPr>
          <a:xfrm>
            <a:off x="4952880" y="3657600"/>
            <a:ext cx="3251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2T17:09:48Z</dcterms:created>
  <dc:creator>nicoleh</dc:creator>
  <dc:description/>
  <dc:language>en-US</dc:language>
  <cp:lastModifiedBy>abdalshehri</cp:lastModifiedBy>
  <cp:lastPrinted>2001-03-20T02:17:28Z</cp:lastPrinted>
  <dcterms:modified xsi:type="dcterms:W3CDTF">2016-12-11T21:04:04Z</dcterms:modified>
  <cp:revision>66</cp:revision>
  <dc:subject/>
  <dc:title>PowerPoint Presentation</dc:title>
</cp:coreProperties>
</file>