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705F-DC0E-467F-82EC-413FB7143B78}"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2754-F767-4171-9A80-2C359B0FB9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A4CA-FD53-452A-8177-47F270DD9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4C77-79D9-4B91-8F6A-2FC71F8AA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9F04-E7B8-4E87-8BC1-B2360D9B1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8C61-E745-4330-BBDA-C14E67FD9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034-99F3-492D-B4B8-7585D0ED9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9D4A-8450-4954-83C1-C19F30109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7749-B748-4D02-A552-FE091F958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BF0-A1C1-4747-B247-C7ED04308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F59C-0768-4920-AD10-58827CEAF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A6C2-264C-466A-A6D3-051717A13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1084-904B-4F2E-B7A1-6468871B3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BFC3-84D3-4B35-AD71-A5F7E0C4F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F614-5CFC-4BF0-B5C1-FC5CEB8C8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CD40-2B21-4018-ADE7-AFFB3EDBA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A18B-E935-4FC1-B639-3C927C943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5D0F-398B-4B9A-B1A6-5E078B993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7CE0-8A75-4488-A523-4BFB9AC26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8209-B128-4BFE-901C-D8037739E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1566-42B1-4B32-B088-96CC9695F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ED6C-A873-441A-95F2-920C7A12B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C68F-972A-4080-BA91-6D85E2691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F753-9C73-465C-9736-25BCF4FAA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963C-F3DE-43BD-98F7-FE15DAE20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C2B2-41EB-4753-9963-5A24B4535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8357-44FB-41C4-9A9C-9BB09800D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BD2F-7D4A-40C0-9186-CEABE0911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FD08-AFDD-4FF3-BB4E-3F86E2EE6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43D565E-2E20-41AE-BA72-8DA1AE47AE4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380EB49-7E74-4817-8606-B1E3CDFCD9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F3237D0-16BE-43AE-8007-60ECB9185C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C87C363-AC52-476A-85E2-37878C0DC17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398A744C-7A1A-4BC9-94EA-34D504E7CA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F98B063-38B2-4B86-866A-645BF0BB19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5B227F3-E18F-4995-803A-32DA0DE46D6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BF22464-826C-45FF-9774-0F55471DD8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BD5FB79-F128-4842-A293-48F08D2684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7038866-034A-48E5-8F68-0AE91E85FB0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E8447FA-764A-488A-AFA0-71C177C900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C4BFF4D-138B-44F5-A356-9E69BA3A63F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82E1336-0DC0-47F5-A0C2-B4CD329912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17E342-8BA8-488A-A220-E0DE398661F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6CF36B-FF6A-4D5E-81DE-94151237121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FA5F62-9755-4DFC-9951-9762CEAACF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B1C7BA-A05D-4C76-A7F5-9C6B93FFB67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9D58B50-3C9C-45BC-844E-6181752FAF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27A22E-9396-4716-B963-2A58386A4D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58B964-0007-43F2-B909-C403E2FC804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7EF9FB-5CE2-42D8-8449-6824E5708F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4DD0F1E-805C-4853-A077-0DE0562FF1F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607D991-9253-4760-BF71-2B2B52B5B67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D855F77-434D-46B3-AE63-A4F4C0D644C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8000CD9-A048-4DB0-990D-DC12ADEDAD5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E3C1EEB-11D1-44A0-8FBF-3AB6442D31B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E83EFA8-92F5-48C6-ACEC-E47B6952C56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76B9-8AB4-4C22-B888-5569F54EB58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059E-3B75-4EDC-B837-98896E1261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6745C22-8C6B-44FA-B556-C8DC2208580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6B9F-2F45-4625-B136-AEA7F7A77CA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7898-E378-404A-A32B-BAAB5E1166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9963B5FE-90F9-4F47-A7AD-ED033E19B19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CFABD42-E883-4FCB-9435-E9145B85D5C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DD8D3A3-8DEC-46AF-82FD-FF9B84DDE70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1AD3D7C-D3EC-4F23-8426-C3ED596C216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E38B6B9-545D-4825-8888-FD9F9BBC251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CD372D7-D51B-456F-830E-DE008F48B42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254791E-F64C-4C12-9088-33BD45DD579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5DB9657D-8066-41F1-BE46-6F82B752832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A5DE51C-6EB2-4811-BEC8-5AA86277012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489A477-C3A3-4E15-8E61-67AD2964F1C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FF978BC-D728-4CC5-92FB-FA867905167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53371A6-2274-457A-A457-F5258C1C83C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8A5E3DD-C496-40D8-83CD-0E812435966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C79DFB4-1520-4A0E-83A3-90F7238EB0B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7200" y="2133720"/>
            <a:ext cx="8229600" cy="3992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23880" y="2127240"/>
            <a:ext cx="6035760" cy="4091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44600" y="1908000"/>
            <a:ext cx="8351640" cy="3986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32080" y="2444760"/>
            <a:ext cx="6200640" cy="4065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63760" y="2365200"/>
            <a:ext cx="6192720" cy="4492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user</cp:lastModifiedBy>
  <cp:lastPrinted>2012-12-23T05:09:45Z</cp:lastPrinted>
  <dcterms:modified xsi:type="dcterms:W3CDTF">2012-12-23T05:18:48Z</dcterms:modified>
  <cp:revision>53</cp:revision>
  <dc:subject/>
  <dc:title>Slide 1</dc:title>
</cp:coreProperties>
</file>