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6520" y="689040"/>
            <a:ext cx="4586400" cy="3441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74BB-5EFD-496D-B2CB-7AA891561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13FF-C4B9-48C0-A603-2EED005C3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36520" y="689040"/>
            <a:ext cx="4586400" cy="3441600"/>
          </a:xfrm>
          <a:prstGeom prst="rect">
            <a:avLst/>
          </a:prstGeom>
          <a:ln w="0">
            <a:noFill/>
          </a:ln>
        </p:spPr>
      </p:sp>
      <p:sp>
        <p:nvSpPr>
          <p:cNvPr id="149"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697E-3FAA-4547-A934-D72B60118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36520" y="689040"/>
            <a:ext cx="4586400" cy="3441600"/>
          </a:xfrm>
          <a:prstGeom prst="rect">
            <a:avLst/>
          </a:prstGeom>
          <a:ln w="0">
            <a:noFill/>
          </a:ln>
        </p:spPr>
      </p:sp>
      <p:sp>
        <p:nvSpPr>
          <p:cNvPr id="15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6F71-5923-453E-8DFD-EA6A01E98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36520" y="689040"/>
            <a:ext cx="4586400" cy="3441600"/>
          </a:xfrm>
          <a:prstGeom prst="rect">
            <a:avLst/>
          </a:prstGeom>
          <a:ln w="0">
            <a:noFill/>
          </a:ln>
        </p:spPr>
      </p:sp>
      <p:sp>
        <p:nvSpPr>
          <p:cNvPr id="155"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751D-4065-4C1A-B72C-82B8D14A7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36520" y="689040"/>
            <a:ext cx="4586400" cy="3441600"/>
          </a:xfrm>
          <a:prstGeom prst="rect">
            <a:avLst/>
          </a:prstGeom>
          <a:ln w="0">
            <a:noFill/>
          </a:ln>
        </p:spPr>
      </p:sp>
      <p:sp>
        <p:nvSpPr>
          <p:cNvPr id="15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26A0-413C-48A8-A2C6-8542E5E5B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8A5B3-3F9F-4F82-8EC7-A0498C64E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1EFF0-BB16-4BED-985E-2B1BFAFC9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F54D1-6DFB-4364-9195-E0EFA8E44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D634A-84EB-4630-BB3A-603EF55E8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9ECDD-FB3F-40C9-84D9-36564E6F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C056C-AB5C-4B70-8C31-EE800132B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81F90-67D0-4884-ABF4-87279F8D1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7166A-35AD-4130-843F-21C92A6A9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4FC73-2E91-43E0-8092-B989397F8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B394C-3F62-42AE-9C44-455EF5EDF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C60FA-2A6F-4D26-96B3-FBD1B3AE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4CB1-D50A-4FD1-BC90-89105E40A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09485-F086-4984-A207-E6EEB7E8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34EBB-4682-4E10-8D27-037549638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DC551-B534-4FAC-A83D-4755F21C2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6AB43-777A-4717-9B1F-35E72B3D4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98A33-8F47-425D-90E8-038AAF9EE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30F29-F9C1-4BA2-B7DA-4142B874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5220-7CC6-4A21-80A1-C9379700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C0DE5-A16E-4811-87CA-34597531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9727C-8382-4C20-A17B-5D4B8464F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D535-504B-4097-A7C6-C0CBE441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2D93-134D-4D40-A288-A72DE5CD1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A42F-18CE-4551-8F9E-FE5C3BA47D6A}"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586C-F6A1-45CA-AE67-2C1CE7A2FF7A}"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earchwindevelopment.techtarget.com/definition/HTTP"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549000" y="1599840"/>
            <a:ext cx="8042040" cy="434340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mbria"/>
              </a:rPr>
              <a:t>Principle Of Learning and Education Course </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mbria"/>
              </a:rPr>
              <a:t>NUR 315</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ambria"/>
              </a:rPr>
              <a:t>Chapter 13</a:t>
            </a:r>
            <a:br>
              <a:rPr sz="2400"/>
            </a:br>
            <a:r>
              <a:rPr b="0" lang="en-US" sz="2400" spc="-1" strike="noStrike">
                <a:solidFill>
                  <a:srgbClr val="3333cc"/>
                </a:solidFill>
                <a:latin typeface="Cambria"/>
              </a:rPr>
              <a:t>Technology in Education</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Computer Literacy</a:t>
            </a:r>
            <a:endParaRPr b="0" lang="en-US" sz="3200" spc="-1" strike="noStrike">
              <a:solidFill>
                <a:srgbClr val="2c7c9f"/>
              </a:solidFill>
              <a:latin typeface="News Gothic MT"/>
            </a:endParaRPr>
          </a:p>
        </p:txBody>
      </p:sp>
      <p:sp>
        <p:nvSpPr>
          <p:cNvPr id="105" name=""/>
          <p:cNvSpPr txBox="1"/>
          <p:nvPr/>
        </p:nvSpPr>
        <p:spPr>
          <a:xfrm>
            <a:off x="380880" y="1752480"/>
            <a:ext cx="8042400" cy="289584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ability to use the computer hardware and software necessary to accomplish routine task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06" name="Table 4" descr=""/>
          <p:cNvPicPr/>
          <p:nvPr/>
        </p:nvPicPr>
        <p:blipFill>
          <a:blip r:embed="rId1"/>
          <a:stretch/>
        </p:blipFill>
        <p:spPr>
          <a:xfrm>
            <a:off x="291960" y="2803680"/>
            <a:ext cx="8418600" cy="35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Consumer Informatics</a:t>
            </a:r>
            <a:endParaRPr b="0" lang="en-US" sz="3200" spc="-1" strike="noStrike">
              <a:solidFill>
                <a:srgbClr val="2c7c9f"/>
              </a:solidFill>
              <a:latin typeface="News Gothic MT"/>
            </a:endParaRPr>
          </a:p>
        </p:txBody>
      </p:sp>
      <p:sp>
        <p:nvSpPr>
          <p:cNvPr id="108"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Cambria"/>
              </a:rPr>
              <a:t>A field of study that are directed to find ways to use technology to strengthen the relationship between client  and health care providers as well as to teach and empower clients dealing with issues related to health and wellnes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odels/integrates consumer preferences into medical information system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49000" y="380880"/>
            <a:ext cx="8042040" cy="55627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News Gothic MT"/>
              </a:rPr>
              <a:t>Strategies for using technology in health care education </a:t>
            </a:r>
            <a:endParaRPr b="0" lang="en-US" sz="32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pre-teaching assessment of a client in the information age must begin with questions about computer us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3200" spc="-1" strike="noStrike">
                <a:solidFill>
                  <a:srgbClr val="e2751d"/>
                </a:solidFill>
                <a:latin typeface="Cambria"/>
              </a:rPr>
              <a:t>I. On-line Healthcare Education</a:t>
            </a:r>
            <a:endParaRPr b="0" lang="en-US" sz="3200" spc="-1" strike="noStrike">
              <a:solidFill>
                <a:srgbClr val="2c7c9f"/>
              </a:solidFill>
              <a:latin typeface="News Gothic MT"/>
            </a:endParaRPr>
          </a:p>
        </p:txBody>
      </p:sp>
      <p:sp>
        <p:nvSpPr>
          <p:cNvPr id="111" name=""/>
          <p:cNvSpPr txBox="1"/>
          <p:nvPr/>
        </p:nvSpPr>
        <p:spPr>
          <a:xfrm>
            <a:off x="609480" y="1142640"/>
            <a:ext cx="7772400" cy="4419720"/>
          </a:xfrm>
          <a:prstGeom prst="rect">
            <a:avLst/>
          </a:prstGeom>
          <a:noFill/>
          <a:ln w="0">
            <a:noFill/>
          </a:ln>
        </p:spPr>
        <p:txBody>
          <a:bodyPr anchor="t">
            <a:normAutofit fontScale="87000"/>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1. World Wide Web (WWW)</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orld Wide Web (WWW):  </a:t>
            </a:r>
            <a:r>
              <a:rPr b="0" lang="en-US" sz="2400" spc="-1" strike="noStrike">
                <a:solidFill>
                  <a:srgbClr val="595959"/>
                </a:solidFill>
                <a:latin typeface="News Gothic MT"/>
              </a:rPr>
              <a:t>A technical definition of the World Wide Web is all the resources and users on the Internet that are using the Hypertext Transfer Protocol (</a:t>
            </a:r>
            <a:r>
              <a:rPr b="0" lang="en-US" sz="2400" spc="-1" strike="noStrike" u="sng">
                <a:solidFill>
                  <a:srgbClr val="7030a0"/>
                </a:solidFill>
                <a:uFillTx/>
                <a:latin typeface="News Gothic MT"/>
                <a:hlinkClick r:id="rId1"/>
              </a:rPr>
              <a:t>HTTP</a:t>
            </a:r>
            <a:r>
              <a:rPr b="0" lang="en-US" sz="2400" spc="-1" strike="noStrike">
                <a:solidFill>
                  <a:srgbClr val="595959"/>
                </a:solidFill>
                <a:latin typeface="News Gothic MT"/>
              </a:rPr>
              <a:t>) that provides access to images, videos  , sound and text</a:t>
            </a:r>
            <a:br>
              <a:rPr sz="2400"/>
            </a:br>
            <a:r>
              <a:rPr b="0" lang="en-US" sz="2400" spc="-1" strike="noStrike">
                <a:solidFill>
                  <a:srgbClr val="595959"/>
                </a:solidFill>
                <a:latin typeface="News Gothic MT"/>
              </a:rPr>
              <a:t>the world wide web </a:t>
            </a:r>
            <a:r>
              <a:rPr b="0" lang="en-US" sz="2400" spc="-1" strike="noStrike">
                <a:solidFill>
                  <a:srgbClr val="595959"/>
                </a:solidFill>
                <a:latin typeface="Cambria"/>
              </a:rPr>
              <a:t>is the most familiar  technology-based educational recourses Internet</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s it is provides unlimited resources for nurses to use in practice and in professional education and development. Web sites provide access to bibliographic databases, continuing education, online journals and resources for patient teaching and professional practic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49360" y="457200"/>
            <a:ext cx="8594640" cy="5867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cause the web can be so influential, it is important to determine that the information a client has found is accurate, complete and fully understood.</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important for nurses to establish early in their relationship with clients that they are interested in talking with them about the information they have gathered from the web or other resources they have available to them. Client need to feel that nurses are open to discussing whatever information they find. They need to understand that nurses are a partner in seeking the best information avail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49000" y="533520"/>
            <a:ext cx="8042040" cy="541008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important to conduct a teaching session with health consumers about computer access in order to to   :</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ovide the nurse educator with the opportunity to review web-based information with the client.</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etermine the type and amount of information to which the client has been exposed and assess the clients knowledge and identify areas in which the client may have need for further teaching.</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find information that needs further discussion.</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49000" y="457200"/>
            <a:ext cx="8042040" cy="548640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2.  Internet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e World Wide Web (WWW) is merely a small component of  the much larger computer net work called internet.</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e internet service most likely to be of interest to nurse educators includes those that allow computer-facilitated communication such as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mail</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iling lists</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lectronic discussion group</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nline chats </a:t>
            </a:r>
            <a:endParaRPr b="0" lang="en-US" sz="2400" spc="-1" strike="noStrike">
              <a:solidFill>
                <a:srgbClr val="595959"/>
              </a:solidFill>
              <a:latin typeface="News Gothic MT"/>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07640"/>
            <a:ext cx="853416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teps to develop website  information literacy skills</a:t>
            </a:r>
            <a:endParaRPr b="0" lang="en-US" sz="3200" spc="-1" strike="noStrike">
              <a:solidFill>
                <a:srgbClr val="2c7c9f"/>
              </a:solidFill>
              <a:latin typeface="News Gothic MT"/>
            </a:endParaRPr>
          </a:p>
        </p:txBody>
      </p:sp>
      <p:sp>
        <p:nvSpPr>
          <p:cNvPr id="116"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ealthcare consumers may not have the background knowledge to evaluate information to the same extent as a professional, they can be taught some simple steps to develop their information literacy skills and to help them begin to identify which web sites are useful and which are problematic. These steps are:</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28240" y="152280"/>
            <a:ext cx="8458200" cy="701064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Reduce a problem to a searchable command</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Categorize a Web page according to its purpose</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Identify sources of potential bia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Make judgments about the accuracy and reliability of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Make decisions about the comprehensiveness of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Determine currency</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Identify resources to answer questions or verify assumptions about content of a webpag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The nurse can teach clients who access the web to use it more effectively and can be proactive in encouraging others to give it a try.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ample of websites appropriate to the needs of different client populations </a:t>
            </a:r>
            <a:endParaRPr b="0" lang="en-US" sz="3200" spc="-1" strike="noStrike">
              <a:solidFill>
                <a:srgbClr val="2c7c9f"/>
              </a:solidFill>
              <a:latin typeface="News Gothic MT"/>
            </a:endParaRPr>
          </a:p>
        </p:txBody>
      </p:sp>
      <p:graphicFrame>
        <p:nvGraphicFramePr>
          <p:cNvPr id="119" name="Object 8"/>
          <p:cNvGraphicFramePr/>
          <p:nvPr/>
        </p:nvGraphicFramePr>
        <p:xfrm>
          <a:off x="1143000" y="2057400"/>
          <a:ext cx="6858000" cy="3822840"/>
        </p:xfrm>
        <a:graphic>
          <a:graphicData uri="http://schemas.openxmlformats.org/presentationml/2006/ole">
            <p:oleObj r:id="rId1" spid="">
              <p:embed/>
              <p:pic>
                <p:nvPicPr>
                  <p:cNvPr id="120" name="Object 8" descr=""/>
                  <p:cNvPicPr/>
                  <p:nvPr/>
                </p:nvPicPr>
                <p:blipFill>
                  <a:blip r:embed="rId2"/>
                  <a:stretch/>
                </p:blipFill>
                <p:spPr>
                  <a:xfrm>
                    <a:off x="1143000" y="2057400"/>
                    <a:ext cx="6858000" cy="38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News Gothic MT"/>
              </a:rPr>
              <a:t>The information age </a:t>
            </a:r>
            <a:endParaRPr b="0" lang="en-US" sz="4800" spc="-1" strike="noStrike">
              <a:solidFill>
                <a:srgbClr val="2c7c9f"/>
              </a:solidFill>
              <a:latin typeface="News Gothic MT"/>
            </a:endParaRPr>
          </a:p>
        </p:txBody>
      </p:sp>
      <p:pic>
        <p:nvPicPr>
          <p:cNvPr id="92" name="Picture 3" descr=""/>
          <p:cNvPicPr/>
          <p:nvPr/>
        </p:nvPicPr>
        <p:blipFill>
          <a:blip r:embed="rId1"/>
          <a:stretch/>
        </p:blipFill>
        <p:spPr>
          <a:xfrm>
            <a:off x="1371600" y="2209680"/>
            <a:ext cx="6629400" cy="37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533160"/>
            <a:ext cx="8839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ample of websites  for health care professional </a:t>
            </a:r>
            <a:endParaRPr b="0" lang="en-US" sz="3200" spc="-1" strike="noStrike">
              <a:solidFill>
                <a:srgbClr val="2c7c9f"/>
              </a:solidFill>
              <a:latin typeface="News Gothic MT"/>
            </a:endParaRPr>
          </a:p>
        </p:txBody>
      </p:sp>
      <p:graphicFrame>
        <p:nvGraphicFramePr>
          <p:cNvPr id="122" name="Object 3"/>
          <p:cNvGraphicFramePr/>
          <p:nvPr/>
        </p:nvGraphicFramePr>
        <p:xfrm>
          <a:off x="762120" y="2209680"/>
          <a:ext cx="7238880" cy="4038840"/>
        </p:xfrm>
        <a:graphic>
          <a:graphicData uri="http://schemas.openxmlformats.org/presentationml/2006/ole">
            <p:oleObj r:id="rId1" spid="">
              <p:embed/>
              <p:pic>
                <p:nvPicPr>
                  <p:cNvPr id="123" name="Object 3" descr=""/>
                  <p:cNvPicPr/>
                  <p:nvPr/>
                </p:nvPicPr>
                <p:blipFill>
                  <a:blip r:embed="rId2"/>
                  <a:stretch/>
                </p:blipFill>
                <p:spPr>
                  <a:xfrm>
                    <a:off x="762120" y="2209680"/>
                    <a:ext cx="72388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Criteria for Evaluating Web Sites</a:t>
            </a:r>
            <a:endParaRPr b="0" lang="en-US" sz="3200" spc="-1" strike="noStrike">
              <a:solidFill>
                <a:srgbClr val="2c7c9f"/>
              </a:solidFill>
              <a:latin typeface="News Gothic MT"/>
            </a:endParaRPr>
          </a:p>
        </p:txBody>
      </p:sp>
      <p:sp>
        <p:nvSpPr>
          <p:cNvPr id="125" name=""/>
          <p:cNvSpPr txBox="1"/>
          <p:nvPr/>
        </p:nvSpPr>
        <p:spPr>
          <a:xfrm>
            <a:off x="549000" y="1599840"/>
            <a:ext cx="8042040" cy="4343400"/>
          </a:xfrm>
          <a:prstGeom prst="rect">
            <a:avLst/>
          </a:prstGeom>
          <a:noFill/>
          <a:ln w="0">
            <a:noFill/>
          </a:ln>
        </p:spPr>
        <p:txBody>
          <a:bodyPr anchor="t">
            <a:normAutofit/>
          </a:bodyPr>
          <a:p>
            <a:pPr marL="457200" indent="-457200">
              <a:lnSpc>
                <a:spcPct val="100000"/>
              </a:lnSpc>
              <a:spcBef>
                <a:spcPts val="2001"/>
              </a:spcBef>
              <a:buClr>
                <a:srgbClr val="6fb7d7"/>
              </a:buClr>
              <a:buSzPct val="11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Accuracy . </a:t>
            </a:r>
            <a:endParaRPr b="0" lang="en-US" sz="2400" spc="-1" strike="noStrike">
              <a:solidFill>
                <a:srgbClr val="595959"/>
              </a:solidFill>
              <a:latin typeface="News Gothic MT"/>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ke sure that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upportive data provided, current and from reputable source</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you find the same information on other website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s the information provided comprehensive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s there more than point of view presented?</a:t>
            </a:r>
            <a:endParaRPr b="0" lang="en-US" sz="2400" spc="-1" strike="noStrike">
              <a:solidFill>
                <a:srgbClr val="595959"/>
              </a:solidFill>
              <a:latin typeface="News Gothic MT"/>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360"/>
            <a:ext cx="9144000" cy="762012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2. Design</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s the site well organized and easy to navigate?</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00"/>
                </a:solidFill>
                <a:latin typeface="News Gothic MT"/>
              </a:rPr>
              <a:t>Can I find the information I am looking for within a few clicks?</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re there typographical error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 graphics serve a purpose other than decoration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3. Authority</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re  the sponsor / author(s) credible, governments ,educational institution , health carte organization ….. ? </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re the author credential appropriate for the purpose of the site ?</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60" y="380520"/>
            <a:ext cx="8915400" cy="632484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4. Authors/Sponsors</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Who is the author/publisher?</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 </a:t>
            </a:r>
            <a:r>
              <a:rPr b="0" lang="en-US" sz="2400" spc="-1" strike="noStrike">
                <a:solidFill>
                  <a:srgbClr val="595959"/>
                </a:solidFill>
                <a:latin typeface="Calibri"/>
                <a:ea typeface="Calibri"/>
              </a:rPr>
              <a:t>Is that source clearly identified on the site?</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Can I contact the author through an e-mail, phone number, or a   mailing address?</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What are the author's credentials? Is he or she an expert in the subject  I am researching?</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Is the site created or sponsored by a reputable organization? If so, can</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Can  I confirm that the organization is a credible, authoritative source of information?</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ea typeface="Calibri"/>
              </a:rPr>
              <a:t>5. Currency</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Are the links current or updated regularly?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Is the information on the page outdated?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2751d"/>
                </a:solidFill>
                <a:latin typeface="Cambria"/>
              </a:rPr>
              <a:t>Internet-based Communication</a:t>
            </a:r>
            <a:endParaRPr b="0" lang="en-US" sz="2800" spc="-1" strike="noStrike">
              <a:solidFill>
                <a:srgbClr val="2c7c9f"/>
              </a:solidFill>
              <a:latin typeface="News Gothic MT"/>
            </a:endParaRPr>
          </a:p>
        </p:txBody>
      </p:sp>
      <p:sp>
        <p:nvSpPr>
          <p:cNvPr id="129" name=""/>
          <p:cNvSpPr txBox="1"/>
          <p:nvPr/>
        </p:nvSpPr>
        <p:spPr>
          <a:xfrm>
            <a:off x="228600" y="1599840"/>
            <a:ext cx="876312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internet services most likely to be of interest to nurse educators include those that allow computer facilitated communication</a:t>
            </a:r>
            <a:r>
              <a:rPr b="0" lang="en-US" sz="2400" spc="-1" strike="noStrike">
                <a:solidFill>
                  <a:srgbClr val="000000"/>
                </a:solidFill>
                <a:latin typeface="News Gothic MT"/>
              </a:rPr>
              <a:t> that have been used to communicate with people about health and healthcare such as ; </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mail</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lectronic discussion group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iling list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Blogs, online forums, message boards, bulletin board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Online chat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Discussion Boards</a:t>
            </a:r>
            <a:endParaRPr b="0" lang="en-US" sz="2400" spc="-1" strike="noStrike">
              <a:solidFill>
                <a:srgbClr val="595959"/>
              </a:solidFill>
              <a:latin typeface="News Gothic MT"/>
            </a:endParaRPr>
          </a:p>
          <a:p>
            <a:pPr marL="324720" indent="-32472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2751d"/>
                </a:solidFill>
                <a:latin typeface="Cambria"/>
              </a:rPr>
              <a:t>E-Health Code of Ethics</a:t>
            </a:r>
            <a:endParaRPr b="0" lang="en-US" sz="2800" spc="-1" strike="noStrike">
              <a:solidFill>
                <a:srgbClr val="2c7c9f"/>
              </a:solidFill>
              <a:latin typeface="News Gothic MT"/>
            </a:endParaRPr>
          </a:p>
        </p:txBody>
      </p:sp>
      <p:sp>
        <p:nvSpPr>
          <p:cNvPr id="131" name=""/>
          <p:cNvSpPr txBox="1"/>
          <p:nvPr/>
        </p:nvSpPr>
        <p:spPr>
          <a:xfrm>
            <a:off x="228240" y="1447920"/>
            <a:ext cx="8534520" cy="50292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andor ;</a:t>
            </a:r>
            <a:r>
              <a:rPr b="0" lang="en-US" sz="2400" spc="-1" strike="noStrike">
                <a:solidFill>
                  <a:srgbClr val="595959"/>
                </a:solidFill>
                <a:latin typeface="Cambria"/>
              </a:rPr>
              <a:t>disclose the information about the creators nl purpose of the site that will help users make judgment about the creditability and trustworthiness of information or service provid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Honesty ;</a:t>
            </a:r>
            <a:r>
              <a:rPr b="0" lang="en-US" sz="2400" spc="-1" strike="noStrike">
                <a:solidFill>
                  <a:srgbClr val="595959"/>
                </a:solidFill>
                <a:latin typeface="Cambria"/>
              </a:rPr>
              <a:t>truthful in describing products and present information that is not likely to mislead the user</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Quality; </a:t>
            </a:r>
            <a:r>
              <a:rPr b="0" lang="en-US" sz="2400" spc="-1" strike="noStrike">
                <a:solidFill>
                  <a:srgbClr val="000000"/>
                </a:solidFill>
                <a:latin typeface="Cambria"/>
              </a:rPr>
              <a:t>ensure that </a:t>
            </a:r>
            <a:r>
              <a:rPr b="0" lang="en-US" sz="2400" spc="-1" strike="noStrike">
                <a:solidFill>
                  <a:srgbClr val="595959"/>
                </a:solidFill>
                <a:latin typeface="Cambria"/>
              </a:rPr>
              <a:t>information is accurate, easy to understood and provide background information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Informed Consent; </a:t>
            </a:r>
            <a:r>
              <a:rPr b="0" lang="en-US" sz="2400" spc="-1" strike="noStrike">
                <a:solidFill>
                  <a:srgbClr val="000000"/>
                </a:solidFill>
                <a:latin typeface="Cambria"/>
              </a:rPr>
              <a:t>inform the user if personal information is collected and allow them to choose whether the  information can be used or shared</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60" y="457200"/>
            <a:ext cx="85914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Privacy ;</a:t>
            </a:r>
            <a:r>
              <a:rPr b="0" lang="en-US" sz="2400" spc="-1" strike="noStrike">
                <a:solidFill>
                  <a:srgbClr val="595959"/>
                </a:solidFill>
                <a:latin typeface="News Gothic MT"/>
              </a:rPr>
              <a:t>ensure that the user</a:t>
            </a:r>
            <a:r>
              <a:rPr b="0" lang="ja-JP" sz="2400" spc="-1" strike="noStrike">
                <a:solidFill>
                  <a:srgbClr val="595959"/>
                </a:solidFill>
                <a:latin typeface="News Gothic MT"/>
              </a:rPr>
              <a:t>’</a:t>
            </a:r>
            <a:r>
              <a:rPr b="0" lang="en-US" sz="2400" spc="-1" strike="noStrike">
                <a:solidFill>
                  <a:srgbClr val="595959"/>
                </a:solidFill>
                <a:latin typeface="News Gothic MT"/>
              </a:rPr>
              <a:t>s rights to privacy is protecte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Professionalism in online health care </a:t>
            </a:r>
            <a:r>
              <a:rPr b="0" lang="en-US" sz="2400" spc="-1" strike="noStrike">
                <a:solidFill>
                  <a:srgbClr val="595959"/>
                </a:solidFill>
                <a:latin typeface="News Gothic MT"/>
              </a:rPr>
              <a:t>;A bide by the ethical code of your profession (nursing ,medicine), provide the users with the information about who you are, what you can do online and which limitations may apply to the online interac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Responsible Partnering ; </a:t>
            </a:r>
            <a:r>
              <a:rPr b="0" lang="en-US" sz="2400" spc="-1" strike="noStrike">
                <a:solidFill>
                  <a:srgbClr val="595959"/>
                </a:solidFill>
                <a:latin typeface="News Gothic MT"/>
              </a:rPr>
              <a:t>ensure that sponsors ,partners and others who works with you are trustworthy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Accountability ; </a:t>
            </a:r>
            <a:r>
              <a:rPr b="0" lang="en-US" sz="2400" spc="-1" strike="noStrike">
                <a:solidFill>
                  <a:srgbClr val="000000"/>
                </a:solidFill>
                <a:latin typeface="News Gothic MT"/>
              </a:rPr>
              <a:t>Implement procedure for collecting ,reviewing and responding to user feedback . Develop and share procedures for self-monitoring compliance with the e-Health Codes of Ethic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1240"/>
            <a:ext cx="804240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II. Social Media</a:t>
            </a:r>
            <a:endParaRPr b="0" lang="en-US" sz="3200" spc="-1" strike="noStrike">
              <a:solidFill>
                <a:srgbClr val="2c7c9f"/>
              </a:solidFill>
              <a:latin typeface="News Gothic MT"/>
            </a:endParaRPr>
          </a:p>
        </p:txBody>
      </p:sp>
      <p:sp>
        <p:nvSpPr>
          <p:cNvPr id="134" name=""/>
          <p:cNvSpPr txBox="1"/>
          <p:nvPr/>
        </p:nvSpPr>
        <p:spPr>
          <a:xfrm>
            <a:off x="152280" y="1295280"/>
            <a:ext cx="8763120" cy="4648320"/>
          </a:xfrm>
          <a:prstGeom prst="rect">
            <a:avLst/>
          </a:prstGeom>
          <a:noFill/>
          <a:ln w="0">
            <a:noFill/>
          </a:ln>
        </p:spPr>
        <p:txBody>
          <a:bodyPr anchor="t">
            <a:normAutofit fontScale="96000"/>
          </a:bodyPr>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health care industry has begun to recognize the potential of social media to educate and empower people ,to quickly send messages t a worldwide audience and to gather information about public perceptions of health issues.</a:t>
            </a:r>
            <a:endParaRPr b="0" lang="en-US" sz="2400" spc="-1" strike="noStrike">
              <a:solidFill>
                <a:srgbClr val="595959"/>
              </a:solidFill>
              <a:latin typeface="News Gothic MT"/>
            </a:endParaRPr>
          </a:p>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Blogs, Wikis</a:t>
            </a:r>
            <a:endParaRPr b="0" lang="en-US" sz="24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nsumers may turn to these for health-related information to share knowledge and experience in a specific topic. </a:t>
            </a:r>
            <a:endParaRPr b="0" lang="en-US" sz="22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ny of the blogs found on the web are health related and the  creators tell a story about their experience in a given disease or treatment.</a:t>
            </a:r>
            <a:endParaRPr b="0" lang="en-US" sz="22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Wiki are more social in their construction as multiple users come together on a wiki to collaboratively write the content of collections of webpages </a:t>
            </a:r>
            <a:endParaRPr b="0" lang="en-US" sz="2200" spc="-1" strike="noStrike">
              <a:solidFill>
                <a:srgbClr val="595959"/>
              </a:solidFill>
              <a:latin typeface="News Gothic MT"/>
            </a:endParaRPr>
          </a:p>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520" y="380520"/>
            <a:ext cx="8271000" cy="624852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Facebook, Twitter, YouTub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are other social media tools that can be employed by nurse for educational purpose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th these media , users create their own profile pages where information, pictures, and other forms of media such as blogs for comments can be post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Webcast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re live broadcasts over the Internet that growing in popularity as a training device that permit audio\video to be transmitted to participants in multiple location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lthough webcast do not allow for interaction , they are growing in popularity as a training device for sharing lecture and demonstrations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228240"/>
            <a:ext cx="8610480" cy="6629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Webinar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re web-based conferencing that allow for interaction and  when well run, can be an effective teaching \ learning strategy with group of people at distanc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Mobile Learning (m-Lear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word mobile referes to both to the use of portable technologies such as MP3 player to the end user –the mobile adult who can truly  learn any where ,any time ,any place . Mobile devices can be used for a wide range o activities and with both clients in the clinical area and students in the academic area. These activities include accessing websites, listening to the lectures, or broadcasts, recording experience, and assignments and participating in learning focused games (peters,2007)</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The information age </a:t>
            </a:r>
            <a:endParaRPr b="0" lang="en-US" sz="3200" spc="-1" strike="noStrike">
              <a:solidFill>
                <a:srgbClr val="2c7c9f"/>
              </a:solidFill>
              <a:latin typeface="News Gothic MT"/>
            </a:endParaRPr>
          </a:p>
        </p:txBody>
      </p:sp>
      <p:sp>
        <p:nvSpPr>
          <p:cNvPr id="9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period in history characterized b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A change in focus from industry to informa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owth of technolog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formation explosion</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Distance Education</a:t>
            </a:r>
            <a:endParaRPr b="0" lang="en-US" sz="3200" spc="-1" strike="noStrike">
              <a:solidFill>
                <a:srgbClr val="2c7c9f"/>
              </a:solidFill>
              <a:latin typeface="News Gothic MT"/>
            </a:endParaRPr>
          </a:p>
        </p:txBody>
      </p:sp>
      <p:sp>
        <p:nvSpPr>
          <p:cNvPr id="138" name=""/>
          <p:cNvSpPr txBox="1"/>
          <p:nvPr/>
        </p:nvSpPr>
        <p:spPr>
          <a:xfrm>
            <a:off x="685800" y="1294920"/>
            <a:ext cx="777240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istance education for nurses is flourishing in the 21</a:t>
            </a:r>
            <a:r>
              <a:rPr b="0" lang="en-US" sz="2400" spc="-1" strike="noStrike" baseline="30000">
                <a:solidFill>
                  <a:srgbClr val="595959"/>
                </a:solidFill>
                <a:latin typeface="News Gothic MT"/>
              </a:rPr>
              <a:t>st</a:t>
            </a:r>
            <a:r>
              <a:rPr b="0" lang="en-US" sz="2400" spc="-1" strike="noStrike">
                <a:solidFill>
                  <a:srgbClr val="595959"/>
                </a:solidFill>
                <a:latin typeface="News Gothic MT"/>
              </a:rPr>
              <a:t> century where d</a:t>
            </a:r>
            <a:r>
              <a:rPr b="0" lang="en-US" sz="2400" spc="-1" strike="noStrike">
                <a:solidFill>
                  <a:srgbClr val="595959"/>
                </a:solidFill>
                <a:latin typeface="Cambria"/>
              </a:rPr>
              <a:t>egree programs are offered at all levels (Billings 2007).</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Distance education means different things to different people , the Internet is primary vehicle for delivering distance education .</a:t>
            </a:r>
            <a:r>
              <a:rPr b="0" lang="en-US" sz="2400" spc="-1" strike="noStrike">
                <a:solidFill>
                  <a:srgbClr val="595959"/>
                </a:solidFill>
                <a:latin typeface="News Gothic MT"/>
              </a:rPr>
              <a:t> Online courses, correspondence courses, independent study and videoconferencing are just a few of the techniques that can  be used to deliver education to students studying at a distanc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49000" y="380880"/>
            <a:ext cx="8042040" cy="556272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en  distance education programs introduced , they quite controversial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Cambria"/>
              </a:rPr>
              <a:t>For example when  Regents External Degree program was first created in 1974,many people believed that a distance model was inappropriate for nursing education. Today , Regents External Degree program ,now known as Excelsior College, ,is one of the largest nursing program in the world ,with more than 1,6000nursing students enrolled in associate, baccelora and master degree program (Excelsior College, 2007)</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49000" y="457200"/>
            <a:ext cx="8042040" cy="5486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1994, ,another milestone was reached in nursing education when Duquesne University in Pennsylvania opened the first online distance education program leading to a PhD in nursing</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xcelsior College&amp; Duquesne University are just a few examples of distance education in nursing in USA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tandards and guidelines  for quality in distance education have been developed by several education organizations to main effective educational programs (Billings 2007, Institutes for Higher Education Policy 2000)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State of the Evidence</a:t>
            </a:r>
            <a:endParaRPr b="0" lang="en-US" sz="3200" spc="-1" strike="noStrike">
              <a:solidFill>
                <a:srgbClr val="2c7c9f"/>
              </a:solidFill>
              <a:latin typeface="News Gothic MT"/>
            </a:endParaRPr>
          </a:p>
        </p:txBody>
      </p:sp>
      <p:sp>
        <p:nvSpPr>
          <p:cNvPr id="142"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arge body of research investigating effect of distance education technologies on student outcome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Growing body of research on use of technology in patient educ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95280"/>
            <a:ext cx="77724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Summary</a:t>
            </a:r>
            <a:endParaRPr b="0" lang="en-US" sz="3200" spc="-1" strike="noStrike">
              <a:solidFill>
                <a:srgbClr val="2c7c9f"/>
              </a:solidFill>
              <a:latin typeface="News Gothic MT"/>
            </a:endParaRPr>
          </a:p>
        </p:txBody>
      </p:sp>
      <p:sp>
        <p:nvSpPr>
          <p:cNvPr id="144" name=""/>
          <p:cNvSpPr txBox="1"/>
          <p:nvPr/>
        </p:nvSpPr>
        <p:spPr>
          <a:xfrm>
            <a:off x="685800" y="1523880"/>
            <a:ext cx="7772400" cy="45720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echnology is a powerful tool to enhance learning. However, technology is a means to an end, not an end in and of itself. It must be used with thought, careful planning, and thorough evalu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Reference</a:t>
            </a:r>
            <a:endParaRPr b="0" lang="en-US" sz="3200" spc="-1" strike="noStrike">
              <a:solidFill>
                <a:srgbClr val="2c7c9f"/>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astable, S. (2014): Nurse As Educator: Principles of Teaching and Learning For  Nursing Practice. 3</a:t>
            </a:r>
            <a:r>
              <a:rPr b="0" lang="en-US" sz="2400" spc="-1" strike="noStrike" baseline="30000">
                <a:solidFill>
                  <a:srgbClr val="595959"/>
                </a:solidFill>
                <a:latin typeface="News Gothic MT"/>
              </a:rPr>
              <a:t>rd</a:t>
            </a:r>
            <a:r>
              <a:rPr b="0" lang="en-US" sz="2400" spc="-1" strike="noStrike">
                <a:solidFill>
                  <a:srgbClr val="595959"/>
                </a:solidFill>
                <a:latin typeface="News Gothic MT"/>
              </a:rPr>
              <a:t> ed Jones and Bartlett Publishers, Sudbu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Health education in the information age </a:t>
            </a:r>
            <a:endParaRPr b="0" lang="en-US" sz="3200" spc="-1" strike="noStrike">
              <a:solidFill>
                <a:srgbClr val="2c7c9f"/>
              </a:solidFill>
              <a:latin typeface="News Gothic MT"/>
            </a:endParaRPr>
          </a:p>
        </p:txBody>
      </p:sp>
      <p:sp>
        <p:nvSpPr>
          <p:cNvPr id="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use of technology in education is a reflection of what is happening on a much larger scale in our communiti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are in a period of history often referred to as the information age , the the information age is characterized by a change in focus from industry to informa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The impact of technology on the teacher and the learner </a:t>
            </a:r>
            <a:endParaRPr b="0" lang="en-US" sz="3200" spc="-1" strike="noStrike">
              <a:solidFill>
                <a:srgbClr val="2c7c9f"/>
              </a:solidFill>
              <a:latin typeface="News Gothic MT"/>
            </a:endParaRPr>
          </a:p>
        </p:txBody>
      </p:sp>
      <p:sp>
        <p:nvSpPr>
          <p:cNvPr id="98" name=""/>
          <p:cNvSpPr txBox="1"/>
          <p:nvPr/>
        </p:nvSpPr>
        <p:spPr>
          <a:xfrm>
            <a:off x="549000" y="1600200"/>
            <a:ext cx="8042040" cy="4648320"/>
          </a:xfrm>
          <a:prstGeom prst="rect">
            <a:avLst/>
          </a:prstGeom>
          <a:noFill/>
          <a:ln w="0">
            <a:noFill/>
          </a:ln>
        </p:spPr>
        <p:txBody>
          <a:bodyPr anchor="t">
            <a:normAutofit fontScale="99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e information age technology has had a significant influence on educators and learners for a number of reasons. Most importantly ,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has become a shared responsibility. Teacher has taken on the role of facilitator </a:t>
            </a:r>
            <a:r>
              <a:rPr b="0" lang="en-US" sz="2400" spc="-1" strike="noStrike">
                <a:solidFill>
                  <a:srgbClr val="595959"/>
                </a:solidFill>
                <a:latin typeface="News Gothic MT"/>
              </a:rPr>
              <a:t>as the access to information bridge the gap between teacher and learner. When information is widely available ,it is no longer necessary for the teacher to find’, filter and deliver the content . Therefore , the teacher is no longer the person who holds all of the answers or the individual who is solely responsible for imparting the informa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240" y="1600200"/>
            <a:ext cx="89154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ducators in the information age are becoming </a:t>
            </a:r>
            <a:r>
              <a:rPr b="0" lang="en-US" sz="2400" spc="-1" strike="noStrike">
                <a:solidFill>
                  <a:srgbClr val="ffb400"/>
                </a:solidFill>
                <a:latin typeface="News Gothic MT"/>
              </a:rPr>
              <a:t>facilitators of learning </a:t>
            </a:r>
            <a:r>
              <a:rPr b="0" lang="en-US" sz="2400" spc="-1" strike="noStrike">
                <a:solidFill>
                  <a:srgbClr val="595959"/>
                </a:solidFill>
                <a:latin typeface="News Gothic MT"/>
              </a:rPr>
              <a:t>rather than providers of information. The need for memorization of the information becomes less important than the ability to think critically. They are helping individuals to learn how to refine a problem, to find the information they need, and to critically evaluate the information they fin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urses must structure their approach to healthcare education to be consistent with the needs of the information age clients. The nurse must be prepared to be a facilitator of learning by healping clients to access, evaluate and use the wide range of information that is available. The nurse must also learn how and when to use technology and remain current as new technology –based tools become available in order to optimize each learning experien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49000" y="609120"/>
            <a:ext cx="8042040" cy="53341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ike consumer, health professional in the information age can use the Internet and the World Wide Web as vehicles for sharing resources and for gaining access to the most current information in their field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mputer have made it possible to provide anytime, anywhere accesses to </a:t>
            </a:r>
            <a:r>
              <a:rPr b="0" lang="en-US" sz="2400" spc="-1" strike="noStrike">
                <a:solidFill>
                  <a:srgbClr val="ffb400"/>
                </a:solidFill>
                <a:latin typeface="News Gothic MT"/>
              </a:rPr>
              <a:t>job training and continuing education</a:t>
            </a:r>
            <a:r>
              <a:rPr b="0" lang="en-US" sz="2400" spc="-1" strike="noStrike">
                <a:solidFill>
                  <a:srgbClr val="595959"/>
                </a:solidFill>
                <a:latin typeface="News Gothic MT"/>
              </a:rPr>
              <a:t>. Viritual reality and computer simulation can open up opportunities to learn hands-on skills and develop competencies in areas such as diagnostic reasoning and problem solving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Information Literacy</a:t>
            </a:r>
            <a:endParaRPr b="0" lang="en-US" sz="32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The ability to:</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ccess needed inform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Evaluate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Organize inform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Use information from a variety of source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12-26T16:44:56Z</cp:lastPrinted>
  <dcterms:modified xsi:type="dcterms:W3CDTF">2016-10-16T09:23:58Z</dcterms:modified>
  <cp:revision>78</cp:revision>
  <dc:subject/>
  <dc:title>PowerPoint Presentation</dc:title>
</cp:coreProperties>
</file>