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3F32-6AEE-4825-B3F7-3B25531C1F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8720-A138-42F6-9035-326F781F4A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77A8-F9C0-48B8-93F6-0142EEEE4B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B817-7632-4BFF-AC10-FF8FDBEBC1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6897-DBFC-4B72-A94D-76AD999D94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2859-D780-4CAA-B724-144ADDB696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D0A2-0FC8-4686-87C9-2BBF6AAA45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928A-4429-47A5-AA6C-AF811746DF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28EE-3E3F-40A4-AE67-4A7DC35C32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FEE8-4FDC-4254-AF3C-424ED08532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F5FB-54BB-4A69-83C8-E3B305781C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E052-CC65-4C46-A75E-D776504D05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37" name="Group 2"/>
            <p:cNvGrpSpPr/>
            <p:nvPr/>
          </p:nvGrpSpPr>
          <p:grpSpPr>
            <a:xfrm>
              <a:off x="289080" y="2546280"/>
              <a:ext cx="712440" cy="474480"/>
              <a:chOff x="289080" y="2546280"/>
              <a:chExt cx="712440" cy="474480"/>
            </a:xfrm>
          </p:grpSpPr>
          <p:sp>
            <p:nvSpPr>
              <p:cNvPr id="38" name="Rectangle 3"/>
              <p:cNvSpPr/>
              <p:nvPr/>
            </p:nvSpPr>
            <p:spPr>
              <a:xfrm>
                <a:off x="28908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Rectangle 4"/>
              <p:cNvSpPr/>
              <p:nvPr/>
            </p:nvSpPr>
            <p:spPr>
              <a:xfrm>
                <a:off x="672480" y="2546280"/>
                <a:ext cx="32904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Group 5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1" name="Rectangle 6"/>
              <p:cNvSpPr/>
              <p:nvPr/>
            </p:nvSpPr>
            <p:spPr>
              <a:xfrm>
                <a:off x="414360" y="2968560"/>
                <a:ext cx="4204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Rectangle 7"/>
              <p:cNvSpPr/>
              <p:nvPr/>
            </p:nvSpPr>
            <p:spPr>
              <a:xfrm>
                <a:off x="78228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Rectangle 8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1000"/>
          </a:bodyPr>
          <a:p>
            <a:pPr marL="28080" indent="-2808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64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64116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96588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580D-C295-4D36-B5B0-35B9E5C14F0E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655308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4572000" y="6553080"/>
            <a:ext cx="457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Helvetic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762120" y="13716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Part III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Datalink  Layer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3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4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4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4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4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5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5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Rectangle 1"/>
          <p:cNvSpPr/>
          <p:nvPr/>
        </p:nvSpPr>
        <p:spPr>
          <a:xfrm>
            <a:off x="2206440" y="108000"/>
            <a:ext cx="41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66840" y="2133720"/>
            <a:ext cx="83455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6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6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6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6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7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7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7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1"/>
          <p:cNvSpPr/>
          <p:nvPr/>
        </p:nvSpPr>
        <p:spPr>
          <a:xfrm>
            <a:off x="2206440" y="108000"/>
            <a:ext cx="41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685800" y="99072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AC sublayer governs the operation of the random access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dard Ethernet uses CSMA/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thernet dose not provide any mechanism for acknowledging received frames( unreliable mediu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knowledgments must be implemented at the higher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also frames data received from the upper layer and passes them to the physical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8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8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8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9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9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9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0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Rectangle 1"/>
          <p:cNvSpPr/>
          <p:nvPr/>
        </p:nvSpPr>
        <p:spPr>
          <a:xfrm>
            <a:off x="2180160" y="10800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685800" y="9907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The MAC sub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AC sublayer governs the operation of the random access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dard Ethernet uses CSMA/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thernet dose not provide any mechanism for acknowledging received frames( unreliable mediu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knowledgments must be implemented at the higher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also frames data received from the upper layer and passes them to the physical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0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0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1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1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1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2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2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Rectangle 1"/>
          <p:cNvSpPr/>
          <p:nvPr/>
        </p:nvSpPr>
        <p:spPr>
          <a:xfrm>
            <a:off x="2203200" y="10800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57200" y="988920"/>
            <a:ext cx="8458200" cy="1754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"/>
          <p:cNvSpPr/>
          <p:nvPr/>
        </p:nvSpPr>
        <p:spPr>
          <a:xfrm>
            <a:off x="184320" y="283212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The Ethernet frame contains seven fie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am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bytes (56 bits); Alternating 0s and 1s, used for synchro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rt Frame Delimiter (SFD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101011 indicates the start of the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two bits (11) alerts that the next field is destination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preamble and SFD are added at the physical layer and is not formally part of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3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3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3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3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4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4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4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Rectangle 1"/>
          <p:cNvSpPr/>
          <p:nvPr/>
        </p:nvSpPr>
        <p:spPr>
          <a:xfrm>
            <a:off x="2203200" y="10800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947880" y="1066680"/>
            <a:ext cx="7281720" cy="10969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"/>
          <p:cNvSpPr/>
          <p:nvPr/>
        </p:nvSpPr>
        <p:spPr>
          <a:xfrm>
            <a:off x="442800" y="2438280"/>
            <a:ext cx="822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D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Destinatio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S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Source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Length/Ty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e the upper-layer protocol using the MAC frame. OR       define the number of bytes in the data fi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minumum: 46 and maximum : 15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CRC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error detection information:CRC-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5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5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6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6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6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7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7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Line 23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442800" y="4876920"/>
            <a:ext cx="8153640" cy="14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5"/>
          <p:cNvSpPr/>
          <p:nvPr/>
        </p:nvSpPr>
        <p:spPr>
          <a:xfrm>
            <a:off x="495360" y="2759040"/>
            <a:ext cx="8116920" cy="19652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me leng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: 64 bytes (512 bi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: 1518 bytes (12,144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26"/>
          <p:cNvGrpSpPr/>
          <p:nvPr/>
        </p:nvGrpSpPr>
        <p:grpSpPr>
          <a:xfrm>
            <a:off x="533520" y="2023920"/>
            <a:ext cx="1143000" cy="566640"/>
            <a:chOff x="533520" y="2023920"/>
            <a:chExt cx="1143000" cy="566640"/>
          </a:xfrm>
        </p:grpSpPr>
        <p:pic>
          <p:nvPicPr>
            <p:cNvPr id="379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20239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28"/>
            <p:cNvSpPr/>
            <p:nvPr/>
          </p:nvSpPr>
          <p:spPr>
            <a:xfrm>
              <a:off x="666720" y="202392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8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8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8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9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9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9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0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Rectangle 1"/>
          <p:cNvSpPr/>
          <p:nvPr/>
        </p:nvSpPr>
        <p:spPr>
          <a:xfrm>
            <a:off x="2203200" y="10800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636480" y="2475000"/>
            <a:ext cx="7756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Minimum frame length restrictio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64 bytes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required for the correct operation of CSMA/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 data length =64 -18 (6+-6+2+4) = 4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upper-layer packet is less than 46 bytes, padding is added to make up the dif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Maximum length restri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two historical 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mory was very expensive when Ethernet was de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vents one station from monopolizing the shared medium, blocking other stations that have data to 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 data length =1518-18= 1500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27160" y="668160"/>
            <a:ext cx="8764560" cy="18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0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0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1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1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1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2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2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Rectangle 1"/>
          <p:cNvSpPr/>
          <p:nvPr/>
        </p:nvSpPr>
        <p:spPr>
          <a:xfrm>
            <a:off x="1295280" y="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address in hexadecimal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343160" y="1066680"/>
            <a:ext cx="6276960" cy="1533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749160" y="3048120"/>
            <a:ext cx="756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station (PC or printer) has a network interface card (NIC) which provides the station with a 6-byte [48 bits] physical address (MAC ad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is written in hexadecimal notation, with a colon between the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3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3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3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3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4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4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4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Rectangle 2"/>
          <p:cNvSpPr/>
          <p:nvPr/>
        </p:nvSpPr>
        <p:spPr>
          <a:xfrm>
            <a:off x="912960" y="2579760"/>
            <a:ext cx="739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urce address is always a unicast addr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the frames comes from only one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tination address can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cast: defines only one recipient; 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one to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cast: a group of addresses; 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one to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oadcast: the recipients are 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all the stations on the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181160" y="1292400"/>
            <a:ext cx="6856200" cy="10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5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5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6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6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6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6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7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Line 23"/>
          <p:cNvSpPr/>
          <p:nvPr/>
        </p:nvSpPr>
        <p:spPr>
          <a:xfrm>
            <a:off x="457200" y="1752480"/>
            <a:ext cx="815328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442800" y="5943600"/>
            <a:ext cx="8153640" cy="14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25"/>
          <p:cNvSpPr/>
          <p:nvPr/>
        </p:nvSpPr>
        <p:spPr>
          <a:xfrm>
            <a:off x="461880" y="1905120"/>
            <a:ext cx="8116920" cy="38862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least significant bit of the first byte defines the type of add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the bit is 0, the address is unicast; otherwise, it is multic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roadcast destination address is a special case of the multicast address in which all bits are 1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26"/>
          <p:cNvGrpSpPr/>
          <p:nvPr/>
        </p:nvGrpSpPr>
        <p:grpSpPr>
          <a:xfrm>
            <a:off x="533520" y="1066680"/>
            <a:ext cx="1143000" cy="566640"/>
            <a:chOff x="533520" y="1066680"/>
            <a:chExt cx="1143000" cy="566640"/>
          </a:xfrm>
        </p:grpSpPr>
        <p:pic>
          <p:nvPicPr>
            <p:cNvPr id="478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Rectangle 28"/>
            <p:cNvSpPr/>
            <p:nvPr/>
          </p:nvSpPr>
          <p:spPr>
            <a:xfrm>
              <a:off x="666720" y="106668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0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3"/>
          <p:cNvSpPr/>
          <p:nvPr/>
        </p:nvSpPr>
        <p:spPr>
          <a:xfrm>
            <a:off x="228600" y="182880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0 :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Error Detection and Corre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1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Data Link Control and Protoc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2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Multipl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3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Wired LANs: Ethern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5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Connecting LANs, Backbone networks and virtual L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8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8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8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9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9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9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9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Rectangle 1"/>
          <p:cNvSpPr/>
          <p:nvPr/>
        </p:nvSpPr>
        <p:spPr>
          <a:xfrm>
            <a:off x="636480" y="1038240"/>
            <a:ext cx="774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Define the type of the following destination addre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a.4A:30:10:21:10: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b.47:20:1B:2E:08: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c.FF:FF:FF:FF:FF: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ind the type of the address, we need to look at the second hexadecimal digit from the le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it is even, the address is unicast. If it is odd, the address is multicast .If all digits are F’s, the address is broadcast. Therefore, we have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 unicast address because A in binary is 1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 multicast address because 7 in binary is 01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 broadcast address because all digits are F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5"/>
          <p:cNvSpPr/>
          <p:nvPr/>
        </p:nvSpPr>
        <p:spPr>
          <a:xfrm>
            <a:off x="1104840" y="0"/>
            <a:ext cx="21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0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0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1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1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1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1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2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Rectangle 2"/>
          <p:cNvSpPr/>
          <p:nvPr/>
        </p:nvSpPr>
        <p:spPr>
          <a:xfrm>
            <a:off x="727200" y="1166760"/>
            <a:ext cx="780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e0000"/>
                </a:solidFill>
                <a:latin typeface="Times New Roman"/>
              </a:rPr>
              <a:t>Show how the address 47:20:1B:2E:08:EEis sent out on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address is sent left-to-right, byte by byte; for each byte, it is sent right-to-left( LSB first), bit by bit, as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ft-to-right :47→20→1B→2E→08→ 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7 is 0100 0111 right -to-left 1110 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104840" y="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287280" y="4876920"/>
            <a:ext cx="857268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1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1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2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3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Rectangle 3"/>
          <p:cNvSpPr/>
          <p:nvPr/>
        </p:nvSpPr>
        <p:spPr>
          <a:xfrm>
            <a:off x="685800" y="1447920"/>
            <a:ext cx="71629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Footlight MT Light"/>
              </a:rPr>
              <a:t>Chapter 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Footlight MT Light"/>
              </a:rPr>
              <a:t>Wired LANs: Etherne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0" y="0"/>
            <a:ext cx="9144000" cy="1143000"/>
            <a:chOff x="0" y="0"/>
            <a:chExt cx="9144000" cy="1143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3"/>
          <p:cNvSpPr/>
          <p:nvPr/>
        </p:nvSpPr>
        <p:spPr>
          <a:xfrm>
            <a:off x="1752480" y="31284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EEE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80880" y="121932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1985 ,the Computer Society of the IEEE started a project, called Project  802, to set standards to enable intercommunication a among equipment from a variety of manufacturers. Project 802 is a way of specifying functions of the physical layer and the data link layer of major LAN protoc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e0000"/>
                </a:solidFill>
                <a:uFillTx/>
                <a:latin typeface="Times New Roman"/>
              </a:rPr>
              <a:t>Topics discussed in this s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4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4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4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4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5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5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5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1"/>
          <p:cNvSpPr/>
          <p:nvPr/>
        </p:nvSpPr>
        <p:spPr>
          <a:xfrm>
            <a:off x="2265840" y="108000"/>
            <a:ext cx="42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EEE standard for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42800" y="914400"/>
            <a:ext cx="80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0000"/>
                </a:solidFill>
                <a:latin typeface="Times New Roman"/>
              </a:rPr>
              <a:t>IEEE divided the Data link layer into two sublay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per lay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link control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L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flow and error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sublayer : Multiple access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media access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access </a:t>
            </a:r>
            <a:r>
              <a:rPr b="0" lang="en-US" sz="3200" spc="-1" strike="noStrike">
                <a:solidFill>
                  <a:srgbClr val="7e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7e0000"/>
                </a:solidFill>
                <a:latin typeface="Times New Roman"/>
              </a:rPr>
              <a:t>MAC</a:t>
            </a:r>
            <a:r>
              <a:rPr b="0" lang="en-US" sz="3200" spc="-1" strike="noStrike">
                <a:solidFill>
                  <a:srgbClr val="7e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for resolving access to the shared me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hannel is dedicated ( point to point) we do not need the </a:t>
            </a:r>
            <a:r>
              <a:rPr b="0" lang="en-US" sz="3200" spc="-1" strike="noStrike">
                <a:solidFill>
                  <a:srgbClr val="7e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7e0000"/>
                </a:solidFill>
                <a:latin typeface="Times New Roman"/>
              </a:rPr>
              <a:t>MAC</a:t>
            </a:r>
            <a:r>
              <a:rPr b="0" lang="en-US" sz="3200" spc="-1" strike="noStrike">
                <a:solidFill>
                  <a:srgbClr val="7e0000"/>
                </a:solidFill>
                <a:latin typeface="Times New Roman"/>
              </a:rPr>
              <a:t>)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6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6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6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7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7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7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8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2380320" y="101520"/>
            <a:ext cx="42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EEE standard for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25520" y="1523880"/>
            <a:ext cx="858204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8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8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9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9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9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0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0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"/>
          <p:cNvSpPr/>
          <p:nvPr/>
        </p:nvSpPr>
        <p:spPr>
          <a:xfrm>
            <a:off x="1066680" y="1015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LC (Logical link control)and MAC (Media Access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490680" y="1062000"/>
            <a:ext cx="8178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IEEE project 802, flow control , error control, and part of the framing duties are collected into one sublayer called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gical link control (LL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L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one single data link control for all IEEE 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project 802 has created a sublayerMAC that defines the specific access method for each LAN. In contrast to the LLC, MAC contains a number of distinct modules: each defines the access method and the framing format specific to the corresponding LA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MA/CDas media access method for Ethernet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passing method for Token Ring and Token Bu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Framing is handled in both the LLC and MAC sub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1143000"/>
            <a:chOff x="0" y="0"/>
            <a:chExt cx="9144000" cy="1143000"/>
          </a:xfrm>
        </p:grpSpPr>
        <p:sp>
          <p:nvSpPr>
            <p:cNvPr id="209" name="Rectangle 3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3"/>
          <p:cNvSpPr/>
          <p:nvPr/>
        </p:nvSpPr>
        <p:spPr>
          <a:xfrm>
            <a:off x="1752480" y="31284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114300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hysical layer is dependent on the implementation and type of the physical media u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EEE define detailed specifications for each LAN implemen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r example, although there is only one MAC sublayer for Standard Ethernet( CSMA/CD), there is a different physical layer specifications for each Ethernet implement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1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1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2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2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2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2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3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1"/>
          <p:cNvSpPr/>
          <p:nvPr/>
        </p:nvSpPr>
        <p:spPr>
          <a:xfrm>
            <a:off x="2182320" y="108000"/>
            <a:ext cx="35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IE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876240" y="1600200"/>
            <a:ext cx="714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is the dominant LAN technolog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he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rst widely used LAN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mpler and cheaper than token 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ept up with speed race: 10, 100, 1000 Mbp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lient</dc:creator>
  <dc:description/>
  <dc:language>en-US</dc:language>
  <cp:lastModifiedBy>hppc</cp:lastModifiedBy>
  <dcterms:modified xsi:type="dcterms:W3CDTF">2017-04-17T19:38:07Z</dcterms:modified>
  <cp:revision>56</cp:revision>
  <dc:subject/>
  <dc:title>PowerPoint Presentation</dc:title>
</cp:coreProperties>
</file>