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C7F5-A30D-40E0-8223-1AB9C6ABA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E833-C110-4691-96DC-0B43491E26A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77D7-47AB-4CB4-A23D-5E5A433665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2EE6-238B-4237-81AA-7A4E529D65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7D7C-3226-4E00-B13C-0C476A9AFD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FFC4-7BA2-44E6-A7C3-8A1A36B3D27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068C-AD35-41B5-86D9-B93F9377A0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CCF5-0294-4163-88D4-B78738E51F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ED73-56B4-4E34-8ADE-8B763B0AC08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40F1-E5EC-47A3-A019-B147B5A520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01A6-6AC6-4307-AC37-E9A5679A22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9B3F-9912-4DCB-AD8E-AF300F41C15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5D0F-BFD1-4C73-A83B-7A545EF9BB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55F2-B5AA-4AE2-9F63-3DBA6FC007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8099-AC4F-407F-AAB5-72D35929517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62D2-64F2-4DAE-9986-78C2527E9A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AED5-B0A8-4795-BD41-328E9386BD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218F-14F6-4771-9DF1-54AE40D2BA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E07F-B20B-4722-A387-1B86CFF028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8148-E943-48D6-BCE7-3D23064DAE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23D2-1838-49AF-886F-722A1677D4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0201-9132-4A61-A521-9502B3D487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386C-E5B0-43C6-A950-0FF0337A85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C52C-6E59-4B12-8D44-03474BAC98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4D0B-400B-4067-9C7E-60636176691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A736-1864-4563-A1FE-1C4EEEB0D0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46F0-D2EA-4D99-9342-4CAC001197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78F4-B88B-413B-BAC8-F735394AB38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D22B-2E0C-4BD8-8F53-A65CA9D8EF5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6F2C-B98D-4D39-BB42-B3ACC32ED4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BA8F-20C8-4895-8ED2-100B7A65E1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235C-85C0-4FC9-9C5B-35B06C414A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1D0C00-F314-4368-ABC9-0A27AA9A8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69774-9B23-4552-9CC6-F67958DBD7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CD67C3-9BC6-4669-92A8-E86FD74CB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1F5C9B-B1F6-4A9F-9B21-ECEEA7A5AE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DFAC2-5FD7-4677-A87C-7BF80E8DA7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0EBC28-0F26-4EA4-825C-9A950FB5CD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10BDD6-61AE-484D-A787-C66298E82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15BEF1-D16F-44F8-9D8C-7F6FF6A06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2E907C-8C50-4157-BCD7-D7E535459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469F5-131B-4091-98D8-593BB8E3D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4D75C6-127D-40E6-B67E-366CFF297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2A479-C178-47A9-B0A0-B3115485E3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BD7E-F64C-44CC-9191-06C36686509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A309-4462-493B-813B-971A1E4BDA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D6EC-47F4-4EF2-8ABC-7B9921E1A3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9C68-5616-47CC-9A32-F863748EAE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3F40-920B-4DD3-BD48-53BD2DBA033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2405-704E-4AF2-B4D8-14979EF5C6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D4C2-35C6-4995-8FA1-CC3DF8C94C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D35D-D345-4C84-B34C-60A3406137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27A9-1B5E-4994-B61F-A02D53DEF4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2D11-84D7-4076-A72B-976E619486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B2E7-85C3-4CA2-95F7-EFF511FB22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2A60-BCCB-4035-A5E5-99A62DE243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3502-15E6-4FE6-BAF6-8DC1AC65BA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8DD7-19A2-4B43-A1C2-0A3F3F9FB3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2861-CBCA-4F7A-B7E7-05E558222E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F890-C413-47FB-8499-92C477913D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4AD6-A78F-4E53-92EE-089542E190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99FB-E5C7-4712-B5D3-B17E8333E5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6B51-6E7C-41FA-97E1-D8B39B7C12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2D9F-E17E-4435-A8F3-00935DB4DB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52EC-BBAB-436E-89F4-A79FF7B70D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9586-BA05-4319-BD54-356D4AD45E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F86D-DF9A-404B-8CB2-B2DFA3F0B0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0A84-1986-43FB-AD13-90BA06A520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9616-1431-4D74-B299-278BADD359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06FA-3739-4247-AF33-DA63296483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7B5C-FE83-4FFC-A23C-B9E2E8362D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CFD0-B309-41F1-B824-23FD1CB4EE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6C68-4398-4D1F-A792-C58E364927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AE34-FE4E-4924-998E-3C51D70976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7260-2A2F-499D-ACA0-456B9A58EE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2:22Z</dcterms:modified>
  <cp:revision>272</cp:revision>
  <dc:subject>Index Numbers</dc:subject>
  <dc:title>Chapter 15</dc:title>
</cp:coreProperties>
</file>