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1335-E124-49A1-AAFF-40656E8FD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DB67-F8E8-4DFF-BA6D-8D17789DB1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36A6-BC09-420E-9CC7-CDBB75316E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10C7-A762-4738-92F5-9D63ED04EA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BF5F-0FA6-440D-8CE0-07BC1A234B3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DB2D-23E5-4A96-952F-12C9AF7AAF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5AF0-FEE5-4A3B-A41F-45873E68D1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3A0C-EBA0-4C67-B990-1291A8BADE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69F9-27D4-48F9-A098-E71A1277A7F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AE77-E0DB-4926-B933-6EF6E0E9243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9D67-6211-4C9C-A40E-3D7D5CD1E93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E959-5973-4518-9971-8C02A0CDE4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85BC-F3C3-49C8-9891-F26880BD809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13C0-EA33-40FA-AEAC-B46B46BD9C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A81E-68E7-46F6-9316-49215E85761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F9FA-CF3D-46B2-B128-1248F832DAC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A17F-E801-42A0-A2D6-FC85B14E6A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5857-AFD5-4EAC-ACD6-6D707D6B5DF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5A42-74E2-4FAF-A6ED-5CC73F99E3C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9299-6202-41C1-90A9-8558AA6197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7ABC-65EF-4076-A9CB-3AE167582E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7ECA-626F-469A-B3AD-0AA9CB7890A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9015-83E0-4431-93B6-86B702E3BF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8199-41FF-4772-9B24-0812C110DA8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278A-CF15-4678-A452-8306CC01F6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71A5-5BD7-4DF5-BB34-6E0590789A2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0A6C-BCE4-423D-B039-9F4E6729D45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949C-3BD6-459D-A294-B3BE9EC740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80F0-5C40-4395-9083-F011662BBF2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8FE9-3C15-4FA7-9EB1-7AEA734CE4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2558-736C-45A1-87B3-01D63A8CBCB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92D9-7692-443D-B027-5C80EF11678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554D2C-CA95-41F2-ACB6-C2AE601374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09CBF-A104-41C0-86AF-C5C5E0CE69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6041FD-9AC0-4DEA-913E-1FDC513A7E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86CF67-317F-4CFC-A962-F2A5B61933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D8F9C3-60E9-45BD-8248-EAD9C72B2D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8E8A2-6516-4CAC-9416-E74764DB0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E3C39-634F-4FCB-B8F5-D5809ADC40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91CC65-70BB-468E-8129-91A4B108E2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68F154-B28E-4C70-B00E-E4F298C590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B29522-4E84-465B-94B8-4E15CA8CF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C3C4F-B093-4790-A4BD-61E5F82C4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9D5E2A-5EB5-4992-9D30-823610084A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6E8E-3C2A-4FD1-8270-96843D6DEEE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386B-96B1-4897-8C06-86A1E9E26C1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9EE6-1A38-4AD4-9717-44E611AC27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28D6-144D-4882-A99E-F8DBBACD6EA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2D1A-F797-4F15-9837-E3BC223A1A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0308-94BC-40FB-9ACA-66982E7634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D7D4-3F63-4367-A9BB-CB9721834A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0830-FAAB-4C2E-B568-359903C6E9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BF76-6AB4-4B6F-8188-32C3CBAB56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473E-C507-4322-A2F9-4C2DA759DE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BAF0-8381-4921-B868-BB3E4E086D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AB76-BB39-4DAA-83CA-070A3CBAFC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9EFA-69FF-447B-840A-9DDD4812B2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3645-03FF-47AE-9ED2-6525A1096D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BA50-6D50-495A-A604-0C6215BB85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79B2-C67D-4A05-8352-D1442B148F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B58A-AAC9-402A-9DA8-E263B1B9A0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1507-7900-46CD-A71A-6A5001993D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CFEF-36CB-4963-87A9-D928A5CAB2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04A7-D3BE-4C72-882E-C9E712862CF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3B27-B5FB-44F7-AF97-BF919514B7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9931-47E3-4825-AA0A-43090D714E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EDA9-B208-4D2E-89A9-6508D9381B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56BE-79BD-4D5E-8538-07E7EFA4CC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98A4-C665-4AF0-9B97-74C4CB7EB3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8F35-586B-44C9-8E07-42659D98D28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5AB9-A47E-4529-9763-6BD58900B7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5406-F10A-42ED-A5AD-457E2DF794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9357-D460-46FB-BD00-B3199C0E64C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3150-A262-42AB-9ACD-88FC328EA3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425D-C11D-47B8-B999-63986E8790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2:02:22Z</dcterms:modified>
  <cp:revision>272</cp:revision>
  <dc:subject>Index Numbers</dc:subject>
  <dc:title>Chapter 15</dc:title>
</cp:coreProperties>
</file>