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ECC4-208E-4686-B207-6E6F475559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88D8-090F-4B27-B6F2-B33C4AF0CCD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20B1-5DF2-4D95-86FA-ED1DEB502AC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C205-4671-4437-AE33-350909E6C4F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ED41-7444-4B99-967A-4441F6F3B8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664B-D39D-4544-BEFC-9C96D53DA6C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955F-2ED7-4FE1-90EB-396FB3754FD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A25F-4E7E-4844-BF68-3EC16B5FCDE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8742-1CD3-4C9E-9A65-8693B7F2B89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431B-7DBE-4026-BA38-911E784AAA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1911-0E96-4F7D-B569-DFA6D25E1D9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0E5F-CC86-411D-B54F-36363DB933C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EB52-4849-463C-A5BB-E38E2D23505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A75D-7ECF-4C31-BC58-15112D3B31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48CA-8E3F-4FEE-B247-8B4CC388A05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DFCF-7EBE-455A-9CDB-852734B4099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5A3E-525D-4228-A7AE-E911F38D423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FA6E-91F8-4E0F-AA33-85226C10A18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EBC4-4484-4EA3-A7D8-B90DE050D90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1445-1C35-47AD-BCE5-72D47976AEE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AA9B-DF02-46B4-90D8-95FF1930D94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BB8D-08E8-458B-ADD6-6F27E528312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3DA0-05F6-4AB7-B62D-E70E086FF30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749A-2DBC-4911-9BB4-108D0636EE7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3FB7-E60B-4D62-9680-7E37D1042F5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B960-BC80-498C-8024-DE9E25EC996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3AF5-EE68-4EA3-82CB-1F40484C874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9A30-2262-44AD-9901-BB3F4975DCE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682D-C5BA-4D1E-8721-0E97199863D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2FB3-BC9D-402E-9D38-A90B1C05539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C861-E103-428B-8A85-7015D456FF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59D2-4A21-4C2A-AFB3-2C2402E7434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4A998C-0526-4298-A11F-76AA18A40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8E8A51-0A78-44BA-8B31-0169F54E2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3D022C-A012-41F1-B1C7-EC7C5535CE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B0AA7-58D9-4097-90E0-A46F0D063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1BEABB-B762-4E6A-A148-3638291C0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B8A9D-4A86-4E3C-8171-EC8F1AB89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9124D-D137-46BD-B8D7-66273C7C59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9D121-163F-495A-887E-D7EC29909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EB7891-7C8A-43B0-AB64-01754B6C68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B9878-1A47-4BDB-A4B4-9411B45E3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A80B4-0F4E-4CBD-8AAE-EA0703AEE8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A1E20-39D1-497A-8460-110EC79AFA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531A-3C98-4D18-8AEF-5FEC29A5648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C148-6D14-4D98-9120-748FE858DF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2C4E-EB26-4EB5-8AB0-797278630C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ACDF-D82A-4BFA-8CD3-85ECAF8F23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a:t>
            </a:r>
            <a:r>
              <a:rPr b="0" lang="en-US" sz="1800" spc="-1" strike="noStrike">
                <a:solidFill>
                  <a:srgbClr val="ff0000"/>
                </a:solidFill>
                <a:latin typeface="Arial"/>
              </a:rPr>
              <a:t>overweight goods whose prices increase</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a:t>
            </a:r>
            <a:r>
              <a:rPr b="0" lang="en-US" sz="1800" spc="-1" strike="noStrike">
                <a:solidFill>
                  <a:srgbClr val="ff0000"/>
                </a:solidFill>
                <a:latin typeface="Arial"/>
              </a:rPr>
              <a:t>whose prices have declined. </a:t>
            </a:r>
            <a:r>
              <a:rPr b="0" lang="en-US" sz="1800" spc="-1" strike="noStrike">
                <a:solidFill>
                  <a:srgbClr val="003366"/>
                </a:solidFill>
                <a:latin typeface="Arial"/>
              </a:rPr>
              <a:t>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7B40-3636-452A-BEBF-703957C5E4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674F-5E7F-4512-B14B-06004F1BB51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FDE2-17E7-4D60-9E0B-2744F602DF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F82B-0DBC-4F86-AF24-BB5DD271130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6E86-E4D7-4813-B5DA-E537A69B1E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39CA-11D7-4034-8764-F4C42D9D99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9ADA-1701-4C92-9F46-DCC92E167F5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22D7-DD1E-47CA-BE32-0B530A6CAB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7860-E953-4844-A036-0E08B9CCCAF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95AE-E70C-4C86-AD62-5665A536FD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D00F-FDA5-4441-99F4-CFC9A4D976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E534-52FC-4C1B-88F9-280F5B60FD1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BDF6-9A3E-423E-84E0-7AAE7C9584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E420-EF6E-4DAD-B13A-F2F2168D42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EC18-F3D3-420B-B844-1E624BACBF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99B4-09B2-43C5-AE80-7B18319F23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1F99-4D34-45B1-9AEA-8E11B1DE6E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10D9-7903-4C00-8764-AE328E2C6E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0704-5816-41C2-9813-1271634CFC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9D46-155C-4DBB-A7AC-7E6CBAE293D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CE8F-C4F6-4E09-B2B5-003BBA2F60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E815-5F44-4497-9B5B-21F6557F25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D01A-A7C8-4A18-BBF8-C4FE6589FF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FDDA-0C3A-4532-8C42-2D4AE1AFEE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E999-B0E1-4770-8736-E7C7FD4DBE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5471-878F-4128-96D2-8D1EA553CF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8058-16A2-4AEB-9A32-F50A6452F7B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dcterms:modified xsi:type="dcterms:W3CDTF">2014-12-13T10:19:24Z</dcterms:modified>
  <cp:revision>274</cp:revision>
  <dc:subject>Index Numbers</dc:subject>
  <dc:title>Chapter 15</dc:title>
</cp:coreProperties>
</file>