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7AD3-2FC5-4CCD-8217-CFB6715FB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46B0-7EE1-4866-B566-750E173CCD8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5D95-F19B-425B-B2B1-2F824E36E5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906B-A184-475C-8EE7-0BCC344CB5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A6E4-8FEB-486D-AC4F-93B82898C9F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BFA7-1AC5-4A4A-976E-E499C57FE8C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53DA-9048-4F0D-AD11-8B88DBAF1D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19C9-FE50-4918-B2E1-0B62E833E0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58B7-44A9-4562-B584-5DFBB828B40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D9CE-A2B7-4318-8FA2-1E2CB337353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7EEB-92C4-4439-AB69-4FEE95BBE0D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16A2-33EE-4A9B-AF99-7F2A884364B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9559-0C58-4E0A-8437-333E3964482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A6D9-5816-403F-8A20-76DB32D7A0F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6781-4D33-4D81-8F3F-C4DBAA0DB9B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2300-73E9-4089-8D86-D354C0A80DF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417F-1DB7-4D6D-8B42-8AAD9FB25BC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BC24-67A4-4CC8-8D68-472FFD2F5D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0AC7-1EE3-428B-844C-1DB2ACC5539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45FE-243C-4864-A7EB-1924031C7C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38E6-88D5-413F-A240-F8054BDE0ED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D39F-7BB5-4C2F-BBB1-D5EE9B421CD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EDDE-4CFF-4660-AE9A-B44D0D8C693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B658-7EC9-4507-996C-9D7FECD01EC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C867-4D81-457D-854F-F9BA665B60C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9776-FEA0-4822-B348-8C5FEFFF8B1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6A4ED-C275-4AA5-A38E-30BA3D8F0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B6CA5-8595-4683-99EA-75925C1B4D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661362-98C5-49DA-8C7E-053F97BC75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3BC185-2F62-4698-9779-7393D8487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B2A753-1B46-4A00-9933-30BD31CC40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55EDDB-00F3-4343-8F90-4754C542C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513554-2FF7-4A14-9209-C315930CA0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6E9D4C-FCCB-454A-8B8B-AADC6E31CC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2CE00F-A7F8-41E5-BC37-5225685F0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5D66D-85C2-4BEE-9B4A-D5C368FAE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5FE526-8B9B-4C3F-A4AD-404FB0833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66D01-2161-4A83-99B4-F763F2756A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4F41-FFFD-4841-A550-B187A08B362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DDE0-3320-4572-A5D2-6EDA20F756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4F0F-7BC7-48D8-B7C0-8AC26BDCA0F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09E1-40B7-4997-A058-4F263C24A8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4FE5-912F-4B1C-95F3-A0481105EA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3B21-9757-4355-A480-119E5C198E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91E1-05AF-4C27-9745-3471CD7ABD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DD9F-5F38-4D74-8ADB-B3989632C6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727B-AC27-4F4A-86BD-BE6CCAB322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74F4-7621-4133-A353-6B557313D5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2EDA-BF7E-48CC-A56E-BEF18221D3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25C4-11C1-4550-B98C-D1FFAA2D2C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A282-E027-4150-B300-FA46B7EF7E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1921-09F4-4344-AE25-E0FB44D98C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EBDE-5E4E-4479-B03A-FE1A391B04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2821-F468-46AA-848B-81B7F1E796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D2E2-C75E-45E2-B925-47E89485D6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E1E9-6F58-4119-B538-007A347F17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C882-9EA3-47E6-8AC7-8A3FB95E52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79D1-3767-46CE-A206-B47359854F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C1A3-B1FF-479A-B813-8F55645036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A2A8-2A52-4FE8-A1FC-4916DD5F77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AF22-1915-4CBF-8E5D-7B042A5421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D929-0C9B-45E0-9011-AE755CADB6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F8C3-11EF-49EE-8BD7-27AFB324DB8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10:03:26Z</dcterms:modified>
  <cp:revision>273</cp:revision>
  <dc:subject>Index Numbers</dc:subject>
  <dc:title>Chapter 15</dc:title>
</cp:coreProperties>
</file>