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246C-7255-483C-B5FF-F53C5DCC55E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A9CE-8804-4D3C-A4CF-DFABE9EFF0E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290C-DF07-403A-A7AF-5FFFEF3692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C8B3-2799-448B-988B-5AADBB531A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63C8-1545-4F3A-B499-48C1C3D912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BCF5-6EFE-4CFD-BA09-4E29FE5437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00C1-02B2-414D-862F-F8ADF7C4EF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ADC1-9441-42C2-871D-FD79A2EFF4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D9C5-AE6F-4799-8502-946E3857A1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F25C-6681-4E09-A25A-3F5F1283B8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D850-536F-4183-AA37-C09ECE4F01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8689-8195-4130-B51A-591E9C9B9C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8087-76E8-47D2-8FA6-80B809D4E6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E721-ED31-4749-BD67-04A281F84E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"/>
          <p:cNvGrpSpPr/>
          <p:nvPr/>
        </p:nvGrpSpPr>
        <p:grpSpPr>
          <a:xfrm>
            <a:off x="0" y="2438280"/>
            <a:ext cx="9008280" cy="1052640"/>
            <a:chOff x="0" y="2438280"/>
            <a:chExt cx="9008280" cy="1052640"/>
          </a:xfrm>
        </p:grpSpPr>
        <p:grpSp>
          <p:nvGrpSpPr>
            <p:cNvPr id="37" name="Group 2"/>
            <p:cNvGrpSpPr/>
            <p:nvPr/>
          </p:nvGrpSpPr>
          <p:grpSpPr>
            <a:xfrm>
              <a:off x="289080" y="2546280"/>
              <a:ext cx="712440" cy="474480"/>
              <a:chOff x="289080" y="2546280"/>
              <a:chExt cx="712440" cy="474480"/>
            </a:xfrm>
          </p:grpSpPr>
          <p:sp>
            <p:nvSpPr>
              <p:cNvPr id="38" name="Rectangle 3"/>
              <p:cNvSpPr/>
              <p:nvPr/>
            </p:nvSpPr>
            <p:spPr>
              <a:xfrm>
                <a:off x="28908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Rectangle 4"/>
              <p:cNvSpPr/>
              <p:nvPr/>
            </p:nvSpPr>
            <p:spPr>
              <a:xfrm>
                <a:off x="672480" y="2546280"/>
                <a:ext cx="32904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" name="Group 5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41" name="Rectangle 6"/>
              <p:cNvSpPr/>
              <p:nvPr/>
            </p:nvSpPr>
            <p:spPr>
              <a:xfrm>
                <a:off x="414360" y="2968560"/>
                <a:ext cx="42048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Rectangle 7"/>
              <p:cNvSpPr/>
              <p:nvPr/>
            </p:nvSpPr>
            <p:spPr>
              <a:xfrm>
                <a:off x="782280" y="296856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Rectangle 8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 flipH="1" rot="10800000">
              <a:off x="315000" y="3260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71000"/>
          </a:bodyPr>
          <a:p>
            <a:pPr marL="28080" indent="-2808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64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64116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96588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7655040" y="6388200"/>
            <a:ext cx="30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7D12-1960-409B-A97B-97FDCA064A57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655308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4572000" y="6553080"/>
            <a:ext cx="457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Helvetic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0" y="650700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762120" y="13716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Part III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   </a:t>
            </a: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Datalink  Layer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5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5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5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6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6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6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7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Rectangle 1"/>
          <p:cNvSpPr/>
          <p:nvPr/>
        </p:nvSpPr>
        <p:spPr>
          <a:xfrm>
            <a:off x="2682360" y="7632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repe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512640" y="3733920"/>
            <a:ext cx="79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295280" y="2082960"/>
          <a:ext cx="6096240" cy="2108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ヒラギノ角ゴ ProN W3"/>
                        </a:rPr>
                        <a:t>Amplifier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ヒラギノ角ゴ ProN W3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ヒラギノ角ゴ ProN W3"/>
                        </a:rPr>
                        <a:t>Repe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Cannot discriminate between the intended signal and nois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It amplifies equally everything fed into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regenerates the sig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receives a weakened or corrupted signal, creates a copy, bit for bit, at the original str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  <p:cxnSp>
        <p:nvCxnSpPr>
          <p:cNvPr id="275" name="Straight Arrow Connector 6"/>
          <p:cNvCxnSpPr/>
          <p:nvPr/>
        </p:nvCxnSpPr>
        <p:spPr>
          <a:xfrm>
            <a:off x="4506480" y="2971440"/>
            <a:ext cx="65340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6" name="Straight Arrow Connector 30"/>
          <p:cNvCxnSpPr/>
          <p:nvPr/>
        </p:nvCxnSpPr>
        <p:spPr>
          <a:xfrm>
            <a:off x="1371600" y="3504960"/>
            <a:ext cx="6530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7" name="Rectangle 8"/>
          <p:cNvSpPr/>
          <p:nvPr/>
        </p:nvSpPr>
        <p:spPr>
          <a:xfrm>
            <a:off x="762120" y="1138320"/>
            <a:ext cx="77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Repeaters is a regenerator, not an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8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8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8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8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9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9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9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Line 23"/>
          <p:cNvSpPr/>
          <p:nvPr/>
        </p:nvSpPr>
        <p:spPr>
          <a:xfrm>
            <a:off x="361800" y="1981080"/>
            <a:ext cx="8153640" cy="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4"/>
          <p:cNvSpPr/>
          <p:nvPr/>
        </p:nvSpPr>
        <p:spPr>
          <a:xfrm>
            <a:off x="380880" y="5408640"/>
            <a:ext cx="8153640" cy="14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436680" y="2043000"/>
            <a:ext cx="8173800" cy="3275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4968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A repeater connects segments of a 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A repeater forwards every frame; it has no filtering cap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A repeater is a regenerator, not an amplif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26"/>
          <p:cNvGrpSpPr/>
          <p:nvPr/>
        </p:nvGrpSpPr>
        <p:grpSpPr>
          <a:xfrm>
            <a:off x="533520" y="1143000"/>
            <a:ext cx="1143000" cy="566640"/>
            <a:chOff x="533520" y="1143000"/>
            <a:chExt cx="1143000" cy="566640"/>
          </a:xfrm>
        </p:grpSpPr>
        <p:pic>
          <p:nvPicPr>
            <p:cNvPr id="304" name="Picture 27" descr=""/>
            <p:cNvPicPr/>
            <p:nvPr/>
          </p:nvPicPr>
          <p:blipFill>
            <a:blip r:embed="rId1"/>
            <a:stretch/>
          </p:blipFill>
          <p:spPr>
            <a:xfrm>
              <a:off x="533520" y="114300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28"/>
            <p:cNvSpPr/>
            <p:nvPr/>
          </p:nvSpPr>
          <p:spPr>
            <a:xfrm>
              <a:off x="666720" y="1185840"/>
              <a:ext cx="77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0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1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1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1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1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2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2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Rectangle 1"/>
          <p:cNvSpPr/>
          <p:nvPr/>
        </p:nvSpPr>
        <p:spPr>
          <a:xfrm>
            <a:off x="2736000" y="76320"/>
            <a:ext cx="24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Active H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533520" y="101448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ctually a multiport rep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sed to create connections between stations in a physical star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an also be used to create tree topology to removes the length limitation of 10Base -T (100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1066680" y="4124160"/>
            <a:ext cx="606744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3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3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3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4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4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4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4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Rectangle 1"/>
          <p:cNvSpPr/>
          <p:nvPr/>
        </p:nvSpPr>
        <p:spPr>
          <a:xfrm>
            <a:off x="3496320" y="7632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Bri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28600" y="105264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Operates in both the physical and the data lin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Bookman Old Style"/>
              </a:rPr>
              <a:t>physical layer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: regenerates the sig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Bookman Old Style"/>
              </a:rPr>
              <a:t>data link layer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heck the physical (MAC) addresses (source and destination) contained in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ridge has filtering capability, but repeaters ha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hecks the MAC (physical) address of the destination when receives a frame, and decide if the frame should be forwarded or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forwards the new copy only to the segment (specific port) to which the address belo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bridge has a table that maps addresses to the 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5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5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6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6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6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6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7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Rectangle 1"/>
          <p:cNvSpPr/>
          <p:nvPr/>
        </p:nvSpPr>
        <p:spPr>
          <a:xfrm>
            <a:off x="2883600" y="763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Bridge : filter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701640" y="11113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ridge has a t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Maps address to 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sed in filtering deci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1247760" y="2705040"/>
            <a:ext cx="667692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7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8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8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8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9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9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9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Rectangle 1"/>
          <p:cNvSpPr/>
          <p:nvPr/>
        </p:nvSpPr>
        <p:spPr>
          <a:xfrm>
            <a:off x="2431800" y="115920"/>
            <a:ext cx="393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Two-Layer Swi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304920" y="1062000"/>
            <a:ext cx="8618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Performs at the physical and data link 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s a </a:t>
            </a:r>
            <a:r>
              <a:rPr b="0" i="1" lang="en-US" sz="2400" spc="-1" strike="noStrike">
                <a:solidFill>
                  <a:srgbClr val="ff0000"/>
                </a:solidFill>
                <a:latin typeface="Bookman Old Style"/>
              </a:rPr>
              <a:t>bridge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with many ports (</a:t>
            </a:r>
            <a:r>
              <a:rPr b="1" i="1" lang="en-US" sz="2400" spc="-1" strike="noStrike">
                <a:solidFill>
                  <a:srgbClr val="002060"/>
                </a:solidFill>
                <a:latin typeface="Bookman Old Style"/>
              </a:rPr>
              <a:t>multi port bridge</a:t>
            </a:r>
            <a:r>
              <a:rPr b="0" i="1" lang="en-US" sz="2400" spc="-1" strike="noStrike">
                <a:solidFill>
                  <a:srgbClr val="002060"/>
                </a:solidFill>
                <a:latin typeface="Bookman Old Style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Design that allows better (faster)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No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Filtering based on the </a:t>
            </a:r>
            <a:r>
              <a:rPr b="0" i="1" lang="en-US" sz="2400" spc="-1" strike="noStrike">
                <a:solidFill>
                  <a:srgbClr val="002060"/>
                </a:solidFill>
                <a:latin typeface="Bookman Old Style"/>
              </a:rPr>
              <a:t>MAC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address of the frame it received </a:t>
            </a:r>
            <a:r>
              <a:rPr b="0" i="1" lang="en-US" sz="2400" spc="-1" strike="noStrike">
                <a:solidFill>
                  <a:srgbClr val="002060"/>
                </a:solidFill>
                <a:latin typeface="Bookman Old Style"/>
              </a:rPr>
              <a:t>(like 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Builds switching table by “learning” MAC host addresses from source addresses of incoming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nknown destination addresses are </a:t>
            </a:r>
            <a:r>
              <a:rPr b="0" i="1" lang="en-US" sz="2400" spc="-1" strike="noStrike">
                <a:solidFill>
                  <a:srgbClr val="002060"/>
                </a:solidFill>
                <a:latin typeface="Bookman Old Style"/>
              </a:rPr>
              <a:t>flooded out other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Broadcast frames are flooded out other 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have been designed to forward the frame as soon as they check the MAC addresses in the header of the frame( first 6-byt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0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0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0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1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1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1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1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Rectangle 1"/>
          <p:cNvSpPr/>
          <p:nvPr/>
        </p:nvSpPr>
        <p:spPr>
          <a:xfrm>
            <a:off x="3071880" y="15228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Rou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457200" y="927000"/>
            <a:ext cx="789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Three-layer devices that routes packets based on their logical addresses (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onnects LANs and WANs i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Has a routing table that is used for making decisions about the ro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outing table are dynamic and updated using routing protoc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Builds routing table by neighbor routers using routing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457200" y="4290840"/>
            <a:ext cx="7877160" cy="27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2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2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3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3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3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4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4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Rectangle 1"/>
          <p:cNvSpPr/>
          <p:nvPr/>
        </p:nvSpPr>
        <p:spPr>
          <a:xfrm>
            <a:off x="2373120" y="76320"/>
            <a:ext cx="41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Three layer swi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773280" y="1120680"/>
            <a:ext cx="707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Is a router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but a faster and more sophistic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he switching fabric in a three-layer switch allows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faster table lookup and forwarding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We can use the terms router and three-layer switch interchangeab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4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5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5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5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6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6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6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Rectangle 1"/>
          <p:cNvSpPr/>
          <p:nvPr/>
        </p:nvSpPr>
        <p:spPr>
          <a:xfrm>
            <a:off x="2701800" y="7632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Gate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838080" y="1523880"/>
            <a:ext cx="725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Normally a computer that operates in all five layers of the Internet or seven layers of OSI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0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0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0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0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1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1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1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Rectangle 3"/>
          <p:cNvSpPr/>
          <p:nvPr/>
        </p:nvSpPr>
        <p:spPr>
          <a:xfrm>
            <a:off x="228600" y="1828800"/>
            <a:ext cx="8458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0 :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Error Detection and Corre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1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Data Link Control and Protoco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2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Multiple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3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Wired LANs: Ethern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5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Connecting LANs, Backbone networks and virtual L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2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2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2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3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3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3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4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Rectangle 3"/>
          <p:cNvSpPr/>
          <p:nvPr/>
        </p:nvSpPr>
        <p:spPr>
          <a:xfrm>
            <a:off x="685800" y="1447920"/>
            <a:ext cx="7162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Footlight MT Light"/>
              </a:rPr>
              <a:t>Chapter 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Footlight MT Light"/>
              </a:rPr>
              <a:t>Connecting LANs, Backbone networks and virtual LA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9144000" cy="1143000"/>
            <a:chOff x="0" y="0"/>
            <a:chExt cx="9144000" cy="1143000"/>
          </a:xfrm>
        </p:grpSpPr>
        <p:sp>
          <p:nvSpPr>
            <p:cNvPr id="144" name="Rectangle 3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4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Rectangle 1"/>
          <p:cNvSpPr/>
          <p:nvPr/>
        </p:nvSpPr>
        <p:spPr>
          <a:xfrm>
            <a:off x="1676520" y="341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NECTING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685800" y="144792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ANs do not normally operate in isolation they are connected to one another or to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o connect LANs, or segments of LANs, we use connecting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Topics discussed in this sec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1.Passive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2.Repeater and Active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3.Bridges and Two-Layer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4.Routers and Three-Layer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5.Gate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9144000" cy="1143000"/>
            <a:chOff x="0" y="0"/>
            <a:chExt cx="9144000" cy="1143000"/>
          </a:xfrm>
        </p:grpSpPr>
        <p:sp>
          <p:nvSpPr>
            <p:cNvPr id="149" name="Rectangle 3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4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Rectangle 1"/>
          <p:cNvSpPr/>
          <p:nvPr/>
        </p:nvSpPr>
        <p:spPr>
          <a:xfrm>
            <a:off x="1676520" y="341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NECTING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6320" y="1066680"/>
            <a:ext cx="8762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Connecting devices divided into five different categories based on the layer in which they operate in a network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1.Below the physical layer: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passive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2.At the physical layer: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repeater or active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3.At the physical and data link layers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: bridge or two-layer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4.At the physical, data link, network layers: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router or three-layer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5.At all five layers: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055520" y="4764240"/>
            <a:ext cx="680436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5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5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6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6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6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7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7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5" name="Picture 26" descr=""/>
          <p:cNvPicPr/>
          <p:nvPr/>
        </p:nvPicPr>
        <p:blipFill>
          <a:blip r:embed="rId1"/>
          <a:stretch/>
        </p:blipFill>
        <p:spPr>
          <a:xfrm>
            <a:off x="322200" y="1004760"/>
            <a:ext cx="3143160" cy="2324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7" descr=""/>
          <p:cNvPicPr/>
          <p:nvPr/>
        </p:nvPicPr>
        <p:blipFill>
          <a:blip r:embed="rId2"/>
          <a:stretch/>
        </p:blipFill>
        <p:spPr>
          <a:xfrm>
            <a:off x="5608800" y="1022400"/>
            <a:ext cx="3078000" cy="2306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8" descr=""/>
          <p:cNvPicPr/>
          <p:nvPr/>
        </p:nvPicPr>
        <p:blipFill>
          <a:blip r:embed="rId3"/>
          <a:srcRect l="3846" t="19979" r="0" b="0"/>
          <a:stretch/>
        </p:blipFill>
        <p:spPr>
          <a:xfrm>
            <a:off x="3048120" y="3375000"/>
            <a:ext cx="3122640" cy="1120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9" descr=""/>
          <p:cNvPicPr/>
          <p:nvPr/>
        </p:nvPicPr>
        <p:blipFill>
          <a:blip r:embed="rId4"/>
          <a:stretch/>
        </p:blipFill>
        <p:spPr>
          <a:xfrm>
            <a:off x="146160" y="4267080"/>
            <a:ext cx="3770280" cy="2382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0" descr=""/>
          <p:cNvPicPr/>
          <p:nvPr/>
        </p:nvPicPr>
        <p:blipFill>
          <a:blip r:embed="rId5"/>
          <a:stretch/>
        </p:blipFill>
        <p:spPr>
          <a:xfrm>
            <a:off x="6170760" y="4459320"/>
            <a:ext cx="2552400" cy="23335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2766960" y="76320"/>
            <a:ext cx="29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Passive Hu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8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8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8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9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9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9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0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Rectangle 1"/>
          <p:cNvSpPr/>
          <p:nvPr/>
        </p:nvSpPr>
        <p:spPr>
          <a:xfrm>
            <a:off x="2766960" y="76320"/>
            <a:ext cx="29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Passive Hu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755640" y="1052640"/>
            <a:ext cx="770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Passive hub is just a conn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n a star-topology Ethernet LAN, it is just a point where signals coming from different stations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he hub is the collision poi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his type of hub is part of the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ts location in the Internet model is below the physical l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0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0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1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1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1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2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2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Rectangle 1"/>
          <p:cNvSpPr/>
          <p:nvPr/>
        </p:nvSpPr>
        <p:spPr>
          <a:xfrm>
            <a:off x="2682360" y="7632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repe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228680" y="1695600"/>
            <a:ext cx="6467400" cy="34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2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3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3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3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4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4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4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Rectangle 1"/>
          <p:cNvSpPr/>
          <p:nvPr/>
        </p:nvSpPr>
        <p:spPr>
          <a:xfrm>
            <a:off x="2682360" y="7632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repe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355680" y="1004760"/>
            <a:ext cx="848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repeater operates only in the physical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an extend the physical length of a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Receive the signal before it becomes too weak or corrupted and regenerates the original bit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Do not actually connect two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onnects two segments of the same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segments connected are still part of one single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repeater cannot connect two LANs of differen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938160" y="4390920"/>
            <a:ext cx="6829560" cy="2390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ued Gateway Client</dc:creator>
  <dc:description/>
  <dc:language>en-US</dc:language>
  <cp:lastModifiedBy>hppc</cp:lastModifiedBy>
  <dcterms:modified xsi:type="dcterms:W3CDTF">2017-04-21T20:06:48Z</dcterms:modified>
  <cp:revision>81</cp:revision>
  <dc:subject/>
  <dc:title>PowerPoint Presentation</dc:title>
</cp:coreProperties>
</file>