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7A72-A0FA-46B5-8472-2777101B503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DEE4-085E-4F48-A977-B2313CC7556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B865-7C49-4966-A7DC-6CD30BC58FD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EDB8-E91B-4821-A3D6-244BB745E53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0208-3AD1-4A22-AB76-8F302BF0743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F88E-6E15-48A1-B43D-1146FB07A82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3E90-71C2-4C51-A14B-77DE2AB8E1E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6E2C-52A6-48EA-ABDC-417CC214FE2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0CA3-8508-49B7-A18C-9B0B1CC149E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5902-3BB6-4F28-B38B-C78971FCF7A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A77D-C420-4C1B-B1A6-607F799C733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579A-F76F-4CBC-BB94-2D592249CEF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AFDB-3642-4B0E-9024-EB3201F506E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C3FD-22FB-4B4B-BB9F-8FA2CE73B83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B5C5-8534-4321-AD4E-A84C55ACE76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5A9D-7EA4-473C-A459-3632577CF4F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B4C3-E37E-4ACC-B177-368845D2AA8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242E-F7D8-44D7-8971-9CA1A2EF01C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865F-9045-4DCD-9683-E4C6F13D760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E2C5-6D76-4A2D-803A-101D71BF9FE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BE16-9E08-4D37-990A-B340797CD0B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FD6D-C6B1-4C29-BDAC-285BD997C57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5EB1-DEB1-48AE-B6EB-8B973FF311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612F-707E-4AFD-A525-41C0EBF13F6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DAAB-89B0-4087-8ECF-5F33DD50B3E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E5D2-59CB-48F6-B20A-D73BA66AD14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E2A8-97B1-4C1C-9D16-FB250A45900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B7C3-DF58-4ACB-94F8-9BD03A9AAA1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B9C6-0351-4A33-A4CA-5044544FAD5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3055-6646-424C-8FA2-3800CB7479B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035A-996E-4001-846B-8CAE860C75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429C-A89B-4037-8F68-C7410E0C2F2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07F7DA-2925-4925-A41C-427C5396DF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26D8C7-729D-4432-AE44-7D3E2EA771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FCDA32-9121-4833-B6E6-DB27FD7A00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24FC73-462A-42DF-A95D-05C8989879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BF07A-3CE7-4252-BFB2-BB4E334AC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F9AABB-C3BE-4A64-888D-FDE13A6C00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24D51B-2D8F-47FD-BF66-AA1D2D0E42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101A21-6DDD-4A37-9D55-A8C4DAE1A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B43F9-CA91-4573-BC6F-580744F00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55F4EA-E2F1-4C7E-9962-B5A5159F6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26AE3C-D968-453A-B2E8-CC66310767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ED802-05E4-420E-9E04-5430CF658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38EA-7C0B-4F60-9FF9-728388FE525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E5A5-D201-4D0E-B9B5-12D2112FAE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A87D-1A80-4DE7-9394-B56B6BDE1B2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E688-7641-4D09-921D-E0BBC6B3AD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a:t>
            </a:r>
            <a:r>
              <a:rPr b="0" lang="en-US" sz="1800" spc="-1" strike="noStrike">
                <a:solidFill>
                  <a:srgbClr val="ff0000"/>
                </a:solidFill>
                <a:latin typeface="Arial"/>
              </a:rPr>
              <a:t>overweight goods whose prices increase</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a:t>
            </a:r>
            <a:r>
              <a:rPr b="0" lang="en-US" sz="1800" spc="-1" strike="noStrike">
                <a:solidFill>
                  <a:srgbClr val="ff0000"/>
                </a:solidFill>
                <a:latin typeface="Arial"/>
              </a:rPr>
              <a:t>whose prices have declined. </a:t>
            </a:r>
            <a:r>
              <a:rPr b="0" lang="en-US" sz="1800" spc="-1" strike="noStrike">
                <a:solidFill>
                  <a:srgbClr val="003366"/>
                </a:solidFill>
                <a:latin typeface="Arial"/>
              </a:rPr>
              <a:t>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4AA6-7EBC-410A-98CE-E6C5C49813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419E-F30A-4EBE-AA18-B1BC17CD0F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C2D1-73A4-43B6-93D8-95EB06F586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E392-201B-4AF0-B7E5-9D0A44596F7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B774-D1B3-44FA-A4E5-7F1340D6DE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6A02-33C2-4E3C-B8D4-D0A8F91C43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0574-B68F-4405-9706-C740AAAAFD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ACBA-78B6-4011-90E1-4693D1A6E1E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D1A3-CFF1-4387-BBA9-C2A9DC2D82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4A33-3F40-4D75-AB93-EAF860F1F97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1F6D-C397-49D7-B74E-98177C6456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FBDA-2A7C-4CE9-A1EB-7CDFF249B5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5B4F-376D-457E-9C2F-4A93D0E01A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5576-60B2-4573-BAF2-5915920991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206" name="PlaceHolder 1"/>
          <p:cNvSpPr>
            <a:spLocks noGrp="1"/>
          </p:cNvSpPr>
          <p:nvPr>
            <p:ph/>
          </p:nvPr>
        </p:nvSpPr>
        <p:spPr>
          <a:xfrm>
            <a:off x="569520" y="1776240"/>
            <a:ext cx="8402760" cy="88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7" name="Picture 5" descr="1525"/>
          <p:cNvPicPr/>
          <p:nvPr/>
        </p:nvPicPr>
        <p:blipFill>
          <a:blip r:embed="rId1"/>
          <a:stretch/>
        </p:blipFill>
        <p:spPr>
          <a:xfrm>
            <a:off x="1619280" y="2552760"/>
            <a:ext cx="5667480" cy="4048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D4FE-A864-4B32-A471-74B5D64D01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210" name="PlaceHolder 1"/>
          <p:cNvSpPr>
            <a:spLocks noGrp="1"/>
          </p:cNvSpPr>
          <p:nvPr>
            <p:ph/>
          </p:nvPr>
        </p:nvSpPr>
        <p:spPr>
          <a:xfrm>
            <a:off x="837720" y="1905120"/>
            <a:ext cx="7952040" cy="14810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1" name="Picture 5" descr="1526"/>
          <p:cNvPicPr/>
          <p:nvPr/>
        </p:nvPicPr>
        <p:blipFill>
          <a:blip r:embed="rId1"/>
          <a:stretch/>
        </p:blipFill>
        <p:spPr>
          <a:xfrm>
            <a:off x="2343240" y="3419640"/>
            <a:ext cx="4695840" cy="34383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2EF1-BD2E-467C-868D-07E641DA50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214" name="PlaceHolder 1"/>
          <p:cNvSpPr>
            <a:spLocks noGrp="1"/>
          </p:cNvSpPr>
          <p:nvPr>
            <p:ph/>
          </p:nvPr>
        </p:nvSpPr>
        <p:spPr>
          <a:xfrm>
            <a:off x="2655360" y="1904760"/>
            <a:ext cx="587556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5" name="Picture 5" descr="1527"/>
          <p:cNvPicPr/>
          <p:nvPr/>
        </p:nvPicPr>
        <p:blipFill>
          <a:blip r:embed="rId1"/>
          <a:stretch/>
        </p:blipFill>
        <p:spPr>
          <a:xfrm>
            <a:off x="628560" y="2343240"/>
            <a:ext cx="1847880" cy="2762280"/>
          </a:xfrm>
          <a:prstGeom prst="rect">
            <a:avLst/>
          </a:prstGeom>
          <a:ln w="0">
            <a:noFill/>
          </a:ln>
        </p:spPr>
      </p:pic>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119" dur="500"/>
                                        <p:tgtEl>
                                          <p:spTgt spid="21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4" dur="500"/>
                                        <p:tgtEl>
                                          <p:spTgt spid="21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129" dur="500"/>
                                        <p:tgtEl>
                                          <p:spTgt spid="214">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13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F471-5B58-4CF3-A433-FBF82ABF0E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217" name="Picture 5" descr="1528"/>
          <p:cNvPicPr/>
          <p:nvPr/>
        </p:nvPicPr>
        <p:blipFill>
          <a:blip r:embed="rId1"/>
          <a:stretch/>
        </p:blipFill>
        <p:spPr>
          <a:xfrm>
            <a:off x="1162080" y="1809720"/>
            <a:ext cx="6743520" cy="47912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AFA7-233C-44E3-ACFB-F465C30283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41" dur="500"/>
                                        <p:tgtEl>
                                          <p:spTgt spid="220">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51" dur="500"/>
                                        <p:tgtEl>
                                          <p:spTgt spid="220">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56"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F2FA-2C50-40BF-8903-5B5E248BEE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FA36-E3B0-4044-AD78-DCE34CA039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223" name="Picture 7" descr="1530"/>
          <p:cNvPicPr/>
          <p:nvPr/>
        </p:nvPicPr>
        <p:blipFill>
          <a:blip r:embed="rId1"/>
          <a:stretch/>
        </p:blipFill>
        <p:spPr>
          <a:xfrm>
            <a:off x="952560" y="2457360"/>
            <a:ext cx="7943760" cy="34196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67E2-E3CE-401A-AAD2-0BDE59DFD0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B3C5-E1E7-401B-8060-FF8CFBE398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56BE-5688-486C-8215-7F2243AB01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E2C6-CE17-4AE5-970A-7DE32D913B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259F-3F6C-4E98-9F91-0D59D859523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B4EF-96E0-4F91-B913-E463ADE7A9D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7A6F-215E-4FB4-AEC5-E8D2716091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dcterms:modified xsi:type="dcterms:W3CDTF">2014-12-13T10:19:24Z</dcterms:modified>
  <cp:revision>274</cp:revision>
  <dc:subject>Index Numbers</dc:subject>
  <dc:title>Chapter 15</dc:title>
</cp:coreProperties>
</file>