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3A8-2F86-4C4B-95F3-A31F5283121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458A-8845-412B-A24D-D65C49DA26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44B-77EA-44ED-8F92-5CAE92C4DF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35E9-981A-4B8F-8580-78469A0700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DCE-4050-4C24-8726-AA3D992C95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10B-9F4B-42E6-9CA8-0BEC587016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3EA-2C63-4E72-A76B-BE3C3E49DCE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969-DA90-48C8-971E-190F3A0ACC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1FB-B84C-4ADB-A15A-1F1C375B04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DCA4-405F-4504-832A-0C693DB48B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71EF-6C93-4AFD-9552-31AAD0DEAD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FAD-3B88-40F1-85E3-982D4664C8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057-1FD1-46D3-B9F2-2E1685A3BF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89B-50C3-4507-9CD2-D0CD296809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090A-03B8-44A5-B78E-ED5C858997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ADE2-60A7-435B-BE52-59015C051DE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480-B15E-4A2E-A704-31E7FDAEEA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095-453B-4F72-848E-FFC4640702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231B-A817-43DE-A543-E89242BCB0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020E-746E-4EFD-8CE7-A604DD9518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6D4-D8E1-4E9B-BE50-8B55C203DE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990-44FC-4ADD-A84E-FB4FBCC06A3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C49-A6E1-43D4-A5CA-9C7BB3D698C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A21E-6775-4E73-B4E9-C6692995A60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2255-A2A2-4E8E-B97F-A89CACA2A6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61A-FC66-40B9-AA7E-011D335C575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54B9-A770-46EE-85C7-C032B2EA0F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573A-DAC2-49E2-B744-0BDD0A6360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BDBD-2D3A-4A62-9513-98C1C2C3D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A5BC-483B-4028-AEB3-A77F9C494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10A4-6EEF-4548-AE7B-20A8AEA5E0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2B2E-7CE5-4351-A282-51A6D11208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0B3F-2EEE-4B6C-A60B-F509114BF2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BCBE-3EE7-4737-846C-EFD7333A9F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951F-447C-4924-BEC3-731F8707A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3539-86B4-4749-88B3-9DAADA594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DB7A-E8ED-4883-A34D-ED8BE1AD0C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D37F-0556-41CA-B557-5B5F824061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6C02-557E-4A8A-9456-D0C07AC895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62D7-C8B5-4963-A41E-AA59C4FAE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31A9-9A3C-4C42-889B-95C46A243AA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65070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Network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6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7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7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7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7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8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8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60948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nge the following IPv4 addresses from dotted-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notation to binary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e0000"/>
                </a:solidFill>
                <a:latin typeface="Book Antiqua"/>
              </a:rPr>
              <a:t>Example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1.56.45.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221.34.7.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e replace each decimal number with its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9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9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9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9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0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0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0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609480" y="982800"/>
            <a:ext cx="8077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ind the error, if any, in the following IPv4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1.56.045.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221.34.7.8.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75.45.301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100010.23.14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. There must be no leading zero (04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. There can be no more than four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. Each number needs to be less than or equal to 2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. A mixture of binary notation and dotted-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notation is not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1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1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1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2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2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2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3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33520" y="93024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 classful addressing, the address space is divided into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lasses: A, B, C, D,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e can find the class of an addres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inary notation: the first few bits defin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cimal-dotted notation: the first byte defin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609480" y="3905280"/>
            <a:ext cx="762012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3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4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4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4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4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5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5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609480" y="1523880"/>
            <a:ext cx="7772400" cy="4359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 classful addressing, the address space is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to five classes: A, B, C, D,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in Classes A, B and C are unias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 host needs to have at least one unicast address to be able to send packet (Sour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in Class D are for multicast address: used only for dest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in class E are 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6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6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7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7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5"/>
          <p:cNvSpPr/>
          <p:nvPr/>
        </p:nvSpPr>
        <p:spPr>
          <a:xfrm>
            <a:off x="609480" y="1066680"/>
            <a:ext cx="792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ind the class of each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. 00000001 00001011 00001011 1110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. 11000001 10000011 00011011 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. 14.23.12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. 252.5.15.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. The first bit is 0. This is a class A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. The first 2 bits are 1; the third bit is 0. This is a class C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. The first byte is 14; the class is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. The first byte is 252; the class is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8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9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0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62120" y="106668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Book Antiqua"/>
              </a:rPr>
              <a:t>NetId and Hos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 address is divided into Netid and Host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se part are of varying lengths, depending on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ose not apply to classes D and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781344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1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1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2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2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857160" y="3705120"/>
            <a:ext cx="7829640" cy="2619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"/>
          <p:cNvPicPr/>
          <p:nvPr/>
        </p:nvPicPr>
        <p:blipFill>
          <a:blip r:embed="rId2"/>
          <a:srcRect l="22780" t="32890" r="25000" b="37778"/>
          <a:stretch/>
        </p:blipFill>
        <p:spPr>
          <a:xfrm>
            <a:off x="914400" y="114300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3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3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4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4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6"/>
          <p:cNvSpPr/>
          <p:nvPr/>
        </p:nvSpPr>
        <p:spPr>
          <a:xfrm>
            <a:off x="304920" y="1049400"/>
            <a:ext cx="8839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A address: designed for large organizations with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large number of attached hosts or routers. (most of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resses were wasted and not us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B address: designed for midsize organizations with 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of thousands of attached hosts or routers( too large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organizat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C address: designed for small organizations with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small number of attached hosts or routers (too small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many organizat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D address: designed for multicasting. (waste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res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E address: reserved for future use (waste of addres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6"/>
          <p:cNvSpPr/>
          <p:nvPr/>
        </p:nvSpPr>
        <p:spPr>
          <a:xfrm>
            <a:off x="272880" y="15271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problem is that each class is divided into 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blocks with each block having a fixed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585720" y="305928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Times New Roman,Bold"/>
              </a:rPr>
              <a:t>In classful addressing, a large part of the available addresses were wa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7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8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8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8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9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9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9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Rectangle 24"/>
          <p:cNvSpPr/>
          <p:nvPr/>
        </p:nvSpPr>
        <p:spPr>
          <a:xfrm>
            <a:off x="1464120" y="15228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Classes and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6"/>
          <p:cNvSpPr/>
          <p:nvPr/>
        </p:nvSpPr>
        <p:spPr>
          <a:xfrm>
            <a:off x="136440" y="107784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sk (default ma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us to find the NetId and Hos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: 32-bit made of 1s followed by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e not apply to classes D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DR(Classless Interdomain Routing): used to show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in the form /n (n=8,16,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47760" y="3962520"/>
          <a:ext cx="8294760" cy="1482480"/>
        </p:xfrm>
        <a:graphic>
          <a:graphicData uri="http://schemas.openxmlformats.org/drawingml/2006/table">
            <a:tbl>
              <a:tblPr/>
              <a:tblGrid>
                <a:gridCol w="880920"/>
                <a:gridCol w="4489560"/>
                <a:gridCol w="2025720"/>
                <a:gridCol w="898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B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Dotted-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I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00000000 00000000 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55.0.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11111111 00000000 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55.255.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55.255.25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9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Logical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0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0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0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1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1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1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2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Rectangle 24"/>
          <p:cNvSpPr/>
          <p:nvPr/>
        </p:nvSpPr>
        <p:spPr>
          <a:xfrm>
            <a:off x="1797840" y="1144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Networ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272880" y="152712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</a:rPr>
              <a:t>The network addres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an address that defin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twork itself to the reset of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Times New Roman"/>
              </a:rPr>
              <a:t>The network address has the following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All hostid bytes are 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It is the first address in th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It cannot be assigned to a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Given the network address, we can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lass of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Rectangle 24"/>
          <p:cNvSpPr/>
          <p:nvPr/>
        </p:nvSpPr>
        <p:spPr>
          <a:xfrm>
            <a:off x="1797840" y="1144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Networ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6"/>
          <p:cNvSpPr/>
          <p:nvPr/>
        </p:nvSpPr>
        <p:spPr>
          <a:xfrm>
            <a:off x="136440" y="1219320"/>
            <a:ext cx="8839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Find the network address for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e0000"/>
                </a:solidFill>
                <a:latin typeface="Book Antiqua"/>
              </a:rPr>
              <a:t>a. 132.6.17.8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e0000"/>
                </a:solidFill>
                <a:latin typeface="Book Antiqua"/>
              </a:rPr>
              <a:t>b. 23.56.7.9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class is B. The first 2 bytes defines the Netid. We can find the network address by replacing the hostid bytes (17.85) with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Therefore, the network address is 132.6.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lass is A. Only the first byte defines the Netid. We can find the network address by replacing the hostid bytes (56.7.91) with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Therefore, the network address is 23.0.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4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5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5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5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6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6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6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1042920"/>
            <a:ext cx="9210600" cy="47721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24"/>
          <p:cNvSpPr/>
          <p:nvPr/>
        </p:nvSpPr>
        <p:spPr>
          <a:xfrm>
            <a:off x="1797840" y="1144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Networ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7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7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7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8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8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8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8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24"/>
          <p:cNvSpPr/>
          <p:nvPr/>
        </p:nvSpPr>
        <p:spPr>
          <a:xfrm>
            <a:off x="2228400" y="20304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 : 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585720" y="1905120"/>
            <a:ext cx="777240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 addresses are designed with two levels of hierarch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9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9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0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0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0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0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1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Rectangle 24"/>
          <p:cNvSpPr/>
          <p:nvPr/>
        </p:nvSpPr>
        <p:spPr>
          <a:xfrm>
            <a:off x="1958040" y="20628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work with two levels of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131760" y="2286000"/>
            <a:ext cx="88488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1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2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2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2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2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3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3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Rectangle 24"/>
          <p:cNvSpPr/>
          <p:nvPr/>
        </p:nvSpPr>
        <p:spPr>
          <a:xfrm>
            <a:off x="2979000" y="2062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"/>
          <p:cNvSpPr/>
          <p:nvPr/>
        </p:nvSpPr>
        <p:spPr>
          <a:xfrm>
            <a:off x="585720" y="1049400"/>
            <a:ext cx="8178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organization was granted a large block in classes A 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Wingdings"/>
                <a:ea typeface="Wingdings"/>
              </a:rPr>
              <a:t>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ould divide the addresses into several contiguous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ssign each group to smaller networks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( sub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,Bold"/>
              </a:rPr>
              <a:t>It increases the number of 1s in the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1s in a subnet mask is more than the number of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orresponding m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a subnet mask , we change some of the leftmost 0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to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Times New Roman"/>
              </a:rPr>
              <a:t>The number of subnets is determine by the number of extra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extra 1 is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subnets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2</a:t>
            </a:r>
            <a:r>
              <a:rPr b="1" lang="en-US" sz="1200" spc="-1" strike="noStrike" baseline="46000">
                <a:solidFill>
                  <a:srgbClr val="ff0000"/>
                </a:solidFill>
                <a:latin typeface="Times New Roman,Bold"/>
              </a:rPr>
              <a:t> </a:t>
            </a:r>
            <a:r>
              <a:rPr b="1" lang="en-US" sz="2000" spc="-1" strike="noStrike" baseline="46000">
                <a:solidFill>
                  <a:srgbClr val="ff0000"/>
                </a:solidFill>
                <a:latin typeface="Times New Roman,Bold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,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subnets is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extra 1s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log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,Bold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1031400" y="6192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Subn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4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4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4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5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5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5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5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Rectangle 24"/>
          <p:cNvSpPr/>
          <p:nvPr/>
        </p:nvSpPr>
        <p:spPr>
          <a:xfrm>
            <a:off x="1958400" y="20628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Subnet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860400" y="1295280"/>
            <a:ext cx="74455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B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k : 255.255.0.0 or 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4 subnets : (log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= 2;   need 2-extra bit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net mask: 255.255. 192.0 or 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8 subnets: (log </a:t>
            </a:r>
            <a:r>
              <a:rPr b="1" lang="en-US" sz="2400" spc="-1" strike="noStrike" baseline="-3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 = 3; need 3-extra bit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net mask : 255.255.224.0 or /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508040" y="2209680"/>
          <a:ext cx="6096240" cy="371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77840" y="3505320"/>
          <a:ext cx="6553440" cy="371520"/>
        </p:xfrm>
        <a:graphic>
          <a:graphicData uri="http://schemas.openxmlformats.org/drawingml/2006/table">
            <a:tbl>
              <a:tblPr/>
              <a:tblGrid>
                <a:gridCol w="2787840"/>
                <a:gridCol w="849240"/>
                <a:gridCol w="291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 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022400" y="5265720"/>
          <a:ext cx="6553080" cy="371520"/>
        </p:xfrm>
        <a:graphic>
          <a:graphicData uri="http://schemas.openxmlformats.org/drawingml/2006/table">
            <a:tbl>
              <a:tblPr/>
              <a:tblGrid>
                <a:gridCol w="2787480"/>
                <a:gridCol w="849600"/>
                <a:gridCol w="291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 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6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7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7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7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7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8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8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Rectangle 24"/>
          <p:cNvSpPr/>
          <p:nvPr/>
        </p:nvSpPr>
        <p:spPr>
          <a:xfrm>
            <a:off x="282636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355680" y="932040"/>
            <a:ext cx="855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A router receives a packet with destination address 190.240.33.91. Show how it finds the network and the subnetwork address toroute the packet. Assume the subnet mask is /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6bcf"/>
                </a:solidFill>
                <a:latin typeface="Times New Roman"/>
              </a:rPr>
              <a:t>The router follows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router looks at the first byte of the address to fi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. It is class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mask for class B is (/16)The router ANDs this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e address to get the network address :190.240.0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The router applies the subnet mask (/19) to the addr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190.240.33.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190.240.001  00001.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bnet address is 190.240.32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he router looks in its routing table to find how to ro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ket to this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Straight Connector 4" descr=""/>
          <p:cNvPicPr/>
          <p:nvPr/>
        </p:nvPicPr>
        <p:blipFill>
          <a:blip r:embed="rId1"/>
          <a:stretch/>
        </p:blipFill>
        <p:spPr>
          <a:xfrm>
            <a:off x="1828800" y="5218200"/>
            <a:ext cx="244440" cy="6094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5"/>
          <p:cNvSpPr/>
          <p:nvPr/>
        </p:nvSpPr>
        <p:spPr>
          <a:xfrm>
            <a:off x="1160640" y="6094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Subn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Rectangle 24"/>
          <p:cNvSpPr/>
          <p:nvPr/>
        </p:nvSpPr>
        <p:spPr>
          <a:xfrm>
            <a:off x="1999800" y="206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44520" y="1343160"/>
            <a:ext cx="840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ge demand for midsize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hough class A and B addresses are almost depleted, class C addresses are still available( size of block= 256 address did not satisfy the nee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upernetting, an organization can combine several class C blocks to create a larger range of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networks are combined to create a supernetwork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net).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.g. Organization needs 1000 address can be granted 4 contiguous class C blocks to create one super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s the number of 1s in the mask.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.g. The mask changes from /24 to /22 for 4 class C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801000" y="981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supern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1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1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2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2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2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3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3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Rectangle 24"/>
          <p:cNvSpPr/>
          <p:nvPr/>
        </p:nvSpPr>
        <p:spPr>
          <a:xfrm>
            <a:off x="1955880" y="20628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super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"/>
          <p:cNvSpPr/>
          <p:nvPr/>
        </p:nvSpPr>
        <p:spPr>
          <a:xfrm>
            <a:off x="490680" y="1351080"/>
            <a:ext cx="80438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Address De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depletion of the available address because of the fast growth of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out of classes A and B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C block is too small for most mid size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22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5"/>
          <p:cNvSpPr/>
          <p:nvPr/>
        </p:nvSpPr>
        <p:spPr>
          <a:xfrm>
            <a:off x="2407680" y="3049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egoe UI Light"/>
              </a:rPr>
              <a:t>IPv4 ADDR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3520" y="13716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An IPv4 address is a 32-bit address that uniqu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and universally defines the connection of a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(for example, a computer or a router) to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egoe UI Light"/>
              </a:rPr>
              <a:t>Topics discussed in this se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Classful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3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4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4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4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5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5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5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Rectangle 24"/>
          <p:cNvSpPr/>
          <p:nvPr/>
        </p:nvSpPr>
        <p:spPr>
          <a:xfrm>
            <a:off x="1954800" y="206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address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380880" y="146052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vercome address depl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classes, but the address are still granted in bl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ize of the block( the number of addresses) varies based on the nature and size of the e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sehold: 2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ge organization: thousands of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P: thousands or hundreds of thousands based on the number of customers it may se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6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6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6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7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7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7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8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Rectangle 24"/>
          <p:cNvSpPr/>
          <p:nvPr/>
        </p:nvSpPr>
        <p:spPr>
          <a:xfrm>
            <a:off x="1954800" y="206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address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28"/>
          <p:cNvSpPr/>
          <p:nvPr/>
        </p:nvSpPr>
        <p:spPr>
          <a:xfrm>
            <a:off x="380880" y="1460520"/>
            <a:ext cx="81536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</a:rPr>
              <a:t>The Internet Authorities impose three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address in a block must be contiguous, one after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number of addresses in a block must be a power of 2 ( 1,2,4,8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first address must be evenly divisibl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number of addresse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8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8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9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9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9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0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0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Rectangle 24"/>
          <p:cNvSpPr/>
          <p:nvPr/>
        </p:nvSpPr>
        <p:spPr>
          <a:xfrm>
            <a:off x="1173240" y="114300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mpl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8"/>
          <p:cNvSpPr/>
          <p:nvPr/>
        </p:nvSpPr>
        <p:spPr>
          <a:xfrm>
            <a:off x="380880" y="18241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igure in the next slide shows a bloc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dresses, in both binary and dotted-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ation, granted to a small business that needs 16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0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1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1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1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2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2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2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763120" cy="24922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25"/>
          <p:cNvSpPr/>
          <p:nvPr/>
        </p:nvSpPr>
        <p:spPr>
          <a:xfrm>
            <a:off x="152280" y="3722760"/>
            <a:ext cx="8991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We can see that the restrictions are applied to this block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resses are contig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addresses is a power of 2 (16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address is divisible by 16. The first addr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verted to a decimal number( use base 256), is 3,440,387,360, which when divided by 16 results in 215,024,2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3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3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3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4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4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4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4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24"/>
          <p:cNvSpPr/>
          <p:nvPr/>
        </p:nvSpPr>
        <p:spPr>
          <a:xfrm>
            <a:off x="609480" y="892080"/>
            <a:ext cx="807732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Mask: 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-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take any value from 0 to 32, for ex /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 leftmost bits are 1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-n rightmost bits are 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IPv4 addressing, a block of addresses can be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x.y.z.t 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hich x.y.z.t defines one of the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 /n defines the m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: 172.31.16.42/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24"/>
          <p:cNvSpPr/>
          <p:nvPr/>
        </p:nvSpPr>
        <p:spPr>
          <a:xfrm>
            <a:off x="1952640" y="20628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M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Rectangle 24"/>
          <p:cNvSpPr/>
          <p:nvPr/>
        </p:nvSpPr>
        <p:spPr>
          <a:xfrm>
            <a:off x="457200" y="1484280"/>
            <a:ext cx="807732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ress and the /n notation defin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4"/>
          <p:cNvSpPr/>
          <p:nvPr/>
        </p:nvSpPr>
        <p:spPr>
          <a:xfrm>
            <a:off x="1952280" y="7632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less Addressing Ma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7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8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8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8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8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9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9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4"/>
          <p:cNvSpPr/>
          <p:nvPr/>
        </p:nvSpPr>
        <p:spPr>
          <a:xfrm>
            <a:off x="685800" y="2286000"/>
            <a:ext cx="7924680" cy="173988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address in the block (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ress) can be found by sett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most  32 − n bits to 0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Straight Connector 2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0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0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0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1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1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1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2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4"/>
          <p:cNvSpPr/>
          <p:nvPr/>
        </p:nvSpPr>
        <p:spPr>
          <a:xfrm>
            <a:off x="685800" y="116676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A block of addresses is granted to a small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We know that one of the addresses is </a:t>
            </a:r>
            <a:r>
              <a:rPr b="1" lang="en-US" sz="2400" spc="-1" strike="noStrike" u="sng">
                <a:solidFill>
                  <a:srgbClr val="7e0000"/>
                </a:solidFill>
                <a:uFillTx/>
                <a:latin typeface="Times New Roman"/>
              </a:rPr>
              <a:t>205.16.37.39/28</a:t>
            </a: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What is the first address in the b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inary representation of the given addres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11001101 00010000 00100101 0010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205.16.37. 0010 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set 32−28 rightmost bits to 0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205.16.37. 0010 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205.16.37.3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ctually the block shown in examp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"/>
          <p:cNvSpPr/>
          <p:nvPr/>
        </p:nvSpPr>
        <p:spPr>
          <a:xfrm>
            <a:off x="685800" y="2286000"/>
            <a:ext cx="7924680" cy="283716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address in a block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rmally not assigned to any devic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used as the network addres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resents th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the rest of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27"/>
          <p:cNvSpPr/>
          <p:nvPr/>
        </p:nvSpPr>
        <p:spPr>
          <a:xfrm>
            <a:off x="685800" y="51055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5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5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5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5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6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6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6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4"/>
          <p:cNvSpPr/>
          <p:nvPr/>
        </p:nvSpPr>
        <p:spPr>
          <a:xfrm>
            <a:off x="685800" y="2286000"/>
            <a:ext cx="7924680" cy="173988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The last address in the block can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found by setting the rightmost 32 − n bits to 1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traight Connector 2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3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3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4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4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25"/>
          <p:cNvSpPr/>
          <p:nvPr/>
        </p:nvSpPr>
        <p:spPr>
          <a:xfrm>
            <a:off x="457200" y="2057400"/>
            <a:ext cx="7620120" cy="1922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n IPv4 address is 32 bits 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2981520" y="3049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7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7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8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8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8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9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9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4"/>
          <p:cNvSpPr/>
          <p:nvPr/>
        </p:nvSpPr>
        <p:spPr>
          <a:xfrm>
            <a:off x="685800" y="116676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nd the last address for the block in Example 19.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address i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205.16.37. 0010 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 we set 32 − 28 = 4 rightmost bits to 1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205.16.37. 0010</a:t>
            </a: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205.16.37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s is actually the block shown in Examp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9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0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0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0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1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1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1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4"/>
          <p:cNvSpPr/>
          <p:nvPr/>
        </p:nvSpPr>
        <p:spPr>
          <a:xfrm>
            <a:off x="685800" y="2286000"/>
            <a:ext cx="7924680" cy="173988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umber of addresses in the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be found by using the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 baseline="36000">
                <a:solidFill>
                  <a:srgbClr val="000000"/>
                </a:solidFill>
                <a:latin typeface="Times New Roman"/>
              </a:rPr>
              <a:t> 32−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traight Connector 2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2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2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2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3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3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3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4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533520" y="14479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number of addresses in Example 19.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alue of n is 28, which means that number of addresses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2−28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4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4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5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5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5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6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6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23"/>
          <p:cNvSpPr/>
          <p:nvPr/>
        </p:nvSpPr>
        <p:spPr>
          <a:xfrm>
            <a:off x="152280" y="1066680"/>
            <a:ext cx="899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way to find the first address, the last addr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number of addresses is to represent the mask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32-bit binary (or 8-digit hexadecimal) number. Th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ly useful when we are writing a program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se pieces of information. In Example 19.5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8  can be represented 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1111111 11111111 11111111 1111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wenty-eight 1s and four 0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a. The fir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b. The l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c. The number of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6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7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7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7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8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8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8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3"/>
          <p:cNvSpPr/>
          <p:nvPr/>
        </p:nvSpPr>
        <p:spPr>
          <a:xfrm>
            <a:off x="152280" y="106668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first address can be found by ANDing th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 with the mask. ANDing here is done bi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. The result of ANDing 2 bits is 1 if both bits are 1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 is 0 otherw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rcRect l="22780" t="60669" r="22780" b="24222"/>
          <a:stretch/>
        </p:blipFill>
        <p:spPr>
          <a:xfrm>
            <a:off x="838080" y="3886200"/>
            <a:ext cx="74678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9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9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9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0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0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0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1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Rectangle 23"/>
          <p:cNvSpPr/>
          <p:nvPr/>
        </p:nvSpPr>
        <p:spPr>
          <a:xfrm>
            <a:off x="152280" y="106668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ast address can be found by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O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 with the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comp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sk. 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e is done bit by bit. The result of ORing 2 bits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both bits are 0s; the result is 1 otherwise. The complement of a number is found by changing eac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0 and each 0 t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Picture 2" descr=""/>
          <p:cNvPicPr/>
          <p:nvPr/>
        </p:nvPicPr>
        <p:blipFill>
          <a:blip r:embed="rId1"/>
          <a:srcRect l="20556" t="56893" r="18890" b="26225"/>
          <a:stretch/>
        </p:blipFill>
        <p:spPr>
          <a:xfrm>
            <a:off x="380880" y="4267080"/>
            <a:ext cx="8305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1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1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2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2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2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3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3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Rectangle 23"/>
          <p:cNvSpPr/>
          <p:nvPr/>
        </p:nvSpPr>
        <p:spPr>
          <a:xfrm>
            <a:off x="152280" y="17524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 of addresses can be found by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complement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sk, interpreting it as a decimal number, and adding 1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Picture 2" descr=""/>
          <p:cNvPicPr/>
          <p:nvPr/>
        </p:nvPicPr>
        <p:blipFill>
          <a:blip r:embed="rId1"/>
          <a:srcRect l="20556" t="61336" r="20000" b="27111"/>
          <a:stretch/>
        </p:blipFill>
        <p:spPr>
          <a:xfrm>
            <a:off x="380880" y="3809880"/>
            <a:ext cx="81536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3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4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4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4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5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5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5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9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4099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3" descr=""/>
          <p:cNvPicPr/>
          <p:nvPr/>
        </p:nvPicPr>
        <p:blipFill>
          <a:blip r:embed="rId2"/>
          <a:stretch/>
        </p:blipFill>
        <p:spPr>
          <a:xfrm>
            <a:off x="304920" y="4425840"/>
            <a:ext cx="8553240" cy="243216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26"/>
          <p:cNvSpPr/>
          <p:nvPr/>
        </p:nvSpPr>
        <p:spPr>
          <a:xfrm>
            <a:off x="11430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work configuration for the block 205.16.37.32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6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6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6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7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7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7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8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Rectangle 24"/>
          <p:cNvSpPr/>
          <p:nvPr/>
        </p:nvSpPr>
        <p:spPr>
          <a:xfrm>
            <a:off x="1143000" y="228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Two levels of hierarchy: No 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4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201080" cy="202896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26"/>
          <p:cNvSpPr/>
          <p:nvPr/>
        </p:nvSpPr>
        <p:spPr>
          <a:xfrm>
            <a:off x="609480" y="4648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The prefix is common to all addresses in the network; the suffix changes from one devic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8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9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9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9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9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0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0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24"/>
          <p:cNvSpPr/>
          <p:nvPr/>
        </p:nvSpPr>
        <p:spPr>
          <a:xfrm>
            <a:off x="685800" y="1447920"/>
            <a:ext cx="7924680" cy="393444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address in the block can be considered as a </a:t>
            </a:r>
            <a:r>
              <a:rPr b="1" lang="en-US" sz="3600" spc="-1" strike="noStrike">
                <a:solidFill>
                  <a:srgbClr val="7e0000"/>
                </a:solidFill>
                <a:latin typeface="Times New Roman"/>
              </a:rPr>
              <a:t>two-lev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ierarchical structu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eftmost n bits (</a:t>
            </a:r>
            <a:r>
              <a:rPr b="1" lang="en-US" sz="3600" spc="-1" strike="noStrike">
                <a:solidFill>
                  <a:srgbClr val="7e0000"/>
                </a:solidFill>
                <a:latin typeface="Times New Roman"/>
              </a:rPr>
              <a:t>prefi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def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etwor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ightmost 32 − n bits def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hos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7e0000"/>
                </a:solidFill>
                <a:latin typeface="Times New Roman"/>
              </a:rPr>
              <a:t>suffi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traight Connector 26"/>
          <p:cNvSpPr/>
          <p:nvPr/>
        </p:nvSpPr>
        <p:spPr>
          <a:xfrm>
            <a:off x="685800" y="13716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27"/>
          <p:cNvSpPr/>
          <p:nvPr/>
        </p:nvSpPr>
        <p:spPr>
          <a:xfrm>
            <a:off x="685800" y="5410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5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5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5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5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6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6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6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23"/>
          <p:cNvSpPr/>
          <p:nvPr/>
        </p:nvSpPr>
        <p:spPr>
          <a:xfrm>
            <a:off x="838080" y="116676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wo devices in the Internet can never hav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n address may be assigned to a device for a time period and then taken away and assigned to another de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f a device operating at the network layer (e.g. router) has m connections to the Internet, it needs to have m IP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Book Antiqua"/>
              </a:rPr>
              <a:t>The IPv4 addresses are unique and univer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1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1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1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2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2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2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3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Rectangle 23"/>
          <p:cNvSpPr/>
          <p:nvPr/>
        </p:nvSpPr>
        <p:spPr>
          <a:xfrm>
            <a:off x="152280" y="17524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ganization has its own mask :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network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subnet must also have its own mask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: subnet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067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3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3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4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4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4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5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5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Rectangle 23"/>
          <p:cNvSpPr/>
          <p:nvPr/>
        </p:nvSpPr>
        <p:spPr>
          <a:xfrm>
            <a:off x="152280" y="1066680"/>
            <a:ext cx="8991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rganization is granted a block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2.40.0/26, which contains 64: (2(32-26)=24 =64)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ganization has three offices and needs to divid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 into three subblocks (subnets) of 32, 16 and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. Design the subblocks and find the new m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ubne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Mask n1: 2 </a:t>
            </a:r>
            <a:r>
              <a:rPr b="1" lang="pt-BR" sz="2800" spc="-1" strike="noStrike" baseline="30000">
                <a:solidFill>
                  <a:srgbClr val="002060"/>
                </a:solidFill>
                <a:latin typeface="Times New Roman"/>
              </a:rPr>
              <a:t>32-n1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 = 32; n1=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ubne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Mask n2: 2 </a:t>
            </a:r>
            <a:r>
              <a:rPr b="1" lang="pt-BR" sz="2800" spc="-1" strike="noStrike" baseline="30000">
                <a:solidFill>
                  <a:srgbClr val="002060"/>
                </a:solidFill>
                <a:latin typeface="Times New Roman"/>
              </a:rPr>
              <a:t>32-n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 =16; n2=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ubne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Mask n3: 2 </a:t>
            </a:r>
            <a:r>
              <a:rPr b="1" lang="pt-BR" sz="2800" spc="-1" strike="noStrike" baseline="30000">
                <a:solidFill>
                  <a:srgbClr val="002060"/>
                </a:solidFill>
                <a:latin typeface="Times New Roman"/>
              </a:rPr>
              <a:t>32-n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= 16; n3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Box 24"/>
          <p:cNvSpPr/>
          <p:nvPr/>
        </p:nvSpPr>
        <p:spPr>
          <a:xfrm>
            <a:off x="990720" y="457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5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6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6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6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7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7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7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Rectangle 24"/>
          <p:cNvSpPr/>
          <p:nvPr/>
        </p:nvSpPr>
        <p:spPr>
          <a:xfrm>
            <a:off x="1143000" y="223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 and addresses in a subnett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Picture 2" descr=""/>
          <p:cNvPicPr/>
          <p:nvPr/>
        </p:nvPicPr>
        <p:blipFill>
          <a:blip r:embed="rId1"/>
          <a:stretch/>
        </p:blipFill>
        <p:spPr>
          <a:xfrm>
            <a:off x="228600" y="1123920"/>
            <a:ext cx="861048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8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8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8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9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9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9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9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Rectangle 23"/>
          <p:cNvSpPr/>
          <p:nvPr/>
        </p:nvSpPr>
        <p:spPr>
          <a:xfrm>
            <a:off x="76320" y="1390680"/>
            <a:ext cx="899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In subnet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address 17.12.14.29/27 can give us the subnet address if we use mask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/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Host : 17. 12 .14 .0001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ask: /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: 17.12.14.00000000  17.12.1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In subnet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address 17.12.14.45/28 can give us the subnet address if we use mask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/2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: 17. 12. 14. 0010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sk: /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: 17.12.14. 00100000  17.12.14.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30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30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30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1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1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1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2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Rectangle 23"/>
          <p:cNvSpPr/>
          <p:nvPr/>
        </p:nvSpPr>
        <p:spPr>
          <a:xfrm>
            <a:off x="76320" y="1639800"/>
            <a:ext cx="899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In subnet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address 17.12.14.50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/2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give us the subnet address if we use mask/2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: 17. 12. 14. 0011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sk: /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: 17. 12. 14. 00110000  17.12.14.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3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3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3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281952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89154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7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7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7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8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8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8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9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609480" y="1027080"/>
            <a:ext cx="792504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4 has an address space: is the total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used by the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f a protocol uses N bits to define an address, the address space is 2 </a:t>
            </a:r>
            <a:r>
              <a:rPr b="0" i="1" lang="en-US" sz="2800" spc="-1" strike="noStrike" baseline="52000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4 uses 32-bit addre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 address space=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 Antiqua"/>
              </a:rPr>
              <a:t>32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=4,294,967,296 ( more tha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ill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s means, if there were no restrictions, more tha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illion devices could be connected to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6 uses 128 bit-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9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9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0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0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0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1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1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533520" y="9828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re are two prevalent notations to show an IPv4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. Binary no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 is displayed as 32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ach octet is often referred to as by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4 address referred to as 32-bit address or 4-byt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01110101 10010101 00011101 0000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1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2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2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2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3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3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3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33520" y="9828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otted-decimal no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ore compact and easier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ritten in decimal form with a decimal point( d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eparating the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: 117.149.29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ach decimal value range from 0 to 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e0000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otted-decimal notation and binary notation for an IPv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57200" y="4886280"/>
            <a:ext cx="809640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4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4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5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5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5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5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6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457200" y="13510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nge the following IPv4 addresses from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notation to dotted-decimal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e0000"/>
                </a:solidFill>
                <a:latin typeface="Book Antiqua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0000001    00001011   00001011   1110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000001    10000011   00011011    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e replace each group of 8 bits with its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cimal number (see Appendix B) and add dot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epa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Lhajr</cp:lastModifiedBy>
  <dcterms:modified xsi:type="dcterms:W3CDTF">2017-11-27T08:03:42Z</dcterms:modified>
  <cp:revision>95</cp:revision>
  <dc:subject/>
  <dc:title>PowerPoint Presentation</dc:title>
</cp:coreProperties>
</file>