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866F-6B4B-4AFA-A7D8-8570D6372D0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6624-F21D-4D6A-BD0F-BEDC8946D65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FA07-D3B7-427D-A080-188478FF4CA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00D2-CF8A-4577-8B5E-CA59D6650B8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AF08-DB5C-45DD-A920-7529B6D18E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6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78D-1CDE-4C38-9735-F2CC7FB2FFA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22FA-F5B7-43AC-9709-EC7E2E951E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32F1-ABBA-48F0-B86E-A4860E7C381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ADB8-84E4-46D0-9FC4-F5E2A52D40B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F3C4-FB24-46F2-8BAD-9F5B7A04FEF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F828-81BA-47D6-B5AC-FD65D7E4BE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545A-3B2B-460E-8467-85FC30E87F4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25A6-A47D-494B-B743-3692AAE2751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3EF3-1B82-42AE-B2E8-BE16F2833A3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1A42-DD1B-4F7D-B9F4-3941DE80A4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1927-53A5-4B65-91AA-2B7D94F9C60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AFD7-DDB4-42B4-8DAB-9C8D6F5EEE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05EF-F1C1-4812-BB4F-906EC89F3F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134F-8DF3-4E23-AE7A-3634139AA45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E00-55BB-4FD0-9024-8E683EAA12E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06EC-8EA1-40D1-B67C-E9D4860AA08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2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AD85-1CC7-473B-A80C-869CC995F6F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B242-F1E4-4623-8DD2-854776971D5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782E-1E89-456C-915E-8106EC4116A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F8E7-3E3C-4BDC-B5AC-EB7CD264D91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2FC9-2AC2-4E3A-BAD2-1DAFCDCE7E3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4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9259-B71E-4124-92C5-A0620B5A6B4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A2CE-ED81-47A5-AF49-2C21E609EC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la Haj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DFA4-30B3-401F-9346-2EFFF05E43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3149-2AFA-415E-A411-129219C674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3513-3A3D-4B03-91F3-52567FD470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C42D-9C13-442F-B2FD-1962325FF5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93DBF-712B-47FB-96F2-05918333CC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7654-5E64-48C7-8244-EC7A0E4C3C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ECC8-3F1C-481C-BE7B-D343813BF7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8183-996E-404B-964B-199AF6440B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B607-736F-4BE1-8D1F-C057C6E11C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11A3-9C2D-4465-804F-1FFA17E43A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1862-5610-43A9-9914-F891AAF55F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8EA4-24E8-4B24-B737-EECFFE37CA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37" name="Group 2"/>
            <p:cNvGrpSpPr/>
            <p:nvPr/>
          </p:nvGrpSpPr>
          <p:grpSpPr>
            <a:xfrm>
              <a:off x="289080" y="2546280"/>
              <a:ext cx="712440" cy="474480"/>
              <a:chOff x="289080" y="2546280"/>
              <a:chExt cx="712440" cy="474480"/>
            </a:xfrm>
          </p:grpSpPr>
          <p:sp>
            <p:nvSpPr>
              <p:cNvPr id="38" name="Rectangle 3"/>
              <p:cNvSpPr/>
              <p:nvPr/>
            </p:nvSpPr>
            <p:spPr>
              <a:xfrm>
                <a:off x="28908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Rectangle 4"/>
              <p:cNvSpPr/>
              <p:nvPr/>
            </p:nvSpPr>
            <p:spPr>
              <a:xfrm>
                <a:off x="672480" y="2546280"/>
                <a:ext cx="32904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Group 5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1" name="Rectangle 6"/>
              <p:cNvSpPr/>
              <p:nvPr/>
            </p:nvSpPr>
            <p:spPr>
              <a:xfrm>
                <a:off x="414360" y="2968560"/>
                <a:ext cx="4204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7"/>
              <p:cNvSpPr/>
              <p:nvPr/>
            </p:nvSpPr>
            <p:spPr>
              <a:xfrm>
                <a:off x="78228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Rectangle 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1000"/>
          </a:bodyPr>
          <a:p>
            <a:pPr marL="28080" indent="-2808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64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64116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6588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D52D-62B8-4D8C-94A0-CD20CAEB1890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655308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4572000" y="6553080"/>
            <a:ext cx="457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Helvetic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0" y="65070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62120" y="13716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Part IV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Network laye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6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7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7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7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7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8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8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5"/>
          <p:cNvSpPr/>
          <p:nvPr/>
        </p:nvSpPr>
        <p:spPr>
          <a:xfrm>
            <a:off x="609480" y="129528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hange the following IPv4 addresses from dotted-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notation to binary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e0000"/>
                </a:solidFill>
                <a:latin typeface="Book Antiqua"/>
              </a:rPr>
              <a:t>Example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11.56.45.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221.34.7.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e replace each decimal number with its 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9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9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9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9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0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0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0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6"/>
          <p:cNvSpPr/>
          <p:nvPr/>
        </p:nvSpPr>
        <p:spPr>
          <a:xfrm>
            <a:off x="609480" y="982800"/>
            <a:ext cx="80773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Find the error, if any, in the following IPv4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11.56.045.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221.34.7.8.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75.45.301.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1100010.23.14.6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. There must be no leading zero (04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. There can be no more than four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. Each number needs to be less than or equal to 2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. A mixture of binary notation and dotted-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notation is not allow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1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1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1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2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2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2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3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533520" y="930240"/>
            <a:ext cx="7924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n classful addressing, the address space is divided into 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lasses: A, B, C, D, and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e can find the class of an addres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inary notation: the first few bits defin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ecimal-dotted notation: the first byte define th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609480" y="3905280"/>
            <a:ext cx="762012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3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4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4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4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4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5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5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6"/>
          <p:cNvSpPr/>
          <p:nvPr/>
        </p:nvSpPr>
        <p:spPr>
          <a:xfrm>
            <a:off x="609480" y="1523880"/>
            <a:ext cx="7772400" cy="4359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n classful addressing, the address space is di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nto five classes: A, B, C, D, and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es in Classes A, B and C are uniast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 host needs to have at least one unicast address to be able to send packet (Sourc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es in Class D are for multicast address: used only for dest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es in class E are 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6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6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6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6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7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7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7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5"/>
          <p:cNvSpPr/>
          <p:nvPr/>
        </p:nvSpPr>
        <p:spPr>
          <a:xfrm>
            <a:off x="609480" y="1066680"/>
            <a:ext cx="7925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Find the class of each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. 00000001 00001011 00001011 1110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. 11000001 10000011 00011011 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. 14.23.120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. 252.5.15.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ampl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. The first bit is 0. This is a class A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. The first 2 bits are 1; the third bit is 0. This is a class C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. The first byte is 14; the class is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. The first byte is 252; the class is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8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8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8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9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9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9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0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762120" y="106668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Book Antiqua"/>
              </a:rPr>
              <a:t>NetId and Hos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e address is divided into Netid and Host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ese part are of varying lengths, depending on the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Dose not apply to classes D and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781344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0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1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1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1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1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2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2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857160" y="3705120"/>
            <a:ext cx="7829640" cy="2619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"/>
          <p:cNvPicPr/>
          <p:nvPr/>
        </p:nvPicPr>
        <p:blipFill>
          <a:blip r:embed="rId2"/>
          <a:srcRect l="22780" t="32890" r="25000" b="37778"/>
          <a:stretch/>
        </p:blipFill>
        <p:spPr>
          <a:xfrm>
            <a:off x="914400" y="1143000"/>
            <a:ext cx="7162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3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3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3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4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4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4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4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26"/>
          <p:cNvSpPr/>
          <p:nvPr/>
        </p:nvSpPr>
        <p:spPr>
          <a:xfrm>
            <a:off x="304920" y="1049400"/>
            <a:ext cx="8839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A address: designed for large organizations with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large number of attached hosts or routers. (most of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addresses were wasted and not use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B address: designed for midsize organizations with t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of thousands of attached hosts or routers( too large for man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organizatio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C address: designed for small organizations with 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small number of attached hosts or routers (too small f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many organization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D address: designed for multicasting. (waste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addres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Book Antiqua"/>
              </a:rPr>
              <a:t>Class E address: reserved for future use (waste of addresse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5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5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6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6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6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6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7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26"/>
          <p:cNvSpPr/>
          <p:nvPr/>
        </p:nvSpPr>
        <p:spPr>
          <a:xfrm>
            <a:off x="272880" y="15271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problem is that each class is divided into f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of blocks with each block having a fixed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"/>
          <p:cNvSpPr/>
          <p:nvPr/>
        </p:nvSpPr>
        <p:spPr>
          <a:xfrm>
            <a:off x="585720" y="3059280"/>
            <a:ext cx="75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Times New Roman,Bold"/>
              </a:rPr>
              <a:t>In classful addressing, a large part of the available addresses were wa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7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8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8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8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9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9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9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Rectangle 24"/>
          <p:cNvSpPr/>
          <p:nvPr/>
        </p:nvSpPr>
        <p:spPr>
          <a:xfrm>
            <a:off x="1464120" y="15228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Classes and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26"/>
          <p:cNvSpPr/>
          <p:nvPr/>
        </p:nvSpPr>
        <p:spPr>
          <a:xfrm>
            <a:off x="136440" y="1077840"/>
            <a:ext cx="883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sk (default mas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us to find the NetId and Host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: 32-bit made of 1s followed by 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e not apply to classes D and 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DR(Classless Interdomain Routing): used to show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k in the form /n (n=8,16,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347760" y="3962520"/>
          <a:ext cx="8294760" cy="1482480"/>
        </p:xfrm>
        <a:graphic>
          <a:graphicData uri="http://schemas.openxmlformats.org/drawingml/2006/table">
            <a:tbl>
              <a:tblPr/>
              <a:tblGrid>
                <a:gridCol w="880920"/>
                <a:gridCol w="4489560"/>
                <a:gridCol w="2025720"/>
                <a:gridCol w="898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Bin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Dotted-deci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CID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 00000000 00000000 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255.0.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 11111111 00000000 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255.255.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255.255.25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/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3"/>
          <p:cNvSpPr/>
          <p:nvPr/>
        </p:nvSpPr>
        <p:spPr>
          <a:xfrm>
            <a:off x="228600" y="1828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9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Network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Logical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0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0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0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1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1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1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2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Rectangle 24"/>
          <p:cNvSpPr/>
          <p:nvPr/>
        </p:nvSpPr>
        <p:spPr>
          <a:xfrm>
            <a:off x="1797840" y="11448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Networ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6"/>
          <p:cNvSpPr/>
          <p:nvPr/>
        </p:nvSpPr>
        <p:spPr>
          <a:xfrm>
            <a:off x="272880" y="1527120"/>
            <a:ext cx="8839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e0000"/>
                </a:solidFill>
                <a:latin typeface="Times New Roman"/>
              </a:rPr>
              <a:t>The network addres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s an address that defin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twork itself to the reset of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2268"/>
                </a:solidFill>
                <a:latin typeface="Times New Roman"/>
              </a:rPr>
              <a:t>The network address has the following proper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All hostid bytes are 0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It is the first address in the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It cannot be assigned to a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. Given the network address, we can 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 class of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3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Rectangle 24"/>
          <p:cNvSpPr/>
          <p:nvPr/>
        </p:nvSpPr>
        <p:spPr>
          <a:xfrm>
            <a:off x="1797840" y="11448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Networ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26"/>
          <p:cNvSpPr/>
          <p:nvPr/>
        </p:nvSpPr>
        <p:spPr>
          <a:xfrm>
            <a:off x="136440" y="1219320"/>
            <a:ext cx="883944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Find the network address for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e0000"/>
                </a:solidFill>
                <a:latin typeface="Book Antiqua"/>
              </a:rPr>
              <a:t>a. 132.6.17.8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7e0000"/>
                </a:solidFill>
                <a:latin typeface="Book Antiqua"/>
              </a:rPr>
              <a:t>b. 23.56.7.9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class is B. The first 2 bytes defines the Netid. We can find the network address by replacing the hostid bytes (17.85) with 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Therefore, the network address is 132.6.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lass is A. Only the first byte defines the Netid. We can find the network address by replacing the hostid bytes (56.7.91) with 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b6bcf"/>
                </a:solidFill>
                <a:latin typeface="Times New Roman"/>
              </a:rPr>
              <a:t>Therefore, the network address is 23.0.0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4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5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5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5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6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6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6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0" y="1042920"/>
            <a:ext cx="9210600" cy="477216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24"/>
          <p:cNvSpPr/>
          <p:nvPr/>
        </p:nvSpPr>
        <p:spPr>
          <a:xfrm>
            <a:off x="1797840" y="11448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Networ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7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7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7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8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8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8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8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24"/>
          <p:cNvSpPr/>
          <p:nvPr/>
        </p:nvSpPr>
        <p:spPr>
          <a:xfrm>
            <a:off x="2228400" y="203040"/>
            <a:ext cx="434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 : subn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26"/>
          <p:cNvSpPr/>
          <p:nvPr/>
        </p:nvSpPr>
        <p:spPr>
          <a:xfrm>
            <a:off x="585720" y="1905120"/>
            <a:ext cx="7772400" cy="1191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P addresses are designed with two levels of hierarch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9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9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0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60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0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0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1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Rectangle 24"/>
          <p:cNvSpPr/>
          <p:nvPr/>
        </p:nvSpPr>
        <p:spPr>
          <a:xfrm>
            <a:off x="1958040" y="20628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twork with two levels of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131760" y="2286000"/>
            <a:ext cx="884880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1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2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2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62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2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3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3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Rectangle 24"/>
          <p:cNvSpPr/>
          <p:nvPr/>
        </p:nvSpPr>
        <p:spPr>
          <a:xfrm>
            <a:off x="2979000" y="2062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"/>
          <p:cNvSpPr/>
          <p:nvPr/>
        </p:nvSpPr>
        <p:spPr>
          <a:xfrm>
            <a:off x="585720" y="1049400"/>
            <a:ext cx="817884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organization was granted a large block in classes A 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Wingdings"/>
                <a:ea typeface="Wingdings"/>
              </a:rPr>
              <a:t>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ould divide the addresses into several contiguous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ssign each group to smaller networks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( sub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,Bold"/>
              </a:rPr>
              <a:t>It increases the number of 1s in the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1s in a subnet mask is more than the number of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orresponding m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a subnet mask , we change some of the leftmost 0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to 1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Times New Roman"/>
              </a:rPr>
              <a:t>The number of subnets is determine by the number of extra1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extra 1 is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umber of subnets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2</a:t>
            </a:r>
            <a:r>
              <a:rPr b="1" lang="en-US" sz="1200" spc="-1" strike="noStrike" baseline="46000">
                <a:solidFill>
                  <a:srgbClr val="ff0000"/>
                </a:solidFill>
                <a:latin typeface="Times New Roman,Bold"/>
              </a:rPr>
              <a:t> </a:t>
            </a:r>
            <a:r>
              <a:rPr b="1" lang="en-US" sz="2000" spc="-1" strike="noStrike" baseline="46000">
                <a:solidFill>
                  <a:srgbClr val="ff0000"/>
                </a:solidFill>
                <a:latin typeface="Times New Roman,Bold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,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subnets is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umber of extra 1s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log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,Bold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,Bol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1031400" y="6192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Subn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4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4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4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65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5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5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5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Rectangle 24"/>
          <p:cNvSpPr/>
          <p:nvPr/>
        </p:nvSpPr>
        <p:spPr>
          <a:xfrm>
            <a:off x="1958400" y="20628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Subnet 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"/>
          <p:cNvSpPr/>
          <p:nvPr/>
        </p:nvSpPr>
        <p:spPr>
          <a:xfrm>
            <a:off x="860400" y="1295280"/>
            <a:ext cx="744552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 B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sk : 255.255.0.0 or /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4 subnets : (log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 = 2;   need 2-extra bit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net mask: 255.255. 192.0 or /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8 subnets: (log </a:t>
            </a:r>
            <a:r>
              <a:rPr b="1" lang="en-US" sz="2400" spc="-1" strike="noStrike" baseline="-3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 = 3; need 3-extra bit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net mask : 255.255.224.0 or /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508040" y="2209680"/>
          <a:ext cx="6096240" cy="371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77840" y="3505320"/>
          <a:ext cx="6553440" cy="371520"/>
        </p:xfrm>
        <a:graphic>
          <a:graphicData uri="http://schemas.openxmlformats.org/drawingml/2006/table">
            <a:tbl>
              <a:tblPr/>
              <a:tblGrid>
                <a:gridCol w="2787840"/>
                <a:gridCol w="849240"/>
                <a:gridCol w="2916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  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022400" y="5265720"/>
          <a:ext cx="6553080" cy="371520"/>
        </p:xfrm>
        <a:graphic>
          <a:graphicData uri="http://schemas.openxmlformats.org/drawingml/2006/table">
            <a:tbl>
              <a:tblPr/>
              <a:tblGrid>
                <a:gridCol w="2787480"/>
                <a:gridCol w="849600"/>
                <a:gridCol w="2916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11111  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6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7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7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67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67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68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68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Rectangle 24"/>
          <p:cNvSpPr/>
          <p:nvPr/>
        </p:nvSpPr>
        <p:spPr>
          <a:xfrm>
            <a:off x="282636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355680" y="932040"/>
            <a:ext cx="855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A router receives a packet with destination address 190.240.33.91. Show how it finds the network and the subnetwork address toroute the packet. Assume the subnet mask is /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6bcf"/>
                </a:solidFill>
                <a:latin typeface="Times New Roman"/>
              </a:rPr>
              <a:t>The router follows ste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The router looks at the first byte of the address to fi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. It is class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The mask for class B is (/16)The router ANDs this 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the address to get the network address :190.240.0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The router applies the subnet mask (/19) to the addr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190.240.33.9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190.240.001  00001. 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bnet address is 190.240.32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The router looks in its routing table to find how to ro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cket to this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9" name="Straight Connector 4" descr=""/>
          <p:cNvPicPr/>
          <p:nvPr/>
        </p:nvPicPr>
        <p:blipFill>
          <a:blip r:embed="rId1"/>
          <a:stretch/>
        </p:blipFill>
        <p:spPr>
          <a:xfrm>
            <a:off x="1828800" y="5218200"/>
            <a:ext cx="244440" cy="60948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5"/>
          <p:cNvSpPr/>
          <p:nvPr/>
        </p:nvSpPr>
        <p:spPr>
          <a:xfrm>
            <a:off x="1160640" y="60948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Subn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69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69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69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0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0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0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1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Rectangle 24"/>
          <p:cNvSpPr/>
          <p:nvPr/>
        </p:nvSpPr>
        <p:spPr>
          <a:xfrm>
            <a:off x="1999800" y="206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2"/>
          <p:cNvSpPr/>
          <p:nvPr/>
        </p:nvSpPr>
        <p:spPr>
          <a:xfrm>
            <a:off x="344520" y="1343160"/>
            <a:ext cx="840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ge demand for midsize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hough class A and B addresses are almost depleted, class C addresses are still available( size of block= 256 address did not satisfy the need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supernetting, an organization can combine several class C blocks to create a larger range of addr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networks are combined to create a supernetwork 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ernet).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.g. Organization needs 1000 address can be granted 4 contiguous class C blocks to create one super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s the number of 1s in the mask.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E.g. The mask changes from /24 to /22 for 4 class C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"/>
          <p:cNvSpPr/>
          <p:nvPr/>
        </p:nvSpPr>
        <p:spPr>
          <a:xfrm>
            <a:off x="801000" y="9810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supern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1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1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2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2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2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3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3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Rectangle 24"/>
          <p:cNvSpPr/>
          <p:nvPr/>
        </p:nvSpPr>
        <p:spPr>
          <a:xfrm>
            <a:off x="1955880" y="20628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ful Addressing: supern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"/>
          <p:cNvSpPr/>
          <p:nvPr/>
        </p:nvSpPr>
        <p:spPr>
          <a:xfrm>
            <a:off x="490680" y="1351080"/>
            <a:ext cx="80438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Address Depl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depletion of the available address because of the fast growth of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out of classes A and B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C block is too small for most mid size organ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 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122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Rectangle 5"/>
          <p:cNvSpPr/>
          <p:nvPr/>
        </p:nvSpPr>
        <p:spPr>
          <a:xfrm>
            <a:off x="2407680" y="304920"/>
            <a:ext cx="36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Segoe UI Light"/>
              </a:rPr>
              <a:t>IPv4 ADDR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33520" y="137160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An IPv4 address is a 32-bit address that uniqu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and universally defines the connection of a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(for example, a computer or a router) to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Segoe UI Light"/>
              </a:rPr>
              <a:t>Topics discussed in this section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Addres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Classful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egoe UI Light"/>
              </a:rPr>
              <a:t>Network Address Translation (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3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4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4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4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5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5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5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Rectangle 24"/>
          <p:cNvSpPr/>
          <p:nvPr/>
        </p:nvSpPr>
        <p:spPr>
          <a:xfrm>
            <a:off x="1954800" y="206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 address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380880" y="1460520"/>
            <a:ext cx="8153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overcome address deple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classes, but the address are still granted in bloc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ize of the block( the number of addresses) varies based on the nature and size of the ent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sehold: 2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rge organization: thousands of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P: thousands or hundreds of thousands based on the number of customers it may se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6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6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6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7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7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77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78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2" name="Rectangle 24"/>
          <p:cNvSpPr/>
          <p:nvPr/>
        </p:nvSpPr>
        <p:spPr>
          <a:xfrm>
            <a:off x="1954800" y="2062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 address B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28"/>
          <p:cNvSpPr/>
          <p:nvPr/>
        </p:nvSpPr>
        <p:spPr>
          <a:xfrm>
            <a:off x="380880" y="1460520"/>
            <a:ext cx="81536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Rest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</a:rPr>
              <a:t>The Internet Authorities impose three restri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e address in a block must be contiguous, one after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e number of addresses in a block must be a power of 2 ( 1,2,4,8,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e first address must be evenly divisibl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he number of addresse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78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78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79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79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79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0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0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Rectangle 24"/>
          <p:cNvSpPr/>
          <p:nvPr/>
        </p:nvSpPr>
        <p:spPr>
          <a:xfrm>
            <a:off x="1173240" y="1143000"/>
            <a:ext cx="20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xample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8"/>
          <p:cNvSpPr/>
          <p:nvPr/>
        </p:nvSpPr>
        <p:spPr>
          <a:xfrm>
            <a:off x="380880" y="182412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Figure in the next slide shows a bloc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ddresses, in both binary and dotted-dec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otation, granted to a small business that needs 16 addr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0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1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1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1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2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2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2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763120" cy="249228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25"/>
          <p:cNvSpPr/>
          <p:nvPr/>
        </p:nvSpPr>
        <p:spPr>
          <a:xfrm>
            <a:off x="152280" y="3722760"/>
            <a:ext cx="8991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We can see that the restrictions are applied to this block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dresses are contigu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addresses is a power of 2 (16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address is divisible by 16. The first addr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onverted to a decimal number( use base 256), is 3,440,387,360, which when divided by 16 results in 215,024,2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3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3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3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4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4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4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4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Rectangle 24"/>
          <p:cNvSpPr/>
          <p:nvPr/>
        </p:nvSpPr>
        <p:spPr>
          <a:xfrm>
            <a:off x="609480" y="892080"/>
            <a:ext cx="807732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Mask: 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2-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take any value from 0 to 32, for ex /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 leftmost bits are 1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2-n rightmost bits are 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IPv4 addressing, a block of addresses can be defined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x.y.z.t /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hich x.y.z.t defines one of the addr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 /n defines the m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xample: 172.31.16.42/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24"/>
          <p:cNvSpPr/>
          <p:nvPr/>
        </p:nvSpPr>
        <p:spPr>
          <a:xfrm>
            <a:off x="1952640" y="20628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 M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5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5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6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6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6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6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7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Rectangle 24"/>
          <p:cNvSpPr/>
          <p:nvPr/>
        </p:nvSpPr>
        <p:spPr>
          <a:xfrm>
            <a:off x="457200" y="1484280"/>
            <a:ext cx="807732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dress and the /n notation define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le blo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24"/>
          <p:cNvSpPr/>
          <p:nvPr/>
        </p:nvSpPr>
        <p:spPr>
          <a:xfrm>
            <a:off x="1952280" y="7632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less Addressing Mas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87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88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88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88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88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89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89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4"/>
          <p:cNvSpPr/>
          <p:nvPr/>
        </p:nvSpPr>
        <p:spPr>
          <a:xfrm>
            <a:off x="685800" y="2286000"/>
            <a:ext cx="7924680" cy="173988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address in the block ( net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ress) can be found by setting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ghtmost  32 − n bits to 0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traight Connector 26"/>
          <p:cNvSpPr/>
          <p:nvPr/>
        </p:nvSpPr>
        <p:spPr>
          <a:xfrm>
            <a:off x="685800" y="22860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Straight Connector 27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0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0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0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1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1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1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2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24"/>
          <p:cNvSpPr/>
          <p:nvPr/>
        </p:nvSpPr>
        <p:spPr>
          <a:xfrm>
            <a:off x="685800" y="1166760"/>
            <a:ext cx="79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A block of addresses is granted to a small organ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We know that one of the addresses is </a:t>
            </a:r>
            <a:r>
              <a:rPr b="1" lang="en-US" sz="2400" spc="-1" strike="noStrike" u="sng">
                <a:solidFill>
                  <a:srgbClr val="7e0000"/>
                </a:solidFill>
                <a:uFillTx/>
                <a:latin typeface="Times New Roman"/>
              </a:rPr>
              <a:t>205.16.37.39/28</a:t>
            </a: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What is the first address in the blo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inary representation of the given addres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11001101 00010000 00100101 0010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205.16.37. 0010 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we set 32−28 rightmost bits to 0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205.16.37. 0010 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205.16.37.3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ctually the block shown in exampl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3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"/>
          <p:cNvSpPr/>
          <p:nvPr/>
        </p:nvSpPr>
        <p:spPr>
          <a:xfrm>
            <a:off x="685800" y="2286000"/>
            <a:ext cx="7924680" cy="283716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address in a block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rmally not assigned to any device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used as the network address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resents th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the rest of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Straight Connector 26"/>
          <p:cNvSpPr/>
          <p:nvPr/>
        </p:nvSpPr>
        <p:spPr>
          <a:xfrm>
            <a:off x="685800" y="22860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traight Connector 27"/>
          <p:cNvSpPr/>
          <p:nvPr/>
        </p:nvSpPr>
        <p:spPr>
          <a:xfrm>
            <a:off x="685800" y="51055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5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5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5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5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6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6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6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4"/>
          <p:cNvSpPr/>
          <p:nvPr/>
        </p:nvSpPr>
        <p:spPr>
          <a:xfrm>
            <a:off x="685800" y="2286000"/>
            <a:ext cx="7924680" cy="173988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The last address in the block can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found by setting the rightmost 32 − n bits to 1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traight Connector 26"/>
          <p:cNvSpPr/>
          <p:nvPr/>
        </p:nvSpPr>
        <p:spPr>
          <a:xfrm>
            <a:off x="685800" y="22860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traight Connector 27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3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3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3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4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4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25"/>
          <p:cNvSpPr/>
          <p:nvPr/>
        </p:nvSpPr>
        <p:spPr>
          <a:xfrm>
            <a:off x="457200" y="2057400"/>
            <a:ext cx="7620120" cy="1922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n IPv4 address is 32 bits 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2981520" y="30492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7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7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8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8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98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99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99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4"/>
          <p:cNvSpPr/>
          <p:nvPr/>
        </p:nvSpPr>
        <p:spPr>
          <a:xfrm>
            <a:off x="685800" y="1166760"/>
            <a:ext cx="7924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nd the last address for the block in Example 19.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address i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205.16.37. 0010 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f we set 32 − 28 = 4 rightmost bits to 1, we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205.16.37. 0010</a:t>
            </a: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 1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205.16.37.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s is actually the block shown in Exampl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9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0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0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0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1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1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1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24"/>
          <p:cNvSpPr/>
          <p:nvPr/>
        </p:nvSpPr>
        <p:spPr>
          <a:xfrm>
            <a:off x="685800" y="2286000"/>
            <a:ext cx="7924680" cy="173988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number of addresses in the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be found by using the form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 baseline="36000">
                <a:solidFill>
                  <a:srgbClr val="000000"/>
                </a:solidFill>
                <a:latin typeface="Times New Roman"/>
              </a:rPr>
              <a:t> 32−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Straight Connector 26"/>
          <p:cNvSpPr/>
          <p:nvPr/>
        </p:nvSpPr>
        <p:spPr>
          <a:xfrm>
            <a:off x="685800" y="22860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Straight Connector 27"/>
          <p:cNvSpPr/>
          <p:nvPr/>
        </p:nvSpPr>
        <p:spPr>
          <a:xfrm>
            <a:off x="685800" y="40384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2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2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2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3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3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3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4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23"/>
          <p:cNvSpPr/>
          <p:nvPr/>
        </p:nvSpPr>
        <p:spPr>
          <a:xfrm>
            <a:off x="533520" y="144792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 the number of addresses in Example 19.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value of n is 28, which means that number of addresses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2−28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 1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4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4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5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5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5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6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6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23"/>
          <p:cNvSpPr/>
          <p:nvPr/>
        </p:nvSpPr>
        <p:spPr>
          <a:xfrm>
            <a:off x="152280" y="1066680"/>
            <a:ext cx="8991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way to find the first address, the last addres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e number of addresses is to represent the mask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32-bit binary (or 8-digit hexadecimal) number. Th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ularly useful when we are writing a program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se pieces of information. In Example 19.5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8  can be represented 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11111111 11111111 11111111 11110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twenty-eight 1s and four 0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a. The fir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b. The l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c. The number of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6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7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7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7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8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8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8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3"/>
          <p:cNvSpPr/>
          <p:nvPr/>
        </p:nvSpPr>
        <p:spPr>
          <a:xfrm>
            <a:off x="152280" y="106668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The first address can be found by ANDing the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es with the mask. ANDing here is done bi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. The result of ANDing 2 bits is 1 if both bits are 1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esult is 0 otherw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Picture 3" descr=""/>
          <p:cNvPicPr/>
          <p:nvPr/>
        </p:nvPicPr>
        <p:blipFill>
          <a:blip r:embed="rId1"/>
          <a:srcRect l="22780" t="60669" r="22780" b="24222"/>
          <a:stretch/>
        </p:blipFill>
        <p:spPr>
          <a:xfrm>
            <a:off x="838080" y="3886200"/>
            <a:ext cx="74678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9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9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9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0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0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0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1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3" name="Rectangle 23"/>
          <p:cNvSpPr/>
          <p:nvPr/>
        </p:nvSpPr>
        <p:spPr>
          <a:xfrm>
            <a:off x="152280" y="106668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ast address can be found by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OR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es with the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comple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mask. 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e is done bit by bit. The result of ORing 2 bits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both bits are 0s; the result is 1 otherwise. The complement of a number is found by changing eac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0 and each 0 to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4" name="Picture 2" descr=""/>
          <p:cNvPicPr/>
          <p:nvPr/>
        </p:nvPicPr>
        <p:blipFill>
          <a:blip r:embed="rId1"/>
          <a:srcRect l="20556" t="56893" r="18890" b="26225"/>
          <a:stretch/>
        </p:blipFill>
        <p:spPr>
          <a:xfrm>
            <a:off x="380880" y="4267080"/>
            <a:ext cx="83059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1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1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2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2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2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3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3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6" name="Rectangle 23"/>
          <p:cNvSpPr/>
          <p:nvPr/>
        </p:nvSpPr>
        <p:spPr>
          <a:xfrm>
            <a:off x="152280" y="175248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 of addresses can be found by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complement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sk, interpreting it as a decimal number, and adding 1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7" name="Picture 2" descr=""/>
          <p:cNvPicPr/>
          <p:nvPr/>
        </p:nvPicPr>
        <p:blipFill>
          <a:blip r:embed="rId1"/>
          <a:srcRect l="20556" t="61336" r="20000" b="27111"/>
          <a:stretch/>
        </p:blipFill>
        <p:spPr>
          <a:xfrm>
            <a:off x="380880" y="3809880"/>
            <a:ext cx="81536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3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4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4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4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5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5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5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59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340992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3" descr=""/>
          <p:cNvPicPr/>
          <p:nvPr/>
        </p:nvPicPr>
        <p:blipFill>
          <a:blip r:embed="rId2"/>
          <a:stretch/>
        </p:blipFill>
        <p:spPr>
          <a:xfrm>
            <a:off x="304920" y="4425840"/>
            <a:ext cx="8553240" cy="243216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26"/>
          <p:cNvSpPr/>
          <p:nvPr/>
        </p:nvSpPr>
        <p:spPr>
          <a:xfrm>
            <a:off x="1143000" y="152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twork configuration for the block 205.16.37.32/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6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6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6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7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7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7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8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Rectangle 24"/>
          <p:cNvSpPr/>
          <p:nvPr/>
        </p:nvSpPr>
        <p:spPr>
          <a:xfrm>
            <a:off x="1143000" y="2286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 Two levels of hierarchy: No subn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4" name="Picture 2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201080" cy="2028960"/>
          </a:xfrm>
          <a:prstGeom prst="rect">
            <a:avLst/>
          </a:prstGeom>
          <a:ln w="0">
            <a:noFill/>
          </a:ln>
        </p:spPr>
      </p:pic>
      <p:sp>
        <p:nvSpPr>
          <p:cNvPr id="1185" name="Rectangle 26"/>
          <p:cNvSpPr/>
          <p:nvPr/>
        </p:nvSpPr>
        <p:spPr>
          <a:xfrm>
            <a:off x="609480" y="46483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The prefix is common to all addresses in the network; the suffix changes from one device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8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9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9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19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9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0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0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Rectangle 24"/>
          <p:cNvSpPr/>
          <p:nvPr/>
        </p:nvSpPr>
        <p:spPr>
          <a:xfrm>
            <a:off x="1999440" y="20628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less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24"/>
          <p:cNvSpPr/>
          <p:nvPr/>
        </p:nvSpPr>
        <p:spPr>
          <a:xfrm>
            <a:off x="685800" y="1447920"/>
            <a:ext cx="7924680" cy="3934440"/>
          </a:xfrm>
          <a:prstGeom prst="rect">
            <a:avLst/>
          </a:prstGeom>
          <a:solidFill>
            <a:srgbClr val="8e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address in the block can be considered as a </a:t>
            </a:r>
            <a:r>
              <a:rPr b="1" lang="en-US" sz="3600" spc="-1" strike="noStrike">
                <a:solidFill>
                  <a:srgbClr val="7e0000"/>
                </a:solidFill>
                <a:latin typeface="Times New Roman"/>
              </a:rPr>
              <a:t>two-leve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ierarchical structu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eftmost n bits (</a:t>
            </a:r>
            <a:r>
              <a:rPr b="1" lang="en-US" sz="3600" spc="-1" strike="noStrike">
                <a:solidFill>
                  <a:srgbClr val="7e0000"/>
                </a:solidFill>
                <a:latin typeface="Times New Roman"/>
              </a:rPr>
              <a:t>prefi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def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networ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ightmost 32 − n bits def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hos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7e0000"/>
                </a:solidFill>
                <a:latin typeface="Times New Roman"/>
              </a:rPr>
              <a:t>suffi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traight Connector 26"/>
          <p:cNvSpPr/>
          <p:nvPr/>
        </p:nvSpPr>
        <p:spPr>
          <a:xfrm>
            <a:off x="685800" y="13716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Straight Connector 27"/>
          <p:cNvSpPr/>
          <p:nvPr/>
        </p:nvSpPr>
        <p:spPr>
          <a:xfrm>
            <a:off x="685800" y="5410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5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5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5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5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6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6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6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23"/>
          <p:cNvSpPr/>
          <p:nvPr/>
        </p:nvSpPr>
        <p:spPr>
          <a:xfrm>
            <a:off x="838080" y="116676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wo devices in the Internet can never have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 at the sam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n address may be assigned to a device for a time period and then taken away and assigned to another de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f a device operating at the network layer (e.g. router) has m connections to the Internet, it needs to have m IP add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70c0"/>
                </a:solidFill>
                <a:latin typeface="Book Antiqua"/>
              </a:rPr>
              <a:t>The IPv4 addresses are unique and univer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1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1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1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2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2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2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3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Rectangle 23"/>
          <p:cNvSpPr/>
          <p:nvPr/>
        </p:nvSpPr>
        <p:spPr>
          <a:xfrm>
            <a:off x="152280" y="17524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rganization has its own mask :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network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subnet must also have its own mask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: subnet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Picture 2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067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3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3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4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4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4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5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5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5" name="Rectangle 23"/>
          <p:cNvSpPr/>
          <p:nvPr/>
        </p:nvSpPr>
        <p:spPr>
          <a:xfrm>
            <a:off x="152280" y="1066680"/>
            <a:ext cx="8991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rganization is granted a block of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2.40.0/26, which contains 64: (2(32-26)=24 =64) addr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rganization has three offices and needs to divid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es into three subblocks (subnets) of 32, 16 and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dresses. Design the subblocks and find the new mas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ubnet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Mask n1: 2 </a:t>
            </a:r>
            <a:r>
              <a:rPr b="1" lang="pt-BR" sz="2800" spc="-1" strike="noStrike" baseline="30000">
                <a:solidFill>
                  <a:srgbClr val="002060"/>
                </a:solidFill>
                <a:latin typeface="Times New Roman"/>
              </a:rPr>
              <a:t>32-n1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 = 32; n1=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ubnet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Mask n2: 2 </a:t>
            </a:r>
            <a:r>
              <a:rPr b="1" lang="pt-BR" sz="2800" spc="-1" strike="noStrike" baseline="30000">
                <a:solidFill>
                  <a:srgbClr val="002060"/>
                </a:solidFill>
                <a:latin typeface="Times New Roman"/>
              </a:rPr>
              <a:t>32-n2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 =16; n2=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ubne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Mask n3: 2 </a:t>
            </a:r>
            <a:r>
              <a:rPr b="1" lang="pt-BR" sz="2800" spc="-1" strike="noStrike" baseline="30000">
                <a:solidFill>
                  <a:srgbClr val="002060"/>
                </a:solidFill>
                <a:latin typeface="Times New Roman"/>
              </a:rPr>
              <a:t>32-n2</a:t>
            </a:r>
            <a:r>
              <a:rPr b="1" lang="pt-BR" sz="2800" spc="-1" strike="noStrike">
                <a:solidFill>
                  <a:srgbClr val="002060"/>
                </a:solidFill>
                <a:latin typeface="Times New Roman"/>
              </a:rPr>
              <a:t>= 16; n3= 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Box 24"/>
          <p:cNvSpPr/>
          <p:nvPr/>
        </p:nvSpPr>
        <p:spPr>
          <a:xfrm>
            <a:off x="990720" y="4572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5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6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6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6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7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7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7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8" name="Rectangle 24"/>
          <p:cNvSpPr/>
          <p:nvPr/>
        </p:nvSpPr>
        <p:spPr>
          <a:xfrm>
            <a:off x="1143000" y="223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figuration and addresses in a subnett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9" name="Picture 2" descr=""/>
          <p:cNvPicPr/>
          <p:nvPr/>
        </p:nvPicPr>
        <p:blipFill>
          <a:blip r:embed="rId1"/>
          <a:stretch/>
        </p:blipFill>
        <p:spPr>
          <a:xfrm>
            <a:off x="228600" y="1123920"/>
            <a:ext cx="861048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8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8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8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9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9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9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29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Rectangle 23"/>
          <p:cNvSpPr/>
          <p:nvPr/>
        </p:nvSpPr>
        <p:spPr>
          <a:xfrm>
            <a:off x="76320" y="1390680"/>
            <a:ext cx="8991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In subnet 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 address 17.12.14.29/27 can give us the subnet address if we use mask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/2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Host : 17. 12 .14 .0001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Mask: /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: 17.12.14.00000000  17.12.1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In subnet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 address 17.12.14.45/28 can give us the subnet address if we use mask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/2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t : 17. 12. 14. 00101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sk: /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: 17.12.14. 00100000  17.12.14.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30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30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30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31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1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31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32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Rectangle 23"/>
          <p:cNvSpPr/>
          <p:nvPr/>
        </p:nvSpPr>
        <p:spPr>
          <a:xfrm>
            <a:off x="76320" y="1639800"/>
            <a:ext cx="899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In subnet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the address 17.12.14.50</a:t>
            </a:r>
            <a:r>
              <a:rPr b="1" lang="en-US" sz="2800" spc="-1" strike="noStrike">
                <a:solidFill>
                  <a:srgbClr val="7e0000"/>
                </a:solidFill>
                <a:latin typeface="Times New Roman"/>
              </a:rPr>
              <a:t>/2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give us the subnet address if we use mask/2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st : 17. 12. 14. 0011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sk: /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net: 17. 12. 14. 00110000  17.12.14.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3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3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3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33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3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3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5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281952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3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891540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7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7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7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8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8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8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9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609480" y="1027080"/>
            <a:ext cx="792504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PV4 has an address space: is the total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es used by the protoc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f a protocol uses N bits to define an address, the address space is 2 </a:t>
            </a:r>
            <a:r>
              <a:rPr b="0" i="1" lang="en-US" sz="2800" spc="-1" strike="noStrike" baseline="52000">
                <a:solidFill>
                  <a:srgbClr val="000000"/>
                </a:solidFill>
                <a:latin typeface="Book Antiqua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Pv4 uses 32-bit addres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e address space=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Book Antiqua"/>
              </a:rPr>
              <a:t>32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=4,294,967,296 ( more tha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ill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is means, if there were no restrictions, more tha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billion devices could be connected to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Pv6 uses 128 bit-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9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9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0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0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0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1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1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6"/>
          <p:cNvSpPr/>
          <p:nvPr/>
        </p:nvSpPr>
        <p:spPr>
          <a:xfrm>
            <a:off x="533520" y="982800"/>
            <a:ext cx="822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There are two prevalent notations to show an IPv4 addr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. Binary no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 is displayed as 32 b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ach octet is often referred to as by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IPv4 address referred to as 32-bit address or 4-byt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01110101 10010101 00011101 00000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19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22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25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28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31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34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37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533520" y="982800"/>
            <a:ext cx="8153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otted-decimal no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More compact and easier to 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ritten in decimal form with a decimal point( do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eparating the by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xample: 117.149.29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Each decimal value range from 0 to 2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e0000"/>
                </a:solidFill>
                <a:latin typeface="Book Antiqu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otted-decimal notation and binary notation for an IPv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57200" y="4886280"/>
            <a:ext cx="809640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4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4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5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5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5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5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6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Rectangle 24"/>
          <p:cNvSpPr/>
          <p:nvPr/>
        </p:nvSpPr>
        <p:spPr>
          <a:xfrm>
            <a:off x="2981520" y="15228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v4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6"/>
          <p:cNvSpPr/>
          <p:nvPr/>
        </p:nvSpPr>
        <p:spPr>
          <a:xfrm>
            <a:off x="457200" y="135108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Change the following IPv4 addresses from b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notation to dotted-decimal n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e0000"/>
                </a:solidFill>
                <a:latin typeface="Book Antiqua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0000001    00001011   00001011   1110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11000001    10000011   00011011    111111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Book Antiqua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We replace each group of 8 bits with its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decimal number (see Appendix B) and add dot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sepa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lient</dc:creator>
  <dc:description/>
  <dc:language>en-US</dc:language>
  <cp:lastModifiedBy>Lhajr</cp:lastModifiedBy>
  <dcterms:modified xsi:type="dcterms:W3CDTF">2017-11-27T08:03:42Z</dcterms:modified>
  <cp:revision>95</cp:revision>
  <dc:subject/>
  <dc:title>PowerPoint Presentation</dc:title>
</cp:coreProperties>
</file>