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501D-DAF6-419F-BD40-7C073BF1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1996-8886-4427-BB38-E4458C373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4AA4-7A01-4ACA-895E-53C86F656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5DAE-F864-4170-B6BD-26B2F993B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A10D-3CA0-43C3-ABAD-58CD0AEF0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69FF-C301-4B46-BD9E-5871B28A5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F6FB2-8FEB-464F-B6FC-6B742271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2631-92B3-4CC7-B34B-D761984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04793-212D-4DD4-8909-01069D1E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D632E-AF77-41C8-BF6C-250138A1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1FBD5-1A25-4F1E-B73D-EDFEC976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0E6D-EC62-40FB-B15B-E0E57559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7DBC8-2224-48F9-9FDE-5943A9A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13C6-EF5F-4621-8FD5-7107F1A91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79CE-C2EC-49E0-A76D-D4FA56F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C911C-5EFF-4DF3-B52A-23938F1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6E374-233B-4D05-AB7C-564E0D5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869B4-B942-4A2E-B537-4737AB1D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0F71-A379-4B52-90F1-FF05490C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95264-F9E9-4743-B06F-1C7D48B6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80CB7-DFCE-43BE-B358-0A197B3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D2A54-2862-491B-BCF9-62756BBE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B3736-BAD8-491B-AB36-DCDE88A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B357E-7744-4A01-BBC0-0D1B2170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A1F9-915F-40B7-A8FB-715A28F040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AC202-1510-4C71-B676-7189A04F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6AD05-5AFB-400A-B258-5611D49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F73D4-EFB4-448F-AC87-C3C6545B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40ED4-1486-4A00-8DC8-B614754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3BCB1-E074-4863-AC7B-980A6B6B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3E5F3-86D3-467E-95A6-9F9F2874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8FC87-2F3D-49A7-9A4B-B9E5E986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22FF-AED0-44AE-874D-BA23E653D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3883-ADB6-4650-A6D4-2F425B4D6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B9C2-F1F6-418F-90A9-AC5EDB9F2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6D75-5D42-4C29-ACAB-D3DEFF838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22CF-E69A-43B8-92C9-C55B10016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391C-8E27-4046-936B-528C1FB46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5C1-9941-42D5-BD25-1FC17903B3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D1D5-5C04-4393-B546-8D5EE6C730C4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1FB-5E1C-4636-9762-D7B23DB877B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A273-ADAD-4E24-821E-AAF044DD6ED9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063-759D-45CC-ADF5-16E23DD0C93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bout the Present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esentations cover the objectives found in the opening of each chapter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 chapter objectives are listed in the beginning of each presentation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ay customize the presentations to fit your class needs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figures from the chapters are included. A complete set of images from the book can be found on the Instructor Resources disc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1B57-F957-4BF3-B8D0-F58AFEF8EAF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9CF9-148A-4D37-98A0-8AAE0CBE36C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9072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2  Sample business processes related to the sale of a personal comp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Fig01-02"/>
          <p:cNvPicPr/>
          <p:nvPr/>
        </p:nvPicPr>
        <p:blipFill>
          <a:blip r:embed="rId1"/>
          <a:srcRect l="0" t="0" r="0" b="11294"/>
          <a:stretch/>
        </p:blipFill>
        <p:spPr>
          <a:xfrm>
            <a:off x="990720" y="1981080"/>
            <a:ext cx="735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4DB0-2FFA-4C09-9510-49FB9711E0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must always consider customer’s viewpoint in any trans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customer inter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(either internal or external) is not required to interact with each business function involved in the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business managers view business operations from the perspective of a satisfied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F657-5E25-49E0-B047-9C260853ED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ing data effectively and efficiently between and within functional areas leads to more efficient busines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grated information syste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Systems in which functional areas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E0C-0544-4192-AD7B-CAE5589AC0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362320" y="5562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3  A process view of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Fig01-03"/>
          <p:cNvPicPr/>
          <p:nvPr/>
        </p:nvPicPr>
        <p:blipFill>
          <a:blip r:embed="rId1"/>
          <a:srcRect l="0" t="0" r="0" b="8118"/>
          <a:stretch/>
        </p:blipFill>
        <p:spPr>
          <a:xfrm>
            <a:off x="1600200" y="1600200"/>
            <a:ext cx="572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352-E212-4DD3-A747-2E790421075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take inputs (resources) and transform these inputs into goods and services for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s: Material, people, equ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 inputs and business processes effectively requires accurate and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BB8B-FDB8-48DC-BD63-A6F675650D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 of a Very Small Busin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: A fictitious lemonade sta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business processes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why coordination of functional areas helps achieve efficient and effectiv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ok at how integration of the information system improves the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BA4C-9C96-4CFA-931F-A1556BEBE9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ing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ing products to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ing customers’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ing create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ACA4-39C5-4972-AD7E-1E9BEFDBDE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tasks for the lemonade sta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mal recordkeeping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keep track of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development can be done inform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 repeat customers allowed to charge purchases—up to a poi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ords must show how much each customer owes and his or her available cred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0F6-8A7A-4FAC-91E0-21D27CB7469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the lemonade (manufacturing/productio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ying raw materials (purchasing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ning requires sales forecasts from M/S functional are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les foreca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alyses that attempt to predict the future sales of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E09-220C-4958-BDB6-07A2DB0764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used to develop requirements for raw materials and packa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s: Bottled spring water, fresh lemons, artificial sweetener, raw sug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: Cups, straws, napk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M and M/S must choose a recipe for each lemonade product so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On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Business Functions and Business Process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3453-1DF5-47FD-8318-3FA30F2833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Accounting and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ing raw data about transactions (including sales), raw material purchases, payroll, and receipt of cash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w data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umbers collected from those operations, without any manipulation, calculation, or arrangement for pres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19C3-DC81-4AC0-9D8D-A3ADCD3F544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from Accounting and Finance used by Marketing and Sales and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records are important component of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forecast is used in making staffing decisions and in production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s from accounts receivable used to monitor the overall credit-granting policy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FD2-58E0-4EA9-AC98-6FBB3F8F55C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ruit, train, evaluate, and compensate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uses sales forecasts developed by the individual departments to plan personnel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s integrated using ERP software provide the data sharing necessary between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F1B3-32E8-455D-A543-8C750FF048B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tential inputs and outputs for each functional area described nex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e the kinds of data needed by each area and how people use th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maintain relationships between all functional areas and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DFB8-14C8-4D28-B44A-A692630B3B6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ers communicate orders to M/S in person or by telephone, e-mail, fax, the Web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has a role in determining product pr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cing might be determined based on a product’s unit cost, plus some percentage mark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information from Accounting and Finance, and Supply Chain Managemen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246-48DA-4BD8-8664-5EC6468402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57200" y="5334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4  The Marketing and Sales functional area exchanges data with customers and with the Human Resources, Accounting and Finance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Fig01-04"/>
          <p:cNvPicPr/>
          <p:nvPr/>
        </p:nvPicPr>
        <p:blipFill>
          <a:blip r:embed="rId1">
            <a:lum bright="-6000"/>
          </a:blip>
          <a:srcRect l="0" t="0" r="28048" b="13905"/>
          <a:stretch/>
        </p:blipFill>
        <p:spPr>
          <a:xfrm>
            <a:off x="1905120" y="1403280"/>
            <a:ext cx="51926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55D-4090-4C93-A712-14CD3E11713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needs to interact with Human Resources to exchange information on hiring needs, legal requirements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d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tren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-unit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vel expense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F8F-07D1-46B7-9A13-30828790B96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strateg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ment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0B1A-4FD4-462C-B992-DFCE976F51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various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based on information about product sales (actual and projected) that comes from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ccurate data about required production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and packaging can be ordered as nee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 can be kept low, saving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AC0-74A4-426A-8DA4-B868237193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data and records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ata needed by Accounting and Finance to determine how much of each resource was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 the M/S function by providing information about what has been produced and shi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interacts in some ways with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F718-D720-444E-A74B-B699E10702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 the main functional areas of operation used in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fferentiate a business process from a business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produ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ine integrated information systems and explain why they are importa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1A4-B073-4E9D-A7F4-300F42A5D1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5  The Supply Chain Management functional area exchanges data with suppliers and with the Human Resources, Marketing and Sales, and Accounting and Finance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6" descr="Fig01-05"/>
          <p:cNvPicPr/>
          <p:nvPr/>
        </p:nvPicPr>
        <p:blipFill>
          <a:blip r:embed="rId1">
            <a:lum bright="-6000"/>
          </a:blip>
          <a:srcRect l="0" t="0" r="26762" b="15414"/>
          <a:stretch/>
        </p:blipFill>
        <p:spPr>
          <a:xfrm>
            <a:off x="1905120" y="1371600"/>
            <a:ext cx="5046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9A3-741E-4547-917A-2021E1E427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off and recall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8E59-9588-4979-8137-E347708BD1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ource expenditur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64E-9353-4520-A9E5-C798B7D84C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/F personne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company’s transactions in the books of acc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ccounts payable when raw materials are purchased and cash outflows when they pay for materi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mmarize transaction data to prepare reports about company’s financial position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46C5-2314-4981-A1E8-D7A96C460BB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 in other functional areas provide data to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/S provides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 provides 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R provides payroll and benefit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personnel require data from A/F to evaluate customer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6F1-478F-428A-ACDA-A18CED977C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6  The Accounting and Finance functional area exchanges data with customers and with the Human Resources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Fig01-06"/>
          <p:cNvPicPr/>
          <p:nvPr/>
        </p:nvPicPr>
        <p:blipFill>
          <a:blip r:embed="rId1">
            <a:lum bright="-6000"/>
          </a:blip>
          <a:srcRect l="0" t="0" r="29227" b="15201"/>
          <a:stretch/>
        </p:blipFill>
        <p:spPr>
          <a:xfrm>
            <a:off x="1936800" y="1371600"/>
            <a:ext cx="50734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25BE-1DC1-4AA1-A1B6-0426746DE8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receiv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pay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and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66BE-C14D-4F5D-82B3-B117612F5E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to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redi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7E2-15E3-4F3D-B27D-8CE7B860BA1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information from the other depart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related to employee hiring, benefits, training, and government compliance are all responsibilities of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accurate forecasts of personnel needs from all functional un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to know what skills are needed to perform a particular job and how much the company can afford to pa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C594-540C-4EE5-AD4D-937FC849BB6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7  The Human Resources functional area exchanges data with the Accounting and Finance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6" descr="Fig01-07"/>
          <p:cNvPicPr/>
          <p:nvPr/>
        </p:nvPicPr>
        <p:blipFill>
          <a:blip r:embed="rId1">
            <a:lum bright="-6000"/>
          </a:blip>
          <a:srcRect l="0" t="0" r="26288" b="12219"/>
          <a:stretch/>
        </p:blipFill>
        <p:spPr>
          <a:xfrm>
            <a:off x="1981080" y="1371600"/>
            <a:ext cx="518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145D-1479-427A-9691-A025B028B0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Resource Planning (ERP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grams: Core software used by companies to coordinate information in every area of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 manage companywid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common database and shared management report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some input and creates an output that is of value to the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F0AD-8969-4F0B-85CC-266AB284B5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bserving governmental regulations in recruiting, training, compensating, promoting, and terminating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sonnel foreca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4640-8F1E-4808-9D2A-BEF37488AD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ulatio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cert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evalua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45F-7B40-4439-A3C8-D5C04D548AE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gnificant amount of data is maintained by and shared among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liness and accuracy of these data critical to each area’s success and to company’s ability to make a profit and generate future growt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allows all functional areas to share a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accurate, real-time information to be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311E-C527-4374-9C6B-FE3247EED2A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functional areas: Marketing and Sales, Supply Chain Management, Accounting and Finance, and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: Sets product prices, promotes products through advertising and marketing, takes customer orders, supports customers, and creates sales foreca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: Develops production plans, orders raw materials from suppliers, receives raw material, manufactures products, maintains facilities, and ships products to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E36-6AD4-40C4-9259-B9028626DF7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: Financial accounting to provide summaries of operational data in managerial reports, controlling accounts, planning and budgeting, and cash-flow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: Recruits, hires, trains, and compensates employees, ensures compliance with government regulations, and oversees the evaluation of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capture, process, and store data to provide information needed for decision ma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512-4E8C-4A2B-956F-5AC0207CD4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working in one functional area need data from employees in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 information systems should be integrated, so shared data are accurate and tim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rs think in terms of business processes that integrate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share information between functions and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oftware provides this capability by means of a single common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understand ERP, you must understand how a business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3F0-D9FC-4A2F-8EF5-4C8B92815E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38B-EB81-4B78-9FE7-FFB87F9BE99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(M/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 (A/F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func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Activities specific to a functional area of op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8F41-90BA-4269-8320-7F3E19AB60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1  Examples of functional areas of operation and their 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8" descr="Fig01-01"/>
          <p:cNvPicPr/>
          <p:nvPr/>
        </p:nvPicPr>
        <p:blipFill>
          <a:blip r:embed="rId1"/>
          <a:srcRect l="0" t="0" r="4013" b="5233"/>
          <a:stretch/>
        </p:blipFill>
        <p:spPr>
          <a:xfrm>
            <a:off x="2209680" y="1044720"/>
            <a:ext cx="4560840" cy="4441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6D48-A1D3-41D7-91FF-F1399D8EF1A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areas are interdepend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requires data from the oth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tter integration of functional areas leads to improvements in communication, workflow, and success of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formation system (IS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s, people, procedures, and software that store, organize, and deliver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D22B-5605-431D-9118-66CEA27ECBC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one or more kinds of input and creates an output that is of value to 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an be traditional external customer or internal custom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nking in terms of business processes helps managers to look at their organization from the customer’s perspec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2-03T05:24:25Z</dcterms:modified>
  <cp:revision>558</cp:revision>
  <dc:subject/>
  <dc:title/>
</cp:coreProperties>
</file>