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19C-5183-47D6-987A-6E2E4BA7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2DD-38FE-49A5-99A9-6AEAC5D66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F9AE-CBA9-41B0-AB7E-71BF2BF8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CD751-A16A-4462-8D43-C2744F1E7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A31E-C794-47A5-BDFC-87E1FD71B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CDC8-A70C-4108-BB8C-BBC5FE729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2D343-A234-406C-90E7-51EDA1A8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D813-681A-4A28-9521-B3DE205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3FD86-3895-4772-8284-729B112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E9F4-640E-41AC-9878-C12922F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F5F37-942A-4D24-9B99-3D501D0B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B501E-1823-41BE-AB81-8E165BF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63E37-44EF-4407-BB87-E6C04B7E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58CE-8E41-43DD-AE96-E691FB1E3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28E92-81BD-4EF1-8CBF-413D52F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DF31-F6F6-4410-A89C-01E84F7D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EDABE-1225-4143-8B2D-98086C6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EFCC9-3942-4EFC-9435-C9A66334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6E757-61F3-45C9-A36B-3FF636BC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72A98-465D-4A8E-B609-46B6560F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D162F-8448-44ED-812B-7B9DF1FB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2E86B-48B0-4182-B833-AAB8A1F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8B79-4C5B-4D29-BC1C-6B87DB2A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B47B3-F672-40A4-A5FC-FB362D04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745B-4808-4F44-BE98-9C8634641A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8F3C3-6633-483D-83D5-FA9AA1A8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FAEC3-50FF-4DD4-815E-7017D3C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E1C7E-C709-457C-AA4A-DE82D51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371DF-0EE8-4A3E-B7EE-5B75FB3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7C716-C3A7-4A5A-B5D1-A4B9E414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41CCF-7F75-468D-917E-91B1571E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F68C8-F5F9-479A-9AF2-640F918A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A699-4D76-4100-BAEA-81D007ACC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A763-09C5-4802-97B7-CD1231562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DA13-83F7-497B-A558-CAE8D98E5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A92E-66CE-427D-9C95-48B0127C3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15F9-CBB2-449D-926C-CAA42D4AB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84E3-7D76-4AE0-98D8-DF7309548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FEB0-6749-47B5-8702-8C4C4391B6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7200-B4C6-4FAF-BE9D-E871C763D9B8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BF2-AAD6-4570-823A-42BD971F205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2B4-C4F3-44BE-9A91-9761B1AF25A3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D0AE-F6DB-413D-B96A-8E608A1341A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bout the Present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esentations cover the objectives found in the opening of each chapter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chapter objectives are listed in the beginning of each presentation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customize the presentations to fit your class needs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figures from the chapters are included. A complete set of images from the book can be found on the Instructor Resources disc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BD3-D7A1-46C9-9EB4-25C5C77216F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389-C498-4E13-9857-7EECAF29F6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c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Fig01-02"/>
          <p:cNvPicPr/>
          <p:nvPr/>
        </p:nvPicPr>
        <p:blipFill>
          <a:blip r:embed="rId1"/>
          <a:srcRect l="0" t="0" r="0" b="11294"/>
          <a:stretch/>
        </p:blipFill>
        <p:spPr>
          <a:xfrm>
            <a:off x="990720" y="1981080"/>
            <a:ext cx="735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184-9AED-4302-9D9A-C981FBF78E9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CC12-1E4E-439E-A4CE-3D23B0DD8F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F153-6A6C-43B2-BDAD-5A1C7B6655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Fig01-03"/>
          <p:cNvPicPr/>
          <p:nvPr/>
        </p:nvPicPr>
        <p:blipFill>
          <a:blip r:embed="rId1"/>
          <a:srcRect l="0" t="0" r="0" b="8118"/>
          <a:stretch/>
        </p:blipFill>
        <p:spPr>
          <a:xfrm>
            <a:off x="1600200" y="1600200"/>
            <a:ext cx="572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D201-1536-4CC5-BAB4-D9D7DBD3A2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5661-DBF9-48C3-B1B2-367D3968F8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C5B-39A9-4029-A972-1D0F6EA92C6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EC1B-61A9-4EB4-AC36-572CEADE45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9E9D-A668-4F5A-97A3-8E105ED47F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lemonad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84F8-96F4-4A97-924F-4148A0A9F8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lemonad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83B-FAF6-4669-9D82-56F4E53BB8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those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133-EB96-4A1E-A7FF-1DB69936EF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CCC-FDAB-4105-91B1-D9D6E4F9843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0B77-351D-4740-8ADF-814DCCDE76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3FF-C430-4796-9707-A0B846CD2B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14B-2A7E-4411-8F73-7676B14AC5E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4 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6" descr="Fig01-04"/>
          <p:cNvPicPr/>
          <p:nvPr/>
        </p:nvPicPr>
        <p:blipFill>
          <a:blip r:embed="rId1">
            <a:lum bright="-6000"/>
          </a:blip>
          <a:srcRect l="0" t="0" r="28048" b="13905"/>
          <a:stretch/>
        </p:blipFill>
        <p:spPr>
          <a:xfrm>
            <a:off x="1905120" y="1403280"/>
            <a:ext cx="5192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99F-F7C3-4E5B-9ADA-0059D4DEAD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vel expense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66F-7A35-469D-AD49-F36A6D7C3E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2D29-FC56-4546-8811-4727382184B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0C52-9678-4272-A9CB-9C16387C83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A60-C67E-4C91-AC11-A59C582D95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fferentiate a business process from a business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produ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e integrated information systems and explain why they are importa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33F-A070-4C33-A90F-69721A77E1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6" descr="Fig01-05"/>
          <p:cNvPicPr/>
          <p:nvPr/>
        </p:nvPicPr>
        <p:blipFill>
          <a:blip r:embed="rId1">
            <a:lum bright="-6000"/>
          </a:blip>
          <a:srcRect l="0" t="0" r="26762" b="15414"/>
          <a:stretch/>
        </p:blipFill>
        <p:spPr>
          <a:xfrm>
            <a:off x="1905120" y="1371600"/>
            <a:ext cx="5046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508-E3B2-4D33-BA87-9C2723321FF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0CDE-605A-4C5B-B4E5-54CDC0E904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266-59C6-4FEE-9951-E12988E3DB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252-7B54-45C2-A0DD-568F5C7FE1B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B3EB-32E4-47C1-8152-869656BFF4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Fig01-06"/>
          <p:cNvPicPr/>
          <p:nvPr/>
        </p:nvPicPr>
        <p:blipFill>
          <a:blip r:embed="rId1">
            <a:lum bright="-6000"/>
          </a:blip>
          <a:srcRect l="0" t="0" r="29227" b="15201"/>
          <a:stretch/>
        </p:blipFill>
        <p:spPr>
          <a:xfrm>
            <a:off x="1936800" y="1371600"/>
            <a:ext cx="5073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C2FF-CD62-47AB-9124-221E0C20D79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2A9-DFFF-4A53-846F-E7C19CF5391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DBB-9B1B-43C4-8D13-F3FDAE7099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10DC-E579-44BD-870E-6E6D88B3494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6" descr="Fig01-07"/>
          <p:cNvPicPr/>
          <p:nvPr/>
        </p:nvPicPr>
        <p:blipFill>
          <a:blip r:embed="rId1">
            <a:lum bright="-6000"/>
          </a:blip>
          <a:srcRect l="0" t="0" r="26288" b="12219"/>
          <a:stretch/>
        </p:blipFill>
        <p:spPr>
          <a:xfrm>
            <a:off x="1981080" y="1371600"/>
            <a:ext cx="518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3BA-951A-47EB-AB5D-DF94F778A4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E59-8132-4C9E-AA29-C88F51E9C2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5C5-544B-4F92-8C21-208BA9F3A6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833-DD3F-4FD2-90FB-B6FED218D4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340-A701-4714-A0E4-1AF173BB409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59B4-6311-411C-B1F4-7712536561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945B-1108-4417-BF52-2B44886A886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F30-662F-4E83-B539-5B9273F0DC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EF6B-0E3F-4F73-9B0D-8334C3F172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582D-9F83-414E-AE52-86ADA1600F4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8" descr="Fig01-01"/>
          <p:cNvPicPr/>
          <p:nvPr/>
        </p:nvPicPr>
        <p:blipFill>
          <a:blip r:embed="rId1"/>
          <a:srcRect l="0" t="0" r="4013" b="5233"/>
          <a:stretch/>
        </p:blipFill>
        <p:spPr>
          <a:xfrm>
            <a:off x="2209680" y="1044720"/>
            <a:ext cx="4560840" cy="4441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2AA-E8A0-4802-B9A0-3E03CAB1F1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F0F-708A-44B4-95F2-BBCCA6B7D3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03T05:24:25Z</dcterms:modified>
  <cp:revision>558</cp:revision>
  <dc:subject/>
  <dc:title/>
</cp:coreProperties>
</file>