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961B-017D-4686-A98E-7AF8B9B15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559A-45B3-4691-8F6A-8A0018777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89FBF-65A5-413D-B7A7-8063A5EA7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8DAA1-07DF-49F8-9C4E-646541290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65ADD-6AB3-4831-8629-8E893136B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9A9D5-DA74-45B5-BEB4-CD4B91B053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93E82-CE2B-4ECC-8EFF-EB50B2F7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1F9AC-2D13-465A-81D2-85A4CB9A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2608A-8069-4E32-9973-3C8EADAE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86E28-0BE4-4FBB-826A-133AE74B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AF269-AE02-4A19-99F3-783DDB9B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22900-6142-491A-BF67-19D5A562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B81FF-0B74-49B4-AC79-247AB080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EC833-BEE5-40AF-A0D1-8E9CF11888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CC509-1AA8-4D5F-92BB-3E0B7178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21742-5E67-4130-BFF8-D82701A9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04946-8B7A-4D47-8801-BD23C11D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466C3-41DC-4BA5-B08C-EA98F641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80E1C-E6A8-4EC0-B611-3D9F0674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D57DC-AD2B-4585-B9CA-7FBE266D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1D1570-A8B8-4611-8A9A-91E5E942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9E02D4-1588-4C58-A947-4C8FDD65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316CA5-85A8-492F-A6D9-93B8E08F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41F16-9D44-43F3-A4C2-ECF5BECD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8890C-04BA-491C-8E77-42ACF519A2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2A203B-BA0F-4078-9449-FBDDC972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C1981C-A34D-43F4-81E3-E8C9C371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8A9DE2-EA90-41D6-A8F2-A4ACE453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04E040-5F81-46CB-9EB2-81188768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EF4155-78D4-41B5-9BAA-D814A1C5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2A335-B9E1-42F7-B106-0DD2C3E1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643768-16A5-40CA-A65D-4178E5FCD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0EBFF-E294-4256-B9E8-A932B89FC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66CA1-3E02-466D-9826-3192B3DB9C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5C10A-ADB2-4157-8E49-DC76632AC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962AA-0EDB-4503-BEAF-D7ECA93E1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C9480-66B1-4CED-91CA-A3168415E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D6FCA-343F-4901-9670-8185B398DB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1A13-3B9B-4DC3-930E-B252DC731DB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CDC2-3814-4D7B-B629-C6E28B0748E7}" type="datetime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00A5-A71A-48E5-9CBE-529E0AE5CD9E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15AB-9449-454D-83EB-9D0D1BB11414}" type="datetime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1128-C98C-4F16-80AC-5567C5A1ED5B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Concepts in Enterprise Resource Planning</a:t>
            </a:r>
            <a:br>
              <a:rPr sz="4400"/>
            </a:br>
            <a:r>
              <a:rPr b="0" i="1" lang="en-US" sz="4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22222"/>
                </a:solidFill>
                <a:latin typeface="Arial"/>
              </a:rPr>
              <a:t>Fourth Edition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One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Business Functions and Business Processes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BE8C-7F3E-413B-A794-2A272F71931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usinesses must always consider customer’s viewpoint in any transa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ccessful customer intera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stomer (either internal or external) is not required to interact with each business function involved in the proc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ccessful business managers view business operations from the perspective of a satisfied custom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61AC-B5FD-42A2-BA96-F731C7819E4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haring data effectively and efficiently between and within functional areas leads to more efficient business process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Integrated information system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 Systems in which functional areas share da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7982-D0F7-46A3-A059-4C51BF653D2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2362320" y="556272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3  A process view of busin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6" descr="Fig01-03"/>
          <p:cNvPicPr/>
          <p:nvPr/>
        </p:nvPicPr>
        <p:blipFill>
          <a:blip r:embed="rId1"/>
          <a:srcRect l="0" t="0" r="0" b="8118"/>
          <a:stretch/>
        </p:blipFill>
        <p:spPr>
          <a:xfrm>
            <a:off x="1600200" y="1600200"/>
            <a:ext cx="57229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874A-A031-4B45-B422-65C56360B08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usinesses take inputs (resources) and transform these inputs into goods and services for custom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puts: Material, people, equip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aging inputs and business processes effectively requires accurate and up-to-date inform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8312-02C9-4C56-8D91-45C8059B31E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s and Business Processes of a Very Small Busine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xample: A fictitious Coffee Sho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xamine business processes of the lemonade stan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e why coordination of functional areas helps achieve efficient and effective business proces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ook at how integration of the information system improves the busines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CBCB-0ECE-48D5-AAD7-A5165E57364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 of Marketing and Sa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veloping produc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termining pric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moting products to custom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aking customers’ ord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elping create a sales foreca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D9C1-5D59-410E-8405-6839A5B1E2F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rketing and Sales tasks for the lemonade stan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ormal recordkeeping not requir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eed to keep track of custom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 development can be done informall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Good repeat customers allowed to charge purchases—up to a poi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Records must show how much each customer owes and his or her available credit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6F59-8945-4AA5-A2F3-31D8DB7ED68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 within Supply Chain Manag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king the lemonade (manufacturing/production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uying raw materials (purchasing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duction planning requires sales forecasts from M/S functional are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Sales forecasts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alyses that attempt to predict the future sales of a produc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4AA4-84FE-41B9-93D1-C1708665793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duction plans used to develop requirements for raw materials and packag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aw materials: Bottled spring water, fresh lemons, artificial sweetener, raw suga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ckaging: Cups, straws, napki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CM and M/S must choose a recipe for each lemonade product sol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F24B-6150-4021-AD47-870A43321B9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 within Accounting and Finan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ording raw data about transactions (including sales), raw material purchases, payroll, and receipt of cash from custom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Raw data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umbers collected from those operations, without any manipulation, calculation, or arrangement for present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E78C-6751-4C4A-B231-C540E406D57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fter completing this chapter, you will be able 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ame the main functional areas of operation used in busines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ifferentiate a business process from a business fun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dentify the kinds of data that each main functional area produ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dentify the kinds of data that each main functional area need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fine integrated information systems and explain why they are importa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0EA2-9BD4-43BB-A83F-B649BCAC1DA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ata from Accounting and Finance used by Marketing and Sales and Supply Chain Manag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records are important component of sales foreca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forecast is used in making staffing decisions and in production plann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ords from accounts receivable used to monitor the overall credit-granting policy of the lemonade stan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B000-E22F-4818-B55F-422141562CD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s of Human Resour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ruit, train, evaluate, and compensate employe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R uses sales forecasts developed by the individual departments to plan personnel need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ystems integrated using ERP software provide the data sharing necessary between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6A30-38CF-4B76-9202-D9C29AE35E7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 Information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otential inputs and outputs for each functional area described nex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ote the kinds of data needed by each area and how people use the da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formation systems maintain relationships between all functional areas and process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5E8B-D150-4ECD-B583-A4837F40C47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eeds information from all other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ustomers communicate orders to M/S in person or by telephone, e-mail, fax, the Web, etc.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/S has a role in determining product pri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icing might be determined based on a product’s unit cost, plus some percentage marku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quires information from Accounting and Finance, and Supply Chain Management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CD38-A9F4-4B05-8684-9CED2F01DC1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457200" y="533412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4  The Marketing and Sales functional area exchanges data with customers and with the Human Resources, Accounting and Finance, and Supply Chain Management functional are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6" descr="Fig01-04"/>
          <p:cNvPicPr/>
          <p:nvPr/>
        </p:nvPicPr>
        <p:blipFill>
          <a:blip r:embed="rId1">
            <a:lum bright="-6000"/>
          </a:blip>
          <a:srcRect l="0" t="0" r="28048" b="13905"/>
          <a:stretch/>
        </p:blipFill>
        <p:spPr>
          <a:xfrm>
            <a:off x="1905120" y="1403280"/>
            <a:ext cx="519264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DAEA-BA0E-4F0C-88DA-96C70D70208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/S needs to interact with Human Resources to exchange information on hiring needs, legal requirements, etc.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puts for M/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stomer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rder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trend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er-unit co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ravel expense company polic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55A4-5A0A-493E-AD77-5C021D0DE2C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and Sal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utputs for M/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strateg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 pric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mployment need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F2B5-29D0-4892-90F1-5EC7EE607ED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eeds information from various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duction plans based on information about product sales (actual and projected) that comes from Marketing and Sa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th accurate data about required production level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aw material and packaging can be ordered as need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ventory levels can be kept low, saving mone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47B6-7CCD-49B6-A586-471CFF614E4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pply Chain Management data and records can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vide data needed by Accounting and Finance to determine how much of each resource was us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upport the M/S function by providing information about what has been produced and shipp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pply Chain Management interacts in some ways with Human Resour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74A4-B8D0-446B-AB61-1BBA8BD994E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57200" y="52578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5  The Supply Chain Management functional area exchanges data with suppliers and with the Human Resources, Marketing and Sales, and Accounting and Finance functional are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6" descr="Fig01-05"/>
          <p:cNvPicPr/>
          <p:nvPr/>
        </p:nvPicPr>
        <p:blipFill>
          <a:blip r:embed="rId1">
            <a:lum bright="-6000"/>
          </a:blip>
          <a:srcRect l="0" t="0" r="26762" b="15414"/>
          <a:stretch/>
        </p:blipFill>
        <p:spPr>
          <a:xfrm>
            <a:off x="1905120" y="1371600"/>
            <a:ext cx="504648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0C60-BD45-4C68-8432-B88A7E70E36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Enterprise Resource Planning (ERP)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programs: Core software used by companies to coordinate information in every area of busines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elp manage companywide business proces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 common database and shared management reporting too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Business proces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llection of activities that takes some input and creates an output that is of value to the custom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18E3-A90D-4344-88E8-02755F2662C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puts for SC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 sales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ion pla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ventory leve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ayoff and recall company polic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F5C7-B2DC-44E4-9989-F36F92823E2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utputs for SC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aw material ord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ckaging ord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source expenditur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ion and inventory repor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iring inform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0CC6-81D6-4BD1-9B5A-955B504557D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eeds information from all other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/F personnel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ord company’s transactions in the books of accou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ord accounts payable when raw materials are purchased and cash outflows when they pay for materia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ummarize transaction data to prepare reports about company’s financial position and profitabilit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DF8E-D542-4619-9373-0B64E6C9DB3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eople in other functional areas provide data to A/F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/S provides sales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CM provides production and inventory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R provides payroll and benefit expens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/S personnel require data from A/F to evaluate customer credi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D90A-13F1-4E78-B37E-E2C37BA07DD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457200" y="52578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6  The Accounting and Finance functional area exchanges data with customers and with the Human Resources, Marketing and Sales, and Supply Chain Management functional are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Picture 6" descr="Fig01-06"/>
          <p:cNvPicPr/>
          <p:nvPr/>
        </p:nvPicPr>
        <p:blipFill>
          <a:blip r:embed="rId1">
            <a:lum bright="-6000"/>
          </a:blip>
          <a:srcRect l="0" t="0" r="29227" b="15201"/>
          <a:stretch/>
        </p:blipFill>
        <p:spPr>
          <a:xfrm>
            <a:off x="1936800" y="1371600"/>
            <a:ext cx="507348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D74B-C63B-4F80-AFB9-4EF02F39226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puts for A/F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yments from custom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counts receivabl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counts payabl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ion and inventory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yroll and expens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42F1-C74A-4810-95CB-38397F6213A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nd Financ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utputs for A/F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yments to suppli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nancial repor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stomer credit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8C53-63EA-451B-9842-4C6124AF335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R needs information from the other departmen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asks related to employee hiring, benefits, training, and government compliance are all responsibilities of H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R needs accurate forecasts of personnel needs from all functional uni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R needs to know what skills are needed to perform a particular job and how much the company can afford to pay employe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B2C8-49B6-422B-A0D3-9835D411935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457200" y="52578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7  The Human Resources functional area exchanges data with the Accounting and Finance, Marketing and Sales, and Supply Chain Management functional are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Picture 6" descr="Fig01-07"/>
          <p:cNvPicPr/>
          <p:nvPr/>
        </p:nvPicPr>
        <p:blipFill>
          <a:blip r:embed="rId1">
            <a:lum bright="-6000"/>
          </a:blip>
          <a:srcRect l="0" t="0" r="26288" b="12219"/>
          <a:stretch/>
        </p:blipFill>
        <p:spPr>
          <a:xfrm>
            <a:off x="1981080" y="1371600"/>
            <a:ext cx="5181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02C6-E847-4BCE-BCBB-5A2C01DA590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bserving governmental regulations in recruiting, training, compensating, promoting, and terminating employe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puts for H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ersonnel forecas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kills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s and Business Process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understand ERP, you must understand how a business work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unctional areas of oper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usiness proces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CC32-59FD-4029-98D5-17ED2649C90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E2A7-D74A-47E8-B33A-FFB1FBDEA1B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utputs for H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gulation complian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mployee training and certific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kills databas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mployee evaluation and compens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5F9F-D10C-4C76-8533-E9B9BD48045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gnificant amount of data is maintained by and shared among the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imeliness and accuracy of these data critical to each area’s success and to company’s ability to make a profit and generate future growth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oftware allows all functional areas to share a common databas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ows accurate, real-time information to be availab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3D21-C3AE-40D7-B975-FB6C36CAA0C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asic functional areas: Marketing and Sales, Supply Chain Management, Accounting and Finance, and Human Resour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rketing and Sales: Sets product prices, promotes products through advertising and marketing, takes customer orders, supports customers, and creates sales forecas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pply Chain Management: Develops production plans, orders raw materials from suppliers, receives raw material, manufactures products, maintains facilities, and ships products to custom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C28F-9DEB-46CB-8826-837C766670B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counting and Finance: Financial accounting to provide summaries of operational data in managerial reports, controlling accounts, planning and budgeting, and cash-flow manag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uman Resources: Recruits, hires, trains, and compensates employees, ensures compliance with government regulations, and oversees the evaluation of employe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formation systems capture, process, and store data to provide information needed for decision mak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CB15-E05B-498B-9A2D-D401FA71E3B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mployees working in one functional area need data from employees in other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unctional area information systems should be integrated, so shared data are accurate and timel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agers think in terms of business processes that integrate the functional area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eed to share information between functions and functional area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RP software provides this capability by means of a single common databas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D446-F34A-4031-BC17-1473F869AB2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s of Opera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rketing and Sales (M/S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upply Chain Management (SCM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counting and Finance (A/F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uman Resources (HR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Business function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 Activities specific to a functional area of oper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2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F258-0357-46F3-A930-20917A36F20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457200" y="55627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1  Examples of functional areas of operation and their business fun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8" descr="Fig01-01"/>
          <p:cNvPicPr/>
          <p:nvPr/>
        </p:nvPicPr>
        <p:blipFill>
          <a:blip r:embed="rId1"/>
          <a:srcRect l="0" t="0" r="4013" b="5233"/>
          <a:stretch/>
        </p:blipFill>
        <p:spPr>
          <a:xfrm>
            <a:off x="2209680" y="1044720"/>
            <a:ext cx="4560840" cy="44416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2"/>
          <p:cNvSpPr/>
          <p:nvPr/>
        </p:nvSpPr>
        <p:spPr>
          <a:xfrm>
            <a:off x="533520" y="2286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s of Operation (cont’d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FE52-8868-4F3E-8AFE-0CF449C2770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reas of Operatio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unctional areas are interdepend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ach requires data from the oth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etter integration of functional areas leads to improvements in communication, workflow, and success of compan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Information system (IS)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uters, people, procedures, and software that store, organize, and deliver inform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7325-726E-43CC-83B6-0625C4F6C3D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llection of activities that takes one or more kinds of input and creates an output that is of value to  custom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stomer can be traditional external customer or internal custom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nking in terms of business processes helps managers to look at their organization from the customer’s perspectiv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Third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C52B-AF1D-4CF7-ADCB-6DEA2938EE0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 Process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990720" y="53341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-2  Sample business processes related to the sale of a personal compu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6" descr="Fig01-02"/>
          <p:cNvPicPr/>
          <p:nvPr/>
        </p:nvPicPr>
        <p:blipFill>
          <a:blip r:embed="rId1"/>
          <a:srcRect l="0" t="0" r="0" b="11294"/>
          <a:stretch/>
        </p:blipFill>
        <p:spPr>
          <a:xfrm>
            <a:off x="990720" y="1981080"/>
            <a:ext cx="7350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14-09-02T07:40:38Z</dcterms:modified>
  <cp:revision>558</cp:revision>
  <dc:subject/>
  <dc:title/>
</cp:coreProperties>
</file>