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B602-0277-4439-AADF-8552BF00C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F335-B12F-4AAE-8483-4DB79E712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E746-AAA9-4F3F-85FC-31F347DC5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3685-A402-4F35-AE70-C5AE0DB13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A023-00DF-49A1-82D3-FD0610FFF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5493-FA1C-4B6A-910B-B50662827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E2F00-FFD4-472D-9F64-C6438C39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37772-BD13-45D6-93A1-874388ED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DA4A8-8D08-481B-A2F8-7954B9C8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AE797-A5FA-464B-9F75-018ED8EE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265E5-0106-4ACA-A3D9-60963332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8528E-992F-4692-B206-7453C9BA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ABF03-7756-4D5D-9DDD-DC783B88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6246-3941-49A8-8B1A-9A0638DF0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EA2CE-BD2A-4D37-AFD3-0A90C3F5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11F5E-FFD8-4396-AFEF-8AD3CCE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05D29-CFAC-4F8D-979E-75AEADFE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92284-0572-4132-9B2B-9E1A0B37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A5F52-8748-49A0-9377-A7A4995D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7CD29-211B-4933-A4F3-67283E91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7C3C5-9AA8-4F01-A8EE-D2260BEB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6523A-5660-4400-885D-BD23BE1D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FD496-7D98-47D8-BB8F-4BB43DB0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96AA5-81B2-43FA-8866-C4FA34A8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8B339-622C-4085-8BDB-0FF62DF1F9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21680-299D-4A2B-8840-83CA6477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9C1C5-D0AF-4AED-B7C6-A75A733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24330-BC77-4D94-A2F4-B2FC3C61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AEA60-A4AB-45B5-A83D-C7E71A10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45CB0-F1D8-4048-86BA-36F4C6AB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383E4-A565-4844-B927-E40BDBD0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5D470-F244-49AF-BFEC-C39674D0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73D4-E85B-49D9-A0F9-10A015BF2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86E1-EA6E-4429-899A-F1C06B829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CD1E-344B-4ACF-A3CC-FE6E6381C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B66B-E322-4F1F-9404-65CB61572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2D52-8BE8-484B-ADA1-1B9B229BF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BDAD-D515-43AE-B233-C5C9F76EC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57B6-36C9-4DF4-94C4-35EC6E98F07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6AF1-437A-4355-B815-7AC643894B19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24F1-9BF1-4EF4-8507-EE6C747138D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19C6-FAE0-4DCE-81F2-CA6F504F5672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05CC-AF62-4BCC-8F72-D5EC8EDEB12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Four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On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Business Functions and Business Processe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2CD3-7FFC-4682-B797-996AF83160E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must always consider customer’s viewpoint in any trans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customer inter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(either internal or external) is not required to interact with each business function involved in the pro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business managers view business operations from the perspective of a satisfied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F40B-CA05-41A2-9E73-8EC85592375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ing data effectively and efficiently between and within functional areas leads to more efficient business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tegrated information system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Systems in which functional areas shar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6877-BC82-4F1B-B7A9-DEDA440B33A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362320" y="55627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3  A process view of 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6" descr="Fig01-03"/>
          <p:cNvPicPr/>
          <p:nvPr/>
        </p:nvPicPr>
        <p:blipFill>
          <a:blip r:embed="rId1"/>
          <a:srcRect l="0" t="0" r="0" b="8118"/>
          <a:stretch/>
        </p:blipFill>
        <p:spPr>
          <a:xfrm>
            <a:off x="1600200" y="1600200"/>
            <a:ext cx="5722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42D0-995D-48FE-8741-C0F236BFF18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take inputs (resources) and transform these inputs into goods and services for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puts: Material, people, equi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ing inputs and business processes effectively requires accurate and up-to-date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4AF4-5B06-45D6-800A-EEB82CF515E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 of a Very Small Busin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ample: A fictitious Coffee Sh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ine business processes of the lemonade st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why coordination of functional areas helps achieve efficient and effectiv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ok at how integration of the information system improves the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B367-E2A4-4A99-8516-3C987D2EC00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ing produ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ing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moting products to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ing customers’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ing create a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0E72-6B77-4205-9521-CCA12301B4D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tasks for the lemonade stan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mal recordkeeping not requir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keep track of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development can be done inform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ood repeat customers allowed to charge purchases—up to a poi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cords must show how much each customer owes and his or her available credi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5B28-2016-4997-85A0-525856A5A17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ing the lemonade (manufacturing/production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ying raw materials (purchasing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ning requires sales forecasts from M/S functional are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ales forecas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alyses that attempt to predict the future sales of a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5A3B-9543-4C82-959F-656021256FF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used to develop requirements for raw materials and packag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s: Bottled spring water, fresh lemons, artificial sweetener, raw sug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: Cups, straws, napki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CM and M/S must choose a recipe for each lemonade product so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2ACD-E457-4A63-B3F6-8D1EA3499D7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Accounting and Fina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ing raw data about transactions (including sales), raw material purchases, payroll, and receipt of cash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aw data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umbers collected from those operations, without any manipulation, calculation, or arrangement for present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4812-5060-4D70-8857-ACEE96F3985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me the main functional areas of operation used in busi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fferentiate a business process from a business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kinds of data that each main functional area produ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kinds of data that each main functional area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fine integrated information systems and explain why they are importa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F38B-43DB-416E-B4CB-8B9D601781C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from Accounting and Finance used by Marketing and Sales and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records are important component of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forecast is used in making staffing decisions and in production plan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s from accounts receivable used to monitor the overall credit-granting policy of the lemonade st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B73E-56E1-4BA0-AC52-4F7D67C533F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ruit, train, evaluate, and compensate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uses sales forecasts developed by the individual departments to plan personnel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ystems integrated using ERP software provide the data sharing necessary between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029D-A8F8-4266-ACD9-221E329882E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 Informat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otential inputs and outputs for each functional area described nex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e the kinds of data needed by each area and how people use th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maintain relationships between all functional areas and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EBAD-CBE4-405F-B076-E1DE5A13B5C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stomers communicate orders to M/S in person or by telephone, e-mail, fax, the Web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has a role in determining product pr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cing might be determined based on a product’s unit cost, plus some percentage mark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quires information from Accounting and Finance, and Supply Chain Managemen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5853-11D0-486B-B4BF-DD98701AF16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57200" y="5334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4  The Marketing and Sales functional area exchanges data with customers and with the Human Resources, Accounting and Finance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6" descr="Fig01-04"/>
          <p:cNvPicPr/>
          <p:nvPr/>
        </p:nvPicPr>
        <p:blipFill>
          <a:blip r:embed="rId1">
            <a:lum bright="-6000"/>
          </a:blip>
          <a:srcRect l="0" t="0" r="28048" b="13905"/>
          <a:stretch/>
        </p:blipFill>
        <p:spPr>
          <a:xfrm>
            <a:off x="1905120" y="1403280"/>
            <a:ext cx="51926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CA5E-6B7A-4FB2-BD90-E590F2B550E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needs to interact with Human Resources to exchange information on hiring needs, legal requirements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d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trend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-unit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vel expense company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EE89-DD2D-4305-ADFF-DE70A9829B5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strateg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ment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C9DD-8E33-4E28-93D6-0BD69FD44F1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various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based on information about product sales (actual and projected) that comes from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accurate data about required production level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and packaging can be ordered as need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 can be kept low, saving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560D-9FA8-41F1-B7DA-3A08EA5820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data and records ca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data needed by Accounting and Finance to determine how much of each resource was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pport the M/S function by providing information about what has been produced and ship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interacts in some ways with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CCA4-0ECE-44A3-ACD8-D7DDE404BCF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5  The Supply Chain Management functional area exchanges data with suppliers and with the Human Resources, Marketing and Sales, and Accounting and Finance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6" descr="Fig01-05"/>
          <p:cNvPicPr/>
          <p:nvPr/>
        </p:nvPicPr>
        <p:blipFill>
          <a:blip r:embed="rId1">
            <a:lum bright="-6000"/>
          </a:blip>
          <a:srcRect l="0" t="0" r="26762" b="15414"/>
          <a:stretch/>
        </p:blipFill>
        <p:spPr>
          <a:xfrm>
            <a:off x="1905120" y="1371600"/>
            <a:ext cx="50464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1991-A450-4CA6-9DFC-7628B8CA1C0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nterprise Resource Planning (ERP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programs: Core software used by companies to coordinate information in every area of busi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 manage companywid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common database and shared management reporting t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proces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some input and creates an output that is of value to the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EAA8-144E-446A-B50E-133EC02D1D8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yoff and recall company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D4E9-8654-4384-B10A-843D4B2869E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source expenditur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ring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D856-0539-43A9-9F4C-301996D0930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/F personnel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company’s transactions in the books of acc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accounts payable when raw materials are purchased and cash outflows when they pay for materi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mmarize transaction data to prepare reports about company’s financial position and profit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1B84-96AD-45D8-A897-5248FA7DA4E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ople in other functional areas provide data to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/S provides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CM provides 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R provides payroll and benefit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personnel require data from A/F to evaluate customer cred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6994-1E08-4CE9-A010-E84DE518B3F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6  The Accounting and Finance functional area exchanges data with customers and with the Human Resources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6" descr="Fig01-06"/>
          <p:cNvPicPr/>
          <p:nvPr/>
        </p:nvPicPr>
        <p:blipFill>
          <a:blip r:embed="rId1">
            <a:lum bright="-6000"/>
          </a:blip>
          <a:srcRect l="0" t="0" r="29227" b="15201"/>
          <a:stretch/>
        </p:blipFill>
        <p:spPr>
          <a:xfrm>
            <a:off x="1936800" y="1371600"/>
            <a:ext cx="50734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4BA4-0059-408A-931A-8C0E1FA9AE8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receiv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pay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roll and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18A3-218C-461B-A7C2-CD598C5E0CD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to suppli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redi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A529-EC45-4F55-8594-F78285851CA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information from the other depart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sks related to employee hiring, benefits, training, and government compliance are all responsibilities of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accurate forecasts of personnel needs from all functional uni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to know what skills are needed to perform a particular job and how much the company can afford to pay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BD1A-9EAE-42B1-B9C8-18511FBE90D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7  The Human Resources functional area exchanges data with the Accounting and Finance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Picture 6" descr="Fig01-07"/>
          <p:cNvPicPr/>
          <p:nvPr/>
        </p:nvPicPr>
        <p:blipFill>
          <a:blip r:embed="rId1">
            <a:lum bright="-6000"/>
          </a:blip>
          <a:srcRect l="0" t="0" r="26288" b="12219"/>
          <a:stretch/>
        </p:blipFill>
        <p:spPr>
          <a:xfrm>
            <a:off x="1981080" y="1371600"/>
            <a:ext cx="5181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3624-E7B1-4B5C-88C6-E28382A864A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bserving governmental regulations in recruiting, training, compensating, promoting, and terminating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sonnel forecas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understand ERP, you must understand how a business 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7C82-D8A4-488E-B4F8-34924E27530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CFF8-7783-4D9B-AB88-1EB4F67B633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gulation compli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training and certific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evaluation and compens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A1E9-4F06-4F56-A677-4B23889ADF3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gnificant amount of data is maintained by and shared among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liness and accuracy of these data critical to each area’s success and to company’s ability to make a profit and generate future growt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oftware allows all functional areas to share a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accurate, real-time information to be avai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5C3B-7AD6-423F-BAF5-C1BBF6C0E9B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asic functional areas: Marketing and Sales, Supply Chain Management, Accounting and Finance, and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: Sets product prices, promotes products through advertising and marketing, takes customer orders, supports customers, and creates sales forecas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: Develops production plans, orders raw materials from suppliers, receives raw material, manufactures products, maintains facilities, and ships products to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6415-11D2-419B-9C63-B789B30E935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: Financial accounting to provide summaries of operational data in managerial reports, controlling accounts, planning and budgeting, and cash-flow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: Recruits, hires, trains, and compensates employees, ensures compliance with government regulations, and oversees the evaluation of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capture, process, and store data to provide information needed for decision mak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C003-A63B-418F-8DBD-E9B083B88BD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mployees working in one functional area need data from employees in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 information systems should be integrated, so shared data are accurate and time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rs think in terms of business processes that integrate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share information between functions and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software provides this capability by means of a single common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8E2E-D724-42A9-9B3E-3423F926418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(M/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(SCM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 (A/F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(HR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function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Activities specific to a functional area of ope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E479-FCBC-4C82-A08A-95020E6A59C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5720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1  Examples of functional areas of operation and their 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8" descr="Fig01-01"/>
          <p:cNvPicPr/>
          <p:nvPr/>
        </p:nvPicPr>
        <p:blipFill>
          <a:blip r:embed="rId1"/>
          <a:srcRect l="0" t="0" r="4013" b="5233"/>
          <a:stretch/>
        </p:blipFill>
        <p:spPr>
          <a:xfrm>
            <a:off x="2209680" y="1044720"/>
            <a:ext cx="4560840" cy="4441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8D75-443D-43D8-9002-025217FF14C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al areas are interdepend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requires data from the oth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tter integration of functional areas leads to improvements in communication, workflow, and success of compan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formation system (IS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uters, people, procedures, and software that store, organize, and deliver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4C96-67B3-46E3-B910-FE9BC4DF063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one or more kinds of input and creates an output that is of value to 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an be traditional external customer or internal custom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nking in terms of business processes helps managers to look at their organization from the customer’s perspect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71F9-A713-408D-9EBE-9550D5D51D1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90720" y="5334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2  Sample business processes related to the sale of a personal compu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6" descr="Fig01-02"/>
          <p:cNvPicPr/>
          <p:nvPr/>
        </p:nvPicPr>
        <p:blipFill>
          <a:blip r:embed="rId1"/>
          <a:srcRect l="0" t="0" r="0" b="11294"/>
          <a:stretch/>
        </p:blipFill>
        <p:spPr>
          <a:xfrm>
            <a:off x="990720" y="1981080"/>
            <a:ext cx="7350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9-02T07:40:38Z</dcterms:modified>
  <cp:revision>558</cp:revision>
  <dc:subject/>
  <dc:title/>
</cp:coreProperties>
</file>