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notesSlide5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0.wmf" ContentType="image/x-wmf"/>
  <Override PartName="/ppt/media/image21.jpeg" ContentType="image/jpeg"/>
  <Override PartName="/ppt/media/image19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D0A9-55D0-4F09-B835-6FC43DADE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7911-8544-4882-BBFA-79A2D8436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C24C-BB52-4285-BF1B-962F1AD8F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4C31-F240-4A62-9D06-B539A7821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638F-C515-43D2-A0F7-4F05E498A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5482-E53C-49DC-B6A2-1988304EF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F137-F94E-4C6B-A046-9DB7323A0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647E-77EA-4559-A593-AACBF3690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1A94-E015-4357-85A6-6624AC7DF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8BF5-5F04-40FA-B043-2C144D4F5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EBF4-33CD-4E43-88C2-7646ADBEE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9BFC-D189-4B00-A9D2-ADBF2BF84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A9F5-F199-4BC1-9CE5-F7CFF50EA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BA05-E4CE-45E1-BF78-51EA61BA1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3178-B8ED-4A0B-8FF9-815734BD4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866B-4AAE-46FD-90FE-E92957224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44C3-3BC9-428F-8570-7BD471877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85EF-6E87-4F28-BD9E-DEC376709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31AB-C8D3-4C6C-B41F-A38595AC7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505E-84CB-4FB4-AAB0-E8710AF13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94A4-F596-4B8A-BEC9-8C314A202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6CF0-7E31-443D-A53F-7DBC38E2E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6586-06FC-4002-9FC7-7AAB773AA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C479-52E0-46E9-A05E-5EC0F5EBA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6671-EAD8-4C0F-A5B1-6245FE0D5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64F7-D183-4932-9AB6-AB7AC524E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CBED-533C-4736-9687-E849F6092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F7C4-0A96-4B2A-8746-8B517915D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F7D2-7F74-43D7-893A-BCE0256A0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C0D0-D309-4675-89B7-5F7A2AC70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D56D-A2C3-44B9-9FC9-C6B288A16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BC49-47DB-4F46-9BBE-6CB2018A9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8EE5-F926-416A-A758-444AFA3A1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5E0C-824C-42B4-8E8B-553A8492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5ABA-8128-421E-BD33-E0F51DED0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CDAE-A7DD-4A32-833A-0B774FE25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F1D6-AAE8-4B41-9A10-274FD7685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E94BE-D612-44DD-8871-13430307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E754-6580-4BE2-A090-A361CBB2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78F6-C16E-41AF-A2BC-2A5BA3A3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5637-AF3E-416A-A483-847A9E4B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1F68-D9DC-44B1-9C1F-65797713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17B4-6C92-4E3D-AD4F-4312DCF6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CD98-9081-4C5C-9258-CB51452A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32C7-F402-4647-852A-9A6B8256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464F-C3FD-416D-AB7A-BE8D5CA3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1C7C-823A-458C-A232-1F753233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E55A-D84C-42E6-8A7F-C733D5776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602B-6137-43A9-8598-A950B42A5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A5F84-7E95-4161-A5D5-4945A476B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6F74F-2709-45FA-A3B4-8BAEE051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8273A-12D3-4232-8C6C-C0344905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15E00-DCE2-4488-9509-0F8E14BC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7F6DE-CE5F-4621-A8C4-F682247A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9811-C056-473F-B4A2-8B34E204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CB8C5-6CF3-4D7E-996A-5CC49BCC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E3458-C76E-459D-8602-EC1F7929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ACD2D-05CC-4947-BD16-162C00DA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0035A-0B88-40DC-BE20-15E0D9B6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FF73F-DFA8-4F3A-8A4F-6486D1B3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0FA62-FF98-409E-B400-DD2145F5E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9CF1F-D88A-4811-96E8-2343A1F76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7B58-E978-4974-BF38-A8F71AF2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392C-DA49-4BB6-90C0-DA2F6695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C299-9474-448B-9FFE-F7C90F60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A901-3698-4074-9471-C6F81830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6389-06E3-4404-8371-7B536D9F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11D1-8E61-4DE8-BBE3-6BE837A3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976D-5A3C-4088-8C32-E8E2F93C556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7914-CC8F-4B52-B2EF-B15EB45403A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6DA8-7C2E-47FE-A888-29F09AF7570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315200" cy="944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eveloping Management Skil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752480" y="2133360"/>
            <a:ext cx="69343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hapter 1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eveloping Self-Awaren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3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CEF4-946A-4825-975E-14015C452E7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457200" y="685800"/>
            <a:ext cx="7772400" cy="838080"/>
          </a:xfrm>
          <a:prstGeom prst="rect">
            <a:avLst/>
          </a:prstGeom>
          <a:solidFill>
            <a:srgbClr val="b0dbf6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815328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1-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Sensitivity L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82880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oint at which individuals become defensive when encountering information about themselves that is inconsistent with their self-concept or when encountering pressure to alter their behavior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AAD7-3B54-4E80-A7B2-EAD01806318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4" name="Line 15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5" name="Rectangle 16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6" name="Rectangle 17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7" name="Rectangle 18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815328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1-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re discrepant the information or the more serious its implications for your self concept, the closer it would approach your sensitive line, and you would feel a need to defend yourself against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hreat-rigidity respons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ponse to defend yourself against the information to protect the image you hold of yoursel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256B-8802-45BB-AAD5-8A79D5F9788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Sensitivity L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individuals are threatened, when they encounter uncomfortable information, or when uncertainty is created, they tend to become rigid. They hunker down, protect themselves, and become risk aver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4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48A9-F9EF-4C2D-9340-991C53750BA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Sensitivity L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dividuals become rigid psychologically and emotionally when they encounter information that is a threat to their self-concep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y tend to redouble their efforts to protect what is comfortable and familiar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y rely on first-learned or most reinforced behavior patterns and emoti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hen discrepancies in the self-image are encountered, the validity of the information or its source is denied, or other kinds of defense mechanisms are used to ensure that the self-concept remains stable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rossing the sensitive line creates rigidity and self-preservatio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8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0401-EF7A-43B3-A568-9493D290758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Sensitivity L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5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90720" y="1600200"/>
            <a:ext cx="5424480" cy="40687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28440" y="1599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rossing th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nsitivity L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905120" y="3352680"/>
            <a:ext cx="54100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87280" indent="-172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 information is verifiable, predictable and controlla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287280" indent="-172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287280" indent="-172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 we self-disclose so others can provide insights into your behavi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940C-631F-409E-B23E-5F18A2D6005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5" name="Line 16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6" name="Rectangle 17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7" name="Rectangle 18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8" name="Rectangle 19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9" name="Text Box 20"/>
          <p:cNvSpPr/>
          <p:nvPr/>
        </p:nvSpPr>
        <p:spPr>
          <a:xfrm>
            <a:off x="815328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1-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1828800" y="27468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Sensitivity Line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nigma of self-awareness can be managed by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ercising some control over when and what kind of information you receive about yoursel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olving others in your pursuit of self-understand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upport and feedback individuals receive from others during the process of self-disclosure, besides helping to increase feedback and self-awareness, helps  information contribute to greater self-awareness without crossing the sensitive li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E8DB-D4D5-44FA-8933-5672DA10A32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Sensitivity L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828800" y="30492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ppreciating Individual Differ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828800" y="1904760"/>
            <a:ext cx="32004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iffer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observe differ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iminates social barri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105520" y="1828440"/>
            <a:ext cx="35812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istin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create distin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ate social barri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Espace réservé de la dat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8" name="Espace réservé du numéro de diapositiv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94E2-5C93-4982-B9A1-EE108240BAA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0" name="Line 12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2" name="Rectangle 14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4" name="Text Box 16"/>
          <p:cNvSpPr/>
          <p:nvPr/>
        </p:nvSpPr>
        <p:spPr>
          <a:xfrm>
            <a:off x="815328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1-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ive Areas of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lf Awaren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7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4773-7C14-4E07-AF80-A02B51D99E5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29" name="Picture 12" descr="WTB01C02"/>
          <p:cNvPicPr/>
          <p:nvPr/>
        </p:nvPicPr>
        <p:blipFill>
          <a:blip r:embed="rId1"/>
          <a:stretch/>
        </p:blipFill>
        <p:spPr>
          <a:xfrm>
            <a:off x="2057400" y="1600200"/>
            <a:ext cx="6324480" cy="4471920"/>
          </a:xfrm>
          <a:prstGeom prst="rect">
            <a:avLst/>
          </a:prstGeom>
          <a:ln w="0">
            <a:noFill/>
          </a:ln>
        </p:spPr>
      </p:pic>
      <p:sp>
        <p:nvSpPr>
          <p:cNvPr id="230" name="Line 14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2" name="Rectangle 16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815328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1-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motional Intellige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828800" y="2209320"/>
            <a:ext cx="64008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9920" indent="-169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icult to measure and def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69920" indent="-169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ed to be an important measure of managerial succ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8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D37C-B648-4457-B3F4-D4149ADDE53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39" name="Picture 12" descr=""/>
          <p:cNvPicPr/>
          <p:nvPr/>
        </p:nvPicPr>
        <p:blipFill>
          <a:blip r:embed="rId1"/>
          <a:stretch/>
        </p:blipFill>
        <p:spPr>
          <a:xfrm>
            <a:off x="1828800" y="1219320"/>
            <a:ext cx="6477120" cy="46972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1" name="Line 13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2" name="Rectangle 14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3" name="Rectangle 15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4" name="Rectangle 16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5" name="Text Box 17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1-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mponents of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motional Intellig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752480" y="152388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bility to diagnose and recognize your own emo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bility to control your own emo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bility to recognize and diagnose the emotions of oth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bility to respond appropriately to emotional cu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9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309B-DCA3-4D2E-9136-791D7BCF8E6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1" name="Line 10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2" name="Rectangle 11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3" name="Rectangle 12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4" name="Rectangle 13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1-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earning Obj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52480" y="167616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 your sensitivity 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rify personal values and moral maturity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ly your personal learning 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over your orientation toward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your interpersonal 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4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61B3-BD55-4787-9665-C170A5E5CD4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815328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1-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Valu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828800" y="1905120"/>
            <a:ext cx="6858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ndation for attitudes and personal prefer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is for important life deci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lp to define morality and eth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9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0604-24CE-47B9-B45D-96795A9C3D3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1" name="Line 14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2" name="Rectangle 15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3" name="Rectangle 16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4" name="Rectangle 17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5" name="Text Box 18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1-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rompenaars Cultural Value Dimens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82880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versalism vs. Particular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ism vs. Collectiv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fective vs. Neut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ic vs. Diff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hievement vs. A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st and Present vs. Fu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vs. Exter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9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36AD-4F62-4894-A822-8ECC7B4A54A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1" name="Line 11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3" name="Rectangle 13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4" name="Rectangle 14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5" name="Text Box 15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1-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sonal Valu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828800" y="152388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nstrumental Valu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desirable standards of conduct for attaining an 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erminal Valu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desirable ends or goals for the individ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9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7D5A-A2D1-4E98-908D-82B6ECF5B3A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0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1" name="Line 11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2" name="Rectangle 12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3" name="Rectangle 13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4" name="Rectangle 14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5" name="Text Box 15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1-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Values that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nagers Desi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952880" y="152388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se of Accomplish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f-Resp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omfortable Li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epend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9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3DA9-E190-4C7D-A91E-7F6581A675D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1" name="Text Box 9"/>
          <p:cNvSpPr/>
          <p:nvPr/>
        </p:nvSpPr>
        <p:spPr>
          <a:xfrm>
            <a:off x="2057400" y="1828800"/>
            <a:ext cx="2666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92" name="Picture 12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3505320" cy="3006720"/>
          </a:xfrm>
          <a:prstGeom prst="rect">
            <a:avLst/>
          </a:prstGeom>
          <a:ln w="0">
            <a:noFill/>
          </a:ln>
        </p:spPr>
      </p:pic>
      <p:sp>
        <p:nvSpPr>
          <p:cNvPr id="293" name="Line 13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4" name="Rectangle 14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7" name="Text Box 17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1-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11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05120" y="1600200"/>
            <a:ext cx="5884920" cy="45021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Kohlberg’s Stages of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oral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590920" y="1905120"/>
            <a:ext cx="50292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convention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Self Center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ntional  (Conformi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tconventional (Principl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2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7A9D-758A-4A16-B77B-CB9B207EA98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3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4" name="Line 12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5" name="Rectangle 13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7" name="Rectangle 15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1-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Espace réservé du contenu 5" descr=""/>
          <p:cNvPicPr/>
          <p:nvPr/>
        </p:nvPicPr>
        <p:blipFill>
          <a:blip r:embed="rId1"/>
          <a:stretch/>
        </p:blipFill>
        <p:spPr>
          <a:xfrm>
            <a:off x="324000" y="1579680"/>
            <a:ext cx="8521560" cy="4906800"/>
          </a:xfrm>
          <a:prstGeom prst="rect">
            <a:avLst/>
          </a:prstGeom>
          <a:ln w="0">
            <a:noFill/>
          </a:ln>
        </p:spPr>
      </p:pic>
      <p:sp>
        <p:nvSpPr>
          <p:cNvPr id="310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1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81D7-59F7-440B-ADA0-FE813DCD628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2" name="ZoneTexte 6"/>
          <p:cNvSpPr/>
          <p:nvPr/>
        </p:nvSpPr>
        <p:spPr>
          <a:xfrm>
            <a:off x="457200" y="335268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wareness of your own level of values maturity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thical Decision Making And Val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5228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erican public rates the honesty, integrity, and concern for moral values of American business executives as abysm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ecutives are dishonest, overly profit-oriented, and willing to step on other people to get what they w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though 9 out of 10 companies have a written code of ethics, evidence exists to support public perceptions that these documents are not influential in assuring high moral condu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6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6707-A62E-49E2-B61C-ED70A143AEF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thical Decision Making And Val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cent Examples of Unethical Decision Mak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828440" y="2057040"/>
            <a:ext cx="33526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r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rtha Stew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d Motor Compa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est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10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124080" cy="3165480"/>
          </a:xfrm>
          <a:prstGeom prst="rect">
            <a:avLst/>
          </a:prstGeom>
          <a:ln w="0">
            <a:noFill/>
          </a:ln>
        </p:spPr>
      </p:pic>
      <p:sp>
        <p:nvSpPr>
          <p:cNvPr id="321" name="Espace réservé de la dat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2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F312-C852-4588-98CF-AC308686911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4" name="Line 11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5" name="Rectangle 12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6" name="Rectangle 13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7" name="Rectangle 14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8" name="Text Box 15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1-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thical Decision Making And Val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828800" y="1981080"/>
            <a:ext cx="68580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managers feel they are under pressure to compromise standards to meet company goals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5080" indent="-235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lict between maximizing economic  (revenues, costs, profits …) social performance (obligations to customers, employees, suppli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5080" indent="-235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 Study by American Management Associ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5080" indent="-235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2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0DDB-1518-40F5-B5E6-DB7A77CE717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4" name="Line 9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5" name="Rectangle 10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6" name="Rectangle 11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7" name="Rectangle 12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8" name="Text Box 13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1-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457200" y="1143000"/>
            <a:ext cx="8229600" cy="73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ethical trade-offs are conflicts between two desirable ends: economic versus social 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s who effectively manage ethical trade-offs are those who have a clear sense of their own values and who have developed a principled level of moral maturit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have articulated and clarified their own internal set of universal, comprehensive, and consistent principles upon which to base their decis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3DC9-14D4-4F8E-ADA1-A67E0C41507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61760" y="-766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thical Decision Making And Valu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eys dimensions of Self- Awaren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52280" y="15235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ledge of the self: core of human behav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ncient dictum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“Know Thyself”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 carved on the Oracle at Delph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acle at Delphi : mystical sanctuary  where kings and generals sought advice on matters of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eatest importanc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He that would govern others must first master himself”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ssin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04BA-6F29-49F0-859B-3F9DBA8B8F8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4" name="Text Box 40"/>
          <p:cNvSpPr/>
          <p:nvPr/>
        </p:nvSpPr>
        <p:spPr>
          <a:xfrm>
            <a:off x="815328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1-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andards for Making Ethical Deci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609120" y="1523880"/>
            <a:ext cx="80773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ont Page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uld I be embarrassed if my decision became a headline in the  local newspap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uld I feel comfortable describing my actions or decision to a customer or stockhold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olden Rule Tes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uld I be willing to be treated in the same mann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gnity and Liberty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the dignity and liberty of others preserved by this decis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the basic humanity of the affected parties enhanc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their opportunities expanded or Curtail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C8A3-9C4A-4513-ABEA-C4227F2512E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1752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andards for Making Ethical Deci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0" y="15238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qual Treatment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the rights, welfare, and betterment of minorities and lower status people given full consideration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es this decision benefit those with privilege but without mer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ersonal Gain Test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an opportunity for personal gain clouding my judgment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uld I make the same decision if the outcome did not benefit me in any wa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gruence Tes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this decision or action consistent with my espoused personal principl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es it violate the spirit of any organizational policies or law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D6C5-A778-4877-A281-97D4D9950D6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349" name="Picture 11" descr=""/>
          <p:cNvPicPr/>
          <p:nvPr/>
        </p:nvPicPr>
        <p:blipFill>
          <a:blip r:embed="rId1"/>
          <a:stretch/>
        </p:blipFill>
        <p:spPr>
          <a:xfrm>
            <a:off x="76320" y="-76320"/>
            <a:ext cx="160020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cedural Justic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the procedures used to make this decision stand up to scrutiny by those affect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st-Benefit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es a benefit for some cause unacceptable harm to other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critical is the benefit? Can the harmful effects be mitigat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ood Night’s Sleep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ther or not anyone else knows about my action, will it produce a good night’s slee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8E75-95DD-4B4F-BF38-620E1FA92A5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andards for Making Ethical Deci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Picture 11" descr=""/>
          <p:cNvPicPr/>
          <p:nvPr/>
        </p:nvPicPr>
        <p:blipFill>
          <a:blip r:embed="rId1"/>
          <a:stretch/>
        </p:blipFill>
        <p:spPr>
          <a:xfrm>
            <a:off x="76320" y="-76320"/>
            <a:ext cx="160020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1828800" y="1752120"/>
            <a:ext cx="68580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individual’s inclination to perceive, interpret and respond to information in a certain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6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C34D-CCD0-41F4-B71A-1BC9988B24D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358" name="Picture 11" descr=""/>
          <p:cNvPicPr/>
          <p:nvPr/>
        </p:nvPicPr>
        <p:blipFill>
          <a:blip r:embed="rId1"/>
          <a:stretch/>
        </p:blipFill>
        <p:spPr>
          <a:xfrm>
            <a:off x="2819520" y="3276720"/>
            <a:ext cx="3906720" cy="2898720"/>
          </a:xfrm>
          <a:prstGeom prst="rect">
            <a:avLst/>
          </a:prstGeom>
          <a:ln w="0">
            <a:noFill/>
          </a:ln>
        </p:spPr>
      </p:pic>
      <p:sp>
        <p:nvSpPr>
          <p:cNvPr id="359" name="Line 12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0" name="Rectangle 13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1" name="Rectangle 14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2" name="Rectangle 15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3" name="Text Box 16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1-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gnitiv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gnitiv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Espace réservé du contenu 5" descr=""/>
          <p:cNvPicPr/>
          <p:nvPr/>
        </p:nvPicPr>
        <p:blipFill>
          <a:blip r:embed="rId1"/>
          <a:stretch/>
        </p:blipFill>
        <p:spPr>
          <a:xfrm>
            <a:off x="420840" y="1596960"/>
            <a:ext cx="8296200" cy="4535640"/>
          </a:xfrm>
          <a:prstGeom prst="rect">
            <a:avLst/>
          </a:prstGeom>
          <a:ln w="0">
            <a:noFill/>
          </a:ln>
        </p:spPr>
      </p:pic>
      <p:sp>
        <p:nvSpPr>
          <p:cNvPr id="367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8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4303-2213-4A49-BE82-4CBCC7798C1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2286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gnitive styles are not the same as personality typ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are not inherent attribu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are inclinations toward information and learning that we have developed over tim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&gt; cognitive styles can be altered and changed through practice and conscious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one is predestined to think in a particular w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5EB9-7325-4ED9-8386-09B875966E7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gnitiv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Espace réservé du contenu 5" descr=""/>
          <p:cNvPicPr/>
          <p:nvPr/>
        </p:nvPicPr>
        <p:blipFill>
          <a:blip r:embed="rId1"/>
          <a:stretch/>
        </p:blipFill>
        <p:spPr>
          <a:xfrm>
            <a:off x="291960" y="1584360"/>
            <a:ext cx="8413920" cy="4548240"/>
          </a:xfrm>
          <a:prstGeom prst="rect">
            <a:avLst/>
          </a:prstGeom>
          <a:ln w="0">
            <a:noFill/>
          </a:ln>
        </p:spPr>
      </p:pic>
      <p:sp>
        <p:nvSpPr>
          <p:cNvPr id="373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5F96-2778-4AE5-AD11-C9D802E85C9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gnitiv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6692-1DC0-4E64-AF77-B1311E7FA5D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0" y="-66600"/>
            <a:ext cx="9120240" cy="68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ttitudes Toward Chan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828800" y="1523520"/>
            <a:ext cx="6858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duates of management schools today will face an environment unlike any person has ever experienced bef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0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D38B-98FC-4A83-9672-BB7C99D236E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1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382" name="Picture 9" descr=""/>
          <p:cNvPicPr/>
          <p:nvPr/>
        </p:nvPicPr>
        <p:blipFill>
          <a:blip r:embed="rId1"/>
          <a:stretch/>
        </p:blipFill>
        <p:spPr>
          <a:xfrm>
            <a:off x="3200400" y="3200400"/>
            <a:ext cx="4267080" cy="2855880"/>
          </a:xfrm>
          <a:prstGeom prst="rect">
            <a:avLst/>
          </a:prstGeom>
          <a:ln w="0">
            <a:noFill/>
          </a:ln>
        </p:spPr>
      </p:pic>
      <p:sp>
        <p:nvSpPr>
          <p:cNvPr id="383" name="Line 10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4" name="Rectangle 11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5" name="Rectangle 12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6" name="Rectangle 13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7" name="Text Box 14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1-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hange Orient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828800" y="152388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olerance of Ambigu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The extent to which individuals have difficulty coping with unclear situ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1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5AD9-0600-40CF-ADA6-E24626308A8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2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3" name="Line 10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4" name="Rectangle 11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5" name="Rectangle 12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6" name="Rectangle 13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7" name="Text Box 14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1-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lf-awaren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-360" y="91440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f-awareness: the ability to master onesel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f-management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f-awaren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 self-management skills closely linked to and build upon self-awarenes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ing self-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rifying priorities and go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&gt; help individuals create direction in their own liv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ing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ag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re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&gt;make it possible for individuals to adapt to and organize their surrounding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hange Orientation (cont’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828800" y="152388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ocus of Contro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The attitude people develop regarding the extent to which they control their own desti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1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7D07-B737-449F-A3A9-2F97DE1C183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402" name="Picture 12" descr=""/>
          <p:cNvPicPr/>
          <p:nvPr/>
        </p:nvPicPr>
        <p:blipFill>
          <a:blip r:embed="rId1"/>
          <a:stretch/>
        </p:blipFill>
        <p:spPr>
          <a:xfrm>
            <a:off x="3048120" y="3124080"/>
            <a:ext cx="3276360" cy="327672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4" name="Line 13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5" name="Rectangle 14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6" name="Rectangle 15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7" name="Rectangle 16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8" name="Text Box 17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1-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cus of Contr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individuals receive information about the success or failure of their own actions, they differ in how they interpret that inform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receive reinforcements, both positive or negative, as they attempt to make changes around t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2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D296-5731-48CF-9BAA-0F3ABFCBA6A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ocus of Contro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0" y="16761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nternal Locus of Contro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s interpret the reinforcement they receive to be contingent upon their own actions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“I was the cause of the success or failure for the chang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xternal Locus of Contro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s interpret the reinforcement as being a product of outside fo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omething else caused the success or failure.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E704-8443-4233-AA0D-5264F2434CE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6" name="Text Box 21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1-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0" y="10666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ssociated with successful management in North Americ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eople with an internal locus of control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1) be attentive to aspects of the environment that provide useful information for the future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2) engage in actions to improve their environ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3) place greater emphasis on striving for achievement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4) be more inclined to develop their own skills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5) ask more questions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6) remember more information than people with an external locus of contro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0EA3-1034-4C9E-82EB-CCEF35F6500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828800" y="-2289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ernal Locus of Contro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-152280" y="685440"/>
            <a:ext cx="94485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less alienated from the work environmen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satisfied with their 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erience less job stra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position mobility (promotions and job chan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likely to be lead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s led by internals were more effective than those led by extern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tperform externals in stressful situation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gage in more entrepreneurial activity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active in managing their own career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e higher levels of job involvement than extern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828800" y="-2289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ernal Locus of Contro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y more on persuasion and expertise as a source of po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satisfied with a participative management style than extern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s -led fir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-led fir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gaged in more innovation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risky project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leadership in the marketplac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er planning horizon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scanning of the environment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highly developed techn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B465-AF8B-409D-911E-7E500A61A93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ernal Locus of Contro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xternal Locus of Contro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1828800" y="152388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commonly found in managers from Eastern cul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nd to use coercive power more than internal lea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 poorly in stressful situ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8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63F3-0422-4925-A185-5BBC343B16C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0" name="Line 9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1" name="Rectangle 10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2" name="Rectangle 11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3" name="Rectangle 12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4" name="Text Box 13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1-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0" y="1066680"/>
            <a:ext cx="9144000" cy="693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l locus of control is not a panacea for all management problem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l locus of control is not always a positive attribut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viduals with an external locus of control are more inclined to initiate structure as leaders (to help clarify roles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ls are less likely to comply with leader direc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ls are less accurate in processing feedback about successes and failures than are extern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ls have more difficulty arriving at decisions with serious consequences for someone el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BBB0-7941-496D-9578-8343A50C67F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ernal VS External Locus of Contro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important to note that locus of control can shift over time, particularly as a function of the position held at work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locus of control does not inhibit individuals from attaining positions of power and influence at the top of organiz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fore, no matter what your internal–external score, you can be a successful manager in the right setting, or you can alter your locus of contro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7E08-6354-4609-ABED-9F56E7437F1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ernal VS External Locus of Contro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who interpret information about change as if they are in control of it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perceive themselves to be in charge of their own performance (and hence able to control outcomes related to that performance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more likely to be effective managers in most circumstances in our cul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94C8-F13F-4367-9254-1B10F35D0E9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ernal VS External Locus of Contro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ierarchy of Personal Life-Management Ski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F091-1AB9-4190-A1D8-EB40FD224ED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60" name="Picture 20" descr="WTB01C01"/>
          <p:cNvPicPr/>
          <p:nvPr/>
        </p:nvPicPr>
        <p:blipFill>
          <a:blip r:embed="rId1"/>
          <a:stretch/>
        </p:blipFill>
        <p:spPr>
          <a:xfrm>
            <a:off x="1828800" y="2438280"/>
            <a:ext cx="6858000" cy="2113200"/>
          </a:xfrm>
          <a:prstGeom prst="rect">
            <a:avLst/>
          </a:prstGeom>
          <a:ln w="0">
            <a:noFill/>
          </a:ln>
        </p:spPr>
      </p:pic>
      <p:sp>
        <p:nvSpPr>
          <p:cNvPr id="161" name="Line 22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2" name="Rectangle 23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3" name="Rectangle 24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4" name="Rectangle 25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5" name="Text Box 26"/>
          <p:cNvSpPr/>
          <p:nvPr/>
        </p:nvSpPr>
        <p:spPr>
          <a:xfrm>
            <a:off x="815328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1-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200" y="609480"/>
            <a:ext cx="8686800" cy="77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two key attitudes toward change— tolerance of ambiguity and locus are associated with success in management rol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nowing your scores on these two factors ca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lp you capitalize on your strength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hance your potential for management succes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sitive managerial behaviors  are associated with internal locus of control and tolerance of ambiguity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ssessing these orientations is neither an assurance of success as a manager nor a solution to the problems that managers fa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7DB5-6F1F-407C-BE6C-66222C75031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y knowing your scores, however, you will be able 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oose situations in which you are more likely to feel comfortable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erform effectively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derstand the point of view of those whose perspectives differ from your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lf-understanding is a prerequisite to self-improvement and chang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E731-F8A9-4B00-B806-43C31F12D13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re Self-Evalu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609120" y="152388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ers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The relatively enduring traits tha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es an individual uniq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es consistencies in his or her thoughts and behavi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ces in personalities are manifest in behaviors, attitudes, emotional reactions, and thought patter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0C38-ACE0-4479-AC69-D39FBC67642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453" name="Picture 9" descr=""/>
          <p:cNvPicPr/>
          <p:nvPr/>
        </p:nvPicPr>
        <p:blipFill>
          <a:blip r:embed="rId1"/>
          <a:stretch/>
        </p:blipFill>
        <p:spPr>
          <a:xfrm>
            <a:off x="2666880" y="5791320"/>
            <a:ext cx="3961080" cy="2955960"/>
          </a:xfrm>
          <a:prstGeom prst="rect">
            <a:avLst/>
          </a:prstGeom>
          <a:ln w="0">
            <a:noFill/>
          </a:ln>
        </p:spPr>
      </p:pic>
      <p:sp>
        <p:nvSpPr>
          <p:cNvPr id="454" name="Line 10"/>
          <p:cNvSpPr/>
          <p:nvPr/>
        </p:nvSpPr>
        <p:spPr>
          <a:xfrm>
            <a:off x="2743200" y="685800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5" name="Rectangle 11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6" name="Rectangle 12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7" name="Rectangle 13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8" name="Text Box 14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1-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eterminants of Personal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1828800" y="1676520"/>
            <a:ext cx="68580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of our personality may be attributed to biology and gene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ever, people can make changes to their personality if they are determ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2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0392-4D7E-43A8-91B7-16C52DEA935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3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4" name="Line 9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5" name="Rectangle 10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6" name="Rectangle 11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7" name="Rectangle 12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8" name="Text Box 13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1-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sonality Trai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76320" y="1523520"/>
            <a:ext cx="9144000" cy="81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17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ig Five Dimensions of Pers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176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raversion: the extent to which people are inclined toward gregariousness and being outgoing instead of quiet and reser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176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reeableness: the extent to which people are friendly and affable as opposed to being disagreeable and aggress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176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cientiousness: the extent to which people are careful, task oriented, and orderly as opposed to being disorganized, flexible, and unrel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uroticism: the extent to which people are emotionally fragile, negative, and fearful as opposed to being optimistic, positive, and emotionally s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ness: the extent to which people are curious and open to new ideas as opposed to being rigid or dog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3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7F5C-07D0-4952-A71D-0B1053667C3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sonality Trai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ces in scores on these Big Five personality attributes can be explained by a more foundational personality fa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e self-evaluation:  the fundamental evaluation each person has developed about himself or hersel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8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7954-0003-4AB8-83FC-D18F2FD04F5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re Self-Evalu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828800" y="152388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e evaluations subconsciously influence people’s appraisal of themselves, the world, and oth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2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A364-C78D-4460-A115-D37B4899C10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3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484" name="Picture 10" descr=""/>
          <p:cNvPicPr/>
          <p:nvPr/>
        </p:nvPicPr>
        <p:blipFill>
          <a:blip r:embed="rId1"/>
          <a:stretch/>
        </p:blipFill>
        <p:spPr>
          <a:xfrm>
            <a:off x="3124080" y="3276720"/>
            <a:ext cx="3976920" cy="2921040"/>
          </a:xfrm>
          <a:prstGeom prst="rect">
            <a:avLst/>
          </a:prstGeom>
          <a:ln w="0">
            <a:noFill/>
          </a:ln>
        </p:spPr>
      </p:pic>
      <p:sp>
        <p:nvSpPr>
          <p:cNvPr id="485" name="Line 11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6" name="Rectangle 12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7" name="Rectangle 13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8" name="Rectangle 14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9" name="Text Box 15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1-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10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81080" y="1447920"/>
            <a:ext cx="5602320" cy="4160880"/>
          </a:xfrm>
          <a:prstGeom prst="rect">
            <a:avLst/>
          </a:prstGeom>
          <a:ln w="0">
            <a:noFill/>
          </a:ln>
        </p:spPr>
      </p:pic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re Self-Evalu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1752480" y="152388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65160" indent="-390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 Compon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65160" indent="-3906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f-Este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65160" indent="-3906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ized Self-Effic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65160" indent="-3906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urotic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65160" indent="-3906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us of Cont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4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1280-912C-44E0-A953-D4E85E5DDAD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5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6" name="Line 11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7" name="Rectangle 12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8" name="Rectangle 13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9" name="Rectangle 14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0" name="Text Box 15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1-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Effects of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re Self-Evalu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2007 by Prentice Hall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3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7243-CE9B-4098-8543-6FE4068E578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4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505" name="Picture 9" descr="WTB01C06"/>
          <p:cNvPicPr/>
          <p:nvPr/>
        </p:nvPicPr>
        <p:blipFill>
          <a:blip r:embed="rId1"/>
          <a:stretch/>
        </p:blipFill>
        <p:spPr>
          <a:xfrm>
            <a:off x="1981080" y="2286000"/>
            <a:ext cx="6097680" cy="2384280"/>
          </a:xfrm>
          <a:prstGeom prst="rect">
            <a:avLst/>
          </a:prstGeom>
          <a:ln w="0">
            <a:noFill/>
          </a:ln>
        </p:spPr>
      </p:pic>
      <p:sp>
        <p:nvSpPr>
          <p:cNvPr id="506" name="Line 11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7" name="Rectangle 12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8" name="Rectangle 13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9" name="Rectangle 14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0" name="Text Box 15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Arial"/>
              </a:rPr>
              <a:t>1-</a:t>
            </a:r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lf-awaren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088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blems in personal managemen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cognized symptoms : pressures or experienced stres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undamental problems with self-awareness and out-of-balance prioriti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&gt; focus on enhancing knowledge of oneself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996C-C1C6-4F55-B4EE-A5122BC3588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lf-awaren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-76680" y="1646280"/>
            <a:ext cx="93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ledge of oneself (self-awareness, self-insight, self-understanding) is essential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productive personal &amp; interpersonal functio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understanding and empathizing with other peopl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5B45-83CD-4686-88E8-D1A2DC4358D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419360" y="533520"/>
            <a:ext cx="4724280" cy="80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f-knowledge may inhibit personal improvement rather than facilitate i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viduals evade personal growth and new self-knowledg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resist acquiring additional information in order to protect their selfesteem or self-respec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 knowledge about themselves will be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gativ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elings of inferiority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aknes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ilnes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am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Espace réservé du numéro de diapositive 5"/>
          <p:cNvSpPr/>
          <p:nvPr/>
        </p:nvSpPr>
        <p:spPr>
          <a:xfrm>
            <a:off x="8686800" y="6245280"/>
            <a:ext cx="3808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EECE-E20A-4E08-BB5E-BD520BB5DE0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4" name="Espace réservé du texte 3"/>
          <p:cNvSpPr/>
          <p:nvPr/>
        </p:nvSpPr>
        <p:spPr>
          <a:xfrm>
            <a:off x="228600" y="609480"/>
            <a:ext cx="403848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knowledge we possess about ourselves is central to improving our management skills.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cannot improve ourselves or develop new capabilities unless and until we know what level of capability we currently possess. 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viduals who are more self-aware are more healthy, perform better in managerial and leadership roles, and are more productive at work 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Enigma of Self-Awarenes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E78C-478D-47CD-80A0-2A80C042C40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77" name="Picture 14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76520" y="1600200"/>
            <a:ext cx="5790960" cy="43164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king knowledge of the self is an enigm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prerequisite for and motivator of growth and improvemen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it may also inhibit growth and improv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may lead to stagnation because of fear of knowing mor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Enigma of Self-Awarenes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18:39:52Z</dcterms:created>
  <dc:creator>SAMIHA MJAHED</dc:creator>
  <dc:description/>
  <dc:language>en-US</dc:language>
  <cp:lastModifiedBy>Asus</cp:lastModifiedBy>
  <dcterms:modified xsi:type="dcterms:W3CDTF">2017-10-17T10:52:55Z</dcterms:modified>
  <cp:revision>69</cp:revision>
  <dc:subject/>
  <dc:title>Slide 1</dc:title>
</cp:coreProperties>
</file>