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5E24-5572-4C34-B83F-3CA7C612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B21B-D0C0-4300-B96D-0C0940B50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AD5-0A27-4DEC-97BD-0D124015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D41-A576-49E8-B933-5E10F18C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81B-C7EE-4EA1-9160-00F7A300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2F2C-8017-404F-8E91-F4D1F6BF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A44-E0ED-474C-AE86-AB8B3204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1257-028F-4BAD-810D-3D5E0620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C689-26A5-436B-B050-D95DEC42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433-9803-48A2-9FE1-8CD1961E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81B3-0040-45F3-9482-7A4CC189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B72D-08EF-4840-8520-D9C960BE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38C-2D5B-4692-8417-4FF84891D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20AD-28D2-4925-B078-BD11FD66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C618-780D-48B9-9AD7-6087F904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462-DE3B-4D5B-BB38-6565DD0D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1F0F-C199-47BE-9399-79EAF230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297-3B72-4A5F-BD29-9811F146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FA91-7AA8-449A-87FE-9A3A726C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938-455F-4053-8034-E92ED7DB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6013-86BE-4CE4-87FD-B8083968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4FA-72D6-4858-B6B4-CBB84DFB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64D7-4C06-45CD-91E7-9CC5C780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EDC-1E87-49E8-AB46-C26582E4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D592-E618-4319-BBAD-58AEC610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4986-3247-49B0-85D0-9FFF5C88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114-069A-43F6-AD4D-E53AB517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850-DF29-428E-B68C-C4CBF764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F6F8-B21D-440A-832E-7C93B500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788-296D-4FC9-B2BB-197DC0C0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C91-21D2-4D43-B4C2-2E7382B6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EBE-6EB1-48C4-A68C-F8447F29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AC7-70E4-4353-8832-D6B93E98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CD9-7B3B-47BF-9D29-6AA3D9C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F40-2262-42C8-8959-810890BB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171-4E3F-44CE-ACA7-43EA010E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7A8-25DA-4A05-98B1-9144022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2C2-3302-4E05-8633-2C1C924E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DBB5-C6D2-4978-B823-BFE2A5B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93C-847A-473D-BCA4-D4C847A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063B-DB60-4868-9B17-AB7A50E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6EF-C4CD-44A1-8F79-E3EB74B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BB4-B81F-4DE9-BB69-EB54529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EDC-14E0-4026-9A70-438AEB3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320B-0149-42B0-964F-FAA5D77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66B0-825B-43D9-B69D-8F421AB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6125-9AE8-43A0-91AE-AFA91A4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0122-2679-4511-97EA-2B8B7834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4B0E-C2AC-4D07-BF53-72AF9B2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6C85-019B-4465-B0FF-02B87C37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3A2D-10B1-44CD-B850-485FDC4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8281-02DE-44FA-B5B8-08173D9E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6A9C-7155-4402-8EC9-E2B9694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28AE-8DD1-4549-BEA1-BFA40EAC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58B-AE9E-4726-A3C1-9430D64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C80F-E7F4-4BF8-8BA4-7A5C22C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E10E-B6D7-4DE6-A2E0-D82FA09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A481-0E40-4B89-B039-687D217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9187-73D1-4D93-9D69-6F12E6B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F1DE-1889-45E4-9778-5280A00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97FA-1335-4EAC-A99D-849869E4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FE55-5554-44D9-A22B-A7424480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7F5-F5E1-44BD-908C-41EF944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F3F-3EF5-4E9E-97C7-15CFB429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79A-C84D-402D-B3A8-EA2C85F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B89-05B6-4448-BC2C-6551B6B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5B0-516A-4D75-B65C-1B382C4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971-B242-436A-A800-BAB2490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0F7-ADCA-461D-8AE0-FE1EF47081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8D3-AB0D-48F0-94E6-BAD4F180B9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210-36F4-4FDA-9A8D-D733C340D1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4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veloping Management 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52480" y="213336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1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veloping Self-Awar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CEC8-4213-4467-9662-8FE4755665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685800"/>
            <a:ext cx="7772400" cy="838080"/>
          </a:xfrm>
          <a:prstGeom prst="rect">
            <a:avLst/>
          </a:prstGeom>
          <a:solidFill>
            <a:srgbClr val="b0dbf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int at which individuals become defensive when encountering information about themselves that is inconsistent with their self-concept or when encountering pressure to alter their behavior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440-54A7-4780-ACBF-0FB7B732F2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iscrepant the information or the more serious its implications for your self concept, the closer it would approach your sensitive line, and you would feel a need to defend yourself against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reat-rigidity respons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to defend yourself against the information to protect the image you hold of you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BC1-3A01-4669-A056-60148E7E6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dividuals are threatened, when they encounter uncomfortable information, or when uncertainty is created, they tend to become rigid. They hunker down, protect themselves, and become risk ave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11F-6B38-480B-AD33-D0FA3D5F50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become rigid psychologically and emotionally when they encounter information that is a threat to their self-concep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tend to redouble their efforts to protect what is comfortable and familia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rely on first-learned or most reinforced behavior patterns and emo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discrepancies in the self-image are encountered, the validity of the information or its source is denied, or other kinds of defense mechanisms are used to ensure that the self-concept remains stab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ossing the sensitive line creates rigidity and self-preserv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110A-1A9B-4405-98A8-FBAE074510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90720" y="1600200"/>
            <a:ext cx="5424480" cy="4068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ing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nsitivity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905120" y="3352680"/>
            <a:ext cx="5410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7280" indent="-172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information is verifiable, predictable and control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87280" indent="-172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87280" indent="-172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we self-disclose so others can provide insights into your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E4B-7F5D-414E-A082-8EE00B32AD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8288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igma of self-awareness can be managed b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ing some control over when and what kind of information you receive about your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ing others in your pursuit of self-understa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pport and feedback individuals receive from others during the process of self-disclosure, besides helping to increase feedback and self-awareness, helps  information contribute to greater self-awareness without crossing the sensitiv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35D-8FFE-488A-A717-B4E3576CD1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reciating Individual Dif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828800" y="1904760"/>
            <a:ext cx="3200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observe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social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105520" y="1828440"/>
            <a:ext cx="3581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ti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reate disti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ocial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408-2B2C-47C3-9BD9-5171B0F8D6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ve Area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f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515E-EC7F-4357-A106-A5DCD8DB78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29" name="Picture 12" descr="WTB01C02"/>
          <p:cNvPicPr/>
          <p:nvPr/>
        </p:nvPicPr>
        <p:blipFill>
          <a:blip r:embed="rId1"/>
          <a:stretch/>
        </p:blipFill>
        <p:spPr>
          <a:xfrm>
            <a:off x="2057400" y="1600200"/>
            <a:ext cx="6324480" cy="4471920"/>
          </a:xfrm>
          <a:prstGeom prst="rect">
            <a:avLst/>
          </a:prstGeom>
          <a:ln w="0">
            <a:noFill/>
          </a:ln>
        </p:spPr>
      </p:pic>
      <p:sp>
        <p:nvSpPr>
          <p:cNvPr id="230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otional Intelli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828800" y="22093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measure and de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ed to be an important measure of managerial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B3D-E326-4F0E-B91B-702FF2FD0A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9" name="Picture 12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477120" cy="4697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onent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diagnose and recognize your own e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your own e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ecognize and diagnose the emotions of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espond appropriately to emotional c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861A-D17D-4B92-AD99-8B3E8651EF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4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your sensitivit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rify personal values and moral maturity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your personal learning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 your orientation towar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interpersonal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B87A-C766-41A5-89A1-F58AF28B96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28800" y="19051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ation for attitudes and personal p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s for important lif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to define morality and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9A2-5ADF-4F76-8631-8180C55F82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ompenaars Cultural Value Dimen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ism vs. Particul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sm vs. Collec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ive vs. Neu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vs. Diff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ment vs. A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and Present vs.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vs.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756-5949-4AE5-8485-22F443E6F2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 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trumental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sirable standards of conduct for attaining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rminal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sirable ends or goals for the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F8F-C25D-486F-A859-630E91A046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ues tha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rs Des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52880" y="152388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e of Accomp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fortable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249-805A-469A-9538-1285A8147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057400" y="18288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3505320" cy="3006720"/>
          </a:xfrm>
          <a:prstGeom prst="rect">
            <a:avLst/>
          </a:prstGeom>
          <a:ln w="0">
            <a:noFill/>
          </a:ln>
        </p:spPr>
      </p:pic>
      <p:sp>
        <p:nvSpPr>
          <p:cNvPr id="293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05120" y="1600200"/>
            <a:ext cx="5884920" cy="4502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ohlberg’s Stage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ral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90920" y="1905120"/>
            <a:ext cx="5029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onventi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elf Cente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ntional  (Conform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conventional (Princip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9AE-31BA-4879-96A3-13A964C895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Espace réservé du contenu 5" descr=""/>
          <p:cNvPicPr/>
          <p:nvPr/>
        </p:nvPicPr>
        <p:blipFill>
          <a:blip r:embed="rId1"/>
          <a:stretch/>
        </p:blipFill>
        <p:spPr>
          <a:xfrm>
            <a:off x="324000" y="1579680"/>
            <a:ext cx="8521560" cy="4906800"/>
          </a:xfrm>
          <a:prstGeom prst="rect">
            <a:avLst/>
          </a:prstGeom>
          <a:ln w="0">
            <a:noFill/>
          </a:ln>
        </p:spPr>
      </p:pic>
      <p:sp>
        <p:nvSpPr>
          <p:cNvPr id="31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B56-AC68-4152-AEA7-2433D82DB9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ZoneTexte 6"/>
          <p:cNvSpPr/>
          <p:nvPr/>
        </p:nvSpPr>
        <p:spPr>
          <a:xfrm>
            <a:off x="457200" y="335268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wareness of your own level of values maturity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public rates the honesty, integrity, and concern for moral values of American business executives as abys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s are dishonest, overly profit-oriented, and willing to step on other people to get what they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9 out of 10 companies have a written code of ethics, evidence exists to support public perceptions that these documents are not influential in assuring high moral con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EA5-E489-48F6-8331-92E74CCFB2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cent Examples of Unethical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3352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tha Stew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d Motor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s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0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24080" cy="3165480"/>
          </a:xfrm>
          <a:prstGeom prst="rect">
            <a:avLst/>
          </a:prstGeom>
          <a:ln w="0">
            <a:noFill/>
          </a:ln>
        </p:spPr>
      </p:pic>
      <p:sp>
        <p:nvSpPr>
          <p:cNvPr id="321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37CB-B154-4A65-B877-F623017556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828800" y="1981080"/>
            <a:ext cx="6858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nagers feel they are under pressure to compromise standards to meet company goal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etween maximizing economic  (revenues, costs, profits …) social performance (obligations to customers, employees, suppl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Study by American Management Assoc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566-D364-4EDC-AA91-57E2DC3066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43000"/>
            <a:ext cx="8229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ethical trade-offs are conflicts between two desirable ends: economic versus social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who effectively manage ethical trade-offs are those who have a clear sense of their own values and who have developed a principled level of moral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articulated and clarified their own internal set of universal, comprehensive, and consistent principles upon which to base their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C4C-CC34-4553-83FB-E0DD5EC55B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s dimensions of Self- Awar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of the self: core of human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cient dictu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Know Thyself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arved on the Oracle at Delp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cle at Delphi : mystical sanctuary  where kings and generals sought advice on matter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atest import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e that would govern others must first master himself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i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D73-8FC8-4D90-B697-E8A0B260C9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15238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nt Pag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be embarrassed if my decision became a headline in the  local news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feel comfortable describing my actions or decision to a customer or stockhol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lden Rule T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be willing to be treated in the same mann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gnity and Liberty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dignity and liberty of others preserved by this decis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basic humanity of the affected parties enhanc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ir opportunities expanded or Curtail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7B3-0300-434C-9494-8AC889A0AC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l Treatment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rights, welfare, and betterment of minorities and lower status people given full consid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is decision benefit those with privilege but without mer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al Gain Tes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n opportunity for personal gain clouding my judg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make the same decision if the outcome did not benefit me in any wa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gruence T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is decision or action consistent with my espoused personal princip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it violate the spirit of any organizational policies or law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A9C-843F-4F2B-B451-C62AC436C4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49" name="Picture 11" descr=""/>
          <p:cNvPicPr/>
          <p:nvPr/>
        </p:nvPicPr>
        <p:blipFill>
          <a:blip r:embed="rId1"/>
          <a:stretch/>
        </p:blipFill>
        <p:spPr>
          <a:xfrm>
            <a:off x="76320" y="-76320"/>
            <a:ext cx="16002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dural Justic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the procedures used to make this decision stand up to scrutiny by those affec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st-Benefi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a benefit for some cause unacceptable harm to othe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ritical is the benefit? Can the harmful effects be mitig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d Night’s Sleep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or not anyone else knows about my action, will it produce a good night’s 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E9B7-7F5C-461D-A2B5-1FA5C5521E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11" descr=""/>
          <p:cNvPicPr/>
          <p:nvPr/>
        </p:nvPicPr>
        <p:blipFill>
          <a:blip r:embed="rId1"/>
          <a:stretch/>
        </p:blipFill>
        <p:spPr>
          <a:xfrm>
            <a:off x="76320" y="-76320"/>
            <a:ext cx="16002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828800" y="1752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dividual’s inclination to perceive, interpret and respond to information in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564-A4B1-469F-9FCD-4EE28EF9A1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58" name="Picture 11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3906720" cy="2898720"/>
          </a:xfrm>
          <a:prstGeom prst="rect">
            <a:avLst/>
          </a:prstGeom>
          <a:ln w="0">
            <a:noFill/>
          </a:ln>
        </p:spPr>
      </p:pic>
      <p:sp>
        <p:nvSpPr>
          <p:cNvPr id="359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Espace réservé du contenu 5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296200" cy="4535640"/>
          </a:xfrm>
          <a:prstGeom prst="rect">
            <a:avLst/>
          </a:prstGeom>
          <a:ln w="0">
            <a:noFill/>
          </a:ln>
        </p:spPr>
      </p:pic>
      <p:sp>
        <p:nvSpPr>
          <p:cNvPr id="36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8CD9-9CD7-406E-B81B-1087DB3476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286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styles are not the same as personality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not inherent attrib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inclinations toward information and learning that we have developed over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&gt; cognitive styles can be altered and changed through practice and conscious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ne is predestined to think in a particular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244-B12F-4AF7-9D95-B822A6221D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Espace réservé du contenu 5" descr=""/>
          <p:cNvPicPr/>
          <p:nvPr/>
        </p:nvPicPr>
        <p:blipFill>
          <a:blip r:embed="rId1"/>
          <a:stretch/>
        </p:blipFill>
        <p:spPr>
          <a:xfrm>
            <a:off x="291960" y="1584360"/>
            <a:ext cx="8413920" cy="4548240"/>
          </a:xfrm>
          <a:prstGeom prst="rect">
            <a:avLst/>
          </a:prstGeom>
          <a:ln w="0">
            <a:noFill/>
          </a:ln>
        </p:spPr>
      </p:pic>
      <p:sp>
        <p:nvSpPr>
          <p:cNvPr id="3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23B-FA0D-4F87-BD2B-AB3BB45178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5012-D979-4D68-BB9B-932226CA8B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2024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titudes Toward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828800" y="15235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uates of management schools today will face an environment unlike any person has ever experienced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CDFD-E1F1-4A30-8B6B-898CF09280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82" name="Picture 9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4267080" cy="2855880"/>
          </a:xfrm>
          <a:prstGeom prst="rect">
            <a:avLst/>
          </a:prstGeom>
          <a:ln w="0">
            <a:noFill/>
          </a:ln>
        </p:spPr>
      </p:pic>
      <p:sp>
        <p:nvSpPr>
          <p:cNvPr id="38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nge Ori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lerance of Ambigu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extent to which individuals have difficulty coping with unclear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585-F052-45AE-A1BB-D3C704D273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awareness: the ability to master onesel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managemen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self-management skills closely linked to and build upon self-awaren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self-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ing priorities and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 help individuals create direction in their own li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make it possible for individuals to adapt to and organize their surround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nge Orientation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attitude people develop regarding the extent to which they control their own dest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DF97-4DF5-4120-B572-1C709B3760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02" name="Picture 12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dividuals receive information about the success or failure of their own actions, they differ in how they interpret that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receive reinforcements, both positive or negative, as they attempt to make changes around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877-AA78-4E5C-AAAF-16DB3B48C2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rnal 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terpret the reinforcement they receive to be contingent upon their own action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I was the cause of the success or failure for the chang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ernal 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terpret the reinforcement as being a product of outside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thing else caused the success or failure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5BB-8592-4A34-A7C1-F44A84E783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ociated with successful management in North Americ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ople with an internal locus of contro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be attentive to aspects of the environment that provide useful information for the futu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engage in actions to improve their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3) place greater emphasis on striving for achievement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4) be more inclined to develop their own skill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) ask more questio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6) remember more information than people with an external locus of contr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BDA-9F17-45DA-AC7A-AF89A9D83F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-152280" y="685440"/>
            <a:ext cx="9448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less alienated from the work environmen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atisfied with their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less job str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sition mobility (promotions and job chan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likely to be lead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led by internals were more effective than those led by exter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erform externals in stressful situation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 in more entrepreneurial activit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ctive in managing their own caree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higher levels of job involvement than exter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y more on persuasion and expertise as a source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atisfied with a participative management style than exte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s -led fi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-led fi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d in more innovat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isky projec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leadership in the marketpl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planning horiz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canning of the environme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highly develope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3F9-72C5-4430-B5C2-2787BB3E4B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found in managers from Eastern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 to use coercive power more than internal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poorly in stressfu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914-4A19-4BB7-A456-EE634F495B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0" y="106668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locus of control is not a panacea for all management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locus of control is not always a positive attribu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with an external locus of control are more inclined to initiate structure as leaders (to help clarify rol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are less likely to comply with leader dire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are less accurate in processing feedback about successes and failures than are exter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have more difficulty arriving at decisions with serious consequences for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AB58-B739-4114-AF8D-91076566BD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note that locus of control can shift over time, particularly as a function of the position held at work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locus of control does not inhibit individuals from attaining positions of power and influence at the top of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no matter what your internal–external score, you can be a successful manager in the right setting, or you can alter your locus of contr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20E-4F5A-40B9-99B4-5507A37CA2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interpret information about change as if they are in control of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perceive themselves to be in charge of their own performance (and hence able to control outcomes related to that performance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more likely to be effective managers in most circumstances in ou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96E-D902-41D8-A895-E557C60E64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archy of Personal Life-Management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6571-D97D-49B3-A76B-8B3888DB42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Picture 20" descr="WTB01C01"/>
          <p:cNvPicPr/>
          <p:nvPr/>
        </p:nvPicPr>
        <p:blipFill>
          <a:blip r:embed="rId1"/>
          <a:stretch/>
        </p:blipFill>
        <p:spPr>
          <a:xfrm>
            <a:off x="1828800" y="2438280"/>
            <a:ext cx="6858000" cy="2113200"/>
          </a:xfrm>
          <a:prstGeom prst="rect">
            <a:avLst/>
          </a:prstGeom>
          <a:ln w="0">
            <a:noFill/>
          </a:ln>
        </p:spPr>
      </p:pic>
      <p:sp>
        <p:nvSpPr>
          <p:cNvPr id="161" name="Line 2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609480"/>
            <a:ext cx="86868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wo key attitudes toward change— tolerance of ambiguity and locus are associated with success in management ro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ing your scores on these two factors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you capitalize on your strength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your potential for management succ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itive managerial behaviors  are associated with internal locus of control and tolerance of ambiguit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essing these orientations is neither an assurance of success as a manager nor a solution to the problems that managers fa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B6D5-42ED-4BE6-867F-BCA7B655B9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knowing your scores, however, you will be abl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e situations in which you are more likely to feel comfortabl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form effectivel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point of view of those whose perspectives differ from you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-understanding is a prerequisite to self-improvement and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9E98-58FD-454F-8C3D-3C678BDB38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s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relatively enduring traits tha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an individual u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consistencies in his or her thoughts and behavi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in personalities are manifest in behaviors, attitudes, emotional reactions, and thought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5E5-B883-4832-9AF0-D68A397459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3" name="Picture 9" descr=""/>
          <p:cNvPicPr/>
          <p:nvPr/>
        </p:nvPicPr>
        <p:blipFill>
          <a:blip r:embed="rId1"/>
          <a:stretch/>
        </p:blipFill>
        <p:spPr>
          <a:xfrm>
            <a:off x="2666880" y="5791320"/>
            <a:ext cx="3961080" cy="2955960"/>
          </a:xfrm>
          <a:prstGeom prst="rect">
            <a:avLst/>
          </a:prstGeom>
          <a:ln w="0">
            <a:noFill/>
          </a:ln>
        </p:spPr>
      </p:pic>
      <p:sp>
        <p:nvSpPr>
          <p:cNvPr id="454" name="Line 10"/>
          <p:cNvSpPr/>
          <p:nvPr/>
        </p:nvSpPr>
        <p:spPr>
          <a:xfrm>
            <a:off x="2743200" y="685800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terminants of Person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828800" y="1676520"/>
            <a:ext cx="6858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our personality may be attributed to biology and 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people can make changes to their personality if they are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D5A-D9B5-49B4-B8B3-63ACCB6908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ity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320" y="1523520"/>
            <a:ext cx="9144000" cy="81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Five Dimensions of Pers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version: the extent to which people are inclined toward gregariousness and being outgoing instead of quiet and re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ableness: the extent to which people are friendly and affable as opposed to being disagreeable and aggr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cientiousness: the extent to which people are careful, task oriented, and orderly as opposed to being disorganized, flexible, and unrel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ticism: the extent to which people are emotionally fragile, negative, and fearful as opposed to being optimistic, positive, and emotionally 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ness: the extent to which people are curious and open to new ideas as opposed to being rigid or dog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B4AA-AC4A-472E-B862-55133478F7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ity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in scores on these Big Five personality attributes can be explained by a more foundational personality 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self-evaluation:  the fundamental evaluation each person has developed about himself or he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8B93-26B0-4B46-A784-0612F11BBB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evaluations subconsciously influence people’s appraisal of themselves, the world, and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428-46B5-44CB-BDD4-AC511BF48B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4" name="Picture 10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976920" cy="292104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447920"/>
            <a:ext cx="5602320" cy="4160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75248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5160" indent="-390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ized Self-Effi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ti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6DF-4C0B-457D-9FC2-AFAE5C660B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ffect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e Self-Evalu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62F-330F-4C16-814C-62A602201B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05" name="Picture 9" descr="WTB01C06"/>
          <p:cNvPicPr/>
          <p:nvPr/>
        </p:nvPicPr>
        <p:blipFill>
          <a:blip r:embed="rId1"/>
          <a:stretch/>
        </p:blipFill>
        <p:spPr>
          <a:xfrm>
            <a:off x="1981080" y="2286000"/>
            <a:ext cx="6097680" cy="2384280"/>
          </a:xfrm>
          <a:prstGeom prst="rect">
            <a:avLst/>
          </a:prstGeom>
          <a:ln w="0">
            <a:noFill/>
          </a:ln>
        </p:spPr>
      </p:pic>
      <p:sp>
        <p:nvSpPr>
          <p:cNvPr id="50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lems in personal manag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d symptoms : pressures or experienced str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damental problems with self-awareness and out-of-balance prior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&gt; focus on enhancing knowledge of onese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68E-4C7E-499D-BD8D-317C98CC4C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76680" y="16462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of oneself (self-awareness, self-insight, self-understanding) is essential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ductive personal &amp; interpersona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understanding and empathizing with othe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9F2C-3800-4E37-90ED-C3B263690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419360" y="533520"/>
            <a:ext cx="4724280" cy="80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knowledge may inhibit personal improvement rather than facilitate 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evade personal growth and new self-knowled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resist acquiring additional information in order to protect their selfesteem or self-resp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knowledge about themselves will b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lings of inferiorit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knes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il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8686800" y="6245280"/>
            <a:ext cx="380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BA7A-0646-46C2-97DF-852EB971FD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Espace réservé du texte 3"/>
          <p:cNvSpPr/>
          <p:nvPr/>
        </p:nvSpPr>
        <p:spPr>
          <a:xfrm>
            <a:off x="228600" y="609480"/>
            <a:ext cx="4038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nowledge we possess about ourselves is central to improving our management skills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not improve ourselves or develop new capabilities unless and until we know what level of capability we currently possess.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ho are more self-aware are more healthy, perform better in managerial and leadership roles, and are more productive at work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nigma of Self-Awaren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BF16-18A6-451B-AE66-20BA17AD8C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1600200"/>
            <a:ext cx="5790960" cy="4316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ing knowledge of the self is an enig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prerequisite for and motivator of growth and improv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t may also inhibit growth and impro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lead to stagnation because of fear of knowing mo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nigma of Self-Awaren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39:52Z</dcterms:created>
  <dc:creator>SAMIHA MJAHED</dc:creator>
  <dc:description/>
  <dc:language>en-US</dc:language>
  <cp:lastModifiedBy>Asus</cp:lastModifiedBy>
  <dcterms:modified xsi:type="dcterms:W3CDTF">2017-10-17T10:52:55Z</dcterms:modified>
  <cp:revision>69</cp:revision>
  <dc:subject/>
  <dc:title>Slide 1</dc:title>
</cp:coreProperties>
</file>