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E64A-D799-4282-9455-59808B110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4273920"/>
            <a:ext cx="885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8266-8A3F-42EA-A92F-5AA7F26A0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4273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35320" y="4273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2A8E-6A92-4015-A3B5-11DA04209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0920" y="1447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86840" y="1447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4273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0920" y="4273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86840" y="4273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2BF1-E955-4D6F-88A2-B010BEBD4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6BA67-CA79-409D-92F6-DA6712A3C5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360" y="1447920"/>
            <a:ext cx="885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A6DA-890D-49D9-90AC-3B5D89879F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45E17-36B0-475C-BF69-0715AA457D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DDF65-9A88-4BD1-B8D9-936CEEC638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B39BC-39FE-4C68-911D-A8F3F6A9BE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39200" y="0"/>
            <a:ext cx="8888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3B04-871D-4BCB-9E62-E464368B1E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360" y="4273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0320-A1DD-443C-8548-D1B12967CD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447920"/>
            <a:ext cx="885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DBA2-17D5-4C0D-A909-F5ACFFC5A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5320" y="4273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3C62-82A8-4DD7-B7D0-12E21E8567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4273920"/>
            <a:ext cx="885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CDB73-913A-4F1A-8743-6C926AC91E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360" y="4273920"/>
            <a:ext cx="885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495A-756F-4866-B996-2E613C687B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273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5320" y="4273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79C3-8413-4B6D-A2C4-743B8C2466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90920" y="1447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86840" y="1447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360" y="4273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90920" y="4273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86840" y="4273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7549-6CC6-4F1F-9E2D-C679E4B25E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2174-3F79-41ED-8035-6039924B9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7B40-C591-4D63-BF1A-BE1695BAE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9997-8DF3-4781-977A-F1B0AD88B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39200" y="0"/>
            <a:ext cx="8888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9272-8B18-4925-AF82-F4A4C5D40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4273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0DA6-A83C-44B3-ADF2-E676F93F1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5320" y="4273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F986-A765-4513-B2E3-9FB3D4A45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4273920"/>
            <a:ext cx="885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4600-B09B-42CA-A62D-B68502E10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0960" y="0"/>
            <a:ext cx="70736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988400" y="6438600"/>
            <a:ext cx="31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4AD6-2122-4081-865C-EE70892468DC}" type="slidenum"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96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54000" algn="ctr"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411200" algn="ctr"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68400" algn="ctr"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447920"/>
            <a:ext cx="885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648640" y="638136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6ECE-6309-4555-B156-AFA384AD84F1}" type="slidenum"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.pct"/><Relationship Id="rId3" Type="http://schemas.openxmlformats.org/officeDocument/2006/relationships/image" Target="../media/image3.pct"/><Relationship Id="rId4" Type="http://schemas.openxmlformats.org/officeDocument/2006/relationships/image" Target="../media/image3.pct"/><Relationship Id="rId5" Type="http://schemas.openxmlformats.org/officeDocument/2006/relationships/image" Target="../media/image3.pct"/><Relationship Id="rId6" Type="http://schemas.openxmlformats.org/officeDocument/2006/relationships/image" Target="../media/image3.pct"/><Relationship Id="rId7" Type="http://schemas.openxmlformats.org/officeDocument/2006/relationships/image" Target="../media/image3.pct"/><Relationship Id="rId8" Type="http://schemas.openxmlformats.org/officeDocument/2006/relationships/image" Target="../media/image3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3.pct"/><Relationship Id="rId12" Type="http://schemas.openxmlformats.org/officeDocument/2006/relationships/image" Target="../media/image3.pct"/><Relationship Id="rId13" Type="http://schemas.openxmlformats.org/officeDocument/2006/relationships/image" Target="../media/image3.pct"/><Relationship Id="rId14" Type="http://schemas.openxmlformats.org/officeDocument/2006/relationships/image" Target="../media/image3.pct"/><Relationship Id="rId15" Type="http://schemas.openxmlformats.org/officeDocument/2006/relationships/image" Target="../media/image3.pct"/><Relationship Id="rId16" Type="http://schemas.openxmlformats.org/officeDocument/2006/relationships/image" Target="../media/image3.pct"/><Relationship Id="rId17" Type="http://schemas.openxmlformats.org/officeDocument/2006/relationships/image" Target="../media/image3.pct"/><Relationship Id="rId18" Type="http://schemas.openxmlformats.org/officeDocument/2006/relationships/image" Target="../media/image3.pct"/><Relationship Id="rId19" Type="http://schemas.openxmlformats.org/officeDocument/2006/relationships/image" Target="../media/image3.pct"/><Relationship Id="rId20" Type="http://schemas.openxmlformats.org/officeDocument/2006/relationships/image" Target="../media/image3.pct"/><Relationship Id="rId21" Type="http://schemas.openxmlformats.org/officeDocument/2006/relationships/image" Target="../media/image3.pct"/><Relationship Id="rId22" Type="http://schemas.openxmlformats.org/officeDocument/2006/relationships/image" Target="../media/image3.pct"/><Relationship Id="rId2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dk5.net/" TargetMode="External"/><Relationship Id="rId2" Type="http://schemas.openxmlformats.org/officeDocument/2006/relationships/hyperlink" Target="http://www.cdk5.net/" TargetMode="External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95360" y="259092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8600" y="3467160"/>
            <a:ext cx="707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3300"/>
                </a:solidFill>
                <a:latin typeface="Arial"/>
                <a:ea typeface="Arial"/>
              </a:rPr>
              <a:t>From</a:t>
            </a:r>
            <a:r>
              <a:rPr b="0" lang="en-US" sz="2200" spc="-1" strike="noStrike">
                <a:solidFill>
                  <a:srgbClr val="663300"/>
                </a:solidFill>
                <a:latin typeface="Arial Black"/>
                <a:ea typeface="Arial Black"/>
              </a:rPr>
              <a:t> Coulouris, Dollimore, Kindberg and Blair</a:t>
            </a:r>
            <a:br>
              <a:rPr sz="2200"/>
            </a:br>
            <a:r>
              <a:rPr b="0" lang="en-US" sz="2600" spc="-1" strike="noStrike">
                <a:solidFill>
                  <a:srgbClr val="663300"/>
                </a:solidFill>
                <a:latin typeface="Arial Black"/>
                <a:ea typeface="Arial Black"/>
              </a:rPr>
              <a:t>Distributed Systems: </a:t>
            </a:r>
            <a:br>
              <a:rPr sz="2600"/>
            </a:br>
            <a:r>
              <a:rPr b="0" lang="en-US" sz="2600" spc="-1" strike="noStrike">
                <a:solidFill>
                  <a:srgbClr val="663300"/>
                </a:solidFill>
                <a:latin typeface="Arial Black"/>
                <a:ea typeface="Arial Black"/>
              </a:rPr>
              <a:t>	</a:t>
            </a:r>
            <a:r>
              <a:rPr b="0" lang="en-US" sz="2600" spc="-1" strike="noStrike">
                <a:solidFill>
                  <a:srgbClr val="663300"/>
                </a:solidFill>
                <a:latin typeface="Arial Black"/>
                <a:ea typeface="Arial Black"/>
              </a:rPr>
              <a:t>	</a:t>
            </a:r>
            <a:r>
              <a:rPr b="0" lang="en-US" sz="2600" spc="-1" strike="noStrike">
                <a:solidFill>
                  <a:srgbClr val="663300"/>
                </a:solidFill>
                <a:latin typeface="Arial Black"/>
                <a:ea typeface="Arial Black"/>
              </a:rPr>
              <a:t>Concepts and Desig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  <a:ea typeface="Arial"/>
              </a:rPr>
              <a:t>Edition 5, © Addison-Wesley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6880" y="3619440"/>
            <a:ext cx="1397160" cy="1727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1320" y="0"/>
            <a:ext cx="76248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1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haracterization of Distributed System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9560" y="6330960"/>
            <a:ext cx="603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360" y="114300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1 (see book for the full text)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lected application domains and associated networked applic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5040" y="1208160"/>
          <a:ext cx="8929800" cy="5189400"/>
        </p:xfrm>
        <a:graphic>
          <a:graphicData uri="http://schemas.openxmlformats.org/drawingml/2006/table">
            <a:tbl>
              <a:tblPr/>
              <a:tblGrid>
                <a:gridCol w="3797280"/>
                <a:gridCol w="5132520"/>
              </a:tblGrid>
              <a:tr h="6508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Finance and comme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eCommerce e.g. Amazon and eBay, PayPal,  online banking and trad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The information soci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Web information and  search engines, ebooks, Wikipedia; social networking: Facebook and MySpace</a:t>
                      </a: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Creative industries and entertai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online gaming,  music and film in the home, user-generated content, e.g. YouTube, Flick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Health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health informatics, on online patient records, monitoring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e-learning,  virtual learning environments; distance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Transport and log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GPS in route finding systems, map services: Google Maps, Google 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The Grid as an enabling technology for collaboration between scient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Environmental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sensor technology to monitor  earthquakes, floods or tsuna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CAAC8-A666-4D2B-BCD3-8ECBC149EBF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49560" y="6330960"/>
            <a:ext cx="603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360" y="114300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2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 example financial trading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200" y="2120760"/>
            <a:ext cx="9283680" cy="35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933E1-C974-41B3-A988-E56E17AB1C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49560" y="6330960"/>
            <a:ext cx="603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360" y="114300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01640" y="1405080"/>
            <a:ext cx="8323200" cy="4314240"/>
            <a:chOff x="701640" y="1405080"/>
            <a:chExt cx="8323200" cy="4314240"/>
          </a:xfrm>
        </p:grpSpPr>
        <p:grpSp>
          <p:nvGrpSpPr>
            <p:cNvPr id="93" name=""/>
            <p:cNvGrpSpPr/>
            <p:nvPr/>
          </p:nvGrpSpPr>
          <p:grpSpPr>
            <a:xfrm>
              <a:off x="701640" y="1405080"/>
              <a:ext cx="8323200" cy="4007880"/>
              <a:chOff x="701640" y="1405080"/>
              <a:chExt cx="8323200" cy="4007880"/>
            </a:xfrm>
          </p:grpSpPr>
          <p:sp>
            <p:nvSpPr>
              <p:cNvPr id="94" name=""/>
              <p:cNvSpPr/>
              <p:nvPr/>
            </p:nvSpPr>
            <p:spPr>
              <a:xfrm>
                <a:off x="745920" y="2477880"/>
                <a:ext cx="570240" cy="32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758" y="4278"/>
                    </a:lnTo>
                    <a:lnTo>
                      <a:pt x="17448" y="8661"/>
                    </a:lnTo>
                    <a:lnTo>
                      <a:pt x="9928" y="14400"/>
                    </a:lnTo>
                    <a:lnTo>
                      <a:pt x="4152" y="20139"/>
                    </a:lnTo>
                    <a:lnTo>
                      <a:pt x="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08000" y="2565360"/>
                <a:ext cx="372960" cy="70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831" y="8112"/>
                    </a:lnTo>
                    <a:lnTo>
                      <a:pt x="10203" y="14172"/>
                    </a:lnTo>
                    <a:lnTo>
                      <a:pt x="3860" y="19548"/>
                    </a:lnTo>
                    <a:lnTo>
                      <a:pt x="2574" y="21600"/>
                    </a:lnTo>
                    <a:lnTo>
                      <a:pt x="0" y="20232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731960" y="2412720"/>
                <a:ext cx="109440" cy="78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70" y="8405"/>
                    </a:lnTo>
                    <a:lnTo>
                      <a:pt x="12835" y="14415"/>
                    </a:lnTo>
                    <a:lnTo>
                      <a:pt x="17217" y="19815"/>
                    </a:lnTo>
                    <a:lnTo>
                      <a:pt x="21600" y="21600"/>
                    </a:lnTo>
                    <a:lnTo>
                      <a:pt x="21600" y="20424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46120" y="2520720"/>
                <a:ext cx="154080" cy="76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5365" y="8050"/>
                    </a:lnTo>
                    <a:lnTo>
                      <a:pt x="9353" y="14221"/>
                    </a:lnTo>
                    <a:lnTo>
                      <a:pt x="3118" y="19766"/>
                    </a:lnTo>
                    <a:lnTo>
                      <a:pt x="3118" y="21600"/>
                    </a:lnTo>
                    <a:lnTo>
                      <a:pt x="0" y="2039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94240" y="1974600"/>
                <a:ext cx="261720" cy="78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935" y="8405"/>
                    </a:lnTo>
                    <a:lnTo>
                      <a:pt x="10735" y="14415"/>
                    </a:lnTo>
                    <a:lnTo>
                      <a:pt x="3535" y="19815"/>
                    </a:lnTo>
                    <a:lnTo>
                      <a:pt x="1702" y="21600"/>
                    </a:lnTo>
                    <a:lnTo>
                      <a:pt x="0" y="20424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19480" y="1995120"/>
                <a:ext cx="2620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8065" y="8431"/>
                    </a:lnTo>
                    <a:lnTo>
                      <a:pt x="10735" y="14994"/>
                    </a:lnTo>
                    <a:lnTo>
                      <a:pt x="3535" y="20383"/>
                    </a:lnTo>
                    <a:lnTo>
                      <a:pt x="1702" y="21600"/>
                    </a:lnTo>
                    <a:lnTo>
                      <a:pt x="0" y="20992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148600" y="3463560"/>
                <a:ext cx="592200" cy="10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6794" y="8452"/>
                    </a:lnTo>
                    <a:lnTo>
                      <a:pt x="8802" y="17217"/>
                    </a:lnTo>
                    <a:lnTo>
                      <a:pt x="3243" y="21600"/>
                    </a:lnTo>
                    <a:lnTo>
                      <a:pt x="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148600" y="2958840"/>
                <a:ext cx="592200" cy="50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9979" y="3804"/>
                    </a:lnTo>
                    <a:lnTo>
                      <a:pt x="17604" y="8491"/>
                    </a:lnTo>
                    <a:lnTo>
                      <a:pt x="9613" y="14060"/>
                    </a:lnTo>
                    <a:lnTo>
                      <a:pt x="3996" y="19698"/>
                    </a:lnTo>
                    <a:lnTo>
                      <a:pt x="1621" y="21600"/>
                    </a:lnTo>
                    <a:lnTo>
                      <a:pt x="0" y="2064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886520" y="2806560"/>
                <a:ext cx="26208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8065" y="8388"/>
                    </a:lnTo>
                    <a:lnTo>
                      <a:pt x="10865" y="14386"/>
                    </a:lnTo>
                    <a:lnTo>
                      <a:pt x="3665" y="19775"/>
                    </a:lnTo>
                    <a:lnTo>
                      <a:pt x="1833" y="21600"/>
                    </a:lnTo>
                    <a:lnTo>
                      <a:pt x="0" y="2038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322360" y="1601640"/>
                <a:ext cx="1052640" cy="853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12" y="4978"/>
                    </a:moveTo>
                    <a:lnTo>
                      <a:pt x="912" y="3894"/>
                    </a:lnTo>
                    <a:lnTo>
                      <a:pt x="2248" y="2208"/>
                    </a:lnTo>
                    <a:lnTo>
                      <a:pt x="3616" y="1124"/>
                    </a:lnTo>
                    <a:lnTo>
                      <a:pt x="4496" y="1646"/>
                    </a:lnTo>
                    <a:lnTo>
                      <a:pt x="4952" y="1124"/>
                    </a:lnTo>
                    <a:lnTo>
                      <a:pt x="6288" y="1124"/>
                    </a:lnTo>
                    <a:lnTo>
                      <a:pt x="8112" y="1646"/>
                    </a:lnTo>
                    <a:lnTo>
                      <a:pt x="9904" y="1646"/>
                    </a:lnTo>
                    <a:lnTo>
                      <a:pt x="11240" y="2208"/>
                    </a:lnTo>
                    <a:lnTo>
                      <a:pt x="12152" y="1124"/>
                    </a:lnTo>
                    <a:lnTo>
                      <a:pt x="13032" y="0"/>
                    </a:lnTo>
                    <a:lnTo>
                      <a:pt x="14400" y="0"/>
                    </a:lnTo>
                    <a:lnTo>
                      <a:pt x="15280" y="0"/>
                    </a:lnTo>
                    <a:lnTo>
                      <a:pt x="16648" y="0"/>
                    </a:lnTo>
                    <a:lnTo>
                      <a:pt x="17528" y="562"/>
                    </a:lnTo>
                    <a:lnTo>
                      <a:pt x="17984" y="1124"/>
                    </a:lnTo>
                    <a:lnTo>
                      <a:pt x="18896" y="1646"/>
                    </a:lnTo>
                    <a:lnTo>
                      <a:pt x="19776" y="3894"/>
                    </a:lnTo>
                    <a:lnTo>
                      <a:pt x="21144" y="6665"/>
                    </a:lnTo>
                    <a:lnTo>
                      <a:pt x="21600" y="10519"/>
                    </a:lnTo>
                    <a:lnTo>
                      <a:pt x="21600" y="13289"/>
                    </a:lnTo>
                    <a:lnTo>
                      <a:pt x="21144" y="15497"/>
                    </a:lnTo>
                    <a:lnTo>
                      <a:pt x="20688" y="18830"/>
                    </a:lnTo>
                    <a:lnTo>
                      <a:pt x="19776" y="21038"/>
                    </a:lnTo>
                    <a:lnTo>
                      <a:pt x="17984" y="21600"/>
                    </a:lnTo>
                    <a:lnTo>
                      <a:pt x="16648" y="21600"/>
                    </a:lnTo>
                    <a:lnTo>
                      <a:pt x="14856" y="21038"/>
                    </a:lnTo>
                    <a:lnTo>
                      <a:pt x="13488" y="20516"/>
                    </a:lnTo>
                    <a:lnTo>
                      <a:pt x="12152" y="19954"/>
                    </a:lnTo>
                    <a:lnTo>
                      <a:pt x="10784" y="19954"/>
                    </a:lnTo>
                    <a:lnTo>
                      <a:pt x="9448" y="19954"/>
                    </a:lnTo>
                    <a:lnTo>
                      <a:pt x="8536" y="20516"/>
                    </a:lnTo>
                    <a:lnTo>
                      <a:pt x="7200" y="20516"/>
                    </a:lnTo>
                    <a:lnTo>
                      <a:pt x="6288" y="21038"/>
                    </a:lnTo>
                    <a:lnTo>
                      <a:pt x="5408" y="21038"/>
                    </a:lnTo>
                    <a:lnTo>
                      <a:pt x="4040" y="21038"/>
                    </a:lnTo>
                    <a:lnTo>
                      <a:pt x="3160" y="21038"/>
                    </a:lnTo>
                    <a:lnTo>
                      <a:pt x="2704" y="20516"/>
                    </a:lnTo>
                    <a:lnTo>
                      <a:pt x="1792" y="19954"/>
                    </a:lnTo>
                    <a:lnTo>
                      <a:pt x="1792" y="19392"/>
                    </a:lnTo>
                    <a:lnTo>
                      <a:pt x="1368" y="18830"/>
                    </a:lnTo>
                    <a:lnTo>
                      <a:pt x="912" y="17184"/>
                    </a:lnTo>
                    <a:lnTo>
                      <a:pt x="456" y="14413"/>
                    </a:lnTo>
                    <a:lnTo>
                      <a:pt x="0" y="12727"/>
                    </a:lnTo>
                    <a:lnTo>
                      <a:pt x="0" y="10519"/>
                    </a:lnTo>
                    <a:lnTo>
                      <a:pt x="456" y="8311"/>
                    </a:lnTo>
                    <a:lnTo>
                      <a:pt x="456" y="6103"/>
                    </a:lnTo>
                    <a:lnTo>
                      <a:pt x="912" y="4978"/>
                    </a:lnTo>
                    <a:lnTo>
                      <a:pt x="912" y="4978"/>
                    </a:lnTo>
                    <a:close/>
                    <a:moveTo>
                      <a:pt x="912" y="4978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549880" y="2049120"/>
                <a:ext cx="596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ran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86080" y="2193840"/>
                <a:ext cx="569880" cy="567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9971"/>
                    </a:moveTo>
                    <a:lnTo>
                      <a:pt x="19915" y="21600"/>
                    </a:lnTo>
                    <a:lnTo>
                      <a:pt x="0" y="1629"/>
                    </a:lnTo>
                    <a:lnTo>
                      <a:pt x="1685" y="0"/>
                    </a:lnTo>
                    <a:lnTo>
                      <a:pt x="21600" y="19971"/>
                    </a:lnTo>
                    <a:close/>
                    <a:moveTo>
                      <a:pt x="21600" y="19971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38720" y="2062080"/>
                <a:ext cx="3919320" cy="330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41" y="0"/>
                    </a:moveTo>
                    <a:lnTo>
                      <a:pt x="21600" y="570"/>
                    </a:lnTo>
                    <a:lnTo>
                      <a:pt x="359" y="21600"/>
                    </a:lnTo>
                    <a:lnTo>
                      <a:pt x="0" y="21175"/>
                    </a:lnTo>
                    <a:lnTo>
                      <a:pt x="21241" y="0"/>
                    </a:lnTo>
                    <a:close/>
                    <a:moveTo>
                      <a:pt x="21241" y="0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397560" y="1405080"/>
                <a:ext cx="1357200" cy="80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682" y="5252"/>
                    </a:moveTo>
                    <a:lnTo>
                      <a:pt x="1036" y="3515"/>
                    </a:lnTo>
                    <a:lnTo>
                      <a:pt x="2072" y="2329"/>
                    </a:lnTo>
                    <a:lnTo>
                      <a:pt x="3486" y="1144"/>
                    </a:lnTo>
                    <a:lnTo>
                      <a:pt x="4522" y="1736"/>
                    </a:lnTo>
                    <a:lnTo>
                      <a:pt x="5229" y="1144"/>
                    </a:lnTo>
                    <a:lnTo>
                      <a:pt x="6619" y="1144"/>
                    </a:lnTo>
                    <a:lnTo>
                      <a:pt x="8008" y="1736"/>
                    </a:lnTo>
                    <a:lnTo>
                      <a:pt x="9752" y="1736"/>
                    </a:lnTo>
                    <a:lnTo>
                      <a:pt x="11495" y="1736"/>
                    </a:lnTo>
                    <a:lnTo>
                      <a:pt x="12202" y="1144"/>
                    </a:lnTo>
                    <a:lnTo>
                      <a:pt x="12884" y="593"/>
                    </a:lnTo>
                    <a:lnTo>
                      <a:pt x="14274" y="0"/>
                    </a:lnTo>
                    <a:lnTo>
                      <a:pt x="15335" y="0"/>
                    </a:lnTo>
                    <a:lnTo>
                      <a:pt x="16371" y="0"/>
                    </a:lnTo>
                    <a:lnTo>
                      <a:pt x="17432" y="593"/>
                    </a:lnTo>
                    <a:lnTo>
                      <a:pt x="17760" y="1144"/>
                    </a:lnTo>
                    <a:lnTo>
                      <a:pt x="18821" y="1736"/>
                    </a:lnTo>
                    <a:lnTo>
                      <a:pt x="19857" y="3515"/>
                    </a:lnTo>
                    <a:lnTo>
                      <a:pt x="21246" y="6988"/>
                    </a:lnTo>
                    <a:lnTo>
                      <a:pt x="21600" y="10504"/>
                    </a:lnTo>
                    <a:lnTo>
                      <a:pt x="21600" y="13426"/>
                    </a:lnTo>
                    <a:lnTo>
                      <a:pt x="21246" y="15205"/>
                    </a:lnTo>
                    <a:lnTo>
                      <a:pt x="20918" y="19271"/>
                    </a:lnTo>
                    <a:lnTo>
                      <a:pt x="19503" y="21049"/>
                    </a:lnTo>
                    <a:lnTo>
                      <a:pt x="18114" y="21600"/>
                    </a:lnTo>
                    <a:lnTo>
                      <a:pt x="16724" y="21049"/>
                    </a:lnTo>
                    <a:lnTo>
                      <a:pt x="14981" y="21049"/>
                    </a:lnTo>
                    <a:lnTo>
                      <a:pt x="13592" y="20456"/>
                    </a:lnTo>
                    <a:lnTo>
                      <a:pt x="12202" y="19864"/>
                    </a:lnTo>
                    <a:lnTo>
                      <a:pt x="10787" y="19864"/>
                    </a:lnTo>
                    <a:lnTo>
                      <a:pt x="9398" y="19864"/>
                    </a:lnTo>
                    <a:lnTo>
                      <a:pt x="8362" y="20456"/>
                    </a:lnTo>
                    <a:lnTo>
                      <a:pt x="7301" y="20456"/>
                    </a:lnTo>
                    <a:lnTo>
                      <a:pt x="6265" y="21049"/>
                    </a:lnTo>
                    <a:lnTo>
                      <a:pt x="5229" y="21049"/>
                    </a:lnTo>
                    <a:lnTo>
                      <a:pt x="4168" y="21049"/>
                    </a:lnTo>
                    <a:lnTo>
                      <a:pt x="3486" y="21049"/>
                    </a:lnTo>
                    <a:lnTo>
                      <a:pt x="2425" y="20456"/>
                    </a:lnTo>
                    <a:lnTo>
                      <a:pt x="2072" y="19864"/>
                    </a:lnTo>
                    <a:lnTo>
                      <a:pt x="1743" y="19271"/>
                    </a:lnTo>
                    <a:lnTo>
                      <a:pt x="1389" y="18678"/>
                    </a:lnTo>
                    <a:lnTo>
                      <a:pt x="1036" y="16941"/>
                    </a:lnTo>
                    <a:lnTo>
                      <a:pt x="328" y="14612"/>
                    </a:lnTo>
                    <a:lnTo>
                      <a:pt x="328" y="12282"/>
                    </a:lnTo>
                    <a:lnTo>
                      <a:pt x="0" y="10504"/>
                    </a:lnTo>
                    <a:lnTo>
                      <a:pt x="328" y="8174"/>
                    </a:lnTo>
                    <a:lnTo>
                      <a:pt x="328" y="6438"/>
                    </a:lnTo>
                    <a:lnTo>
                      <a:pt x="682" y="5252"/>
                    </a:lnTo>
                    <a:lnTo>
                      <a:pt x="682" y="5252"/>
                    </a:lnTo>
                    <a:close/>
                    <a:moveTo>
                      <a:pt x="682" y="5252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352680" y="2477880"/>
                <a:ext cx="1050840" cy="634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881" y="5184"/>
                    </a:moveTo>
                    <a:lnTo>
                      <a:pt x="1338" y="3726"/>
                    </a:lnTo>
                    <a:lnTo>
                      <a:pt x="2251" y="2214"/>
                    </a:lnTo>
                    <a:lnTo>
                      <a:pt x="3589" y="1458"/>
                    </a:lnTo>
                    <a:lnTo>
                      <a:pt x="4503" y="1458"/>
                    </a:lnTo>
                    <a:lnTo>
                      <a:pt x="5384" y="1458"/>
                    </a:lnTo>
                    <a:lnTo>
                      <a:pt x="6297" y="1458"/>
                    </a:lnTo>
                    <a:lnTo>
                      <a:pt x="8092" y="2214"/>
                    </a:lnTo>
                    <a:lnTo>
                      <a:pt x="9886" y="2214"/>
                    </a:lnTo>
                    <a:lnTo>
                      <a:pt x="11257" y="2214"/>
                    </a:lnTo>
                    <a:lnTo>
                      <a:pt x="12138" y="1458"/>
                    </a:lnTo>
                    <a:lnTo>
                      <a:pt x="13051" y="756"/>
                    </a:lnTo>
                    <a:lnTo>
                      <a:pt x="14389" y="0"/>
                    </a:lnTo>
                    <a:lnTo>
                      <a:pt x="15760" y="0"/>
                    </a:lnTo>
                    <a:lnTo>
                      <a:pt x="16640" y="756"/>
                    </a:lnTo>
                    <a:lnTo>
                      <a:pt x="17554" y="756"/>
                    </a:lnTo>
                    <a:lnTo>
                      <a:pt x="18011" y="1458"/>
                    </a:lnTo>
                    <a:lnTo>
                      <a:pt x="18892" y="2214"/>
                    </a:lnTo>
                    <a:lnTo>
                      <a:pt x="20262" y="3726"/>
                    </a:lnTo>
                    <a:lnTo>
                      <a:pt x="21143" y="6696"/>
                    </a:lnTo>
                    <a:lnTo>
                      <a:pt x="21600" y="11178"/>
                    </a:lnTo>
                    <a:lnTo>
                      <a:pt x="21600" y="13392"/>
                    </a:lnTo>
                    <a:lnTo>
                      <a:pt x="21600" y="15660"/>
                    </a:lnTo>
                    <a:lnTo>
                      <a:pt x="20686" y="19386"/>
                    </a:lnTo>
                    <a:lnTo>
                      <a:pt x="19805" y="20844"/>
                    </a:lnTo>
                    <a:lnTo>
                      <a:pt x="18435" y="21600"/>
                    </a:lnTo>
                    <a:lnTo>
                      <a:pt x="16640" y="21600"/>
                    </a:lnTo>
                    <a:lnTo>
                      <a:pt x="15303" y="20844"/>
                    </a:lnTo>
                    <a:lnTo>
                      <a:pt x="13508" y="20844"/>
                    </a:lnTo>
                    <a:lnTo>
                      <a:pt x="12138" y="20088"/>
                    </a:lnTo>
                    <a:lnTo>
                      <a:pt x="10800" y="20088"/>
                    </a:lnTo>
                    <a:lnTo>
                      <a:pt x="9430" y="20088"/>
                    </a:lnTo>
                    <a:lnTo>
                      <a:pt x="8549" y="20088"/>
                    </a:lnTo>
                    <a:lnTo>
                      <a:pt x="7211" y="20844"/>
                    </a:lnTo>
                    <a:lnTo>
                      <a:pt x="6297" y="20844"/>
                    </a:lnTo>
                    <a:lnTo>
                      <a:pt x="5384" y="20844"/>
                    </a:lnTo>
                    <a:lnTo>
                      <a:pt x="4503" y="20844"/>
                    </a:lnTo>
                    <a:lnTo>
                      <a:pt x="3589" y="20844"/>
                    </a:lnTo>
                    <a:lnTo>
                      <a:pt x="2708" y="20844"/>
                    </a:lnTo>
                    <a:lnTo>
                      <a:pt x="1795" y="20088"/>
                    </a:lnTo>
                    <a:lnTo>
                      <a:pt x="1795" y="19386"/>
                    </a:lnTo>
                    <a:lnTo>
                      <a:pt x="1338" y="18630"/>
                    </a:lnTo>
                    <a:lnTo>
                      <a:pt x="881" y="17118"/>
                    </a:lnTo>
                    <a:lnTo>
                      <a:pt x="457" y="14904"/>
                    </a:lnTo>
                    <a:lnTo>
                      <a:pt x="457" y="12636"/>
                    </a:lnTo>
                    <a:lnTo>
                      <a:pt x="0" y="10422"/>
                    </a:lnTo>
                    <a:lnTo>
                      <a:pt x="457" y="8910"/>
                    </a:lnTo>
                    <a:lnTo>
                      <a:pt x="457" y="6696"/>
                    </a:lnTo>
                    <a:lnTo>
                      <a:pt x="881" y="5184"/>
                    </a:lnTo>
                    <a:lnTo>
                      <a:pt x="881" y="5184"/>
                    </a:lnTo>
                    <a:close/>
                    <a:moveTo>
                      <a:pt x="881" y="5184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322360" y="3178080"/>
                <a:ext cx="1030320" cy="63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6" y="5225"/>
                    </a:moveTo>
                    <a:lnTo>
                      <a:pt x="932" y="3717"/>
                    </a:lnTo>
                    <a:lnTo>
                      <a:pt x="1831" y="2262"/>
                    </a:lnTo>
                    <a:lnTo>
                      <a:pt x="3228" y="1508"/>
                    </a:lnTo>
                    <a:lnTo>
                      <a:pt x="4127" y="1508"/>
                    </a:lnTo>
                    <a:lnTo>
                      <a:pt x="5059" y="1508"/>
                    </a:lnTo>
                    <a:lnTo>
                      <a:pt x="6423" y="1508"/>
                    </a:lnTo>
                    <a:lnTo>
                      <a:pt x="7821" y="1508"/>
                    </a:lnTo>
                    <a:lnTo>
                      <a:pt x="9652" y="2262"/>
                    </a:lnTo>
                    <a:lnTo>
                      <a:pt x="11482" y="2262"/>
                    </a:lnTo>
                    <a:lnTo>
                      <a:pt x="12414" y="1508"/>
                    </a:lnTo>
                    <a:lnTo>
                      <a:pt x="12880" y="0"/>
                    </a:lnTo>
                    <a:lnTo>
                      <a:pt x="14245" y="0"/>
                    </a:lnTo>
                    <a:lnTo>
                      <a:pt x="15609" y="0"/>
                    </a:lnTo>
                    <a:lnTo>
                      <a:pt x="16541" y="0"/>
                    </a:lnTo>
                    <a:lnTo>
                      <a:pt x="17473" y="754"/>
                    </a:lnTo>
                    <a:lnTo>
                      <a:pt x="17906" y="1508"/>
                    </a:lnTo>
                    <a:lnTo>
                      <a:pt x="18838" y="2262"/>
                    </a:lnTo>
                    <a:lnTo>
                      <a:pt x="20202" y="3717"/>
                    </a:lnTo>
                    <a:lnTo>
                      <a:pt x="21134" y="6733"/>
                    </a:lnTo>
                    <a:lnTo>
                      <a:pt x="21600" y="10450"/>
                    </a:lnTo>
                    <a:lnTo>
                      <a:pt x="21600" y="13412"/>
                    </a:lnTo>
                    <a:lnTo>
                      <a:pt x="21600" y="14867"/>
                    </a:lnTo>
                    <a:lnTo>
                      <a:pt x="21134" y="18584"/>
                    </a:lnTo>
                    <a:lnTo>
                      <a:pt x="19769" y="20846"/>
                    </a:lnTo>
                    <a:lnTo>
                      <a:pt x="18372" y="21600"/>
                    </a:lnTo>
                    <a:lnTo>
                      <a:pt x="16541" y="20846"/>
                    </a:lnTo>
                    <a:lnTo>
                      <a:pt x="15177" y="20846"/>
                    </a:lnTo>
                    <a:lnTo>
                      <a:pt x="13779" y="20092"/>
                    </a:lnTo>
                    <a:lnTo>
                      <a:pt x="12414" y="20092"/>
                    </a:lnTo>
                    <a:lnTo>
                      <a:pt x="10584" y="20092"/>
                    </a:lnTo>
                    <a:lnTo>
                      <a:pt x="9186" y="20092"/>
                    </a:lnTo>
                    <a:lnTo>
                      <a:pt x="8287" y="20092"/>
                    </a:lnTo>
                    <a:lnTo>
                      <a:pt x="7355" y="20092"/>
                    </a:lnTo>
                    <a:lnTo>
                      <a:pt x="5991" y="20846"/>
                    </a:lnTo>
                    <a:lnTo>
                      <a:pt x="5059" y="20846"/>
                    </a:lnTo>
                    <a:lnTo>
                      <a:pt x="4127" y="20846"/>
                    </a:lnTo>
                    <a:lnTo>
                      <a:pt x="3228" y="20846"/>
                    </a:lnTo>
                    <a:lnTo>
                      <a:pt x="2296" y="20092"/>
                    </a:lnTo>
                    <a:lnTo>
                      <a:pt x="1831" y="20092"/>
                    </a:lnTo>
                    <a:lnTo>
                      <a:pt x="1398" y="19338"/>
                    </a:lnTo>
                    <a:lnTo>
                      <a:pt x="1398" y="18584"/>
                    </a:lnTo>
                    <a:lnTo>
                      <a:pt x="932" y="17129"/>
                    </a:lnTo>
                    <a:lnTo>
                      <a:pt x="0" y="14167"/>
                    </a:lnTo>
                    <a:lnTo>
                      <a:pt x="0" y="12658"/>
                    </a:lnTo>
                    <a:lnTo>
                      <a:pt x="0" y="10450"/>
                    </a:lnTo>
                    <a:lnTo>
                      <a:pt x="0" y="8188"/>
                    </a:lnTo>
                    <a:lnTo>
                      <a:pt x="0" y="5979"/>
                    </a:lnTo>
                    <a:lnTo>
                      <a:pt x="466" y="5225"/>
                    </a:lnTo>
                    <a:lnTo>
                      <a:pt x="466" y="5225"/>
                    </a:lnTo>
                    <a:close/>
                    <a:moveTo>
                      <a:pt x="466" y="5225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67640" y="4208400"/>
                <a:ext cx="1357200" cy="831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707" y="5111"/>
                    </a:moveTo>
                    <a:lnTo>
                      <a:pt x="1036" y="3998"/>
                    </a:lnTo>
                    <a:lnTo>
                      <a:pt x="2451" y="2267"/>
                    </a:lnTo>
                    <a:lnTo>
                      <a:pt x="3486" y="1690"/>
                    </a:lnTo>
                    <a:lnTo>
                      <a:pt x="4522" y="1690"/>
                    </a:lnTo>
                    <a:lnTo>
                      <a:pt x="5229" y="1690"/>
                    </a:lnTo>
                    <a:lnTo>
                      <a:pt x="6619" y="1690"/>
                    </a:lnTo>
                    <a:lnTo>
                      <a:pt x="8008" y="1690"/>
                    </a:lnTo>
                    <a:lnTo>
                      <a:pt x="9752" y="2267"/>
                    </a:lnTo>
                    <a:lnTo>
                      <a:pt x="11495" y="2267"/>
                    </a:lnTo>
                    <a:lnTo>
                      <a:pt x="12202" y="1154"/>
                    </a:lnTo>
                    <a:lnTo>
                      <a:pt x="12884" y="577"/>
                    </a:lnTo>
                    <a:lnTo>
                      <a:pt x="14299" y="0"/>
                    </a:lnTo>
                    <a:lnTo>
                      <a:pt x="15688" y="0"/>
                    </a:lnTo>
                    <a:lnTo>
                      <a:pt x="16371" y="577"/>
                    </a:lnTo>
                    <a:lnTo>
                      <a:pt x="17432" y="1154"/>
                    </a:lnTo>
                    <a:lnTo>
                      <a:pt x="17785" y="1690"/>
                    </a:lnTo>
                    <a:lnTo>
                      <a:pt x="18821" y="2267"/>
                    </a:lnTo>
                    <a:lnTo>
                      <a:pt x="19857" y="3998"/>
                    </a:lnTo>
                    <a:lnTo>
                      <a:pt x="21272" y="6843"/>
                    </a:lnTo>
                    <a:lnTo>
                      <a:pt x="21600" y="10800"/>
                    </a:lnTo>
                    <a:lnTo>
                      <a:pt x="21600" y="13067"/>
                    </a:lnTo>
                    <a:lnTo>
                      <a:pt x="21272" y="15334"/>
                    </a:lnTo>
                    <a:lnTo>
                      <a:pt x="20918" y="18756"/>
                    </a:lnTo>
                    <a:lnTo>
                      <a:pt x="19528" y="20487"/>
                    </a:lnTo>
                    <a:lnTo>
                      <a:pt x="18114" y="21600"/>
                    </a:lnTo>
                    <a:lnTo>
                      <a:pt x="16724" y="21023"/>
                    </a:lnTo>
                    <a:lnTo>
                      <a:pt x="14981" y="20487"/>
                    </a:lnTo>
                    <a:lnTo>
                      <a:pt x="13592" y="19910"/>
                    </a:lnTo>
                    <a:lnTo>
                      <a:pt x="12202" y="19910"/>
                    </a:lnTo>
                    <a:lnTo>
                      <a:pt x="10813" y="19910"/>
                    </a:lnTo>
                    <a:lnTo>
                      <a:pt x="9398" y="19910"/>
                    </a:lnTo>
                    <a:lnTo>
                      <a:pt x="8362" y="19910"/>
                    </a:lnTo>
                    <a:lnTo>
                      <a:pt x="7326" y="20487"/>
                    </a:lnTo>
                    <a:lnTo>
                      <a:pt x="6265" y="20487"/>
                    </a:lnTo>
                    <a:lnTo>
                      <a:pt x="5229" y="21023"/>
                    </a:lnTo>
                    <a:lnTo>
                      <a:pt x="4194" y="21023"/>
                    </a:lnTo>
                    <a:lnTo>
                      <a:pt x="3486" y="20487"/>
                    </a:lnTo>
                    <a:lnTo>
                      <a:pt x="2779" y="20487"/>
                    </a:lnTo>
                    <a:lnTo>
                      <a:pt x="2097" y="19333"/>
                    </a:lnTo>
                    <a:lnTo>
                      <a:pt x="1743" y="19333"/>
                    </a:lnTo>
                    <a:lnTo>
                      <a:pt x="1389" y="18756"/>
                    </a:lnTo>
                    <a:lnTo>
                      <a:pt x="1036" y="16489"/>
                    </a:lnTo>
                    <a:lnTo>
                      <a:pt x="354" y="14221"/>
                    </a:lnTo>
                    <a:lnTo>
                      <a:pt x="354" y="12490"/>
                    </a:lnTo>
                    <a:lnTo>
                      <a:pt x="0" y="10800"/>
                    </a:lnTo>
                    <a:lnTo>
                      <a:pt x="354" y="8533"/>
                    </a:lnTo>
                    <a:lnTo>
                      <a:pt x="354" y="6266"/>
                    </a:lnTo>
                    <a:lnTo>
                      <a:pt x="707" y="5111"/>
                    </a:lnTo>
                    <a:lnTo>
                      <a:pt x="707" y="5111"/>
                    </a:lnTo>
                    <a:close/>
                    <a:moveTo>
                      <a:pt x="707" y="5111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02480" y="3267000"/>
                <a:ext cx="787320" cy="67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566" y="4856"/>
                    </a:moveTo>
                    <a:lnTo>
                      <a:pt x="566" y="4148"/>
                    </a:lnTo>
                    <a:lnTo>
                      <a:pt x="1785" y="2074"/>
                    </a:lnTo>
                    <a:lnTo>
                      <a:pt x="3005" y="1366"/>
                    </a:lnTo>
                    <a:lnTo>
                      <a:pt x="4181" y="1366"/>
                    </a:lnTo>
                    <a:lnTo>
                      <a:pt x="4790" y="1366"/>
                    </a:lnTo>
                    <a:lnTo>
                      <a:pt x="6010" y="1366"/>
                    </a:lnTo>
                    <a:lnTo>
                      <a:pt x="7795" y="2074"/>
                    </a:lnTo>
                    <a:lnTo>
                      <a:pt x="9581" y="2074"/>
                    </a:lnTo>
                    <a:lnTo>
                      <a:pt x="10800" y="2074"/>
                    </a:lnTo>
                    <a:lnTo>
                      <a:pt x="11976" y="1366"/>
                    </a:lnTo>
                    <a:lnTo>
                      <a:pt x="12585" y="658"/>
                    </a:lnTo>
                    <a:lnTo>
                      <a:pt x="13805" y="0"/>
                    </a:lnTo>
                    <a:lnTo>
                      <a:pt x="14981" y="0"/>
                    </a:lnTo>
                    <a:lnTo>
                      <a:pt x="16200" y="0"/>
                    </a:lnTo>
                    <a:lnTo>
                      <a:pt x="17419" y="658"/>
                    </a:lnTo>
                    <a:lnTo>
                      <a:pt x="17985" y="1366"/>
                    </a:lnTo>
                    <a:lnTo>
                      <a:pt x="18595" y="2074"/>
                    </a:lnTo>
                    <a:lnTo>
                      <a:pt x="19815" y="4148"/>
                    </a:lnTo>
                    <a:lnTo>
                      <a:pt x="20990" y="6981"/>
                    </a:lnTo>
                    <a:lnTo>
                      <a:pt x="20990" y="11129"/>
                    </a:lnTo>
                    <a:lnTo>
                      <a:pt x="21600" y="13253"/>
                    </a:lnTo>
                    <a:lnTo>
                      <a:pt x="20990" y="15327"/>
                    </a:lnTo>
                    <a:lnTo>
                      <a:pt x="20424" y="18818"/>
                    </a:lnTo>
                    <a:lnTo>
                      <a:pt x="19205" y="20942"/>
                    </a:lnTo>
                    <a:lnTo>
                      <a:pt x="17985" y="21600"/>
                    </a:lnTo>
                    <a:lnTo>
                      <a:pt x="16200" y="21600"/>
                    </a:lnTo>
                    <a:lnTo>
                      <a:pt x="14981" y="20942"/>
                    </a:lnTo>
                    <a:lnTo>
                      <a:pt x="13195" y="20234"/>
                    </a:lnTo>
                    <a:lnTo>
                      <a:pt x="11976" y="20234"/>
                    </a:lnTo>
                    <a:lnTo>
                      <a:pt x="10800" y="20234"/>
                    </a:lnTo>
                    <a:lnTo>
                      <a:pt x="9015" y="20234"/>
                    </a:lnTo>
                    <a:lnTo>
                      <a:pt x="7795" y="20234"/>
                    </a:lnTo>
                    <a:lnTo>
                      <a:pt x="7185" y="20942"/>
                    </a:lnTo>
                    <a:lnTo>
                      <a:pt x="6010" y="20942"/>
                    </a:lnTo>
                    <a:lnTo>
                      <a:pt x="4790" y="20942"/>
                    </a:lnTo>
                    <a:lnTo>
                      <a:pt x="4181" y="20942"/>
                    </a:lnTo>
                    <a:lnTo>
                      <a:pt x="3005" y="20942"/>
                    </a:lnTo>
                    <a:lnTo>
                      <a:pt x="2395" y="20942"/>
                    </a:lnTo>
                    <a:lnTo>
                      <a:pt x="1785" y="20234"/>
                    </a:lnTo>
                    <a:lnTo>
                      <a:pt x="1176" y="19526"/>
                    </a:lnTo>
                    <a:lnTo>
                      <a:pt x="1176" y="18818"/>
                    </a:lnTo>
                    <a:lnTo>
                      <a:pt x="566" y="17452"/>
                    </a:lnTo>
                    <a:lnTo>
                      <a:pt x="0" y="14619"/>
                    </a:lnTo>
                    <a:lnTo>
                      <a:pt x="0" y="12545"/>
                    </a:lnTo>
                    <a:lnTo>
                      <a:pt x="0" y="10471"/>
                    </a:lnTo>
                    <a:lnTo>
                      <a:pt x="0" y="8347"/>
                    </a:lnTo>
                    <a:lnTo>
                      <a:pt x="0" y="6273"/>
                    </a:lnTo>
                    <a:lnTo>
                      <a:pt x="566" y="4856"/>
                    </a:lnTo>
                    <a:lnTo>
                      <a:pt x="566" y="4856"/>
                    </a:lnTo>
                    <a:close/>
                    <a:moveTo>
                      <a:pt x="566" y="4856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49200" y="2171520"/>
                <a:ext cx="613080" cy="525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5416"/>
                    </a:moveTo>
                    <a:lnTo>
                      <a:pt x="783" y="3589"/>
                    </a:lnTo>
                    <a:lnTo>
                      <a:pt x="1567" y="1762"/>
                    </a:lnTo>
                    <a:lnTo>
                      <a:pt x="3078" y="1762"/>
                    </a:lnTo>
                    <a:lnTo>
                      <a:pt x="3861" y="1762"/>
                    </a:lnTo>
                    <a:lnTo>
                      <a:pt x="4645" y="1762"/>
                    </a:lnTo>
                    <a:lnTo>
                      <a:pt x="6211" y="1762"/>
                    </a:lnTo>
                    <a:lnTo>
                      <a:pt x="7722" y="1762"/>
                    </a:lnTo>
                    <a:lnTo>
                      <a:pt x="9289" y="1762"/>
                    </a:lnTo>
                    <a:lnTo>
                      <a:pt x="10800" y="1762"/>
                    </a:lnTo>
                    <a:lnTo>
                      <a:pt x="11583" y="914"/>
                    </a:lnTo>
                    <a:lnTo>
                      <a:pt x="12367" y="0"/>
                    </a:lnTo>
                    <a:lnTo>
                      <a:pt x="13934" y="0"/>
                    </a:lnTo>
                    <a:lnTo>
                      <a:pt x="15445" y="0"/>
                    </a:lnTo>
                    <a:lnTo>
                      <a:pt x="16228" y="0"/>
                    </a:lnTo>
                    <a:lnTo>
                      <a:pt x="17011" y="914"/>
                    </a:lnTo>
                    <a:lnTo>
                      <a:pt x="17739" y="914"/>
                    </a:lnTo>
                    <a:lnTo>
                      <a:pt x="18522" y="1762"/>
                    </a:lnTo>
                    <a:lnTo>
                      <a:pt x="20089" y="3589"/>
                    </a:lnTo>
                    <a:lnTo>
                      <a:pt x="20873" y="7178"/>
                    </a:lnTo>
                    <a:lnTo>
                      <a:pt x="21600" y="10767"/>
                    </a:lnTo>
                    <a:lnTo>
                      <a:pt x="21600" y="13508"/>
                    </a:lnTo>
                    <a:lnTo>
                      <a:pt x="20873" y="15270"/>
                    </a:lnTo>
                    <a:lnTo>
                      <a:pt x="20873" y="18859"/>
                    </a:lnTo>
                    <a:lnTo>
                      <a:pt x="19306" y="20686"/>
                    </a:lnTo>
                    <a:lnTo>
                      <a:pt x="17739" y="21600"/>
                    </a:lnTo>
                    <a:lnTo>
                      <a:pt x="16228" y="21600"/>
                    </a:lnTo>
                    <a:lnTo>
                      <a:pt x="14661" y="20686"/>
                    </a:lnTo>
                    <a:lnTo>
                      <a:pt x="13150" y="20686"/>
                    </a:lnTo>
                    <a:lnTo>
                      <a:pt x="11583" y="19773"/>
                    </a:lnTo>
                    <a:lnTo>
                      <a:pt x="10800" y="19773"/>
                    </a:lnTo>
                    <a:lnTo>
                      <a:pt x="9289" y="19773"/>
                    </a:lnTo>
                    <a:lnTo>
                      <a:pt x="7722" y="20686"/>
                    </a:lnTo>
                    <a:lnTo>
                      <a:pt x="6939" y="20686"/>
                    </a:lnTo>
                    <a:lnTo>
                      <a:pt x="6211" y="20686"/>
                    </a:lnTo>
                    <a:lnTo>
                      <a:pt x="4645" y="20686"/>
                    </a:lnTo>
                    <a:lnTo>
                      <a:pt x="3861" y="21600"/>
                    </a:lnTo>
                    <a:lnTo>
                      <a:pt x="3078" y="20686"/>
                    </a:lnTo>
                    <a:lnTo>
                      <a:pt x="2350" y="20686"/>
                    </a:lnTo>
                    <a:lnTo>
                      <a:pt x="1567" y="19773"/>
                    </a:lnTo>
                    <a:lnTo>
                      <a:pt x="1567" y="19773"/>
                    </a:lnTo>
                    <a:lnTo>
                      <a:pt x="783" y="18859"/>
                    </a:lnTo>
                    <a:lnTo>
                      <a:pt x="783" y="17097"/>
                    </a:lnTo>
                    <a:lnTo>
                      <a:pt x="0" y="14356"/>
                    </a:lnTo>
                    <a:lnTo>
                      <a:pt x="0" y="12595"/>
                    </a:lnTo>
                    <a:lnTo>
                      <a:pt x="0" y="10767"/>
                    </a:lnTo>
                    <a:lnTo>
                      <a:pt x="0" y="8092"/>
                    </a:lnTo>
                    <a:lnTo>
                      <a:pt x="0" y="6265"/>
                    </a:lnTo>
                    <a:lnTo>
                      <a:pt x="0" y="5416"/>
                    </a:lnTo>
                    <a:lnTo>
                      <a:pt x="0" y="5416"/>
                    </a:lnTo>
                    <a:close/>
                    <a:moveTo>
                      <a:pt x="0" y="5416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26320" y="2377800"/>
                <a:ext cx="28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38520" y="2433600"/>
                <a:ext cx="44280" cy="942480"/>
              </a:xfrm>
              <a:prstGeom prst="rect">
                <a:avLst/>
              </a:prstGeom>
              <a:solidFill>
                <a:srgbClr val="ffd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38520" y="2433600"/>
                <a:ext cx="66600" cy="963000"/>
              </a:xfrm>
              <a:prstGeom prst="rect">
                <a:avLst/>
              </a:prstGeom>
              <a:noFill/>
              <a:ln w="31680">
                <a:solidFill>
                  <a:srgbClr val="ffd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68880" y="3901680"/>
                <a:ext cx="1621080" cy="787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20424"/>
                    </a:moveTo>
                    <a:lnTo>
                      <a:pt x="21304" y="21600"/>
                    </a:lnTo>
                    <a:lnTo>
                      <a:pt x="0" y="1176"/>
                    </a:lnTo>
                    <a:lnTo>
                      <a:pt x="275" y="0"/>
                    </a:lnTo>
                    <a:lnTo>
                      <a:pt x="21600" y="20424"/>
                    </a:lnTo>
                    <a:close/>
                    <a:moveTo>
                      <a:pt x="21600" y="20424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46760" y="3244680"/>
                <a:ext cx="1052640" cy="50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9760"/>
                    </a:moveTo>
                    <a:lnTo>
                      <a:pt x="21144" y="21600"/>
                    </a:lnTo>
                    <a:lnTo>
                      <a:pt x="0" y="1840"/>
                    </a:lnTo>
                    <a:lnTo>
                      <a:pt x="912" y="0"/>
                    </a:lnTo>
                    <a:lnTo>
                      <a:pt x="21600" y="19760"/>
                    </a:lnTo>
                    <a:close/>
                    <a:moveTo>
                      <a:pt x="21600" y="19760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02040" y="3528720"/>
                <a:ext cx="788760" cy="41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9374"/>
                    </a:moveTo>
                    <a:lnTo>
                      <a:pt x="20992" y="21600"/>
                    </a:lnTo>
                    <a:lnTo>
                      <a:pt x="0" y="2308"/>
                    </a:lnTo>
                    <a:lnTo>
                      <a:pt x="608" y="0"/>
                    </a:lnTo>
                    <a:lnTo>
                      <a:pt x="21600" y="19374"/>
                    </a:lnTo>
                    <a:close/>
                    <a:moveTo>
                      <a:pt x="21600" y="19374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74800" y="2433600"/>
                <a:ext cx="985680" cy="50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9698"/>
                    </a:moveTo>
                    <a:lnTo>
                      <a:pt x="21600" y="21600"/>
                    </a:lnTo>
                    <a:lnTo>
                      <a:pt x="0" y="1902"/>
                    </a:lnTo>
                    <a:lnTo>
                      <a:pt x="487" y="0"/>
                    </a:lnTo>
                    <a:lnTo>
                      <a:pt x="21600" y="19698"/>
                    </a:lnTo>
                    <a:close/>
                    <a:moveTo>
                      <a:pt x="21600" y="19698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35680" y="2017440"/>
                <a:ext cx="393840" cy="941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21126"/>
                    </a:moveTo>
                    <a:lnTo>
                      <a:pt x="19161" y="21600"/>
                    </a:lnTo>
                    <a:lnTo>
                      <a:pt x="0" y="510"/>
                    </a:lnTo>
                    <a:lnTo>
                      <a:pt x="2352" y="0"/>
                    </a:lnTo>
                    <a:lnTo>
                      <a:pt x="21600" y="21126"/>
                    </a:lnTo>
                    <a:close/>
                    <a:moveTo>
                      <a:pt x="21600" y="21126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76600" y="4875120"/>
                <a:ext cx="1471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ktop computer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7680" y="2828880"/>
                <a:ext cx="65160" cy="10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4070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23960" y="2674800"/>
                <a:ext cx="174600" cy="1314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1640" y="2652480"/>
                <a:ext cx="219240" cy="176040"/>
              </a:xfrm>
              <a:prstGeom prst="roundRect">
                <a:avLst>
                  <a:gd name="adj" fmla="val 40083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45920" y="2719080"/>
                <a:ext cx="13176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45920" y="2719080"/>
                <a:ext cx="15264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20880" y="2916000"/>
                <a:ext cx="44280" cy="4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0"/>
                    </a:moveTo>
                    <a:lnTo>
                      <a:pt x="10800" y="0"/>
                    </a:lnTo>
                    <a:lnTo>
                      <a:pt x="21600" y="11200"/>
                    </a:lnTo>
                    <a:lnTo>
                      <a:pt x="21600" y="21600"/>
                    </a:lnTo>
                    <a:lnTo>
                      <a:pt x="10800" y="216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0" y="11200"/>
                    </a:lnTo>
                    <a:lnTo>
                      <a:pt x="0" y="0"/>
                    </a:lnTo>
                    <a:lnTo>
                      <a:pt x="10800" y="0"/>
                    </a:ln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920" y="2719080"/>
                <a:ext cx="131760" cy="6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723960" y="2806560"/>
                <a:ext cx="153720" cy="4248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1640" y="2849400"/>
                <a:ext cx="219240" cy="21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91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19409" y="0"/>
                    </a:lnTo>
                    <a:lnTo>
                      <a:pt x="2191" y="0"/>
                    </a:lnTo>
                    <a:close/>
                    <a:moveTo>
                      <a:pt x="2191" y="0"/>
                    </a:moveTo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3960" y="2871720"/>
                <a:ext cx="4428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5920" y="2849400"/>
                <a:ext cx="13176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3960" y="2849400"/>
                <a:ext cx="1094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8240" y="2871720"/>
                <a:ext cx="8748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55720" y="2849400"/>
                <a:ext cx="428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77680" y="2871720"/>
                <a:ext cx="2088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9120" y="2697120"/>
                <a:ext cx="66600" cy="6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89120" y="2697120"/>
                <a:ext cx="88560" cy="86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43240" y="2062080"/>
                <a:ext cx="2759040" cy="2342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16" y="0"/>
                    </a:moveTo>
                    <a:lnTo>
                      <a:pt x="21600" y="805"/>
                    </a:lnTo>
                    <a:lnTo>
                      <a:pt x="510" y="21600"/>
                    </a:lnTo>
                    <a:lnTo>
                      <a:pt x="0" y="20795"/>
                    </a:lnTo>
                    <a:lnTo>
                      <a:pt x="20916" y="0"/>
                    </a:lnTo>
                    <a:close/>
                    <a:moveTo>
                      <a:pt x="20916" y="0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140000" y="3551040"/>
                <a:ext cx="1030320" cy="1204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20405"/>
                    </a:moveTo>
                    <a:lnTo>
                      <a:pt x="19769" y="21600"/>
                    </a:lnTo>
                    <a:lnTo>
                      <a:pt x="0" y="1167"/>
                    </a:lnTo>
                    <a:lnTo>
                      <a:pt x="1398" y="0"/>
                    </a:lnTo>
                    <a:lnTo>
                      <a:pt x="21600" y="20405"/>
                    </a:lnTo>
                    <a:close/>
                    <a:moveTo>
                      <a:pt x="21600" y="20405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06800" y="4843080"/>
                <a:ext cx="1117800" cy="56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9073"/>
                    </a:moveTo>
                    <a:lnTo>
                      <a:pt x="21170" y="21600"/>
                    </a:lnTo>
                    <a:lnTo>
                      <a:pt x="0" y="1685"/>
                    </a:lnTo>
                    <a:lnTo>
                      <a:pt x="430" y="0"/>
                    </a:lnTo>
                    <a:lnTo>
                      <a:pt x="21600" y="19073"/>
                    </a:lnTo>
                    <a:close/>
                    <a:moveTo>
                      <a:pt x="21600" y="19073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052880" y="2697120"/>
                <a:ext cx="569880" cy="569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9915"/>
                    </a:moveTo>
                    <a:lnTo>
                      <a:pt x="19915" y="21600"/>
                    </a:lnTo>
                    <a:lnTo>
                      <a:pt x="0" y="842"/>
                    </a:lnTo>
                    <a:lnTo>
                      <a:pt x="842" y="0"/>
                    </a:lnTo>
                    <a:lnTo>
                      <a:pt x="21600" y="19915"/>
                    </a:lnTo>
                    <a:close/>
                    <a:moveTo>
                      <a:pt x="21600" y="19915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7440" y="3200040"/>
                <a:ext cx="66960" cy="10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4383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42840" y="3068280"/>
                <a:ext cx="174600" cy="1314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20880" y="3047760"/>
                <a:ext cx="218880" cy="174240"/>
              </a:xfrm>
              <a:prstGeom prst="roundRect">
                <a:avLst>
                  <a:gd name="adj" fmla="val 40449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65160" y="3090600"/>
                <a:ext cx="131760" cy="6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965160" y="3090600"/>
                <a:ext cx="15228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62080" y="3287520"/>
                <a:ext cx="44280" cy="6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0"/>
                    </a:moveTo>
                    <a:lnTo>
                      <a:pt x="10800" y="0"/>
                    </a:lnTo>
                    <a:lnTo>
                      <a:pt x="21600" y="7200"/>
                    </a:lnTo>
                    <a:lnTo>
                      <a:pt x="21600" y="14400"/>
                    </a:lnTo>
                    <a:lnTo>
                      <a:pt x="10800" y="21600"/>
                    </a:lnTo>
                    <a:lnTo>
                      <a:pt x="10800" y="21600"/>
                    </a:lnTo>
                    <a:lnTo>
                      <a:pt x="0" y="14400"/>
                    </a:lnTo>
                    <a:lnTo>
                      <a:pt x="0" y="7200"/>
                    </a:lnTo>
                    <a:lnTo>
                      <a:pt x="0" y="0"/>
                    </a:lnTo>
                    <a:lnTo>
                      <a:pt x="10800" y="0"/>
                    </a:ln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87480" y="3112920"/>
                <a:ext cx="109440" cy="4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1162080" y="3309840"/>
                <a:ext cx="1440" cy="21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184400" y="3309840"/>
                <a:ext cx="1440" cy="21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184400" y="3309840"/>
                <a:ext cx="1440" cy="21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65160" y="3200040"/>
                <a:ext cx="152280" cy="2196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42840" y="3222360"/>
                <a:ext cx="196920" cy="44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439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19161" y="0"/>
                    </a:lnTo>
                    <a:lnTo>
                      <a:pt x="2439" y="0"/>
                    </a:lnTo>
                    <a:close/>
                    <a:moveTo>
                      <a:pt x="2439" y="0"/>
                    </a:moveTo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65160" y="3244680"/>
                <a:ext cx="2232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65160" y="3222360"/>
                <a:ext cx="1522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65160" y="3244680"/>
                <a:ext cx="8748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08000" y="3244680"/>
                <a:ext cx="8892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74600" y="3244680"/>
                <a:ext cx="428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96920" y="3244680"/>
                <a:ext cx="428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0320" y="3068280"/>
                <a:ext cx="4428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030320" y="3068280"/>
                <a:ext cx="66600" cy="885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94040" y="3157200"/>
                <a:ext cx="66600" cy="10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4070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819080" y="3025440"/>
                <a:ext cx="174960" cy="1314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97120" y="3003480"/>
                <a:ext cx="218880" cy="174240"/>
              </a:xfrm>
              <a:prstGeom prst="roundRect">
                <a:avLst>
                  <a:gd name="adj" fmla="val 40449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841400" y="3047760"/>
                <a:ext cx="13032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841400" y="3047760"/>
                <a:ext cx="15264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38320" y="3244680"/>
                <a:ext cx="42840" cy="6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1200" y="0"/>
                    </a:moveTo>
                    <a:lnTo>
                      <a:pt x="11200" y="0"/>
                    </a:lnTo>
                    <a:lnTo>
                      <a:pt x="21600" y="7376"/>
                    </a:lnTo>
                    <a:lnTo>
                      <a:pt x="21600" y="14224"/>
                    </a:lnTo>
                    <a:lnTo>
                      <a:pt x="11200" y="21600"/>
                    </a:lnTo>
                    <a:lnTo>
                      <a:pt x="11200" y="21600"/>
                    </a:lnTo>
                    <a:lnTo>
                      <a:pt x="0" y="14224"/>
                    </a:lnTo>
                    <a:lnTo>
                      <a:pt x="0" y="7376"/>
                    </a:lnTo>
                    <a:lnTo>
                      <a:pt x="0" y="0"/>
                    </a:lnTo>
                    <a:lnTo>
                      <a:pt x="11200" y="0"/>
                    </a:lnTo>
                    <a:close/>
                    <a:moveTo>
                      <a:pt x="11200" y="0"/>
                    </a:moveTo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2280" y="3068280"/>
                <a:ext cx="1094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2038320" y="3267000"/>
                <a:ext cx="1440" cy="20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0640" y="3267000"/>
                <a:ext cx="1440" cy="20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060640" y="3267000"/>
                <a:ext cx="1440" cy="20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841400" y="3157200"/>
                <a:ext cx="152640" cy="2052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19080" y="3178080"/>
                <a:ext cx="196920" cy="43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439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19161" y="0"/>
                    </a:lnTo>
                    <a:lnTo>
                      <a:pt x="2439" y="0"/>
                    </a:lnTo>
                    <a:close/>
                    <a:moveTo>
                      <a:pt x="2439" y="0"/>
                    </a:moveTo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41400" y="3200040"/>
                <a:ext cx="208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841400" y="3178080"/>
                <a:ext cx="1526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41400" y="3200040"/>
                <a:ext cx="874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84240" y="3200040"/>
                <a:ext cx="874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50840" y="3200040"/>
                <a:ext cx="432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71720" y="3200040"/>
                <a:ext cx="442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06560" y="3025440"/>
                <a:ext cx="4428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06560" y="3025440"/>
                <a:ext cx="6516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55560" y="3287520"/>
                <a:ext cx="88920" cy="10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6200" y="4383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03280" y="3157200"/>
                <a:ext cx="174600" cy="1299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380960" y="3135240"/>
                <a:ext cx="219240" cy="174240"/>
              </a:xfrm>
              <a:prstGeom prst="roundRect">
                <a:avLst>
                  <a:gd name="adj" fmla="val 40449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425600" y="3178080"/>
                <a:ext cx="129960" cy="6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425600" y="3178080"/>
                <a:ext cx="152280" cy="885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622520" y="3376440"/>
                <a:ext cx="21960" cy="6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6849"/>
                    </a:lnTo>
                    <a:lnTo>
                      <a:pt x="21600" y="14224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14224"/>
                    </a:lnTo>
                    <a:lnTo>
                      <a:pt x="0" y="684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6120" y="3200040"/>
                <a:ext cx="1094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1622520" y="339696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622520" y="339696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644480" y="3396960"/>
                <a:ext cx="180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03280" y="3287520"/>
                <a:ext cx="174600" cy="2196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380960" y="3309840"/>
                <a:ext cx="219240" cy="43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91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19409" y="0"/>
                    </a:lnTo>
                    <a:lnTo>
                      <a:pt x="2191" y="0"/>
                    </a:lnTo>
                    <a:close/>
                    <a:moveTo>
                      <a:pt x="2191" y="0"/>
                    </a:moveTo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03280" y="333180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425600" y="3309840"/>
                <a:ext cx="12996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403280" y="3331800"/>
                <a:ext cx="1094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8440" y="3331800"/>
                <a:ext cx="109440" cy="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3148" y="13148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55560" y="3331800"/>
                <a:ext cx="22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490760" y="3157200"/>
                <a:ext cx="4428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490760" y="3157200"/>
                <a:ext cx="6480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43440" y="1974600"/>
                <a:ext cx="66600" cy="87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90800" y="1820520"/>
                <a:ext cx="174600" cy="1314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68840" y="1798560"/>
                <a:ext cx="218880" cy="175680"/>
              </a:xfrm>
              <a:prstGeom prst="roundRect">
                <a:avLst>
                  <a:gd name="adj" fmla="val 40083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811680" y="1865160"/>
                <a:ext cx="13176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11680" y="1865160"/>
                <a:ext cx="153720" cy="86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87720" y="2062080"/>
                <a:ext cx="42840" cy="4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1200" y="0"/>
                    </a:moveTo>
                    <a:lnTo>
                      <a:pt x="11200" y="0"/>
                    </a:lnTo>
                    <a:lnTo>
                      <a:pt x="21600" y="0"/>
                    </a:lnTo>
                    <a:lnTo>
                      <a:pt x="21600" y="11200"/>
                    </a:lnTo>
                    <a:lnTo>
                      <a:pt x="11200" y="21600"/>
                    </a:lnTo>
                    <a:lnTo>
                      <a:pt x="11200" y="21600"/>
                    </a:lnTo>
                    <a:lnTo>
                      <a:pt x="0" y="1120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200" y="0"/>
                    </a:lnTo>
                    <a:close/>
                    <a:moveTo>
                      <a:pt x="11200" y="0"/>
                    </a:moveTo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811680" y="1865160"/>
                <a:ext cx="131760" cy="4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4010040" y="2062080"/>
                <a:ext cx="1440" cy="21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10040" y="2062080"/>
                <a:ext cx="1440" cy="21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30560" y="2062080"/>
                <a:ext cx="1800" cy="21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90800" y="1952280"/>
                <a:ext cx="152640" cy="2196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68840" y="1974600"/>
                <a:ext cx="218880" cy="4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91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19409" y="0"/>
                    </a:lnTo>
                    <a:lnTo>
                      <a:pt x="2191" y="0"/>
                    </a:lnTo>
                    <a:close/>
                    <a:moveTo>
                      <a:pt x="2191" y="0"/>
                    </a:moveTo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790800" y="201744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11680" y="1995120"/>
                <a:ext cx="13176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90800" y="1995120"/>
                <a:ext cx="109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33640" y="1995120"/>
                <a:ext cx="131760" cy="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313" y="14313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43440" y="1995120"/>
                <a:ext cx="2196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55960" y="1842840"/>
                <a:ext cx="65160" cy="4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55960" y="1842840"/>
                <a:ext cx="87480" cy="6480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68680" y="2084040"/>
                <a:ext cx="66600" cy="10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4070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16400" y="1930320"/>
                <a:ext cx="174600" cy="1314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94080" y="1908000"/>
                <a:ext cx="219240" cy="175680"/>
              </a:xfrm>
              <a:prstGeom prst="roundRect">
                <a:avLst>
                  <a:gd name="adj" fmla="val 40083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338720" y="1974600"/>
                <a:ext cx="12996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338720" y="1974600"/>
                <a:ext cx="15228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513320" y="2171520"/>
                <a:ext cx="44280" cy="4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0"/>
                    </a:moveTo>
                    <a:lnTo>
                      <a:pt x="10800" y="0"/>
                    </a:lnTo>
                    <a:lnTo>
                      <a:pt x="21600" y="11200"/>
                    </a:lnTo>
                    <a:lnTo>
                      <a:pt x="21600" y="21600"/>
                    </a:lnTo>
                    <a:lnTo>
                      <a:pt x="10800" y="216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0" y="11200"/>
                    </a:lnTo>
                    <a:lnTo>
                      <a:pt x="0" y="0"/>
                    </a:lnTo>
                    <a:lnTo>
                      <a:pt x="10800" y="0"/>
                    </a:ln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338720" y="1974600"/>
                <a:ext cx="129960" cy="6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4316400" y="2062080"/>
                <a:ext cx="152280" cy="4248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294080" y="2104920"/>
                <a:ext cx="219240" cy="21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91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19409" y="0"/>
                    </a:lnTo>
                    <a:lnTo>
                      <a:pt x="2191" y="0"/>
                    </a:lnTo>
                    <a:close/>
                    <a:moveTo>
                      <a:pt x="2191" y="0"/>
                    </a:moveTo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316400" y="212688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338720" y="2104920"/>
                <a:ext cx="12996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316400" y="2104920"/>
                <a:ext cx="1094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359240" y="2126880"/>
                <a:ext cx="889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48160" y="2104920"/>
                <a:ext cx="428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68680" y="2126880"/>
                <a:ext cx="22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81560" y="1952280"/>
                <a:ext cx="6660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381560" y="1952280"/>
                <a:ext cx="8712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003640" y="3538440"/>
                <a:ext cx="77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ckbo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47960" y="4458960"/>
                <a:ext cx="925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tellite li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94240" y="2652480"/>
                <a:ext cx="129960" cy="10908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594240" y="2652480"/>
                <a:ext cx="152280" cy="13140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075200" y="2849400"/>
                <a:ext cx="131760" cy="13140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075200" y="2849400"/>
                <a:ext cx="153720" cy="15372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81360" y="2849400"/>
                <a:ext cx="130320" cy="13140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81360" y="2849400"/>
                <a:ext cx="152280" cy="15372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19280" y="2236680"/>
                <a:ext cx="131760" cy="10908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19280" y="2236680"/>
                <a:ext cx="154080" cy="13140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24000" y="2236680"/>
                <a:ext cx="131760" cy="10908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24000" y="2236680"/>
                <a:ext cx="152640" cy="13140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258040" y="2784240"/>
                <a:ext cx="88920" cy="10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6200" y="4383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105760" y="2630160"/>
                <a:ext cx="174600" cy="1314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083440" y="2609640"/>
                <a:ext cx="219240" cy="174240"/>
              </a:xfrm>
              <a:prstGeom prst="roundRect">
                <a:avLst>
                  <a:gd name="adj" fmla="val 40449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128080" y="2674800"/>
                <a:ext cx="12996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128080" y="2674800"/>
                <a:ext cx="152280" cy="86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324640" y="2871720"/>
                <a:ext cx="22320" cy="43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10800"/>
                    </a:lnTo>
                    <a:lnTo>
                      <a:pt x="21600" y="2160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21600"/>
                    </a:lnTo>
                    <a:lnTo>
                      <a:pt x="0" y="108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148600" y="2674800"/>
                <a:ext cx="109440" cy="6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8105760" y="2761920"/>
                <a:ext cx="174600" cy="4428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083440" y="2806560"/>
                <a:ext cx="219240" cy="21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91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19409" y="0"/>
                    </a:lnTo>
                    <a:lnTo>
                      <a:pt x="2191" y="0"/>
                    </a:lnTo>
                    <a:close/>
                    <a:moveTo>
                      <a:pt x="2191" y="0"/>
                    </a:moveTo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105760" y="2828880"/>
                <a:ext cx="428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128080" y="2806560"/>
                <a:ext cx="12996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105760" y="2806560"/>
                <a:ext cx="1094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170920" y="2828880"/>
                <a:ext cx="6660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237520" y="2806560"/>
                <a:ext cx="428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258040" y="2828880"/>
                <a:ext cx="2232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192880" y="2652480"/>
                <a:ext cx="44640" cy="6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192880" y="2652480"/>
                <a:ext cx="6516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872560" y="2981160"/>
                <a:ext cx="65160" cy="10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4383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696160" y="2849400"/>
                <a:ext cx="176400" cy="1314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675640" y="2828880"/>
                <a:ext cx="219240" cy="174240"/>
              </a:xfrm>
              <a:prstGeom prst="roundRect">
                <a:avLst>
                  <a:gd name="adj" fmla="val 40449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718480" y="2871720"/>
                <a:ext cx="131760" cy="6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718480" y="2871720"/>
                <a:ext cx="154080" cy="86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915400" y="306828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0"/>
                    </a:moveTo>
                    <a:lnTo>
                      <a:pt x="10800" y="0"/>
                    </a:lnTo>
                    <a:lnTo>
                      <a:pt x="21600" y="7200"/>
                    </a:lnTo>
                    <a:lnTo>
                      <a:pt x="21600" y="14400"/>
                    </a:lnTo>
                    <a:lnTo>
                      <a:pt x="10800" y="21600"/>
                    </a:lnTo>
                    <a:lnTo>
                      <a:pt x="10800" y="21600"/>
                    </a:lnTo>
                    <a:lnTo>
                      <a:pt x="0" y="14400"/>
                    </a:lnTo>
                    <a:lnTo>
                      <a:pt x="0" y="7200"/>
                    </a:lnTo>
                    <a:lnTo>
                      <a:pt x="0" y="0"/>
                    </a:lnTo>
                    <a:lnTo>
                      <a:pt x="10800" y="0"/>
                    </a:ln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740800" y="2893680"/>
                <a:ext cx="1094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8915400" y="309060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937720" y="309060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937720" y="309060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18480" y="2981160"/>
                <a:ext cx="154080" cy="2196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696160" y="3003480"/>
                <a:ext cx="198720" cy="43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419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19181" y="0"/>
                    </a:lnTo>
                    <a:lnTo>
                      <a:pt x="2419" y="0"/>
                    </a:lnTo>
                    <a:close/>
                    <a:moveTo>
                      <a:pt x="2419" y="0"/>
                    </a:moveTo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718480" y="3025440"/>
                <a:ext cx="22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18480" y="3003480"/>
                <a:ext cx="15408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718480" y="3025440"/>
                <a:ext cx="874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763120" y="3025440"/>
                <a:ext cx="871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827920" y="3025440"/>
                <a:ext cx="44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850240" y="3025440"/>
                <a:ext cx="44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785080" y="2849400"/>
                <a:ext cx="42840" cy="6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785080" y="2849400"/>
                <a:ext cx="65160" cy="885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05960" y="3551040"/>
                <a:ext cx="66600" cy="8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8653320" y="3396960"/>
              <a:ext cx="174600" cy="131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31360" y="3376440"/>
              <a:ext cx="218880" cy="174240"/>
            </a:xfrm>
            <a:prstGeom prst="roundRect">
              <a:avLst>
                <a:gd name="adj" fmla="val 40449"/>
              </a:avLst>
            </a:prstGeom>
            <a:noFill/>
            <a:ln w="54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75640" y="3441600"/>
              <a:ext cx="130320" cy="6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675640" y="3441600"/>
              <a:ext cx="152280" cy="86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850240" y="3638160"/>
              <a:ext cx="4464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0" y="108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800" y="0"/>
                  </a:lnTo>
                  <a:close/>
                  <a:moveTo>
                    <a:pt x="10800" y="0"/>
                  </a:moveTo>
                </a:path>
              </a:pathLst>
            </a:custGeom>
            <a:solidFill>
              <a:srgbClr val="999999"/>
            </a:solidFill>
            <a:ln w="31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9"/>
            <a:stretch/>
          </p:blipFill>
          <p:spPr>
            <a:xfrm>
              <a:off x="8675640" y="3441600"/>
              <a:ext cx="130320" cy="4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8872560" y="363816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872560" y="363816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894880" y="363816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653320" y="3528720"/>
              <a:ext cx="152640" cy="21960"/>
            </a:xfrm>
            <a:prstGeom prst="rect">
              <a:avLst/>
            </a:prstGeom>
            <a:solidFill>
              <a:srgbClr val="d9aa73"/>
            </a:solidFill>
            <a:ln w="316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31360" y="3551040"/>
              <a:ext cx="218880" cy="43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91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19409" y="0"/>
                  </a:lnTo>
                  <a:lnTo>
                    <a:pt x="2191" y="0"/>
                  </a:lnTo>
                  <a:close/>
                  <a:moveTo>
                    <a:pt x="2191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53320" y="3595320"/>
              <a:ext cx="428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75640" y="3573360"/>
              <a:ext cx="13032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53320" y="3573360"/>
              <a:ext cx="1098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96160" y="3573360"/>
              <a:ext cx="13176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573" y="14573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805960" y="3573360"/>
              <a:ext cx="21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718480" y="3419280"/>
              <a:ext cx="66600" cy="4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718480" y="3419280"/>
              <a:ext cx="87480" cy="66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59640" y="1885680"/>
              <a:ext cx="131760" cy="13140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59640" y="1885680"/>
              <a:ext cx="153720" cy="1537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88320" y="1930320"/>
              <a:ext cx="131760" cy="10908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88320" y="1930320"/>
              <a:ext cx="153720" cy="13140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16640" y="1952280"/>
              <a:ext cx="131760" cy="10944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16640" y="1952280"/>
              <a:ext cx="154080" cy="13140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77080" y="3595320"/>
              <a:ext cx="131760" cy="10944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77080" y="3595320"/>
              <a:ext cx="154080" cy="1299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039160" y="3595320"/>
              <a:ext cx="131760" cy="12996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39160" y="3595320"/>
              <a:ext cx="153720" cy="1522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9800" y="4778280"/>
              <a:ext cx="131760" cy="10908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89800" y="4778280"/>
              <a:ext cx="154080" cy="12960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51680" y="4733640"/>
              <a:ext cx="131760" cy="13140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51680" y="4733640"/>
              <a:ext cx="154080" cy="1537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70920" y="4689360"/>
              <a:ext cx="131760" cy="10908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70920" y="4689360"/>
              <a:ext cx="153720" cy="13140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96160" y="4733640"/>
              <a:ext cx="131760" cy="13140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696160" y="4733640"/>
              <a:ext cx="154080" cy="1537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85240" y="515916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40160" y="4952880"/>
              <a:ext cx="65160" cy="10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383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86080" y="4821120"/>
              <a:ext cx="176400" cy="131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65560" y="4798800"/>
              <a:ext cx="218880" cy="175680"/>
            </a:xfrm>
            <a:prstGeom prst="roundRect">
              <a:avLst>
                <a:gd name="adj" fmla="val 40083"/>
              </a:avLst>
            </a:prstGeom>
            <a:noFill/>
            <a:ln w="54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08400" y="4843080"/>
              <a:ext cx="1317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08400" y="4843080"/>
              <a:ext cx="154080" cy="87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84440" y="5062320"/>
              <a:ext cx="42840" cy="43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400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10400" y="21600"/>
                  </a:lnTo>
                  <a:lnTo>
                    <a:pt x="0" y="108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400" y="0"/>
                  </a:lnTo>
                  <a:close/>
                  <a:moveTo>
                    <a:pt x="10400" y="0"/>
                  </a:moveTo>
                </a:path>
              </a:pathLst>
            </a:custGeom>
            <a:solidFill>
              <a:srgbClr val="999999"/>
            </a:solidFill>
            <a:ln w="31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0"/>
            <a:stretch/>
          </p:blipFill>
          <p:spPr>
            <a:xfrm>
              <a:off x="3308400" y="4865400"/>
              <a:ext cx="131760" cy="4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3505320" y="506232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05320" y="506232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27280" y="506232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86080" y="4952880"/>
              <a:ext cx="154080" cy="21600"/>
            </a:xfrm>
            <a:prstGeom prst="rect">
              <a:avLst/>
            </a:prstGeom>
            <a:solidFill>
              <a:srgbClr val="d9aa73"/>
            </a:solidFill>
            <a:ln w="316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65560" y="4974840"/>
              <a:ext cx="218880" cy="4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19409" y="0"/>
                  </a:lnTo>
                  <a:lnTo>
                    <a:pt x="2035" y="0"/>
                  </a:lnTo>
                  <a:close/>
                  <a:moveTo>
                    <a:pt x="2035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86080" y="4997160"/>
              <a:ext cx="44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08400" y="497484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86080" y="499716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30720" y="4997160"/>
              <a:ext cx="13176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313" y="14313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40160" y="499716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75000" y="4821120"/>
              <a:ext cx="42840" cy="6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75000" y="4821120"/>
              <a:ext cx="65160" cy="86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46320" y="3595320"/>
              <a:ext cx="130320" cy="12996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6320" y="3595320"/>
              <a:ext cx="152280" cy="1522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76440" y="3616200"/>
              <a:ext cx="131760" cy="10908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6440" y="3616200"/>
              <a:ext cx="152280" cy="13140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86080" y="5149800"/>
              <a:ext cx="131760" cy="13140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86080" y="5149800"/>
              <a:ext cx="154080" cy="1533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16600" y="22478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44480" y="4755960"/>
              <a:ext cx="2167200" cy="9633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06960" y="2719080"/>
              <a:ext cx="87120" cy="87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6102" y="5105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52880" y="2565360"/>
              <a:ext cx="176040" cy="13140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30560" y="2543040"/>
              <a:ext cx="219240" cy="175680"/>
            </a:xfrm>
            <a:prstGeom prst="roundRect">
              <a:avLst>
                <a:gd name="adj" fmla="val 40083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5200" y="2609640"/>
              <a:ext cx="1317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75200" y="2609640"/>
              <a:ext cx="15372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71760" y="2806560"/>
              <a:ext cx="22320" cy="4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120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112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11"/>
            <a:stretch/>
          </p:blipFill>
          <p:spPr>
            <a:xfrm>
              <a:off x="4097160" y="2609640"/>
              <a:ext cx="109800" cy="4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271760" y="280656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71760" y="280656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94080" y="280656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52880" y="2697120"/>
              <a:ext cx="176040" cy="2160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30560" y="2739960"/>
              <a:ext cx="219240" cy="2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91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19565" y="0"/>
                  </a:lnTo>
                  <a:lnTo>
                    <a:pt x="2191" y="0"/>
                  </a:lnTo>
                  <a:close/>
                  <a:moveTo>
                    <a:pt x="2191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52880" y="2761920"/>
              <a:ext cx="44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5200" y="2739960"/>
              <a:ext cx="1317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52880" y="2739960"/>
              <a:ext cx="10944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19480" y="2761920"/>
              <a:ext cx="651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84640" y="2739960"/>
              <a:ext cx="4428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06960" y="2761920"/>
              <a:ext cx="21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40000" y="2587320"/>
              <a:ext cx="44640" cy="4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40000" y="2587320"/>
              <a:ext cx="66960" cy="648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28720" y="1865160"/>
              <a:ext cx="66960" cy="10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070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54120" y="1733400"/>
              <a:ext cx="196920" cy="10908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32160" y="1711080"/>
              <a:ext cx="241200" cy="153720"/>
            </a:xfrm>
            <a:prstGeom prst="roundRect">
              <a:avLst>
                <a:gd name="adj" fmla="val 38657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98760" y="1755720"/>
              <a:ext cx="129960" cy="6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98760" y="1755720"/>
              <a:ext cx="152280" cy="86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73360" y="1952280"/>
              <a:ext cx="44280" cy="6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lnTo>
                    <a:pt x="21600" y="7376"/>
                  </a:lnTo>
                  <a:lnTo>
                    <a:pt x="21600" y="14224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0" y="14224"/>
                  </a:lnTo>
                  <a:lnTo>
                    <a:pt x="0" y="7376"/>
                  </a:lnTo>
                  <a:lnTo>
                    <a:pt x="0" y="0"/>
                  </a:lnTo>
                  <a:lnTo>
                    <a:pt x="10800" y="0"/>
                  </a:lnTo>
                  <a:close/>
                  <a:moveTo>
                    <a:pt x="108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12"/>
            <a:stretch/>
          </p:blipFill>
          <p:spPr>
            <a:xfrm>
              <a:off x="2498760" y="1755720"/>
              <a:ext cx="109440" cy="6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476440" y="1842840"/>
              <a:ext cx="152280" cy="4248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54120" y="1885680"/>
              <a:ext cx="19692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3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39" y="0"/>
                  </a:lnTo>
                  <a:close/>
                  <a:moveTo>
                    <a:pt x="243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76440" y="1908000"/>
              <a:ext cx="2232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98760" y="1885680"/>
              <a:ext cx="129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76440" y="1908000"/>
              <a:ext cx="10944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19280" y="1908000"/>
              <a:ext cx="8892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85880" y="1908000"/>
              <a:ext cx="6516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224" y="14224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1600" y="1733400"/>
              <a:ext cx="4428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41600" y="1733400"/>
              <a:ext cx="66600" cy="86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14560" y="1865160"/>
              <a:ext cx="65160" cy="10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070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8520" y="1733400"/>
              <a:ext cx="198360" cy="10908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17640" y="1711080"/>
              <a:ext cx="239760" cy="153720"/>
            </a:xfrm>
            <a:prstGeom prst="roundRect">
              <a:avLst>
                <a:gd name="adj" fmla="val 38657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82800" y="1755720"/>
              <a:ext cx="131760" cy="6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82800" y="1755720"/>
              <a:ext cx="154080" cy="86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57400" y="1952280"/>
              <a:ext cx="44640" cy="6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lnTo>
                    <a:pt x="21600" y="7376"/>
                  </a:lnTo>
                  <a:lnTo>
                    <a:pt x="21600" y="14224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0" y="14224"/>
                  </a:lnTo>
                  <a:lnTo>
                    <a:pt x="0" y="7376"/>
                  </a:lnTo>
                  <a:lnTo>
                    <a:pt x="0" y="0"/>
                  </a:lnTo>
                  <a:lnTo>
                    <a:pt x="10800" y="0"/>
                  </a:lnTo>
                  <a:close/>
                  <a:moveTo>
                    <a:pt x="108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4" name="" descr=""/>
            <p:cNvPicPr/>
            <p:nvPr/>
          </p:nvPicPr>
          <p:blipFill>
            <a:blip r:embed="rId13"/>
            <a:stretch/>
          </p:blipFill>
          <p:spPr>
            <a:xfrm>
              <a:off x="2782800" y="1755720"/>
              <a:ext cx="109440" cy="6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2760480" y="1842840"/>
              <a:ext cx="154080" cy="4248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38520" y="1885680"/>
              <a:ext cx="19836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1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19" y="0"/>
                  </a:lnTo>
                  <a:close/>
                  <a:moveTo>
                    <a:pt x="241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60480" y="1908000"/>
              <a:ext cx="2232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82800" y="188568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60480" y="1908000"/>
              <a:ext cx="1098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05120" y="1908000"/>
              <a:ext cx="8712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70280" y="1908000"/>
              <a:ext cx="6660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400" y="14400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27440" y="1733400"/>
              <a:ext cx="4284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27440" y="1733400"/>
              <a:ext cx="64800" cy="86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98600" y="1865160"/>
              <a:ext cx="66960" cy="10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070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24000" y="1733400"/>
              <a:ext cx="196920" cy="10908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02040" y="1711080"/>
              <a:ext cx="241200" cy="153720"/>
            </a:xfrm>
            <a:prstGeom prst="roundRect">
              <a:avLst>
                <a:gd name="adj" fmla="val 38657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66840" y="1755720"/>
              <a:ext cx="131760" cy="6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66840" y="1755720"/>
              <a:ext cx="154080" cy="86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43240" y="1952280"/>
              <a:ext cx="42840" cy="6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00" y="0"/>
                  </a:moveTo>
                  <a:lnTo>
                    <a:pt x="11200" y="0"/>
                  </a:lnTo>
                  <a:lnTo>
                    <a:pt x="21600" y="7376"/>
                  </a:lnTo>
                  <a:lnTo>
                    <a:pt x="21600" y="14224"/>
                  </a:lnTo>
                  <a:lnTo>
                    <a:pt x="11200" y="21600"/>
                  </a:lnTo>
                  <a:lnTo>
                    <a:pt x="11200" y="21600"/>
                  </a:lnTo>
                  <a:lnTo>
                    <a:pt x="0" y="14224"/>
                  </a:lnTo>
                  <a:lnTo>
                    <a:pt x="0" y="7376"/>
                  </a:lnTo>
                  <a:lnTo>
                    <a:pt x="0" y="0"/>
                  </a:lnTo>
                  <a:lnTo>
                    <a:pt x="11200" y="0"/>
                  </a:lnTo>
                  <a:close/>
                  <a:moveTo>
                    <a:pt x="112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0" name="" descr=""/>
            <p:cNvPicPr/>
            <p:nvPr/>
          </p:nvPicPr>
          <p:blipFill>
            <a:blip r:embed="rId14"/>
            <a:stretch/>
          </p:blipFill>
          <p:spPr>
            <a:xfrm>
              <a:off x="3066840" y="1755720"/>
              <a:ext cx="109800" cy="6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3046320" y="1842840"/>
              <a:ext cx="152280" cy="4248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24000" y="1885680"/>
              <a:ext cx="19692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3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39" y="0"/>
                  </a:lnTo>
                  <a:close/>
                  <a:moveTo>
                    <a:pt x="243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46320" y="1908000"/>
              <a:ext cx="2052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66840" y="188568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46320" y="1908000"/>
              <a:ext cx="10944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89160" y="1908000"/>
              <a:ext cx="8748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55760" y="1908000"/>
              <a:ext cx="6516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224" y="14224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11480" y="1733400"/>
              <a:ext cx="4428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11480" y="1733400"/>
              <a:ext cx="65160" cy="86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85880" y="3441600"/>
              <a:ext cx="65160" cy="8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5498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09840" y="3287520"/>
              <a:ext cx="198360" cy="13140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89320" y="3267000"/>
              <a:ext cx="239400" cy="174240"/>
            </a:xfrm>
            <a:prstGeom prst="roundRect">
              <a:avLst>
                <a:gd name="adj" fmla="val 40449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54120" y="3331800"/>
              <a:ext cx="1317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54120" y="3331800"/>
              <a:ext cx="15408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28720" y="3528720"/>
              <a:ext cx="4464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0" y="108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800" y="0"/>
                  </a:lnTo>
                  <a:close/>
                  <a:moveTo>
                    <a:pt x="108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15"/>
            <a:stretch/>
          </p:blipFill>
          <p:spPr>
            <a:xfrm>
              <a:off x="2454120" y="3331800"/>
              <a:ext cx="109800" cy="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628720" y="352872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51040" y="352872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51040" y="352872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32160" y="3419280"/>
              <a:ext cx="153720" cy="2196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09840" y="3463560"/>
              <a:ext cx="198360" cy="2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1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19" y="0"/>
                  </a:lnTo>
                  <a:close/>
                  <a:moveTo>
                    <a:pt x="241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32160" y="3485880"/>
              <a:ext cx="21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54120" y="346356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32160" y="346356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76440" y="3485880"/>
              <a:ext cx="87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41600" y="3463560"/>
              <a:ext cx="44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85880" y="348588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98760" y="3309840"/>
              <a:ext cx="42840" cy="4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98760" y="3309840"/>
              <a:ext cx="65160" cy="66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70280" y="3441600"/>
              <a:ext cx="66600" cy="8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5498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95680" y="3287520"/>
              <a:ext cx="196560" cy="13140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73360" y="3267000"/>
              <a:ext cx="241200" cy="174240"/>
            </a:xfrm>
            <a:prstGeom prst="roundRect">
              <a:avLst>
                <a:gd name="adj" fmla="val 40449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38520" y="3331800"/>
              <a:ext cx="1317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38520" y="3331800"/>
              <a:ext cx="15372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14560" y="3528720"/>
              <a:ext cx="4284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00" y="0"/>
                  </a:moveTo>
                  <a:lnTo>
                    <a:pt x="112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11200" y="21600"/>
                  </a:lnTo>
                  <a:lnTo>
                    <a:pt x="11200" y="21600"/>
                  </a:lnTo>
                  <a:lnTo>
                    <a:pt x="0" y="108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200" y="0"/>
                  </a:lnTo>
                  <a:close/>
                  <a:moveTo>
                    <a:pt x="112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6" name="" descr=""/>
            <p:cNvPicPr/>
            <p:nvPr/>
          </p:nvPicPr>
          <p:blipFill>
            <a:blip r:embed="rId16"/>
            <a:stretch/>
          </p:blipFill>
          <p:spPr>
            <a:xfrm>
              <a:off x="2738520" y="3331800"/>
              <a:ext cx="109440" cy="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914560" y="352872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36880" y="352872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36880" y="352872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17640" y="3419280"/>
              <a:ext cx="152640" cy="2196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695680" y="3463560"/>
              <a:ext cx="196560" cy="2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3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39" y="0"/>
                  </a:lnTo>
                  <a:close/>
                  <a:moveTo>
                    <a:pt x="243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17640" y="3485880"/>
              <a:ext cx="20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38520" y="346356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17640" y="3463560"/>
              <a:ext cx="109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60480" y="3485880"/>
              <a:ext cx="87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27440" y="3463560"/>
              <a:ext cx="428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70280" y="3485880"/>
              <a:ext cx="21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782800" y="3309840"/>
              <a:ext cx="44640" cy="4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82800" y="3309840"/>
              <a:ext cx="65160" cy="66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55760" y="3441600"/>
              <a:ext cx="65160" cy="8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5498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79720" y="3287520"/>
              <a:ext cx="196920" cy="13140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57400" y="3267000"/>
              <a:ext cx="241200" cy="174240"/>
            </a:xfrm>
            <a:prstGeom prst="roundRect">
              <a:avLst>
                <a:gd name="adj" fmla="val 40449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24000" y="3331800"/>
              <a:ext cx="1317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24000" y="3331800"/>
              <a:ext cx="15264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98600" y="3528720"/>
              <a:ext cx="4464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0" y="108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800" y="0"/>
                  </a:lnTo>
                  <a:close/>
                  <a:moveTo>
                    <a:pt x="108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6" name="" descr=""/>
            <p:cNvPicPr/>
            <p:nvPr/>
          </p:nvPicPr>
          <p:blipFill>
            <a:blip r:embed="rId17"/>
            <a:stretch/>
          </p:blipFill>
          <p:spPr>
            <a:xfrm>
              <a:off x="3024000" y="3331800"/>
              <a:ext cx="109800" cy="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3198600" y="352872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20920" y="352872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20920" y="352872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02040" y="3419280"/>
              <a:ext cx="153720" cy="2196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79720" y="3463560"/>
              <a:ext cx="196920" cy="2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3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39" y="0"/>
                  </a:lnTo>
                  <a:close/>
                  <a:moveTo>
                    <a:pt x="243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02040" y="3485880"/>
              <a:ext cx="21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024000" y="346356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02040" y="346356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46320" y="3485880"/>
              <a:ext cx="87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11480" y="3463560"/>
              <a:ext cx="44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55760" y="3485880"/>
              <a:ext cx="20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66840" y="3309840"/>
              <a:ext cx="44640" cy="4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6840" y="3309840"/>
              <a:ext cx="66960" cy="66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128080" y="4492440"/>
              <a:ext cx="64800" cy="10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383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51680" y="4362120"/>
              <a:ext cx="19692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31160" y="4340160"/>
              <a:ext cx="239760" cy="15192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96320" y="4383000"/>
              <a:ext cx="131760" cy="6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96320" y="4383000"/>
              <a:ext cx="152280" cy="885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70920" y="4581360"/>
              <a:ext cx="44280" cy="6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lnTo>
                    <a:pt x="21600" y="6849"/>
                  </a:lnTo>
                  <a:lnTo>
                    <a:pt x="21600" y="14224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0" y="14224"/>
                  </a:lnTo>
                  <a:lnTo>
                    <a:pt x="0" y="6849"/>
                  </a:lnTo>
                  <a:lnTo>
                    <a:pt x="0" y="0"/>
                  </a:lnTo>
                  <a:lnTo>
                    <a:pt x="10800" y="0"/>
                  </a:lnTo>
                  <a:close/>
                  <a:moveTo>
                    <a:pt x="108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6" name="" descr=""/>
            <p:cNvPicPr/>
            <p:nvPr/>
          </p:nvPicPr>
          <p:blipFill>
            <a:blip r:embed="rId18"/>
            <a:stretch/>
          </p:blipFill>
          <p:spPr>
            <a:xfrm>
              <a:off x="7996320" y="4383000"/>
              <a:ext cx="109440" cy="6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7974000" y="4471920"/>
              <a:ext cx="154080" cy="4248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51680" y="4514760"/>
              <a:ext cx="196920" cy="43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3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39" y="0"/>
                  </a:lnTo>
                  <a:close/>
                  <a:moveTo>
                    <a:pt x="243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74000" y="453672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96320" y="4514760"/>
              <a:ext cx="1317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74000" y="453672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18280" y="4536720"/>
              <a:ext cx="87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083440" y="4536720"/>
              <a:ext cx="6516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751" y="14751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039160" y="4362120"/>
              <a:ext cx="4428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39160" y="4362120"/>
              <a:ext cx="66600" cy="87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412120" y="4492440"/>
              <a:ext cx="65160" cy="10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383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37520" y="4362120"/>
              <a:ext cx="19692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215200" y="4340160"/>
              <a:ext cx="241200" cy="15192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80360" y="4383000"/>
              <a:ext cx="131760" cy="6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280360" y="4383000"/>
              <a:ext cx="154080" cy="885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456400" y="4581360"/>
              <a:ext cx="43200" cy="6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400" y="0"/>
                  </a:moveTo>
                  <a:lnTo>
                    <a:pt x="10400" y="0"/>
                  </a:lnTo>
                  <a:lnTo>
                    <a:pt x="21600" y="6849"/>
                  </a:lnTo>
                  <a:lnTo>
                    <a:pt x="21600" y="14224"/>
                  </a:lnTo>
                  <a:lnTo>
                    <a:pt x="10400" y="21600"/>
                  </a:lnTo>
                  <a:lnTo>
                    <a:pt x="10400" y="21600"/>
                  </a:lnTo>
                  <a:lnTo>
                    <a:pt x="0" y="14224"/>
                  </a:lnTo>
                  <a:lnTo>
                    <a:pt x="0" y="6849"/>
                  </a:lnTo>
                  <a:lnTo>
                    <a:pt x="0" y="0"/>
                  </a:lnTo>
                  <a:lnTo>
                    <a:pt x="10400" y="0"/>
                  </a:lnTo>
                  <a:close/>
                  <a:moveTo>
                    <a:pt x="104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2" name="" descr=""/>
            <p:cNvPicPr/>
            <p:nvPr/>
          </p:nvPicPr>
          <p:blipFill>
            <a:blip r:embed="rId19"/>
            <a:stretch/>
          </p:blipFill>
          <p:spPr>
            <a:xfrm>
              <a:off x="8280360" y="4383000"/>
              <a:ext cx="109440" cy="6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8258040" y="4471920"/>
              <a:ext cx="154080" cy="4248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237520" y="4514760"/>
              <a:ext cx="196920" cy="43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265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265" y="0"/>
                  </a:lnTo>
                  <a:close/>
                  <a:moveTo>
                    <a:pt x="2265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258040" y="453672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280360" y="4514760"/>
              <a:ext cx="1317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258040" y="4536720"/>
              <a:ext cx="109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02680" y="4536720"/>
              <a:ext cx="871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67840" y="4536720"/>
              <a:ext cx="6660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400" y="14400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24640" y="4362120"/>
              <a:ext cx="432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24640" y="4362120"/>
              <a:ext cx="65160" cy="87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696160" y="4492440"/>
              <a:ext cx="66960" cy="10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383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521560" y="4362120"/>
              <a:ext cx="19692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499600" y="4340160"/>
              <a:ext cx="241200" cy="15192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566200" y="4383000"/>
              <a:ext cx="129960" cy="6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566200" y="4383000"/>
              <a:ext cx="152280" cy="885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740800" y="4581360"/>
              <a:ext cx="44280" cy="6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lnTo>
                    <a:pt x="21600" y="6849"/>
                  </a:lnTo>
                  <a:lnTo>
                    <a:pt x="21600" y="14224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0" y="14224"/>
                  </a:lnTo>
                  <a:lnTo>
                    <a:pt x="0" y="6849"/>
                  </a:lnTo>
                  <a:lnTo>
                    <a:pt x="0" y="0"/>
                  </a:lnTo>
                  <a:lnTo>
                    <a:pt x="10800" y="0"/>
                  </a:lnTo>
                  <a:close/>
                  <a:moveTo>
                    <a:pt x="108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20"/>
            <a:stretch/>
          </p:blipFill>
          <p:spPr>
            <a:xfrm>
              <a:off x="8566200" y="4383000"/>
              <a:ext cx="109440" cy="6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8543880" y="4471920"/>
              <a:ext cx="152280" cy="4248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521560" y="4514760"/>
              <a:ext cx="196920" cy="43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3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39" y="0"/>
                  </a:lnTo>
                  <a:close/>
                  <a:moveTo>
                    <a:pt x="243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543880" y="453672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566200" y="4514760"/>
              <a:ext cx="129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543880" y="453672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86720" y="4536720"/>
              <a:ext cx="889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653320" y="4536720"/>
              <a:ext cx="6516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224" y="14224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609040" y="4362120"/>
              <a:ext cx="4428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609040" y="4362120"/>
              <a:ext cx="66600" cy="87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56200" y="1688760"/>
              <a:ext cx="66960" cy="10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383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81600" y="1557000"/>
              <a:ext cx="19692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59640" y="1536480"/>
              <a:ext cx="241200" cy="15192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26240" y="1579320"/>
              <a:ext cx="129960" cy="6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26240" y="1579320"/>
              <a:ext cx="15228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00840" y="1776240"/>
              <a:ext cx="44280" cy="6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lnTo>
                    <a:pt x="21600" y="7200"/>
                  </a:lnTo>
                  <a:lnTo>
                    <a:pt x="21600" y="144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0" y="14400"/>
                  </a:lnTo>
                  <a:lnTo>
                    <a:pt x="0" y="7200"/>
                  </a:lnTo>
                  <a:lnTo>
                    <a:pt x="0" y="0"/>
                  </a:lnTo>
                  <a:lnTo>
                    <a:pt x="10800" y="0"/>
                  </a:lnTo>
                  <a:close/>
                  <a:moveTo>
                    <a:pt x="108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21"/>
            <a:stretch/>
          </p:blipFill>
          <p:spPr>
            <a:xfrm>
              <a:off x="6726240" y="1579320"/>
              <a:ext cx="109440" cy="6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6703920" y="1666800"/>
              <a:ext cx="152280" cy="4392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81600" y="1711080"/>
              <a:ext cx="19692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3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39" y="0"/>
                  </a:lnTo>
                  <a:close/>
                  <a:moveTo>
                    <a:pt x="243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03920" y="1733400"/>
              <a:ext cx="2232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26240" y="1711080"/>
              <a:ext cx="129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03920" y="1733400"/>
              <a:ext cx="10944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1733400"/>
              <a:ext cx="8892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13360" y="1733400"/>
              <a:ext cx="6516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224" y="14224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69080" y="1557000"/>
              <a:ext cx="4428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69080" y="1557000"/>
              <a:ext cx="66600" cy="885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26440" y="1688760"/>
              <a:ext cx="66600" cy="10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383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51840" y="1557000"/>
              <a:ext cx="19656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29520" y="1536480"/>
              <a:ext cx="241200" cy="15192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294680" y="1579320"/>
              <a:ext cx="131760" cy="6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94680" y="1579320"/>
              <a:ext cx="15372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70720" y="1776240"/>
              <a:ext cx="42840" cy="6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00" y="0"/>
                  </a:moveTo>
                  <a:lnTo>
                    <a:pt x="11200" y="0"/>
                  </a:lnTo>
                  <a:lnTo>
                    <a:pt x="21600" y="7200"/>
                  </a:lnTo>
                  <a:lnTo>
                    <a:pt x="21600" y="14400"/>
                  </a:lnTo>
                  <a:lnTo>
                    <a:pt x="11200" y="21600"/>
                  </a:lnTo>
                  <a:lnTo>
                    <a:pt x="11200" y="21600"/>
                  </a:lnTo>
                  <a:lnTo>
                    <a:pt x="0" y="14400"/>
                  </a:lnTo>
                  <a:lnTo>
                    <a:pt x="0" y="7200"/>
                  </a:lnTo>
                  <a:lnTo>
                    <a:pt x="0" y="0"/>
                  </a:lnTo>
                  <a:lnTo>
                    <a:pt x="11200" y="0"/>
                  </a:lnTo>
                  <a:close/>
                  <a:moveTo>
                    <a:pt x="112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0" name="" descr=""/>
            <p:cNvPicPr/>
            <p:nvPr/>
          </p:nvPicPr>
          <p:blipFill>
            <a:blip r:embed="rId22"/>
            <a:stretch/>
          </p:blipFill>
          <p:spPr>
            <a:xfrm>
              <a:off x="7294680" y="1579320"/>
              <a:ext cx="109440" cy="6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7273800" y="1666800"/>
              <a:ext cx="152640" cy="4392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51840" y="1711080"/>
              <a:ext cx="19656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3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39" y="0"/>
                  </a:lnTo>
                  <a:close/>
                  <a:moveTo>
                    <a:pt x="243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73800" y="1733400"/>
              <a:ext cx="2088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94680" y="1711080"/>
              <a:ext cx="1317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273800" y="1733400"/>
              <a:ext cx="1098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316640" y="1733400"/>
              <a:ext cx="8748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83600" y="1733400"/>
              <a:ext cx="6480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224" y="14224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38960" y="1557000"/>
              <a:ext cx="4464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338960" y="1557000"/>
              <a:ext cx="65160" cy="885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46040" y="5422680"/>
              <a:ext cx="99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link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86080" y="5478120"/>
              <a:ext cx="395280" cy="44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86080" y="5478120"/>
              <a:ext cx="417600" cy="66600"/>
            </a:xfrm>
            <a:prstGeom prst="rect">
              <a:avLst/>
            </a:prstGeom>
            <a:noFill/>
            <a:ln w="316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60880" y="2916000"/>
              <a:ext cx="109440" cy="13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765" y="17957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14313"/>
                  </a:lnTo>
                  <a:lnTo>
                    <a:pt x="8765" y="17957"/>
                  </a:lnTo>
                  <a:close/>
                  <a:moveTo>
                    <a:pt x="8765" y="17957"/>
                  </a:move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5105160" y="3025080"/>
              <a:ext cx="174600" cy="41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6480" y="4011480"/>
              <a:ext cx="109440" cy="13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148" y="7027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10670"/>
                  </a:lnTo>
                  <a:lnTo>
                    <a:pt x="13148" y="7027"/>
                  </a:lnTo>
                  <a:close/>
                  <a:moveTo>
                    <a:pt x="13148" y="7027"/>
                  </a:move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33840" y="3747960"/>
              <a:ext cx="196920" cy="285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687920" y="3944880"/>
              <a:ext cx="109440" cy="10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148" y="8765"/>
                  </a:moveTo>
                  <a:lnTo>
                    <a:pt x="21600" y="17530"/>
                  </a:lnTo>
                  <a:lnTo>
                    <a:pt x="0" y="21600"/>
                  </a:lnTo>
                  <a:lnTo>
                    <a:pt x="8765" y="0"/>
                  </a:lnTo>
                  <a:lnTo>
                    <a:pt x="13148" y="8765"/>
                  </a:lnTo>
                  <a:close/>
                  <a:moveTo>
                    <a:pt x="13148" y="8765"/>
                  </a:move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4776480" y="3725640"/>
              <a:ext cx="284040" cy="24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359240" y="3989160"/>
              <a:ext cx="109440" cy="13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148" y="14313"/>
                  </a:moveTo>
                  <a:lnTo>
                    <a:pt x="0" y="10670"/>
                  </a:lnTo>
                  <a:lnTo>
                    <a:pt x="21600" y="0"/>
                  </a:lnTo>
                  <a:lnTo>
                    <a:pt x="21600" y="21600"/>
                  </a:lnTo>
                  <a:lnTo>
                    <a:pt x="13148" y="14313"/>
                  </a:lnTo>
                  <a:close/>
                  <a:moveTo>
                    <a:pt x="13148" y="14313"/>
                  </a:move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4228200" y="4098600"/>
              <a:ext cx="174600" cy="350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99280" y="211608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74960" y="2784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0080" y="24350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typical portion of the Internet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149560" y="6330960"/>
            <a:ext cx="603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95360" y="114300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ortable and handheld devices in a distributed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406440" y="1434960"/>
            <a:ext cx="9182160" cy="43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149560" y="6330960"/>
            <a:ext cx="603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95360" y="114300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5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oud comput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965160" y="1168560"/>
            <a:ext cx="830916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2EE42-E640-434A-8826-F006E4FA2C4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149560" y="6330960"/>
            <a:ext cx="603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95360" y="114300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rowth of the Internet (computers and web servers)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157040" y="2243160"/>
            <a:ext cx="569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25960" y="2243160"/>
            <a:ext cx="1285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39800" y="2243160"/>
            <a:ext cx="1439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rv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90880" y="2243160"/>
            <a:ext cx="1331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ag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90920" y="285588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3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35560" y="2768760"/>
            <a:ext cx="1171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776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43000" y="2768760"/>
            <a:ext cx="43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166960" y="2768760"/>
            <a:ext cx="659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0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90920" y="326556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535560" y="3265560"/>
            <a:ext cx="1171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642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176160" y="3265560"/>
            <a:ext cx="805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,5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459280" y="3265560"/>
            <a:ext cx="366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90920" y="367344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7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89400" y="367344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,540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08960" y="3673440"/>
            <a:ext cx="1171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03,09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679960" y="367344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90920" y="408312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89400" y="408312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,218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808960" y="4083120"/>
            <a:ext cx="1171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598,69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533800" y="408312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36560" y="2184480"/>
            <a:ext cx="837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6560" y="2630520"/>
            <a:ext cx="837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98400" y="6121440"/>
            <a:ext cx="837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97400" y="447660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49720" y="4476600"/>
            <a:ext cx="1463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,888,19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69280" y="447660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,299,59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540280" y="447660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667480" y="492444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,298,37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97400" y="491508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97400" y="541008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090960" y="4927680"/>
            <a:ext cx="1622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200,000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249720" y="5410080"/>
            <a:ext cx="1463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3,284,18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75400" y="541008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,571,58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546400" y="492768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546400" y="541008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2149560" y="6330960"/>
            <a:ext cx="603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5360" y="114300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ction 1.5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parenc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560" y="1319040"/>
            <a:ext cx="869976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ables local and remote resources to be accessed using identic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oper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ables resources to be accessed without knowledge of their physic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or network location (for example, which building or IP addres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cy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ables several processes to operate concurrently using sha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resources without interference between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ication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ables multiple instances of resources to be used to incre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reliability and performance without knowledge of the replicas by users or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ables the concealment of faults, allowing users and appl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programs to complete their tasks despite the failure of hardware or software compon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llows the movement of resources and clients within a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affecting the operation of users or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llows the system to be reconfigured to improve performanc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as loads va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ing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llows the system and applications to expand in scale without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system structure or the application algorith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149560" y="6330960"/>
            <a:ext cx="603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95360" y="114300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servers and web brows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09880" y="3990960"/>
            <a:ext cx="387360" cy="4096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48080" y="3324240"/>
            <a:ext cx="387360" cy="4096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670800" y="2519280"/>
            <a:ext cx="234720" cy="182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6982920" y="3352320"/>
            <a:ext cx="3906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6748560" y="4081320"/>
            <a:ext cx="442800" cy="20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3184560" y="2441160"/>
            <a:ext cx="728640" cy="338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2819160" y="3483000"/>
            <a:ext cx="780840" cy="5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3131640" y="4106880"/>
            <a:ext cx="7542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600360" y="2363760"/>
            <a:ext cx="3382920" cy="195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97" y="4886"/>
                </a:moveTo>
                <a:lnTo>
                  <a:pt x="993" y="3744"/>
                </a:lnTo>
                <a:lnTo>
                  <a:pt x="2159" y="2302"/>
                </a:lnTo>
                <a:lnTo>
                  <a:pt x="3325" y="1441"/>
                </a:lnTo>
                <a:lnTo>
                  <a:pt x="4318" y="1441"/>
                </a:lnTo>
                <a:lnTo>
                  <a:pt x="4987" y="1441"/>
                </a:lnTo>
                <a:lnTo>
                  <a:pt x="6315" y="1441"/>
                </a:lnTo>
                <a:lnTo>
                  <a:pt x="7977" y="1722"/>
                </a:lnTo>
                <a:lnTo>
                  <a:pt x="9639" y="2004"/>
                </a:lnTo>
                <a:lnTo>
                  <a:pt x="11292" y="2004"/>
                </a:lnTo>
                <a:lnTo>
                  <a:pt x="12123" y="1142"/>
                </a:lnTo>
                <a:lnTo>
                  <a:pt x="12954" y="281"/>
                </a:lnTo>
                <a:lnTo>
                  <a:pt x="14120" y="0"/>
                </a:lnTo>
                <a:lnTo>
                  <a:pt x="15447" y="0"/>
                </a:lnTo>
                <a:lnTo>
                  <a:pt x="16451" y="281"/>
                </a:lnTo>
                <a:lnTo>
                  <a:pt x="17282" y="861"/>
                </a:lnTo>
                <a:lnTo>
                  <a:pt x="17941" y="1441"/>
                </a:lnTo>
                <a:lnTo>
                  <a:pt x="18772" y="2004"/>
                </a:lnTo>
                <a:lnTo>
                  <a:pt x="19938" y="3744"/>
                </a:lnTo>
                <a:lnTo>
                  <a:pt x="20597" y="5185"/>
                </a:lnTo>
                <a:lnTo>
                  <a:pt x="21103" y="6907"/>
                </a:lnTo>
                <a:lnTo>
                  <a:pt x="21428" y="10651"/>
                </a:lnTo>
                <a:lnTo>
                  <a:pt x="21600" y="12953"/>
                </a:lnTo>
                <a:lnTo>
                  <a:pt x="21266" y="15255"/>
                </a:lnTo>
                <a:lnTo>
                  <a:pt x="20769" y="18718"/>
                </a:lnTo>
                <a:lnTo>
                  <a:pt x="19603" y="20458"/>
                </a:lnTo>
                <a:lnTo>
                  <a:pt x="18103" y="21600"/>
                </a:lnTo>
                <a:lnTo>
                  <a:pt x="16451" y="21020"/>
                </a:lnTo>
                <a:lnTo>
                  <a:pt x="14951" y="20739"/>
                </a:lnTo>
                <a:lnTo>
                  <a:pt x="13623" y="20159"/>
                </a:lnTo>
                <a:lnTo>
                  <a:pt x="12123" y="19878"/>
                </a:lnTo>
                <a:lnTo>
                  <a:pt x="10795" y="19878"/>
                </a:lnTo>
                <a:lnTo>
                  <a:pt x="9305" y="19878"/>
                </a:lnTo>
                <a:lnTo>
                  <a:pt x="8301" y="20159"/>
                </a:lnTo>
                <a:lnTo>
                  <a:pt x="7146" y="20458"/>
                </a:lnTo>
                <a:lnTo>
                  <a:pt x="6142" y="20739"/>
                </a:lnTo>
                <a:lnTo>
                  <a:pt x="5149" y="21020"/>
                </a:lnTo>
                <a:lnTo>
                  <a:pt x="4156" y="21020"/>
                </a:lnTo>
                <a:lnTo>
                  <a:pt x="3152" y="20739"/>
                </a:lnTo>
                <a:lnTo>
                  <a:pt x="2493" y="20458"/>
                </a:lnTo>
                <a:lnTo>
                  <a:pt x="1824" y="19579"/>
                </a:lnTo>
                <a:lnTo>
                  <a:pt x="1490" y="19298"/>
                </a:lnTo>
                <a:lnTo>
                  <a:pt x="1328" y="18718"/>
                </a:lnTo>
                <a:lnTo>
                  <a:pt x="831" y="16697"/>
                </a:lnTo>
                <a:lnTo>
                  <a:pt x="334" y="14394"/>
                </a:lnTo>
                <a:lnTo>
                  <a:pt x="162" y="12391"/>
                </a:lnTo>
                <a:lnTo>
                  <a:pt x="0" y="10651"/>
                </a:lnTo>
                <a:lnTo>
                  <a:pt x="162" y="8348"/>
                </a:lnTo>
                <a:lnTo>
                  <a:pt x="334" y="6327"/>
                </a:lnTo>
                <a:lnTo>
                  <a:pt x="497" y="4886"/>
                </a:lnTo>
                <a:lnTo>
                  <a:pt x="497" y="4886"/>
                </a:lnTo>
                <a:close/>
                <a:moveTo>
                  <a:pt x="497" y="4886"/>
                </a:moveTo>
              </a:path>
            </a:pathLst>
          </a:custGeom>
          <a:solidFill>
            <a:srgbClr val="ffdc99"/>
          </a:solidFill>
          <a:ln w="2556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940280" y="3338640"/>
            <a:ext cx="73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91560" y="1571760"/>
            <a:ext cx="902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rows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59200" y="2190600"/>
            <a:ext cx="387360" cy="4096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30600" y="1625760"/>
            <a:ext cx="1213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eb serv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318320" y="2271600"/>
            <a:ext cx="164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ww.googl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52720" y="3416400"/>
            <a:ext cx="1347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cdk5.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55200" y="4118040"/>
            <a:ext cx="1288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ww.w3c.or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3002040" y="4444920"/>
            <a:ext cx="77760" cy="39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54920" y="4846680"/>
            <a:ext cx="95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tandar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2506320" y="5043600"/>
            <a:ext cx="468360" cy="36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50760" y="5445000"/>
            <a:ext cx="768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aq.ht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818240" y="4651200"/>
            <a:ext cx="52830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http://www.w3.org/standards/faq.html#conforma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38200" y="2038320"/>
            <a:ext cx="391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http://www.google.comlsearch?q=obam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079760" y="3598920"/>
            <a:ext cx="19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cdk5.net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079800" y="4419720"/>
            <a:ext cx="25200" cy="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21600" y="2160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949480" y="4497480"/>
            <a:ext cx="52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2844360" y="4575240"/>
            <a:ext cx="2700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715840" y="4653000"/>
            <a:ext cx="2556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585520" y="4757760"/>
            <a:ext cx="25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2455920" y="4835520"/>
            <a:ext cx="252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2325240" y="4913280"/>
            <a:ext cx="2556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2195280" y="4991040"/>
            <a:ext cx="5076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064960" y="5095800"/>
            <a:ext cx="5076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960200" y="5173560"/>
            <a:ext cx="27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1829880" y="5251320"/>
            <a:ext cx="270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1699920" y="5356080"/>
            <a:ext cx="27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569600" y="5433840"/>
            <a:ext cx="27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1439640" y="5511960"/>
            <a:ext cx="2700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1309680" y="5589720"/>
            <a:ext cx="5256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06360" y="5694480"/>
            <a:ext cx="25560" cy="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36680" y="5694480"/>
            <a:ext cx="52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492200" y="5694480"/>
            <a:ext cx="52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47720" y="5694480"/>
            <a:ext cx="52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05040" y="5694480"/>
            <a:ext cx="25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60560" y="5694480"/>
            <a:ext cx="2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116080" y="5694480"/>
            <a:ext cx="2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273400" y="5694480"/>
            <a:ext cx="25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428920" y="5694480"/>
            <a:ext cx="2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58880" y="5694480"/>
            <a:ext cx="52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716200" y="5694480"/>
            <a:ext cx="50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871720" y="5694480"/>
            <a:ext cx="52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27240" y="5694480"/>
            <a:ext cx="52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84560" y="5694480"/>
            <a:ext cx="50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340080" y="5694480"/>
            <a:ext cx="25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95600" y="5694480"/>
            <a:ext cx="2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652920" y="5694480"/>
            <a:ext cx="25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08440" y="5694480"/>
            <a:ext cx="25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938760" y="5694480"/>
            <a:ext cx="52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94280" y="5694480"/>
            <a:ext cx="52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51240" y="5694480"/>
            <a:ext cx="50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06760" y="5694480"/>
            <a:ext cx="52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562640" y="5694480"/>
            <a:ext cx="52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19600" y="5694480"/>
            <a:ext cx="25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875120" y="5694480"/>
            <a:ext cx="25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30640" y="5694480"/>
            <a:ext cx="27000" cy="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flipV="1">
            <a:off x="4900320" y="5589360"/>
            <a:ext cx="270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4770000" y="5511960"/>
            <a:ext cx="2700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640040" y="5433480"/>
            <a:ext cx="27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511160" y="5356080"/>
            <a:ext cx="25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381560" y="5250960"/>
            <a:ext cx="252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4250880" y="5173200"/>
            <a:ext cx="2556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121280" y="5095440"/>
            <a:ext cx="252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3990600" y="4990680"/>
            <a:ext cx="2556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flipV="1">
            <a:off x="3860280" y="4912920"/>
            <a:ext cx="2556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 flipV="1">
            <a:off x="3730680" y="4835160"/>
            <a:ext cx="252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3600000" y="4757760"/>
            <a:ext cx="25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3470400" y="4652640"/>
            <a:ext cx="252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3339720" y="4575240"/>
            <a:ext cx="2556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3209400" y="4497480"/>
            <a:ext cx="25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83200" y="4691160"/>
            <a:ext cx="1334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ile system o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82120" y="4925880"/>
            <a:ext cx="1288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ww.w3c.or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02040" y="2259000"/>
            <a:ext cx="285840" cy="260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611440" y="3378240"/>
            <a:ext cx="28584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975040" y="4054320"/>
            <a:ext cx="26028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26320" y="2336760"/>
            <a:ext cx="287280" cy="28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21680" y="3247920"/>
            <a:ext cx="28548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39160" y="4237200"/>
            <a:ext cx="285480" cy="285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rge Coulouris</dc:creator>
  <dc:description/>
  <dc:language>en-US</dc:language>
  <cp:lastModifiedBy>Jean Dollimore</cp:lastModifiedBy>
  <dcterms:modified xsi:type="dcterms:W3CDTF">2011-05-09T15:03:26Z</dcterms:modified>
  <cp:revision>4</cp:revision>
  <dc:subject/>
  <dc:title>Figure 15.1 A distributed multimedia system</dc:title>
</cp:coreProperties>
</file>