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D3F-0FB1-460D-BF1A-E8F44B6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ED-9A3F-4CE4-8043-3A352146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86A-B7F2-4621-95A9-641EC1F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D51-1781-4048-BB05-17A044E7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BF3-6922-4470-8568-9A4D42BC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C83-CD5F-415B-86A8-0D61B42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CC6-542A-4567-AA6E-CB395C1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62D-8152-40E2-B905-9E76E03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CE7-6DE5-4903-8EF5-6E92B464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7F0-03DB-449B-84AE-8E0673F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B4E-66E5-4CBF-8FBC-7E56EF29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BBC-491D-42A7-83AA-D729818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6E54-3D7A-427C-8726-A55F72C23C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 لمكون أو أكثر من النظام خلال فترة زم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14360"/>
              <a:ext cx="0" cy="18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3T08:42:02Z</dcterms:modified>
  <cp:revision>112</cp:revision>
  <dc:subject/>
  <dc:title>ما هية النظم</dc:title>
</cp:coreProperties>
</file>