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80C-8883-462A-9FFD-ACE69F4B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5CA-08C5-48CB-BEDA-F131D6DE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D76-064C-4008-B2CF-5C25681E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EC6-BB9F-4CA5-B2D6-CD093252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F85-14FF-4A96-93B4-820858E2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168-1954-4735-9664-B13836B7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C35-7D7E-4521-B7BB-11B6446C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B5A-179C-46A5-AF45-D127B15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BC4-3DA4-483B-A023-FB037927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3C0-9EA7-489F-B747-5329C114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49C-8602-4C63-A30D-AF94C5B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E7A-3EE4-4E83-A0B0-3474EE0A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CB2E-1C1E-47E2-AFA8-41E873DA26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ي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ثا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3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وارد النظام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هي تمثل الموارد كل الوسائل والإمكانات المتاحة للنظام لإنجاز الأنشطة اللازمة بتحقيق أهداف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نقسم النظم حسب حاجتها من الموارد إلى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غلقه : تتوفر كل الموارد التي يحتاجها النظم مرة واحدة و فترة زمني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فتوحه: تسمح بتدفات إضافية من ا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4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كونات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شمل مكونات النظام كلا من مهمة النظام 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ظائفه وأنشطته التي يجب انجازها لتحقيق أهداف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5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ضبط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يرى (تشرشمان) أن أي نظام ينطبق على نشاطين أساسيين هما التخطيط و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تخطيط للعناصر الأساسية (الأهداف، البيئة، الموارد، و المكونات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رقابة و المتابع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دعم عمليات الرقابة بالتغذية العكس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لامح </a:t>
            </a: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مدخلات النظام ما هي إلا مخرجات نظام آخ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لا تمثل عزل تام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غير ثابتة و قابلة للتغ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علومات المرتدة تدعم وظيفة الرقابة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وجود علاقات تربط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تتابعية: هي مخرجات نظم أخرى و تسمى بالمدخلات محددة المس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عشوائية: احتمال استخدام مخرجات نظام آخر كمدخلات للنظام بناءا على معيار اخت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عن طريق التغذية العكسية: إعادة استخدام مخرجات من النظام ك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مليات التحوي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عمل العمليات التحويلية على تحويل المدخلات إلى 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يمكن أن تكون العمليات التحويلية في شكل آلة أو إنسان أو مه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عمليات يمكن أن تك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ناتج العمليات التحوي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مكن أن تكون بشكل منتجات أو خدمات أو معلومات أو طاقة أو غير ذل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رتبطة ب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تصنيف 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تكون مدخلات لأنظم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يتم إعادة استخدامها في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لا تستخدم داخل أي 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لاق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مكونات النظام بعضه ببع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النظام ب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صنف العل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كافلية: تربط المكونات لأداء وظائفها و يمكن أن تكون أحادية القطب أو ثنائ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عاونية (التفاعلية):  يكون مخرج العمل التعاوني أكبر من مجموع مخرج كل مكون على حد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حويطية (الازدواجية): يمكن أن تحل محل علاقات أخرى لتقليل احتمالات الفش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تميز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مصاح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ناصر تعريف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خصائص النظم (تابع للساب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داخل الن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نظم المتطابقة أو المتماث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أقلم الن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 السلوكية أو الوظيفية ل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عبارة الخصائص التتابعية لمكون أو أكثر من النظام خلال فترة زم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حدود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حدود النظام قد تختلف حسب سبب الدرا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حد الحدود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نهاية الفصل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درج التعقد في النظام تتوقف على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عدد الأجزاء المكونة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خصائص هذه المكو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عدد التفاعلات المحتملة بين المكو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درجة التنظيم التي يتميز بها النظام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ناهج دراس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نظام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s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تحليل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داخل دراس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23"/>
          <p:cNvGrpSpPr/>
          <p:nvPr/>
        </p:nvGrpSpPr>
        <p:grpSpPr>
          <a:xfrm>
            <a:off x="457200" y="1600200"/>
            <a:ext cx="8229240" cy="4525560"/>
            <a:chOff x="457200" y="1600200"/>
            <a:chExt cx="8229240" cy="4525560"/>
          </a:xfrm>
        </p:grpSpPr>
        <p:sp>
          <p:nvSpPr>
            <p:cNvPr id="51" name="Text Box 24"/>
            <p:cNvSpPr/>
            <p:nvPr/>
          </p:nvSpPr>
          <p:spPr>
            <a:xfrm>
              <a:off x="3566160" y="1600200"/>
              <a:ext cx="329184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نهج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5"/>
            <p:cNvSpPr/>
            <p:nvPr/>
          </p:nvSpPr>
          <p:spPr>
            <a:xfrm>
              <a:off x="539496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النظرية العام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6"/>
            <p:cNvSpPr/>
            <p:nvPr/>
          </p:nvSpPr>
          <p:spPr>
            <a:xfrm>
              <a:off x="466344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بحوث العملي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7"/>
            <p:cNvSpPr/>
            <p:nvPr/>
          </p:nvSpPr>
          <p:spPr>
            <a:xfrm>
              <a:off x="155448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داخل خاص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8"/>
            <p:cNvSpPr/>
            <p:nvPr/>
          </p:nvSpPr>
          <p:spPr>
            <a:xfrm>
              <a:off x="82296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ديناميكي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9"/>
            <p:cNvSpPr/>
            <p:nvPr/>
          </p:nvSpPr>
          <p:spPr>
            <a:xfrm>
              <a:off x="576072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تحليل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1"/>
            <p:cNvSpPr/>
            <p:nvPr/>
          </p:nvSpPr>
          <p:spPr>
            <a:xfrm>
              <a:off x="45720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هندس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2"/>
            <p:cNvSpPr/>
            <p:nvPr/>
          </p:nvSpPr>
          <p:spPr>
            <a:xfrm>
              <a:off x="5029200" y="2217240"/>
              <a:ext cx="0" cy="1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3"/>
            <p:cNvSpPr/>
            <p:nvPr/>
          </p:nvSpPr>
          <p:spPr>
            <a:xfrm flipH="1">
              <a:off x="3383280" y="2320200"/>
              <a:ext cx="32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4"/>
            <p:cNvSpPr/>
            <p:nvPr/>
          </p:nvSpPr>
          <p:spPr>
            <a:xfrm>
              <a:off x="667512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5"/>
            <p:cNvSpPr/>
            <p:nvPr/>
          </p:nvSpPr>
          <p:spPr>
            <a:xfrm>
              <a:off x="338328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6"/>
            <p:cNvSpPr/>
            <p:nvPr/>
          </p:nvSpPr>
          <p:spPr>
            <a:xfrm>
              <a:off x="4541400" y="3108960"/>
              <a:ext cx="2133720" cy="8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7"/>
            <p:cNvSpPr/>
            <p:nvPr/>
          </p:nvSpPr>
          <p:spPr>
            <a:xfrm flipH="1">
              <a:off x="2468880" y="3177360"/>
              <a:ext cx="1340640" cy="78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8"/>
            <p:cNvSpPr/>
            <p:nvPr/>
          </p:nvSpPr>
          <p:spPr>
            <a:xfrm>
              <a:off x="4297680" y="3114360"/>
              <a:ext cx="0" cy="18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9"/>
            <p:cNvSpPr/>
            <p:nvPr/>
          </p:nvSpPr>
          <p:spPr>
            <a:xfrm flipH="1">
              <a:off x="1371240" y="4994640"/>
              <a:ext cx="566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0"/>
            <p:cNvSpPr/>
            <p:nvPr/>
          </p:nvSpPr>
          <p:spPr>
            <a:xfrm>
              <a:off x="137160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41"/>
            <p:cNvSpPr/>
            <p:nvPr/>
          </p:nvSpPr>
          <p:spPr>
            <a:xfrm>
              <a:off x="704088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  <a:cs typeface="PT Bold Heading"/>
              </a:rPr>
              <a:t>تعريف النظا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جموعة من المكونات التي ترتبط ببعضها البعض وبي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ا علاقات تفاعلية تمكنها من تكوين كل متكامل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لإنجاز هد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1"/>
          <p:cNvSpPr/>
          <p:nvPr/>
        </p:nvSpPr>
        <p:spPr>
          <a:xfrm>
            <a:off x="1857240" y="642960"/>
            <a:ext cx="56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خصائص تعريف ال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شكل بيضاوي 2"/>
          <p:cNvSpPr/>
          <p:nvPr/>
        </p:nvSpPr>
        <p:spPr>
          <a:xfrm>
            <a:off x="2000160" y="3214800"/>
            <a:ext cx="1785960" cy="121428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ضب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شكل بيضاوي 3"/>
          <p:cNvSpPr/>
          <p:nvPr/>
        </p:nvSpPr>
        <p:spPr>
          <a:xfrm>
            <a:off x="2786040" y="4786200"/>
            <a:ext cx="17146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مك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شكل بيضاوي 4"/>
          <p:cNvSpPr/>
          <p:nvPr/>
        </p:nvSpPr>
        <p:spPr>
          <a:xfrm>
            <a:off x="4857840" y="4786200"/>
            <a:ext cx="171432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شكل بيضاوي 5"/>
          <p:cNvSpPr/>
          <p:nvPr/>
        </p:nvSpPr>
        <p:spPr>
          <a:xfrm>
            <a:off x="5572080" y="3286080"/>
            <a:ext cx="164304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بيئ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شكل بيضاوي 6"/>
          <p:cNvSpPr/>
          <p:nvPr/>
        </p:nvSpPr>
        <p:spPr>
          <a:xfrm>
            <a:off x="3786120" y="2214720"/>
            <a:ext cx="1714680" cy="128556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a452a"/>
                </a:solidFill>
                <a:latin typeface="Calibri"/>
                <a:ea typeface="Akhbar MT"/>
              </a:rPr>
              <a:t>1</a:t>
            </a:r>
            <a:r>
              <a:rPr b="1" lang="ar-SA" sz="4000" spc="-1" strike="noStrike">
                <a:solidFill>
                  <a:srgbClr val="4a452a"/>
                </a:solidFill>
                <a:latin typeface="Calibri"/>
                <a:cs typeface="Akhbar MT"/>
              </a:rPr>
              <a:t>ـ أهداف النظا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ea typeface="Akhbar MT"/>
              </a:rPr>
              <a:t> المقصود بالأهداف تلك النهايات التي يتجه إليها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هد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يعرف إجرائيا</a:t>
            </a:r>
            <a:r>
              <a:rPr b="1" lang="en-US" sz="2800" spc="-1" strike="noStrike">
                <a:solidFill>
                  <a:srgbClr val="7f7f7f"/>
                </a:solidFill>
                <a:latin typeface="Calibri"/>
                <a:ea typeface="Akhbar MT"/>
              </a:rPr>
              <a:t> </a:t>
            </a:r>
            <a:r>
              <a:rPr b="1" lang="ar-JO" sz="2800" spc="-1" strike="noStrike">
                <a:solidFill>
                  <a:srgbClr val="7f7f7f"/>
                </a:solidFill>
                <a:latin typeface="Calibri"/>
                <a:ea typeface="Akhbar MT"/>
              </a:rPr>
              <a:t> ”واضح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7f7f7f"/>
                </a:solidFill>
                <a:latin typeface="Calibri"/>
                <a:cs typeface="Akhbar MT"/>
              </a:rPr>
              <a:t>قابل للقي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. بيئ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يقصد به كل ما هو خارج حدود النظام المع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ـ </a:t>
            </a: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خصائص الأساسية التي تميز البي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تمثل كل ما يقع خارج نطاق تحكم النظ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يجب أن تشمل كل العناصر التي تحدد ولو جزئيا طريقة أداء النظ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8:27:40Z</dcterms:created>
  <dc:creator>Dr.Kharma</dc:creator>
  <dc:description/>
  <dc:language>en-US</dc:language>
  <cp:lastModifiedBy>mashael</cp:lastModifiedBy>
  <dcterms:modified xsi:type="dcterms:W3CDTF">2012-09-13T08:42:02Z</dcterms:modified>
  <cp:revision>112</cp:revision>
  <dc:subject/>
  <dc:title>ما هية النظم</dc:title>
</cp:coreProperties>
</file>