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31EC-CA42-430F-AB39-AD3B1B2F4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76312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920" y="1743120"/>
            <a:ext cx="8686800" cy="189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04920" y="3823200"/>
            <a:ext cx="8686800" cy="189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D9E9-D66D-4B21-863A-9FCCD4956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76312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743120"/>
            <a:ext cx="4239000" cy="189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743120"/>
            <a:ext cx="4239000" cy="189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823200"/>
            <a:ext cx="4239000" cy="189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56320" y="3823200"/>
            <a:ext cx="4239000" cy="189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F937-75E1-4C83-9AC3-8B3715EAD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76312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4920" y="1743120"/>
            <a:ext cx="2796840" cy="189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42160" y="1743120"/>
            <a:ext cx="2796840" cy="189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9040" y="1743120"/>
            <a:ext cx="2796840" cy="189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04920" y="3823200"/>
            <a:ext cx="2796840" cy="189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42160" y="3823200"/>
            <a:ext cx="2796840" cy="189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9040" y="3823200"/>
            <a:ext cx="2796840" cy="189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8C7E-3582-408C-B8C5-D16A0204D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55EE6-AD5F-4F10-AC1A-1039C4082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76312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04920" y="174312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07AD7-F33A-4464-A061-D77708B12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76312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74312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A0481-1B37-42C0-B4AA-7CBA38285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76312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1743120"/>
            <a:ext cx="42390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56320" y="1743120"/>
            <a:ext cx="42390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66639-8568-415E-A349-96EC085E7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76312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62087-F879-4B5E-B039-F6DEFD289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763120" cy="24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85E76-F834-47CD-BACF-F8F262E10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76312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743120"/>
            <a:ext cx="4239000" cy="189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743120"/>
            <a:ext cx="42390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3823200"/>
            <a:ext cx="4239000" cy="189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8FB49-50DA-4BE9-AC97-B1578ED61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76312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04920" y="174312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73D1-104E-4F78-9DBB-B5DB6A7C2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76312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743120"/>
            <a:ext cx="42390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56320" y="1743120"/>
            <a:ext cx="4239000" cy="189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56320" y="3823200"/>
            <a:ext cx="4239000" cy="189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EC125-5AF5-4529-8B40-20AABEA61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76312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743120"/>
            <a:ext cx="4239000" cy="189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56320" y="1743120"/>
            <a:ext cx="4239000" cy="189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3823200"/>
            <a:ext cx="8686800" cy="189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0EF86-865A-4100-BF55-5720A6FBF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76312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743120"/>
            <a:ext cx="8686800" cy="189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04920" y="3823200"/>
            <a:ext cx="8686800" cy="189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1DA70-DD45-4503-B05C-A0F156446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76312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743120"/>
            <a:ext cx="4239000" cy="189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56320" y="1743120"/>
            <a:ext cx="4239000" cy="189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823200"/>
            <a:ext cx="4239000" cy="189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56320" y="3823200"/>
            <a:ext cx="4239000" cy="189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81D19-550E-440D-A04D-ED19A1966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76312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743120"/>
            <a:ext cx="2796840" cy="189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42160" y="1743120"/>
            <a:ext cx="2796840" cy="189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9040" y="1743120"/>
            <a:ext cx="2796840" cy="189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04920" y="3823200"/>
            <a:ext cx="2796840" cy="189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42160" y="3823200"/>
            <a:ext cx="2796840" cy="189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9040" y="3823200"/>
            <a:ext cx="2796840" cy="189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3976B-6B5C-48A9-B969-3F071BCBC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76312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74312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D3E2-3956-4611-9ADA-5742C8D3D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76312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743120"/>
            <a:ext cx="42390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56320" y="1743120"/>
            <a:ext cx="42390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14A1-FC59-4454-ACB0-930F2C011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76312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ECA4-38B0-44AB-B047-5F5486AA4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763120" cy="24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C37E-B503-4F60-8BD0-D29733FDE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76312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743120"/>
            <a:ext cx="4239000" cy="189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56320" y="1743120"/>
            <a:ext cx="42390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04920" y="3823200"/>
            <a:ext cx="4239000" cy="189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7826-0E8F-4DB9-AB31-406C50D70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76312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1743120"/>
            <a:ext cx="42390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56320" y="1743120"/>
            <a:ext cx="4239000" cy="189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56320" y="3823200"/>
            <a:ext cx="4239000" cy="189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AAD0-825F-494A-A737-967236CD2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76312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1743120"/>
            <a:ext cx="4239000" cy="189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56320" y="1743120"/>
            <a:ext cx="4239000" cy="189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04920" y="3823200"/>
            <a:ext cx="8686800" cy="189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4634-3719-4922-94DF-9CCD77E8A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76312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66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74312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66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66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66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66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66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AE269-127B-40D1-A2F7-10C1C55AF3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685800"/>
            <a:ext cx="9144000" cy="7632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25360" y="6537240"/>
            <a:ext cx="421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0000"/>
                </a:solidFill>
                <a:latin typeface="Times New Roman"/>
              </a:rPr>
              <a:t>Copyright © 2004 Pearson Education, Inc., publishing as Benjamin Cumm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47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5360" y="6537240"/>
            <a:ext cx="421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Copyright © 2004 Pearson Education, Inc., publishing as Benjamin Cumm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660000"/>
                </a:solidFill>
                <a:latin typeface="Times New Roman"/>
              </a:rPr>
              <a:t>Click to edit the title text format</a:t>
            </a:r>
            <a:endParaRPr b="1" lang="en-US" sz="4700" spc="-1" strike="noStrike">
              <a:solidFill>
                <a:srgbClr val="66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663F9-C63D-41E0-B7A0-984E4B58AF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752480" y="457200"/>
            <a:ext cx="637092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8080"/>
                </a:solidFill>
                <a:latin typeface="Times New Roman"/>
              </a:rPr>
              <a:t>Fundamentals of</a:t>
            </a:r>
            <a:br>
              <a:rPr sz="2600"/>
            </a:br>
            <a:r>
              <a:rPr b="0" lang="en-US" sz="2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Anatomy &amp; Physiolo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SIXTH ED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5400000">
            <a:off x="6102720" y="2429640"/>
            <a:ext cx="4952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0000"/>
                </a:solidFill>
                <a:latin typeface="Times New Roman"/>
              </a:rPr>
              <a:t>Frederic H. Martini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5790960"/>
            <a:ext cx="876312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00"/>
                </a:solidFill>
                <a:latin typeface="Arial"/>
              </a:rPr>
              <a:t>PowerPoint</a:t>
            </a:r>
            <a:r>
              <a:rPr b="0" lang="en-US" sz="1400" spc="-1" strike="noStrike" baseline="30000">
                <a:solidFill>
                  <a:srgbClr val="660000"/>
                </a:solidFill>
                <a:latin typeface="Arial"/>
              </a:rPr>
              <a:t>®</a:t>
            </a:r>
            <a:r>
              <a:rPr b="0" lang="en-US" sz="1400" spc="-1" strike="noStrike">
                <a:solidFill>
                  <a:srgbClr val="660000"/>
                </a:solidFill>
                <a:latin typeface="Arial"/>
              </a:rPr>
              <a:t> Lecture Slide Presentation prepared by</a:t>
            </a:r>
            <a:r>
              <a:rPr b="0" lang="en-US" sz="1600" spc="-1" strike="noStrike">
                <a:solidFill>
                  <a:srgbClr val="660000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993333"/>
                </a:solidFill>
                <a:latin typeface="Georgia"/>
              </a:rPr>
              <a:t>Dr. Kathleen A. Ireland, </a:t>
            </a:r>
            <a:r>
              <a:rPr b="0" i="1" lang="en-US" sz="1600" spc="-1" strike="noStrike">
                <a:solidFill>
                  <a:srgbClr val="993333"/>
                </a:solidFill>
                <a:latin typeface="Georgia"/>
              </a:rPr>
              <a:t>Biology Instructor, Seabury Hall, Maui, Hawai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lvl="1" marL="457200" indent="0" algn="ctr">
              <a:lnSpc>
                <a:spcPct val="90000"/>
              </a:lnSpc>
              <a:spcBef>
                <a:spcPts val="1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  <a:p>
            <a:pPr lvl="2" marL="914400" algn="ctr">
              <a:lnSpc>
                <a:spcPct val="90000"/>
              </a:lnSpc>
              <a:spcBef>
                <a:spcPts val="1451"/>
              </a:spcBef>
              <a:buClr>
                <a:srgbClr val="66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  <a:p>
            <a:pPr lvl="3" marL="1371600" algn="ctr">
              <a:lnSpc>
                <a:spcPct val="90000"/>
              </a:lnSpc>
              <a:spcBef>
                <a:spcPts val="1451"/>
              </a:spcBef>
              <a:buClr>
                <a:srgbClr val="66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  <a:p>
            <a:pPr lvl="4" marL="1828800" algn="ctr">
              <a:lnSpc>
                <a:spcPct val="90000"/>
              </a:lnSpc>
              <a:spcBef>
                <a:spcPts val="1451"/>
              </a:spcBef>
              <a:buClr>
                <a:srgbClr val="66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  <a:p>
            <a:pPr lvl="5" marL="182880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  <a:p>
            <a:pPr lvl="6" marL="182880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../media_cd/ip/systems/cardcycl.html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660000"/>
                </a:solidFill>
                <a:latin typeface="Times New Roman"/>
              </a:rPr>
              <a:t>Chapter 20,  </a:t>
            </a:r>
            <a:r>
              <a:rPr b="1" i="1" lang="en-US" sz="4700" spc="-1" strike="noStrike">
                <a:solidFill>
                  <a:srgbClr val="660000"/>
                </a:solidFill>
                <a:latin typeface="Times New Roman"/>
              </a:rPr>
              <a:t>part 4</a:t>
            </a:r>
            <a:endParaRPr b="1" lang="en-US" sz="4700" spc="-1" strike="noStrike">
              <a:solidFill>
                <a:srgbClr val="66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28600" y="3581280"/>
            <a:ext cx="64771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The Heart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04920" y="1654200"/>
            <a:ext cx="861048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90000"/>
              </a:lnSpc>
              <a:spcBef>
                <a:spcPts val="1451"/>
              </a:spcBef>
              <a:buClr>
                <a:srgbClr val="66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eorgia"/>
              </a:rPr>
              <a:t>EDV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lnSpc>
                <a:spcPct val="90000"/>
              </a:lnSpc>
              <a:spcBef>
                <a:spcPts val="1451"/>
              </a:spcBef>
              <a:buClr>
                <a:srgbClr val="66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eorgia"/>
              </a:rPr>
              <a:t>Frank-Starling principle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1451"/>
              </a:spcBef>
              <a:buClr>
                <a:srgbClr val="66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eorgia"/>
              </a:rPr>
              <a:t>ESV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lnSpc>
                <a:spcPct val="90000"/>
              </a:lnSpc>
              <a:spcBef>
                <a:spcPts val="1451"/>
              </a:spcBef>
              <a:buClr>
                <a:srgbClr val="66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eorgia"/>
              </a:rPr>
              <a:t>Preload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lnSpc>
                <a:spcPct val="90000"/>
              </a:lnSpc>
              <a:spcBef>
                <a:spcPts val="1451"/>
              </a:spcBef>
              <a:buClr>
                <a:srgbClr val="66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eorgia"/>
              </a:rPr>
              <a:t>Contractility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lnSpc>
                <a:spcPct val="90000"/>
              </a:lnSpc>
              <a:spcBef>
                <a:spcPts val="1451"/>
              </a:spcBef>
              <a:buClr>
                <a:srgbClr val="66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eorgia"/>
              </a:rPr>
              <a:t>Afterload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228600" y="75960"/>
            <a:ext cx="876312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00"/>
                </a:solidFill>
                <a:latin typeface="Times New Roman"/>
              </a:rPr>
              <a:t>Factors Affecting stoke volume</a:t>
            </a:r>
            <a:endParaRPr b="1" lang="en-US" sz="3200" spc="-1" strike="noStrike">
              <a:solidFill>
                <a:srgbClr val="66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76312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00"/>
                </a:solidFill>
                <a:latin typeface="Times New Roman"/>
              </a:rPr>
              <a:t>Figure 20.23  Factors Affecting Stroke Volume</a:t>
            </a:r>
            <a:endParaRPr b="1" lang="en-US" sz="3200" spc="-1" strike="noStrike">
              <a:solidFill>
                <a:srgbClr val="66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696080" y="647712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20.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28600" y="795240"/>
            <a:ext cx="8610480" cy="568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76312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00"/>
                </a:solidFill>
                <a:latin typeface="Times New Roman"/>
              </a:rPr>
              <a:t>Figure 20.23  Factors Affecting Stroke Volume</a:t>
            </a:r>
            <a:endParaRPr b="1" lang="en-US" sz="3200" spc="-1" strike="noStrike">
              <a:solidFill>
                <a:srgbClr val="66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96080" y="647712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20.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76320" y="1123920"/>
            <a:ext cx="899136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04920" y="1654200"/>
            <a:ext cx="861048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90000"/>
              </a:lnSpc>
              <a:spcBef>
                <a:spcPts val="1451"/>
              </a:spcBef>
              <a:buClr>
                <a:srgbClr val="66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eorgia"/>
              </a:rPr>
              <a:t>Sympathetic stimulation 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lnSpc>
                <a:spcPct val="90000"/>
              </a:lnSpc>
              <a:spcBef>
                <a:spcPts val="1451"/>
              </a:spcBef>
              <a:buClr>
                <a:srgbClr val="66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eorgia"/>
              </a:rPr>
              <a:t>Positive inotropic effect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lnSpc>
                <a:spcPct val="90000"/>
              </a:lnSpc>
              <a:spcBef>
                <a:spcPts val="1451"/>
              </a:spcBef>
              <a:buClr>
                <a:srgbClr val="66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eorgia"/>
              </a:rPr>
              <a:t>Releases NE 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1451"/>
              </a:spcBef>
              <a:buClr>
                <a:srgbClr val="66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eorgia"/>
              </a:rPr>
              <a:t>Parasympathetic stimulation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lnSpc>
                <a:spcPct val="90000"/>
              </a:lnSpc>
              <a:spcBef>
                <a:spcPts val="1451"/>
              </a:spcBef>
              <a:buClr>
                <a:srgbClr val="66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eorgia"/>
              </a:rPr>
              <a:t>Negative inotropic effect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lnSpc>
                <a:spcPct val="90000"/>
              </a:lnSpc>
              <a:spcBef>
                <a:spcPts val="1451"/>
              </a:spcBef>
              <a:buClr>
                <a:srgbClr val="66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eorgia"/>
              </a:rPr>
              <a:t>Releases ACh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228600" y="75960"/>
            <a:ext cx="876312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00"/>
                </a:solidFill>
                <a:latin typeface="Times New Roman"/>
              </a:rPr>
              <a:t>Autonomic Activity</a:t>
            </a:r>
            <a:endParaRPr b="1" lang="en-US" sz="3200" spc="-1" strike="noStrike">
              <a:solidFill>
                <a:srgbClr val="66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304920" y="1694160"/>
            <a:ext cx="86104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66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eorgia"/>
              </a:rPr>
              <a:t>Heavy exercise can increase output by 300-500 percent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66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eorgia"/>
              </a:rPr>
              <a:t>Trained athletes may increase cardiac output by 700 percent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66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eorgia"/>
              </a:rPr>
              <a:t>Cardiac reserve 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66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eorgia"/>
              </a:rPr>
              <a:t>The difference between resting and maximal cardiac output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228600" y="75960"/>
            <a:ext cx="876312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00"/>
                </a:solidFill>
                <a:latin typeface="Times New Roman"/>
              </a:rPr>
              <a:t>Exercise and Cardiac Output</a:t>
            </a:r>
            <a:endParaRPr b="1" lang="en-US" sz="3200" spc="-1" strike="noStrike">
              <a:solidFill>
                <a:srgbClr val="66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140840" y="5790600"/>
            <a:ext cx="25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imation: Cardiac cyc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>
            <a:hlinkClick r:id="rId1"/>
          </p:cNvPr>
          <p:cNvSpPr/>
          <p:nvPr/>
        </p:nvSpPr>
        <p:spPr>
          <a:xfrm>
            <a:off x="380880" y="5791320"/>
            <a:ext cx="762120" cy="380880"/>
          </a:xfrm>
          <a:custGeom>
            <a:avLst/>
            <a:gdLst>
              <a:gd name="textAreaLeft" fmla="*/ 24480 w 762120"/>
              <a:gd name="textAreaRight" fmla="*/ 737640 w 7621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0000"/>
          </a:solidFill>
          <a:ln w="936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L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6094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1066680"/>
            <a:ext cx="9144000" cy="7632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763120" cy="97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00"/>
                </a:solidFill>
                <a:latin typeface="Times New Roman"/>
              </a:rPr>
              <a:t>Summary: Regulation of Heart Rate and Stroke Volume</a:t>
            </a:r>
            <a:endParaRPr b="1" lang="en-US" sz="3200" spc="-1" strike="noStrike">
              <a:solidFill>
                <a:srgbClr val="66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939680"/>
            <a:ext cx="8610480" cy="39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66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Sympathetic stimulation increases heart rate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66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Parasympathetic stimulation decreases heart rate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66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Circulating hormones, specifically E, NE, and T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Georgia"/>
              </a:rPr>
              <a:t>3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, accelerate heart rate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66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Increased venous return increases heart rate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66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EDV is determined by available filling time and rate of venous return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66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ESV is determined by preload, degree of contractility, and afterload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6094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1066680"/>
            <a:ext cx="9144000" cy="7632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763120" cy="97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00"/>
                </a:solidFill>
                <a:latin typeface="Times New Roman"/>
              </a:rPr>
              <a:t>Figure 20.24  A Summary of the Factors Affecting Cardiac Output</a:t>
            </a:r>
            <a:endParaRPr b="1" lang="en-US" sz="3200" spc="-1" strike="noStrike">
              <a:solidFill>
                <a:srgbClr val="66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96080" y="647712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20.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76320" y="1143000"/>
            <a:ext cx="8991360" cy="53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6094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3657600"/>
            <a:ext cx="9144000" cy="7632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077200"/>
            <a:ext cx="8763120" cy="97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00"/>
                </a:solidFill>
                <a:latin typeface="Times New Roman"/>
              </a:rPr>
              <a:t>SECTION 20-5</a:t>
            </a:r>
            <a:r>
              <a:rPr b="1" lang="en-US" sz="3200" spc="-1" strike="noStrike">
                <a:solidFill>
                  <a:srgbClr val="808080"/>
                </a:solidFill>
                <a:latin typeface="Times New Roman"/>
              </a:rPr>
              <a:t>  </a:t>
            </a:r>
            <a:br>
              <a:rPr sz="3200"/>
            </a:br>
            <a:r>
              <a:rPr b="1" lang="en-US" sz="3200" spc="-1" strike="noStrike">
                <a:solidFill>
                  <a:srgbClr val="666666"/>
                </a:solidFill>
                <a:latin typeface="Times New Roman"/>
              </a:rPr>
              <a:t>The Heart and the Cardiovascular System</a:t>
            </a:r>
            <a:endParaRPr b="1" lang="en-US" sz="3200" spc="-1" strike="noStrike">
              <a:solidFill>
                <a:srgbClr val="66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304920" y="2219040"/>
            <a:ext cx="8610480" cy="27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66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eorgia"/>
              </a:rPr>
              <a:t>The goal of the cardiovascular system is to maintain adequate blood flow to all body tissues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  <a:p>
            <a:pPr lvl="1" marL="735480" indent="-282960">
              <a:lnSpc>
                <a:spcPct val="100000"/>
              </a:lnSpc>
              <a:spcBef>
                <a:spcPts val="1451"/>
              </a:spcBef>
              <a:buClr>
                <a:srgbClr val="66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eorgia"/>
              </a:rPr>
              <a:t>The heart works in conjunction with cardiovascular centers and peripheral blood vessels to achieve this goal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228600" y="75960"/>
            <a:ext cx="876312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00"/>
                </a:solidFill>
                <a:latin typeface="Times New Roman"/>
              </a:rPr>
              <a:t>The heart is part of the cardiovascular system</a:t>
            </a:r>
            <a:endParaRPr b="1" lang="en-US" sz="3200" spc="-1" strike="noStrike">
              <a:solidFill>
                <a:srgbClr val="66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304920" y="1086840"/>
            <a:ext cx="8610480" cy="506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1451"/>
              </a:spcBef>
              <a:buClr>
                <a:srgbClr val="66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eorgia"/>
              </a:rPr>
              <a:t>The organization of the cardiovascular system. 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  <a:p>
            <a:pPr marL="339480" indent="-339480">
              <a:lnSpc>
                <a:spcPct val="100000"/>
              </a:lnSpc>
              <a:spcBef>
                <a:spcPts val="1451"/>
              </a:spcBef>
              <a:buClr>
                <a:srgbClr val="66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eorgia"/>
              </a:rPr>
              <a:t>The location and general features of the heart, including the pericardium.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  <a:p>
            <a:pPr marL="339480" indent="-339480">
              <a:lnSpc>
                <a:spcPct val="100000"/>
              </a:lnSpc>
              <a:spcBef>
                <a:spcPts val="1451"/>
              </a:spcBef>
              <a:buClr>
                <a:srgbClr val="66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eorgia"/>
              </a:rPr>
              <a:t>The differences between nodal cells and conducting cells as well as the components and functions of the conducting system of the heart.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  <a:p>
            <a:pPr marL="339480" indent="-339480">
              <a:lnSpc>
                <a:spcPct val="100000"/>
              </a:lnSpc>
              <a:spcBef>
                <a:spcPts val="1451"/>
              </a:spcBef>
              <a:buClr>
                <a:srgbClr val="66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eorgia"/>
              </a:rPr>
              <a:t>The electrical events associated with a normal electrocardiogram.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228600" y="75960"/>
            <a:ext cx="876312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00"/>
                </a:solidFill>
                <a:latin typeface="Times New Roman"/>
              </a:rPr>
              <a:t>You should now be familiar with:</a:t>
            </a:r>
            <a:endParaRPr b="1" lang="en-US" sz="3200" spc="-1" strike="noStrike">
              <a:solidFill>
                <a:srgbClr val="66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304920" y="1654200"/>
            <a:ext cx="861048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1451"/>
              </a:spcBef>
              <a:buClr>
                <a:srgbClr val="66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eorgia"/>
              </a:rPr>
              <a:t>Autonomic innervation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  <a:p>
            <a:pPr lvl="1" marL="653760" indent="-251280">
              <a:lnSpc>
                <a:spcPct val="90000"/>
              </a:lnSpc>
              <a:spcBef>
                <a:spcPts val="1451"/>
              </a:spcBef>
              <a:buClr>
                <a:srgbClr val="66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eorgia"/>
              </a:rPr>
              <a:t>Cardiac reflexes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  <a:p>
            <a:pPr lvl="1" marL="653760" indent="-251280">
              <a:lnSpc>
                <a:spcPct val="90000"/>
              </a:lnSpc>
              <a:spcBef>
                <a:spcPts val="1451"/>
              </a:spcBef>
              <a:buClr>
                <a:srgbClr val="66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eorgia"/>
              </a:rPr>
              <a:t>Tone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  <a:p>
            <a:pPr lvl="1" marL="653760" indent="-251280">
              <a:lnSpc>
                <a:spcPct val="90000"/>
              </a:lnSpc>
              <a:spcBef>
                <a:spcPts val="1451"/>
              </a:spcBef>
              <a:buClr>
                <a:srgbClr val="66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eorgia"/>
              </a:rPr>
              <a:t>SA node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  <a:p>
            <a:pPr marL="301680" indent="-301680">
              <a:lnSpc>
                <a:spcPct val="90000"/>
              </a:lnSpc>
              <a:spcBef>
                <a:spcPts val="1451"/>
              </a:spcBef>
              <a:buClr>
                <a:srgbClr val="66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eorgia"/>
              </a:rPr>
              <a:t>Hormones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  <a:p>
            <a:pPr lvl="1" marL="653760" indent="-251280">
              <a:lnSpc>
                <a:spcPct val="90000"/>
              </a:lnSpc>
              <a:spcBef>
                <a:spcPts val="1451"/>
              </a:spcBef>
              <a:buClr>
                <a:srgbClr val="66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eorgia"/>
              </a:rPr>
              <a:t>Epinephrine (E), norepinephrine(NE), and thyroid hormone (T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Georgia"/>
              </a:rPr>
              <a:t>3</a:t>
            </a:r>
            <a:r>
              <a:rPr b="0" lang="en-US" sz="2900" spc="-1" strike="noStrike">
                <a:solidFill>
                  <a:srgbClr val="000000"/>
                </a:solidFill>
                <a:latin typeface="Georgia"/>
              </a:rPr>
              <a:t>) 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  <a:p>
            <a:pPr marL="301680" indent="-301680">
              <a:lnSpc>
                <a:spcPct val="90000"/>
              </a:lnSpc>
              <a:spcBef>
                <a:spcPts val="1451"/>
              </a:spcBef>
              <a:buClr>
                <a:srgbClr val="66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eorgia"/>
              </a:rPr>
              <a:t>Venous return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228600" y="75960"/>
            <a:ext cx="876312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00"/>
                </a:solidFill>
                <a:latin typeface="Times New Roman"/>
              </a:rPr>
              <a:t>Factors Affecting Heart Rate</a:t>
            </a:r>
            <a:endParaRPr b="1" lang="en-US" sz="3200" spc="-1" strike="noStrike">
              <a:solidFill>
                <a:srgbClr val="66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304920" y="1597680"/>
            <a:ext cx="8610480" cy="403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66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eorgia"/>
              </a:rPr>
              <a:t>The events of the cardiac cycle including atrial and ventricular systole and diastole, and the heart sounds related to specific events in the cycle.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66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eorgia"/>
              </a:rPr>
              <a:t>Cardiac output, heart rate and stroke volume and the factors that influence these variables.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66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eorgia"/>
              </a:rPr>
              <a:t>How adjustments in stroke volume and cardiac output are coordinated at different levels of activity.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228600" y="75960"/>
            <a:ext cx="876312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00"/>
                </a:solidFill>
                <a:latin typeface="Times New Roman"/>
              </a:rPr>
              <a:t>You should now be familiar with:</a:t>
            </a:r>
            <a:endParaRPr b="1" lang="en-US" sz="3200" spc="-1" strike="noStrike">
              <a:solidFill>
                <a:srgbClr val="66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76312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00"/>
                </a:solidFill>
                <a:latin typeface="Times New Roman"/>
              </a:rPr>
              <a:t>Figure 20.20  Factors Affecting Cardiac Output</a:t>
            </a:r>
            <a:endParaRPr b="1" lang="en-US" sz="3200" spc="-1" strike="noStrike">
              <a:solidFill>
                <a:srgbClr val="66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696080" y="647712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20.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6320" y="762120"/>
            <a:ext cx="8991360" cy="57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6094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1066680"/>
            <a:ext cx="9144000" cy="7632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763120" cy="97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00"/>
                </a:solidFill>
                <a:latin typeface="Times New Roman"/>
              </a:rPr>
              <a:t>Medulla Oblongata centers affect autonomic innervation</a:t>
            </a:r>
            <a:endParaRPr b="1" lang="en-US" sz="3200" spc="-1" strike="noStrike">
              <a:solidFill>
                <a:srgbClr val="66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920" y="1654200"/>
            <a:ext cx="861048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1451"/>
              </a:spcBef>
              <a:buClr>
                <a:srgbClr val="66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eorgia"/>
              </a:rPr>
              <a:t>Cardioacceleratory center activates sympathetic neurons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1451"/>
              </a:spcBef>
              <a:buClr>
                <a:srgbClr val="66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eorgia"/>
              </a:rPr>
              <a:t>Cardioinhibitory center controls parasympathetic neurons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1451"/>
              </a:spcBef>
              <a:buClr>
                <a:srgbClr val="66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eorgia"/>
              </a:rPr>
              <a:t>Receives input from higher centers, monitoring blood pressure and dissolved gas concentrations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76312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00"/>
                </a:solidFill>
                <a:latin typeface="Times New Roman"/>
              </a:rPr>
              <a:t>Figure 20.21 Autonomic Innervation of the Heart</a:t>
            </a:r>
            <a:endParaRPr b="1" lang="en-US" sz="3200" spc="-1" strike="noStrike">
              <a:solidFill>
                <a:srgbClr val="66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96080" y="647712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20.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8600" y="811080"/>
            <a:ext cx="8686800" cy="574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76312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00"/>
                </a:solidFill>
                <a:latin typeface="Times New Roman"/>
              </a:rPr>
              <a:t>Figure 20.21 Autonomic Innervation of the Heart</a:t>
            </a:r>
            <a:endParaRPr b="1" lang="en-US" sz="3200" spc="-1" strike="noStrike">
              <a:solidFill>
                <a:srgbClr val="66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696080" y="647712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20.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362320" y="762120"/>
            <a:ext cx="464328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304920" y="1654200"/>
            <a:ext cx="861048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90000"/>
              </a:lnSpc>
              <a:spcBef>
                <a:spcPts val="1451"/>
              </a:spcBef>
              <a:buClr>
                <a:srgbClr val="66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eorgia"/>
              </a:rPr>
              <a:t>SA node establishes baseline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1451"/>
              </a:spcBef>
              <a:buClr>
                <a:srgbClr val="66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eorgia"/>
              </a:rPr>
              <a:t>Modified by ANS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lnSpc>
                <a:spcPct val="90000"/>
              </a:lnSpc>
              <a:spcBef>
                <a:spcPts val="1451"/>
              </a:spcBef>
              <a:buClr>
                <a:srgbClr val="66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eorgia"/>
              </a:rPr>
              <a:t>Atrial reflex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228600" y="75960"/>
            <a:ext cx="876312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00"/>
                </a:solidFill>
                <a:latin typeface="Times New Roman"/>
              </a:rPr>
              <a:t>Basic heart rate established by pacemaker cells</a:t>
            </a:r>
            <a:endParaRPr b="1" lang="en-US" sz="3200" spc="-1" strike="noStrike">
              <a:solidFill>
                <a:srgbClr val="66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76312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00"/>
                </a:solidFill>
                <a:latin typeface="Times New Roman"/>
              </a:rPr>
              <a:t>Figure 20.22  Pacemaker Function</a:t>
            </a:r>
            <a:endParaRPr b="1" lang="en-US" sz="3200" spc="-1" strike="noStrike">
              <a:solidFill>
                <a:srgbClr val="66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467480" y="647712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20.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28600" y="755640"/>
            <a:ext cx="8763120" cy="57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76312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00"/>
                </a:solidFill>
                <a:latin typeface="Times New Roman"/>
              </a:rPr>
              <a:t>Figure 20.22  Pacemaker Function</a:t>
            </a:r>
            <a:endParaRPr b="1" lang="en-US" sz="3200" spc="-1" strike="noStrike">
              <a:solidFill>
                <a:srgbClr val="66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467480" y="647712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20.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209680" y="762120"/>
            <a:ext cx="496440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02:35:13Z</dcterms:created>
  <dc:creator>karlm</dc:creator>
  <dc:description/>
  <dc:language>en-US</dc:language>
  <cp:lastModifiedBy>karlm</cp:lastModifiedBy>
  <dcterms:modified xsi:type="dcterms:W3CDTF">2003-03-15T21:45:31Z</dcterms:modified>
  <cp:revision>110</cp:revision>
  <dc:subject/>
  <dc:title>PowerPoint Presentation</dc:title>
</cp:coreProperties>
</file>