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B9E-948C-46C2-9CA6-22191004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CA4-42DE-4B35-A25D-4011ABE5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A1C-2CC0-4BF9-BB74-383E64C6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16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904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16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904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FB4-2325-47A6-91B4-CD6BAE24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BF0D-5080-42F6-A318-3CF7B634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4A5-BC44-42B9-9B47-034E9CFF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D8C-1EB3-4AF6-947F-1C32C576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793-B7CA-4D99-A53F-FD67151B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3F09-228D-4AF3-B9DD-37F6DF0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76312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30FF-0421-4A09-A61B-59E3705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A5C2-4E45-4AED-94C3-4CDFC4D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673-5975-4285-8FEA-F1E16B21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58B4-91F6-470D-AFDC-25AB9427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272-C8BA-4A15-A6BB-9A60B5C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CDA-9737-43D7-BC7A-B66763A4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E51-244F-4E58-8AE4-93A10911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74312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823200"/>
            <a:ext cx="279684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D5D-CADC-4669-9EE8-7DDD6DE8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841-8801-4F00-B259-5BE380BA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6AD-CD94-4A85-BDF7-DCA89687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F67-CAF0-4219-9584-444902E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76312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3E0-A1FD-4DBB-981D-23670F7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11A-4AB7-4BC5-920E-B05A9A39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320" y="382320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62A-62D0-468B-8161-8DE48AF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743120"/>
            <a:ext cx="42390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23200"/>
            <a:ext cx="8686800" cy="189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B74-CF44-46F4-8E45-2676A8F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74312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B36-40B1-40FC-B9BC-6ECAC2B93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00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0000"/>
                </a:solidFill>
                <a:latin typeface="Times New Roman"/>
              </a:rPr>
              <a:t>Click to edit the title text format</a:t>
            </a:r>
            <a:endParaRPr b="1" lang="en-US" sz="47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DA75-5A96-4F86-A27F-0FB880198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"/>
            <a:ext cx="63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Times New Roman"/>
              </a:rPr>
              <a:t>Fundamentals of</a:t>
            </a:r>
            <a:br>
              <a:rPr sz="2600"/>
            </a:br>
            <a:r>
              <a:rPr b="0" lang="en-US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natomy &amp; Physi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SIX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6102720" y="242964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00"/>
                </a:solidFill>
                <a:latin typeface="Times New Roman"/>
              </a:rPr>
              <a:t>Frederic H. Marti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790960"/>
            <a:ext cx="8763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00"/>
                </a:solidFill>
                <a:latin typeface="Arial"/>
              </a:rPr>
              <a:t>PowerPoint</a:t>
            </a:r>
            <a:r>
              <a:rPr b="0" lang="en-US" sz="1400" spc="-1" strike="noStrike" baseline="30000">
                <a:solidFill>
                  <a:srgbClr val="660000"/>
                </a:solidFill>
                <a:latin typeface="Arial"/>
              </a:rPr>
              <a:t>®</a:t>
            </a:r>
            <a:r>
              <a:rPr b="0" lang="en-US" sz="1400" spc="-1" strike="noStrike">
                <a:solidFill>
                  <a:srgbClr val="660000"/>
                </a:solidFill>
                <a:latin typeface="Arial"/>
              </a:rPr>
              <a:t> Lecture Slide Presentation prepared by</a:t>
            </a:r>
            <a:r>
              <a:rPr b="0" lang="en-US" sz="1600" spc="-1" strike="noStrike">
                <a:solidFill>
                  <a:srgbClr val="66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993333"/>
                </a:solidFill>
                <a:latin typeface="Georgia"/>
              </a:rPr>
              <a:t>Dr. Kathleen A. Ireland, </a:t>
            </a:r>
            <a:r>
              <a:rPr b="0" i="1" lang="en-US" sz="1600" spc="-1" strike="noStrike">
                <a:solidFill>
                  <a:srgbClr val="993333"/>
                </a:solidFill>
                <a:latin typeface="Georgia"/>
              </a:rPr>
              <a:t>Biology Instructor, Seabury Hall, Maui, Hawa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lnSpc>
                <a:spcPct val="9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media_cd/ip/systems/cardcycl.htm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0000"/>
                </a:solidFill>
                <a:latin typeface="Times New Roman"/>
              </a:rPr>
              <a:t>Chapter 20,  </a:t>
            </a:r>
            <a:r>
              <a:rPr b="1" i="1" lang="en-US" sz="4700" spc="-1" strike="noStrike">
                <a:solidFill>
                  <a:srgbClr val="660000"/>
                </a:solidFill>
                <a:latin typeface="Times New Roman"/>
              </a:rPr>
              <a:t>part 4</a:t>
            </a:r>
            <a:endParaRPr b="1" lang="en-US" sz="47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35812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Hear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DV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rank-Starling principl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SV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reload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ntractil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fterload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actors Affecting st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3  Factors Affecting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61048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3  Factors Affecting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8991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ympathetic stimulation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ositive inotropic effec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leases NE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Parasympathetic stimul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Negative inotropic effec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leases ACh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Autonomic Activity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6941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eavy exercise can increase output by 300-500 percen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rained athletes may increase cardiac output by 700 percen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reserve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difference between resting and maximal cardiac outpu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Exercise and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0840" y="57906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tion: Cardiac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380880" y="57913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00"/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Summary: Regulation of Heart Rate and Stroke Volum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39680"/>
            <a:ext cx="861048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ympathetic stimulation in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arasympathetic stimulation de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irculating hormones, specifically E, NE, and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accelerate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creased venous return increases heart ra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DV is determined by available filling time and rate of venous retur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ESV is determined by preload, degree of contractility, and afterloa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4  A Summary of the Factors Affecting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99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65760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07720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SECTION 20-5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imes New Roman"/>
              </a:rPr>
              <a:t>The Heart and the Cardiovascular System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2219040"/>
            <a:ext cx="861048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goal of the cardiovascular system is to maintain adequate blood flow to all body tissu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heart works in conjunction with cardiovascular centers and peripheral blood vessels to achieve this goa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The heart is part of the cardiovascular system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086840"/>
            <a:ext cx="8610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organization of the cardiovascular system.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location and general features of the heart, including the pericardium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differences between nodal cells and conducting cells as well as the components and functions of the conducting system of the heart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electrical events associated with a normal electrocardiogram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You should now be familiar with: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utonomic innerv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reflex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on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A nod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ormon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53760" indent="-2512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pinephrine (E), norepinephrine(NE), and thyroid hormone (T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enous retur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actors Affecting Heart Rate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597680"/>
            <a:ext cx="8610480" cy="40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events of the cardiac cycle including atrial and ventricular systole and diastole, and the heart sounds related to specific events in the cycle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ac output, heart rate and stroke volume and the factors that influence these variables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How adjustments in stroke volume and cardiac output are coordinated at different levels of activity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You should now be familiar with: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0  Factors Affecting Cardiac Outpu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91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Medulla Oblongata centers affect autonomic innerva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oacceleratory center activates sympathetic neur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dioinhibitory center controls parasympathetic neur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ceives input from higher centers, monitoring blood pressure and dissolved gas concentra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1 Autonomic Innervation of the Hear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811080"/>
            <a:ext cx="86868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1 Autonomic Innervation of the Heart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64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654200"/>
            <a:ext cx="8610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A node establishes baselin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Modified by A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1451"/>
              </a:spcBef>
              <a:buClr>
                <a:srgbClr val="66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trial reflex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Basic heart rate established by pacemaker cells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2  Pacemaker Func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6477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755640"/>
            <a:ext cx="87631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Figure 20.22  Pacemaker Function</a:t>
            </a:r>
            <a:endParaRPr b="1" lang="en-US" sz="3200" spc="-1" strike="noStrike">
              <a:solidFill>
                <a:srgbClr val="66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6477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964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2:35:13Z</dcterms:created>
  <dc:creator>karlm</dc:creator>
  <dc:description/>
  <dc:language>en-US</dc:language>
  <cp:lastModifiedBy>karlm</cp:lastModifiedBy>
  <dcterms:modified xsi:type="dcterms:W3CDTF">2003-03-15T21:45:31Z</dcterms:modified>
  <cp:revision>110</cp:revision>
  <dc:subject/>
  <dc:title>PowerPoint Presentation</dc:title>
</cp:coreProperties>
</file>