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wmf" ContentType="image/x-wmf"/>
  <Override PartName="/ppt/media/image21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20.wmf" ContentType="image/x-wmf"/>
  <Override PartName="/ppt/media/image16.wmf" ContentType="image/x-wmf"/>
  <Override PartName="/ppt/media/image9.jpeg" ContentType="image/jpeg"/>
  <Override PartName="/ppt/media/image23.wmf" ContentType="image/x-wmf"/>
  <Override PartName="/ppt/media/image11.jpeg" ContentType="image/jpeg"/>
  <Override PartName="/ppt/media/image30.wmf" ContentType="image/x-wmf"/>
  <Override PartName="/ppt/media/image38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2.wmf" ContentType="image/x-wmf"/>
  <Override PartName="/ppt/media/image33.wmf" ContentType="image/x-wmf"/>
  <Override PartName="/ppt/media/image12.jpeg" ContentType="image/jpeg"/>
  <Override PartName="/ppt/media/image34.wmf" ContentType="image/x-wmf"/>
  <Override PartName="/ppt/media/image35.wmf" ContentType="image/x-wmf"/>
  <Override PartName="/ppt/media/image3.jpeg" ContentType="image/jpeg"/>
  <Override PartName="/ppt/media/image36.png" ContentType="image/png"/>
  <Override PartName="/ppt/media/image37.png" ContentType="image/png"/>
  <Override PartName="/ppt/media/image6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9AF0-EAEC-4740-BA3E-392A1CFCE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E7F7-CD9B-47C9-B20C-9694BE78983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board cal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7D4F-2152-4334-ACE3-AA70E1A77C9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8BEF-1D58-46C9-BBEF-040439A282D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board cal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D07A-C7B3-4D60-8FA5-080C98FB7AD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D52B-6B3E-4855-AC6E-4E30B2B588C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F1C6-D972-436A-9716-D0D3F01981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board cal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E172-36F1-4AA3-A499-76C5493FDF6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C280-7866-478A-A313-4B9DB202F71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B447-A5B7-4CD8-A4C8-2ECF3D59E88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 find the magnitudes of the individual forces on the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arge at the upper right corner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=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 =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kQQ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 =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kQ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/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= (9.0 ´ 109 N · m2/C2)(6.00 ´ 10–3 C)2/(0.100 m)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= 3.24 ´ 107 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=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kQQ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(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√2)2 =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kQ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/2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= (9.0 ´ 109 N · m2/C2)(6.00 ´ 10–3 C)2/2(0.100 m)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= 1.62 ´ 107 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directions of the forces are determined from the sig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f the charges and are indicated on the diagram.  For the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rces on the upper-right charge, we see that the net force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ill be along the diagonal.  For the net force, we ha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 cos 45° +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 cos 45° +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= 2(3.24 ´ 107 N) cos 45° + 1.62 ´ 107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= 6.20 ´ 107 N along the diagonal, or away from the center of the squar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rom the symmetry, each of the other forces will have the same magnitude and a direction away from the center:  The net force on each charge is        6.20 ´ 107 N away from the center of the squar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ote that the sum for the three charges is zero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F4A2-6839-4B5A-BAC2-A11B6D977E1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board cal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6067-1A01-418C-A572-A8038E15DDF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B5C-976C-4F90-8CE7-2AE6A20D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A4B-2949-4452-9D9C-8569F0BE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6E6-D90A-47DE-B29D-E355D511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936-1F95-47ED-A801-7C346D03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D70E-5962-4DE7-A4E5-42885EAA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D1A4-4D65-4032-AE43-6E028A91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4DD7-2627-4604-83DE-37EB0723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D104-ABDD-4C3B-A518-18DECD1C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B1F3-6420-4787-8F9F-F610A43F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5458-F951-49DA-A1A6-E659732B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55AC-2A7F-401F-BA67-98113989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132-955C-4E4A-B453-5F93B208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A8FF-853E-4891-8786-EB8279F9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5F1C-0105-4859-B1D8-3E949D46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7C57-A5B1-4E40-8FCC-29ABF2C4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B7D8-F769-4F94-A7C4-BC82834A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A5B6-EE3B-4154-83D2-FF007522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572A9-E89E-4A4A-B752-9BA5449C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31F33-1023-42A5-8924-2EA38AE6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FC459-F1A4-4074-9972-57284B18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CAA8-5F81-41E8-ABAB-B62CE769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3C9B0-07F4-4370-9289-49DE38E1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571-8558-4A05-88CF-59CEAA13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0838E-003D-4ABD-91C6-095F098F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4B76-54F4-462D-9009-19563418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071A9-497B-4DA6-A47C-9E96708F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D942D-3FD6-45CC-B5A6-F1B0D3B3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5656C-EC78-4CF6-9735-1C83ABFC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04F58-B234-463E-A3F7-22819D7B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F067-375F-4270-9A9C-444C289C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1F1E2-03B1-4F9E-AC3F-B6DD647A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78894-129F-4E5C-9CAF-831A91D0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3834-B9A1-4A47-9F10-8015EC34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89A-9C49-41FE-B873-082045A3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0BD1B-0CBA-4136-8E0C-1A7CDFB0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8505-D0D7-4108-8BC4-02C15509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91D4F-858A-40E0-9575-A6C3D039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745F8-E1D2-4766-A070-093E1D4D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9DB9-CE00-411B-9327-FC3D1B87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15666-BF9C-425A-846C-C7231E57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8EDF8-9053-494D-B4E0-FC46727A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96FE2-6D6B-494C-821F-0A9BAEDB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6750C-A88B-43A0-8E8A-9783AC99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F1C-BB18-42D0-B4FC-62898B83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CE4-702D-4166-A0AE-DF666F9E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6E2-028E-4968-A555-B1F8BEFD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72C-B211-4613-9855-1E5C7694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1C8-8898-4A1E-A90D-E41F93D5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C267-AD15-4B30-B6C7-19876C162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2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8380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D7C8-5148-4612-BBB3-B3C3AEA98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4242-CE25-4DC7-9298-D2A85CFA1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8217-B5BD-42A9-808D-4B0B5827C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extBox 3" descr=""/>
          <p:cNvPicPr/>
          <p:nvPr/>
        </p:nvPicPr>
        <p:blipFill>
          <a:blip r:embed="rId1"/>
          <a:stretch/>
        </p:blipFill>
        <p:spPr>
          <a:xfrm>
            <a:off x="444600" y="1663560"/>
            <a:ext cx="8334360" cy="134784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6CA6-33F9-4BC4-A0D8-CAB1D1B9440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447920" y="3124080"/>
            <a:ext cx="731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  <a:ea typeface="Arial"/>
              </a:rPr>
              <a:t>23.1 Properties of Electric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  <a:ea typeface="Arial"/>
              </a:rPr>
              <a:t>23.2 Charging Objects By 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  <a:ea typeface="Arial"/>
              </a:rPr>
              <a:t>23.3 Coulomb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  <a:ea typeface="Arial"/>
              </a:rPr>
              <a:t>23.4 The Electr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  <a:ea typeface="Arial"/>
              </a:rPr>
              <a:t>23.6 Electric Fiel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  <a:ea typeface="Arial"/>
              </a:rPr>
              <a:t>23.7 Motion of Charged Particles in a Uniform Electr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692C-627E-4630-9CAA-EAD9A1651A5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57200" y="457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hat is the force between two charges of 1 C separated by 1 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5410080" y="1676520"/>
            <a:ext cx="30481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Answer: 8.9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Rocks 1"/>
                <a:ea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 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lomb’s Law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the magnitude of the electric force of attraction between an iron nucleus (q=+26e) and its innermost electron if the distance between them is 1.5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-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agnitude of the Coulomb force 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 = kQ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r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 (9.0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N · 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(26)(1.60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–1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)(1.60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–1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)/(1.5x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–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       2.7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–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4E77-D291-49C9-8D63-AB50FC86626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C35A-11A6-4E25-A57B-7D2D078A32E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- The Helium Nucle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 1: The nucleus of a helium atom has two protons and two neutrons.  What is the magnitude of the electric force between the two protons in the helium nucle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5134320" y="2133720"/>
            <a:ext cx="30124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s 1"/>
                <a:ea typeface="Arial"/>
              </a:rPr>
              <a:t>Answer: 58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28600" y="2819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2: What if the distance is doubled; how will the force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5157000" y="3429000"/>
            <a:ext cx="314964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s 1"/>
                <a:ea typeface="Arial"/>
              </a:rPr>
              <a:t>Answer: 14.5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990720" y="4648320"/>
            <a:ext cx="7238880" cy="8254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verse square law: If the distance is doubled then the force is reduced by a factor of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ate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FDA9-ED81-4257-A22C-2FEC1C93AE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-360" y="790560"/>
            <a:ext cx="8839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two charges located on the x ax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arges are describ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0.1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= 0.0 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0.3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= 0.40 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do we need to put a th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ge for that charge to be at an equilibrium poi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the equilibrium point, the forces from the two charges will canc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Group 7"/>
          <p:cNvGrpSpPr/>
          <p:nvPr/>
        </p:nvGrpSpPr>
        <p:grpSpPr>
          <a:xfrm>
            <a:off x="5300640" y="1219320"/>
            <a:ext cx="3691080" cy="1549080"/>
            <a:chOff x="5300640" y="1219320"/>
            <a:chExt cx="3691080" cy="1549080"/>
          </a:xfrm>
        </p:grpSpPr>
        <p:pic>
          <p:nvPicPr>
            <p:cNvPr id="268" name="Picture 4" descr="Equil Example"/>
            <p:cNvPicPr/>
            <p:nvPr/>
          </p:nvPicPr>
          <p:blipFill>
            <a:blip r:embed="rId1"/>
            <a:stretch/>
          </p:blipFill>
          <p:spPr>
            <a:xfrm>
              <a:off x="5300640" y="1219320"/>
              <a:ext cx="3691080" cy="1549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69" name="Object 2"/>
            <p:cNvGraphicFramePr/>
            <p:nvPr/>
          </p:nvGraphicFramePr>
          <p:xfrm>
            <a:off x="5336640" y="1607040"/>
            <a:ext cx="225000" cy="32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0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6640" y="1607040"/>
                      <a:ext cx="22500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1" name="Object 3"/>
            <p:cNvGraphicFramePr/>
            <p:nvPr/>
          </p:nvGraphicFramePr>
          <p:xfrm>
            <a:off x="8644320" y="1607040"/>
            <a:ext cx="262080" cy="326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2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644320" y="1607040"/>
                      <a:ext cx="26208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- Equilibrium 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ate Placeholder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Equil Example"/>
          <p:cNvPicPr/>
          <p:nvPr/>
        </p:nvPicPr>
        <p:blipFill>
          <a:blip r:embed="rId6"/>
          <a:stretch/>
        </p:blipFill>
        <p:spPr>
          <a:xfrm>
            <a:off x="4343400" y="4043520"/>
            <a:ext cx="4551480" cy="17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Object 11"/>
              <p:cNvSpPr txBox="1"/>
              <p:nvPr/>
            </p:nvSpPr>
            <p:spPr>
              <a:xfrm>
                <a:off x="380880" y="4343400"/>
                <a:ext cx="381024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8" name="Text Box 15"/>
          <p:cNvSpPr/>
          <p:nvPr/>
        </p:nvSpPr>
        <p:spPr>
          <a:xfrm>
            <a:off x="-1186560" y="3666960"/>
            <a:ext cx="741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Here the forces from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Rocks 1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 and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Rocks 1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 can bal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0"/>
          <p:cNvGrpSpPr/>
          <p:nvPr/>
        </p:nvGrpSpPr>
        <p:grpSpPr>
          <a:xfrm>
            <a:off x="6305760" y="4794120"/>
            <a:ext cx="367920" cy="634320"/>
            <a:chOff x="6305760" y="4794120"/>
            <a:chExt cx="367920" cy="634320"/>
          </a:xfrm>
        </p:grpSpPr>
        <p:sp>
          <p:nvSpPr>
            <p:cNvPr id="280" name="Oval 18"/>
            <p:cNvSpPr/>
            <p:nvPr/>
          </p:nvSpPr>
          <p:spPr>
            <a:xfrm>
              <a:off x="6350040" y="4794120"/>
              <a:ext cx="228600" cy="304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9"/>
            <p:cNvSpPr/>
            <p:nvPr/>
          </p:nvSpPr>
          <p:spPr>
            <a:xfrm>
              <a:off x="6305760" y="5022720"/>
              <a:ext cx="36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4508640" y="3359160"/>
                <a:ext cx="1267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4508640" y="3359160"/>
                <a:ext cx="1267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5"/>
              <p:cNvSpPr txBox="1"/>
              <p:nvPr/>
            </p:nvSpPr>
            <p:spPr>
              <a:xfrm>
                <a:off x="5638680" y="4489560"/>
                <a:ext cx="3049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6"/>
              <p:cNvSpPr txBox="1"/>
              <p:nvPr/>
            </p:nvSpPr>
            <p:spPr>
              <a:xfrm>
                <a:off x="6934320" y="4413240"/>
                <a:ext cx="685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ero Resultant Force,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6248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agnitudes of the individual forces will be eq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rections will be oppo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ll result in a quadra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oose the root that gives the forces in opposite dir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0880" y="70164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fixed charges, 1mC and -3mC are separated by 10cm as shown in the figure (a) where may a third charge be located so that no force acts on it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762120" y="4038480"/>
                <a:ext cx="304776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0" name="Picture 9" descr=""/>
          <p:cNvPicPr/>
          <p:nvPr/>
        </p:nvPicPr>
        <p:blipFill>
          <a:blip r:embed="rId1"/>
          <a:srcRect l="0" t="19202" r="0" b="10402"/>
          <a:stretch/>
        </p:blipFill>
        <p:spPr>
          <a:xfrm>
            <a:off x="4572000" y="2362320"/>
            <a:ext cx="4048200" cy="838080"/>
          </a:xfrm>
          <a:prstGeom prst="rect">
            <a:avLst/>
          </a:prstGeom>
          <a:ln w="0">
            <a:noFill/>
          </a:ln>
        </p:spPr>
      </p:pic>
      <p:sp>
        <p:nvSpPr>
          <p:cNvPr id="291" name="Date Placeholder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551A-6599-4421-8A62-F34870759F2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5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6"/>
          <p:cNvSpPr/>
          <p:nvPr/>
        </p:nvSpPr>
        <p:spPr>
          <a:xfrm>
            <a:off x="8229600" y="6477120"/>
            <a:ext cx="838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3A68-61D6-46C7-9912-58F9270211D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- Charged Pendulu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two identical charged balls hanging from the ceiling by strings of equal length 1.5 m (in equilibrium).  Each ball has a charge of 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.  The balls hang at an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2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respect to the vertical.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hat is the mass of the bal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ree forces act on each ball: Coulomb force, gravity and the tension of the st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4" descr="charged_balls"/>
          <p:cNvPicPr/>
          <p:nvPr/>
        </p:nvPicPr>
        <p:blipFill>
          <a:blip r:embed="rId1"/>
          <a:stretch/>
        </p:blipFill>
        <p:spPr>
          <a:xfrm>
            <a:off x="6477120" y="304920"/>
            <a:ext cx="2477880" cy="273996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20"/>
          <p:cNvGrpSpPr/>
          <p:nvPr/>
        </p:nvGrpSpPr>
        <p:grpSpPr>
          <a:xfrm>
            <a:off x="1752480" y="2133720"/>
            <a:ext cx="5262840" cy="4038120"/>
            <a:chOff x="1752480" y="2133720"/>
            <a:chExt cx="5262840" cy="4038120"/>
          </a:xfrm>
        </p:grpSpPr>
        <mc:AlternateContent>
          <mc:Choice xmlns:a14="http://schemas.microsoft.com/office/drawing/2010/main" Requires="a14">
            <p:sp>
              <p:nvSpPr>
                <p:cNvPr id="300" name="Object 2"/>
                <p:cNvSpPr txBox="1"/>
                <p:nvPr/>
              </p:nvSpPr>
              <p:spPr>
                <a:xfrm>
                  <a:off x="1752480" y="4419360"/>
                  <a:ext cx="2757600" cy="17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Ball on left: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q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mg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01" name="Group 15"/>
            <p:cNvGrpSpPr/>
            <p:nvPr/>
          </p:nvGrpSpPr>
          <p:grpSpPr>
            <a:xfrm>
              <a:off x="6051600" y="2133720"/>
              <a:ext cx="963720" cy="1777680"/>
              <a:chOff x="6051600" y="2133720"/>
              <a:chExt cx="963720" cy="1777680"/>
            </a:xfrm>
          </p:grpSpPr>
          <p:sp>
            <p:nvSpPr>
              <p:cNvPr id="302" name="Line 16"/>
              <p:cNvSpPr/>
              <p:nvPr/>
            </p:nvSpPr>
            <p:spPr>
              <a:xfrm>
                <a:off x="6051600" y="2332080"/>
                <a:ext cx="0" cy="11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17"/>
              <p:cNvSpPr/>
              <p:nvPr/>
            </p:nvSpPr>
            <p:spPr>
              <a:xfrm>
                <a:off x="6051600" y="3434760"/>
                <a:ext cx="95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18"/>
              <p:cNvSpPr/>
              <p:nvPr/>
            </p:nvSpPr>
            <p:spPr>
              <a:xfrm>
                <a:off x="6735600" y="354312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19"/>
              <p:cNvSpPr/>
              <p:nvPr/>
            </p:nvSpPr>
            <p:spPr>
              <a:xfrm>
                <a:off x="6090120" y="2133720"/>
                <a:ext cx="28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Date Placeholder 14"/>
          <p:cNvSpPr/>
          <p:nvPr/>
        </p:nvSpPr>
        <p:spPr>
          <a:xfrm>
            <a:off x="1522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0E29-F25C-4435-BE03-E5ED5B14261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- Charged Pendulum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4" descr="charged_balls"/>
          <p:cNvPicPr/>
          <p:nvPr/>
        </p:nvPicPr>
        <p:blipFill>
          <a:blip r:embed="rId1"/>
          <a:stretch/>
        </p:blipFill>
        <p:spPr>
          <a:xfrm>
            <a:off x="6521400" y="1031760"/>
            <a:ext cx="2478240" cy="27403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6"/>
          <p:cNvSpPr/>
          <p:nvPr/>
        </p:nvSpPr>
        <p:spPr>
          <a:xfrm>
            <a:off x="117360" y="727200"/>
            <a:ext cx="545004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omic Sans MS"/>
                <a:ea typeface="Arial"/>
              </a:rPr>
              <a:t>Step 2: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The balls are in equilibrium positions. That means the sum of all forces acting on the ball is zero!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838080" y="3505320"/>
                <a:ext cx="18622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3" name="Text Box 34"/>
          <p:cNvSpPr/>
          <p:nvPr/>
        </p:nvSpPr>
        <p:spPr>
          <a:xfrm>
            <a:off x="856080" y="5105520"/>
            <a:ext cx="3102120" cy="52056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: m = 0.76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5"/>
          <p:cNvSpPr/>
          <p:nvPr/>
        </p:nvSpPr>
        <p:spPr>
          <a:xfrm>
            <a:off x="1927080" y="5715000"/>
            <a:ext cx="466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similar analysis applies to the ball on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6"/>
          <p:cNvSpPr/>
          <p:nvPr/>
        </p:nvSpPr>
        <p:spPr>
          <a:xfrm>
            <a:off x="6756480" y="3657600"/>
            <a:ext cx="2297160" cy="58140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Rocks 1"/>
              </a:rPr>
              <a:t>d=2 l sin </a:t>
            </a:r>
            <a:r>
              <a:rPr b="1" i="1" lang="el-GR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θ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Date Placeholder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2"/>
              <p:cNvSpPr txBox="1"/>
              <p:nvPr/>
            </p:nvSpPr>
            <p:spPr>
              <a:xfrm>
                <a:off x="838080" y="1905120"/>
                <a:ext cx="20448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EB1B-0311-4DD6-BCCC-9FD1FA245D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ectric Force and Gravitational Fo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omb’s Law that describes the electric force and Newton’s gravitational law have a similar functional 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forces vary as the inverse squ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distance between the 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vitation is always attrac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and G give the strength of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2" name="Object 2"/>
          <p:cNvGraphicFramePr/>
          <p:nvPr/>
        </p:nvGraphicFramePr>
        <p:xfrm>
          <a:off x="266760" y="2352600"/>
          <a:ext cx="25146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2352600"/>
                    <a:ext cx="2514600" cy="762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24" name="Object 3"/>
          <p:cNvGraphicFramePr/>
          <p:nvPr/>
        </p:nvGraphicFramePr>
        <p:xfrm>
          <a:off x="3086280" y="2352600"/>
          <a:ext cx="297180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2352600"/>
                    <a:ext cx="2971800" cy="8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26" name="Object 8"/>
          <p:cNvGraphicFramePr/>
          <p:nvPr/>
        </p:nvGraphicFramePr>
        <p:xfrm>
          <a:off x="6705720" y="2362320"/>
          <a:ext cx="2209680" cy="12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2362320"/>
                    <a:ext cx="220968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9"/>
          <p:cNvGraphicFramePr/>
          <p:nvPr/>
        </p:nvGraphicFramePr>
        <p:xfrm>
          <a:off x="5719680" y="4375080"/>
          <a:ext cx="3200400" cy="198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9680" y="4375080"/>
                    <a:ext cx="32004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FA35-6422-4BA2-8164-10D44CB4024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04776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533520" y="47628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electron is released above the surface of the Earth. A second electron directly below it exert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static 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 the first electron just great enough to cancel out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vitational 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 it. How far below the first electron is the secon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008360" y="590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008360" y="476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1158840" y="5068800"/>
            <a:ext cx="0" cy="609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221120" y="5105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"/>
          <p:cNvSpPr/>
          <p:nvPr/>
        </p:nvSpPr>
        <p:spPr>
          <a:xfrm flipV="1">
            <a:off x="1158840" y="4306680"/>
            <a:ext cx="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226880" y="4343400"/>
            <a:ext cx="386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2"/>
          <p:cNvSpPr/>
          <p:nvPr/>
        </p:nvSpPr>
        <p:spPr>
          <a:xfrm>
            <a:off x="1768320" y="49928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2210760" y="525780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3805200" y="2514600"/>
                <a:ext cx="458964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t xml:space="preserve">k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x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9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x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4" name="Text Box 18"/>
          <p:cNvSpPr/>
          <p:nvPr/>
        </p:nvSpPr>
        <p:spPr>
          <a:xfrm>
            <a:off x="8237520" y="44956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.1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Date Placeholder 1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2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911160" y="2394000"/>
                <a:ext cx="50007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0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9</m:t>
                                        </m:r>
                                      </m:sup>
                                    </m:sSup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5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p>
                                    </m:sSup>
                                    <m:r>
                                      <m:t xml:space="preserve">m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8" name="Text Box 23"/>
          <p:cNvSpPr/>
          <p:nvPr/>
        </p:nvSpPr>
        <p:spPr>
          <a:xfrm>
            <a:off x="337320" y="1916280"/>
            <a:ext cx="55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the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electro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gravit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544680" y="4095720"/>
                <a:ext cx="70545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kg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p>
                                </m:sSup>
                                <m:r>
                                  <m:t xml:space="preserve">kg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7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7</m:t>
                                    </m:r>
                                  </m:sup>
                                </m:sSup>
                                <m:r>
                                  <m:t xml:space="preserve">kg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5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p>
                                    </m:sSup>
                                    <m:r>
                                      <m:t xml:space="preserve">m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0" name="Text Box 27"/>
          <p:cNvSpPr/>
          <p:nvPr/>
        </p:nvSpPr>
        <p:spPr>
          <a:xfrm>
            <a:off x="490320" y="5789520"/>
            <a:ext cx="841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F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F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Arial"/>
                <a:ea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force of gravity is much weaker than the electrostatic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0" y="228600"/>
            <a:ext cx="3905280" cy="38088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1"/>
          <p:cNvSpPr/>
          <p:nvPr/>
        </p:nvSpPr>
        <p:spPr>
          <a:xfrm>
            <a:off x="228600" y="533520"/>
            <a:ext cx="8534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electron and proton of a hydrogen atom are separated (on the average) by a distance of approximately 5.3 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 Find the magnitudes of the electric force and the gravitational force between the two part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Date Placeholder 2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EA25-A1F4-4270-9816-44531FE7CE1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ic Char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5" descr="FG21_002"/>
          <p:cNvPicPr/>
          <p:nvPr/>
        </p:nvPicPr>
        <p:blipFill>
          <a:blip r:embed="rId1"/>
          <a:srcRect l="29938" t="0" r="26632" b="0"/>
          <a:stretch/>
        </p:blipFill>
        <p:spPr>
          <a:xfrm>
            <a:off x="5867280" y="1389240"/>
            <a:ext cx="2667240" cy="46051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49360" y="1337760"/>
            <a:ext cx="5084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sit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ass rubbed with sil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ssing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gat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bber/Plastic rubbed with f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ra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bitrary cho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ntion attributed to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amount of charge is measured 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Coulombs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irical Observ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 charges rep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like charges attract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EE40-ADA7-4074-ACF2-D55D2F9C07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2B93-2ED8-411C-B7F5-E1A5D2204F6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176720" cy="264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>
            <a:off x="5724360" y="2133720"/>
            <a:ext cx="3056040" cy="19177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5616720" cy="11588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"/>
          <p:cNvPicPr/>
          <p:nvPr/>
        </p:nvPicPr>
        <p:blipFill>
          <a:blip r:embed="rId4"/>
          <a:stretch/>
        </p:blipFill>
        <p:spPr>
          <a:xfrm>
            <a:off x="971640" y="2421000"/>
            <a:ext cx="3960720" cy="538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5"/>
          <a:stretch/>
        </p:blipFill>
        <p:spPr>
          <a:xfrm>
            <a:off x="1835280" y="3213000"/>
            <a:ext cx="2376360" cy="560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6"/>
          <a:stretch/>
        </p:blipFill>
        <p:spPr>
          <a:xfrm>
            <a:off x="755640" y="4365720"/>
            <a:ext cx="4753080" cy="1419120"/>
          </a:xfrm>
          <a:prstGeom prst="rect">
            <a:avLst/>
          </a:prstGeom>
          <a:ln w="0">
            <a:noFill/>
          </a:ln>
        </p:spPr>
      </p:pic>
      <p:sp>
        <p:nvSpPr>
          <p:cNvPr id="364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ectric Forces and Vec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 Fields and Forces are ALL vectors, thus all rules applying to vectors must be follow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04920" y="190512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 three point charges,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6.00 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 (located at the origin),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5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, and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-2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, located at the corners of a RIGHT triangle.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located at y= 3 m while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located 4m to the right of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Find the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resulta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ce on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"/>
          <p:cNvSpPr/>
          <p:nvPr/>
        </p:nvSpPr>
        <p:spPr>
          <a:xfrm>
            <a:off x="2895480" y="3581280"/>
            <a:ext cx="0" cy="2362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1295280" y="4648320"/>
            <a:ext cx="327672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2669040" y="4495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2669040" y="3581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4116960" y="3581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274320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"/>
          <p:cNvSpPr/>
          <p:nvPr/>
        </p:nvSpPr>
        <p:spPr>
          <a:xfrm>
            <a:off x="304812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3"/>
          <p:cNvSpPr/>
          <p:nvPr/>
        </p:nvSpPr>
        <p:spPr>
          <a:xfrm flipV="1">
            <a:off x="2971800" y="388584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2287800" y="3962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3278520" y="342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3583080" y="4114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7"/>
          <p:cNvSpPr/>
          <p:nvPr/>
        </p:nvSpPr>
        <p:spPr>
          <a:xfrm>
            <a:off x="6250680" y="4876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8"/>
          <p:cNvSpPr/>
          <p:nvPr/>
        </p:nvSpPr>
        <p:spPr>
          <a:xfrm>
            <a:off x="5528160" y="3313080"/>
            <a:ext cx="30535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ch way does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ush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ch way does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ush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 flipH="1">
            <a:off x="4952880" y="510552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0"/>
          <p:cNvSpPr/>
          <p:nvPr/>
        </p:nvSpPr>
        <p:spPr>
          <a:xfrm>
            <a:off x="5307480" y="4608360"/>
            <a:ext cx="1005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n 3 du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1"/>
          <p:cNvSpPr/>
          <p:nvPr/>
        </p:nvSpPr>
        <p:spPr>
          <a:xfrm flipV="1">
            <a:off x="6629400" y="4191120"/>
            <a:ext cx="1219320" cy="838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6542640" y="4038480"/>
            <a:ext cx="1005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n 3 du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6705720" y="5105520"/>
            <a:ext cx="914400" cy="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4"/>
          <p:cNvSpPr/>
          <p:nvPr/>
        </p:nvSpPr>
        <p:spPr>
          <a:xfrm>
            <a:off x="3125880" y="4343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5"/>
          <p:cNvSpPr/>
          <p:nvPr/>
        </p:nvSpPr>
        <p:spPr>
          <a:xfrm>
            <a:off x="6859440" y="4724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6"/>
          <p:cNvSpPr/>
          <p:nvPr/>
        </p:nvSpPr>
        <p:spPr>
          <a:xfrm>
            <a:off x="3271320" y="55198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ta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/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Date Placeholder 2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2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E4AB-EF2A-422A-AA60-EB9E9A5AB19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2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380880" y="3352680"/>
                <a:ext cx="37339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)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,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4"/>
              <p:cNvSpPr txBox="1"/>
              <p:nvPr/>
            </p:nvSpPr>
            <p:spPr>
              <a:xfrm>
                <a:off x="349200" y="4572000"/>
                <a:ext cx="34606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)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5"/>
              <p:cNvSpPr txBox="1"/>
              <p:nvPr/>
            </p:nvSpPr>
            <p:spPr>
              <a:xfrm>
                <a:off x="5029200" y="3124080"/>
                <a:ext cx="289548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,2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3,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ultant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rection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5" name="Line 4"/>
          <p:cNvSpPr/>
          <p:nvPr/>
        </p:nvSpPr>
        <p:spPr>
          <a:xfrm>
            <a:off x="2590920" y="1066680"/>
            <a:ext cx="0" cy="2362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990720" y="2133720"/>
            <a:ext cx="327636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2295000" y="19810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2295000" y="9907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3818880" y="10666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2438280" y="1371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274320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1"/>
          <p:cNvSpPr/>
          <p:nvPr/>
        </p:nvSpPr>
        <p:spPr>
          <a:xfrm flipV="1">
            <a:off x="2666880" y="137124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1982880" y="1447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2973600" y="914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3278520" y="1600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5952600" y="23623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6"/>
          <p:cNvSpPr/>
          <p:nvPr/>
        </p:nvSpPr>
        <p:spPr>
          <a:xfrm flipH="1">
            <a:off x="4648320" y="259092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5002920" y="2093760"/>
            <a:ext cx="1005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n 3 du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8"/>
          <p:cNvSpPr/>
          <p:nvPr/>
        </p:nvSpPr>
        <p:spPr>
          <a:xfrm flipV="1">
            <a:off x="6324480" y="1676520"/>
            <a:ext cx="1219320" cy="838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6237720" y="1523880"/>
            <a:ext cx="1005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n 3 du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0"/>
          <p:cNvSpPr/>
          <p:nvPr/>
        </p:nvSpPr>
        <p:spPr>
          <a:xfrm>
            <a:off x="6400800" y="2590920"/>
            <a:ext cx="914400" cy="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2821320" y="18288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2"/>
          <p:cNvSpPr/>
          <p:nvPr/>
        </p:nvSpPr>
        <p:spPr>
          <a:xfrm>
            <a:off x="6554520" y="2209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3"/>
          <p:cNvSpPr/>
          <p:nvPr/>
        </p:nvSpPr>
        <p:spPr>
          <a:xfrm>
            <a:off x="2982240" y="23623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ta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/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8"/>
          <p:cNvSpPr/>
          <p:nvPr/>
        </p:nvSpPr>
        <p:spPr>
          <a:xfrm>
            <a:off x="1077840" y="403848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.6 x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1"/>
          <p:cNvSpPr/>
          <p:nvPr/>
        </p:nvSpPr>
        <p:spPr>
          <a:xfrm>
            <a:off x="1078200" y="525780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1.1x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2"/>
          <p:cNvSpPr/>
          <p:nvPr/>
        </p:nvSpPr>
        <p:spPr>
          <a:xfrm>
            <a:off x="6324480" y="2666880"/>
            <a:ext cx="1143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3"/>
          <p:cNvSpPr/>
          <p:nvPr/>
        </p:nvSpPr>
        <p:spPr>
          <a:xfrm>
            <a:off x="6477480" y="2627280"/>
            <a:ext cx="1026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,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s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4"/>
          <p:cNvSpPr/>
          <p:nvPr/>
        </p:nvSpPr>
        <p:spPr>
          <a:xfrm flipV="1">
            <a:off x="7467480" y="1752480"/>
            <a:ext cx="0" cy="914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7559640" y="1981080"/>
            <a:ext cx="969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,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n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9"/>
          <p:cNvSpPr/>
          <p:nvPr/>
        </p:nvSpPr>
        <p:spPr>
          <a:xfrm>
            <a:off x="5572800" y="464832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7.34x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0"/>
          <p:cNvSpPr/>
          <p:nvPr/>
        </p:nvSpPr>
        <p:spPr>
          <a:xfrm>
            <a:off x="6363000" y="57150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Narrow"/>
                <a:ea typeface="Arial"/>
              </a:rPr>
              <a:t>64.3 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 Narrow"/>
                <a:ea typeface="Arial"/>
              </a:rPr>
              <a:t>0</a:t>
            </a:r>
            <a:r>
              <a:rPr b="0" lang="en-US" sz="1800" spc="-1" strike="noStrike">
                <a:solidFill>
                  <a:srgbClr val="ff0000"/>
                </a:solidFill>
                <a:latin typeface="Arial Narrow"/>
                <a:ea typeface="Arial"/>
              </a:rPr>
              <a:t> above the +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ate Placeholder 3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B892-C210-427E-AD78-F313C803B00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ulomb’s Law Exampl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86200" y="914400"/>
            <a:ext cx="5105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 = 6.0 m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 = 0.10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is the magnitude and direction of the net force on one of the charg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124080" cy="3048120"/>
          </a:xfrm>
          <a:prstGeom prst="rect">
            <a:avLst/>
          </a:prstGeom>
          <a:ln w="0">
            <a:noFill/>
          </a:ln>
        </p:spPr>
      </p:pic>
      <p:sp>
        <p:nvSpPr>
          <p:cNvPr id="4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53FB-0A84-4395-AAA5-A6CE729E768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152280" y="4016520"/>
            <a:ext cx="883944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find the magnitudes of the individual forces on the charge at the upper right corn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Q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(9 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 ·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(6 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(0.100 m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3.24 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Q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√2)2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/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(9 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 ·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(6 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2(0.100 m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1.62 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BA32-2F52-4C08-945E-1E2B4A8EDBC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0" y="3962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long the diagonal, or away from the center of th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From the symmetry, each of the other forces will have the same magnitude and a direction away from the center:  The net force on each charge is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6.20 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Arial"/>
              </a:rPr>
              <a:t>ء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10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  <a:ea typeface="Arial"/>
              </a:rPr>
              <a:t>7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N away from the center of th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5"/>
              <p:cNvSpPr txBox="1"/>
              <p:nvPr/>
            </p:nvSpPr>
            <p:spPr>
              <a:xfrm>
                <a:off x="304920" y="533520"/>
                <a:ext cx="5867280" cy="37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   so 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  <m:sub/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    so 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cos 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sin 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4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85</m:t>
                                        </m:r>
                                        <m:r>
                                          <m:t xml:space="preserve">×</m:t>
                                        </m:r>
                                        <m:s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</m:t>
                                            </m:r>
                                          </m:e>
                                          <m:sup>
                                            <m:r>
                                              <m:t xml:space="preserve">7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85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7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7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DC5E-7310-47DE-9D75-EAE0192957D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- Four Char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0" y="801360"/>
            <a:ext cx="54100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four charges placed at the corners of a square with sides of length 1.25 m as shown on the right.  What is the magnitude of the electric force on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sulting from the electric force from the remaining three charg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4" descr="Example_4_Charges"/>
          <p:cNvPicPr/>
          <p:nvPr/>
        </p:nvPicPr>
        <p:blipFill>
          <a:blip r:embed="rId1"/>
          <a:stretch/>
        </p:blipFill>
        <p:spPr>
          <a:xfrm>
            <a:off x="5327640" y="152280"/>
            <a:ext cx="3587760" cy="304812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18"/>
          <p:cNvGrpSpPr/>
          <p:nvPr/>
        </p:nvGrpSpPr>
        <p:grpSpPr>
          <a:xfrm>
            <a:off x="5943600" y="3657600"/>
            <a:ext cx="2666880" cy="2666880"/>
            <a:chOff x="5943600" y="3657600"/>
            <a:chExt cx="2666880" cy="2666880"/>
          </a:xfrm>
        </p:grpSpPr>
        <p:pic>
          <p:nvPicPr>
            <p:cNvPr id="444" name="Picture 4" descr="Example_4_Charges"/>
            <p:cNvPicPr/>
            <p:nvPr/>
          </p:nvPicPr>
          <p:blipFill>
            <a:blip r:embed="rId2"/>
            <a:stretch/>
          </p:blipFill>
          <p:spPr>
            <a:xfrm>
              <a:off x="5943600" y="3683880"/>
              <a:ext cx="2489040" cy="264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5" name="Group 15"/>
            <p:cNvGrpSpPr/>
            <p:nvPr/>
          </p:nvGrpSpPr>
          <p:grpSpPr>
            <a:xfrm>
              <a:off x="8041320" y="3657600"/>
              <a:ext cx="569160" cy="1227240"/>
              <a:chOff x="8041320" y="3657600"/>
              <a:chExt cx="569160" cy="1227240"/>
            </a:xfrm>
          </p:grpSpPr>
          <p:sp>
            <p:nvSpPr>
              <p:cNvPr id="446" name="Line 12"/>
              <p:cNvSpPr/>
              <p:nvPr/>
            </p:nvSpPr>
            <p:spPr>
              <a:xfrm>
                <a:off x="8041320" y="4062600"/>
                <a:ext cx="569160" cy="0"/>
              </a:xfrm>
              <a:prstGeom prst="line">
                <a:avLst/>
              </a:prstGeom>
              <a:ln w="381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13"/>
              <p:cNvSpPr/>
              <p:nvPr/>
            </p:nvSpPr>
            <p:spPr>
              <a:xfrm>
                <a:off x="8041320" y="4082400"/>
                <a:ext cx="0" cy="802440"/>
              </a:xfrm>
              <a:prstGeom prst="line">
                <a:avLst/>
              </a:prstGeom>
              <a:ln w="381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14"/>
              <p:cNvSpPr/>
              <p:nvPr/>
            </p:nvSpPr>
            <p:spPr>
              <a:xfrm flipV="1">
                <a:off x="8041320" y="3657600"/>
                <a:ext cx="394200" cy="424800"/>
              </a:xfrm>
              <a:prstGeom prst="line">
                <a:avLst/>
              </a:prstGeom>
              <a:ln w="381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11"/>
          <p:cNvSpPr/>
          <p:nvPr/>
        </p:nvSpPr>
        <p:spPr>
          <a:xfrm>
            <a:off x="651600" y="3787920"/>
            <a:ext cx="3557880" cy="23551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F (</a:t>
            </a:r>
            <a:r>
              <a:rPr b="0" lang="en-US" sz="3200" spc="-1" strike="noStrike">
                <a:solidFill>
                  <a:srgbClr val="000000"/>
                </a:solidFill>
                <a:latin typeface="Rocks 1"/>
                <a:ea typeface="Arial"/>
              </a:rPr>
              <a:t>on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Rocks 1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) = 0.0916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and the dir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ate Placeholder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609480" y="6094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-7; Three point charges are located at the corners of an equilateral triangle. Calculate the net electric force on the 7.00 uC cha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278080" cy="175248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457200" y="152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HOMEWORK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"/>
          <p:cNvSpPr/>
          <p:nvPr/>
        </p:nvSpPr>
        <p:spPr>
          <a:xfrm>
            <a:off x="609480" y="3505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-8: Two small beads having positive charges 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 and q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xed at the opposite ends of a horizontal insulating rod extending from the origin to the poi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 third small charged bead is free to slide on the rod. At what position is the third bead in equilibrium? Can it be in stable equilibr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2"/>
          <a:stretch/>
        </p:blipFill>
        <p:spPr>
          <a:xfrm>
            <a:off x="5203800" y="4876920"/>
            <a:ext cx="3140280" cy="1143000"/>
          </a:xfrm>
          <a:prstGeom prst="rect">
            <a:avLst/>
          </a:prstGeom>
          <a:ln w="0">
            <a:noFill/>
          </a:ln>
        </p:spPr>
      </p:pic>
      <p:sp>
        <p:nvSpPr>
          <p:cNvPr id="456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DC29-AA41-4B24-8F70-1FD9F91C43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"/>
          <p:cNvSpPr/>
          <p:nvPr/>
        </p:nvSpPr>
        <p:spPr>
          <a:xfrm>
            <a:off x="533520" y="5335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-12; An object having a net charge of 24.0 C is placed in a uniform electric field of 610 N/C that is directed vertically. What is the mass of this object if it “floats” in the fie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609480" y="19335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-18; Two 2.00uC point charges are located o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xis. One is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.00 m, and the other is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.00 m. (a) Determine the electric field o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xis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0 m. (b) Calculate the electric force on a - 3.00uC charge placed o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xis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0.500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533520" y="35496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-41; An electron and a proton are each placed at rest in an electric field of 520 N/C. Calculate the speed of each particle 48.0 ns after being rele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609480" y="48751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-44; The electrons in a particle beam each have a kinetic energy of 1.60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J. What are the magnitude and direction of the electric field that stops these electrons in a distance of 10.0 c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CF47-5A34-4D82-BDB4-3549562DD6F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6324480" y="1600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ge in the At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3429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ons (+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s (-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a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52" descr="Li"/>
          <p:cNvPicPr/>
          <p:nvPr/>
        </p:nvPicPr>
        <p:blipFill>
          <a:blip r:embed="rId1"/>
          <a:stretch/>
        </p:blipFill>
        <p:spPr>
          <a:xfrm>
            <a:off x="6678720" y="2206800"/>
            <a:ext cx="2133360" cy="2133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7" descr="FG21_003"/>
          <p:cNvPicPr/>
          <p:nvPr/>
        </p:nvPicPr>
        <p:blipFill>
          <a:blip r:embed="rId2"/>
          <a:stretch/>
        </p:blipFill>
        <p:spPr>
          <a:xfrm>
            <a:off x="181080" y="24192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8" descr="FG21_004"/>
          <p:cNvPicPr/>
          <p:nvPr/>
        </p:nvPicPr>
        <p:blipFill>
          <a:blip r:embed="rId3"/>
          <a:stretch/>
        </p:blipFill>
        <p:spPr>
          <a:xfrm>
            <a:off x="3152880" y="4468680"/>
            <a:ext cx="2854080" cy="2141640"/>
          </a:xfrm>
          <a:prstGeom prst="rect">
            <a:avLst/>
          </a:prstGeom>
          <a:ln w="0">
            <a:noFill/>
          </a:ln>
        </p:spPr>
      </p:pic>
      <p:sp>
        <p:nvSpPr>
          <p:cNvPr id="18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9BA7-02AD-4327-8168-335B029D200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erpetua"/>
              </a:rPr>
              <a:t>23.1 Properties of Electric Cha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icity is the implication that electric charge is always conser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s, when one object is rubbed against another, charge is not created in the process. The electrified state is due to a transfer of charge from one object to the o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bject gains some amount of negative charge while the other gains an equal amount of positive char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mallest unit of charge is that on an electron or proton. (e = 1.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impossible to have less charge than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possible to have integer multiples of this ch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Object 2"/>
          <p:cNvGraphicFramePr/>
          <p:nvPr/>
        </p:nvGraphicFramePr>
        <p:xfrm>
          <a:off x="3429000" y="5943600"/>
          <a:ext cx="181620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5943600"/>
                    <a:ext cx="18162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B2AF-9414-413A-8156-E373BB6ECC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uctors and Ins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880" y="170928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s charge on cont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ulat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transfer charge on cont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miconduct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ght transfer charge on cont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FG21_005A"/>
          <p:cNvPicPr/>
          <p:nvPr/>
        </p:nvPicPr>
        <p:blipFill>
          <a:blip r:embed="rId1"/>
          <a:stretch/>
        </p:blipFill>
        <p:spPr>
          <a:xfrm>
            <a:off x="128520" y="4145040"/>
            <a:ext cx="2878200" cy="2158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FG21_005B"/>
          <p:cNvPicPr/>
          <p:nvPr/>
        </p:nvPicPr>
        <p:blipFill>
          <a:blip r:embed="rId2"/>
          <a:stretch/>
        </p:blipFill>
        <p:spPr>
          <a:xfrm>
            <a:off x="3173400" y="4159080"/>
            <a:ext cx="2806560" cy="2106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FG21_005C"/>
          <p:cNvPicPr/>
          <p:nvPr/>
        </p:nvPicPr>
        <p:blipFill>
          <a:blip r:embed="rId3"/>
          <a:stretch/>
        </p:blipFill>
        <p:spPr>
          <a:xfrm>
            <a:off x="6121440" y="4165560"/>
            <a:ext cx="2948040" cy="221148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6AE3-01FE-45F4-AF35-A037CAD8765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592920" y="76320"/>
            <a:ext cx="859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Perpetua"/>
                <a:ea typeface="Arial"/>
              </a:rPr>
              <a:t>23.2 Charging Objects By In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038"/>
          <p:cNvGrpSpPr/>
          <p:nvPr/>
        </p:nvGrpSpPr>
        <p:grpSpPr>
          <a:xfrm>
            <a:off x="4254480" y="2765520"/>
            <a:ext cx="4406760" cy="4006800"/>
            <a:chOff x="4254480" y="2765520"/>
            <a:chExt cx="4406760" cy="4006800"/>
          </a:xfrm>
        </p:grpSpPr>
        <p:pic>
          <p:nvPicPr>
            <p:cNvPr id="207" name="Picture 1033" descr="FG21_008"/>
            <p:cNvPicPr/>
            <p:nvPr/>
          </p:nvPicPr>
          <p:blipFill>
            <a:blip r:embed="rId1"/>
            <a:stretch/>
          </p:blipFill>
          <p:spPr>
            <a:xfrm>
              <a:off x="4254480" y="3467160"/>
              <a:ext cx="440676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Line 1036"/>
            <p:cNvSpPr/>
            <p:nvPr/>
          </p:nvSpPr>
          <p:spPr>
            <a:xfrm>
              <a:off x="5369040" y="2765520"/>
              <a:ext cx="32544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8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ge Transfer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207040" y="1303200"/>
            <a:ext cx="2666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a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031" descr="FG21_006"/>
          <p:cNvPicPr/>
          <p:nvPr/>
        </p:nvPicPr>
        <p:blipFill>
          <a:blip r:embed="rId2"/>
          <a:stretch/>
        </p:blipFill>
        <p:spPr>
          <a:xfrm>
            <a:off x="762120" y="1289160"/>
            <a:ext cx="3112920" cy="2334960"/>
          </a:xfrm>
          <a:prstGeom prst="rect">
            <a:avLst/>
          </a:prstGeom>
          <a:ln w="0">
            <a:noFill/>
          </a:ln>
        </p:spPr>
      </p:pic>
      <p:sp>
        <p:nvSpPr>
          <p:cNvPr id="212" name="Line 1034"/>
          <p:cNvSpPr/>
          <p:nvPr/>
        </p:nvSpPr>
        <p:spPr>
          <a:xfrm flipH="1">
            <a:off x="4080960" y="1611360"/>
            <a:ext cx="1274760" cy="47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037"/>
          <p:cNvGrpSpPr/>
          <p:nvPr/>
        </p:nvGrpSpPr>
        <p:grpSpPr>
          <a:xfrm>
            <a:off x="520560" y="2198520"/>
            <a:ext cx="4824360" cy="4596120"/>
            <a:chOff x="520560" y="2198520"/>
            <a:chExt cx="4824360" cy="4596120"/>
          </a:xfrm>
        </p:grpSpPr>
        <p:pic>
          <p:nvPicPr>
            <p:cNvPr id="214" name="Picture 1032" descr="FG21_007"/>
            <p:cNvPicPr/>
            <p:nvPr/>
          </p:nvPicPr>
          <p:blipFill>
            <a:blip r:embed="rId3"/>
            <a:stretch/>
          </p:blipFill>
          <p:spPr>
            <a:xfrm>
              <a:off x="520560" y="4122720"/>
              <a:ext cx="3562560" cy="26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Line 1035"/>
            <p:cNvSpPr/>
            <p:nvPr/>
          </p:nvSpPr>
          <p:spPr>
            <a:xfrm flipH="1">
              <a:off x="3971520" y="2198520"/>
              <a:ext cx="13734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E942-B326-4708-9691-39EBA41138B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9" descr="FG21_012"/>
          <p:cNvPicPr/>
          <p:nvPr/>
        </p:nvPicPr>
        <p:blipFill>
          <a:blip r:embed="rId1"/>
          <a:stretch/>
        </p:blipFill>
        <p:spPr>
          <a:xfrm>
            <a:off x="6095880" y="914400"/>
            <a:ext cx="2970360" cy="21337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-3 Coulomb’s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irical Ob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al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Object 2"/>
          <p:cNvGraphicFramePr/>
          <p:nvPr/>
        </p:nvGraphicFramePr>
        <p:xfrm>
          <a:off x="838080" y="1447920"/>
          <a:ext cx="160020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447920"/>
                    <a:ext cx="16002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3"/>
          <p:cNvGraphicFramePr/>
          <p:nvPr/>
        </p:nvGraphicFramePr>
        <p:xfrm>
          <a:off x="3809880" y="1371600"/>
          <a:ext cx="12193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371600"/>
                    <a:ext cx="12193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6"/>
          <p:cNvSpPr/>
          <p:nvPr/>
        </p:nvSpPr>
        <p:spPr>
          <a:xfrm>
            <a:off x="1610640" y="266688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rection of the force is along the line joining the two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4"/>
          <p:cNvGraphicFramePr/>
          <p:nvPr/>
        </p:nvGraphicFramePr>
        <p:xfrm>
          <a:off x="5486400" y="4267080"/>
          <a:ext cx="2319480" cy="990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86400" y="4267080"/>
                    <a:ext cx="23194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C108-0380-41AC-AB8E-83CCA9E3726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8"/>
          <a:stretch/>
        </p:blipFill>
        <p:spPr>
          <a:xfrm>
            <a:off x="380880" y="3962520"/>
            <a:ext cx="3886200" cy="206676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D816-B042-459C-83E9-BF8FF40C75C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56386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ider two electric charges: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electric force F between these two charges separated by a distance r is given by Coulomb’s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constant k is called Coulomb’s constant and is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6019920" y="533520"/>
                <a:ext cx="20602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5486400" y="2057400"/>
                <a:ext cx="3276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/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8" name="Rectangle 3"/>
          <p:cNvSpPr/>
          <p:nvPr/>
        </p:nvSpPr>
        <p:spPr>
          <a:xfrm>
            <a:off x="152280" y="3124080"/>
            <a:ext cx="8229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coulomb constant is also writte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the “electric permittivity of vacuu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A fundamental constant of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7"/>
              <p:cNvSpPr txBox="1"/>
              <p:nvPr/>
            </p:nvSpPr>
            <p:spPr>
              <a:xfrm>
                <a:off x="1143000" y="3733920"/>
                <a:ext cx="495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where  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5791320" y="5410080"/>
                <a:ext cx="28144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B385-3816-4271-B0FE-AADF6BFAF93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60948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ouble one of the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ce do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hange sign of one of the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ce change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hange sign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ce stay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ouble the distance between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ce four times w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ouble both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ce four times str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4:01:27Z</dcterms:created>
  <dc:creator>nalmoneef</dc:creator>
  <dc:description/>
  <dc:language>en-US</dc:language>
  <cp:lastModifiedBy>abeer alshammari</cp:lastModifiedBy>
  <dcterms:modified xsi:type="dcterms:W3CDTF">2016-08-12T22:27:32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