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wmf" ContentType="image/x-wmf"/>
  <Override PartName="/ppt/media/image21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20.wmf" ContentType="image/x-wmf"/>
  <Override PartName="/ppt/media/image16.wmf" ContentType="image/x-wmf"/>
  <Override PartName="/ppt/media/image9.jpeg" ContentType="image/jpeg"/>
  <Override PartName="/ppt/media/image23.wmf" ContentType="image/x-wmf"/>
  <Override PartName="/ppt/media/image11.jpeg" ContentType="image/jpeg"/>
  <Override PartName="/ppt/media/image30.wmf" ContentType="image/x-wmf"/>
  <Override PartName="/ppt/media/image38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2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3.jpeg" ContentType="image/jpeg"/>
  <Override PartName="/ppt/media/image36.png" ContentType="image/png"/>
  <Override PartName="/ppt/media/image37.png" ContentType="image/png"/>
  <Override PartName="/ppt/media/image6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AEA8-6AB9-406C-B240-57B531131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D554-AECA-4891-9C8A-EAB9E08C97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board cal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F944-BD96-4594-B4D3-8DEC0991B8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A878-4FD9-408B-A6E2-1D3AAD5FED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board cal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8EE1-4949-4695-BF78-7406E2E5A0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5C69-EABE-4FC2-B092-507A85DB87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E447-77CB-4499-A495-C00FF041B0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board cal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E192-B9AE-41F6-8C13-9747E0619B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B5C4-FDFE-42CB-B1D9-10478F9FC4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A5AF-F156-443E-A82D-8EB8F61A08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e find the magnitudes of the individual forces on th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ge at the upper right corner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kQQ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kQ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/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(9.0 ´ 109 N · m2/C2)(6.00 ´ 10–3 C)2/(0.100 m)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3.24 ´ 107 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kQQ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/(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√2)2 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kQ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/2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(9.0 ´ 109 N · m2/C2)(6.00 ´ 10–3 C)2/2(0.100 m)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1.62 ´ 107 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directions of the forces are determined from the sign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f the charges and are indicated on the diagram.  For th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ces on the upper-right charge, we see that the net force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ill be along the diagonal.  For the net force, we ha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 cos 45° +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cos 45° + 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2(3.24 ´ 107 N) cos 45° + 1.62 ´ 107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= 6.20 ´ 107 N along the diagonal, or away from the center of the squar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rom the symmetry, each of the other forces will have the same magnitude and a direction away from the center:  The net force on each charge is        6.20 ´ 107 N away from the center of the squar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te that the sum for the three charges is zero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237E-B276-4866-B407-AE7B7A3B8B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board calc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BD72-C9FC-402E-816A-B5FFCF6487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ED7-BABF-4C5B-B2EC-C2E65D6E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5D8-6CF1-451B-9DC3-A96100A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BCB-5162-458C-92F3-6D24C6EC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045-4EB3-46AE-BD2D-DD2F147F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2D38-7455-4CB3-AAE3-7966D4C3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46C6-68E8-46E5-924B-1CBE5842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7A27-34BB-41D4-A207-A6DEAA19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84FC-EE9D-48CC-B341-4A61F7EF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0652-17F1-47C2-8E88-EE438233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5CFE-8E71-45C4-AAB4-DF889891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2F88-D42A-40B6-8562-72F05C2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AAA-6375-4C5F-A491-D6F3E877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5252-67D9-44AC-A08F-3A7DD7C0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16DF-695C-45EE-B72D-F6A7F3E0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4D9C-B341-412E-9976-1B96B9E9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83DA-0C92-4A96-A69F-0014E61B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F851-6D47-4E3D-A5C7-B89A67BA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5A20-3E69-4631-B21A-C0CCF211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22672-049A-4633-A9DD-B5B5AE16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21A7-5E63-4F87-B6AC-AD66F2D4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D64B-B282-4B74-B482-49653E2A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E646-6832-4E38-AA4D-D1A51DBE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B62-79F9-4165-A53E-E16C2316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614C-C45F-4D5C-8863-D709E7EA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1251-FC65-484C-955D-7153E7D1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161EE-4BAA-45AC-ACBA-4940A403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A97B-8B39-4DC8-9F1C-001CA6B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75DA-01E6-48B6-A59B-C65244C7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0494-C579-4B32-84FB-BB533875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F52A-53F4-4E09-B585-5DE70310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FAD1C-3629-48A1-9396-D635D0C8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31D0-1C25-4FA9-8006-6122D817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550D6-31C2-494F-A64E-875B71BD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E57-EFC5-4414-952C-B244715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3DADF-2F93-4FCD-8C26-A71132D8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97DA-24C0-44BB-BB52-B1409A8A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E764-550B-48CE-B53A-EE844C6A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258B6-0324-486A-B13D-0A9B2766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B1AD3-3096-4F5C-9ADC-5183179B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4D92-01A6-4210-A570-75F5AC33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4152-FE38-4EDA-B521-72220414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18A0-6F36-4543-A524-C76DEB74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CDC16-C6A0-4480-8D2E-97E7CDF9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232-970B-4072-B434-657D6589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0F7-CDC1-4154-8817-0D54A614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093-91F8-4777-9454-9BB1554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545-48E2-4FF9-BAA8-B7050E76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920-EFB7-471F-B454-E06C22B1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5DDA-9ADC-4CFA-8545-AEB329FF7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838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79AB-86DF-45C4-9EC0-9762055BB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190E-14C5-4ED3-B22E-A0BE42D43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E6BA-2FCC-446B-80B2-289424559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extBox 3" descr=""/>
          <p:cNvPicPr/>
          <p:nvPr/>
        </p:nvPicPr>
        <p:blipFill>
          <a:blip r:embed="rId1"/>
          <a:stretch/>
        </p:blipFill>
        <p:spPr>
          <a:xfrm>
            <a:off x="444600" y="1663560"/>
            <a:ext cx="8334360" cy="134784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6EF7-7EA9-4C2A-B9CE-2867FABF0F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447920" y="3124080"/>
            <a:ext cx="73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1 Properties of Electric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2 Charging Objects By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3 Coulomb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4 The 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6 Electric Fiel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Arial"/>
              </a:rPr>
              <a:t>23.7 Motion of Charged Particles in a Uniform 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FB1B-CC60-4397-B9FC-403BC390CC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572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at is the force between two charges of 1 C separated by 1 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410080" y="1676520"/>
            <a:ext cx="30481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Answer: 8.9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Rocks 1"/>
                <a:ea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 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lomb’s Law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magnitude of the electric force of attraction between an iron nucleus (q=+26e) and its innermost electron if the distance between them is 1.5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-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agnitude of the Coulomb force 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 = kQ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(9.0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N · 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(26)(1.60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–1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)(1.60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–1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)/(1.5x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–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       2.7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–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B2D8-2B77-484F-A7DF-2AFD67AE87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0862-107C-44BD-9BA1-067D0E2A1B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- The Helium Nucle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 1: The nucleus of a helium atom has two protons and two neutrons.  What is the magnitude of the electric force between the two protons in the helium nucle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5134320" y="2133720"/>
            <a:ext cx="3012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s 1"/>
                <a:ea typeface="Arial"/>
              </a:rPr>
              <a:t>Answer: 58 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28600" y="2819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2: What if the distance is doubled; how will the force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5157000" y="3429000"/>
            <a:ext cx="314964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s 1"/>
                <a:ea typeface="Arial"/>
              </a:rPr>
              <a:t>Answer: 14.5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990720" y="4648320"/>
            <a:ext cx="7238880" cy="8254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verse square law: If the distance is doubled then the force is reduced by a factor of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ate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59F5-6C59-4DF4-8D05-85E6F09BC1A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-360" y="790560"/>
            <a:ext cx="8839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two charges located on the x ax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arges are describ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0.1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0.0 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0.3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0.40 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do we need to put a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 for that charge to be at an equilibrium poi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equilibrium point, the forces from the two charges will canc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7"/>
          <p:cNvGrpSpPr/>
          <p:nvPr/>
        </p:nvGrpSpPr>
        <p:grpSpPr>
          <a:xfrm>
            <a:off x="5300640" y="1219320"/>
            <a:ext cx="3691080" cy="1549080"/>
            <a:chOff x="5300640" y="1219320"/>
            <a:chExt cx="3691080" cy="1549080"/>
          </a:xfrm>
        </p:grpSpPr>
        <p:pic>
          <p:nvPicPr>
            <p:cNvPr id="268" name="Picture 4" descr="Equil Example"/>
            <p:cNvPicPr/>
            <p:nvPr/>
          </p:nvPicPr>
          <p:blipFill>
            <a:blip r:embed="rId1"/>
            <a:stretch/>
          </p:blipFill>
          <p:spPr>
            <a:xfrm>
              <a:off x="5300640" y="1219320"/>
              <a:ext cx="3691080" cy="1549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69" name="Object 2"/>
            <p:cNvGraphicFramePr/>
            <p:nvPr/>
          </p:nvGraphicFramePr>
          <p:xfrm>
            <a:off x="5336640" y="1607040"/>
            <a:ext cx="225000" cy="32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0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6640" y="1607040"/>
                      <a:ext cx="22500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Object 3"/>
            <p:cNvGraphicFramePr/>
            <p:nvPr/>
          </p:nvGraphicFramePr>
          <p:xfrm>
            <a:off x="8644320" y="1607040"/>
            <a:ext cx="262080" cy="326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2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644320" y="1607040"/>
                      <a:ext cx="26208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- Equilibrium 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Equil Example"/>
          <p:cNvPicPr/>
          <p:nvPr/>
        </p:nvPicPr>
        <p:blipFill>
          <a:blip r:embed="rId6"/>
          <a:stretch/>
        </p:blipFill>
        <p:spPr>
          <a:xfrm>
            <a:off x="4343400" y="4043520"/>
            <a:ext cx="4551480" cy="17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Object 11"/>
              <p:cNvSpPr txBox="1"/>
              <p:nvPr/>
            </p:nvSpPr>
            <p:spPr>
              <a:xfrm>
                <a:off x="380880" y="4343400"/>
                <a:ext cx="381024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8" name="Text Box 15"/>
          <p:cNvSpPr/>
          <p:nvPr/>
        </p:nvSpPr>
        <p:spPr>
          <a:xfrm>
            <a:off x="-1186560" y="3666960"/>
            <a:ext cx="741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Here the forces from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Rocks 1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Rocks 1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 can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0"/>
          <p:cNvGrpSpPr/>
          <p:nvPr/>
        </p:nvGrpSpPr>
        <p:grpSpPr>
          <a:xfrm>
            <a:off x="6305760" y="4794120"/>
            <a:ext cx="367920" cy="634320"/>
            <a:chOff x="6305760" y="4794120"/>
            <a:chExt cx="367920" cy="634320"/>
          </a:xfrm>
        </p:grpSpPr>
        <p:sp>
          <p:nvSpPr>
            <p:cNvPr id="280" name="Oval 18"/>
            <p:cNvSpPr/>
            <p:nvPr/>
          </p:nvSpPr>
          <p:spPr>
            <a:xfrm>
              <a:off x="6350040" y="4794120"/>
              <a:ext cx="228600" cy="304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9"/>
            <p:cNvSpPr/>
            <p:nvPr/>
          </p:nvSpPr>
          <p:spPr>
            <a:xfrm>
              <a:off x="6305760" y="5022720"/>
              <a:ext cx="36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4508640" y="3359160"/>
                <a:ext cx="1267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508640" y="3359160"/>
                <a:ext cx="1267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5"/>
              <p:cNvSpPr txBox="1"/>
              <p:nvPr/>
            </p:nvSpPr>
            <p:spPr>
              <a:xfrm>
                <a:off x="5638680" y="4489560"/>
                <a:ext cx="3049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6934320" y="4413240"/>
                <a:ext cx="685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 Resultant Force,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gnitudes of the individual forces will be eq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rections will be oppo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result in a quadr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oose the root that gives the forces in opposite dir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0880" y="7016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fixed charges, 1mC and -3mC are separated by 10cm as shown in the figure (a) where may a third charge be located so that no force acts on it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762120" y="4038480"/>
                <a:ext cx="304776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Picture 9" descr=""/>
          <p:cNvPicPr/>
          <p:nvPr/>
        </p:nvPicPr>
        <p:blipFill>
          <a:blip r:embed="rId1"/>
          <a:srcRect l="0" t="19202" r="0" b="10402"/>
          <a:stretch/>
        </p:blipFill>
        <p:spPr>
          <a:xfrm>
            <a:off x="4572000" y="2362320"/>
            <a:ext cx="4048200" cy="838080"/>
          </a:xfrm>
          <a:prstGeom prst="rect">
            <a:avLst/>
          </a:prstGeom>
          <a:ln w="0">
            <a:noFill/>
          </a:ln>
        </p:spPr>
      </p:pic>
      <p:sp>
        <p:nvSpPr>
          <p:cNvPr id="291" name="Date Placeholder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0806-DBF6-45BF-B885-F8BB8C2090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5"/>
          <p:cNvSpPr/>
          <p:nvPr/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8229600" y="64771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BDAD-C42E-4240-A1ED-D01EF8C81F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- Charged Pendulu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two identical charged balls hanging from the ceiling by strings of equal length 1.5 m (in equilibrium).  Each ball has a charge of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 The balls hang at a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2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respect to the vertical.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at is the mass of the bal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ee forces act on each ball: Coulomb force, gravity and the tension of the st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charged_balls"/>
          <p:cNvPicPr/>
          <p:nvPr/>
        </p:nvPicPr>
        <p:blipFill>
          <a:blip r:embed="rId1"/>
          <a:stretch/>
        </p:blipFill>
        <p:spPr>
          <a:xfrm>
            <a:off x="6477120" y="304920"/>
            <a:ext cx="2477880" cy="27399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20"/>
          <p:cNvGrpSpPr/>
          <p:nvPr/>
        </p:nvGrpSpPr>
        <p:grpSpPr>
          <a:xfrm>
            <a:off x="1752480" y="2133720"/>
            <a:ext cx="5262840" cy="4038120"/>
            <a:chOff x="1752480" y="2133720"/>
            <a:chExt cx="5262840" cy="4038120"/>
          </a:xfrm>
        </p:grpSpPr>
        <mc:AlternateContent>
          <mc:Choice xmlns:a14="http://schemas.microsoft.com/office/drawing/2010/main" Requires="a14">
            <p:sp>
              <p:nvSpPr>
                <p:cNvPr id="300" name="Object 2"/>
                <p:cNvSpPr txBox="1"/>
                <p:nvPr/>
              </p:nvSpPr>
              <p:spPr>
                <a:xfrm>
                  <a:off x="1752480" y="4419360"/>
                  <a:ext cx="2757600" cy="17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all on left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q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01" name="Group 15"/>
            <p:cNvGrpSpPr/>
            <p:nvPr/>
          </p:nvGrpSpPr>
          <p:grpSpPr>
            <a:xfrm>
              <a:off x="6051600" y="2133720"/>
              <a:ext cx="963720" cy="1777680"/>
              <a:chOff x="6051600" y="2133720"/>
              <a:chExt cx="963720" cy="1777680"/>
            </a:xfrm>
          </p:grpSpPr>
          <p:sp>
            <p:nvSpPr>
              <p:cNvPr id="302" name="Line 16"/>
              <p:cNvSpPr/>
              <p:nvPr/>
            </p:nvSpPr>
            <p:spPr>
              <a:xfrm>
                <a:off x="6051600" y="2332080"/>
                <a:ext cx="0" cy="11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7"/>
              <p:cNvSpPr/>
              <p:nvPr/>
            </p:nvSpPr>
            <p:spPr>
              <a:xfrm>
                <a:off x="6051600" y="3434760"/>
                <a:ext cx="95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18"/>
              <p:cNvSpPr/>
              <p:nvPr/>
            </p:nvSpPr>
            <p:spPr>
              <a:xfrm>
                <a:off x="6735600" y="354312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19"/>
              <p:cNvSpPr/>
              <p:nvPr/>
            </p:nvSpPr>
            <p:spPr>
              <a:xfrm>
                <a:off x="6090120" y="2133720"/>
                <a:ext cx="28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Date Placeholder 14"/>
          <p:cNvSpPr/>
          <p:nvPr/>
        </p:nvSpPr>
        <p:spPr>
          <a:xfrm>
            <a:off x="1522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AF1C-488F-4913-B720-437CBB4C8C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- Charged Pendulum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4" descr="charged_balls"/>
          <p:cNvPicPr/>
          <p:nvPr/>
        </p:nvPicPr>
        <p:blipFill>
          <a:blip r:embed="rId1"/>
          <a:stretch/>
        </p:blipFill>
        <p:spPr>
          <a:xfrm>
            <a:off x="6521400" y="1031760"/>
            <a:ext cx="2478240" cy="27403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6"/>
          <p:cNvSpPr/>
          <p:nvPr/>
        </p:nvSpPr>
        <p:spPr>
          <a:xfrm>
            <a:off x="117360" y="727200"/>
            <a:ext cx="54500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omic Sans MS"/>
                <a:ea typeface="Arial"/>
              </a:rPr>
              <a:t>Step 2: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The balls are in equilibrium positions. That means the sum of all forces acting on the ball is zero!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838080" y="3505320"/>
                <a:ext cx="18622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Text Box 34"/>
          <p:cNvSpPr/>
          <p:nvPr/>
        </p:nvSpPr>
        <p:spPr>
          <a:xfrm>
            <a:off x="856080" y="5105520"/>
            <a:ext cx="3102120" cy="52056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: m = 0.76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5"/>
          <p:cNvSpPr/>
          <p:nvPr/>
        </p:nvSpPr>
        <p:spPr>
          <a:xfrm>
            <a:off x="1927080" y="5715000"/>
            <a:ext cx="46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similar analysis applies to the ball on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6756480" y="3657600"/>
            <a:ext cx="2297160" cy="58140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Rocks 1"/>
              </a:rPr>
              <a:t>d=2 l sin </a:t>
            </a:r>
            <a:r>
              <a:rPr b="1" i="1" lang="el-GR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θ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2"/>
              <p:cNvSpPr txBox="1"/>
              <p:nvPr/>
            </p:nvSpPr>
            <p:spPr>
              <a:xfrm>
                <a:off x="838080" y="1905120"/>
                <a:ext cx="20448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1F90-8D8F-4613-A0AF-3D96762E9D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ectric Force and Gravitational For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omb’s Law that describes the electric force and Newton’s gravitational law have a similar functional 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forces vary as the inverse squ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distance between the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vitation is always attrac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 and G give the strength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2" name="Object 2"/>
          <p:cNvGraphicFramePr/>
          <p:nvPr/>
        </p:nvGraphicFramePr>
        <p:xfrm>
          <a:off x="266760" y="2352600"/>
          <a:ext cx="25146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352600"/>
                    <a:ext cx="2514600" cy="76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24" name="Object 3"/>
          <p:cNvGraphicFramePr/>
          <p:nvPr/>
        </p:nvGraphicFramePr>
        <p:xfrm>
          <a:off x="3086280" y="2352600"/>
          <a:ext cx="29718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2352600"/>
                    <a:ext cx="297180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26" name="Object 8"/>
          <p:cNvGraphicFramePr/>
          <p:nvPr/>
        </p:nvGraphicFramePr>
        <p:xfrm>
          <a:off x="6705720" y="2362320"/>
          <a:ext cx="2209680" cy="12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2362320"/>
                    <a:ext cx="22096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9"/>
          <p:cNvGraphicFramePr/>
          <p:nvPr/>
        </p:nvGraphicFramePr>
        <p:xfrm>
          <a:off x="5719680" y="4375080"/>
          <a:ext cx="3200400" cy="198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9680" y="4375080"/>
                    <a:ext cx="32004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91AA-B33A-44C5-B5BD-9F68535C63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04776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533520" y="47628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electron is released above the surface of the Earth. A second electron directly below it exert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static 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 the first electron just great enough to cancel out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vitational 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 it. How far below the first electron is the secon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008360" y="590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008360" y="476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158840" y="506880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221120" y="5105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 flipV="1">
            <a:off x="1158840" y="4306680"/>
            <a:ext cx="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226880" y="4343400"/>
            <a:ext cx="386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2"/>
          <p:cNvSpPr/>
          <p:nvPr/>
        </p:nvSpPr>
        <p:spPr>
          <a:xfrm>
            <a:off x="1768320" y="49928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2210760" y="525780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3805200" y="2514600"/>
                <a:ext cx="458964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t xml:space="preserve">k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9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Text Box 18"/>
          <p:cNvSpPr/>
          <p:nvPr/>
        </p:nvSpPr>
        <p:spPr>
          <a:xfrm>
            <a:off x="8237520" y="4495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.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Date Placeholder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911160" y="2394000"/>
                <a:ext cx="5000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9</m:t>
                                        </m:r>
                                      </m:sup>
                                    </m:sSup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5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p>
                                    </m:sSup>
                                    <m:r>
                                      <m:t xml:space="preserve">m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8" name="Text Box 23"/>
          <p:cNvSpPr/>
          <p:nvPr/>
        </p:nvSpPr>
        <p:spPr>
          <a:xfrm>
            <a:off x="337320" y="191628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the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electro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gravit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544680" y="4095720"/>
                <a:ext cx="70545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kg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p>
                                </m:sSup>
                                <m:r>
                                  <m:t xml:space="preserve">kg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</m:t>
                                    </m:r>
                                  </m:sup>
                                </m:sSup>
                                <m:r>
                                  <m:t xml:space="preserve">kg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5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p>
                                    </m:sSup>
                                    <m:r>
                                      <m:t xml:space="preserve">m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0" name="Text Box 27"/>
          <p:cNvSpPr/>
          <p:nvPr/>
        </p:nvSpPr>
        <p:spPr>
          <a:xfrm>
            <a:off x="490320" y="5789520"/>
            <a:ext cx="841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F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F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force of gravity is much weaker than the electrostatic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3905280" cy="3808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1"/>
          <p:cNvSpPr/>
          <p:nvPr/>
        </p:nvSpPr>
        <p:spPr>
          <a:xfrm>
            <a:off x="228600" y="533520"/>
            <a:ext cx="8534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electron and proton of a hydrogen atom are separated (on the average) by a distance of approximately 5.3 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Find the magnitudes of the electric force and the gravitational force between the two part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e Placeholder 2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CB74-9E89-4CFE-8733-F0A6F31691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FG21_002"/>
          <p:cNvPicPr/>
          <p:nvPr/>
        </p:nvPicPr>
        <p:blipFill>
          <a:blip r:embed="rId1"/>
          <a:srcRect l="29938" t="0" r="26632" b="0"/>
          <a:stretch/>
        </p:blipFill>
        <p:spPr>
          <a:xfrm>
            <a:off x="5867280" y="1389240"/>
            <a:ext cx="2667240" cy="46051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9360" y="1337760"/>
            <a:ext cx="5084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it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ass rubbed with sil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sing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gat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bber/Plastic rubbed with f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a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bitrary cho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ntion attributed to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amount of charge is measured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Coulombs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irical Observ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charges rep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charges attract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2E90-17A4-4C63-A6F5-2D8CEDE1F5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4CEE-B060-4681-B939-E7E72F4938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176720" cy="264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5724360" y="2133720"/>
            <a:ext cx="3056040" cy="1917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5616720" cy="1158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4"/>
          <a:stretch/>
        </p:blipFill>
        <p:spPr>
          <a:xfrm>
            <a:off x="971640" y="2421000"/>
            <a:ext cx="3960720" cy="538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5"/>
          <a:stretch/>
        </p:blipFill>
        <p:spPr>
          <a:xfrm>
            <a:off x="1835280" y="3213000"/>
            <a:ext cx="2376360" cy="560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6"/>
          <a:stretch/>
        </p:blipFill>
        <p:spPr>
          <a:xfrm>
            <a:off x="755640" y="4365720"/>
            <a:ext cx="4753080" cy="1419120"/>
          </a:xfrm>
          <a:prstGeom prst="rect">
            <a:avLst/>
          </a:prstGeom>
          <a:ln w="0">
            <a:noFill/>
          </a:ln>
        </p:spPr>
      </p:pic>
      <p:sp>
        <p:nvSpPr>
          <p:cNvPr id="364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ic Forces and Vec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 Fields and Forces are ALL vectors, thus all rules applying to vectors must be follow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04920" y="190512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 three point charges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6.00 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 (located at the origin),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5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, and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-2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, located at the corners of a RIGHT triangle.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located at y= 3 m while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located 4m to the right of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Find the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result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 on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2895480" y="3581280"/>
            <a:ext cx="0" cy="2362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1295280" y="4648320"/>
            <a:ext cx="327672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2669040" y="4495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2669040" y="3581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4116960" y="3581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274320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30481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3"/>
          <p:cNvSpPr/>
          <p:nvPr/>
        </p:nvSpPr>
        <p:spPr>
          <a:xfrm flipV="1">
            <a:off x="2971800" y="38858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2287800" y="3962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3278520" y="342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3583080" y="4114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6250680" y="4876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8"/>
          <p:cNvSpPr/>
          <p:nvPr/>
        </p:nvSpPr>
        <p:spPr>
          <a:xfrm>
            <a:off x="5528160" y="3313080"/>
            <a:ext cx="30535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way does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ush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 way does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ush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 flipH="1">
            <a:off x="4952880" y="51055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0"/>
          <p:cNvSpPr/>
          <p:nvPr/>
        </p:nvSpPr>
        <p:spPr>
          <a:xfrm>
            <a:off x="5307480" y="460836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 3 du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6629400" y="4191120"/>
            <a:ext cx="1219320" cy="838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6542640" y="403848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 3 du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6705720" y="5105520"/>
            <a:ext cx="91440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4"/>
          <p:cNvSpPr/>
          <p:nvPr/>
        </p:nvSpPr>
        <p:spPr>
          <a:xfrm>
            <a:off x="3125880" y="4343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6859440" y="4724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3271320" y="55198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ta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/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ate Placeholder 2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2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AD96-E402-46C4-8C63-025EF8F17D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2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380880" y="3352680"/>
                <a:ext cx="37339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)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4"/>
              <p:cNvSpPr txBox="1"/>
              <p:nvPr/>
            </p:nvSpPr>
            <p:spPr>
              <a:xfrm>
                <a:off x="349200" y="4572000"/>
                <a:ext cx="34606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)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5"/>
              <p:cNvSpPr txBox="1"/>
              <p:nvPr/>
            </p:nvSpPr>
            <p:spPr>
              <a:xfrm>
                <a:off x="5029200" y="3124080"/>
                <a:ext cx="28954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,2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3,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ultant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rection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5" name="Line 4"/>
          <p:cNvSpPr/>
          <p:nvPr/>
        </p:nvSpPr>
        <p:spPr>
          <a:xfrm>
            <a:off x="2590920" y="1066680"/>
            <a:ext cx="0" cy="2362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990720" y="2133720"/>
            <a:ext cx="32763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295000" y="19810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95000" y="9907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818880" y="10666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2438280" y="1371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274320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 flipV="1">
            <a:off x="2666880" y="13712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982880" y="1447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2973600" y="914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3278520" y="160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5952600" y="23623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6"/>
          <p:cNvSpPr/>
          <p:nvPr/>
        </p:nvSpPr>
        <p:spPr>
          <a:xfrm flipH="1">
            <a:off x="4648320" y="25909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5002920" y="209376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 3 du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8"/>
          <p:cNvSpPr/>
          <p:nvPr/>
        </p:nvSpPr>
        <p:spPr>
          <a:xfrm flipV="1">
            <a:off x="6324480" y="1676520"/>
            <a:ext cx="1219320" cy="838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6237720" y="152388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n 3 du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6400800" y="2590920"/>
            <a:ext cx="914400" cy="0"/>
          </a:xfrm>
          <a:prstGeom prst="line">
            <a:avLst/>
          </a:prstGeom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2821320" y="1828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6554520" y="2209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2982240" y="23623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ta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/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8"/>
          <p:cNvSpPr/>
          <p:nvPr/>
        </p:nvSpPr>
        <p:spPr>
          <a:xfrm>
            <a:off x="1077840" y="40384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.6 x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1"/>
          <p:cNvSpPr/>
          <p:nvPr/>
        </p:nvSpPr>
        <p:spPr>
          <a:xfrm>
            <a:off x="1078200" y="525780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.1x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2"/>
          <p:cNvSpPr/>
          <p:nvPr/>
        </p:nvSpPr>
        <p:spPr>
          <a:xfrm>
            <a:off x="6324480" y="2666880"/>
            <a:ext cx="11430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6477480" y="2627280"/>
            <a:ext cx="1026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,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s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4"/>
          <p:cNvSpPr/>
          <p:nvPr/>
        </p:nvSpPr>
        <p:spPr>
          <a:xfrm flipV="1">
            <a:off x="7467480" y="1752480"/>
            <a:ext cx="0" cy="914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7559640" y="1981080"/>
            <a:ext cx="969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,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n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9"/>
          <p:cNvSpPr/>
          <p:nvPr/>
        </p:nvSpPr>
        <p:spPr>
          <a:xfrm>
            <a:off x="5572800" y="464832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7.34x1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0"/>
          <p:cNvSpPr/>
          <p:nvPr/>
        </p:nvSpPr>
        <p:spPr>
          <a:xfrm>
            <a:off x="6363000" y="5715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Narrow"/>
                <a:ea typeface="Arial"/>
              </a:rPr>
              <a:t>64.3 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 Narrow"/>
                <a:ea typeface="Arial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Arial Narrow"/>
                <a:ea typeface="Arial"/>
              </a:rPr>
              <a:t> above the +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ate Placeholder 3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ABAE-61D1-424C-9688-7924F49053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lomb’s Law Exampl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86200" y="914400"/>
            <a:ext cx="5105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 = 6.0 m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 = 0.10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is the magnitude and direction of the net force on one of the char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4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1C04-9F8D-47BD-8331-51E5CA8C81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152280" y="4016520"/>
            <a:ext cx="883944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find the magnitudes of the individual forces on the charge at the upper right cor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Q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(9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 ·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(6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(0.100 m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3.24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Q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√2)2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/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(9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 ·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(6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2(0.100 m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1.62 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C13D-27A2-4FEC-ADA8-624A06BD4FC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962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long the diagonal, or away from the center of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From the symmetry, each of the other forces will have the same magnitude and a direction away from the center:  The net force on each charge is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6.20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Arial"/>
              </a:rPr>
              <a:t>ء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10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  <a:ea typeface="Arial"/>
              </a:rPr>
              <a:t>7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N away from the center of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304920" y="533520"/>
                <a:ext cx="5867280" cy="37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  so 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    so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sin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4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85</m:t>
                                        </m:r>
                                        <m:r>
                                          <m:t xml:space="preserve">×</m:t>
                                        </m:r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</m:e>
                                          <m:sup>
                                            <m:r>
                                              <m:t xml:space="preserve">7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85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7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N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7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3172-B651-4308-A401-BA692892B9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- Four Char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0" y="801360"/>
            <a:ext cx="54100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four charges placed at the corners of a square with sides of length 1.25 m as shown on the right.  What is the magnitude of the electric force on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sulting from the electric force from the remaining three charg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4" descr="Example_4_Charges"/>
          <p:cNvPicPr/>
          <p:nvPr/>
        </p:nvPicPr>
        <p:blipFill>
          <a:blip r:embed="rId1"/>
          <a:stretch/>
        </p:blipFill>
        <p:spPr>
          <a:xfrm>
            <a:off x="5327640" y="152280"/>
            <a:ext cx="35877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18"/>
          <p:cNvGrpSpPr/>
          <p:nvPr/>
        </p:nvGrpSpPr>
        <p:grpSpPr>
          <a:xfrm>
            <a:off x="5943600" y="3657600"/>
            <a:ext cx="2666880" cy="2666880"/>
            <a:chOff x="5943600" y="3657600"/>
            <a:chExt cx="2666880" cy="2666880"/>
          </a:xfrm>
        </p:grpSpPr>
        <p:pic>
          <p:nvPicPr>
            <p:cNvPr id="444" name="Picture 4" descr="Example_4_Charges"/>
            <p:cNvPicPr/>
            <p:nvPr/>
          </p:nvPicPr>
          <p:blipFill>
            <a:blip r:embed="rId2"/>
            <a:stretch/>
          </p:blipFill>
          <p:spPr>
            <a:xfrm>
              <a:off x="5943600" y="3683880"/>
              <a:ext cx="2489040" cy="264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5" name="Group 15"/>
            <p:cNvGrpSpPr/>
            <p:nvPr/>
          </p:nvGrpSpPr>
          <p:grpSpPr>
            <a:xfrm>
              <a:off x="8041320" y="3657600"/>
              <a:ext cx="569160" cy="1227240"/>
              <a:chOff x="8041320" y="3657600"/>
              <a:chExt cx="569160" cy="1227240"/>
            </a:xfrm>
          </p:grpSpPr>
          <p:sp>
            <p:nvSpPr>
              <p:cNvPr id="446" name="Line 12"/>
              <p:cNvSpPr/>
              <p:nvPr/>
            </p:nvSpPr>
            <p:spPr>
              <a:xfrm>
                <a:off x="8041320" y="4062600"/>
                <a:ext cx="569160" cy="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8041320" y="4082400"/>
                <a:ext cx="0" cy="80244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14"/>
              <p:cNvSpPr/>
              <p:nvPr/>
            </p:nvSpPr>
            <p:spPr>
              <a:xfrm flipV="1">
                <a:off x="8041320" y="3657600"/>
                <a:ext cx="394200" cy="42480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11"/>
          <p:cNvSpPr/>
          <p:nvPr/>
        </p:nvSpPr>
        <p:spPr>
          <a:xfrm>
            <a:off x="651600" y="3787920"/>
            <a:ext cx="3557880" cy="23551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F (</a:t>
            </a:r>
            <a:r>
              <a:rPr b="0" lang="en-US" sz="3200" spc="-1" strike="noStrike">
                <a:solidFill>
                  <a:srgbClr val="000000"/>
                </a:solidFill>
                <a:latin typeface="Rocks 1"/>
                <a:ea typeface="Arial"/>
              </a:rPr>
              <a:t>on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Rocks 1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) = 0.0916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Rocks 1"/>
                <a:ea typeface="Arial"/>
              </a:rPr>
              <a:t>and the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ate Placeholder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609480" y="6094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7; Three point charges are located at the corners of an equilateral triangle. Calculate the net electric force on the 7.00 uC ch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278080" cy="175248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457200" y="152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OMEWORK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609480" y="3505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8: Two small beads having positive charges 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and q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xed at the opposite ends of a horizontal insulating rod extending from the origin to the poi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 third small charged bead is free to slide on the rod. At what position is the third bead in equilibrium? Can it be in stable equilibr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5203800" y="4876920"/>
            <a:ext cx="3140280" cy="1143000"/>
          </a:xfrm>
          <a:prstGeom prst="rect">
            <a:avLst/>
          </a:prstGeom>
          <a:ln w="0">
            <a:noFill/>
          </a:ln>
        </p:spPr>
      </p:pic>
      <p:sp>
        <p:nvSpPr>
          <p:cNvPr id="45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1438-209B-43D9-A8B6-4C4BA3D19AD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533520" y="5335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12; An object having a net charge of 24.0 C is placed in a uniform electric field of 610 N/C that is directed vertically. What is the mass of this object if it “floats” in the fie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609480" y="1933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-18; Two 2.00uC point charges are located o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xis. One is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.00 m, and the other is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=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.00 m. (a) Determine the electric field o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xis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0 m. (b) Calculate the electric force on a - 3.00uC charge placed o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xis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0.50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533520" y="3549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41; An electron and a proton are each placed at rest in an electric field of 520 N/C. Calculate the speed of each particle 48.0 ns after being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09480" y="48751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-44; The electrons in a particle beam each have a kinetic energy of 1.60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J. What are the magnitude and direction of the electric field that stops these electrons in a distance of 10.0 c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2762-1E51-4F7B-876B-57A0EA1B0E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6324480" y="1600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ge in the At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3429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ns (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s (-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a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52" descr="Li"/>
          <p:cNvPicPr/>
          <p:nvPr/>
        </p:nvPicPr>
        <p:blipFill>
          <a:blip r:embed="rId1"/>
          <a:stretch/>
        </p:blipFill>
        <p:spPr>
          <a:xfrm>
            <a:off x="6678720" y="220680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7" descr="FG21_003"/>
          <p:cNvPicPr/>
          <p:nvPr/>
        </p:nvPicPr>
        <p:blipFill>
          <a:blip r:embed="rId2"/>
          <a:stretch/>
        </p:blipFill>
        <p:spPr>
          <a:xfrm>
            <a:off x="181080" y="24192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8" descr="FG21_004"/>
          <p:cNvPicPr/>
          <p:nvPr/>
        </p:nvPicPr>
        <p:blipFill>
          <a:blip r:embed="rId3"/>
          <a:stretch/>
        </p:blipFill>
        <p:spPr>
          <a:xfrm>
            <a:off x="3152880" y="4468680"/>
            <a:ext cx="2854080" cy="214164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522F-9CCE-4CEF-A8ED-AF82CACDFC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erpetua"/>
              </a:rPr>
              <a:t>23.1 Properties of Electric Char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icity is the implication that electric charge is always conser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s, when one object is rubbed against another, charge is not created in the process. The electrified state is due to a transfer of charge from one object to the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bject gains some amount of negative charge while the other gains an equal amount of positive char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mallest unit of charge is that on an electron or proton. (e = 1.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impossible to have less charge than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possible to have integer multiples of this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3429000" y="5943600"/>
          <a:ext cx="18162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943600"/>
                    <a:ext cx="18162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73CE-F36E-47DC-864C-AA3C45C390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uctors and Ins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880" y="170928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s charge on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ula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transfer charge on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miconduc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ht transfer charge on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FG21_005A"/>
          <p:cNvPicPr/>
          <p:nvPr/>
        </p:nvPicPr>
        <p:blipFill>
          <a:blip r:embed="rId1"/>
          <a:stretch/>
        </p:blipFill>
        <p:spPr>
          <a:xfrm>
            <a:off x="128520" y="4145040"/>
            <a:ext cx="2878200" cy="2158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FG21_005B"/>
          <p:cNvPicPr/>
          <p:nvPr/>
        </p:nvPicPr>
        <p:blipFill>
          <a:blip r:embed="rId2"/>
          <a:stretch/>
        </p:blipFill>
        <p:spPr>
          <a:xfrm>
            <a:off x="3173400" y="4159080"/>
            <a:ext cx="2806560" cy="2106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FG21_005C"/>
          <p:cNvPicPr/>
          <p:nvPr/>
        </p:nvPicPr>
        <p:blipFill>
          <a:blip r:embed="rId3"/>
          <a:stretch/>
        </p:blipFill>
        <p:spPr>
          <a:xfrm>
            <a:off x="6121440" y="4165560"/>
            <a:ext cx="2948040" cy="22114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447B-EFB3-448B-AA8A-8D0F1AB2EE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592920" y="76320"/>
            <a:ext cx="859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Perpetua"/>
                <a:ea typeface="Arial"/>
              </a:rPr>
              <a:t>23.2 Charging Objects By In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038"/>
          <p:cNvGrpSpPr/>
          <p:nvPr/>
        </p:nvGrpSpPr>
        <p:grpSpPr>
          <a:xfrm>
            <a:off x="4254480" y="2765520"/>
            <a:ext cx="4406760" cy="4006800"/>
            <a:chOff x="4254480" y="2765520"/>
            <a:chExt cx="4406760" cy="4006800"/>
          </a:xfrm>
        </p:grpSpPr>
        <p:pic>
          <p:nvPicPr>
            <p:cNvPr id="207" name="Picture 1033" descr="FG21_008"/>
            <p:cNvPicPr/>
            <p:nvPr/>
          </p:nvPicPr>
          <p:blipFill>
            <a:blip r:embed="rId1"/>
            <a:stretch/>
          </p:blipFill>
          <p:spPr>
            <a:xfrm>
              <a:off x="4254480" y="3467160"/>
              <a:ext cx="440676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Line 1036"/>
            <p:cNvSpPr/>
            <p:nvPr/>
          </p:nvSpPr>
          <p:spPr>
            <a:xfrm>
              <a:off x="5369040" y="2765520"/>
              <a:ext cx="32544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8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ge Transfer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207040" y="1303200"/>
            <a:ext cx="2666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a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031" descr="FG21_006"/>
          <p:cNvPicPr/>
          <p:nvPr/>
        </p:nvPicPr>
        <p:blipFill>
          <a:blip r:embed="rId2"/>
          <a:stretch/>
        </p:blipFill>
        <p:spPr>
          <a:xfrm>
            <a:off x="762120" y="1289160"/>
            <a:ext cx="3112920" cy="2334960"/>
          </a:xfrm>
          <a:prstGeom prst="rect">
            <a:avLst/>
          </a:prstGeom>
          <a:ln w="0">
            <a:noFill/>
          </a:ln>
        </p:spPr>
      </p:pic>
      <p:sp>
        <p:nvSpPr>
          <p:cNvPr id="212" name="Line 1034"/>
          <p:cNvSpPr/>
          <p:nvPr/>
        </p:nvSpPr>
        <p:spPr>
          <a:xfrm flipH="1">
            <a:off x="4080960" y="1611360"/>
            <a:ext cx="1274760" cy="47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037"/>
          <p:cNvGrpSpPr/>
          <p:nvPr/>
        </p:nvGrpSpPr>
        <p:grpSpPr>
          <a:xfrm>
            <a:off x="520560" y="2198520"/>
            <a:ext cx="4824360" cy="4596120"/>
            <a:chOff x="520560" y="2198520"/>
            <a:chExt cx="4824360" cy="4596120"/>
          </a:xfrm>
        </p:grpSpPr>
        <p:pic>
          <p:nvPicPr>
            <p:cNvPr id="214" name="Picture 1032" descr="FG21_007"/>
            <p:cNvPicPr/>
            <p:nvPr/>
          </p:nvPicPr>
          <p:blipFill>
            <a:blip r:embed="rId3"/>
            <a:stretch/>
          </p:blipFill>
          <p:spPr>
            <a:xfrm>
              <a:off x="520560" y="4122720"/>
              <a:ext cx="3562560" cy="26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Line 1035"/>
            <p:cNvSpPr/>
            <p:nvPr/>
          </p:nvSpPr>
          <p:spPr>
            <a:xfrm flipH="1">
              <a:off x="3971520" y="2198520"/>
              <a:ext cx="13734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AACD-CF5B-4EAA-B954-0F77F17A7A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FG21_012"/>
          <p:cNvPicPr/>
          <p:nvPr/>
        </p:nvPicPr>
        <p:blipFill>
          <a:blip r:embed="rId1"/>
          <a:stretch/>
        </p:blipFill>
        <p:spPr>
          <a:xfrm>
            <a:off x="6095880" y="914400"/>
            <a:ext cx="2970360" cy="21337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-3 Coulomb’s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irical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l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838080" y="1447920"/>
          <a:ext cx="160020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447920"/>
                    <a:ext cx="16002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3809880" y="1371600"/>
          <a:ext cx="121932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371600"/>
                    <a:ext cx="12193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6"/>
          <p:cNvSpPr/>
          <p:nvPr/>
        </p:nvSpPr>
        <p:spPr>
          <a:xfrm>
            <a:off x="1610640" y="266688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rection of the force is along the line joining the two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4"/>
          <p:cNvGraphicFramePr/>
          <p:nvPr/>
        </p:nvGraphicFramePr>
        <p:xfrm>
          <a:off x="5486400" y="4267080"/>
          <a:ext cx="2319480" cy="99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6400" y="4267080"/>
                    <a:ext cx="2319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296-F728-4034-ABA1-5625DE8CF4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8"/>
          <a:stretch/>
        </p:blipFill>
        <p:spPr>
          <a:xfrm>
            <a:off x="380880" y="3962520"/>
            <a:ext cx="3886200" cy="206676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ABB2-DE8B-4C1B-B09F-8B3EB0E3B4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56386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ider two electric charges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electric force F between these two charges separated by a distance r is given by Coulomb’s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onstant k is called Coulomb’s constant and is giv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6019920" y="533520"/>
                <a:ext cx="20602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5486400" y="2057400"/>
                <a:ext cx="327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/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Rectangle 3"/>
          <p:cNvSpPr/>
          <p:nvPr/>
        </p:nvSpPr>
        <p:spPr>
          <a:xfrm>
            <a:off x="152280" y="312408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coulomb constant is also writte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the “electric permittivity of vacuu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A fundamental constant of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143000" y="3733920"/>
                <a:ext cx="495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where  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5791320" y="5410080"/>
                <a:ext cx="2814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orah Ali Al-moneef                                          king Saud un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5369-6ABF-4953-A769-BF28D2C048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60948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uble one of the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ce do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hange sign of one of the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ce change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hange sign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ce stay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uble the distance between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ce four times w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uble both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ce four times str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0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4:01:27Z</dcterms:created>
  <dc:creator>nalmoneef</dc:creator>
  <dc:description/>
  <dc:language>en-US</dc:language>
  <cp:lastModifiedBy>abeer alshammari</cp:lastModifiedBy>
  <dcterms:modified xsi:type="dcterms:W3CDTF">2016-08-12T22:27:32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