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B29-6C68-460C-A469-18ED698C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ACA-71C6-4FA5-A8A8-1F4DEB2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266-055F-46BE-B8C1-2493A490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2AD-5B2A-4E7B-B995-6DA8959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71A-12AC-43E3-BFE2-0F2B0FBC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97A-7588-41C3-8F36-E663203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96D-5C15-4D54-A95E-F254AE9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FA9-4230-4FB7-95DE-3441CDB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A81-82E6-49FA-9451-95BE8F8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B6C-77E3-4888-B8E4-C748668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5D8-9530-45D8-BAA0-711A659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805-4E09-4B41-8142-7FCD808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BBB-93F9-4168-8387-F62EA264D9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م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رتبط بهذا النظام بعلاقة مباشر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فسه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صندوق الأبيض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مليات واضح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صندوق الأسود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مليات مغق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 الصفات اللازمة لتعريف الشيء و تمييزه عن الأشياء الأخرى المشابه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لايؤثر عدم تواجدها على التعرف على شيء معين و تمييز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 تجزئة النظام إلى نظم اخرى فرعية متداخ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مدى قدرة النظام على التعلم و تعديل عملياته الداخلية استجابة للتغير في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مجموعة المتغيرات المتتابعة)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لمكون أو أكثر من النظام خلال فترة زمن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عين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يدرس النظام بشكل ع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زئة النظام إلى عناصر ثم دراس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43160"/>
              <a:ext cx="0" cy="18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ea typeface="Akhbar MT"/>
              </a:rPr>
              <a:t>(موردين- مستهلكين – منافسين – منظمات حكومية.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4T23:26:21Z</dcterms:modified>
  <cp:revision>116</cp:revision>
  <dc:subject/>
  <dc:title>ما هية النظم</dc:title>
</cp:coreProperties>
</file>