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740D-54B8-405B-95DB-4A22474F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B708-B8AD-4BDB-A3AA-CC5B99CE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814-89C4-4223-9035-1907E6BF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72A8-C440-493D-AB8C-5E20817F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CA9-5C0D-4177-A924-443AE630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04F4-CAD6-42DE-8CDA-AC61A2B5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51F-AECD-4983-BD98-C97EB6E5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370A-CB46-433D-BFFA-AAB7F3B0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2DDA-04CA-485C-A7ED-1023B2AE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878-661B-4046-AB57-52CC2D5B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783F-4E62-4AEA-BD80-923667A0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5F9-ACDC-474C-9F8E-1775FCC8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CFCE-AFAE-4A7E-AF30-04E6A2D79CB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ا هية النظ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الفصل الثان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4a452a"/>
                </a:solidFill>
                <a:latin typeface="Calibri"/>
                <a:ea typeface="Akhbar MT"/>
              </a:rPr>
              <a:t>3</a:t>
            </a:r>
            <a:r>
              <a:rPr b="1" lang="ar-SA" sz="6600" spc="-1" strike="noStrike">
                <a:solidFill>
                  <a:srgbClr val="4a452a"/>
                </a:solidFill>
                <a:latin typeface="Calibri"/>
                <a:cs typeface="Akhbar MT"/>
              </a:rPr>
              <a:t>ـ موارد النظام 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 rtl="1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وهي تمثل الموارد كل الوسائل والإمكانات المتاحة للنظام لإنجاز الأنشطة اللازمة بتحقيق أهداف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تنقسم النظم حسب حاجتها من الموارد إلى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نظم مغلقه : تتوفر كل الموارد التي يحتاجها النظم مرة واحدة و فترة زمنية معين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نظم مفتوحه: تسمح بتدفات إضافية من الموار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 rtl="1">
              <a:spcBef>
                <a:spcPts val="799"/>
              </a:spcBef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4a452a"/>
                </a:solidFill>
                <a:latin typeface="Calibri"/>
                <a:ea typeface="Akhbar MT"/>
              </a:rPr>
              <a:t>4</a:t>
            </a:r>
            <a:r>
              <a:rPr b="1" lang="ar-SA" sz="6600" spc="-1" strike="noStrike">
                <a:solidFill>
                  <a:srgbClr val="4a452a"/>
                </a:solidFill>
                <a:latin typeface="Calibri"/>
                <a:cs typeface="Akhbar MT"/>
              </a:rPr>
              <a:t>ـ مكونات النظام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تشمل مكونات النظام مكلا من مهمة النظام 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وظائفه وأنشطته التي يجب انجازها لتحقيق أهداف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4a452a"/>
                </a:solidFill>
                <a:latin typeface="Calibri"/>
                <a:ea typeface="Akhbar MT"/>
              </a:rPr>
              <a:t>5</a:t>
            </a:r>
            <a:r>
              <a:rPr b="1" lang="ar-SA" sz="6600" spc="-1" strike="noStrike">
                <a:solidFill>
                  <a:srgbClr val="4a452a"/>
                </a:solidFill>
                <a:latin typeface="Calibri"/>
                <a:cs typeface="Akhbar MT"/>
              </a:rPr>
              <a:t>ـ ضبط النظام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يرى (تشرشمان) أن أي نظام ينطبق على نشاطين أساسيين هما التخطيط و الرقا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تخطيط للعناصر الأساسية (الأهداف، البيئة، الموارد، و المكونات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رقابة و المتابع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7f7f7f"/>
                </a:solidFill>
                <a:latin typeface="Calibri"/>
                <a:cs typeface="Akhbar MT"/>
              </a:rPr>
              <a:t>تدعم عمليات الرقابة بالتغذية العكس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لامح </a:t>
            </a: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إن مدخلات النظام ما هي إلا مخرجات نظام آخ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إن حدود النظام لا تمثل عزل تام ل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إن حدود النظام غير ثابتة و قابلة للتغي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علومات المرتدة تدعم وظيفة الرقابة ب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وجود علاقات تربط مكونات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مدخل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دخلات التتابعية: هي مخرجات نظم أخرى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رتبط بهذا النظام بعلاقة مباشرة 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و تسمى بالمدخلات محددة المس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دخلات العشوائية: احتمال استخدام مخرجات نظام آخر كمدخلات للنظام بناءا على معيار اختي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دخلات عن طريق التغذية العكسية: إعادة استخدام مخرجات من النظام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فسه 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كمدخل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عمليات التحويل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عمل العمليات التحويلية على تحويل المدخلات إلى مخرج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يمكن أن تكون العمليات التحويلية في شكل آلة أو إنسان أو مه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عمليات يمكن أن تكو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الصندوق الأبيض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te Box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مليات واضح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صندوق الأسود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 bo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مليات مغق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مخرج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هي ناتج العمليات التحويل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مكن أن تكون بشكل منتجات أو خدمات أو معلومات أو طاقة أو غير ذل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رتبطة بالهد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تصنيف المخرج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خرجات تكون مدخلات لأنظمة أخ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خرجات يتم إعادة استخدامها في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مخرجات لا تستخدم داخل أي 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علاق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ربط مكونات النظام بعضه ببع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ربط النظام بالبيئ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صنف العلاق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العلاقات التكافلية: تربط المكونات لأداء وظائفها و يمكن أن تكون أحادية القطب أو ثنائ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العلاقات التعاونية (التفاعلية):  يكون مخرج العمل التعاوني أكبر من مجموع مخرج كل مكون على حد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العلاقات التحويطية (الازدواجية): يمكن أن تحل محل علاقات أخرى لتقليل احتمالات الفش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حدود 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حدود النظام قد تختلف حسب سبب الدراس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حد الحدود مكونات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أهدا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عناصر تعريف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طالب بمكونات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خصائ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خصائص تميزي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: الصفات اللازمة لتعريف الشيء و تمييزه عن الأشياء الأخرى المشابه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خصائص مصاحب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 لايؤثر عدم تواجدها على التعرف على شيء معين و تمييز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خصائص النظم (تابع للسابق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داخل النظم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: تجزئة النظام إلى نظم اخرى فرعية متداخل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نظم المتطابقة أو المتماث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تأقلم النظم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 مدى قدرة النظام على التعلم و تعديل عملياته الداخلية استجابة للتغير في البيئ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الخصائص السلوكية أو الوظيفية ل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هي عبارة الخصائص التتابعي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(مجموعة المتغيرات المتتابعة)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لمكون أو أكثر من النظام خلال فترة زمني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معين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Calibri"/>
              </a:rPr>
              <a:t>نهاية الفصل الثان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درج التعقد في النظام تتوقف على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عدد الأجزاء المكونة ل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خصائص هذه المكون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عدد التفاعلات المحتملة بين المكو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- درجة التنظيم التي يتميز بها النظام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ناهج دراسة 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نهج النظامي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s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يدرس النظام بشكل ع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نهج التحليلي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tical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جزئة النظام إلى عناصر ثم دراست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داخل دراسة النظ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23"/>
          <p:cNvGrpSpPr/>
          <p:nvPr/>
        </p:nvGrpSpPr>
        <p:grpSpPr>
          <a:xfrm>
            <a:off x="457200" y="1600200"/>
            <a:ext cx="8229240" cy="4525560"/>
            <a:chOff x="457200" y="1600200"/>
            <a:chExt cx="8229240" cy="4525560"/>
          </a:xfrm>
        </p:grpSpPr>
        <p:sp>
          <p:nvSpPr>
            <p:cNvPr id="51" name="Text Box 24"/>
            <p:cNvSpPr/>
            <p:nvPr/>
          </p:nvSpPr>
          <p:spPr>
            <a:xfrm>
              <a:off x="3566160" y="1600200"/>
              <a:ext cx="329184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منهج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25"/>
            <p:cNvSpPr/>
            <p:nvPr/>
          </p:nvSpPr>
          <p:spPr>
            <a:xfrm>
              <a:off x="5394960" y="252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النظرية العامة ل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26"/>
            <p:cNvSpPr/>
            <p:nvPr/>
          </p:nvSpPr>
          <p:spPr>
            <a:xfrm>
              <a:off x="4663440" y="396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بحوث العملي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27"/>
            <p:cNvSpPr/>
            <p:nvPr/>
          </p:nvSpPr>
          <p:spPr>
            <a:xfrm>
              <a:off x="1554480" y="252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مداخل خاصة ل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28"/>
            <p:cNvSpPr/>
            <p:nvPr/>
          </p:nvSpPr>
          <p:spPr>
            <a:xfrm>
              <a:off x="822960" y="3965760"/>
              <a:ext cx="3291480" cy="61704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ديناميكية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29"/>
            <p:cNvSpPr/>
            <p:nvPr/>
          </p:nvSpPr>
          <p:spPr>
            <a:xfrm>
              <a:off x="5760720" y="5303160"/>
              <a:ext cx="2194560" cy="82260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تحليل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31"/>
            <p:cNvSpPr/>
            <p:nvPr/>
          </p:nvSpPr>
          <p:spPr>
            <a:xfrm>
              <a:off x="457200" y="5303160"/>
              <a:ext cx="2194560" cy="822600"/>
            </a:xfrm>
            <a:prstGeom prst="rect">
              <a:avLst/>
            </a:prstGeom>
            <a:solidFill>
              <a:srgbClr val="f7bf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c6600"/>
                  </a:solidFill>
                  <a:latin typeface="Times New Roman"/>
                  <a:cs typeface="Simplified Arabic"/>
                </a:rPr>
                <a:t>هندسة النظ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32"/>
            <p:cNvSpPr/>
            <p:nvPr/>
          </p:nvSpPr>
          <p:spPr>
            <a:xfrm>
              <a:off x="5029200" y="2217240"/>
              <a:ext cx="0" cy="10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33"/>
            <p:cNvSpPr/>
            <p:nvPr/>
          </p:nvSpPr>
          <p:spPr>
            <a:xfrm flipH="1">
              <a:off x="3383280" y="2320200"/>
              <a:ext cx="329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34"/>
            <p:cNvSpPr/>
            <p:nvPr/>
          </p:nvSpPr>
          <p:spPr>
            <a:xfrm>
              <a:off x="6675120" y="2320200"/>
              <a:ext cx="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5"/>
            <p:cNvSpPr/>
            <p:nvPr/>
          </p:nvSpPr>
          <p:spPr>
            <a:xfrm>
              <a:off x="3383280" y="2320200"/>
              <a:ext cx="0" cy="20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36"/>
            <p:cNvSpPr/>
            <p:nvPr/>
          </p:nvSpPr>
          <p:spPr>
            <a:xfrm>
              <a:off x="4541400" y="3108960"/>
              <a:ext cx="2133720" cy="85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37"/>
            <p:cNvSpPr/>
            <p:nvPr/>
          </p:nvSpPr>
          <p:spPr>
            <a:xfrm flipH="1">
              <a:off x="2468880" y="3177360"/>
              <a:ext cx="1340640" cy="78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8"/>
            <p:cNvSpPr/>
            <p:nvPr/>
          </p:nvSpPr>
          <p:spPr>
            <a:xfrm>
              <a:off x="4297680" y="3143160"/>
              <a:ext cx="0" cy="185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9"/>
            <p:cNvSpPr/>
            <p:nvPr/>
          </p:nvSpPr>
          <p:spPr>
            <a:xfrm flipH="1">
              <a:off x="1371240" y="4994640"/>
              <a:ext cx="566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40"/>
            <p:cNvSpPr/>
            <p:nvPr/>
          </p:nvSpPr>
          <p:spPr>
            <a:xfrm>
              <a:off x="1371600" y="4994640"/>
              <a:ext cx="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41"/>
            <p:cNvSpPr/>
            <p:nvPr/>
          </p:nvSpPr>
          <p:spPr>
            <a:xfrm>
              <a:off x="7040880" y="4994640"/>
              <a:ext cx="0" cy="30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Calibri"/>
                <a:cs typeface="PT Bold Heading"/>
              </a:rPr>
              <a:t>تعريف النظام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مجموعة من المكونات التي ترتبط ببعضها البعض وبي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ن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Simplified Arabic"/>
              </a:rPr>
              <a:t>ها علاقات تفاعلية تمكنها من تكوين كل متكامل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 لإنجاز هدف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Simplified Arabic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مربع نص 1"/>
          <p:cNvSpPr/>
          <p:nvPr/>
        </p:nvSpPr>
        <p:spPr>
          <a:xfrm>
            <a:off x="1857240" y="642960"/>
            <a:ext cx="564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خصائص تعريف النظ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شكل بيضاوي 2"/>
          <p:cNvSpPr/>
          <p:nvPr/>
        </p:nvSpPr>
        <p:spPr>
          <a:xfrm>
            <a:off x="2000160" y="3214800"/>
            <a:ext cx="1785960" cy="121428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الضب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شكل بيضاوي 3"/>
          <p:cNvSpPr/>
          <p:nvPr/>
        </p:nvSpPr>
        <p:spPr>
          <a:xfrm>
            <a:off x="2786040" y="4786200"/>
            <a:ext cx="1714680" cy="12146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a452a"/>
                </a:solidFill>
                <a:latin typeface="Calibri"/>
                <a:cs typeface="Akhbar MT"/>
              </a:rPr>
              <a:t>المكو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شكل بيضاوي 4"/>
          <p:cNvSpPr/>
          <p:nvPr/>
        </p:nvSpPr>
        <p:spPr>
          <a:xfrm>
            <a:off x="4857840" y="4786200"/>
            <a:ext cx="1714320" cy="12146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الموا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شكل بيضاوي 5"/>
          <p:cNvSpPr/>
          <p:nvPr/>
        </p:nvSpPr>
        <p:spPr>
          <a:xfrm>
            <a:off x="5572080" y="3286080"/>
            <a:ext cx="1643040" cy="12146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a452a"/>
                </a:solidFill>
                <a:latin typeface="Calibri"/>
                <a:cs typeface="Akhbar MT"/>
              </a:rPr>
              <a:t>البيئ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شكل بيضاوي 6"/>
          <p:cNvSpPr/>
          <p:nvPr/>
        </p:nvSpPr>
        <p:spPr>
          <a:xfrm>
            <a:off x="3786120" y="2214720"/>
            <a:ext cx="1714680" cy="128556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a452a"/>
                </a:solidFill>
                <a:latin typeface="Calibri"/>
                <a:ea typeface="Akhbar MT"/>
              </a:rPr>
              <a:t>1</a:t>
            </a:r>
            <a:r>
              <a:rPr b="1" lang="ar-SA" sz="4000" spc="-1" strike="noStrike">
                <a:solidFill>
                  <a:srgbClr val="4a452a"/>
                </a:solidFill>
                <a:latin typeface="Calibri"/>
                <a:cs typeface="Akhbar MT"/>
              </a:rPr>
              <a:t>ـ أهداف النظام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ea typeface="Akhbar MT"/>
              </a:rPr>
              <a:t> المقصود بالأهداف تلك النهايات التي يتجه إليها النظ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هد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Calibri"/>
                <a:cs typeface="Akhbar MT"/>
              </a:rPr>
              <a:t>يعرف إجرائيا</a:t>
            </a:r>
            <a:r>
              <a:rPr b="1" lang="en-US" sz="2800" spc="-1" strike="noStrike">
                <a:solidFill>
                  <a:srgbClr val="7f7f7f"/>
                </a:solidFill>
                <a:latin typeface="Calibri"/>
                <a:ea typeface="Akhbar MT"/>
              </a:rPr>
              <a:t> </a:t>
            </a:r>
            <a:r>
              <a:rPr b="1" lang="ar-JO" sz="2800" spc="-1" strike="noStrike">
                <a:solidFill>
                  <a:srgbClr val="7f7f7f"/>
                </a:solidFill>
                <a:latin typeface="Calibri"/>
                <a:ea typeface="Akhbar MT"/>
              </a:rPr>
              <a:t> ”واضح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7f7f7f"/>
                </a:solidFill>
                <a:latin typeface="Calibri"/>
                <a:cs typeface="Akhbar MT"/>
              </a:rPr>
              <a:t>قابل للقيا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. بيئة النظا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ويقصد به كل ما هو خارج حدود النظام المعي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a452a"/>
                </a:solidFill>
                <a:latin typeface="Calibri"/>
                <a:cs typeface="Akhbar MT"/>
              </a:rPr>
              <a:t>ـ </a:t>
            </a:r>
            <a:r>
              <a:rPr b="1" lang="ar-SA" sz="3200" spc="-1" strike="noStrike">
                <a:solidFill>
                  <a:srgbClr val="7f7f7f"/>
                </a:solidFill>
                <a:latin typeface="Calibri"/>
                <a:cs typeface="Akhbar MT"/>
              </a:rPr>
              <a:t>الخصائص الأساسية التي تميز البيئ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Calibri"/>
                <a:cs typeface="Akhbar MT"/>
              </a:rPr>
              <a:t>أن البيئة تمثل كل ما يقع خارج نطاق تحكم النظ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Calibri"/>
                <a:ea typeface="Akhbar MT"/>
              </a:rPr>
              <a:t>(موردين- مستهلكين – منافسين – منظمات حكومية.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f7f7f"/>
                </a:solidFill>
                <a:latin typeface="Calibri"/>
                <a:cs typeface="Akhbar MT"/>
              </a:rPr>
              <a:t>أن البيئة يجب أن تشمل كل العناصر التي تحدد ولو جزئيا طريقة أداء النظا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08:27:40Z</dcterms:created>
  <dc:creator>Dr.Kharma</dc:creator>
  <dc:description/>
  <dc:language>en-US</dc:language>
  <cp:lastModifiedBy>mashael</cp:lastModifiedBy>
  <dcterms:modified xsi:type="dcterms:W3CDTF">2012-09-14T23:26:21Z</dcterms:modified>
  <cp:revision>116</cp:revision>
  <dc:subject/>
  <dc:title>ما هية النظم</dc:title>
</cp:coreProperties>
</file>