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FEFC-BBBE-4F78-956C-7565B78AE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ED89-E41B-4FAB-8CC9-4F46B91D0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D951D-9E5A-4806-A061-E25FDAF4A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89133-DF17-4B6A-9EB4-EC142917F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0BE5-7744-4212-BAD5-236FCD289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156BE-997C-4508-A091-258CCF55D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61E54-8FE0-4469-8097-1A4576AB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77123-08D2-4633-91C1-1E2D0679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E69C2-7EE1-4E58-A117-AC114BA7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CC850-267D-4339-892B-A1E16955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A7EF2-3E59-4F28-9549-524A3F0E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84197-C99B-41AB-A2AD-43A6ACA4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E4B54-C7DB-494B-9CF5-BF6150F7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0C9F9-B367-40F2-A44A-63AED3F7C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CA559-9A47-4D45-A750-0BF47A14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5018A-A82C-429B-8451-B82D06E9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E23AA-A696-4E0E-A460-F3F7A4F3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7AD71-3210-4EC5-848D-9232E6CD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B5C5A-D5B4-4285-B056-ACFF37CA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ABED6-307C-457B-8F22-762C7CA2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C721C-CA1C-4FC4-B96F-C4E63059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C8D21-2FA9-4C65-8FFA-30D98B8A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2361F-038D-4B18-B96A-07F349DB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0880F-DC4F-4B5B-998D-76DB1D27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532F2-CB0D-4F1F-BFC0-877AC28227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11408-7230-48AC-BCB9-E610BE75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5883F-D5B7-4D50-8EC2-786471C0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CC838-9C2A-453E-A42F-AC8FEF3D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E3B61-2600-4ECF-A00C-BFCE97BA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685D2-9F53-4327-BC9B-A248B808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EECAD-F057-4734-8ECB-19F9F33C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C7E2D-15C8-4AA5-84EB-805DBB00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03EF3-6F7D-422B-B6A3-41D4C6BD2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46630-FA4D-410A-A7A9-9DBC31599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23723-6EC8-42BC-B753-1C478F33E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AA14F-8BA2-410B-9F95-53AE245F5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EDB0F-8923-4D50-909B-8ADCFEBEC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27B7A-CF8E-4BF7-9682-25A67295F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A2CA-406B-49EF-947B-17A0D902E98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3AFD-FF70-4029-A1B2-DD60017D7B04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EDD3-F6C9-476E-A84D-AD543A8D76D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40A1-EDC2-4647-AE5C-EBBD0DE8218A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91E9-9ED7-43DA-AF30-ED8DC738934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Concepts in Enterprise Resource Planning</a:t>
            </a:r>
            <a:br>
              <a:rPr sz="4400"/>
            </a:br>
            <a:r>
              <a:rPr b="0" i="1" lang="en-US" sz="4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Third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Two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The Development of Enterprise Resource Planning System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’s Impetus to Adopt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57200" y="57150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-2  Information and material flows in a functional business 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Fig02-02"/>
          <p:cNvPicPr/>
          <p:nvPr/>
        </p:nvPicPr>
        <p:blipFill>
          <a:blip r:embed="rId1"/>
          <a:srcRect l="0" t="0" r="0" b="4686"/>
          <a:stretch/>
        </p:blipFill>
        <p:spPr>
          <a:xfrm>
            <a:off x="1752480" y="1892160"/>
            <a:ext cx="5677200" cy="35179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826A-1F0D-4C65-BF4D-2EC8DB59CCE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’s Impetus to Adopt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al model led to top-heavy and overstaffed organizations incapable of reacting quickly to chang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cess business mod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formation flows between the operating levels without top management’s involve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rther impetus for adopting ERP systems has come from compliance with the Sarbanes-Oxley Act of 200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quires companies to substantiate internal controls on all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F3D6-4EEB-4E69-91ED-40915BF6EDD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’s Impetus to Adopt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762120" y="5715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-3  Information and material flows in a process business 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5" descr="Fig02-03"/>
          <p:cNvPicPr/>
          <p:nvPr/>
        </p:nvPicPr>
        <p:blipFill>
          <a:blip r:embed="rId1"/>
          <a:srcRect l="0" t="0" r="0" b="4393"/>
          <a:stretch/>
        </p:blipFill>
        <p:spPr>
          <a:xfrm>
            <a:off x="1676520" y="1828800"/>
            <a:ext cx="5786280" cy="37339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C74F-C605-4996-8945-00BBC834FD1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RP Software Emerges: SAP and R/3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1972: five former IBM systems analysts in Mannheim, Germany formed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Systemanalyse und Programmentwicklung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(Systems Analysis and Program Development, or SAP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’s goal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velop a standard software product that could be configured to meet the needs of each compan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ata available in real ti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rs working on computer screens, rather than with voluminous printed outpu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5ADB-88EE-4CC9-900B-EF3E5B71504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Begins Developing Software Modul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uring their work for German chemical company ICI, Plattner and Hopp had developed the idea of modular software develop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oftware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module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dividual programs that can be purchased, installed, and run separately, but that all extract data from the common databa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1982: SAP released its R/2 mainframe ERP software packag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4698-48A3-4DA0-94D0-D8825FFABDA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Begins Developing Software Modu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1980s: sales grew rapidly; SAP extended its software’s capabilities and expanded into international marke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1988, SAP had established subsidiaries in numerous foreign countri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0B7F-2743-4415-9875-9D7C5318E97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R/3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1988: SAP began development of its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/3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ystem to take advantage of client-server technolog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1992: first version of SAP R/3 releas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R/3 system was designed using an open architecture approach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Open architectur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 third-party software companies encouraged to develop add-on software products that can be integrated with existing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175A-0DA3-470A-B663-AB023468E1A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te 1990s: Year 2000 (or Y2K) problem motivated many companies to move to ERP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2000, SAP AG had 22,000 employees in 50 countries and 10 million users at 30,000 installations around the worl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2000, SAP’s competition in the ERP market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ac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eopleSof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te 2004: Oracle succeeded in its bid to take over PeopleSof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CA4B-1789-47AB-B854-EBE09B776EE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eopleSof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unded by David Duffield, a former IBM employe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day, PeopleSoft, under Oracle, is a popular software choice for managing human resources and financial activities at universit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rac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P’s biggest competit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egan in 1977 as Software Development Laboratories (SDL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unders: Larry Ellison, Bob Miner, and Ed Oat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4481-3BF2-497C-BD94-84F11E27BF3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atest versions of ERP systems by SAP and other companies allow: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ll business areas to access the same databas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Elimination of redundant data and communications lag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Data to be entered once and then used throughout the organizatio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FB20-BBF4-4008-ACCC-8FF2EC7C701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D59E-79C7-4782-8A69-5A7AB2D354C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completing this chapter, you will be able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dentify the factors that led to the development of Enterprise Resource Planning (ERP)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scribe the distinguishing modular characteristics of ERP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scuss the pros and cons of implementing an ER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mmarize ongoing developments in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447920" y="571500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-4  Data flow within an integrated information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5" descr="Fig02-04"/>
          <p:cNvPicPr/>
          <p:nvPr/>
        </p:nvPicPr>
        <p:blipFill>
          <a:blip r:embed="rId1"/>
          <a:srcRect l="0" t="0" r="0" b="5238"/>
          <a:stretch/>
        </p:blipFill>
        <p:spPr>
          <a:xfrm>
            <a:off x="2286000" y="1676520"/>
            <a:ext cx="4487760" cy="39384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E6DB-FC5F-4795-88BF-EE348DAD4D7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urrent SAP ERP system: SAP ECC 6.0 (Enterprise Central Component 6.0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and Distribution (SD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terials Management (MM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Planning (PP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Quality Management (QM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lant Maintenance (PM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sset Management (AM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378B-A1C9-415D-A4E7-AD0A0E33041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urrent SAP ERP system: SAP ECC 6.0 (Enterprise Central Component 6.0) (cont’d.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uman Resources (HR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ject System (PS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nancial Accounting (FI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rolling (CO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orkflow (WF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6E8D-EB80-455B-8A55-0C715EFB9F5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457200" y="5715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-5 Modules within the SAP ERP integrated information systems environment (Courtesy of SAP A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6" descr="Fig02-05"/>
          <p:cNvPicPr/>
          <p:nvPr/>
        </p:nvPicPr>
        <p:blipFill>
          <a:blip r:embed="rId1"/>
          <a:srcRect l="0" t="0" r="0" b="7256"/>
          <a:stretch/>
        </p:blipFill>
        <p:spPr>
          <a:xfrm>
            <a:off x="1981080" y="1398600"/>
            <a:ext cx="4862520" cy="41641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FD00-A2F2-4B93-863B-A2D9DEABAB6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ERP Software Implementa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ot all companies that use SAP use all of the SAP ERP modu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ny’s level of data integration is highest when it uses one vendor to supply all of its modu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figuration options allow the company to customize the modules it has chosen to fit the company’s need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93DB-313E-4667-8A36-E3A1468C5A3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ERP Software Implement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lerance grou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pecific ranges that define transaction limi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P has defined the tolerance group methodology as its method for placing limits on an employe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figuration allows the company to further tailor tolerance group methodolog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57DF-5D0D-4686-A7DA-907297ABC03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ERP Software Implement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57200" y="57150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-6  A customization example: tolerance groups to set transaction lim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Picture 5" descr="Fig02-06"/>
          <p:cNvPicPr/>
          <p:nvPr/>
        </p:nvPicPr>
        <p:blipFill>
          <a:blip r:embed="rId1"/>
          <a:srcRect l="0" t="0" r="0" b="5029"/>
          <a:stretch/>
        </p:blipFill>
        <p:spPr>
          <a:xfrm>
            <a:off x="1903320" y="1752480"/>
            <a:ext cx="5411880" cy="38102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BB42-72B3-4E14-85C7-9B946F2C730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ERP Software Implement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eatures of SAP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rst software that could deliver real-time ERP integr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ability by large compan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igh co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utomation of data updat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pplicability of best practi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Best practices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: SAP’s software designers choose the best, most efficient ways in which business processes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should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be handle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3572-80F0-40C6-B42C-898C39CDB3D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RP for Midsized Compani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1998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st of the Fortune 500 companies had already installed ERP sys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RP vendors refocused their marketing efforts on midsized compan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All-in-On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ingle package containing specific, preconfigured bundles of SAP ERP tailored for particular industr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be installed more quickly than the standard ERP produ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FF76-F068-4B87-9E4A-F53713782FE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RP for Midsized Compani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pplication host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ird-party company provides the hardware and software suppor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kes ERP systems like SAP more appealing to midsized compan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and Oracle are facing competition from smaller providers of ERP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ECDA-F0A8-4064-8222-4EB42E8D402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8A1F-EBC9-4430-9D3F-38B446193D8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fficient, integrated information systems are very important for companies to be competitiv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 Enterprise Resource Planning (ERP) system can help integrate a company’s opera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ts as a company-wide computing environ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cludes a database that is shared by all functional area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deliver consistent data across all business functions in real ti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esponses of the Software to the Changing Marke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mid-1990s, many companies complained about the difficulty of implementing SAP R/3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responded by developing Accelerated SAP (ASAP) implementation methodolog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ases the implementation proc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continues to extend capabilities of SAP ERP with additional, separate products that run on separate hardware and extract data from the SAP ER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96D1-FAB5-42FA-A7EC-B18A5545055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hoosing Consultants and Vendor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e person cannot fully understand a single ER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efore choosing a software vendor, most companie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tudy their nee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ire an external team of software consultants to help choose the right software vendor(s) and the best approach to implementing ER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E110-0203-4356-B589-54C1E4AEAF0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Significance and Benefits of ERP Software and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ore efficient business processes that cost less than those in unintegrated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asier global integr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tegrates people and data while eliminating the need to update and repair many separate computer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llows management to manage operations, not just monitor th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an dramatically reduce costs and improve operational efficienc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5567-5DDB-455E-A453-5C9C1620788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Questions About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ow much does an ERP system cost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hould every business buy an ERP package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s ERP software inflexible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at return can a company expect from its ERP investment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ow long does it take to see a return on an ERP investment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y do some companies have more success with ERP than others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4F4D-3D5F-4940-A2AD-B1792F0F167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ow Much Does an ERP System Cost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ze of the ERP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rresponds to the size of the company it serv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ed for new hardware that is capable of running complex ERP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sultants’ and analysts’ f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ime for implement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uses disruption of busin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rain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sts both time and mone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D3FE-DAC7-44AE-9FE5-554FF6D9275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hould Every Business Buy an ERP Package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ome of a business’s operations, and some segments of its operations, might not be a good match with the constraints of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ometimes, a company is not ready for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implementation difficulties result when management does not fully understand its current business processes and cannot make implementation decisions in a timely mann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65C9-3B24-4757-8205-2E5526553AE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s ERP Software Inflexible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y people claim that ERP systems, especially the SAP ERP system, are rigi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ptions for customization offered by SAP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umerous configuration options that help businesses customize the software to fit their nee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grammers can write specific routines using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Advanced Business Application Programming (ABAP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ce an ERP system is in place, trying to reconfigure it while retaining data integrity is expensive and time-consum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6E92-BA4E-4955-B9E3-710B4A413D9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at Return Can a Company Expect from Its ERP Investment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eliminates redundant efforts and duplicated data; can generate savings in operations expen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 can help produce goods and services more quickl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ny that doesn’t implement an ERP system might be forced out of business by competitors that have an ER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moothly running ERP system can save a company’s personnel, suppliers, distributors, and customers much frustr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1225-32A9-4AB0-BC2E-3E53AD49587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at Return Can a Company Expect from Its ERP Investment?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st savings and increased revenues occur over many yea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fficult to put an exact dollar figure to the amount accrued from the original ERP invest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implementations take ti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ther business factors may be affecting the company’s costs and profitabil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fficult to isolate the impact of the ERP system alon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s provide real-time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mprove external customer commun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3C9A-6653-4679-B22D-01470A9D0AF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ow Long Does It Take to See a Return on an ERP Investment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eturn on investment (ROI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ssessment of an investment project’s valu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lculated by dividing the value of the project’s benefits by the project’s co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’s ROI can be difficult to calculat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eerstone Research stud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63 percent of companies that performed the calculation reported a positive ROI for ER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st companies felt that nonfinancial goals were the reason behind their ERP install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9623-E007-4DB6-89D0-FDBBDB28E0F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Evolution of Information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ilos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formation systems configuration used until recent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anies had unintegrated information systems that supported only the activities of individual business functional area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urrent ERP systems evolved as a result of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dvancement of hardware and software technolog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velopment of a vision of integrated information sys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engineering of companies to shift from a functional focus to a business process focu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6546-E03C-4413-B571-6AA8611A118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y Do Some Companies Have More Success with ERP Than Other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ually, a bumpy rollout and low ROI are caused by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peopl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blems and misguided expectations, not computer malfunc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ecutives blindly hoping that new software will cure fundamental business problems that are not curable by any softwa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ecutives and IT managers not taking enough time for a proper analysis during planning and implementation pha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ecutives and IT managers skimping on employee education and train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713E-D30E-4046-B4FB-748C299985F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y Do Some Companies Have More Success with ERP Than Others?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ually, a bumpy rollout and low ROI are caused by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peopl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blems and misguided expectations, not computer malfunctions (cont’d.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anies not placing ownership or accountability for the implementation project on the personnel who will operate the syst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nless a large project such as an ERP installation is promoted from the top down, it is doomed to fai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RP implementation brings a tremendous amount of change for us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64D1-7CBE-4721-A08C-F9559FD3058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y Do Some Companies Have More Success with ERP Than Others?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r many users, it takes years before they can take advantage of many of an ERP system’s capabiliti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ost ERP installations do generate retur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CB73-ABAE-4484-A3E7-6E70F9C4F46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Continuing Evolution of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nderstanding the social and business implications of new technologies is not eas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s have been in common use only since the mid-1990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vendors are working to solve adaptability problems that plague custom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mand for new ERP installations is still going stro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14D8-DAE8-40F3-A6F3-9C99D3F8629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dditional Capabilities within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les produ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Relationship Management (CRM) appl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crease the efficiency of the sales forc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ata analysi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Data mining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tatistical and logical analysis of large sets of transaction data, looking for patterns that can aid decision mak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ternet connectiv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eb servi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33D2-9AFD-4D9A-B324-9F745262ED2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Interne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ow, users often need to access that central database directly from the Interne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developers have been incorporating Web-based systems with their ERP produc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Electronic commerc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(or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e-commerc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duct business over the Intern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other activity that ERP systems can help manag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E0B9-3D8B-4E7F-9CE2-CA176943E4F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Interne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Web service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, or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ervice-oriented architecture (SOA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eb services: software that enables systems to exchange data without complicated software link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eb services make ERP systems easier to manage, especially when interfacing with other applications and the Web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hift from traditional ERP client-server system to service-oriented architecture is gaining momentu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F301-8142-4EE8-A6A1-715651AB738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peed and power of computing hardware increased exponentially, while cost and size decreas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arly client-server architecture provided the conceptual framework for multiple users sharing common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creasingly sophisticated software facilitated integration, especially in two areas: A/F and manufacturing resource plann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A5CD-5BAB-458C-8B6D-6009962A1EA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Growth of business size, complexity, and competition made business managers demand more efficient and competitive information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AG produced a complex, modular ERP program called R/3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uld integrate a company’s entire business by using a common database that linked all oper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R/3, now called SAP ERP, is modular software offering modules for Sales and Distribution, Materials Management, Production Planning, Quality Management, and other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1BD9-C210-47FF-A8E6-59DC19CE3E9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oftware is expensive to purchase and time-consuming to implement, and it requires significant employee training—but the payoffs can be spectacula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r some companies, ROI may not be immediate or even calcula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perts anticipate that ERP’s future focus will be on managing customer relationships, improving planning and decision making, and linking operations to the Internet and other applications through service-oriented architectu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6D36-3901-4FCE-AC32-AECF4D2B9EB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uter Hardware and Software Develop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uter hardware and software developed rapidly in the 1960s and 1970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rst practical business computers were the mainframe computers of the 1960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ver time, computers got faster, smaller, and cheap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oore’s Law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umber of transistors that could be built into a computer chip doubled every 18 month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2906-B750-4BAD-9312-F9102358D77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uter Hardware and Software Develop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dvancements in computer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1970s: relational database software develop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rovide businesses the ability to store, retrieve, and analyze large volumes of data 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1980s: spreadsheet software became popula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Managers can easily perform complex business analys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9427-1540-4221-9CC5-D1234CDD16D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arly Attempts to Share Resour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the mid-1980s, telecommunications developments allowed users to share data and peripherals on local network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Client-server architectu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the end of the 1980s, the hardware needed to support development of ERP systems was in pla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the mid-1980s,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atabase management system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BM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) required to manage development of complex ERP software exist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7B02-0CCC-4751-9C78-8476F0DD0FB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Manufacturing Roots of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ufacturing software developed during the 1960s and 1970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volved from simple inventory-tracking systems to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material requirements planning (MRP)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Electronic data interchange (EDI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rect computer-to-computer exchange of standard business docum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ed companies to handle the purchasing process electronical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B456-72C1-433E-85E2-609FF5F32B2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’s Impetus to Adopt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ard economic times of the late 1980s and early 1990s caused many companies to downsize and reorganiz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timulus to ERP develop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efficiencies caused by the functional model of business organiz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ilos of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imits the exchange of information between the lower operating leve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1810-D82E-4613-8E43-D2C2F56B61D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4-02-03T05:24:38Z</dcterms:modified>
  <cp:revision>574</cp:revision>
  <dc:subject/>
  <dc:title>Chapter 2</dc:title>
</cp:coreProperties>
</file>