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5203-D051-426D-945E-04288F003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A012-7FBA-4A6D-A56C-FB9DD2D53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F177-45FE-4131-AEAF-D1637DDB1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9D97-34DD-4671-9374-2F1F76973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312F-C5B9-4271-9981-8C313723C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E5052-F85B-468C-A22A-1A1B0A0BB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4E7FB-A637-48C2-A3D2-E09737C3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F7DB8-8C9E-4415-89B2-92675EFD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0C48D-FB1A-46A2-9EF4-D01FC005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22F7E-508F-460C-BC78-B2D3D85F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CB903-1245-44F2-9BFD-14F09E85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13CE9-7A24-4830-ACC2-3A673EF0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BDA70-7B8F-4EC9-B5E9-A13850FB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D620-BEDE-4E8D-A713-DFD358D50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35639-7014-485A-A364-997EBD53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D6DE4-C5B7-4996-9E62-CC51348A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A9158-CA07-4CB2-9FE1-D3FF6266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FE444-5040-458A-86E3-2925497E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9F62C-85D6-4490-AED1-2C7A5D4E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F9A38-6A44-47F1-9AE0-4C5B207E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A38F8-632A-4A19-9F1C-B65109DB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07B5F-9E23-4B07-B687-69210BC2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6F59A-1B8A-4AC9-A927-8962AFE3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C317B-2EAC-4119-B8F5-D69CC990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53493-C7BD-4259-A1C1-BB2F0195BD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26788-A9C5-42C3-8458-EF3346CF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5C237-1DC4-4E7F-8D65-80F13650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E2EC2-7205-4E3E-99CA-A89632FA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33974-358E-4CA3-ACB9-F8CB8D5E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E1156-C3EE-4A68-B539-D310C9C7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8B57E-D48B-485D-B2EE-25E30D2C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DC3A4-4B7B-4B3D-B1A4-39035EED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D830-3922-4B70-8DFA-1DBF214CC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69BDB-E223-4BAB-B060-676AEBEDE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97BD7-2214-48C5-8075-54ECE0AAB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4856-A992-49C5-9882-5B0CFED1F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D4395-8228-44DC-9F5E-14391537C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BA8E-C758-495F-8865-D4A525F01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D05B-8D63-440E-85DF-EEAC2A8E50E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687C-976D-41A7-8BD0-8D12AC83EBBA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FE76-0936-4A2C-A151-9B24451C3CA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2876-6ED3-45B6-A109-216F24E6C364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130C-990F-491E-86C2-A6181B9EF0E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Third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Two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The Development of Enterprise Resource Planning System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’s Impetus to Adopt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57200" y="571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2  Information and material flows in a functional business 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Fig02-02"/>
          <p:cNvPicPr/>
          <p:nvPr/>
        </p:nvPicPr>
        <p:blipFill>
          <a:blip r:embed="rId1"/>
          <a:srcRect l="0" t="0" r="0" b="4686"/>
          <a:stretch/>
        </p:blipFill>
        <p:spPr>
          <a:xfrm>
            <a:off x="1752480" y="1892160"/>
            <a:ext cx="5677200" cy="35179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3CE2-2F43-4D7E-9E9E-0B846A0C79D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’s Impetus to Adopt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al model led to top-heavy and overstaffed organizations incapable of reacting quickly to chan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cess business mod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formation flows between the operating levels without top management’s involve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rther impetus for adopting ERP systems has come from compliance with the Sarbanes-Oxley Act of 200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quires companies to substantiate internal controls on all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3983-CE4E-4598-BCEC-8A251504689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’s Impetus to Adopt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762120" y="571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3  Information and material flows in a process business 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5" descr="Fig02-03"/>
          <p:cNvPicPr/>
          <p:nvPr/>
        </p:nvPicPr>
        <p:blipFill>
          <a:blip r:embed="rId1"/>
          <a:srcRect l="0" t="0" r="0" b="4393"/>
          <a:stretch/>
        </p:blipFill>
        <p:spPr>
          <a:xfrm>
            <a:off x="1676520" y="1828800"/>
            <a:ext cx="5786280" cy="37339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1BFB-62FE-4075-B533-712201E334B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Software Emerges: SAP and R/3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72: five former IBM systems analysts in Mannheim, Germany formed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Systemanalyse und Programmentwicklung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(Systems Analysis and Program Development, or SAP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’s goal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 a standard software product that could be configured to meet the needs of each compan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 available in real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rs working on computer screens, rather than with voluminous printed outpu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B26A-31F4-46B8-9008-F84DCC67DA4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Begins Developing Software Modu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uring their work for German chemical company ICI, Plattner and Hopp had developed the idea of modular software develop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ftwar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module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dividual programs that can be purchased, installed, and run separately, but that all extract data from the common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82: SAP released its R/2 mainframe ERP software packa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72A9-873F-4814-93EB-A005ACF5FEF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Begins Developing Software Modu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80s: sales grew rapidly; SAP extended its software’s capabilities and expanded into international marke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1988, SAP had established subsidiaries in numerous foreign countr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D6CC-1D54-421F-B8A9-3A5472882E4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R/3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88: SAP began development of its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/3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ystem to take advantage of client-server technolog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92: first version of SAP R/3 releas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R/3 system was designed using an open architecture approach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Open architectur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third-party software companies encouraged to develop add-on software products that can be integrated with existing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9E7A-0FA2-41B3-8A7E-AE1348817F4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te 1990s: Year 2000 (or Y2K) problem motivated many companies to move to ERP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2000, SAP AG had 22,000 employees in 50 countries and 10 million users at 30,000 installations around the worl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2000, SAP’s competition in the ERP market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ac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opleSof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te 2004: Oracle succeeded in its bid to take over PeopleSof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F993-7EDE-43A9-8E10-ABBD0C947A1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opleSof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unded by David Duffield, a former IBM employe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day, PeopleSoft, under Oracle, is a popular software choice for managing human resources and financial activities at universit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rac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P’s biggest competi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egan in 1977 as Software Development Laboratories (SDL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unders: Larry Ellison, Bob Miner, and Ed Oa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C7F7-89CD-4A43-B15A-F094E0CE53E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atest versions of ERP systems by SAP and other companies allow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ll business areas to access the same databas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limination of redundant data and communications lag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ata to be entered once and then used throughout the organiza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1362-3D5C-4BB3-95B1-E126312B8A9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7D45-1915-40DF-9CD9-1D52298D47E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dentify the factors that led to the development of Enterprise Resource Planning (ERP)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scribe the distinguishing modular characteristics of ERP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scuss the pros and cons of implementing an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mmarize ongoing developments in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447920" y="571500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4  Data flow within an integrated information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Fig02-04"/>
          <p:cNvPicPr/>
          <p:nvPr/>
        </p:nvPicPr>
        <p:blipFill>
          <a:blip r:embed="rId1"/>
          <a:srcRect l="0" t="0" r="0" b="5238"/>
          <a:stretch/>
        </p:blipFill>
        <p:spPr>
          <a:xfrm>
            <a:off x="2286000" y="1676520"/>
            <a:ext cx="4487760" cy="39384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70E7-169C-43DA-B5C5-EFBC9E617E6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rrent SAP ERP system: SAP ECC 6.0 (Enterprise Central Component 6.0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and Distribution (SD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terials Management (MM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Planning (PP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Quality Management (QM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lant Maintenance (PM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sset Management (AM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6FF1-C79A-4041-9B52-5CFC2676F0C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rrent SAP ERP system: SAP ECC 6.0 (Enterprise Central Component 6.0) (cont’d.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uman Resources (HR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ject System (PS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ancial Accounting (FI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rolling (CO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orkflow (WF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7BA8-FB83-4D6A-870B-E6EE7C41EA5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457200" y="5715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5 Modules within the SAP ERP integrated information systems environment (Courtesy of SAP A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6" descr="Fig02-05"/>
          <p:cNvPicPr/>
          <p:nvPr/>
        </p:nvPicPr>
        <p:blipFill>
          <a:blip r:embed="rId1"/>
          <a:srcRect l="0" t="0" r="0" b="7256"/>
          <a:stretch/>
        </p:blipFill>
        <p:spPr>
          <a:xfrm>
            <a:off x="1981080" y="1398600"/>
            <a:ext cx="4862520" cy="41641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6958-B9B9-4CE6-9BC0-16EFDCADAFB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ERP Software Implement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ot all companies that use SAP use all of the SAP ERP modu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y’s level of data integration is highest when it uses one vendor to supply all of its modu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ation options allow the company to customize the modules it has chosen to fit the company’s need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5746-7C1C-4C3E-96DE-CDF81ED365E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ERP Software Implement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lerance grou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pecific ranges that define transaction limi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P has defined the tolerance group methodology as its method for placing limits on an employe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figuration allows the company to further tailor tolerance group methodolog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7387-F56B-44D9-820A-FD92F42CEDD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ERP Software Implement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57200" y="571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6  A customization example: tolerance groups to set transaction lim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5" descr="Fig02-06"/>
          <p:cNvPicPr/>
          <p:nvPr/>
        </p:nvPicPr>
        <p:blipFill>
          <a:blip r:embed="rId1"/>
          <a:srcRect l="0" t="0" r="0" b="5029"/>
          <a:stretch/>
        </p:blipFill>
        <p:spPr>
          <a:xfrm>
            <a:off x="1903320" y="1752480"/>
            <a:ext cx="5411880" cy="38102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227E-AD15-4CEE-8119-8D78E8DFE7D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ERP Software Implement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eatures of SAP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rst software that could deliver real-time ERP integ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ability by large compan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gh co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utomation of data upda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pplicability of best pract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Best practices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: SAP’s software designers choose the best, most efficient ways in which business processes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should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be handl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2280-4BAA-4380-9686-7A5A71F02C9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for Midsized Compan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199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st of the Fortune 500 companies had already installed ERP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vendors refocused their marketing efforts on midsized compan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All-in-On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ingle package containing specific, preconfigured bundles of SAP ERP tailored for particular industr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be installed more quickly than the standard ERP produ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3FD9-19CE-4677-B43C-4DB7E19AB67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for Midsized Compani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pplication hos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ird-party company provides the hardware and software suppor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es ERP systems like SAP more appealing to midsized compan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and Oracle are facing competition from smaller providers of ERP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5C49-57D5-448B-8DFF-9B23FA35BB7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A6C5-7A73-40AB-8E3D-BACB0E5B357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fficient, integrated information systems are very important for companies to be competitiv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 Enterprise Resource Planning (ERP) system can help integrate a company’s opera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ts as a company-wide computing environ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cludes a database that is shared by all functional are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deliver consistent data across all business functions in real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sponses of the Software to the Changing Marke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mid-1990s, many companies complained about the difficulty of implementing SAP R/3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responded by developing Accelerated SAP (ASAP) implementation methodolog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ses the implementation pro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continues to extend capabilities of SAP ERP with additional, separate products that run on separate hardware and extract data from the SAP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8354-107F-4C44-84C7-B2F48077A84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hoosing Consultants and Vendor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e person cannot fully understand a single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fore choosing a software vendor, most compani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udy their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re an external team of software consultants to help choose the right software vendor(s) and the best approach to implementing ER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A741-9F1E-42F3-B906-08FC90A81D9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ignificance and Benefits of ERP Software and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re efficient business processes that cost less than those in unintegrated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sier global integ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tegrates people and data while eliminating the need to update and repair many separate computer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llows management to manage operations, not just monitor th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n dramatically reduce costs and improve operational efficienc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7F04-BD40-4B4A-BFBA-B45E4DDB239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Questions About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ow much does an ERP system cost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ould every business buy an ERP package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s ERP software inflexible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at return can a company expect from its ERP investment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ow long does it take to see a return on an ERP investment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y do some companies have more success with ERP than others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ECE8-205A-4194-BBC8-EF97813FF03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w Much Does an ERP System Cost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ze of the ERP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rresponds to the size of the company it serv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 for new hardware that is capable of running complex ERP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sultants’ and analysts’ f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ime for implement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uses disruption of busin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rain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sts both time and mone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A616-B091-4546-9C74-166998A6034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hould Every Business Buy an ERP Package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me of a business’s operations, and some segments of its operations, might not be a good match with the constraints of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metimes, a company is not ready for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implementation difficulties result when management does not fully understand its current business processes and cannot make implementation decisions in a timely mann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8609-000E-4914-A959-65FE8604E14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s ERP Software Inflexible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y people claim that ERP systems, especially the SAP ERP system, are rigi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ptions for customization offered by SAP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umerous configuration options that help businesses customize the software to fit their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grammers can write specific routines using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Advanced Business Application Programming (ABAP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ce an ERP system is in place, trying to reconfigure it while retaining data integrity is expensive and time-consum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7290-7DBC-4922-A5CF-CF5E253DAFA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Return Can a Company Expect from Its ERP Investment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eliminates redundant efforts and duplicated data; can generate savings in operations expen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 can help produce goods and services more quickl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y that doesn’t implement an ERP system might be forced out of business by competitors that have an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moothly running ERP system can save a company’s personnel, suppliers, distributors, and customers much frust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DCC0-7444-44ED-B070-F35FFF3331D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Return Can a Company Expect from Its ERP Investment?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st savings and increased revenues occur over many yea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fficult to put an exact dollar figure to the amount accrued from the original ERP invest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implementations take ti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ther business factors may be affecting the company’s costs and profitabil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fficult to isolate the impact of the ERP system alon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s provide real-tim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mprove external customer commun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EF93-5BD4-497A-9122-4F82CEE4D12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w Long Does It Take to See a Return on an ERP Investment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turn on investment (ROI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ssessment of an investment project’s valu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lculated by dividing the value of the project’s benefits by the project’s co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’s ROI can be difficult to calcula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erstone Research stud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63 percent of companies that performed the calculation reported a positive ROI for ER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st companies felt that nonfinancial goals were the reason behind their ERP install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DEFC-F48E-4062-9E66-01F4A73EBCD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Evolution of Information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ilos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formation systems configuration used until recent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nies had unintegrated information systems that supported only the activities of individual business functional are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rrent ERP systems evolved as a result of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dvancement of hardware and software technolog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ment of a vision of integrated information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engineering of companies to shift from a functional focus to a business process focu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587C-5505-4B9A-914C-E0330734BED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y Do Some Companies Have More Success with ERP Than Other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ually, a bumpy rollout and low ROI are caused by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peopl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blems and misguided expectations, not computer malfun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ecutives blindly hoping that new software will cure fundamental business problems that are not curable by any softwa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ecutives and IT managers not taking enough time for a proper analysis during planning and implementation ph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ecutives and IT managers skimping on employee education and trai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5207-85C0-4F61-A1D3-245F648F79E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y Do Some Companies Have More Success with ERP Than Others?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ually, a bumpy rollout and low ROI are caused by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peopl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blems and misguided expectations, not computer malfunctions (cont’d.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nies not placing ownership or accountability for the implementation project on the personnel who will operate the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nless a large project such as an ERP installation is promoted from the top down, it is doomed to fai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implementation brings a tremendous amount of change for us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BE84-1A14-4173-B95D-4C8325CDFB2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y Do Some Companies Have More Success with ERP Than Others?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r many users, it takes years before they can take advantage of many of an ERP system’s capabilit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st ERP installations do generate retur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C09B-48FF-4A7D-9876-7103CD98E36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Continuing Evolution of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derstanding the social and business implications of new technologies is not eas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s have been in common use only since the mid-1990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vendors are working to solve adaptability problems that plague custo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mand for new ERP installations is still going stro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24E7-6695-4960-8ACB-592A4886F37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dditional Capabilities within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les produ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Relationship Management (CRM) appl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crease the efficiency of the sales forc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ata analysi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Data mining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atistical and logical analysis of large sets of transaction data, looking for patterns that can aid decision mak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ternet connectiv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eb serv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7E2C-E6D4-4814-AC60-EDB47C3F175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Interne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ow, users often need to access that central database directly from the Intern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developers have been incorporating Web-based systems with their ERP produc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lectronic commerc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(or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-commerc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duct business over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other activity that ERP systems can help manag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F2A7-D3D7-4256-912B-BE98EFE344E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Interne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Web service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, or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ervice-oriented architecture (SOA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eb services: software that enables systems to exchange data without complicated software lin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eb services make ERP systems easier to manage, especially when interfacing with other applications and the Web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hift from traditional ERP client-server system to service-oriented architecture is gaining momentu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6463-43CB-4B13-A048-A342BE7BDDD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peed and power of computing hardware increased exponentially, while cost and size decreas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rly client-server architecture provided the conceptual framework for multiple users sharing common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creasingly sophisticated software facilitated integration, especially in two areas: A/F and manufacturing resource plann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08BC-CA8D-4539-B1A9-75C738857B7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rowth of business size, complexity, and competition made business managers demand more efficient and competitive information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AG produced a complex, modular ERP program called R/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uld integrate a company’s entire business by using a common database that linked all oper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R/3, now called SAP ERP, is modular software offering modules for Sales and Distribution, Materials Management, Production Planning, Quality Management, and other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EF02-A23A-4E51-BAE0-DA999193D00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oftware is expensive to purchase and time-consuming to implement, and it requires significant employee training—but the payoffs can be spectacula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 some companies, ROI may not be immediate or even calcul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perts anticipate that ERP’s future focus will be on managing customer relationships, improving planning and decision making, and linking operations to the Internet and other applications through service-oriented architectu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0B3D-5514-4AA4-82C0-96B4380C9BD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uter Hardware and Software Develop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uter hardware and software developed rapidly in the 1960s and 1970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rst practical business computers were the mainframe computers of the 1960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ver time, computers got faster, smaller, and cheap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ore’s Law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umber of transistors that could be built into a computer chip doubled every 18 month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EEE1-3D17-4218-9BF7-8C1889722DA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uter Hardware and Software Develop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dvancements in computer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1970s: relational database software develop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vide businesses the ability to store, retrieve, and analyze large volumes of data 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1980s: spreadsheet software became popula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Managers can easily perform complex business analy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9BE0-50B5-40F8-8875-AB3710803F0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arly Attempts to Share Resour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the mid-1980s, telecommunications developments allowed users to share data and peripherals on local networ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Client-server architectu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the end of the 1980s, the hardware needed to support development of ERP systems was in pla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the mid-1980s,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atabase management system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BM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) required to manage development of complex ERP software exist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DED1-99C5-4C7C-8280-CC0BF7E0F8D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Manufacturing Roots of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ufacturing software developed during the 1960s and 1970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volved from simple inventory-tracking systems to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material requirements planning (MRP)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lectronic data interchange (EDI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rect computer-to-computer exchange of standard business docum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ed companies to handle the purchasing process electronical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8203-E1DD-49BC-8F70-72DC498B58D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’s Impetus to Adopt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ard economic times of the late 1980s and early 1990s caused many companies to downsize and reorgani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imulus to ERP develop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efficiencies caused by the functional model of business organiz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ilos of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imits the exchange of information between the lower operating leve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A931-6F71-46B4-A8FE-D2DABD01B45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4-02-03T05:24:38Z</dcterms:modified>
  <cp:revision>574</cp:revision>
  <dc:subject/>
  <dc:title>Chapter 2</dc:title>
</cp:coreProperties>
</file>