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1.jpeg" ContentType="image/jpeg"/>
  <Override PartName="/ppt/media/image9.pct" ContentType="image/x-pict"/>
  <Override PartName="/ppt/media/image13.pct" ContentType="image/x-pict"/>
  <Override PartName="/ppt/media/image17.png" ContentType="image/png"/>
  <Override PartName="/ppt/media/image14.pct" ContentType="image/x-pict"/>
  <Override PartName="/ppt/media/image16.png" ContentType="image/png"/>
  <Override PartName="/ppt/media/image8.pct" ContentType="image/x-pict"/>
  <Override PartName="/ppt/media/image15.pct" ContentType="image/x-pict"/>
  <Override PartName="/ppt/media/image1.jpeg" ContentType="image/jpeg"/>
  <Override PartName="/ppt/media/image2.jpeg" ContentType="image/jpeg"/>
  <Override PartName="/ppt/media/image3.jpeg" ContentType="image/jpeg"/>
  <Override PartName="/ppt/media/image4.pct" ContentType="image/x-pict"/>
  <Override PartName="/ppt/media/image5.jpeg" ContentType="image/jpeg"/>
  <Override PartName="/ppt/media/image7.pct" ContentType="image/x-pict"/>
  <Override PartName="/ppt/media/image10.jpeg" ContentType="image/jpeg"/>
  <Override PartName="/ppt/media/image6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7945E-17B7-450D-A404-F27423C535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04640" y="0"/>
            <a:ext cx="820584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7704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273920"/>
            <a:ext cx="817704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38CA1-7DF6-4E98-9871-40C5C436D7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4640" y="0"/>
            <a:ext cx="820584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99024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240" y="1447920"/>
            <a:ext cx="399024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399024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47240" y="4273920"/>
            <a:ext cx="399024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5798E-BA4E-4A2A-90B0-94B02D08C3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04640" y="0"/>
            <a:ext cx="820584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3268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22000" y="1447920"/>
            <a:ext cx="263268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86440" y="1447920"/>
            <a:ext cx="263268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273920"/>
            <a:ext cx="263268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22000" y="4273920"/>
            <a:ext cx="263268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86440" y="4273920"/>
            <a:ext cx="263268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F4A76-CE40-414B-9EDC-6E53D5BCA5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691CD-4BE2-4EE1-9F1D-C437A08CADD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04640" y="0"/>
            <a:ext cx="820584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17704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1861B-DF2B-44D2-8CC8-31F750E52FD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04640" y="0"/>
            <a:ext cx="820584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7704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77467-2E42-4DCE-8F7C-4A1E5F00131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04640" y="0"/>
            <a:ext cx="820584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99024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7240" y="1447920"/>
            <a:ext cx="399024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692EA-874D-4466-A6FD-B257CF41BC0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4640" y="0"/>
            <a:ext cx="820584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DB642-C687-438D-8E3F-2ED2420753F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04640" y="0"/>
            <a:ext cx="82058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CF261-BA9E-44C7-85AD-BB95D768DDF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4640" y="0"/>
            <a:ext cx="820584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99024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240" y="1447920"/>
            <a:ext cx="399024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399024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4E8DA-E191-49D1-AAC9-FBD2DFE767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04640" y="0"/>
            <a:ext cx="820584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17704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D9FC1-D78E-48C1-8452-D955DCEB2E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4640" y="0"/>
            <a:ext cx="820584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99024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240" y="1447920"/>
            <a:ext cx="399024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47240" y="4273920"/>
            <a:ext cx="399024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7CD2A-DC54-4A1A-8CBE-952CBF60BF9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4640" y="0"/>
            <a:ext cx="820584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99024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7240" y="1447920"/>
            <a:ext cx="399024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817704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99FBC-31B3-4988-B9C1-84C239D2381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4640" y="0"/>
            <a:ext cx="820584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7704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273920"/>
            <a:ext cx="817704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BDE21-50B1-46FE-9B3E-7432238014C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04640" y="0"/>
            <a:ext cx="820584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99024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240" y="1447920"/>
            <a:ext cx="399024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399024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47240" y="4273920"/>
            <a:ext cx="399024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7D0FB-FD9F-41B8-8358-93A4AF4825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4640" y="0"/>
            <a:ext cx="820584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3268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22000" y="1447920"/>
            <a:ext cx="263268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86440" y="1447920"/>
            <a:ext cx="263268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273920"/>
            <a:ext cx="263268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22000" y="4273920"/>
            <a:ext cx="263268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86440" y="4273920"/>
            <a:ext cx="263268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BF506-8DBC-44C6-A27D-A0E7D639B9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4640" y="0"/>
            <a:ext cx="820584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7704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3A029-BF27-420F-B0DD-4C0709E507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4640" y="0"/>
            <a:ext cx="820584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99024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47240" y="1447920"/>
            <a:ext cx="399024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977CB-291C-4863-9CED-502D244F65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4640" y="0"/>
            <a:ext cx="820584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2B4ED-98A1-4EA2-83F9-37A6CC05FB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04640" y="0"/>
            <a:ext cx="82058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209A3-8C41-41AA-870F-3B4F5F5FAD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4640" y="0"/>
            <a:ext cx="820584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99024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7240" y="1447920"/>
            <a:ext cx="399024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399024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D6E8D-181B-4A84-8834-81C5F56276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4640" y="0"/>
            <a:ext cx="820584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99024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240" y="1447920"/>
            <a:ext cx="399024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47240" y="4273920"/>
            <a:ext cx="399024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9A571-49A8-40FA-80DE-FEAC9FDB98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04640" y="0"/>
            <a:ext cx="820584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99024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240" y="1447920"/>
            <a:ext cx="399024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817704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3B576-3BAA-490E-A327-7A5F73BF6C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04560" y="0"/>
            <a:ext cx="6527880" cy="182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7362360" y="6438600"/>
            <a:ext cx="311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C1898-CC4D-4D66-B7C2-F1D078E34970}" type="slidenum">
              <a:rPr b="0" lang="en-US" sz="1400" spc="-1" strike="noStrike">
                <a:solidFill>
                  <a:srgbClr val="5e574e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60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lvl="1" marL="4968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2" marL="954000" algn="ctr">
              <a:spcBef>
                <a:spcPts val="400"/>
              </a:spcBef>
              <a:buClr>
                <a:srgbClr val="6633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3" marL="1411200" algn="ctr">
              <a:spcBef>
                <a:spcPts val="400"/>
              </a:spcBef>
              <a:buClr>
                <a:srgbClr val="6633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4" marL="1868400" algn="ctr">
              <a:spcBef>
                <a:spcPts val="400"/>
              </a:spcBef>
              <a:buClr>
                <a:srgbClr val="6633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5" marL="1868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6" marL="1868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04640" y="0"/>
            <a:ext cx="820584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17704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7970400" y="6381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A6553-0E19-49E6-ABE8-8D0B8F94C637}" type="slidenum">
              <a:rPr b="0" lang="en-US" sz="1400" spc="-1" strike="noStrike">
                <a:solidFill>
                  <a:srgbClr val="5e574e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57200" y="2590920"/>
            <a:ext cx="8153280" cy="1440"/>
          </a:xfrm>
          <a:prstGeom prst="line">
            <a:avLst/>
          </a:prstGeom>
          <a:ln w="12708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20760" y="3467160"/>
            <a:ext cx="652788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3300"/>
                </a:solidFill>
                <a:latin typeface="Arial Italic"/>
                <a:ea typeface="Arial Italic"/>
              </a:rPr>
              <a:t>From</a:t>
            </a:r>
            <a:r>
              <a:rPr b="0" lang="en-US" sz="2200" spc="-1" strike="noStrike">
                <a:solidFill>
                  <a:srgbClr val="663300"/>
                </a:solidFill>
                <a:latin typeface="Arial Black"/>
                <a:ea typeface="Arial Black"/>
              </a:rPr>
              <a:t> Coulouris, Dollimore, Kindberg and Blair</a:t>
            </a:r>
            <a:br>
              <a:rPr sz="2200"/>
            </a:br>
            <a:r>
              <a:rPr b="0" lang="en-US" sz="2600" spc="-1" strike="noStrike">
                <a:solidFill>
                  <a:srgbClr val="663300"/>
                </a:solidFill>
                <a:latin typeface="Arial Black"/>
                <a:ea typeface="Arial Black"/>
              </a:rPr>
              <a:t>Distributed Systems: </a:t>
            </a:r>
            <a:br>
              <a:rPr sz="2600"/>
            </a:br>
            <a:r>
              <a:rPr b="0" lang="en-US" sz="2600" spc="-1" strike="noStrike">
                <a:solidFill>
                  <a:srgbClr val="663300"/>
                </a:solidFill>
                <a:latin typeface="Arial Black"/>
                <a:ea typeface="Arial Black"/>
              </a:rPr>
              <a:t>	</a:t>
            </a:r>
            <a:r>
              <a:rPr b="0" lang="en-US" sz="2600" spc="-1" strike="noStrike">
                <a:solidFill>
                  <a:srgbClr val="663300"/>
                </a:solidFill>
                <a:latin typeface="Arial Black"/>
                <a:ea typeface="Arial Black"/>
              </a:rPr>
              <a:t>	</a:t>
            </a:r>
            <a:r>
              <a:rPr b="0" lang="en-US" sz="2600" spc="-1" strike="noStrike">
                <a:solidFill>
                  <a:srgbClr val="663300"/>
                </a:solidFill>
                <a:latin typeface="Arial Black"/>
                <a:ea typeface="Arial Black"/>
              </a:rPr>
              <a:t>Concepts and Desig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  <a:ea typeface="Arial"/>
              </a:rPr>
              <a:t>Edition 5, © Addison-Wesley 20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46120" y="3606840"/>
            <a:ext cx="1295280" cy="16002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04560" y="0"/>
            <a:ext cx="652788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Slides for Chapter 2: 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Architectural Models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982880" y="6330960"/>
            <a:ext cx="5562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ctor’s Guide for  Coulouris, Dollimore, Kindberg and Blair,  Distributed Systems: Concepts and Design   Edn. 5  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 Pearson Education 2012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1143000"/>
            <a:ext cx="8153280" cy="1440"/>
          </a:xfrm>
          <a:prstGeom prst="line">
            <a:avLst/>
          </a:prstGeom>
          <a:ln w="12708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4640" y="0"/>
            <a:ext cx="820584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2.8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ヒラギノ角ゴ ProN W3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wo-tier and three-tier architecture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549440" y="1270080"/>
            <a:ext cx="5149800" cy="4863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D4857-E59C-41D8-A097-987281A579F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982880" y="6330960"/>
            <a:ext cx="5562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ctor’s Guide for  Coulouris, Dollimore, Kindberg and Blair,  Distributed Systems: Concepts and Design   Edn. 5  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 Pearson Education 2012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1143000"/>
            <a:ext cx="8153280" cy="1440"/>
          </a:xfrm>
          <a:prstGeom prst="line">
            <a:avLst/>
          </a:prstGeom>
          <a:ln w="12708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4640" y="0"/>
            <a:ext cx="820584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2.9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JAX example: soccer score update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7704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9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63300"/>
                </a:solidFill>
                <a:latin typeface="Arial Italic"/>
                <a:ea typeface="Arial Italic"/>
              </a:rPr>
              <a:t>new Ajax.Request('scores.php?</a:t>
            </a:r>
            <a:br>
              <a:rPr sz="2700"/>
            </a:br>
            <a:r>
              <a:rPr b="0" lang="en-US" sz="2700" spc="-1" strike="noStrike">
                <a:solidFill>
                  <a:srgbClr val="663300"/>
                </a:solidFill>
                <a:latin typeface="Arial Italic"/>
                <a:ea typeface="Arial Italic"/>
              </a:rPr>
              <a:t>                   game=Arsenal:Liverpool’, </a:t>
            </a:r>
            <a:br>
              <a:rPr sz="2700"/>
            </a:br>
            <a:r>
              <a:rPr b="0" lang="en-US" sz="2700" spc="-1" strike="noStrike">
                <a:solidFill>
                  <a:srgbClr val="663300"/>
                </a:solidFill>
                <a:latin typeface="Arial Italic"/>
                <a:ea typeface="Arial Italic"/>
              </a:rPr>
              <a:t>                  {onSuccess: updateScore});</a:t>
            </a:r>
            <a:endParaRPr b="0" lang="en-US" sz="2700" spc="-1" strike="noStrike">
              <a:solidFill>
                <a:srgbClr val="6633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63300"/>
                </a:solidFill>
                <a:latin typeface="Arial Italic"/>
                <a:ea typeface="Arial Italic"/>
              </a:rPr>
              <a:t>function updateScore(request)</a:t>
            </a:r>
            <a:r>
              <a:rPr b="0" lang="en-US" sz="27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663300"/>
                </a:solidFill>
                <a:latin typeface="Arial Italic"/>
                <a:ea typeface="Arial Italic"/>
              </a:rPr>
              <a:t>{ </a:t>
            </a:r>
            <a:br>
              <a:rPr sz="2700"/>
            </a:br>
            <a:r>
              <a:rPr b="0" lang="en-US" sz="2700" spc="-1" strike="noStrike">
                <a:solidFill>
                  <a:srgbClr val="663300"/>
                </a:solidFill>
                <a:latin typeface="Arial"/>
              </a:rPr>
              <a:t>.....</a:t>
            </a:r>
            <a:endParaRPr b="0" lang="en-US" sz="2700" spc="-1" strike="noStrike">
              <a:solidFill>
                <a:srgbClr val="6633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63300"/>
                </a:solidFill>
                <a:latin typeface="Arial"/>
              </a:rPr>
              <a:t>( </a:t>
            </a:r>
            <a:r>
              <a:rPr b="0" lang="en-US" sz="2700" spc="-1" strike="noStrike">
                <a:solidFill>
                  <a:srgbClr val="663300"/>
                </a:solidFill>
                <a:latin typeface="Arial Italic"/>
                <a:ea typeface="Arial Italic"/>
              </a:rPr>
              <a:t>request</a:t>
            </a:r>
            <a:r>
              <a:rPr b="0" lang="en-US" sz="2700" spc="-1" strike="noStrike">
                <a:solidFill>
                  <a:srgbClr val="663300"/>
                </a:solidFill>
                <a:latin typeface="Arial"/>
              </a:rPr>
              <a:t> contains the state of the Ajax request including the returned result.</a:t>
            </a:r>
            <a:endParaRPr b="0" lang="en-US" sz="2700" spc="-1" strike="noStrike">
              <a:solidFill>
                <a:srgbClr val="6633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63300"/>
                </a:solidFill>
                <a:latin typeface="Arial"/>
              </a:rPr>
              <a:t>The result is parsed to obtain some text giving the score, which is used to update the relevant portion of the current page.)</a:t>
            </a:r>
            <a:endParaRPr b="0" lang="en-US" sz="2700" spc="-1" strike="noStrike">
              <a:solidFill>
                <a:srgbClr val="6633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63300"/>
                </a:solidFill>
                <a:latin typeface="Arial"/>
              </a:rPr>
              <a:t>..... </a:t>
            </a:r>
            <a:endParaRPr b="0" lang="en-US" sz="2700" spc="-1" strike="noStrike">
              <a:solidFill>
                <a:srgbClr val="6633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63300"/>
                </a:solidFill>
                <a:latin typeface="Arial Italic"/>
                <a:ea typeface="Arial Italic"/>
              </a:rPr>
              <a:t>}</a:t>
            </a:r>
            <a:endParaRPr b="0" lang="en-US" sz="27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7970400" y="63813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D29D7-FFB7-4B26-93E0-A23C3F708B3C}" type="slidenum">
              <a:rPr b="0" lang="en-US" sz="1400" spc="-1" strike="noStrike">
                <a:solidFill>
                  <a:srgbClr val="5e574e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73B5F-5F65-4E15-870D-30A19A3A5B4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982880" y="6330960"/>
            <a:ext cx="5562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ctor’s Guide for  Coulouris, Dollimore, Kindberg and Blair,  Distributed Systems: Concepts and Design   Edn. 5  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 Pearson Education 2012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1143000"/>
            <a:ext cx="8153280" cy="1440"/>
          </a:xfrm>
          <a:prstGeom prst="line">
            <a:avLst/>
          </a:prstGeom>
          <a:ln w="12708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4640" y="0"/>
            <a:ext cx="820584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2.10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n clients and compute server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74880" y="2928960"/>
            <a:ext cx="1834920" cy="128916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931000" y="2552760"/>
            <a:ext cx="2539800" cy="195084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35080" y="3144960"/>
            <a:ext cx="1512720" cy="87156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51600" y="327492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h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92560" y="3562200"/>
            <a:ext cx="715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li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380280" y="3075120"/>
            <a:ext cx="1641240" cy="9064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521760" y="3230640"/>
            <a:ext cx="1369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ppli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88160" y="3543480"/>
            <a:ext cx="1011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roc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5920" y="2394000"/>
            <a:ext cx="3057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Network computer or P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02160" y="2149560"/>
            <a:ext cx="1987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ompute ser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47800" y="3492360"/>
            <a:ext cx="533520" cy="7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7200"/>
                </a:moveTo>
                <a:lnTo>
                  <a:pt x="5421" y="0"/>
                </a:lnTo>
                <a:lnTo>
                  <a:pt x="14455" y="7200"/>
                </a:lnTo>
                <a:lnTo>
                  <a:pt x="18068" y="14400"/>
                </a:lnTo>
                <a:lnTo>
                  <a:pt x="21600" y="21600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446800" y="3492360"/>
            <a:ext cx="965160" cy="3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lnTo>
                  <a:pt x="17273" y="21600"/>
                </a:lnTo>
                <a:lnTo>
                  <a:pt x="9374" y="21600"/>
                </a:lnTo>
                <a:lnTo>
                  <a:pt x="3605" y="21600"/>
                </a:lnTo>
                <a:lnTo>
                  <a:pt x="0" y="21600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75120" y="2865600"/>
            <a:ext cx="2606400" cy="1150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4" y="5244"/>
                </a:moveTo>
                <a:lnTo>
                  <a:pt x="801" y="3933"/>
                </a:lnTo>
                <a:lnTo>
                  <a:pt x="2137" y="1966"/>
                </a:lnTo>
                <a:lnTo>
                  <a:pt x="3473" y="1311"/>
                </a:lnTo>
                <a:lnTo>
                  <a:pt x="4274" y="1311"/>
                </a:lnTo>
                <a:lnTo>
                  <a:pt x="4808" y="655"/>
                </a:lnTo>
                <a:lnTo>
                  <a:pt x="6399" y="1311"/>
                </a:lnTo>
                <a:lnTo>
                  <a:pt x="8001" y="1966"/>
                </a:lnTo>
                <a:lnTo>
                  <a:pt x="9604" y="1966"/>
                </a:lnTo>
                <a:lnTo>
                  <a:pt x="11207" y="1966"/>
                </a:lnTo>
                <a:lnTo>
                  <a:pt x="12263" y="1311"/>
                </a:lnTo>
                <a:lnTo>
                  <a:pt x="13064" y="655"/>
                </a:lnTo>
                <a:lnTo>
                  <a:pt x="14133" y="0"/>
                </a:lnTo>
                <a:lnTo>
                  <a:pt x="15468" y="0"/>
                </a:lnTo>
                <a:lnTo>
                  <a:pt x="16537" y="0"/>
                </a:lnTo>
                <a:lnTo>
                  <a:pt x="17338" y="655"/>
                </a:lnTo>
                <a:lnTo>
                  <a:pt x="17873" y="1311"/>
                </a:lnTo>
                <a:lnTo>
                  <a:pt x="18929" y="1966"/>
                </a:lnTo>
                <a:lnTo>
                  <a:pt x="19997" y="3933"/>
                </a:lnTo>
                <a:lnTo>
                  <a:pt x="21333" y="6554"/>
                </a:lnTo>
                <a:lnTo>
                  <a:pt x="21600" y="10457"/>
                </a:lnTo>
                <a:lnTo>
                  <a:pt x="21600" y="13079"/>
                </a:lnTo>
                <a:lnTo>
                  <a:pt x="21333" y="15046"/>
                </a:lnTo>
                <a:lnTo>
                  <a:pt x="20799" y="18978"/>
                </a:lnTo>
                <a:lnTo>
                  <a:pt x="19730" y="20289"/>
                </a:lnTo>
                <a:lnTo>
                  <a:pt x="18140" y="21600"/>
                </a:lnTo>
                <a:lnTo>
                  <a:pt x="16537" y="20945"/>
                </a:lnTo>
                <a:lnTo>
                  <a:pt x="14934" y="20289"/>
                </a:lnTo>
                <a:lnTo>
                  <a:pt x="13599" y="20289"/>
                </a:lnTo>
                <a:lnTo>
                  <a:pt x="12263" y="19634"/>
                </a:lnTo>
                <a:lnTo>
                  <a:pt x="10673" y="19634"/>
                </a:lnTo>
                <a:lnTo>
                  <a:pt x="9337" y="19634"/>
                </a:lnTo>
                <a:lnTo>
                  <a:pt x="8268" y="20289"/>
                </a:lnTo>
                <a:lnTo>
                  <a:pt x="7200" y="20289"/>
                </a:lnTo>
                <a:lnTo>
                  <a:pt x="6132" y="20289"/>
                </a:lnTo>
                <a:lnTo>
                  <a:pt x="5075" y="20945"/>
                </a:lnTo>
                <a:lnTo>
                  <a:pt x="4007" y="20945"/>
                </a:lnTo>
                <a:lnTo>
                  <a:pt x="3205" y="20945"/>
                </a:lnTo>
                <a:lnTo>
                  <a:pt x="2404" y="20289"/>
                </a:lnTo>
                <a:lnTo>
                  <a:pt x="1870" y="19634"/>
                </a:lnTo>
                <a:lnTo>
                  <a:pt x="1603" y="18978"/>
                </a:lnTo>
                <a:lnTo>
                  <a:pt x="1336" y="18323"/>
                </a:lnTo>
                <a:lnTo>
                  <a:pt x="801" y="17012"/>
                </a:lnTo>
                <a:lnTo>
                  <a:pt x="267" y="14390"/>
                </a:lnTo>
                <a:lnTo>
                  <a:pt x="0" y="12424"/>
                </a:lnTo>
                <a:lnTo>
                  <a:pt x="0" y="10457"/>
                </a:lnTo>
                <a:lnTo>
                  <a:pt x="0" y="8521"/>
                </a:lnTo>
                <a:lnTo>
                  <a:pt x="267" y="6554"/>
                </a:lnTo>
                <a:lnTo>
                  <a:pt x="534" y="5244"/>
                </a:lnTo>
                <a:lnTo>
                  <a:pt x="534" y="5244"/>
                </a:lnTo>
                <a:close/>
                <a:moveTo>
                  <a:pt x="534" y="5244"/>
                </a:moveTo>
              </a:path>
            </a:pathLst>
          </a:custGeom>
          <a:solidFill>
            <a:srgbClr val="ffdc99"/>
          </a:solidFill>
          <a:ln w="50760">
            <a:solidFill>
              <a:srgbClr val="ffd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90160" y="3282840"/>
            <a:ext cx="979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netwo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982880" y="6330960"/>
            <a:ext cx="5562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ctor’s Guide for  Coulouris, Dollimore, Kindberg and Blair,  Distributed Systems: Concepts and Design   Edn. 5  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 Pearson Education 2012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1143000"/>
            <a:ext cx="8153280" cy="1440"/>
          </a:xfrm>
          <a:prstGeom prst="line">
            <a:avLst/>
          </a:prstGeom>
          <a:ln w="12708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7920" y="0"/>
            <a:ext cx="820584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2.11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ヒラギノ角ゴ ProN W3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e web service architectural pattern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43080" y="1333440"/>
            <a:ext cx="8445240" cy="4635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D862C-503E-4EDB-A963-42ED6C0F263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982880" y="6330960"/>
            <a:ext cx="5562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ctor’s Guide for  Coulouris, Dollimore, Kindberg and Blair,  Distributed Systems: Concepts and Design   Edn. 5  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 Pearson Education 2012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1143000"/>
            <a:ext cx="8153280" cy="1440"/>
          </a:xfrm>
          <a:prstGeom prst="line">
            <a:avLst/>
          </a:prstGeom>
          <a:ln w="12708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4640" y="0"/>
            <a:ext cx="820584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2.12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ヒラギノ角ゴ ProN W3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ategories of middlewar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590920" y="1181160"/>
            <a:ext cx="5897520" cy="5168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3AC22-5741-4A30-89B3-158AC907C197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982880" y="6330960"/>
            <a:ext cx="5562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ctor’s Guide for  Coulouris, Dollimore, Kindberg and Blair,  Distributed Systems: Concepts and Design   Edn. 5  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 Pearson Education 2012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1143000"/>
            <a:ext cx="8153280" cy="1440"/>
          </a:xfrm>
          <a:prstGeom prst="line">
            <a:avLst/>
          </a:prstGeom>
          <a:ln w="12708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4640" y="0"/>
            <a:ext cx="820584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2.13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eal-time ordering of event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82760" y="1654200"/>
            <a:ext cx="8029440" cy="413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982880" y="6330960"/>
            <a:ext cx="5562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ctor’s Guide for  Coulouris, Dollimore, Kindberg and Blair,  Distributed Systems: Concepts and Design   Edn. 5  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 Pearson Education 2012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1143000"/>
            <a:ext cx="8153280" cy="1440"/>
          </a:xfrm>
          <a:prstGeom prst="line">
            <a:avLst/>
          </a:prstGeom>
          <a:ln w="12708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4640" y="0"/>
            <a:ext cx="820584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2.14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rocesses and channel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93640" y="2457360"/>
            <a:ext cx="7882200" cy="218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982880" y="6330960"/>
            <a:ext cx="5562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ctor’s Guide for  Coulouris, Dollimore, Kindberg and Blair,  Distributed Systems: Concepts and Design   Edn. 5  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 Pearson Education 2012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143000"/>
            <a:ext cx="8153280" cy="1440"/>
          </a:xfrm>
          <a:prstGeom prst="line">
            <a:avLst/>
          </a:prstGeom>
          <a:ln w="12708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4640" y="0"/>
            <a:ext cx="820584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2.15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Omission and arbitrary failure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36680" y="1681200"/>
            <a:ext cx="157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of fail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04080" y="1668600"/>
            <a:ext cx="69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f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347280" y="1668600"/>
            <a:ext cx="1203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68440" y="1631880"/>
            <a:ext cx="1796760" cy="1800"/>
          </a:xfrm>
          <a:prstGeom prst="line">
            <a:avLst/>
          </a:prstGeom>
          <a:ln w="36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87520" y="1631880"/>
            <a:ext cx="922320" cy="1800"/>
          </a:xfrm>
          <a:prstGeom prst="line">
            <a:avLst/>
          </a:prstGeom>
          <a:ln w="36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332160" y="1631880"/>
            <a:ext cx="5210280" cy="1800"/>
          </a:xfrm>
          <a:prstGeom prst="line">
            <a:avLst/>
          </a:prstGeom>
          <a:ln w="36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2800" y="2004840"/>
            <a:ext cx="906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il-s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97160" y="1992240"/>
            <a:ext cx="779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339000" y="1992240"/>
            <a:ext cx="556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s halts and remains halted. Other processes m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348360" y="2266920"/>
            <a:ext cx="1631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ct this st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568440" y="1982880"/>
            <a:ext cx="7974000" cy="1440"/>
            <a:chOff x="568440" y="1982880"/>
            <a:chExt cx="7974000" cy="1440"/>
          </a:xfrm>
        </p:grpSpPr>
        <p:sp>
          <p:nvSpPr>
            <p:cNvPr id="170" name=""/>
            <p:cNvSpPr/>
            <p:nvPr/>
          </p:nvSpPr>
          <p:spPr>
            <a:xfrm>
              <a:off x="568440" y="1982880"/>
              <a:ext cx="1797120" cy="1440"/>
            </a:xfrm>
            <a:prstGeom prst="line">
              <a:avLst/>
            </a:prstGeom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387880" y="1982880"/>
              <a:ext cx="922320" cy="1440"/>
            </a:xfrm>
            <a:prstGeom prst="line">
              <a:avLst/>
            </a:prstGeom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332160" y="1982880"/>
              <a:ext cx="5210280" cy="1440"/>
            </a:xfrm>
            <a:prstGeom prst="line">
              <a:avLst/>
            </a:prstGeom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442800" y="2541600"/>
            <a:ext cx="595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a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97160" y="2541600"/>
            <a:ext cx="779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339000" y="2541600"/>
            <a:ext cx="556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s halts and remains halted. Other processes m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45840" y="2816280"/>
            <a:ext cx="3076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be able to detect this st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2080" y="3090960"/>
            <a:ext cx="977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96800" y="3090960"/>
            <a:ext cx="84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327480" y="3090960"/>
            <a:ext cx="5767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essage inserted in an outgoing message buffer ne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21720" y="3365640"/>
            <a:ext cx="522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ives at the other end’s incoming message buff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0640" y="3639960"/>
            <a:ext cx="1517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-o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97160" y="3639960"/>
            <a:ext cx="779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37920" y="3639960"/>
            <a:ext cx="235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rocess completes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708880" y="3639960"/>
            <a:ext cx="532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192360" y="3639960"/>
            <a:ext cx="2705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the message is not 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333240" y="3914640"/>
            <a:ext cx="3153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its outgoing message buff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41720" y="4189320"/>
            <a:ext cx="182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-o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97160" y="4189320"/>
            <a:ext cx="779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25680" y="4189320"/>
            <a:ext cx="5141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essage is put in a process’s incoming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332520" y="4464000"/>
            <a:ext cx="434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ffer, but that process does not receive 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41720" y="4738680"/>
            <a:ext cx="950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4680" y="5013360"/>
            <a:ext cx="1203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yzanti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06800" y="4738680"/>
            <a:ext cx="1056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s 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96800" y="5013360"/>
            <a:ext cx="79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40080" y="4738680"/>
            <a:ext cx="5316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s/channel exhibits arbitrary behaviour: it m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341880" y="5013360"/>
            <a:ext cx="520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/transmit arbitrary messages at arbitrary time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40080" y="5288040"/>
            <a:ext cx="499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it omissions; a process may stop or take 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46560" y="5562720"/>
            <a:ext cx="1443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rrect ste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68440" y="5864400"/>
            <a:ext cx="1796760" cy="1440"/>
          </a:xfrm>
          <a:prstGeom prst="line">
            <a:avLst/>
          </a:prstGeom>
          <a:ln w="36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387520" y="5864400"/>
            <a:ext cx="922320" cy="1440"/>
          </a:xfrm>
          <a:prstGeom prst="line">
            <a:avLst/>
          </a:prstGeom>
          <a:ln w="36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32160" y="5864400"/>
            <a:ext cx="5210280" cy="1440"/>
          </a:xfrm>
          <a:prstGeom prst="line">
            <a:avLst/>
          </a:prstGeom>
          <a:ln w="36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982880" y="6330960"/>
            <a:ext cx="5562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ctor’s Guide for  Coulouris, Dollimore, Kindberg and Blair,  Distributed Systems: Concepts and Design   Edn. 5  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 Pearson Education 2012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1143000"/>
            <a:ext cx="8153280" cy="1440"/>
          </a:xfrm>
          <a:prstGeom prst="line">
            <a:avLst/>
          </a:prstGeom>
          <a:ln w="12708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4640" y="0"/>
            <a:ext cx="820584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2.1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iming failure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65200" y="2151000"/>
            <a:ext cx="8412840" cy="2049840"/>
            <a:chOff x="565200" y="2151000"/>
            <a:chExt cx="8412840" cy="2049840"/>
          </a:xfrm>
        </p:grpSpPr>
        <p:sp>
          <p:nvSpPr>
            <p:cNvPr id="206" name=""/>
            <p:cNvSpPr/>
            <p:nvPr/>
          </p:nvSpPr>
          <p:spPr>
            <a:xfrm>
              <a:off x="597960" y="2187360"/>
              <a:ext cx="165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ass of Fail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400120" y="2187360"/>
              <a:ext cx="691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ffec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169520" y="2187360"/>
              <a:ext cx="1203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scrip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65200" y="2151000"/>
              <a:ext cx="1793880" cy="1440"/>
            </a:xfrm>
            <a:prstGeom prst="line">
              <a:avLst/>
            </a:prstGeom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382840" y="2151000"/>
              <a:ext cx="1749600" cy="1440"/>
            </a:xfrm>
            <a:prstGeom prst="line">
              <a:avLst/>
            </a:prstGeom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154400" y="2151000"/>
              <a:ext cx="4373640" cy="1440"/>
            </a:xfrm>
            <a:prstGeom prst="line">
              <a:avLst/>
            </a:prstGeom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03720" y="2525760"/>
              <a:ext cx="608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o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397960" y="252576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c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155120" y="2525760"/>
              <a:ext cx="480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cess’s local clock exceeds the bounds on 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165920" y="2798640"/>
              <a:ext cx="2746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ate of drift from real tim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565200" y="2487600"/>
              <a:ext cx="7962840" cy="1440"/>
              <a:chOff x="565200" y="2487600"/>
              <a:chExt cx="7962840" cy="1440"/>
            </a:xfrm>
          </p:grpSpPr>
          <p:sp>
            <p:nvSpPr>
              <p:cNvPr id="217" name=""/>
              <p:cNvSpPr/>
              <p:nvPr/>
            </p:nvSpPr>
            <p:spPr>
              <a:xfrm>
                <a:off x="565200" y="2487600"/>
                <a:ext cx="1793880" cy="1440"/>
              </a:xfrm>
              <a:prstGeom prst="line">
                <a:avLst/>
              </a:prstGeom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382840" y="2487600"/>
                <a:ext cx="1749600" cy="1440"/>
              </a:xfrm>
              <a:prstGeom prst="line">
                <a:avLst/>
              </a:prstGeom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154400" y="2487600"/>
                <a:ext cx="4373640" cy="1440"/>
              </a:xfrm>
              <a:prstGeom prst="line">
                <a:avLst/>
              </a:prstGeom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601560" y="3073320"/>
              <a:ext cx="1303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erform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397960" y="307332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c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62680" y="3073320"/>
              <a:ext cx="4363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cess exceeds the bounds on the inter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168080" y="3348000"/>
              <a:ext cx="1933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etween two step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01560" y="3622680"/>
              <a:ext cx="1303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erform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398680" y="3622680"/>
              <a:ext cx="849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nn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149360" y="3622680"/>
              <a:ext cx="4828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message’s transmission takes longer than t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168080" y="3895560"/>
              <a:ext cx="1361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ted bound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65200" y="4195800"/>
              <a:ext cx="1793880" cy="1440"/>
            </a:xfrm>
            <a:prstGeom prst="line">
              <a:avLst/>
            </a:prstGeom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382840" y="4195800"/>
              <a:ext cx="1749600" cy="1440"/>
            </a:xfrm>
            <a:prstGeom prst="line">
              <a:avLst/>
            </a:prstGeom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154400" y="4195800"/>
              <a:ext cx="4373640" cy="1440"/>
            </a:xfrm>
            <a:prstGeom prst="line">
              <a:avLst/>
            </a:prstGeom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982880" y="6330960"/>
            <a:ext cx="5562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ctor’s Guide for  Coulouris, Dollimore, Kindberg and Blair,  Distributed Systems: Concepts and Design   Edn. 5  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 Pearson Education 2012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1143000"/>
            <a:ext cx="8153280" cy="1440"/>
          </a:xfrm>
          <a:prstGeom prst="line">
            <a:avLst/>
          </a:prstGeom>
          <a:ln w="12708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4640" y="0"/>
            <a:ext cx="820584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2.17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Objects and principal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98600" y="1957320"/>
            <a:ext cx="8092800" cy="280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982880" y="6330960"/>
            <a:ext cx="5562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ctor’s Guide for  Coulouris, Dollimore, Kindberg and Blair,  Distributed Systems: Concepts and Design   Edn. 5  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 Pearson Education 2012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1143000"/>
            <a:ext cx="8153280" cy="1440"/>
          </a:xfrm>
          <a:prstGeom prst="line">
            <a:avLst/>
          </a:prstGeom>
          <a:ln w="12708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4640" y="0"/>
            <a:ext cx="820584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2.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Generations of distributed system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39680" y="1473120"/>
            <a:ext cx="872640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908ED-92F9-4AD2-A42C-65DEC5B83E20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982880" y="6330960"/>
            <a:ext cx="5562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ctor’s Guide for  Coulouris, Dollimore, Kindberg and Blair,  Distributed Systems: Concepts and Design   Edn. 5  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 Pearson Education 2012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" y="1143000"/>
            <a:ext cx="8153280" cy="1440"/>
          </a:xfrm>
          <a:prstGeom prst="line">
            <a:avLst/>
          </a:prstGeom>
          <a:ln w="12708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04640" y="0"/>
            <a:ext cx="820584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2.18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e enemy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06600" y="2685960"/>
            <a:ext cx="4162320" cy="1992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795" y="1910"/>
                </a:moveTo>
                <a:lnTo>
                  <a:pt x="15290" y="1274"/>
                </a:lnTo>
                <a:lnTo>
                  <a:pt x="11921" y="0"/>
                </a:lnTo>
                <a:lnTo>
                  <a:pt x="9397" y="0"/>
                </a:lnTo>
                <a:lnTo>
                  <a:pt x="6873" y="637"/>
                </a:lnTo>
                <a:lnTo>
                  <a:pt x="1969" y="2220"/>
                </a:lnTo>
                <a:lnTo>
                  <a:pt x="844" y="3184"/>
                </a:lnTo>
                <a:lnTo>
                  <a:pt x="426" y="5404"/>
                </a:lnTo>
                <a:lnTo>
                  <a:pt x="144" y="10482"/>
                </a:lnTo>
                <a:lnTo>
                  <a:pt x="0" y="13339"/>
                </a:lnTo>
                <a:lnTo>
                  <a:pt x="707" y="15886"/>
                </a:lnTo>
                <a:lnTo>
                  <a:pt x="3087" y="19363"/>
                </a:lnTo>
                <a:lnTo>
                  <a:pt x="4493" y="20636"/>
                </a:lnTo>
                <a:lnTo>
                  <a:pt x="5892" y="21273"/>
                </a:lnTo>
                <a:lnTo>
                  <a:pt x="8979" y="21600"/>
                </a:lnTo>
                <a:lnTo>
                  <a:pt x="15153" y="20326"/>
                </a:lnTo>
                <a:lnTo>
                  <a:pt x="17532" y="19690"/>
                </a:lnTo>
                <a:lnTo>
                  <a:pt x="19775" y="17779"/>
                </a:lnTo>
                <a:lnTo>
                  <a:pt x="20619" y="16196"/>
                </a:lnTo>
                <a:lnTo>
                  <a:pt x="21319" y="13975"/>
                </a:lnTo>
                <a:lnTo>
                  <a:pt x="21600" y="11755"/>
                </a:lnTo>
                <a:lnTo>
                  <a:pt x="21463" y="9208"/>
                </a:lnTo>
                <a:lnTo>
                  <a:pt x="20756" y="4458"/>
                </a:lnTo>
                <a:lnTo>
                  <a:pt x="20057" y="2857"/>
                </a:lnTo>
                <a:lnTo>
                  <a:pt x="18939" y="2220"/>
                </a:lnTo>
                <a:lnTo>
                  <a:pt x="18795" y="1910"/>
                </a:lnTo>
                <a:close/>
                <a:moveTo>
                  <a:pt x="18795" y="1910"/>
                </a:moveTo>
              </a:path>
            </a:pathLst>
          </a:custGeom>
          <a:solidFill>
            <a:srgbClr val="ffdc99"/>
          </a:solidFill>
          <a:ln w="42840">
            <a:solidFill>
              <a:srgbClr val="ffd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649680" y="2722680"/>
            <a:ext cx="1919160" cy="703080"/>
          </a:xfrm>
          <a:prstGeom prst="ellipse">
            <a:avLst/>
          </a:prstGeom>
          <a:solidFill>
            <a:srgbClr val="ffffff"/>
          </a:solidFill>
          <a:ln w="10152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550680" y="3900600"/>
            <a:ext cx="2586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ommunication chann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814840" y="2197080"/>
            <a:ext cx="898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opy of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708720" y="2173320"/>
            <a:ext cx="250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Italic"/>
                <a:ea typeface="Arial Italic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03920" y="3184560"/>
            <a:ext cx="1432080" cy="966600"/>
          </a:xfrm>
          <a:prstGeom prst="ellipse">
            <a:avLst/>
          </a:prstGeom>
          <a:solidFill>
            <a:srgbClr val="ffffff"/>
          </a:solidFill>
          <a:ln w="42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65080" y="3271680"/>
            <a:ext cx="1379520" cy="820800"/>
          </a:xfrm>
          <a:prstGeom prst="ellipse">
            <a:avLst/>
          </a:prstGeom>
          <a:solidFill>
            <a:srgbClr val="ffffff"/>
          </a:solidFill>
          <a:ln w="42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190600" y="3535200"/>
            <a:ext cx="4567320" cy="1800"/>
          </a:xfrm>
          <a:prstGeom prst="line">
            <a:avLst/>
          </a:prstGeom>
          <a:ln w="42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190600" y="3798720"/>
            <a:ext cx="4567320" cy="1800"/>
          </a:xfrm>
          <a:prstGeom prst="line">
            <a:avLst/>
          </a:prstGeom>
          <a:ln w="42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90360" y="3514680"/>
            <a:ext cx="938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Proces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12320" y="3490920"/>
            <a:ext cx="165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Italic"/>
                <a:ea typeface="Arial Italic"/>
              </a:rPr>
              <a:t>p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72040" y="3544920"/>
            <a:ext cx="938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Proces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793280" y="3521160"/>
            <a:ext cx="165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Italic"/>
                <a:ea typeface="Arial Italic"/>
              </a:rPr>
              <a:t>q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856240" y="3490920"/>
            <a:ext cx="250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Italic"/>
                <a:ea typeface="Arial Italic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514680" y="3594240"/>
            <a:ext cx="109440" cy="14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8687"/>
                </a:moveTo>
                <a:lnTo>
                  <a:pt x="0" y="0"/>
                </a:lnTo>
                <a:lnTo>
                  <a:pt x="21600" y="8687"/>
                </a:lnTo>
                <a:lnTo>
                  <a:pt x="0" y="21600"/>
                </a:lnTo>
                <a:lnTo>
                  <a:pt x="0" y="8687"/>
                </a:lnTo>
                <a:close/>
                <a:moveTo>
                  <a:pt x="0" y="8687"/>
                </a:moveTo>
              </a:path>
            </a:pathLst>
          </a:custGeom>
          <a:solidFill>
            <a:srgbClr val="000000"/>
          </a:solidFill>
          <a:ln w="42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137040" y="3652920"/>
            <a:ext cx="377640" cy="1440"/>
          </a:xfrm>
          <a:prstGeom prst="line">
            <a:avLst/>
          </a:prstGeom>
          <a:ln w="42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077720" y="2913120"/>
            <a:ext cx="12078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The enem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757600" y="2158920"/>
            <a:ext cx="1269720" cy="381240"/>
          </a:xfrm>
          <a:prstGeom prst="rect">
            <a:avLst/>
          </a:prstGeom>
          <a:noFill/>
          <a:ln w="42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488280" y="3594240"/>
            <a:ext cx="107640" cy="14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8687"/>
                </a:moveTo>
                <a:lnTo>
                  <a:pt x="0" y="0"/>
                </a:lnTo>
                <a:lnTo>
                  <a:pt x="21600" y="8687"/>
                </a:lnTo>
                <a:lnTo>
                  <a:pt x="0" y="21600"/>
                </a:lnTo>
                <a:lnTo>
                  <a:pt x="0" y="8687"/>
                </a:lnTo>
                <a:close/>
                <a:moveTo>
                  <a:pt x="0" y="8687"/>
                </a:moveTo>
              </a:path>
            </a:pathLst>
          </a:custGeom>
          <a:solidFill>
            <a:srgbClr val="000000"/>
          </a:solidFill>
          <a:ln w="42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108840" y="3652920"/>
            <a:ext cx="352440" cy="1440"/>
          </a:xfrm>
          <a:prstGeom prst="line">
            <a:avLst/>
          </a:prstGeom>
          <a:ln w="42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25440" y="3139920"/>
            <a:ext cx="29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Italic"/>
                <a:ea typeface="Arial Italic"/>
              </a:rPr>
              <a:t>m’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 flipV="1">
            <a:off x="5865840" y="3417480"/>
            <a:ext cx="216000" cy="235080"/>
          </a:xfrm>
          <a:prstGeom prst="line">
            <a:avLst/>
          </a:prstGeom>
          <a:ln w="42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759120" y="3448080"/>
            <a:ext cx="79560" cy="439560"/>
          </a:xfrm>
          <a:prstGeom prst="ellipse">
            <a:avLst/>
          </a:prstGeom>
          <a:solidFill>
            <a:srgbClr val="ffffff"/>
          </a:solidFill>
          <a:ln w="42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3813120" y="3360600"/>
            <a:ext cx="54000" cy="115920"/>
          </a:xfrm>
          <a:prstGeom prst="line">
            <a:avLst/>
          </a:prstGeom>
          <a:ln w="42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703680" y="2511360"/>
            <a:ext cx="244440" cy="790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9128" y="13576"/>
                </a:lnTo>
                <a:lnTo>
                  <a:pt x="21600" y="18390"/>
                </a:lnTo>
                <a:lnTo>
                  <a:pt x="16786" y="21600"/>
                </a:lnTo>
              </a:path>
            </a:pathLst>
          </a:custGeom>
          <a:noFill/>
          <a:ln w="42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982880" y="6330960"/>
            <a:ext cx="5562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ctor’s Guide for  Coulouris, Dollimore, Kindberg and Blair,  Distributed Systems: Concepts and Design   Edn. 5  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 Pearson Education 2012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1143000"/>
            <a:ext cx="8153280" cy="1440"/>
          </a:xfrm>
          <a:prstGeom prst="line">
            <a:avLst/>
          </a:prstGeom>
          <a:ln w="12708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4640" y="0"/>
            <a:ext cx="820584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2.19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ecure channel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019520" y="2502000"/>
            <a:ext cx="991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Principal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95480" y="2484360"/>
            <a:ext cx="171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Italic"/>
                <a:ea typeface="Arial Italic"/>
              </a:rPr>
              <a:t>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7457760" y="2705040"/>
            <a:ext cx="136440" cy="265320"/>
          </a:xfrm>
          <a:prstGeom prst="line">
            <a:avLst/>
          </a:prstGeom>
          <a:ln w="30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670800" y="2941560"/>
            <a:ext cx="1657080" cy="12067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30240">
            <a:solidFill>
              <a:srgbClr val="d9aa7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78800" y="3059280"/>
            <a:ext cx="1441440" cy="971280"/>
          </a:xfrm>
          <a:prstGeom prst="ellipse">
            <a:avLst/>
          </a:prstGeom>
          <a:solidFill>
            <a:srgbClr val="ffffff"/>
          </a:solidFill>
          <a:ln w="30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49160" y="2941560"/>
            <a:ext cx="1683000" cy="1176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30240">
            <a:solidFill>
              <a:srgbClr val="d9aa7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11160" y="3117960"/>
            <a:ext cx="1386000" cy="823680"/>
          </a:xfrm>
          <a:prstGeom prst="ellipse">
            <a:avLst/>
          </a:prstGeom>
          <a:solidFill>
            <a:srgbClr val="ffffff"/>
          </a:solidFill>
          <a:ln w="30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460600" y="2529000"/>
            <a:ext cx="4183200" cy="2001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793" y="1901"/>
                </a:moveTo>
                <a:lnTo>
                  <a:pt x="15290" y="1268"/>
                </a:lnTo>
                <a:lnTo>
                  <a:pt x="11924" y="325"/>
                </a:lnTo>
                <a:lnTo>
                  <a:pt x="9397" y="0"/>
                </a:lnTo>
                <a:lnTo>
                  <a:pt x="6870" y="634"/>
                </a:lnTo>
                <a:lnTo>
                  <a:pt x="1960" y="2227"/>
                </a:lnTo>
                <a:lnTo>
                  <a:pt x="840" y="3494"/>
                </a:lnTo>
                <a:lnTo>
                  <a:pt x="424" y="5396"/>
                </a:lnTo>
                <a:lnTo>
                  <a:pt x="136" y="10483"/>
                </a:lnTo>
                <a:lnTo>
                  <a:pt x="0" y="13652"/>
                </a:lnTo>
                <a:lnTo>
                  <a:pt x="704" y="16204"/>
                </a:lnTo>
                <a:lnTo>
                  <a:pt x="3087" y="19373"/>
                </a:lnTo>
                <a:lnTo>
                  <a:pt x="4486" y="20966"/>
                </a:lnTo>
                <a:lnTo>
                  <a:pt x="6030" y="21600"/>
                </a:lnTo>
                <a:lnTo>
                  <a:pt x="8973" y="21600"/>
                </a:lnTo>
                <a:lnTo>
                  <a:pt x="15146" y="20641"/>
                </a:lnTo>
                <a:lnTo>
                  <a:pt x="17530" y="20007"/>
                </a:lnTo>
                <a:lnTo>
                  <a:pt x="19777" y="17780"/>
                </a:lnTo>
                <a:lnTo>
                  <a:pt x="20616" y="16204"/>
                </a:lnTo>
                <a:lnTo>
                  <a:pt x="21320" y="14286"/>
                </a:lnTo>
                <a:lnTo>
                  <a:pt x="21600" y="11751"/>
                </a:lnTo>
                <a:lnTo>
                  <a:pt x="21456" y="9216"/>
                </a:lnTo>
                <a:lnTo>
                  <a:pt x="20760" y="4762"/>
                </a:lnTo>
                <a:lnTo>
                  <a:pt x="20057" y="2861"/>
                </a:lnTo>
                <a:lnTo>
                  <a:pt x="18937" y="2535"/>
                </a:lnTo>
                <a:lnTo>
                  <a:pt x="18793" y="1901"/>
                </a:lnTo>
                <a:close/>
                <a:moveTo>
                  <a:pt x="18793" y="1901"/>
                </a:moveTo>
              </a:path>
            </a:pathLst>
          </a:custGeom>
          <a:solidFill>
            <a:srgbClr val="ffdc99"/>
          </a:solidFill>
          <a:ln w="30240">
            <a:solidFill>
              <a:srgbClr val="ffd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243160" y="3382920"/>
            <a:ext cx="4589280" cy="1800"/>
          </a:xfrm>
          <a:prstGeom prst="line">
            <a:avLst/>
          </a:prstGeom>
          <a:ln w="30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2242440" y="3668760"/>
            <a:ext cx="4605480" cy="14400"/>
          </a:xfrm>
          <a:prstGeom prst="line">
            <a:avLst/>
          </a:prstGeom>
          <a:ln w="30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43720" y="3367080"/>
            <a:ext cx="1675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Secure chann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27080" y="3355920"/>
            <a:ext cx="938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Proces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40760" y="3338640"/>
            <a:ext cx="165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Italic"/>
                <a:ea typeface="Arial Italic"/>
              </a:rPr>
              <a:t>p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964200" y="3392640"/>
            <a:ext cx="938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Proces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876440" y="3367080"/>
            <a:ext cx="165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Italic"/>
                <a:ea typeface="Arial Italic"/>
              </a:rPr>
              <a:t>q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558200" y="2414520"/>
            <a:ext cx="991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Principal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548560" y="2379600"/>
            <a:ext cx="174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Italic"/>
                <a:ea typeface="Arial Italic"/>
              </a:rPr>
              <a:t>B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74600" y="2793960"/>
            <a:ext cx="135000" cy="265320"/>
          </a:xfrm>
          <a:prstGeom prst="line">
            <a:avLst/>
          </a:prstGeom>
          <a:ln w="30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982880" y="6330960"/>
            <a:ext cx="5562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ctor’s Guide for  Coulouris, Dollimore, Kindberg and Blair,  Distributed Systems: Concepts and Design   Edn. 5  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 Pearson Education 2012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143000"/>
            <a:ext cx="8153280" cy="1440"/>
          </a:xfrm>
          <a:prstGeom prst="line">
            <a:avLst/>
          </a:prstGeom>
          <a:ln w="12708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4640" y="0"/>
            <a:ext cx="820584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2.2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ヒラギノ角ゴ ProN W3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ommunicating entities and communication paradigm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82760" y="1979640"/>
            <a:ext cx="8178480" cy="348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5CDBD-BC65-4C3C-8192-0636E643366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982880" y="6330960"/>
            <a:ext cx="5562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ctor’s Guide for  Coulouris, Dollimore, Kindberg and Blair,  Distributed Systems: Concepts and Design   Edn. 5  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 Pearson Education 2012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1143000"/>
            <a:ext cx="8153280" cy="1440"/>
          </a:xfrm>
          <a:prstGeom prst="line">
            <a:avLst/>
          </a:prstGeom>
          <a:ln w="12708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4640" y="0"/>
            <a:ext cx="820584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2.3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ents invoke individual server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55480" y="1976400"/>
            <a:ext cx="7975800" cy="31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982880" y="6330960"/>
            <a:ext cx="5562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ctor’s Guide for  Coulouris, Dollimore, Kindberg and Blair,  Distributed Systems: Concepts and Design   Edn. 5  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 Pearson Education 2012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1143000"/>
            <a:ext cx="8153280" cy="1440"/>
          </a:xfrm>
          <a:prstGeom prst="line">
            <a:avLst/>
          </a:prstGeom>
          <a:ln w="12708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4640" y="0"/>
            <a:ext cx="820584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2.4a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eer-to-peer architectur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981080" y="1320840"/>
            <a:ext cx="4940280" cy="500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982880" y="6330960"/>
            <a:ext cx="5562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ctor’s Guide for  Coulouris, Dollimore, Kindberg and Blair,  Distributed Systems: Concepts and Design   Edn. 5  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 Pearson Education 2012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143000"/>
            <a:ext cx="8153280" cy="1440"/>
          </a:xfrm>
          <a:prstGeom prst="line">
            <a:avLst/>
          </a:prstGeom>
          <a:ln w="12708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4640" y="0"/>
            <a:ext cx="820584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2.4b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 service provided by multiple server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61960" y="1455840"/>
            <a:ext cx="5908680" cy="459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982880" y="6330960"/>
            <a:ext cx="5562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ctor’s Guide for  Coulouris, Dollimore, Kindberg and Blair,  Distributed Systems: Concepts and Design   Edn. 5  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 Pearson Education 2012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143000"/>
            <a:ext cx="8153280" cy="1440"/>
          </a:xfrm>
          <a:prstGeom prst="line">
            <a:avLst/>
          </a:prstGeom>
          <a:ln w="12708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4640" y="0"/>
            <a:ext cx="820584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2.5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Web proxy server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5760" y="2117880"/>
            <a:ext cx="8065800" cy="273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982880" y="6330960"/>
            <a:ext cx="5562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ctor’s Guide for  Coulouris, Dollimore, Kindberg and Blair,  Distributed Systems: Concepts and Design   Edn. 5  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 Pearson Education 2012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1143000"/>
            <a:ext cx="8153280" cy="1440"/>
          </a:xfrm>
          <a:prstGeom prst="line">
            <a:avLst/>
          </a:prstGeom>
          <a:ln w="12708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4640" y="0"/>
            <a:ext cx="820584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2.6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Web applet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77720" y="1620720"/>
            <a:ext cx="8110800" cy="424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982880" y="6330960"/>
            <a:ext cx="5562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ctor’s Guide for  Coulouris, Dollimore, Kindberg and Blair,  Distributed Systems: Concepts and Design   Edn. 5  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 Pearson Education 2012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143000"/>
            <a:ext cx="8153280" cy="1440"/>
          </a:xfrm>
          <a:prstGeom prst="line">
            <a:avLst/>
          </a:prstGeom>
          <a:ln w="12708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4640" y="0"/>
            <a:ext cx="820584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2.7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oftware and hardware service layers in distributed system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70040" y="1433520"/>
            <a:ext cx="7547040" cy="4668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orge Coulouris</dc:creator>
  <dc:description/>
  <dc:language>en-US</dc:language>
  <cp:lastModifiedBy/>
  <cp:revision>0</cp:revision>
  <dc:subject/>
  <dc:title>Figure 15.1 A distributed multimedia system</dc:title>
</cp:coreProperties>
</file>