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pct" ContentType="image/x-pict"/>
  <Override PartName="/ppt/media/image13.pct" ContentType="image/x-pict"/>
  <Override PartName="/ppt/media/image17.png" ContentType="image/png"/>
  <Override PartName="/ppt/media/image14.pct" ContentType="image/x-pict"/>
  <Override PartName="/ppt/media/image16.png" ContentType="image/png"/>
  <Override PartName="/ppt/media/image8.pct" ContentType="image/x-pict"/>
  <Override PartName="/ppt/media/image15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10.jpeg" ContentType="image/jpeg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B911-FF62-41E9-813D-0C3E4552D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7269-66E0-409A-A023-01AF0958F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3A10-DD29-40BC-AA48-4701DAA0C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89DF-8256-4666-B531-35508899A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0BE7-8682-4A40-9EB2-81125195D4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7CA2-B671-4B08-94F9-F7FC2760A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3EF2-BE98-4F26-9512-187CCDF58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18E6-69C6-4024-811C-C90552B688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04B5-0830-4C4A-B2F8-57796302E9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4640" y="0"/>
            <a:ext cx="8205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7DEC-AD4B-4A8C-84AE-67625ACB7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5854-226E-49E6-B3CB-C6B3013D5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6C61-29A2-47EF-A0B9-4F1B73B06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E551-D276-4A56-A5E6-21BAC61E1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6A79-CFEB-4E9D-B3D4-E4B1171B34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E176-CD37-4D38-80B4-2BECD2F4BF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D0E8-348A-4E21-A3BB-9390098CBB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0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644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0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644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6AFB-3D58-4056-81A7-C3A4F1C12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1402-CA89-40B3-BCD5-535427821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7059-1A26-4A5D-B6B0-646AB3B2B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04AB-DD0E-47F7-870E-B42940ED0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4640" y="0"/>
            <a:ext cx="8205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C190-465F-4075-A2D8-DE2F3B7B3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8E7F-1D14-469D-9F17-3E08B2CAB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7F36-AC89-4A71-A772-B0277EA40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6EB8-F7EB-475D-95E6-13C1819FF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4560" y="0"/>
            <a:ext cx="652788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62360" y="643860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B0A-7ECA-41F7-AD73-C22DC71A053B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96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540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4112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684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970400" y="6381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F6D-AA21-45D1-A42E-4ED4423846BE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59092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0760" y="3467160"/>
            <a:ext cx="65278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 Italic"/>
                <a:ea typeface="Arial Italic"/>
              </a:rPr>
              <a:t>From</a:t>
            </a:r>
            <a:r>
              <a:rPr b="0" lang="en-US" sz="2200" spc="-1" strike="noStrike">
                <a:solidFill>
                  <a:srgbClr val="663300"/>
                </a:solidFill>
                <a:latin typeface="Arial Black"/>
                <a:ea typeface="Arial Black"/>
              </a:rPr>
              <a:t> Coulouris, Dollimore, Kindberg and Blair</a:t>
            </a:r>
            <a:br>
              <a:rPr sz="22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Distributed Systems: </a:t>
            </a:r>
            <a:br>
              <a:rPr sz="26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Concepts and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  <a:ea typeface="Arial"/>
              </a:rPr>
              <a:t>Edition 5, © Addison-Wesley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360684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04560" y="0"/>
            <a:ext cx="652788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2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Architectural Model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8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-tier and three-tier architect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9440" y="1270080"/>
            <a:ext cx="514980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CE0C-3A0D-4CFB-AD43-16A601AA1B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 example: soccer score upd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new Ajax.Request('scores.php?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                   game=Arsenal:Liverpool’, 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                  {onSuccess: updateScore});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function updateScore(request)</a:t>
            </a: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{ 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.....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( </a:t>
            </a: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request</a:t>
            </a: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 contains the state of the Ajax request including the returned result.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The result is parsed to obtain some text giving the score, which is used to update the relevant portion of the current page.)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..... 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}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970400" y="6381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994A-829B-4A77-929B-1F33A5BFD040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404E-5DE7-46D5-A231-6C58541617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n clients and comput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4880" y="2928960"/>
            <a:ext cx="1834920" cy="1289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1000" y="2552760"/>
            <a:ext cx="2539800" cy="1950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5080" y="3144960"/>
            <a:ext cx="1512720" cy="871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51600" y="327492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92560" y="356220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80280" y="3075120"/>
            <a:ext cx="1641240" cy="906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21760" y="3230640"/>
            <a:ext cx="136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8160" y="354348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5920" y="2394000"/>
            <a:ext cx="305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twork computer or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160" y="2149560"/>
            <a:ext cx="198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7800" y="3492360"/>
            <a:ext cx="53352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200"/>
                </a:moveTo>
                <a:lnTo>
                  <a:pt x="5421" y="0"/>
                </a:lnTo>
                <a:lnTo>
                  <a:pt x="14455" y="7200"/>
                </a:lnTo>
                <a:lnTo>
                  <a:pt x="18068" y="14400"/>
                </a:lnTo>
                <a:lnTo>
                  <a:pt x="21600" y="216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46800" y="3492360"/>
            <a:ext cx="96516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7273" y="21600"/>
                </a:lnTo>
                <a:lnTo>
                  <a:pt x="9374" y="21600"/>
                </a:lnTo>
                <a:lnTo>
                  <a:pt x="3605" y="21600"/>
                </a:lnTo>
                <a:lnTo>
                  <a:pt x="0" y="216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75120" y="2865600"/>
            <a:ext cx="26064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4" y="5244"/>
                </a:moveTo>
                <a:lnTo>
                  <a:pt x="801" y="3933"/>
                </a:lnTo>
                <a:lnTo>
                  <a:pt x="2137" y="1966"/>
                </a:lnTo>
                <a:lnTo>
                  <a:pt x="3473" y="1311"/>
                </a:lnTo>
                <a:lnTo>
                  <a:pt x="4274" y="1311"/>
                </a:lnTo>
                <a:lnTo>
                  <a:pt x="4808" y="655"/>
                </a:lnTo>
                <a:lnTo>
                  <a:pt x="6399" y="1311"/>
                </a:lnTo>
                <a:lnTo>
                  <a:pt x="8001" y="1966"/>
                </a:lnTo>
                <a:lnTo>
                  <a:pt x="9604" y="1966"/>
                </a:lnTo>
                <a:lnTo>
                  <a:pt x="11207" y="1966"/>
                </a:lnTo>
                <a:lnTo>
                  <a:pt x="12263" y="1311"/>
                </a:lnTo>
                <a:lnTo>
                  <a:pt x="13064" y="655"/>
                </a:lnTo>
                <a:lnTo>
                  <a:pt x="14133" y="0"/>
                </a:lnTo>
                <a:lnTo>
                  <a:pt x="15468" y="0"/>
                </a:lnTo>
                <a:lnTo>
                  <a:pt x="16537" y="0"/>
                </a:lnTo>
                <a:lnTo>
                  <a:pt x="17338" y="655"/>
                </a:lnTo>
                <a:lnTo>
                  <a:pt x="17873" y="1311"/>
                </a:lnTo>
                <a:lnTo>
                  <a:pt x="18929" y="1966"/>
                </a:lnTo>
                <a:lnTo>
                  <a:pt x="19997" y="3933"/>
                </a:lnTo>
                <a:lnTo>
                  <a:pt x="21333" y="6554"/>
                </a:lnTo>
                <a:lnTo>
                  <a:pt x="21600" y="10457"/>
                </a:lnTo>
                <a:lnTo>
                  <a:pt x="21600" y="13079"/>
                </a:lnTo>
                <a:lnTo>
                  <a:pt x="21333" y="15046"/>
                </a:lnTo>
                <a:lnTo>
                  <a:pt x="20799" y="18978"/>
                </a:lnTo>
                <a:lnTo>
                  <a:pt x="19730" y="20289"/>
                </a:lnTo>
                <a:lnTo>
                  <a:pt x="18140" y="21600"/>
                </a:lnTo>
                <a:lnTo>
                  <a:pt x="16537" y="20945"/>
                </a:lnTo>
                <a:lnTo>
                  <a:pt x="14934" y="20289"/>
                </a:lnTo>
                <a:lnTo>
                  <a:pt x="13599" y="20289"/>
                </a:lnTo>
                <a:lnTo>
                  <a:pt x="12263" y="19634"/>
                </a:lnTo>
                <a:lnTo>
                  <a:pt x="10673" y="19634"/>
                </a:lnTo>
                <a:lnTo>
                  <a:pt x="9337" y="19634"/>
                </a:lnTo>
                <a:lnTo>
                  <a:pt x="8268" y="20289"/>
                </a:lnTo>
                <a:lnTo>
                  <a:pt x="7200" y="20289"/>
                </a:lnTo>
                <a:lnTo>
                  <a:pt x="6132" y="20289"/>
                </a:lnTo>
                <a:lnTo>
                  <a:pt x="5075" y="20945"/>
                </a:lnTo>
                <a:lnTo>
                  <a:pt x="4007" y="20945"/>
                </a:lnTo>
                <a:lnTo>
                  <a:pt x="3205" y="20945"/>
                </a:lnTo>
                <a:lnTo>
                  <a:pt x="2404" y="20289"/>
                </a:lnTo>
                <a:lnTo>
                  <a:pt x="1870" y="19634"/>
                </a:lnTo>
                <a:lnTo>
                  <a:pt x="1603" y="18978"/>
                </a:lnTo>
                <a:lnTo>
                  <a:pt x="1336" y="18323"/>
                </a:lnTo>
                <a:lnTo>
                  <a:pt x="801" y="17012"/>
                </a:lnTo>
                <a:lnTo>
                  <a:pt x="267" y="14390"/>
                </a:lnTo>
                <a:lnTo>
                  <a:pt x="0" y="12424"/>
                </a:lnTo>
                <a:lnTo>
                  <a:pt x="0" y="10457"/>
                </a:lnTo>
                <a:lnTo>
                  <a:pt x="0" y="8521"/>
                </a:lnTo>
                <a:lnTo>
                  <a:pt x="267" y="6554"/>
                </a:lnTo>
                <a:lnTo>
                  <a:pt x="534" y="5244"/>
                </a:lnTo>
                <a:lnTo>
                  <a:pt x="534" y="5244"/>
                </a:lnTo>
                <a:close/>
                <a:moveTo>
                  <a:pt x="534" y="5244"/>
                </a:moveTo>
              </a:path>
            </a:pathLst>
          </a:custGeom>
          <a:solidFill>
            <a:srgbClr val="ffdc99"/>
          </a:solidFill>
          <a:ln w="507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0160" y="3282840"/>
            <a:ext cx="979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92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eb service architectural patter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3080" y="1333440"/>
            <a:ext cx="844524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F875-E21C-4B50-A91D-E52549E65B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tegories of middlewa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1181160"/>
            <a:ext cx="589752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1906-CD83-4EC8-9CCF-AF819159922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-time ordering of ev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2760" y="1654200"/>
            <a:ext cx="802944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and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3640" y="2457360"/>
            <a:ext cx="788220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mission and arbitrary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680" y="1681200"/>
            <a:ext cx="157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of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4080" y="1668600"/>
            <a:ext cx="69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7280" y="166860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8440" y="1631880"/>
            <a:ext cx="179676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520" y="1631880"/>
            <a:ext cx="92232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32160" y="1631880"/>
            <a:ext cx="521028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800" y="2004840"/>
            <a:ext cx="90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-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199224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39000" y="1992240"/>
            <a:ext cx="556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halts and remains halted. Other processes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8360" y="2266920"/>
            <a:ext cx="163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thi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68440" y="1982880"/>
            <a:ext cx="7974000" cy="1440"/>
            <a:chOff x="568440" y="1982880"/>
            <a:chExt cx="7974000" cy="1440"/>
          </a:xfrm>
        </p:grpSpPr>
        <p:sp>
          <p:nvSpPr>
            <p:cNvPr id="170" name=""/>
            <p:cNvSpPr/>
            <p:nvPr/>
          </p:nvSpPr>
          <p:spPr>
            <a:xfrm>
              <a:off x="568440" y="1982880"/>
              <a:ext cx="179712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7880" y="1982880"/>
              <a:ext cx="92232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160" y="1982880"/>
              <a:ext cx="52102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42800" y="254160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7160" y="254160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39000" y="2541600"/>
            <a:ext cx="556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halts and remains halted. Other processes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5840" y="2816280"/>
            <a:ext cx="30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e able to detect thi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080" y="309096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6800" y="309096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27480" y="3090960"/>
            <a:ext cx="576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nserted in an outgoing message buffer n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1720" y="3365640"/>
            <a:ext cx="522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es at the other end’s incoming message buf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640" y="3639960"/>
            <a:ext cx="151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-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97160" y="363996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37920" y="3639960"/>
            <a:ext cx="235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 complet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08880" y="363996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92360" y="3639960"/>
            <a:ext cx="270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message is not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3240" y="3914640"/>
            <a:ext cx="315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ts outgoing message buf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720" y="4189320"/>
            <a:ext cx="182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-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97160" y="418932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25680" y="4189320"/>
            <a:ext cx="514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put in a process’s incoming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2520" y="4464000"/>
            <a:ext cx="434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, but that process does not receiv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720" y="4738680"/>
            <a:ext cx="95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680" y="501336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zant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6800" y="4738680"/>
            <a:ext cx="105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96800" y="501336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0080" y="4738680"/>
            <a:ext cx="531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/channel exhibits arbitrary behaviour: it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41880" y="5013360"/>
            <a:ext cx="520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/transmit arbitrary messages at arbitrary tim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40080" y="5288040"/>
            <a:ext cx="49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omissions; a process may stop or take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46560" y="556272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rect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8440" y="5864400"/>
            <a:ext cx="179676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87520" y="5864400"/>
            <a:ext cx="92232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32160" y="5864400"/>
            <a:ext cx="521028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ing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5200" y="2151000"/>
            <a:ext cx="8412840" cy="2049840"/>
            <a:chOff x="565200" y="2151000"/>
            <a:chExt cx="8412840" cy="2049840"/>
          </a:xfrm>
        </p:grpSpPr>
        <p:sp>
          <p:nvSpPr>
            <p:cNvPr id="206" name=""/>
            <p:cNvSpPr/>
            <p:nvPr/>
          </p:nvSpPr>
          <p:spPr>
            <a:xfrm>
              <a:off x="597960" y="2187360"/>
              <a:ext cx="165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00120" y="218736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9520" y="218736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200" y="2151000"/>
              <a:ext cx="17938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2840" y="21510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4400" y="2151000"/>
              <a:ext cx="437364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3720" y="252576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97960" y="25257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55120" y="2525760"/>
              <a:ext cx="480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’s local clock exceeds the bounds on 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65920" y="2798640"/>
              <a:ext cx="274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te of drift from real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65200" y="2487600"/>
              <a:ext cx="7962840" cy="1440"/>
              <a:chOff x="565200" y="2487600"/>
              <a:chExt cx="7962840" cy="1440"/>
            </a:xfrm>
          </p:grpSpPr>
          <p:sp>
            <p:nvSpPr>
              <p:cNvPr id="217" name=""/>
              <p:cNvSpPr/>
              <p:nvPr/>
            </p:nvSpPr>
            <p:spPr>
              <a:xfrm>
                <a:off x="565200" y="2487600"/>
                <a:ext cx="179388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82840" y="2487600"/>
                <a:ext cx="1749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54400" y="2487600"/>
                <a:ext cx="43736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01560" y="307332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97960" y="3073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2680" y="3073320"/>
              <a:ext cx="436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exceeds the bounds on the inter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68080" y="3348000"/>
              <a:ext cx="19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tween two ste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560" y="36226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98680" y="362268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9360" y="3622680"/>
              <a:ext cx="482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essage’s transmission takes longer tha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8080" y="389556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d bou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5200" y="4195800"/>
              <a:ext cx="17938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2840" y="41958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4400" y="4195800"/>
              <a:ext cx="437364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 and princip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8600" y="1957320"/>
            <a:ext cx="809280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enerations of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9680" y="1473120"/>
            <a:ext cx="87264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2A6C-6DF0-49D0-BF45-66987434E09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nem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6600" y="2685960"/>
            <a:ext cx="4162320" cy="199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95" y="1910"/>
                </a:moveTo>
                <a:lnTo>
                  <a:pt x="15290" y="1274"/>
                </a:lnTo>
                <a:lnTo>
                  <a:pt x="11921" y="0"/>
                </a:lnTo>
                <a:lnTo>
                  <a:pt x="9397" y="0"/>
                </a:lnTo>
                <a:lnTo>
                  <a:pt x="6873" y="637"/>
                </a:lnTo>
                <a:lnTo>
                  <a:pt x="1969" y="2220"/>
                </a:lnTo>
                <a:lnTo>
                  <a:pt x="844" y="3184"/>
                </a:lnTo>
                <a:lnTo>
                  <a:pt x="426" y="5404"/>
                </a:lnTo>
                <a:lnTo>
                  <a:pt x="144" y="10482"/>
                </a:lnTo>
                <a:lnTo>
                  <a:pt x="0" y="13339"/>
                </a:lnTo>
                <a:lnTo>
                  <a:pt x="707" y="15886"/>
                </a:lnTo>
                <a:lnTo>
                  <a:pt x="3087" y="19363"/>
                </a:lnTo>
                <a:lnTo>
                  <a:pt x="4493" y="20636"/>
                </a:lnTo>
                <a:lnTo>
                  <a:pt x="5892" y="21273"/>
                </a:lnTo>
                <a:lnTo>
                  <a:pt x="8979" y="21600"/>
                </a:lnTo>
                <a:lnTo>
                  <a:pt x="15153" y="20326"/>
                </a:lnTo>
                <a:lnTo>
                  <a:pt x="17532" y="19690"/>
                </a:lnTo>
                <a:lnTo>
                  <a:pt x="19775" y="17779"/>
                </a:lnTo>
                <a:lnTo>
                  <a:pt x="20619" y="16196"/>
                </a:lnTo>
                <a:lnTo>
                  <a:pt x="21319" y="13975"/>
                </a:lnTo>
                <a:lnTo>
                  <a:pt x="21600" y="11755"/>
                </a:lnTo>
                <a:lnTo>
                  <a:pt x="21463" y="9208"/>
                </a:lnTo>
                <a:lnTo>
                  <a:pt x="20756" y="4458"/>
                </a:lnTo>
                <a:lnTo>
                  <a:pt x="20057" y="2857"/>
                </a:lnTo>
                <a:lnTo>
                  <a:pt x="18939" y="2220"/>
                </a:lnTo>
                <a:lnTo>
                  <a:pt x="18795" y="1910"/>
                </a:lnTo>
                <a:close/>
                <a:moveTo>
                  <a:pt x="18795" y="1910"/>
                </a:moveTo>
              </a:path>
            </a:pathLst>
          </a:custGeom>
          <a:solidFill>
            <a:srgbClr val="ffdc99"/>
          </a:solidFill>
          <a:ln w="428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9680" y="2722680"/>
            <a:ext cx="1919160" cy="7030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0680" y="3900600"/>
            <a:ext cx="258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mmunication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4840" y="2197080"/>
            <a:ext cx="898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py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08720" y="2173320"/>
            <a:ext cx="25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3920" y="3184560"/>
            <a:ext cx="1432080" cy="9666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5080" y="3271680"/>
            <a:ext cx="1379520" cy="8208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0600" y="3535200"/>
            <a:ext cx="4567320" cy="180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90600" y="3798720"/>
            <a:ext cx="4567320" cy="180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360" y="351468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2320" y="34909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2040" y="3544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93280" y="352116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6240" y="3490920"/>
            <a:ext cx="25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14680" y="3594240"/>
            <a:ext cx="109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87"/>
                </a:moveTo>
                <a:lnTo>
                  <a:pt x="0" y="0"/>
                </a:lnTo>
                <a:lnTo>
                  <a:pt x="21600" y="8687"/>
                </a:lnTo>
                <a:lnTo>
                  <a:pt x="0" y="21600"/>
                </a:lnTo>
                <a:lnTo>
                  <a:pt x="0" y="8687"/>
                </a:lnTo>
                <a:close/>
                <a:moveTo>
                  <a:pt x="0" y="8687"/>
                </a:moveTo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7040" y="3652920"/>
            <a:ext cx="377640" cy="144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77720" y="2913120"/>
            <a:ext cx="120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ene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57600" y="2158920"/>
            <a:ext cx="1269720" cy="38124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88280" y="3594240"/>
            <a:ext cx="1076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87"/>
                </a:moveTo>
                <a:lnTo>
                  <a:pt x="0" y="0"/>
                </a:lnTo>
                <a:lnTo>
                  <a:pt x="21600" y="8687"/>
                </a:lnTo>
                <a:lnTo>
                  <a:pt x="0" y="21600"/>
                </a:lnTo>
                <a:lnTo>
                  <a:pt x="0" y="8687"/>
                </a:lnTo>
                <a:close/>
                <a:moveTo>
                  <a:pt x="0" y="8687"/>
                </a:moveTo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08840" y="3652920"/>
            <a:ext cx="352440" cy="144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5440" y="3139920"/>
            <a:ext cx="29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865840" y="3417480"/>
            <a:ext cx="216000" cy="23508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59120" y="3448080"/>
            <a:ext cx="79560" cy="43956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13120" y="3360600"/>
            <a:ext cx="54000" cy="11592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03680" y="2511360"/>
            <a:ext cx="2444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28" y="13576"/>
                </a:lnTo>
                <a:lnTo>
                  <a:pt x="21600" y="18390"/>
                </a:lnTo>
                <a:lnTo>
                  <a:pt x="16786" y="21600"/>
                </a:lnTo>
              </a:path>
            </a:pathLst>
          </a:custGeom>
          <a:noFill/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19520" y="250200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95480" y="2484360"/>
            <a:ext cx="171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457760" y="2705040"/>
            <a:ext cx="136440" cy="26532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0800" y="2941560"/>
            <a:ext cx="1657080" cy="120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024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78800" y="3059280"/>
            <a:ext cx="1441440" cy="9712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160" y="2941560"/>
            <a:ext cx="1683000" cy="1176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024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1160" y="3117960"/>
            <a:ext cx="1386000" cy="8236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60600" y="2529000"/>
            <a:ext cx="4183200" cy="20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93" y="1901"/>
                </a:moveTo>
                <a:lnTo>
                  <a:pt x="15290" y="1268"/>
                </a:lnTo>
                <a:lnTo>
                  <a:pt x="11924" y="325"/>
                </a:lnTo>
                <a:lnTo>
                  <a:pt x="9397" y="0"/>
                </a:lnTo>
                <a:lnTo>
                  <a:pt x="6870" y="634"/>
                </a:lnTo>
                <a:lnTo>
                  <a:pt x="1960" y="2227"/>
                </a:lnTo>
                <a:lnTo>
                  <a:pt x="840" y="3494"/>
                </a:lnTo>
                <a:lnTo>
                  <a:pt x="424" y="5396"/>
                </a:lnTo>
                <a:lnTo>
                  <a:pt x="136" y="10483"/>
                </a:lnTo>
                <a:lnTo>
                  <a:pt x="0" y="13652"/>
                </a:lnTo>
                <a:lnTo>
                  <a:pt x="704" y="16204"/>
                </a:lnTo>
                <a:lnTo>
                  <a:pt x="3087" y="19373"/>
                </a:lnTo>
                <a:lnTo>
                  <a:pt x="4486" y="20966"/>
                </a:lnTo>
                <a:lnTo>
                  <a:pt x="6030" y="21600"/>
                </a:lnTo>
                <a:lnTo>
                  <a:pt x="8973" y="21600"/>
                </a:lnTo>
                <a:lnTo>
                  <a:pt x="15146" y="20641"/>
                </a:lnTo>
                <a:lnTo>
                  <a:pt x="17530" y="20007"/>
                </a:lnTo>
                <a:lnTo>
                  <a:pt x="19777" y="17780"/>
                </a:lnTo>
                <a:lnTo>
                  <a:pt x="20616" y="16204"/>
                </a:lnTo>
                <a:lnTo>
                  <a:pt x="21320" y="14286"/>
                </a:lnTo>
                <a:lnTo>
                  <a:pt x="21600" y="11751"/>
                </a:lnTo>
                <a:lnTo>
                  <a:pt x="21456" y="9216"/>
                </a:lnTo>
                <a:lnTo>
                  <a:pt x="20760" y="4762"/>
                </a:lnTo>
                <a:lnTo>
                  <a:pt x="20057" y="2861"/>
                </a:lnTo>
                <a:lnTo>
                  <a:pt x="18937" y="2535"/>
                </a:lnTo>
                <a:lnTo>
                  <a:pt x="18793" y="1901"/>
                </a:lnTo>
                <a:close/>
                <a:moveTo>
                  <a:pt x="18793" y="1901"/>
                </a:moveTo>
              </a:path>
            </a:pathLst>
          </a:custGeom>
          <a:solidFill>
            <a:srgbClr val="ffdc99"/>
          </a:solidFill>
          <a:ln w="302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43160" y="3382920"/>
            <a:ext cx="4589280" cy="180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42440" y="3668760"/>
            <a:ext cx="4605480" cy="1440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43720" y="3367080"/>
            <a:ext cx="167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cure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7080" y="3355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0760" y="333864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64200" y="339264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6440" y="336708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8200" y="241452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48560" y="2379600"/>
            <a:ext cx="17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74600" y="2793960"/>
            <a:ext cx="135000" cy="26532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unicating entities and communication paradig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2760" y="1979640"/>
            <a:ext cx="8178480" cy="34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0137-7986-4BA7-B096-965DBE17BD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s invoke individual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5480" y="1976400"/>
            <a:ext cx="7975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er-to-peer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320840"/>
            <a:ext cx="4940280" cy="50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vice provided by multipl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61960" y="1455840"/>
            <a:ext cx="590868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proxy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5760" y="2117880"/>
            <a:ext cx="806580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ppl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7720" y="1620720"/>
            <a:ext cx="8110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ftware and hardware service layers in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0040" y="1433520"/>
            <a:ext cx="7547040" cy="466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oulouris</dc:creator>
  <dc:description/>
  <dc:language>en-US</dc:language>
  <cp:lastModifiedBy/>
  <cp:revision>0</cp:revision>
  <dc:subject/>
  <dc:title>Figure 15.1 A distributed multimedia system</dc:title>
</cp:coreProperties>
</file>