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jpeg" ContentType="image/jpeg"/>
  <Override PartName="/ppt/media/image44.png" ContentType="image/png"/>
  <Override PartName="/ppt/media/image41.jpeg" ContentType="image/jpeg"/>
  <Override PartName="/ppt/media/image45.jpeg" ContentType="image/jpeg"/>
  <Override PartName="/ppt/media/image43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5.jpeg" ContentType="image/jpeg"/>
  <Override PartName="/ppt/media/image46.jpeg" ContentType="image/jpe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6.jpeg" ContentType="image/jpeg"/>
  <Override PartName="/ppt/media/image42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10288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669960" y="766440"/>
            <a:ext cx="57592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7"/>
          </p:nvPr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E88BC9E-0CE2-4BD9-9515-DCAA06726E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sula: damage to this area has been linked to verbal dysprax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yspraxia: a dysfunction of motor planning in the absence of muscular weakness or muscular dys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the insula, it would be damage producing the simplest verbal ges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arahippocampus: emotional memory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CA65-54CF-4F0C-BB3E-AD0B304AB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080" y="3756240"/>
            <a:ext cx="900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48659-4AE9-4629-A0C6-0DDE4DF17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408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2640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22C0-9551-478D-BF57-00F8DE8EC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57520" y="144792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00600" y="144792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4080" y="375624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57520" y="375624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00600" y="375624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D1829-3050-4624-BE9E-59410190E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9EFAA-97FD-4C46-BC79-388F2380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89FD7-C80B-4911-A938-4D831A3D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413DC-066C-4762-A365-55198B6E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AFB9E-0B1A-4F85-B3EB-9D59C3EC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8ED9B-5998-40F2-B520-0D7CAA48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479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E627A-F061-4AE0-99EE-60640A86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08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D04A1-FA32-49E9-B76A-552DF635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40E8-6265-486B-8D8C-761A6F185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2640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A810E-326F-4D86-951A-BE032CE4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4080" y="3756240"/>
            <a:ext cx="900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B8DDD-6D7C-4A23-AC9E-A995107B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080" y="3756240"/>
            <a:ext cx="900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4805B-5A05-42CF-B04D-F55CB89C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408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2640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F9285-889C-44CA-A20E-67C36A85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57520" y="144792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00600" y="144792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4080" y="375624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57520" y="375624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00600" y="3756240"/>
            <a:ext cx="2898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DD9DA-B4BE-4735-9FB9-E525C40D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DC603-8911-481D-B0C2-B21B5BDEC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9558-464C-498C-A9A0-4E3A909F4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C2C57-E15A-4B6D-882B-2E3E28474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17790-2EC1-459F-ABD0-2254954A8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08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201B0-4162-43D3-8DF1-0BA0DC304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26400" y="375624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E364-ABAA-4F61-988B-2CA6A67EC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6400" y="1447920"/>
            <a:ext cx="439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4080" y="3756240"/>
            <a:ext cx="9001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14EE-CD10-4639-B89A-241A879BB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287000" cy="1295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1435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B1D4-B569-41A3-BA70-B69F9204CA89}" type="slidenum">
              <a:rPr b="1" lang="en-GB" sz="20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hdr_logo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10287000" cy="1295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6" name="hdr_logo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514368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71480" y="990720"/>
            <a:ext cx="5829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086000" y="4889520"/>
            <a:ext cx="5486400" cy="318960"/>
            <a:chOff x="4086000" y="4889520"/>
            <a:chExt cx="5486400" cy="318960"/>
          </a:xfrm>
        </p:grpSpPr>
        <p:sp>
          <p:nvSpPr>
            <p:cNvPr id="46" name=""/>
            <p:cNvSpPr/>
            <p:nvPr/>
          </p:nvSpPr>
          <p:spPr>
            <a:xfrm flipH="1">
              <a:off x="4085640" y="4889520"/>
              <a:ext cx="52038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279720" y="4889520"/>
              <a:ext cx="2926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2"/>
          </p:nvPr>
        </p:nvSpPr>
        <p:spPr>
          <a:xfrm>
            <a:off x="3000240" y="6550560"/>
            <a:ext cx="21434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5845320" y="6550560"/>
            <a:ext cx="3689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11160" y="6358320"/>
            <a:ext cx="6602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A3D8-F273-4260-84D4-8CB1D3D181E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1053720" y="1425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3 C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ross Anatom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1295280"/>
            <a:ext cx="624816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981080"/>
            <a:ext cx="95536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1295280"/>
            <a:ext cx="1143000" cy="137160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371600"/>
              <a:gd name="textAreaBottom" fmla="*/ 1315800 h 1371600"/>
            </a:gdLst>
            <a:ahLst/>
            <a:rect l="textAreaLeft" t="textAreaTop" r="textAreaRight" b="textAreaBottom"/>
            <a:pathLst>
              <a:path w="21600" h="25919">
                <a:moveTo>
                  <a:pt x="3600" y="0"/>
                </a:moveTo>
                <a:arcTo wR="3600" hR="3600" stAng="16200000" swAng="-5400000"/>
                <a:lnTo>
                  <a:pt x="0" y="22319"/>
                </a:lnTo>
                <a:arcTo wR="3600" hR="3600" stAng="10800000" swAng="-5400000"/>
                <a:lnTo>
                  <a:pt x="18000" y="259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hris Rorden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46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University of South Carolina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46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ial"/>
              </a:rPr>
              <a:t>Norman J. Arnold School of Public Health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46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ial"/>
              </a:rPr>
              <a:t>Department of Communication Sciences and Disorder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46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Times New Roman"/>
              </a:rPr>
              <a:t>University of South Carolina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9CBF0-9C83-44C9-8860-86DFE6B33F0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dun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eduncles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3505320" cy="3504960"/>
          </a:xfrm>
          <a:prstGeom prst="rect">
            <a:avLst/>
          </a:prstGeom>
          <a:ln w="0">
            <a:noFill/>
          </a:ln>
        </p:spPr>
      </p:pic>
      <p:pic>
        <p:nvPicPr>
          <p:cNvPr id="134" name="ped2" descr=""/>
          <p:cNvPicPr/>
          <p:nvPr/>
        </p:nvPicPr>
        <p:blipFill>
          <a:blip r:embed="rId2"/>
          <a:stretch/>
        </p:blipFill>
        <p:spPr>
          <a:xfrm>
            <a:off x="152280" y="3809880"/>
            <a:ext cx="4114800" cy="2525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063160" y="35812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Rounded MT Bold"/>
              </a:rPr>
              <a:t>A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68560" y="62485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Rounded MT Bold"/>
              </a:rPr>
              <a:t>P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3600" y="236232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Rounded MT Bold"/>
              </a:rPr>
              <a:t>Pes Pedunculi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 Rounded MT Bold"/>
              </a:rPr>
              <a:t>(Cerebral peduncle)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294920" y="3124080"/>
            <a:ext cx="228600" cy="6858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39" name="Gray677" descr=""/>
          <p:cNvPicPr/>
          <p:nvPr/>
        </p:nvPicPr>
        <p:blipFill>
          <a:blip r:embed="rId3"/>
          <a:stretch/>
        </p:blipFill>
        <p:spPr>
          <a:xfrm>
            <a:off x="6095880" y="3179880"/>
            <a:ext cx="4191120" cy="3678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423200" y="5367240"/>
            <a:ext cx="7682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10960" y="502920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Rounded MT Bold"/>
              </a:rPr>
              <a:t>A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45000" y="50292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Rounded MT Bold"/>
              </a:rPr>
              <a:t>P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BAC3-D493-4770-9594-C4FEE0C496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ons" descr=""/>
          <p:cNvPicPr/>
          <p:nvPr/>
        </p:nvPicPr>
        <p:blipFill>
          <a:blip r:embed="rId1"/>
          <a:stretch/>
        </p:blipFill>
        <p:spPr>
          <a:xfrm>
            <a:off x="0" y="12952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44" name="pons2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3571920" cy="3495960"/>
          </a:xfrm>
          <a:prstGeom prst="rect">
            <a:avLst/>
          </a:prstGeom>
          <a:ln w="0">
            <a:noFill/>
          </a:ln>
        </p:spPr>
      </p:pic>
      <p:pic>
        <p:nvPicPr>
          <p:cNvPr id="145" name="pons" descr=""/>
          <p:cNvPicPr/>
          <p:nvPr/>
        </p:nvPicPr>
        <p:blipFill>
          <a:blip r:embed="rId3"/>
          <a:stretch/>
        </p:blipFill>
        <p:spPr>
          <a:xfrm>
            <a:off x="0" y="3657600"/>
            <a:ext cx="4495680" cy="3200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or Fibers in the P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14880" y="3429000"/>
            <a:ext cx="26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orticospinal Tract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181480" y="2666520"/>
            <a:ext cx="2057400" cy="76212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361960" y="5410080"/>
            <a:ext cx="1904760" cy="0"/>
          </a:xfrm>
          <a:prstGeom prst="line">
            <a:avLst/>
          </a:prstGeom>
          <a:ln w="5724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8880" y="5105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4200" y="1600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74200" y="5486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265A0-C4BA-4571-AEF4-A884D85D01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medulla" descr=""/>
          <p:cNvPicPr/>
          <p:nvPr/>
        </p:nvPicPr>
        <p:blipFill>
          <a:blip r:embed="rId1"/>
          <a:stretch/>
        </p:blipFill>
        <p:spPr>
          <a:xfrm>
            <a:off x="0" y="12952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54" name="medulla" descr=""/>
          <p:cNvPicPr/>
          <p:nvPr/>
        </p:nvPicPr>
        <p:blipFill>
          <a:blip r:embed="rId2"/>
          <a:stretch/>
        </p:blipFill>
        <p:spPr>
          <a:xfrm>
            <a:off x="5867280" y="2157480"/>
            <a:ext cx="3724560" cy="25430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or Fibers in the Medull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181480" y="2286000"/>
            <a:ext cx="2052720" cy="9144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313848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yramidal Tract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58" name="pons" descr=""/>
          <p:cNvPicPr/>
          <p:nvPr/>
        </p:nvPicPr>
        <p:blipFill>
          <a:blip r:embed="rId3"/>
          <a:stretch/>
        </p:blipFill>
        <p:spPr>
          <a:xfrm>
            <a:off x="0" y="3657600"/>
            <a:ext cx="4495680" cy="3200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flipH="1">
            <a:off x="1676160" y="6553080"/>
            <a:ext cx="1904760" cy="0"/>
          </a:xfrm>
          <a:prstGeom prst="line">
            <a:avLst/>
          </a:prstGeom>
          <a:ln w="5724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9400" y="6278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69280" y="1600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45600" y="472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D8CD-ABE4-4E4F-88DC-4BCCCA4B68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or Fibers in the Spinal C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Fig3_1e" descr=""/>
          <p:cNvPicPr/>
          <p:nvPr/>
        </p:nvPicPr>
        <p:blipFill>
          <a:blip r:embed="rId1"/>
          <a:stretch/>
        </p:blipFill>
        <p:spPr>
          <a:xfrm>
            <a:off x="4038480" y="1752480"/>
            <a:ext cx="4154760" cy="46785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038320" y="392436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yramidal Tract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952880" y="3718080"/>
            <a:ext cx="460440" cy="31752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77360" y="3664080"/>
            <a:ext cx="2529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Latera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orticospina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ract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7052760" y="4705200"/>
            <a:ext cx="1041480" cy="109404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9080" y="6095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45400" y="1295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824FC-96D0-427E-A618-33FA0DB576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S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Fig3_1a" descr=""/>
          <p:cNvPicPr/>
          <p:nvPr/>
        </p:nvPicPr>
        <p:blipFill>
          <a:blip r:embed="rId1"/>
          <a:stretch/>
        </p:blipFill>
        <p:spPr>
          <a:xfrm>
            <a:off x="3962520" y="2209680"/>
            <a:ext cx="3962160" cy="3365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343760" y="1295280"/>
            <a:ext cx="34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Lateral Ventricles 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1828800"/>
            <a:ext cx="533160" cy="16002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562360" y="1828800"/>
            <a:ext cx="228600" cy="16002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2400" y="579132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Ventricl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5866920" y="4190760"/>
            <a:ext cx="2210040" cy="16002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78" name="Fig3_1b" descr=""/>
          <p:cNvPicPr/>
          <p:nvPr/>
        </p:nvPicPr>
        <p:blipFill>
          <a:blip r:embed="rId2"/>
          <a:stretch/>
        </p:blipFill>
        <p:spPr>
          <a:xfrm>
            <a:off x="0" y="2070000"/>
            <a:ext cx="2209680" cy="1359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60" y="134604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erebral Aqueduct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80" name="Fig3_1c" descr=""/>
          <p:cNvPicPr/>
          <p:nvPr/>
        </p:nvPicPr>
        <p:blipFill>
          <a:blip r:embed="rId3"/>
          <a:stretch/>
        </p:blipFill>
        <p:spPr>
          <a:xfrm>
            <a:off x="380880" y="3429000"/>
            <a:ext cx="1676520" cy="1639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819520" y="5943600"/>
            <a:ext cx="30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Ventricl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371600" y="3733920"/>
            <a:ext cx="2743200" cy="220968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83" name="Fig3_1d" descr=""/>
          <p:cNvPicPr/>
          <p:nvPr/>
        </p:nvPicPr>
        <p:blipFill>
          <a:blip r:embed="rId4"/>
          <a:stretch/>
        </p:blipFill>
        <p:spPr>
          <a:xfrm>
            <a:off x="0" y="5154480"/>
            <a:ext cx="2286000" cy="1703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flipH="1" flipV="1">
            <a:off x="1142640" y="5257440"/>
            <a:ext cx="2971800" cy="6858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93DF-653C-47A1-898B-4EA9EB5594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ntr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6019560" cy="430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143B-9F2E-4530-92CE-02D9EE0572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tions of the Br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ote whether views are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xial (Horizontal) Views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ronal View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Less need for familiarity with sagittal view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Look for relationships and shapes of structur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CFFA-53C5-47DA-A6A2-516E9587E5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ebell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895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Heavily folded appearance – huge number of neurons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92" name="cerebellum" descr=""/>
          <p:cNvPicPr/>
          <p:nvPr/>
        </p:nvPicPr>
        <p:blipFill>
          <a:blip r:embed="rId1"/>
          <a:stretch/>
        </p:blipFill>
        <p:spPr>
          <a:xfrm>
            <a:off x="5737320" y="2308320"/>
            <a:ext cx="4549680" cy="45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3E62-E44A-42EF-9AC2-73394E106E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lam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Difficult to see on MRI scan – similar contrast to nearby white matter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ajor portion of diencephalon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95" name="Telencephalon-Horiconatal" descr=""/>
          <p:cNvPicPr/>
          <p:nvPr/>
        </p:nvPicPr>
        <p:blipFill>
          <a:blip r:embed="rId1"/>
          <a:stretch/>
        </p:blipFill>
        <p:spPr>
          <a:xfrm>
            <a:off x="5425920" y="1295280"/>
            <a:ext cx="4861080" cy="55627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315200" y="3583080"/>
            <a:ext cx="457200" cy="1019160"/>
          </a:xfrm>
          <a:custGeom>
            <a:avLst/>
            <a:gdLst/>
            <a:ahLst/>
            <a:rect l="l" t="t" r="r" b="b"/>
            <a:pathLst>
              <a:path w="288" h="642">
                <a:moveTo>
                  <a:pt x="0" y="239"/>
                </a:moveTo>
                <a:lnTo>
                  <a:pt x="0" y="431"/>
                </a:lnTo>
                <a:lnTo>
                  <a:pt x="48" y="575"/>
                </a:lnTo>
                <a:cubicBezTo>
                  <a:pt x="88" y="607"/>
                  <a:pt x="204" y="642"/>
                  <a:pt x="240" y="623"/>
                </a:cubicBezTo>
                <a:cubicBezTo>
                  <a:pt x="288" y="623"/>
                  <a:pt x="254" y="511"/>
                  <a:pt x="262" y="463"/>
                </a:cubicBezTo>
                <a:cubicBezTo>
                  <a:pt x="270" y="415"/>
                  <a:pt x="283" y="417"/>
                  <a:pt x="243" y="329"/>
                </a:cubicBezTo>
                <a:cubicBezTo>
                  <a:pt x="203" y="241"/>
                  <a:pt x="98" y="30"/>
                  <a:pt x="58" y="15"/>
                </a:cubicBezTo>
                <a:cubicBezTo>
                  <a:pt x="18" y="0"/>
                  <a:pt x="12" y="192"/>
                  <a:pt x="0" y="239"/>
                </a:cubicBezTo>
                <a:close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97" name="thalamus" descr=""/>
          <p:cNvPicPr/>
          <p:nvPr/>
        </p:nvPicPr>
        <p:blipFill>
          <a:blip r:embed="rId2"/>
          <a:stretch/>
        </p:blipFill>
        <p:spPr>
          <a:xfrm>
            <a:off x="0" y="41688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5BF4-3020-42DE-8CFE-E9A979C753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lam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5352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nsory information is relayed to the cortex via the thalamus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uditory, somatic, visceral, gustatory and vision (but not smell) each have dedicated nuclei in thalamus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ot just relaying information: thalamic nuclei have </a:t>
            </a:r>
            <a:r>
              <a:rPr b="0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reciprocal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connections with cortex.  Regulates level of awareness - damaged can lead to coma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00" name="f02_09" descr=""/>
          <p:cNvPicPr/>
          <p:nvPr/>
        </p:nvPicPr>
        <p:blipFill>
          <a:blip r:embed="rId1"/>
          <a:stretch/>
        </p:blipFill>
        <p:spPr>
          <a:xfrm>
            <a:off x="5867280" y="2440080"/>
            <a:ext cx="4411800" cy="439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AA2BE-F1B4-4E4F-92BB-8C25B176BB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Objec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o be able to identify the level of the CNS by recognizing the landmarks in transverse, horizontal, and coronal section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rain, brainstem, spinal cord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quires practice and drill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Use book, atlases and software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Look for shape, size, location and proximity to other features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EB57-B782-4924-B96A-6A82E457B1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lamu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al, posterior to basal gangl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Fig2_17" descr=""/>
          <p:cNvPicPr/>
          <p:nvPr/>
        </p:nvPicPr>
        <p:blipFill>
          <a:blip r:embed="rId1"/>
          <a:stretch/>
        </p:blipFill>
        <p:spPr>
          <a:xfrm>
            <a:off x="1246320" y="2209680"/>
            <a:ext cx="4814640" cy="40579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041920" y="1523880"/>
            <a:ext cx="31374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eft for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Internal Capsul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40" y="2119320"/>
            <a:ext cx="17154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Head of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audat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ucleu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46320" y="3208320"/>
            <a:ext cx="298440" cy="2811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007800" y="2254320"/>
            <a:ext cx="389160" cy="88272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53760" y="2470320"/>
            <a:ext cx="1738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almu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719600" y="2747880"/>
            <a:ext cx="512640" cy="86544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40" y="4811760"/>
            <a:ext cx="1805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utamen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809720" y="4459320"/>
            <a:ext cx="1181160" cy="52848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7720" y="5438880"/>
            <a:ext cx="23022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mygdaloid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ucleu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286000" y="5852880"/>
            <a:ext cx="511200" cy="1047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44800" y="5440320"/>
            <a:ext cx="329724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ail of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audate Nucleu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319360" y="5481360"/>
            <a:ext cx="369720" cy="1587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823080" y="1371600"/>
            <a:ext cx="3460680" cy="40384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366280" y="640080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View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1B8E-4E90-4302-BDC1-9DF6061700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lam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ot seen on the more anterior coronal slices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19" name="coro" descr=""/>
          <p:cNvPicPr/>
          <p:nvPr/>
        </p:nvPicPr>
        <p:blipFill>
          <a:blip r:embed="rId1"/>
          <a:stretch/>
        </p:blipFill>
        <p:spPr>
          <a:xfrm>
            <a:off x="0" y="4886280"/>
            <a:ext cx="10287000" cy="1971720"/>
          </a:xfrm>
          <a:prstGeom prst="rect">
            <a:avLst/>
          </a:prstGeom>
          <a:ln w="0">
            <a:noFill/>
          </a:ln>
        </p:spPr>
      </p:pic>
      <p:pic>
        <p:nvPicPr>
          <p:cNvPr id="220" name="axial" descr=""/>
          <p:cNvPicPr/>
          <p:nvPr/>
        </p:nvPicPr>
        <p:blipFill>
          <a:blip r:embed="rId2"/>
          <a:stretch/>
        </p:blipFill>
        <p:spPr>
          <a:xfrm>
            <a:off x="0" y="2228760"/>
            <a:ext cx="9601200" cy="26780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286000" y="3467160"/>
            <a:ext cx="241200" cy="266760"/>
          </a:xfrm>
          <a:custGeom>
            <a:avLst/>
            <a:gdLst/>
            <a:ahLst/>
            <a:rect l="l" t="t" r="r" b="b"/>
            <a:pathLst>
              <a:path w="152" h="168">
                <a:moveTo>
                  <a:pt x="48" y="24"/>
                </a:moveTo>
                <a:cubicBezTo>
                  <a:pt x="72" y="48"/>
                  <a:pt x="152" y="152"/>
                  <a:pt x="144" y="168"/>
                </a:cubicBezTo>
                <a:lnTo>
                  <a:pt x="0" y="120"/>
                </a:lnTo>
                <a:lnTo>
                  <a:pt x="0" y="24"/>
                </a:lnTo>
                <a:cubicBezTo>
                  <a:pt x="8" y="8"/>
                  <a:pt x="24" y="0"/>
                  <a:pt x="48" y="24"/>
                </a:cubicBezTo>
                <a:close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3365640"/>
            <a:ext cx="347760" cy="511200"/>
          </a:xfrm>
          <a:custGeom>
            <a:avLst/>
            <a:gdLst/>
            <a:ahLst/>
            <a:rect l="l" t="t" r="r" b="b"/>
            <a:pathLst>
              <a:path w="219" h="322">
                <a:moveTo>
                  <a:pt x="80" y="40"/>
                </a:moveTo>
                <a:cubicBezTo>
                  <a:pt x="116" y="80"/>
                  <a:pt x="217" y="242"/>
                  <a:pt x="218" y="282"/>
                </a:cubicBezTo>
                <a:cubicBezTo>
                  <a:pt x="219" y="322"/>
                  <a:pt x="127" y="298"/>
                  <a:pt x="87" y="282"/>
                </a:cubicBezTo>
                <a:lnTo>
                  <a:pt x="0" y="232"/>
                </a:lnTo>
                <a:lnTo>
                  <a:pt x="0" y="40"/>
                </a:lnTo>
                <a:cubicBezTo>
                  <a:pt x="0" y="40"/>
                  <a:pt x="44" y="0"/>
                  <a:pt x="80" y="40"/>
                </a:cubicBezTo>
                <a:close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3376440"/>
            <a:ext cx="271440" cy="449280"/>
          </a:xfrm>
          <a:custGeom>
            <a:avLst/>
            <a:gdLst/>
            <a:ahLst/>
            <a:rect l="l" t="t" r="r" b="b"/>
            <a:pathLst>
              <a:path w="171" h="283">
                <a:moveTo>
                  <a:pt x="59" y="66"/>
                </a:moveTo>
                <a:cubicBezTo>
                  <a:pt x="95" y="106"/>
                  <a:pt x="169" y="170"/>
                  <a:pt x="170" y="210"/>
                </a:cubicBezTo>
                <a:cubicBezTo>
                  <a:pt x="171" y="250"/>
                  <a:pt x="127" y="283"/>
                  <a:pt x="87" y="267"/>
                </a:cubicBezTo>
                <a:lnTo>
                  <a:pt x="0" y="217"/>
                </a:lnTo>
                <a:lnTo>
                  <a:pt x="0" y="25"/>
                </a:lnTo>
                <a:cubicBezTo>
                  <a:pt x="10" y="0"/>
                  <a:pt x="23" y="26"/>
                  <a:pt x="59" y="66"/>
                </a:cubicBezTo>
                <a:close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601200" y="3886200"/>
            <a:ext cx="228600" cy="2286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8839080" y="4571640"/>
            <a:ext cx="228600" cy="38088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343400" y="5942880"/>
            <a:ext cx="271440" cy="304920"/>
          </a:xfrm>
          <a:custGeom>
            <a:avLst/>
            <a:gdLst/>
            <a:ahLst/>
            <a:rect l="l" t="t" r="r" b="b"/>
            <a:pathLst>
              <a:path w="171" h="283">
                <a:moveTo>
                  <a:pt x="59" y="66"/>
                </a:moveTo>
                <a:cubicBezTo>
                  <a:pt x="95" y="106"/>
                  <a:pt x="169" y="170"/>
                  <a:pt x="170" y="210"/>
                </a:cubicBezTo>
                <a:cubicBezTo>
                  <a:pt x="171" y="250"/>
                  <a:pt x="127" y="283"/>
                  <a:pt x="87" y="267"/>
                </a:cubicBezTo>
                <a:lnTo>
                  <a:pt x="0" y="217"/>
                </a:lnTo>
                <a:lnTo>
                  <a:pt x="0" y="25"/>
                </a:lnTo>
                <a:cubicBezTo>
                  <a:pt x="10" y="0"/>
                  <a:pt x="23" y="26"/>
                  <a:pt x="59" y="66"/>
                </a:cubicBezTo>
                <a:close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486400" y="6019200"/>
            <a:ext cx="271440" cy="228600"/>
          </a:xfrm>
          <a:custGeom>
            <a:avLst/>
            <a:gdLst/>
            <a:ahLst/>
            <a:rect l="l" t="t" r="r" b="b"/>
            <a:pathLst>
              <a:path w="171" h="283">
                <a:moveTo>
                  <a:pt x="59" y="66"/>
                </a:moveTo>
                <a:cubicBezTo>
                  <a:pt x="95" y="106"/>
                  <a:pt x="169" y="170"/>
                  <a:pt x="170" y="210"/>
                </a:cubicBezTo>
                <a:cubicBezTo>
                  <a:pt x="171" y="250"/>
                  <a:pt x="127" y="283"/>
                  <a:pt x="87" y="267"/>
                </a:cubicBezTo>
                <a:lnTo>
                  <a:pt x="0" y="217"/>
                </a:lnTo>
                <a:lnTo>
                  <a:pt x="0" y="25"/>
                </a:lnTo>
                <a:cubicBezTo>
                  <a:pt x="10" y="0"/>
                  <a:pt x="23" y="26"/>
                  <a:pt x="59" y="66"/>
                </a:cubicBezTo>
                <a:close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629400" y="6095880"/>
            <a:ext cx="271440" cy="76320"/>
          </a:xfrm>
          <a:custGeom>
            <a:avLst/>
            <a:gdLst/>
            <a:ahLst/>
            <a:rect l="l" t="t" r="r" b="b"/>
            <a:pathLst>
              <a:path w="171" h="283">
                <a:moveTo>
                  <a:pt x="59" y="66"/>
                </a:moveTo>
                <a:cubicBezTo>
                  <a:pt x="95" y="106"/>
                  <a:pt x="169" y="170"/>
                  <a:pt x="170" y="210"/>
                </a:cubicBezTo>
                <a:cubicBezTo>
                  <a:pt x="171" y="250"/>
                  <a:pt x="127" y="283"/>
                  <a:pt x="87" y="267"/>
                </a:cubicBezTo>
                <a:lnTo>
                  <a:pt x="0" y="217"/>
                </a:lnTo>
                <a:lnTo>
                  <a:pt x="0" y="25"/>
                </a:lnTo>
                <a:cubicBezTo>
                  <a:pt x="10" y="0"/>
                  <a:pt x="23" y="26"/>
                  <a:pt x="59" y="66"/>
                </a:cubicBezTo>
                <a:close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5992920"/>
            <a:ext cx="120600" cy="168120"/>
          </a:xfrm>
          <a:custGeom>
            <a:avLst/>
            <a:gdLst/>
            <a:ahLst/>
            <a:rect l="l" t="t" r="r" b="b"/>
            <a:pathLst>
              <a:path w="76" h="106">
                <a:moveTo>
                  <a:pt x="76" y="41"/>
                </a:moveTo>
                <a:cubicBezTo>
                  <a:pt x="76" y="25"/>
                  <a:pt x="10" y="0"/>
                  <a:pt x="0" y="3"/>
                </a:cubicBezTo>
                <a:lnTo>
                  <a:pt x="0" y="100"/>
                </a:lnTo>
                <a:cubicBezTo>
                  <a:pt x="13" y="106"/>
                  <a:pt x="76" y="57"/>
                  <a:pt x="76" y="41"/>
                </a:cubicBezTo>
                <a:close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48779-739B-48C8-AAB6-B11F1EA81E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al Gangl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960" y="1294920"/>
            <a:ext cx="10134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Basal Ganglia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(historically referred to as part of striatum)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Caudate nucleus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near lateral ventricle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Putamen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(yellow): superficia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Globus pallidus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(green): deep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Nucleus accumbens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: (not shown – junction of CN and Putamen)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32" name="axial2" descr=""/>
          <p:cNvPicPr/>
          <p:nvPr/>
        </p:nvPicPr>
        <p:blipFill>
          <a:blip r:embed="rId1"/>
          <a:stretch/>
        </p:blipFill>
        <p:spPr>
          <a:xfrm>
            <a:off x="0" y="3218040"/>
            <a:ext cx="6259680" cy="36399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324480" y="3352680"/>
            <a:ext cx="381024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Function: initiating action. Involved with parkinson disease. Also involved with motivation, addiction.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0206-9D93-4CA8-8BC3-B00801363C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al Gangl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oronal slic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36" name="800px-Anatomie-Basalganglien-A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8991720" cy="448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EC8D-D416-4F8B-88F0-FC3F381D3D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Gray739" descr=""/>
          <p:cNvPicPr/>
          <p:nvPr/>
        </p:nvPicPr>
        <p:blipFill>
          <a:blip r:embed="rId1"/>
          <a:stretch/>
        </p:blipFill>
        <p:spPr>
          <a:xfrm>
            <a:off x="152280" y="3508200"/>
            <a:ext cx="4419720" cy="3349800"/>
          </a:xfrm>
          <a:prstGeom prst="rect">
            <a:avLst/>
          </a:prstGeom>
          <a:ln w="0">
            <a:noFill/>
          </a:ln>
        </p:spPr>
      </p:pic>
      <p:pic>
        <p:nvPicPr>
          <p:cNvPr id="238" name="hippocampus-2" descr=""/>
          <p:cNvPicPr/>
          <p:nvPr/>
        </p:nvPicPr>
        <p:blipFill>
          <a:blip r:embed="rId2"/>
          <a:stretch/>
        </p:blipFill>
        <p:spPr>
          <a:xfrm>
            <a:off x="6705720" y="3956040"/>
            <a:ext cx="3047760" cy="2901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pez Circu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5962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Hippocampus, fornix and mammillary body crucial for long term memory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 difficult structure to visualize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41" name="FigVII23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2898720" cy="26683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162920" y="1600200"/>
            <a:ext cx="2438280" cy="304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678960" y="1676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31200" y="1219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EF86-3AE0-486A-8933-0CAF6BC664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ppocamp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620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Hippocampus: coronal view reveals folded shape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rnix also visible in this view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47" name="hipp" descr=""/>
          <p:cNvPicPr/>
          <p:nvPr/>
        </p:nvPicPr>
        <p:blipFill>
          <a:blip r:embed="rId1"/>
          <a:stretch/>
        </p:blipFill>
        <p:spPr>
          <a:xfrm>
            <a:off x="6095880" y="266688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248" name="Gray717" descr=""/>
          <p:cNvPicPr/>
          <p:nvPr/>
        </p:nvPicPr>
        <p:blipFill>
          <a:blip r:embed="rId2"/>
          <a:stretch/>
        </p:blipFill>
        <p:spPr>
          <a:xfrm>
            <a:off x="0" y="2666880"/>
            <a:ext cx="36892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81CC6-D79A-415C-AC1A-3D035B9043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pus Callos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assive white matter bundle that connects the two hemispher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51" name="cc" descr=""/>
          <p:cNvPicPr/>
          <p:nvPr/>
        </p:nvPicPr>
        <p:blipFill>
          <a:blip r:embed="rId1"/>
          <a:stretch/>
        </p:blipFill>
        <p:spPr>
          <a:xfrm>
            <a:off x="5737320" y="2308320"/>
            <a:ext cx="4549680" cy="4549680"/>
          </a:xfrm>
          <a:prstGeom prst="rect">
            <a:avLst/>
          </a:prstGeom>
          <a:ln w="0">
            <a:noFill/>
          </a:ln>
        </p:spPr>
      </p:pic>
      <p:pic>
        <p:nvPicPr>
          <p:cNvPr id="252" name="ccx" descr=""/>
          <p:cNvPicPr/>
          <p:nvPr/>
        </p:nvPicPr>
        <p:blipFill>
          <a:blip r:embed="rId2"/>
          <a:stretch/>
        </p:blipFill>
        <p:spPr>
          <a:xfrm>
            <a:off x="0" y="3017880"/>
            <a:ext cx="4572000" cy="384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0B568-312A-4CC3-9E8B-4E80DA3D927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pus Callos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ometimes surgically severed to treat epilepsy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plit brain patients’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nnections mostly homotopic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55" name="ccj" descr=""/>
          <p:cNvPicPr/>
          <p:nvPr/>
        </p:nvPicPr>
        <p:blipFill>
          <a:blip r:embed="rId1"/>
          <a:stretch/>
        </p:blipFill>
        <p:spPr>
          <a:xfrm>
            <a:off x="6297480" y="2263680"/>
            <a:ext cx="3989520" cy="4594320"/>
          </a:xfrm>
          <a:prstGeom prst="rect">
            <a:avLst/>
          </a:prstGeom>
          <a:ln w="0">
            <a:noFill/>
          </a:ln>
        </p:spPr>
      </p:pic>
      <p:pic>
        <p:nvPicPr>
          <p:cNvPr id="256" name="ccx" descr=""/>
          <p:cNvPicPr/>
          <p:nvPr/>
        </p:nvPicPr>
        <p:blipFill>
          <a:blip r:embed="rId2"/>
          <a:stretch/>
        </p:blipFill>
        <p:spPr>
          <a:xfrm>
            <a:off x="0" y="3017880"/>
            <a:ext cx="4572000" cy="384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8A113-2095-4CE5-84FE-B5F73D23087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optic_tract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4194000" cy="29368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optice tra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14440" y="1447920"/>
            <a:ext cx="6038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Lesions at different locations lead to different forms of visual field cuts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mportant diagnostic tool to infer brain injury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60" name="fieldcuts" descr=""/>
          <p:cNvPicPr/>
          <p:nvPr/>
        </p:nvPicPr>
        <p:blipFill>
          <a:blip r:embed="rId2"/>
          <a:stretch/>
        </p:blipFill>
        <p:spPr>
          <a:xfrm>
            <a:off x="6297480" y="1752480"/>
            <a:ext cx="3989520" cy="4419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09240" y="5889600"/>
            <a:ext cx="2905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ateral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Geniculate Nucleus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(Thalamus)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438280" y="5105520"/>
            <a:ext cx="990720" cy="9144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5080" y="6473880"/>
            <a:ext cx="3583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V1 Primary Visual Cortex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5181120" y="5257440"/>
            <a:ext cx="1143000" cy="11430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5913-80D8-4F75-9C24-DFB152B1DD6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 Def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5320" y="1447920"/>
            <a:ext cx="4886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Field defects reveal anatomical injury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onocular blindnes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Bitemporal hemianopia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Homonymous hemianopia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Upper quadrantanopia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ower quadrantanopia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0000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Homonymous hemianopia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67" name="fieldcuts" descr=""/>
          <p:cNvPicPr/>
          <p:nvPr/>
        </p:nvPicPr>
        <p:blipFill>
          <a:blip r:embed="rId1"/>
          <a:stretch/>
        </p:blipFill>
        <p:spPr>
          <a:xfrm>
            <a:off x="4889520" y="1523880"/>
            <a:ext cx="5397480" cy="472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4031-526B-4475-B792-F57487BD87B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y to spot cha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yramidal Tract Chang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rtical + Subcortical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entricular Chang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ll levels – including fourth ventricle and brainstem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hanges in shape of brainstem and spinal cord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2924-3039-4FD8-95FA-13837C7E4E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14440" y="1447920"/>
            <a:ext cx="4286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rimary visual cortex (V1) lies in calcarine fissure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omplete damage leads to Homonymous hemianopia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artial damage leads to scotoma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70" name="fieldcuts" descr=""/>
          <p:cNvPicPr/>
          <p:nvPr/>
        </p:nvPicPr>
        <p:blipFill>
          <a:blip r:embed="rId1"/>
          <a:srcRect l="0" t="0" r="0" b="33333"/>
          <a:stretch/>
        </p:blipFill>
        <p:spPr>
          <a:xfrm>
            <a:off x="5400720" y="3124080"/>
            <a:ext cx="4900680" cy="36576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672160" y="3809880"/>
            <a:ext cx="1457280" cy="60984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336" y="240"/>
                </a:moveTo>
                <a:lnTo>
                  <a:pt x="0" y="384"/>
                </a:lnTo>
                <a:lnTo>
                  <a:pt x="0" y="192"/>
                </a:lnTo>
                <a:cubicBezTo>
                  <a:pt x="80" y="160"/>
                  <a:pt x="161" y="130"/>
                  <a:pt x="240" y="96"/>
                </a:cubicBezTo>
                <a:cubicBezTo>
                  <a:pt x="247" y="93"/>
                  <a:pt x="251" y="84"/>
                  <a:pt x="258" y="83"/>
                </a:cubicBezTo>
                <a:cubicBezTo>
                  <a:pt x="355" y="68"/>
                  <a:pt x="391" y="70"/>
                  <a:pt x="473" y="70"/>
                </a:cubicBezTo>
                <a:lnTo>
                  <a:pt x="768" y="0"/>
                </a:lnTo>
                <a:lnTo>
                  <a:pt x="816" y="96"/>
                </a:lnTo>
                <a:lnTo>
                  <a:pt x="528" y="192"/>
                </a:lnTo>
                <a:lnTo>
                  <a:pt x="336" y="240"/>
                </a:lnTo>
                <a:close/>
              </a:path>
            </a:pathLst>
          </a:custGeom>
          <a:noFill/>
          <a:ln w="5724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43520" y="5867280"/>
            <a:ext cx="514440" cy="38124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336" y="240"/>
                </a:moveTo>
                <a:lnTo>
                  <a:pt x="0" y="384"/>
                </a:lnTo>
                <a:lnTo>
                  <a:pt x="0" y="192"/>
                </a:lnTo>
                <a:cubicBezTo>
                  <a:pt x="80" y="160"/>
                  <a:pt x="161" y="130"/>
                  <a:pt x="240" y="96"/>
                </a:cubicBezTo>
                <a:cubicBezTo>
                  <a:pt x="247" y="93"/>
                  <a:pt x="251" y="84"/>
                  <a:pt x="258" y="83"/>
                </a:cubicBezTo>
                <a:cubicBezTo>
                  <a:pt x="355" y="68"/>
                  <a:pt x="391" y="70"/>
                  <a:pt x="473" y="70"/>
                </a:cubicBezTo>
                <a:lnTo>
                  <a:pt x="768" y="0"/>
                </a:lnTo>
                <a:lnTo>
                  <a:pt x="816" y="96"/>
                </a:lnTo>
                <a:lnTo>
                  <a:pt x="528" y="192"/>
                </a:lnTo>
                <a:lnTo>
                  <a:pt x="336" y="240"/>
                </a:lnTo>
                <a:close/>
              </a:path>
            </a:pathLst>
          </a:custGeom>
          <a:noFill/>
          <a:ln w="5724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273" name="calcarine" descr=""/>
          <p:cNvPicPr/>
          <p:nvPr/>
        </p:nvPicPr>
        <p:blipFill>
          <a:blip r:embed="rId2"/>
          <a:stretch/>
        </p:blipFill>
        <p:spPr>
          <a:xfrm>
            <a:off x="7201080" y="152280"/>
            <a:ext cx="2788920" cy="247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F4C1-B1D7-4344-8BCB-7460F422A4C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1 – retinotopic mapp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4971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1 is retinotopic: distorted spatial map of visual scene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vea has massively over represented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76" name="retinotopicMap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4756320" cy="421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11BB-976A-4356-974A-F618545E32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81547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ular Cort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54100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Arial"/>
              </a:rPr>
              <a:t>Insula: below the portions of the frontal, temporal, and parietal lobe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rcRect l="25643" t="14853" r="26825" b="23902"/>
          <a:stretch/>
        </p:blipFill>
        <p:spPr>
          <a:xfrm>
            <a:off x="0" y="3429000"/>
            <a:ext cx="4648320" cy="3429000"/>
          </a:xfrm>
          <a:prstGeom prst="rect">
            <a:avLst/>
          </a:prstGeom>
          <a:ln w="0">
            <a:noFill/>
          </a:ln>
        </p:spPr>
      </p:pic>
      <p:pic>
        <p:nvPicPr>
          <p:cNvPr id="280" name="Gray717" descr=""/>
          <p:cNvPicPr/>
          <p:nvPr/>
        </p:nvPicPr>
        <p:blipFill>
          <a:blip r:embed="rId2"/>
          <a:stretch/>
        </p:blipFill>
        <p:spPr>
          <a:xfrm>
            <a:off x="5391000" y="1295280"/>
            <a:ext cx="4896000" cy="55627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8915400" y="2362320"/>
            <a:ext cx="0" cy="2133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572080" y="3200400"/>
            <a:ext cx="4543560" cy="35053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81547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ular Cort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252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Arial"/>
              </a:rPr>
              <a:t>Sometimes referred to as Insular Lob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Arial"/>
              </a:rPr>
              <a:t>Operculum (lids) separate the insula and the superficial cortex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emporal Operculum</a:t>
            </a:r>
            <a:br>
              <a:rPr sz="2800"/>
            </a:br>
            <a:r>
              <a:rPr b="0" lang="en-GB" sz="2800" spc="-1" strike="noStrike">
                <a:solidFill>
                  <a:srgbClr val="990000"/>
                </a:solidFill>
                <a:latin typeface="Arial"/>
              </a:rPr>
              <a:t>(inferior bank)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Parietal Operculum</a:t>
            </a:r>
            <a:br>
              <a:rPr sz="2800"/>
            </a:br>
            <a:r>
              <a:rPr b="0" lang="en-GB" sz="2800" spc="-1" strike="noStrike">
                <a:solidFill>
                  <a:srgbClr val="990000"/>
                </a:solidFill>
                <a:latin typeface="Arial"/>
              </a:rPr>
              <a:t>(posterior+superior)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Arial"/>
              </a:rPr>
              <a:t>Frontal Operculum</a:t>
            </a:r>
            <a:br>
              <a:rPr sz="2800"/>
            </a:br>
            <a:r>
              <a:rPr b="0" lang="en-GB" sz="2800" spc="-1" strike="noStrike">
                <a:solidFill>
                  <a:srgbClr val="990000"/>
                </a:solidFill>
                <a:latin typeface="Arial"/>
              </a:rPr>
              <a:t>(anterior+superior)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000840" y="3276720"/>
            <a:ext cx="3698640" cy="33256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7543800" y="5105520"/>
            <a:ext cx="227160" cy="658800"/>
          </a:xfrm>
          <a:custGeom>
            <a:avLst/>
            <a:gdLst/>
            <a:ahLst/>
            <a:rect l="l" t="t" r="r" b="b"/>
            <a:pathLst>
              <a:path w="127" h="415">
                <a:moveTo>
                  <a:pt x="81" y="378"/>
                </a:moveTo>
                <a:cubicBezTo>
                  <a:pt x="64" y="327"/>
                  <a:pt x="38" y="281"/>
                  <a:pt x="0" y="243"/>
                </a:cubicBezTo>
                <a:cubicBezTo>
                  <a:pt x="0" y="240"/>
                  <a:pt x="8" y="73"/>
                  <a:pt x="27" y="54"/>
                </a:cubicBezTo>
                <a:cubicBezTo>
                  <a:pt x="42" y="39"/>
                  <a:pt x="63" y="30"/>
                  <a:pt x="81" y="18"/>
                </a:cubicBezTo>
                <a:cubicBezTo>
                  <a:pt x="90" y="12"/>
                  <a:pt x="108" y="0"/>
                  <a:pt x="108" y="0"/>
                </a:cubicBezTo>
                <a:cubicBezTo>
                  <a:pt x="119" y="43"/>
                  <a:pt x="127" y="56"/>
                  <a:pt x="108" y="108"/>
                </a:cubicBezTo>
                <a:cubicBezTo>
                  <a:pt x="101" y="128"/>
                  <a:pt x="72" y="162"/>
                  <a:pt x="72" y="162"/>
                </a:cubicBezTo>
                <a:cubicBezTo>
                  <a:pt x="85" y="202"/>
                  <a:pt x="104" y="194"/>
                  <a:pt x="117" y="234"/>
                </a:cubicBezTo>
                <a:cubicBezTo>
                  <a:pt x="114" y="270"/>
                  <a:pt x="118" y="307"/>
                  <a:pt x="108" y="342"/>
                </a:cubicBezTo>
                <a:cubicBezTo>
                  <a:pt x="102" y="363"/>
                  <a:pt x="62" y="415"/>
                  <a:pt x="72" y="396"/>
                </a:cubicBezTo>
                <a:cubicBezTo>
                  <a:pt x="75" y="390"/>
                  <a:pt x="78" y="384"/>
                  <a:pt x="81" y="3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15040" y="5022720"/>
            <a:ext cx="594000" cy="368280"/>
          </a:xfrm>
          <a:custGeom>
            <a:avLst/>
            <a:gdLst/>
            <a:ahLst/>
            <a:rect l="l" t="t" r="r" b="b"/>
            <a:pathLst>
              <a:path w="332" h="232">
                <a:moveTo>
                  <a:pt x="24" y="205"/>
                </a:moveTo>
                <a:cubicBezTo>
                  <a:pt x="90" y="216"/>
                  <a:pt x="121" y="219"/>
                  <a:pt x="186" y="232"/>
                </a:cubicBezTo>
                <a:cubicBezTo>
                  <a:pt x="214" y="148"/>
                  <a:pt x="205" y="196"/>
                  <a:pt x="258" y="133"/>
                </a:cubicBezTo>
                <a:cubicBezTo>
                  <a:pt x="287" y="99"/>
                  <a:pt x="272" y="88"/>
                  <a:pt x="312" y="61"/>
                </a:cubicBezTo>
                <a:cubicBezTo>
                  <a:pt x="332" y="0"/>
                  <a:pt x="291" y="17"/>
                  <a:pt x="249" y="25"/>
                </a:cubicBezTo>
                <a:cubicBezTo>
                  <a:pt x="177" y="73"/>
                  <a:pt x="264" y="10"/>
                  <a:pt x="204" y="70"/>
                </a:cubicBezTo>
                <a:cubicBezTo>
                  <a:pt x="164" y="110"/>
                  <a:pt x="92" y="109"/>
                  <a:pt x="42" y="115"/>
                </a:cubicBezTo>
                <a:cubicBezTo>
                  <a:pt x="9" y="133"/>
                  <a:pt x="0" y="185"/>
                  <a:pt x="24" y="205"/>
                </a:cubicBez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88120" y="5397480"/>
            <a:ext cx="441360" cy="341280"/>
          </a:xfrm>
          <a:custGeom>
            <a:avLst/>
            <a:gdLst/>
            <a:ahLst/>
            <a:rect l="l" t="t" r="r" b="b"/>
            <a:pathLst>
              <a:path w="247" h="215">
                <a:moveTo>
                  <a:pt x="226" y="212"/>
                </a:moveTo>
                <a:cubicBezTo>
                  <a:pt x="199" y="203"/>
                  <a:pt x="170" y="190"/>
                  <a:pt x="145" y="176"/>
                </a:cubicBezTo>
                <a:cubicBezTo>
                  <a:pt x="126" y="165"/>
                  <a:pt x="91" y="140"/>
                  <a:pt x="91" y="140"/>
                </a:cubicBezTo>
                <a:cubicBezTo>
                  <a:pt x="85" y="131"/>
                  <a:pt x="81" y="120"/>
                  <a:pt x="73" y="113"/>
                </a:cubicBezTo>
                <a:cubicBezTo>
                  <a:pt x="57" y="99"/>
                  <a:pt x="19" y="77"/>
                  <a:pt x="19" y="77"/>
                </a:cubicBezTo>
                <a:cubicBezTo>
                  <a:pt x="5" y="35"/>
                  <a:pt x="0" y="20"/>
                  <a:pt x="46" y="5"/>
                </a:cubicBezTo>
                <a:cubicBezTo>
                  <a:pt x="82" y="9"/>
                  <a:pt x="126" y="0"/>
                  <a:pt x="154" y="23"/>
                </a:cubicBezTo>
                <a:cubicBezTo>
                  <a:pt x="212" y="70"/>
                  <a:pt x="131" y="36"/>
                  <a:pt x="199" y="59"/>
                </a:cubicBezTo>
                <a:cubicBezTo>
                  <a:pt x="247" y="131"/>
                  <a:pt x="232" y="92"/>
                  <a:pt x="244" y="176"/>
                </a:cubicBezTo>
                <a:cubicBezTo>
                  <a:pt x="234" y="215"/>
                  <a:pt x="247" y="212"/>
                  <a:pt x="226" y="212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5d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ucial anatom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Horizontal and Coronal View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yramidal Tract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erebellum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halamus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ternal Capsule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asal Ganglia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utamen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Globus Pallidu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audate Nucleus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2057400"/>
            <a:ext cx="5143680" cy="30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Hippocampus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ornix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Ventricles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orpus Callosum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Optic trac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nsula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5DFF-E9E9-4F30-8AAB-E36EBA41A5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ramidal tra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5886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ka ‘Corticospinal tract’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assive bundle of axons that contect cortex to spinal cord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ostly voluntary motor control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http://library.med.utah.edu/kw/hyperbrain/syllabus/syllabus10.html</a:t>
            </a:r>
            <a:endParaRPr b="0" lang="en-US" sz="1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9" name="Gray764" descr=""/>
          <p:cNvPicPr/>
          <p:nvPr/>
        </p:nvPicPr>
        <p:blipFill>
          <a:blip r:embed="rId1"/>
          <a:stretch/>
        </p:blipFill>
        <p:spPr>
          <a:xfrm>
            <a:off x="6513480" y="1295280"/>
            <a:ext cx="3773520" cy="5562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451480" y="129528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aramond"/>
              </a:rPr>
              <a:t>Corona Radiata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1600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8213-FAD2-4485-8771-0423B25A1C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 Motor Cort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9001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1 is principle origin for pyramidal tract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patial organization (homunculus)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4" name="somato" descr=""/>
          <p:cNvPicPr/>
          <p:nvPr/>
        </p:nvPicPr>
        <p:blipFill>
          <a:blip r:embed="rId1"/>
          <a:stretch/>
        </p:blipFill>
        <p:spPr>
          <a:xfrm>
            <a:off x="6496200" y="4267080"/>
            <a:ext cx="3073320" cy="2514600"/>
          </a:xfrm>
          <a:prstGeom prst="rect">
            <a:avLst/>
          </a:prstGeom>
          <a:ln w="0">
            <a:noFill/>
          </a:ln>
        </p:spPr>
      </p:pic>
      <p:pic>
        <p:nvPicPr>
          <p:cNvPr id="115" name="homunculus" descr=""/>
          <p:cNvPicPr/>
          <p:nvPr/>
        </p:nvPicPr>
        <p:blipFill>
          <a:blip r:embed="rId2"/>
          <a:stretch/>
        </p:blipFill>
        <p:spPr>
          <a:xfrm>
            <a:off x="76320" y="4267080"/>
            <a:ext cx="2751120" cy="2590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58000" y="3809880"/>
            <a:ext cx="23144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M1: movement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4419720"/>
            <a:ext cx="19717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Verdana"/>
              </a:rPr>
              <a:t>S1: sensation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B1AD-FAE7-4E3B-922A-D12FC8E327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ramidal Ce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4440" y="1447920"/>
            <a:ext cx="619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eurons in layers V and VI send axons long distances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Layer V of M1 the pyramidal cells are extremely large. (Betz cells)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Dendrites go into superficial layers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xon travels down pyramidal tract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0" name="golgiStainedPyramidalCell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3367080" cy="2237040"/>
          </a:xfrm>
          <a:prstGeom prst="rect">
            <a:avLst/>
          </a:prstGeom>
          <a:ln w="0">
            <a:noFill/>
          </a:ln>
        </p:spPr>
      </p:pic>
      <p:pic>
        <p:nvPicPr>
          <p:cNvPr id="121" name="layers" descr=""/>
          <p:cNvPicPr/>
          <p:nvPr/>
        </p:nvPicPr>
        <p:blipFill>
          <a:blip r:embed="rId2"/>
          <a:stretch/>
        </p:blipFill>
        <p:spPr>
          <a:xfrm>
            <a:off x="6934320" y="3200400"/>
            <a:ext cx="3352680" cy="3657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820000" y="6129360"/>
            <a:ext cx="254160" cy="652320"/>
          </a:xfrm>
          <a:custGeom>
            <a:avLst/>
            <a:gdLst/>
            <a:ahLst/>
            <a:rect l="l" t="t" r="r" b="b"/>
            <a:pathLst>
              <a:path w="160" h="411">
                <a:moveTo>
                  <a:pt x="81" y="0"/>
                </a:moveTo>
                <a:cubicBezTo>
                  <a:pt x="93" y="99"/>
                  <a:pt x="0" y="119"/>
                  <a:pt x="12" y="171"/>
                </a:cubicBezTo>
                <a:cubicBezTo>
                  <a:pt x="24" y="223"/>
                  <a:pt x="128" y="242"/>
                  <a:pt x="144" y="282"/>
                </a:cubicBezTo>
                <a:cubicBezTo>
                  <a:pt x="160" y="322"/>
                  <a:pt x="118" y="391"/>
                  <a:pt x="108" y="411"/>
                </a:cubicBezTo>
              </a:path>
            </a:pathLst>
          </a:custGeom>
          <a:noFill/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6C19-528D-422A-A3A3-00E30CE944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ona Radi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4080" y="1447920"/>
            <a:ext cx="3981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ear the motor cortex, we refer to the fibers of the pyramidal tract as being in the ‘corona radiata’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5" name="gray745" descr=""/>
          <p:cNvPicPr/>
          <p:nvPr/>
        </p:nvPicPr>
        <p:blipFill>
          <a:blip r:embed="rId1"/>
          <a:stretch/>
        </p:blipFill>
        <p:spPr>
          <a:xfrm>
            <a:off x="4572000" y="1608120"/>
            <a:ext cx="5715000" cy="464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189D2-2C2B-46B9-9F15-2809953D47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l Capsu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Telencephalon-Horiconatal" descr=""/>
          <p:cNvPicPr/>
          <p:nvPr/>
        </p:nvPicPr>
        <p:blipFill>
          <a:blip r:embed="rId1"/>
          <a:stretch/>
        </p:blipFill>
        <p:spPr>
          <a:xfrm>
            <a:off x="5425920" y="1295280"/>
            <a:ext cx="4861080" cy="5562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467480" y="2654280"/>
            <a:ext cx="654120" cy="1612800"/>
          </a:xfrm>
          <a:custGeom>
            <a:avLst/>
            <a:gdLst/>
            <a:ahLst/>
            <a:rect l="l" t="t" r="r" b="b"/>
            <a:pathLst>
              <a:path w="412" h="1016">
                <a:moveTo>
                  <a:pt x="0" y="440"/>
                </a:moveTo>
                <a:cubicBezTo>
                  <a:pt x="152" y="728"/>
                  <a:pt x="192" y="1016"/>
                  <a:pt x="192" y="1016"/>
                </a:cubicBezTo>
                <a:lnTo>
                  <a:pt x="288" y="968"/>
                </a:lnTo>
                <a:cubicBezTo>
                  <a:pt x="301" y="937"/>
                  <a:pt x="296" y="912"/>
                  <a:pt x="272" y="832"/>
                </a:cubicBezTo>
                <a:cubicBezTo>
                  <a:pt x="248" y="752"/>
                  <a:pt x="125" y="593"/>
                  <a:pt x="144" y="488"/>
                </a:cubicBezTo>
                <a:lnTo>
                  <a:pt x="384" y="200"/>
                </a:lnTo>
                <a:cubicBezTo>
                  <a:pt x="412" y="125"/>
                  <a:pt x="376" y="0"/>
                  <a:pt x="312" y="40"/>
                </a:cubicBezTo>
                <a:cubicBezTo>
                  <a:pt x="248" y="80"/>
                  <a:pt x="208" y="232"/>
                  <a:pt x="0" y="44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29" name="internalcapsule" descr=""/>
          <p:cNvPicPr/>
          <p:nvPr/>
        </p:nvPicPr>
        <p:blipFill>
          <a:blip r:embed="rId2"/>
          <a:stretch/>
        </p:blipFill>
        <p:spPr>
          <a:xfrm>
            <a:off x="0" y="34290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324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ear the basal ganglia, the pyramidal tract forms the central body (genu) of the internal capsule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5029200"/>
            <a:ext cx="441972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ternal capsule and neighboring basal ganglia often injured by small strokes.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043A2-3802-4875-A0DE-AECC93AF47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8T15:33:43Z</dcterms:created>
  <dc:creator>Chris Rorden</dc:creator>
  <dc:description/>
  <dc:language>en-US</dc:language>
  <cp:lastModifiedBy>ZonaNet</cp:lastModifiedBy>
  <cp:lastPrinted>1999-01-08T00:45:34Z</cp:lastPrinted>
  <dcterms:modified xsi:type="dcterms:W3CDTF">2008-05-01T23:53:08Z</dcterms:modified>
  <cp:revision>136</cp:revision>
  <dc:subject/>
  <dc:title>Temporal Aspects of Visual Extinction</dc:title>
</cp:coreProperties>
</file>