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3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669960" y="766440"/>
            <a:ext cx="57592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C2B4DED-C561-45AD-94A2-BE5F0A41D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sula: damage to this area has been linked to verbal dyspra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yspraxia: a dysfunction of motor planning in the absence of muscular weakness or muscular dys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the insula, it would be damage producing the simplest verbal ges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ahippocampus: emotional memo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F15D-48A4-435C-9E23-B67556C1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9EE7-2D7B-4C9F-AC0A-33DBFD3C4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6DC7-87FB-4BD6-87F6-834FE250D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B017-3EDB-4F49-8E6A-DC10DEB54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A16D8-51AC-4ABA-8C49-946A07B2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ED6F-4DC5-4378-8E67-F5099FC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9EB24-254E-47C3-8B7E-2CB93F4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39FC0-9C5D-4B8D-BD67-F9ABA62E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999F9-3056-4DBB-85A1-97D5148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7367-5316-4845-8038-71CE46C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86B51-104F-47FB-AFBF-ABAA442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B24B-28FF-446E-9556-60596234E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ADC54-53FF-4F1B-B63C-EE18E89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B63DB-1604-4105-983C-9A3B30F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6FEE7-6DCD-4A7E-BB5D-A5205C61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0A1D7-578C-43D5-B21A-362ADA34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80F63-C44B-40C4-908D-E6724C61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D6B7-4B38-42B0-86EF-33A11B36C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4FE1-B893-415A-92DA-29C5378B4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B53B-2CE3-4F94-8111-9F3C6D8F4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22E3-AA4E-419C-9036-A0AB8F90B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AE6A-8033-46ED-A484-D02DBF2F8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95CA-72A7-47A8-AE55-15BCDA3F3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33C6-94C4-46CA-9770-90F407924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5D0D-42D0-4A4C-A9D9-33A891B64072}" type="slidenum">
              <a:rPr b="1" lang="en-GB" sz="2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dr_logo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" name="hdr_logo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990720"/>
            <a:ext cx="5829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86000" y="4889520"/>
            <a:ext cx="5486400" cy="318960"/>
            <a:chOff x="4086000" y="4889520"/>
            <a:chExt cx="5486400" cy="318960"/>
          </a:xfrm>
        </p:grpSpPr>
        <p:sp>
          <p:nvSpPr>
            <p:cNvPr id="46" name=""/>
            <p:cNvSpPr/>
            <p:nvPr/>
          </p:nvSpPr>
          <p:spPr>
            <a:xfrm flipH="1">
              <a:off x="4085640" y="4889520"/>
              <a:ext cx="52038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79720" y="4889520"/>
              <a:ext cx="292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3000240" y="6550560"/>
            <a:ext cx="2143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5845320" y="6550560"/>
            <a:ext cx="3689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11160" y="6358320"/>
            <a:ext cx="66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DB8-7E5C-4A7B-BAAC-4D94EC7788E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053720" y="1425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3 C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ross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6248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981080"/>
            <a:ext cx="9553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295280"/>
            <a:ext cx="1143000" cy="1371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371600"/>
              <a:gd name="textAreaBottom" fmla="*/ 1315800 h 13716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is Rord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iversity of South Carolin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Norman J. Arnold School of Public Healt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Department of Communication Sciences and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University of South Carolin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0DF2-4177-401E-8E31-A45D973A2A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dun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eduncles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134" name="ped2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114800" cy="252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63160" y="3581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8560" y="6248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P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3600" y="236232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Pes Pedunculi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(Cerebral peduncle)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94920" y="3124080"/>
            <a:ext cx="22860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39" name="Gray677" descr=""/>
          <p:cNvPicPr/>
          <p:nvPr/>
        </p:nvPicPr>
        <p:blipFill>
          <a:blip r:embed="rId3"/>
          <a:stretch/>
        </p:blipFill>
        <p:spPr>
          <a:xfrm>
            <a:off x="6095880" y="3179880"/>
            <a:ext cx="4191120" cy="367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423200" y="5367240"/>
            <a:ext cx="7682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0960" y="50292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A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45000" y="5029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P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6CFE-E64C-4952-9217-D5252142B5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ons" descr=""/>
          <p:cNvPicPr/>
          <p:nvPr/>
        </p:nvPicPr>
        <p:blipFill>
          <a:blip r:embed="rId1"/>
          <a:stretch/>
        </p:blipFill>
        <p:spPr>
          <a:xfrm>
            <a:off x="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44" name="pons2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3571920" cy="3495960"/>
          </a:xfrm>
          <a:prstGeom prst="rect">
            <a:avLst/>
          </a:prstGeom>
          <a:ln w="0">
            <a:noFill/>
          </a:ln>
        </p:spPr>
      </p:pic>
      <p:pic>
        <p:nvPicPr>
          <p:cNvPr id="145" name="pons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P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342900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rticospinal Trac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181480" y="2666520"/>
            <a:ext cx="2057400" cy="7621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1960" y="5410080"/>
            <a:ext cx="190476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8880" y="5105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4200" y="1600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4200" y="5486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81A2-86C1-4706-A79E-5B771403F8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edulla" descr=""/>
          <p:cNvPicPr/>
          <p:nvPr/>
        </p:nvPicPr>
        <p:blipFill>
          <a:blip r:embed="rId1"/>
          <a:stretch/>
        </p:blipFill>
        <p:spPr>
          <a:xfrm>
            <a:off x="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4" name="medulla" descr=""/>
          <p:cNvPicPr/>
          <p:nvPr/>
        </p:nvPicPr>
        <p:blipFill>
          <a:blip r:embed="rId2"/>
          <a:stretch/>
        </p:blipFill>
        <p:spPr>
          <a:xfrm>
            <a:off x="5867280" y="2157480"/>
            <a:ext cx="3724560" cy="2543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Medul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1480" y="2286000"/>
            <a:ext cx="2052720" cy="9144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13848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58" name="pons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676160" y="6553080"/>
            <a:ext cx="190476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940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9280" y="1600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56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5A26-5E75-41DB-B7D9-FF67024E9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Fig3_1e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154760" cy="467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38320" y="392436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52880" y="3718080"/>
            <a:ext cx="460440" cy="3175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77360" y="3664080"/>
            <a:ext cx="2529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ticospin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52760" y="4705200"/>
            <a:ext cx="1041480" cy="10940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9080" y="6095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400" y="129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2CEE-D5C0-4F50-ADAC-EEB2AB93B2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Fig3_1a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3962160" cy="3365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43760" y="129528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 Ventricles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828800"/>
            <a:ext cx="53316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62360" y="1828800"/>
            <a:ext cx="22860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2400" y="5791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Ventri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866920" y="4190760"/>
            <a:ext cx="221004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78" name="Fig3_1b" descr=""/>
          <p:cNvPicPr/>
          <p:nvPr/>
        </p:nvPicPr>
        <p:blipFill>
          <a:blip r:embed="rId2"/>
          <a:stretch/>
        </p:blipFill>
        <p:spPr>
          <a:xfrm>
            <a:off x="0" y="2070000"/>
            <a:ext cx="2209680" cy="1359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0" y="13460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ral Aqueduct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0" name="Fig3_1c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1676520" cy="1639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819520" y="59436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Ventri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371600" y="3733920"/>
            <a:ext cx="2743200" cy="2209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3" name="Fig3_1d" descr=""/>
          <p:cNvPicPr/>
          <p:nvPr/>
        </p:nvPicPr>
        <p:blipFill>
          <a:blip r:embed="rId4"/>
          <a:stretch/>
        </p:blipFill>
        <p:spPr>
          <a:xfrm>
            <a:off x="0" y="5154480"/>
            <a:ext cx="2286000" cy="1703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1142640" y="5257440"/>
            <a:ext cx="2971800" cy="6858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16CD-9356-42A8-9497-14F7970719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6019560" cy="43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5C50-578B-4185-8859-E23ECCCDCC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s of the B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ote whether views are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xial (Horizontal) View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ronal View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ss need for familiarity with sagittal view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ok for relationships and shapes of structur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91DA-BC2C-4D0F-911A-8C6DDABE0B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895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eavily folded appearance – huge number of neuron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2" name="cerebellum" descr=""/>
          <p:cNvPicPr/>
          <p:nvPr/>
        </p:nvPicPr>
        <p:blipFill>
          <a:blip r:embed="rId1"/>
          <a:stretch/>
        </p:blipFill>
        <p:spPr>
          <a:xfrm>
            <a:off x="5737320" y="2308320"/>
            <a:ext cx="4549680" cy="45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877E-14F6-4905-890E-6FC1DA0CD1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ifficult to see on MRI scan – similar contrast to nearby white matt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jor portion of diencephal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5" name="Telencephalon-Horiconatal" descr=""/>
          <p:cNvPicPr/>
          <p:nvPr/>
        </p:nvPicPr>
        <p:blipFill>
          <a:blip r:embed="rId1"/>
          <a:stretch/>
        </p:blipFill>
        <p:spPr>
          <a:xfrm>
            <a:off x="5425920" y="1295280"/>
            <a:ext cx="4861080" cy="5562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15200" y="3583080"/>
            <a:ext cx="457200" cy="1019160"/>
          </a:xfrm>
          <a:custGeom>
            <a:avLst/>
            <a:gdLst/>
            <a:ahLst/>
            <a:rect l="l" t="t" r="r" b="b"/>
            <a:pathLst>
              <a:path w="288" h="642">
                <a:moveTo>
                  <a:pt x="0" y="239"/>
                </a:moveTo>
                <a:lnTo>
                  <a:pt x="0" y="431"/>
                </a:lnTo>
                <a:lnTo>
                  <a:pt x="48" y="575"/>
                </a:lnTo>
                <a:cubicBezTo>
                  <a:pt x="88" y="607"/>
                  <a:pt x="204" y="642"/>
                  <a:pt x="240" y="623"/>
                </a:cubicBezTo>
                <a:cubicBezTo>
                  <a:pt x="288" y="623"/>
                  <a:pt x="254" y="511"/>
                  <a:pt x="262" y="463"/>
                </a:cubicBezTo>
                <a:cubicBezTo>
                  <a:pt x="270" y="415"/>
                  <a:pt x="283" y="417"/>
                  <a:pt x="243" y="329"/>
                </a:cubicBezTo>
                <a:cubicBezTo>
                  <a:pt x="203" y="241"/>
                  <a:pt x="98" y="30"/>
                  <a:pt x="58" y="15"/>
                </a:cubicBezTo>
                <a:cubicBezTo>
                  <a:pt x="18" y="0"/>
                  <a:pt x="12" y="192"/>
                  <a:pt x="0" y="239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97" name="thalamus" descr=""/>
          <p:cNvPicPr/>
          <p:nvPr/>
        </p:nvPicPr>
        <p:blipFill>
          <a:blip r:embed="rId2"/>
          <a:stretch/>
        </p:blipFill>
        <p:spPr>
          <a:xfrm>
            <a:off x="0" y="41688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EB44-D155-4E1D-A854-18CB3F708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352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nsory information is relayed to the cortex via the thalamu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ditory, somatic, visceral, gustatory and vision (but not smell) each have dedicated nuclei in thalamu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just relaying information: thalamic nuclei have </a:t>
            </a:r>
            <a:r>
              <a:rPr b="0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eciprocal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connections with cortex.  Regulates level of awareness - damaged can lead to com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0" name="f02_09" descr=""/>
          <p:cNvPicPr/>
          <p:nvPr/>
        </p:nvPicPr>
        <p:blipFill>
          <a:blip r:embed="rId1"/>
          <a:stretch/>
        </p:blipFill>
        <p:spPr>
          <a:xfrm>
            <a:off x="5867280" y="2440080"/>
            <a:ext cx="4411800" cy="43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EA80-30CA-4873-919C-54962EE8E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O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 be able to identify the level of the CNS by recognizing the landmarks in transverse, horizontal, and coronal sec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ain, brainstem, spinal co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quires practice and dril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e book, atlases and softwar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ook for shape, size, location and proximity to other feature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CBCC-15CA-49A2-9F7D-4B28F16DDD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l, posterior to basal gang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Fig2_17" descr=""/>
          <p:cNvPicPr/>
          <p:nvPr/>
        </p:nvPicPr>
        <p:blipFill>
          <a:blip r:embed="rId1"/>
          <a:stretch/>
        </p:blipFill>
        <p:spPr>
          <a:xfrm>
            <a:off x="1246320" y="2209680"/>
            <a:ext cx="4814640" cy="4057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041920" y="1523880"/>
            <a:ext cx="31374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eft f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ternal Capsu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40" y="2119320"/>
            <a:ext cx="1715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ead of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udat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46320" y="3208320"/>
            <a:ext cx="298440" cy="2811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07800" y="2254320"/>
            <a:ext cx="389160" cy="88272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53760" y="2470320"/>
            <a:ext cx="1738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alm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19600" y="2747880"/>
            <a:ext cx="512640" cy="8654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0" y="4811760"/>
            <a:ext cx="1805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utame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09720" y="4459320"/>
            <a:ext cx="1181160" cy="5284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720" y="5438880"/>
            <a:ext cx="2302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mygdaloi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86000" y="5852880"/>
            <a:ext cx="511200" cy="1047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44800" y="5440320"/>
            <a:ext cx="32972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ail of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udate 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19360" y="5481360"/>
            <a:ext cx="369720" cy="1587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23080" y="1371600"/>
            <a:ext cx="3460680" cy="4038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66280" y="64008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View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1D5-E965-4687-B605-E43B47B44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ot seen on the more anterior coronal slic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9" name="coro" descr=""/>
          <p:cNvPicPr/>
          <p:nvPr/>
        </p:nvPicPr>
        <p:blipFill>
          <a:blip r:embed="rId1"/>
          <a:stretch/>
        </p:blipFill>
        <p:spPr>
          <a:xfrm>
            <a:off x="0" y="4886280"/>
            <a:ext cx="1028700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axial" descr=""/>
          <p:cNvPicPr/>
          <p:nvPr/>
        </p:nvPicPr>
        <p:blipFill>
          <a:blip r:embed="rId2"/>
          <a:stretch/>
        </p:blipFill>
        <p:spPr>
          <a:xfrm>
            <a:off x="0" y="2228760"/>
            <a:ext cx="9601200" cy="2678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86000" y="3467160"/>
            <a:ext cx="241200" cy="266760"/>
          </a:xfrm>
          <a:custGeom>
            <a:avLst/>
            <a:gdLst/>
            <a:ahLst/>
            <a:rect l="l" t="t" r="r" b="b"/>
            <a:pathLst>
              <a:path w="152" h="168">
                <a:moveTo>
                  <a:pt x="48" y="24"/>
                </a:moveTo>
                <a:cubicBezTo>
                  <a:pt x="72" y="48"/>
                  <a:pt x="152" y="152"/>
                  <a:pt x="144" y="168"/>
                </a:cubicBezTo>
                <a:lnTo>
                  <a:pt x="0" y="120"/>
                </a:lnTo>
                <a:lnTo>
                  <a:pt x="0" y="24"/>
                </a:lnTo>
                <a:cubicBezTo>
                  <a:pt x="8" y="8"/>
                  <a:pt x="24" y="0"/>
                  <a:pt x="48" y="24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365640"/>
            <a:ext cx="347760" cy="511200"/>
          </a:xfrm>
          <a:custGeom>
            <a:avLst/>
            <a:gdLst/>
            <a:ahLst/>
            <a:rect l="l" t="t" r="r" b="b"/>
            <a:pathLst>
              <a:path w="219" h="322">
                <a:moveTo>
                  <a:pt x="80" y="40"/>
                </a:moveTo>
                <a:cubicBezTo>
                  <a:pt x="116" y="80"/>
                  <a:pt x="217" y="242"/>
                  <a:pt x="218" y="282"/>
                </a:cubicBezTo>
                <a:cubicBezTo>
                  <a:pt x="219" y="322"/>
                  <a:pt x="127" y="298"/>
                  <a:pt x="87" y="282"/>
                </a:cubicBezTo>
                <a:lnTo>
                  <a:pt x="0" y="232"/>
                </a:lnTo>
                <a:lnTo>
                  <a:pt x="0" y="40"/>
                </a:lnTo>
                <a:cubicBezTo>
                  <a:pt x="0" y="40"/>
                  <a:pt x="44" y="0"/>
                  <a:pt x="80" y="40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376440"/>
            <a:ext cx="271440" cy="44928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01200" y="3886200"/>
            <a:ext cx="228600" cy="228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839080" y="457164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3400" y="5942880"/>
            <a:ext cx="271440" cy="30492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486400" y="6019200"/>
            <a:ext cx="271440" cy="22860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629400" y="6095880"/>
            <a:ext cx="271440" cy="7632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992920"/>
            <a:ext cx="120600" cy="168120"/>
          </a:xfrm>
          <a:custGeom>
            <a:avLst/>
            <a:gdLst/>
            <a:ahLst/>
            <a:rect l="l" t="t" r="r" b="b"/>
            <a:pathLst>
              <a:path w="76" h="106">
                <a:moveTo>
                  <a:pt x="76" y="41"/>
                </a:moveTo>
                <a:cubicBezTo>
                  <a:pt x="76" y="25"/>
                  <a:pt x="10" y="0"/>
                  <a:pt x="0" y="3"/>
                </a:cubicBezTo>
                <a:lnTo>
                  <a:pt x="0" y="100"/>
                </a:lnTo>
                <a:cubicBezTo>
                  <a:pt x="13" y="106"/>
                  <a:pt x="76" y="57"/>
                  <a:pt x="76" y="41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25F8-DB53-4980-935A-D071C6468D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1013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Basal Gangli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(historically referred to as part of striatum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audate nucleu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near lateral ventricl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Putame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(yellow): superficia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Globus pallidu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(green): deep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Nucleus accumben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: (not shown – junction of CN and Putamen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2" name="axial2" descr=""/>
          <p:cNvPicPr/>
          <p:nvPr/>
        </p:nvPicPr>
        <p:blipFill>
          <a:blip r:embed="rId1"/>
          <a:stretch/>
        </p:blipFill>
        <p:spPr>
          <a:xfrm>
            <a:off x="0" y="3218040"/>
            <a:ext cx="6259680" cy="363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324480" y="3352680"/>
            <a:ext cx="381024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unction: initiating action. Involved with parkinson disease. Also involved with motivation, addiction.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465E-23BF-43BC-A9C2-BC9250F1D6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onal sl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6" name="800px-Anatomie-Basalganglien-A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991720" cy="448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B399-236F-4A29-822E-27B761A757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Gray739" descr=""/>
          <p:cNvPicPr/>
          <p:nvPr/>
        </p:nvPicPr>
        <p:blipFill>
          <a:blip r:embed="rId1"/>
          <a:stretch/>
        </p:blipFill>
        <p:spPr>
          <a:xfrm>
            <a:off x="152280" y="3508200"/>
            <a:ext cx="4419720" cy="3349800"/>
          </a:xfrm>
          <a:prstGeom prst="rect">
            <a:avLst/>
          </a:prstGeom>
          <a:ln w="0">
            <a:noFill/>
          </a:ln>
        </p:spPr>
      </p:pic>
      <p:pic>
        <p:nvPicPr>
          <p:cNvPr id="238" name="hippocampus-2" descr=""/>
          <p:cNvPicPr/>
          <p:nvPr/>
        </p:nvPicPr>
        <p:blipFill>
          <a:blip r:embed="rId2"/>
          <a:stretch/>
        </p:blipFill>
        <p:spPr>
          <a:xfrm>
            <a:off x="6705720" y="3956040"/>
            <a:ext cx="3047760" cy="2901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z Circu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962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ippocampus, fornix and mammillary body crucial for long term memory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 difficult structure to visualiz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1" name="FigVII23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898720" cy="2668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162920" y="1600200"/>
            <a:ext cx="2438280" cy="304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67896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1200" y="1219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65D8-D4D8-4FD4-A210-E0DDCD6E72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62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ippocampus: coronal view reveals folded shap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nix also visible in this view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7" name="hipp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48" name="Gray717" descr=""/>
          <p:cNvPicPr/>
          <p:nvPr/>
        </p:nvPicPr>
        <p:blipFill>
          <a:blip r:embed="rId2"/>
          <a:stretch/>
        </p:blipFill>
        <p:spPr>
          <a:xfrm>
            <a:off x="0" y="2666880"/>
            <a:ext cx="36892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73EF-411B-4AD6-B9BC-C4A569DA1D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ssive white matter bundle that connects the two hemispher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1" name="cc" descr=""/>
          <p:cNvPicPr/>
          <p:nvPr/>
        </p:nvPicPr>
        <p:blipFill>
          <a:blip r:embed="rId1"/>
          <a:stretch/>
        </p:blipFill>
        <p:spPr>
          <a:xfrm>
            <a:off x="5737320" y="2308320"/>
            <a:ext cx="4549680" cy="4549680"/>
          </a:xfrm>
          <a:prstGeom prst="rect">
            <a:avLst/>
          </a:prstGeom>
          <a:ln w="0">
            <a:noFill/>
          </a:ln>
        </p:spPr>
      </p:pic>
      <p:pic>
        <p:nvPicPr>
          <p:cNvPr id="252" name="ccx" descr=""/>
          <p:cNvPicPr/>
          <p:nvPr/>
        </p:nvPicPr>
        <p:blipFill>
          <a:blip r:embed="rId2"/>
          <a:stretch/>
        </p:blipFill>
        <p:spPr>
          <a:xfrm>
            <a:off x="0" y="3017880"/>
            <a:ext cx="45720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20CE-F633-4E78-B31E-59EF316C15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ometimes surgically severed to treat epileps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plit brain patients’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nections mostly homotopic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5" name="ccj" descr=""/>
          <p:cNvPicPr/>
          <p:nvPr/>
        </p:nvPicPr>
        <p:blipFill>
          <a:blip r:embed="rId1"/>
          <a:stretch/>
        </p:blipFill>
        <p:spPr>
          <a:xfrm>
            <a:off x="6297480" y="2263680"/>
            <a:ext cx="3989520" cy="4594320"/>
          </a:xfrm>
          <a:prstGeom prst="rect">
            <a:avLst/>
          </a:prstGeom>
          <a:ln w="0">
            <a:noFill/>
          </a:ln>
        </p:spPr>
      </p:pic>
      <p:pic>
        <p:nvPicPr>
          <p:cNvPr id="256" name="ccx" descr=""/>
          <p:cNvPicPr/>
          <p:nvPr/>
        </p:nvPicPr>
        <p:blipFill>
          <a:blip r:embed="rId2"/>
          <a:stretch/>
        </p:blipFill>
        <p:spPr>
          <a:xfrm>
            <a:off x="0" y="3017880"/>
            <a:ext cx="45720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78A6-66D9-425B-B7E5-0DE954755E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ptic_tract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194000" cy="2936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ptice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6038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sions at different locations lead to different forms of visual field cut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ortant diagnostic tool to infer brain injur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0" name="fieldcuts" descr=""/>
          <p:cNvPicPr/>
          <p:nvPr/>
        </p:nvPicPr>
        <p:blipFill>
          <a:blip r:embed="rId2"/>
          <a:stretch/>
        </p:blipFill>
        <p:spPr>
          <a:xfrm>
            <a:off x="6297480" y="1752480"/>
            <a:ext cx="3989520" cy="441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9240" y="5889600"/>
            <a:ext cx="29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iculate Nucleus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(Thalamus)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5105520"/>
            <a:ext cx="990720" cy="9144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5080" y="6473880"/>
            <a:ext cx="358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1 Primary Visual Cortex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5181120" y="5257440"/>
            <a:ext cx="1143000" cy="11430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1EDC-FAB6-4688-BDF3-94D1B76E0F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 De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5320" y="1447920"/>
            <a:ext cx="48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ield defects reveal anatomical inju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nocular blind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itemporal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omonymous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pper quadrant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wer quadrant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omonymous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7" name="fieldcuts" descr=""/>
          <p:cNvPicPr/>
          <p:nvPr/>
        </p:nvPicPr>
        <p:blipFill>
          <a:blip r:embed="rId1"/>
          <a:stretch/>
        </p:blipFill>
        <p:spPr>
          <a:xfrm>
            <a:off x="4889520" y="1523880"/>
            <a:ext cx="539748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03FF-E7A0-4E50-B6E5-D0A9A28F5C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o spot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 Chang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rtical + Subcortic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ntricular Chang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ll levels – including fourth ventricle and brainste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nges in shape of brainstem and spinal co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29D7-91D7-47B8-B03D-2BD8F6684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4286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imary visual cortex (V1) lies in calcarine fissur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mplete damage leads to Homonymous hemianop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tial damage leads to scotoma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0" name="fieldcuts" descr=""/>
          <p:cNvPicPr/>
          <p:nvPr/>
        </p:nvPicPr>
        <p:blipFill>
          <a:blip r:embed="rId1"/>
          <a:srcRect l="0" t="0" r="0" b="33333"/>
          <a:stretch/>
        </p:blipFill>
        <p:spPr>
          <a:xfrm>
            <a:off x="5400720" y="3124080"/>
            <a:ext cx="4900680" cy="3657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72160" y="3809880"/>
            <a:ext cx="1457280" cy="6098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336" y="240"/>
                </a:moveTo>
                <a:lnTo>
                  <a:pt x="0" y="384"/>
                </a:lnTo>
                <a:lnTo>
                  <a:pt x="0" y="192"/>
                </a:lnTo>
                <a:cubicBezTo>
                  <a:pt x="80" y="160"/>
                  <a:pt x="161" y="130"/>
                  <a:pt x="240" y="96"/>
                </a:cubicBezTo>
                <a:cubicBezTo>
                  <a:pt x="247" y="93"/>
                  <a:pt x="251" y="84"/>
                  <a:pt x="258" y="83"/>
                </a:cubicBezTo>
                <a:cubicBezTo>
                  <a:pt x="355" y="68"/>
                  <a:pt x="391" y="70"/>
                  <a:pt x="473" y="70"/>
                </a:cubicBezTo>
                <a:lnTo>
                  <a:pt x="768" y="0"/>
                </a:lnTo>
                <a:lnTo>
                  <a:pt x="816" y="96"/>
                </a:lnTo>
                <a:lnTo>
                  <a:pt x="528" y="192"/>
                </a:lnTo>
                <a:lnTo>
                  <a:pt x="336" y="240"/>
                </a:lnTo>
                <a:close/>
              </a:path>
            </a:pathLst>
          </a:custGeom>
          <a:noFill/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43520" y="5867280"/>
            <a:ext cx="514440" cy="3812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336" y="240"/>
                </a:moveTo>
                <a:lnTo>
                  <a:pt x="0" y="384"/>
                </a:lnTo>
                <a:lnTo>
                  <a:pt x="0" y="192"/>
                </a:lnTo>
                <a:cubicBezTo>
                  <a:pt x="80" y="160"/>
                  <a:pt x="161" y="130"/>
                  <a:pt x="240" y="96"/>
                </a:cubicBezTo>
                <a:cubicBezTo>
                  <a:pt x="247" y="93"/>
                  <a:pt x="251" y="84"/>
                  <a:pt x="258" y="83"/>
                </a:cubicBezTo>
                <a:cubicBezTo>
                  <a:pt x="355" y="68"/>
                  <a:pt x="391" y="70"/>
                  <a:pt x="473" y="70"/>
                </a:cubicBezTo>
                <a:lnTo>
                  <a:pt x="768" y="0"/>
                </a:lnTo>
                <a:lnTo>
                  <a:pt x="816" y="96"/>
                </a:lnTo>
                <a:lnTo>
                  <a:pt x="528" y="192"/>
                </a:lnTo>
                <a:lnTo>
                  <a:pt x="336" y="240"/>
                </a:lnTo>
                <a:close/>
              </a:path>
            </a:pathLst>
          </a:custGeom>
          <a:noFill/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73" name="calcarine" descr=""/>
          <p:cNvPicPr/>
          <p:nvPr/>
        </p:nvPicPr>
        <p:blipFill>
          <a:blip r:embed="rId2"/>
          <a:stretch/>
        </p:blipFill>
        <p:spPr>
          <a:xfrm>
            <a:off x="7201080" y="152280"/>
            <a:ext cx="2788920" cy="24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CEAA-C2BB-44DC-8C67-4C8396E82E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1 – retinotopic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971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1 is retinotopic: distorted spatial map of visual sce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vea has massively over represented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6" name="retinotopicMap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4756320" cy="42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C123-32B5-4497-87AB-2393ED46A9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815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u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410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Insula: below the portions of the frontal, temporal, and parietal lob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25643" t="14853" r="26825" b="23902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280" name="Gray717" descr=""/>
          <p:cNvPicPr/>
          <p:nvPr/>
        </p:nvPicPr>
        <p:blipFill>
          <a:blip r:embed="rId2"/>
          <a:stretch/>
        </p:blipFill>
        <p:spPr>
          <a:xfrm>
            <a:off x="5391000" y="1295280"/>
            <a:ext cx="4896000" cy="5562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915400" y="2362320"/>
            <a:ext cx="0" cy="2133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572080" y="3200400"/>
            <a:ext cx="4543560" cy="3505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815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u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25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Sometimes referred to as Insular Lob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Operculum (lids) separate the insula and the superficial cortex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inferior bank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Pariet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posterior+superior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Front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anterior+superior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000840" y="3276720"/>
            <a:ext cx="3698640" cy="3325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543800" y="5105520"/>
            <a:ext cx="227160" cy="658800"/>
          </a:xfrm>
          <a:custGeom>
            <a:avLst/>
            <a:gdLst/>
            <a:ahLst/>
            <a:rect l="l" t="t" r="r" b="b"/>
            <a:pathLst>
              <a:path w="127" h="415">
                <a:moveTo>
                  <a:pt x="81" y="378"/>
                </a:moveTo>
                <a:cubicBezTo>
                  <a:pt x="64" y="327"/>
                  <a:pt x="38" y="281"/>
                  <a:pt x="0" y="243"/>
                </a:cubicBezTo>
                <a:cubicBezTo>
                  <a:pt x="0" y="240"/>
                  <a:pt x="8" y="73"/>
                  <a:pt x="27" y="54"/>
                </a:cubicBezTo>
                <a:cubicBezTo>
                  <a:pt x="42" y="39"/>
                  <a:pt x="63" y="30"/>
                  <a:pt x="81" y="18"/>
                </a:cubicBezTo>
                <a:cubicBezTo>
                  <a:pt x="90" y="12"/>
                  <a:pt x="108" y="0"/>
                  <a:pt x="108" y="0"/>
                </a:cubicBezTo>
                <a:cubicBezTo>
                  <a:pt x="119" y="43"/>
                  <a:pt x="127" y="56"/>
                  <a:pt x="108" y="108"/>
                </a:cubicBezTo>
                <a:cubicBezTo>
                  <a:pt x="101" y="128"/>
                  <a:pt x="72" y="162"/>
                  <a:pt x="72" y="162"/>
                </a:cubicBezTo>
                <a:cubicBezTo>
                  <a:pt x="85" y="202"/>
                  <a:pt x="104" y="194"/>
                  <a:pt x="117" y="234"/>
                </a:cubicBezTo>
                <a:cubicBezTo>
                  <a:pt x="114" y="270"/>
                  <a:pt x="118" y="307"/>
                  <a:pt x="108" y="342"/>
                </a:cubicBezTo>
                <a:cubicBezTo>
                  <a:pt x="102" y="363"/>
                  <a:pt x="62" y="415"/>
                  <a:pt x="72" y="396"/>
                </a:cubicBezTo>
                <a:cubicBezTo>
                  <a:pt x="75" y="390"/>
                  <a:pt x="78" y="384"/>
                  <a:pt x="81" y="3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5022720"/>
            <a:ext cx="594000" cy="368280"/>
          </a:xfrm>
          <a:custGeom>
            <a:avLst/>
            <a:gdLst/>
            <a:ahLst/>
            <a:rect l="l" t="t" r="r" b="b"/>
            <a:pathLst>
              <a:path w="332" h="232">
                <a:moveTo>
                  <a:pt x="24" y="205"/>
                </a:moveTo>
                <a:cubicBezTo>
                  <a:pt x="90" y="216"/>
                  <a:pt x="121" y="219"/>
                  <a:pt x="186" y="232"/>
                </a:cubicBezTo>
                <a:cubicBezTo>
                  <a:pt x="214" y="148"/>
                  <a:pt x="205" y="196"/>
                  <a:pt x="258" y="133"/>
                </a:cubicBezTo>
                <a:cubicBezTo>
                  <a:pt x="287" y="99"/>
                  <a:pt x="272" y="88"/>
                  <a:pt x="312" y="61"/>
                </a:cubicBezTo>
                <a:cubicBezTo>
                  <a:pt x="332" y="0"/>
                  <a:pt x="291" y="17"/>
                  <a:pt x="249" y="25"/>
                </a:cubicBezTo>
                <a:cubicBezTo>
                  <a:pt x="177" y="73"/>
                  <a:pt x="264" y="10"/>
                  <a:pt x="204" y="70"/>
                </a:cubicBezTo>
                <a:cubicBezTo>
                  <a:pt x="164" y="110"/>
                  <a:pt x="92" y="109"/>
                  <a:pt x="42" y="115"/>
                </a:cubicBezTo>
                <a:cubicBezTo>
                  <a:pt x="9" y="133"/>
                  <a:pt x="0" y="185"/>
                  <a:pt x="24" y="205"/>
                </a:cubicBez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8120" y="5397480"/>
            <a:ext cx="441360" cy="341280"/>
          </a:xfrm>
          <a:custGeom>
            <a:avLst/>
            <a:gdLst/>
            <a:ahLst/>
            <a:rect l="l" t="t" r="r" b="b"/>
            <a:pathLst>
              <a:path w="247" h="215">
                <a:moveTo>
                  <a:pt x="226" y="212"/>
                </a:moveTo>
                <a:cubicBezTo>
                  <a:pt x="199" y="203"/>
                  <a:pt x="170" y="190"/>
                  <a:pt x="145" y="176"/>
                </a:cubicBezTo>
                <a:cubicBezTo>
                  <a:pt x="126" y="165"/>
                  <a:pt x="91" y="140"/>
                  <a:pt x="91" y="140"/>
                </a:cubicBezTo>
                <a:cubicBezTo>
                  <a:pt x="85" y="131"/>
                  <a:pt x="81" y="120"/>
                  <a:pt x="73" y="113"/>
                </a:cubicBezTo>
                <a:cubicBezTo>
                  <a:pt x="57" y="99"/>
                  <a:pt x="19" y="77"/>
                  <a:pt x="19" y="77"/>
                </a:cubicBezTo>
                <a:cubicBezTo>
                  <a:pt x="5" y="35"/>
                  <a:pt x="0" y="20"/>
                  <a:pt x="46" y="5"/>
                </a:cubicBezTo>
                <a:cubicBezTo>
                  <a:pt x="82" y="9"/>
                  <a:pt x="126" y="0"/>
                  <a:pt x="154" y="23"/>
                </a:cubicBezTo>
                <a:cubicBezTo>
                  <a:pt x="212" y="70"/>
                  <a:pt x="131" y="36"/>
                  <a:pt x="199" y="59"/>
                </a:cubicBezTo>
                <a:cubicBezTo>
                  <a:pt x="247" y="131"/>
                  <a:pt x="232" y="92"/>
                  <a:pt x="244" y="176"/>
                </a:cubicBezTo>
                <a:cubicBezTo>
                  <a:pt x="234" y="215"/>
                  <a:pt x="247" y="212"/>
                  <a:pt x="226" y="212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cial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rizontal and Coronal View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yramidal Trac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nal Capsu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sal Gangl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tame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lobus Pallid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audat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057400"/>
            <a:ext cx="51436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ippocampu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nix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ntricle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rpus Callosum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ptic trac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sul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0C4D-1641-4267-A1AA-B37C716D01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ramid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886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ka ‘Corticospinal tract’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ssive bundle of axons that contect cortex to spinal cord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stly voluntary motor control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http://library.med.utah.edu/kw/hyperbrain/syllabus/syllabus10.html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Gray764" descr=""/>
          <p:cNvPicPr/>
          <p:nvPr/>
        </p:nvPicPr>
        <p:blipFill>
          <a:blip r:embed="rId1"/>
          <a:stretch/>
        </p:blipFill>
        <p:spPr>
          <a:xfrm>
            <a:off x="6513480" y="1295280"/>
            <a:ext cx="3773520" cy="556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51480" y="12952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aramond"/>
              </a:rPr>
              <a:t>Corona Radiata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600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D655-9CAA-4ED6-9776-D96FDD7E1E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1 is principle origin for pyramidal trac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patial organization (homunculus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somato" descr=""/>
          <p:cNvPicPr/>
          <p:nvPr/>
        </p:nvPicPr>
        <p:blipFill>
          <a:blip r:embed="rId1"/>
          <a:stretch/>
        </p:blipFill>
        <p:spPr>
          <a:xfrm>
            <a:off x="6496200" y="4267080"/>
            <a:ext cx="307332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homunculus" descr=""/>
          <p:cNvPicPr/>
          <p:nvPr/>
        </p:nvPicPr>
        <p:blipFill>
          <a:blip r:embed="rId2"/>
          <a:stretch/>
        </p:blipFill>
        <p:spPr>
          <a:xfrm>
            <a:off x="76320" y="4267080"/>
            <a:ext cx="27511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0" y="3809880"/>
            <a:ext cx="2314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M1: movemen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419720"/>
            <a:ext cx="1971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Verdana"/>
              </a:rPr>
              <a:t>S1: sensation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B29C-F37D-4156-BD88-6BE07B8DD3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ramidal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619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urons in layers V and VI send axons long distanc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yer V of M1 the pyramidal cells are extremely large. (Betz cells)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endrites go into superficial layer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xon travels down pyramidal trac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golgiStainedPyramidalCell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3367080" cy="2237040"/>
          </a:xfrm>
          <a:prstGeom prst="rect">
            <a:avLst/>
          </a:prstGeom>
          <a:ln w="0">
            <a:noFill/>
          </a:ln>
        </p:spPr>
      </p:pic>
      <p:pic>
        <p:nvPicPr>
          <p:cNvPr id="121" name="layers" descr=""/>
          <p:cNvPicPr/>
          <p:nvPr/>
        </p:nvPicPr>
        <p:blipFill>
          <a:blip r:embed="rId2"/>
          <a:stretch/>
        </p:blipFill>
        <p:spPr>
          <a:xfrm>
            <a:off x="693432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820000" y="6129360"/>
            <a:ext cx="254160" cy="652320"/>
          </a:xfrm>
          <a:custGeom>
            <a:avLst/>
            <a:gdLst/>
            <a:ahLst/>
            <a:rect l="l" t="t" r="r" b="b"/>
            <a:pathLst>
              <a:path w="160" h="411">
                <a:moveTo>
                  <a:pt x="81" y="0"/>
                </a:moveTo>
                <a:cubicBezTo>
                  <a:pt x="93" y="99"/>
                  <a:pt x="0" y="119"/>
                  <a:pt x="12" y="171"/>
                </a:cubicBezTo>
                <a:cubicBezTo>
                  <a:pt x="24" y="223"/>
                  <a:pt x="128" y="242"/>
                  <a:pt x="144" y="282"/>
                </a:cubicBezTo>
                <a:cubicBezTo>
                  <a:pt x="160" y="322"/>
                  <a:pt x="118" y="391"/>
                  <a:pt x="108" y="411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EDD6-3CAF-4422-8C00-D90A58895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ona Radi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3981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ar the motor cortex, we refer to the fibers of the pyramidal tract as being in the ‘corona radiata’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5" name="gray745" descr=""/>
          <p:cNvPicPr/>
          <p:nvPr/>
        </p:nvPicPr>
        <p:blipFill>
          <a:blip r:embed="rId1"/>
          <a:stretch/>
        </p:blipFill>
        <p:spPr>
          <a:xfrm>
            <a:off x="4572000" y="1608120"/>
            <a:ext cx="5715000" cy="46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280C-2A6A-45B0-BCD6-0A96D4DC29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Caps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lencephalon-Horiconatal" descr=""/>
          <p:cNvPicPr/>
          <p:nvPr/>
        </p:nvPicPr>
        <p:blipFill>
          <a:blip r:embed="rId1"/>
          <a:stretch/>
        </p:blipFill>
        <p:spPr>
          <a:xfrm>
            <a:off x="5425920" y="1295280"/>
            <a:ext cx="48610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467480" y="2654280"/>
            <a:ext cx="654120" cy="1612800"/>
          </a:xfrm>
          <a:custGeom>
            <a:avLst/>
            <a:gdLst/>
            <a:ahLst/>
            <a:rect l="l" t="t" r="r" b="b"/>
            <a:pathLst>
              <a:path w="412" h="1016">
                <a:moveTo>
                  <a:pt x="0" y="440"/>
                </a:moveTo>
                <a:cubicBezTo>
                  <a:pt x="152" y="728"/>
                  <a:pt x="192" y="1016"/>
                  <a:pt x="192" y="1016"/>
                </a:cubicBezTo>
                <a:lnTo>
                  <a:pt x="288" y="968"/>
                </a:lnTo>
                <a:cubicBezTo>
                  <a:pt x="301" y="937"/>
                  <a:pt x="296" y="912"/>
                  <a:pt x="272" y="832"/>
                </a:cubicBezTo>
                <a:cubicBezTo>
                  <a:pt x="248" y="752"/>
                  <a:pt x="125" y="593"/>
                  <a:pt x="144" y="488"/>
                </a:cubicBezTo>
                <a:lnTo>
                  <a:pt x="384" y="200"/>
                </a:lnTo>
                <a:cubicBezTo>
                  <a:pt x="412" y="125"/>
                  <a:pt x="376" y="0"/>
                  <a:pt x="312" y="40"/>
                </a:cubicBezTo>
                <a:cubicBezTo>
                  <a:pt x="248" y="80"/>
                  <a:pt x="208" y="232"/>
                  <a:pt x="0" y="44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29" name="internalcapsule" descr="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ar the basal ganglia, the pyramidal tract forms the central body (genu) of the internal capsul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029200"/>
            <a:ext cx="44197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nal capsule and neighboring basal ganglia often injured by small strokes.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B093-D00B-4269-9E8B-20E25726EB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5:33:43Z</dcterms:created>
  <dc:creator>Chris Rorden</dc:creator>
  <dc:description/>
  <dc:language>en-US</dc:language>
  <cp:lastModifiedBy>ZonaNet</cp:lastModifiedBy>
  <cp:lastPrinted>1999-01-08T00:45:34Z</cp:lastPrinted>
  <dcterms:modified xsi:type="dcterms:W3CDTF">2008-05-01T23:53:08Z</dcterms:modified>
  <cp:revision>136</cp:revision>
  <dc:subject/>
  <dc:title>Temporal Aspects of Visual Extinction</dc:title>
</cp:coreProperties>
</file>