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1E74-32EB-4A41-A5B7-05233C9F7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hyperlink" Target="http://www.webopedia.com/TERM/S/software.html" TargetMode="External"/><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55A0-ED1F-4B57-ABDC-B01721D1CB2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396252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tion - What does Return Material Authorization (RMA)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material authorization (RMA) is an e-commerce term that describes an arrangement in which the supplier of a good or product degrees to have a customer or client ship that item back to them in exchange for a refund or cred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unning letter can also be called a letter of collection. It is a notice from creditors demanding payment of debt by a debtor. A dunning letter can also be called a letter of collection. It is a notice from creditors demanding payment of debt by a debtor. </a:t>
            </a:r>
            <a:endParaRPr b="0" lang="en-US" sz="1200" spc="-1" strike="noStrike">
              <a:solidFill>
                <a:srgbClr val="000000"/>
              </a:solidFill>
              <a:latin typeface="Times New Roman"/>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F292-3DCC-4128-A286-20D8B928589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to-promise is a business function that provides a response to customer order enquiries, based on resource availability. It generates available quantities of the requested product, and delivery due dates. ...</a:t>
            </a:r>
            <a:endParaRPr b="0" lang="en-US" sz="1200" spc="-1" strike="noStrike">
              <a:solidFill>
                <a:srgbClr val="000000"/>
              </a:solidFill>
              <a:latin typeface="Times New Roman"/>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ADDB-D1C6-4F06-9506-A4162AEB14E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Arial"/>
              </a:rPr>
              <a:t>المدينون</a:t>
            </a:r>
            <a:r>
              <a:rPr b="1" lang="ar-SA" sz="1200" spc="-1" strike="noStrike">
                <a:solidFill>
                  <a:srgbClr val="000000"/>
                </a:solidFill>
                <a:latin typeface="Times New Roman"/>
                <a:ea typeface="Arial"/>
              </a:rPr>
              <a:t> </a:t>
            </a:r>
            <a:r>
              <a:rPr b="1" lang="en-US" sz="1200" spc="-1" strike="noStrike">
                <a:solidFill>
                  <a:srgbClr val="000000"/>
                </a:solidFill>
                <a:latin typeface="Times New Roman"/>
              </a:rPr>
              <a:t>Accounts Receivable</a:t>
            </a: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ial"/>
              </a:rPr>
              <a:t>يمثل حساب المدينين أو حساب العملاء مجموع أرصدة العملاء المدينة والظاهرة بدفتر الأستاذ في نهاية الفترة المالية وهي تعبر عن حقوق للمنشأة طرف الغير والناتجة عن المعاملات التي تمت بين المنشأة والغير وتشمل حسابات المدينين على نوعين من المدينين : مدينون تجاريون وهم الأشخاص أو الشركات التي تكون مدينة للمنشأة نتيجة عمليات تجارية تمت بينهم وبين المنشأة ، ومدينون غير تجاريون وهم أولئك الذين تنشأ في ذمتهم حقوق للمنشأة نتيجة حصولهم على قرض أو سلعة من المنشأة وقد يفتح لهم حساب مستقل يسمى حسابات مدينة أخرى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B0702-BA74-4104-9182-7F1D9F79456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le-to-promise is a business function that provides a response to customer order enquiries, based on resource availability. It generates available quantities of the requested product, and delivery due dates</a:t>
            </a:r>
            <a:endParaRPr b="0" lang="en-US" sz="1200" spc="-1" strike="noStrike">
              <a:solidFill>
                <a:srgbClr val="000000"/>
              </a:solidFill>
              <a:latin typeface="Times New Roman"/>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02CA-4B8E-4019-97BD-DFF65A24BB5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es force automation is a technique of using </a:t>
            </a:r>
            <a:r>
              <a:rPr b="0" lang="en-US" sz="1200" spc="-1" strike="noStrike" u="sng">
                <a:solidFill>
                  <a:srgbClr val="009999"/>
                </a:solidFill>
                <a:uFillTx/>
                <a:latin typeface="Times New Roman"/>
                <a:hlinkClick r:id="rId1"/>
              </a:rPr>
              <a:t>software</a:t>
            </a:r>
            <a:r>
              <a:rPr b="0" lang="en-US" sz="1200" spc="-1" strike="noStrike">
                <a:solidFill>
                  <a:srgbClr val="000000"/>
                </a:solidFill>
                <a:latin typeface="Times New Roman"/>
              </a:rPr>
              <a:t> to automate the business tasks of sales, including order processing, contact management, information sharing, inventory monitoring and control, order tracking, customer management, sales forecast analysis and employee performance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4A36-3BD3-421B-B3A8-ECF8B24B167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al</a:t>
            </a:r>
            <a:r>
              <a:rPr b="0" lang="ar-SA" sz="1200" spc="-1" strike="noStrike">
                <a:solidFill>
                  <a:srgbClr val="000000"/>
                </a:solidFill>
                <a:latin typeface="Times New Roman"/>
                <a:ea typeface="Arial"/>
              </a:rPr>
              <a:t>    </a:t>
            </a:r>
            <a:r>
              <a:rPr b="0" lang="en-US" sz="1200" spc="-1" strike="noStrike">
                <a:solidFill>
                  <a:srgbClr val="000000"/>
                </a:solidFill>
                <a:latin typeface="Times New Roman"/>
              </a:rPr>
              <a:t>; cen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F1CB-407C-4D76-8ACC-B8B5106E58B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75" name="Rectangle 4"/>
          <p:cNvSpPr/>
          <p:nvPr/>
        </p:nvSpPr>
        <p:spPr>
          <a:xfrm>
            <a:off x="2104920" y="4371840"/>
            <a:ext cx="264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ctitious Fitter Snacker </a:t>
            </a:r>
            <a:endParaRPr b="0" lang="en-US" sz="20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ive : too much</a:t>
            </a:r>
            <a:endParaRPr b="0" lang="en-US" sz="1200" spc="-1" strike="noStrike">
              <a:solidFill>
                <a:srgbClr val="000000"/>
              </a:solidFill>
              <a:latin typeface="Times New Roman"/>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D907-6349-4E5A-B551-2DA5658274B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43FC96-968F-4D9C-B2C1-155E7E7CB7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A8F9DB-4B60-4727-BC17-3D35A15A31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8AD5AA-DEF4-411B-891A-4DADF3E67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8F42A1-1332-441D-87CF-A7352E6666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CB7CBB-CCAA-462F-A554-3C59E2EEB8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1471E-3345-43DD-BF2F-69395EE06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27BF2-9465-4444-8695-A2FCB5FCD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E71BB-A6E0-477B-A1CC-EE5A49C1E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17DC2-DBBF-4246-B36F-EAD38E8B4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8C3B59-11D5-44AD-9109-826FA3D61B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A55858-3659-4237-95E9-2CB2695E45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73FBC9-F5DA-49BD-9663-94BB559A4C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6A892-E6A1-46DE-A712-C62B6F4E0D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AFBFD-8C1D-4639-A039-D25B7E25F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4DC24-B555-4173-8F3A-5A6C8BF3F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F342C3-1A4C-44F0-87D7-B21F486BE8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ABD5BA-7AE4-4DFD-A168-7CF0EC0614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5DF013-26FD-42EA-A1AF-9A08C79F30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7"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7249C7-BD90-44AF-AFA1-55FCC191BE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85667C-FCFC-4EB4-8125-8210940631E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7C5964-3F20-4382-B99E-06466767B5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AFF399-A494-4AC5-A815-E6CF9EB079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20399B-2B47-4D06-9FAA-E8575A2449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D6CD312-8870-4868-BC09-6413CC0D957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6E627C-88E1-463F-9DF8-CBAD69EEF2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C4D7C8-A586-4AC2-A22E-E60108AA08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E41E29-8BFD-4A21-AED3-0044462378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8"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9"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054E91B-818A-4B59-94C9-799E85406B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3EBCEE3-3879-47B2-849B-E94F43B706F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6"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7"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8"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9"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0"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1"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FE12F29-5D7D-4FEB-B774-B461C9398E3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294CD1-C166-45AC-BE10-4387B86F1E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7D3C5D-545A-4865-867B-9F608C4966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5DCDDD-31B0-4886-BE66-E0D7CDBED4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1C32D-B7E8-434B-9B99-D6C6C8490E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1B7BE-5864-47B9-B976-D487EEB901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284315-D0C1-4B39-B248-A37685A68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2635-B051-4DAB-9641-F101F6367D32}"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B059-D68A-45A8-9310-EB131212B40F}"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82"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F611-4123-466D-8E93-89ECD662D765}"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4479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Arial"/>
              </a:rPr>
              <a:t>Concepts in Enterprise Resource Planning</a:t>
            </a:r>
            <a:br>
              <a:rPr sz="4400"/>
            </a:br>
            <a:r>
              <a:rPr b="0" i="1" lang="en-US" sz="4400" spc="-1" strike="noStrike">
                <a:solidFill>
                  <a:srgbClr val="222222"/>
                </a:solidFill>
                <a:latin typeface="Arial"/>
              </a:rPr>
              <a:t> </a:t>
            </a:r>
            <a:r>
              <a:rPr b="0" i="1" lang="en-US" sz="3200" spc="-1" strike="noStrike">
                <a:solidFill>
                  <a:srgbClr val="222222"/>
                </a:solidFill>
                <a:latin typeface="Arial"/>
              </a:rPr>
              <a:t>4th Edition</a:t>
            </a:r>
            <a:endParaRPr b="0" lang="en-US" sz="3200" spc="-1" strike="noStrike">
              <a:solidFill>
                <a:srgbClr val="222222"/>
              </a:solidFill>
              <a:latin typeface="Arial"/>
            </a:endParaRPr>
          </a:p>
        </p:txBody>
      </p:sp>
      <p:sp>
        <p:nvSpPr>
          <p:cNvPr id="130" name="PlaceHolder 2"/>
          <p:cNvSpPr>
            <a:spLocks noGrp="1"/>
          </p:cNvSpPr>
          <p:nvPr>
            <p:ph type="subTitle"/>
          </p:nvPr>
        </p:nvSpPr>
        <p:spPr>
          <a:xfrm>
            <a:off x="609120" y="4419360"/>
            <a:ext cx="8077320" cy="144756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Three</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Marketing Information Systems and the Sales Order Process</a:t>
            </a:r>
            <a:endParaRPr b="0" lang="en-US" sz="3400" spc="-1" strike="noStrike">
              <a:solidFill>
                <a:srgbClr val="222222"/>
              </a:solidFill>
              <a:latin typeface="Arial"/>
            </a:endParaRPr>
          </a:p>
        </p:txBody>
      </p:sp>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FB22-BDCC-4792-A4A6-2091192BE8BE}" type="slidenum">
              <a:rPr b="0" lang="en-US" sz="1400" spc="-1" strike="noStrike">
                <a:solidFill>
                  <a:srgbClr val="222222"/>
                </a:solidFill>
                <a:latin typeface="Times New Roman"/>
              </a:rPr>
              <a:t>&lt;number&gt;</a:t>
            </a:fld>
            <a:endParaRPr b="0" lang="en-US" sz="1400" spc="-1" strike="noStrike">
              <a:solidFill>
                <a:srgbClr val="ffffff"/>
              </a:solidFill>
              <a:latin typeface="Times New Roman"/>
            </a:endParaRPr>
          </a:p>
        </p:txBody>
      </p:sp>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C92E-2EC1-41EE-97D9-DD26B54B931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Quotations and Orders</a:t>
            </a:r>
            <a:endParaRPr b="0" lang="en-US" sz="3600" spc="-1" strike="noStrike">
              <a:solidFill>
                <a:srgbClr val="222222"/>
              </a:solidFill>
              <a:latin typeface="Arial"/>
            </a:endParaRPr>
          </a:p>
        </p:txBody>
      </p:sp>
      <p:sp>
        <p:nvSpPr>
          <p:cNvPr id="176" name="PlaceHolder 2"/>
          <p:cNvSpPr>
            <a:spLocks noGrp="1"/>
          </p:cNvSpPr>
          <p:nvPr>
            <p:ph/>
          </p:nvPr>
        </p:nvSpPr>
        <p:spPr>
          <a:xfrm>
            <a:off x="533520" y="160020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Giving a customer a price quotation and then taking the customer’s order at FS</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call: salesperson either telephones the customer or visits in person</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t the end of sales call, salesperson prepares a handwritten quotation on a form that generates two copies</a:t>
            </a:r>
            <a:endParaRPr b="0" lang="en-US" sz="2400" spc="-1" strike="noStrike">
              <a:solidFill>
                <a:srgbClr val="222222"/>
              </a:solidFill>
              <a:latin typeface="Arial"/>
            </a:endParaRPr>
          </a:p>
          <a:p>
            <a:pPr lvl="2" marL="1097280" indent="-21924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Original sheet goes to the customer</a:t>
            </a:r>
            <a:endParaRPr b="0" lang="en-US" sz="2200" spc="-1" strike="noStrike">
              <a:solidFill>
                <a:srgbClr val="222222"/>
              </a:solidFill>
              <a:latin typeface="Arial"/>
            </a:endParaRPr>
          </a:p>
          <a:p>
            <a:pPr lvl="2" marL="1097280" indent="-21924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iddle copy is first faxed and then mailed to the sales office</a:t>
            </a:r>
            <a:endParaRPr b="0" lang="en-US" sz="2200" spc="-1" strike="noStrike">
              <a:solidFill>
                <a:srgbClr val="222222"/>
              </a:solidFill>
              <a:latin typeface="Arial"/>
            </a:endParaRPr>
          </a:p>
          <a:p>
            <a:pPr lvl="2" marL="1097280" indent="-21924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lesperson keeps the bottom copy for his or her records</a:t>
            </a: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DCA7D-F211-4C75-8261-C8C33ADF4F4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Quotations and Orders (cont’d.)</a:t>
            </a:r>
            <a:endParaRPr b="0" lang="en-US" sz="3600" spc="-1" strike="noStrike">
              <a:solidFill>
                <a:srgbClr val="222222"/>
              </a:solidFill>
              <a:latin typeface="Arial"/>
            </a:endParaRPr>
          </a:p>
        </p:txBody>
      </p:sp>
      <p:sp>
        <p:nvSpPr>
          <p:cNvPr id="18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Giving a customer a price quotation and then taking the customer’s order at FS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Quotation form has an 800 number that the customer can call to place an order</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blems can occur with this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efficiencies in the rest of the ordering proces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termining the delivery dat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hecking customer’s credit statu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ntering customer’s order into the current order entry system</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09E8-C95F-454A-896F-876164CD326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rder Filling</a:t>
            </a:r>
            <a:endParaRPr b="0" lang="en-US" sz="3600" spc="-1" strike="noStrike">
              <a:solidFill>
                <a:srgbClr val="222222"/>
              </a:solidFill>
              <a:latin typeface="Arial"/>
            </a:endParaRPr>
          </a:p>
        </p:txBody>
      </p:sp>
      <p:sp>
        <p:nvSpPr>
          <p:cNvPr id="18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acking lists and shipping label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inted twice a da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and-carried to the warehou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t warehouse, hand-sorted into small orders and large ord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arehous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mall-order packing area</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rge-order packing area</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 uses a PC database program to manage inventory levels in the warehous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A4C2-56C0-47AA-9BCE-89126D39C8B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rder Filling (cont’d.)</a:t>
            </a:r>
            <a:endParaRPr b="0" lang="en-US" sz="3600" spc="-1" strike="noStrike">
              <a:solidFill>
                <a:srgbClr val="222222"/>
              </a:solidFill>
              <a:latin typeface="Arial"/>
            </a:endParaRPr>
          </a:p>
        </p:txBody>
      </p:sp>
      <p:sp>
        <p:nvSpPr>
          <p:cNvPr id="18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 keeps inventory levels fairly low, and inventory levels change rapidly during the da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icker might go to the shelves to pick an order and discover that there are not enough of the desired type of snack bars to fill the order</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determine what to do in this situation, order picker might have conversations with warehouse supervisor, production supervisor, and sales clerks</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1C00-44C7-41E1-8BFF-647D5820E8B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ccounting and Invoicing</a:t>
            </a:r>
            <a:endParaRPr b="0" lang="en-US" sz="3600" spc="-1" strike="noStrike">
              <a:solidFill>
                <a:srgbClr val="222222"/>
              </a:solidFill>
              <a:latin typeface="Arial"/>
            </a:endParaRPr>
          </a:p>
        </p:txBody>
      </p:sp>
      <p:sp>
        <p:nvSpPr>
          <p:cNvPr id="19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voicing the customer is problematic</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les clerks send the Accounting department the sales order data for customer invoic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ing department loads the data into PC-based accounting progra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erks manually make adjustments for partial shipments and any other chang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times, order corrections are delayed and don’t catch up to the invoicing proces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sults in late or inaccurate invoice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DCFA-A58B-432E-A2E7-E943EA643A6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ayment and Returns</a:t>
            </a:r>
            <a:endParaRPr b="0" lang="en-US" sz="3600" spc="-1" strike="noStrike">
              <a:solidFill>
                <a:srgbClr val="222222"/>
              </a:solidFill>
              <a:latin typeface="Arial"/>
            </a:endParaRPr>
          </a:p>
        </p:txBody>
      </p:sp>
      <p:sp>
        <p:nvSpPr>
          <p:cNvPr id="19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blems with procedure for processing paymen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f any errors have occurred in the sales process, customer will receive an incorrect invoi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y customers don’t return a copy of the invoice with their payment; errors can resul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2F9E4-5C29-4036-A04F-07A9936F947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ayment and Returns (cont’d.)</a:t>
            </a:r>
            <a:endParaRPr b="0" lang="en-US" sz="3600" spc="-1" strike="noStrike">
              <a:solidFill>
                <a:srgbClr val="222222"/>
              </a:solidFill>
              <a:latin typeface="Arial"/>
            </a:endParaRPr>
          </a:p>
        </p:txBody>
      </p:sp>
      <p:sp>
        <p:nvSpPr>
          <p:cNvPr id="2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s returns processing is flawe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y customers do not call for the Return material authorization (RMA) number, or fail to include it with their returned material</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kes it more difficult for Accounting department to credit the appropriate account</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oor penmanship on the returned material sheet can create problems for Accounting</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a customer’s account has not been properly credited, customer may receive a dunning letter in erro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A9AD-1D39-43E8-9A94-3D05560D3C1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and Distribution in ERP</a:t>
            </a:r>
            <a:endParaRPr b="0" lang="en-US" sz="3600" spc="-1" strike="noStrike">
              <a:solidFill>
                <a:srgbClr val="222222"/>
              </a:solidFill>
              <a:latin typeface="Arial"/>
            </a:endParaRPr>
          </a:p>
        </p:txBody>
      </p:sp>
      <p:sp>
        <p:nvSpPr>
          <p:cNvPr id="2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can minimize data entry errors and provide accurate information in real time to all us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can track all transactions (such as invoices, packing lists, RMA numbers, and payments) involved in the sales orde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1CFF-F85A-4B20-BE18-A3A0F2D909C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and Distribution in ERP (cont’d.)</a:t>
            </a:r>
            <a:endParaRPr b="0" lang="en-US" sz="3600" spc="-1" strike="noStrike">
              <a:solidFill>
                <a:srgbClr val="222222"/>
              </a:solidFill>
              <a:latin typeface="Arial"/>
            </a:endParaRPr>
          </a:p>
        </p:txBody>
      </p:sp>
      <p:sp>
        <p:nvSpPr>
          <p:cNvPr id="2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 Sales and Distribution module treats the sales order process as a cycle of even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e-sales activit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order process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ventory sourc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liver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ill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aymen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1D1A-479E-49A4-9E31-75B0BC0CAC9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e-Sales Activities</a:t>
            </a:r>
            <a:endParaRPr b="0" lang="en-US" sz="3600" spc="-1" strike="noStrike">
              <a:solidFill>
                <a:srgbClr val="222222"/>
              </a:solidFill>
              <a:latin typeface="Arial"/>
            </a:endParaRPr>
          </a:p>
        </p:txBody>
      </p:sp>
      <p:sp>
        <p:nvSpPr>
          <p:cNvPr id="2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stomers can get pricing information about the company’s produc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hrough an inquiry or a price quotation</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keting activities such as tracking customer contacts, including sales calls, visits, and mailing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any can maintain data about customers and generate mailing lists based on specific customer characteristic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34"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27DA-C6D3-4D0F-A20E-09229F8A263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3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63CD-6D34-476B-AAAB-CE8937EFF58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13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completing this chapter, you will be able to:</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the unintegrated sales processes of the fictitious Fitter Snacker compan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xplain why unintegrated Sales and Marketing information systems lead to company-wide inefficiency, higher costs, lost profits, and customer dissatisfaction</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cuss sales and distribution in the SAP ERP system, and explain how integrated data sharing increases company-wide efficiency</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C246-3362-41C0-A9ED-8BCFAC7F697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Order Processing</a:t>
            </a:r>
            <a:endParaRPr b="0" lang="en-US" sz="3600" spc="-1" strike="noStrike">
              <a:solidFill>
                <a:srgbClr val="222222"/>
              </a:solidFill>
              <a:latin typeface="Arial"/>
            </a:endParaRPr>
          </a:p>
        </p:txBody>
      </p:sp>
      <p:sp>
        <p:nvSpPr>
          <p:cNvPr id="21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order processing: series of activities that must take place to record a sales order</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les order can start from a quotation or inquiry generated in the pre-sales step</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formation that collected from the customer to support the quotation (contact name, address, phone number) is immediately included in sales order</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ritical steps in sales order processing:</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Recording the items to be purchased</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etermining the selling pric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Recording the order quantities</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D3C3-B78F-45CF-A753-DF0B1853A2A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les Order Processing (cont’d.)</a:t>
            </a:r>
            <a:endParaRPr b="0" lang="en-US" sz="3600" spc="-1" strike="noStrike">
              <a:solidFill>
                <a:srgbClr val="222222"/>
              </a:solidFill>
              <a:latin typeface="Arial"/>
            </a:endParaRPr>
          </a:p>
        </p:txBody>
      </p:sp>
      <p:sp>
        <p:nvSpPr>
          <p:cNvPr id="220"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rs can define various pricing alternatives in the SAP ERP system</a:t>
            </a:r>
            <a:endParaRPr b="0" lang="en-US" sz="24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or example, a company can use product-specific pricing, such as establishing quantity discounts for a particular item, or it can define discounts that depend on both the product and a particular customer.</a:t>
            </a:r>
            <a:endParaRPr b="0" lang="en-US" sz="18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ERP system checks the Accounts Receivable tables in the SAP ERP database to confirm the customer’s available credit</a:t>
            </a:r>
            <a:endParaRPr b="0" lang="en-US" sz="2400" spc="-1" strike="noStrike">
              <a:solidFill>
                <a:srgbClr val="222222"/>
              </a:solidFill>
              <a:latin typeface="Arial"/>
            </a:endParaRPr>
          </a:p>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f customer has sufficient credit available</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der is completed</a:t>
            </a:r>
            <a:endParaRPr b="0" lang="en-US" sz="2000" spc="-1" strike="noStrike">
              <a:solidFill>
                <a:srgbClr val="222222"/>
              </a:solidFill>
              <a:latin typeface="Arial"/>
            </a:endParaRPr>
          </a:p>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f customer does not have sufficient credit available</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P ERP system prompts sales personnel to take one of the possible appropriate actions</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27F7-7563-4F1C-A3B2-03B6D5F904D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ventory Sourcing</a:t>
            </a:r>
            <a:endParaRPr b="0" lang="en-US" sz="3600" spc="-1" strike="noStrike">
              <a:solidFill>
                <a:srgbClr val="222222"/>
              </a:solidFill>
              <a:latin typeface="Arial"/>
            </a:endParaRPr>
          </a:p>
        </p:txBody>
      </p:sp>
      <p:sp>
        <p:nvSpPr>
          <p:cNvPr id="22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vailable-to-Promise (ATP) check</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P ERP system checks company’s inventory records and production planning records to see whether:</a:t>
            </a:r>
            <a:endParaRPr b="0" lang="en-US" sz="20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Requested material is availabl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Requested material can be delivered on the date the customer desires </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ludes expected shipping time</a:t>
            </a:r>
            <a:endParaRPr b="0" lang="en-US" sz="24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ystem can recommend an increase in planned production if a shortfall is expected</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ystem keeps a record of all open orders, so even if product for a particular order is still in the warehouse, the system will not allow it to be sold to another customer.</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A7F5-8E81-4F55-ABDA-75607F4990A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elivery</a:t>
            </a:r>
            <a:endParaRPr b="0" lang="en-US" sz="3600" spc="-1" strike="noStrike">
              <a:solidFill>
                <a:srgbClr val="222222"/>
              </a:solidFill>
              <a:latin typeface="Arial"/>
            </a:endParaRPr>
          </a:p>
        </p:txBody>
      </p:sp>
      <p:sp>
        <p:nvSpPr>
          <p:cNvPr id="22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Delivery </a:t>
            </a:r>
            <a:r>
              <a:rPr b="0" lang="en-US" sz="2600" spc="-1" strike="noStrike">
                <a:solidFill>
                  <a:srgbClr val="222222"/>
                </a:solidFill>
                <a:latin typeface="Arial"/>
              </a:rPr>
              <a:t>in SAP ERP system</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leasing the documents that the warehouse uses to pick, pack, and ship order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livery process allows deliveries to be created so that the warehouse and shipping activities are carried out efficiently </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r example, combining similar orders for picking, or grouping orders based on shipping method and destination</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nce the system has created documents for picking, packing, and shipping, documents are transferred to Materials Management modul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844B3-667B-476D-BD80-60635F6E28F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Billing</a:t>
            </a:r>
            <a:endParaRPr b="0" lang="en-US" sz="3600" spc="-1" strike="noStrike">
              <a:solidFill>
                <a:srgbClr val="222222"/>
              </a:solidFill>
              <a:latin typeface="Arial"/>
            </a:endParaRPr>
          </a:p>
        </p:txBody>
      </p:sp>
      <p:sp>
        <p:nvSpPr>
          <p:cNvPr id="23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 system creates an invoice by copying sales order data into the invoice docu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ing can print this document and mail it, fax it, or transmit it electronically to the custom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ccounting records are updated at this poi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 debits (increases) accounts receivable and credits sale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B332-DD8E-43FD-926A-480B5D8336E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ayment</a:t>
            </a:r>
            <a:endParaRPr b="0" lang="en-US" sz="3600" spc="-1" strike="noStrike">
              <a:solidFill>
                <a:srgbClr val="222222"/>
              </a:solidFill>
              <a:latin typeface="Arial"/>
            </a:endParaRPr>
          </a:p>
        </p:txBody>
      </p:sp>
      <p:sp>
        <p:nvSpPr>
          <p:cNvPr id="23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the customer sends in a payment, it is automatically processed by the SAP ERP system</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bits cash (increases) and credits (reduces) customer’s account</a:t>
            </a:r>
            <a:endParaRPr b="0" lang="en-US" sz="24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f the customer sends a check, a clerk must manually enter the payment information,</a:t>
            </a:r>
            <a:r>
              <a:rPr b="0" lang="en-US" sz="2800" spc="-1" strike="noStrike">
                <a:solidFill>
                  <a:srgbClr val="222222"/>
                </a:solidFill>
                <a:latin typeface="Arial"/>
              </a:rPr>
              <a:t> </a:t>
            </a:r>
            <a:r>
              <a:rPr b="0" lang="en-US" sz="2000" spc="-1" strike="noStrike">
                <a:solidFill>
                  <a:srgbClr val="222222"/>
                </a:solidFill>
                <a:latin typeface="Arial"/>
              </a:rPr>
              <a:t>at which point the system updates all information related to the sale</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imely recording of this transaction has an effect on the timeliness and accuracy of any subsequent credit checks for the custome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FF7B-6DD6-4ACF-BE45-FC10A2AF52E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A Standard Order in SAP ERP</a:t>
            </a:r>
            <a:endParaRPr b="0" lang="en-US" sz="3600" spc="-1" strike="noStrike">
              <a:solidFill>
                <a:srgbClr val="222222"/>
              </a:solidFill>
              <a:latin typeface="Arial"/>
            </a:endParaRPr>
          </a:p>
        </p:txBody>
      </p:sp>
      <p:sp>
        <p:nvSpPr>
          <p:cNvPr id="24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Fitter Snacker’s sales order process would work with an SAP ERP system in plac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the ERP system would make FS’s sales order process more accurate and effici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allows business processes to cut across functional area line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701F-9E99-44F6-B941-B3C319366CD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a:t>
            </a:r>
            <a:endParaRPr b="0" lang="en-US" sz="3600" spc="-1" strike="noStrike">
              <a:solidFill>
                <a:srgbClr val="222222"/>
              </a:solidFill>
              <a:latin typeface="Arial"/>
            </a:endParaRPr>
          </a:p>
        </p:txBody>
      </p:sp>
      <p:sp>
        <p:nvSpPr>
          <p:cNvPr id="2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rder entry screen in SAP ERP’s 4.7 Enterprise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 unique number is assigned by the company to each customer in the datab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r most data entry fields, SAP ERP system determines whether an entry is vali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arch screen for customers</a:t>
            </a:r>
            <a:endParaRPr b="0" lang="en-US" sz="26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F31B9-5571-4820-8224-56E594A99D2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48" name="Text Box 7"/>
          <p:cNvSpPr/>
          <p:nvPr/>
        </p:nvSpPr>
        <p:spPr>
          <a:xfrm>
            <a:off x="838080" y="588168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2  SAP ERP order entry screen</a:t>
            </a:r>
            <a:endParaRPr b="0" lang="en-US" sz="1800" spc="-1" strike="noStrike">
              <a:solidFill>
                <a:srgbClr val="ffffff"/>
              </a:solidFill>
              <a:latin typeface="Times New Roman"/>
            </a:endParaRPr>
          </a:p>
        </p:txBody>
      </p:sp>
      <p:pic>
        <p:nvPicPr>
          <p:cNvPr id="249" name="Picture 5" descr="Fig03-02"/>
          <p:cNvPicPr/>
          <p:nvPr/>
        </p:nvPicPr>
        <p:blipFill>
          <a:blip r:embed="rId1">
            <a:lum bright="-6000"/>
          </a:blip>
          <a:srcRect l="0" t="0" r="0" b="5881"/>
          <a:stretch/>
        </p:blipFill>
        <p:spPr>
          <a:xfrm>
            <a:off x="898560" y="1447920"/>
            <a:ext cx="7331040" cy="4389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3178-8780-4FC5-9482-73762212265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53" name="Text Box 7"/>
          <p:cNvSpPr/>
          <p:nvPr/>
        </p:nvSpPr>
        <p:spPr>
          <a:xfrm>
            <a:off x="1447920" y="580536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3  Data entry fields in the order entry screen</a:t>
            </a:r>
            <a:endParaRPr b="0" lang="en-US" sz="1800" spc="-1" strike="noStrike">
              <a:solidFill>
                <a:srgbClr val="ffffff"/>
              </a:solidFill>
              <a:latin typeface="Times New Roman"/>
            </a:endParaRPr>
          </a:p>
        </p:txBody>
      </p:sp>
      <p:pic>
        <p:nvPicPr>
          <p:cNvPr id="254" name="Picture 4" descr="Fig03-03"/>
          <p:cNvPicPr/>
          <p:nvPr/>
        </p:nvPicPr>
        <p:blipFill>
          <a:blip r:embed="rId1">
            <a:lum bright="-6000"/>
          </a:blip>
          <a:srcRect l="0" t="0" r="0" b="7518"/>
          <a:stretch/>
        </p:blipFill>
        <p:spPr>
          <a:xfrm>
            <a:off x="1523880" y="1433520"/>
            <a:ext cx="629784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0"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F3F5-5E18-4DE3-8430-74755F1A04E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4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56D9-94C5-4D44-BAF8-156803FDA50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 (cont’d.)</a:t>
            </a: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how SAP ERP processes a standard sales orde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the benefits of customer relationship management software, a useful extension of ERP softwar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FA10-0D7A-4681-A26E-46D9931B049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58" name="Text Box 7"/>
          <p:cNvSpPr/>
          <p:nvPr/>
        </p:nvSpPr>
        <p:spPr>
          <a:xfrm>
            <a:off x="1066680" y="5881680"/>
            <a:ext cx="716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5  Search screen for customers</a:t>
            </a:r>
            <a:endParaRPr b="0" lang="en-US" sz="1800" spc="-1" strike="noStrike">
              <a:solidFill>
                <a:srgbClr val="ffffff"/>
              </a:solidFill>
              <a:latin typeface="Times New Roman"/>
            </a:endParaRPr>
          </a:p>
        </p:txBody>
      </p:sp>
      <p:pic>
        <p:nvPicPr>
          <p:cNvPr id="259" name="Picture 5" descr="Fig03-05"/>
          <p:cNvPicPr/>
          <p:nvPr/>
        </p:nvPicPr>
        <p:blipFill>
          <a:blip r:embed="rId1">
            <a:lum bright="-6000"/>
          </a:blip>
          <a:srcRect l="0" t="0" r="0" b="4957"/>
          <a:stretch/>
        </p:blipFill>
        <p:spPr>
          <a:xfrm>
            <a:off x="1170000" y="1447920"/>
            <a:ext cx="7211880" cy="438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723D-6A92-4816-860F-E5ACA6AEE48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63"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ustomer master data</a:t>
            </a:r>
            <a:endParaRPr b="0" lang="en-US" sz="2200" spc="-1" strike="noStrike">
              <a:solidFill>
                <a:srgbClr val="222222"/>
              </a:solidFill>
              <a:latin typeface="Arial"/>
            </a:endParaRPr>
          </a:p>
          <a:p>
            <a:pPr marL="335880" indent="-3358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ster data: data that remain fairly stable such as customer name and address</a:t>
            </a:r>
            <a:endParaRPr b="0" lang="en-US" sz="18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intained in the central database and available to all SAP ERP modules</a:t>
            </a:r>
            <a:endParaRPr b="0" lang="en-US" sz="1800" spc="-1" strike="noStrike">
              <a:solidFill>
                <a:srgbClr val="222222"/>
              </a:solidFill>
              <a:latin typeface="Arial"/>
            </a:endParaRPr>
          </a:p>
          <a:p>
            <a:pPr marL="335880" indent="-3358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Material master data</a:t>
            </a:r>
            <a:endParaRPr b="0" lang="en-US" sz="2200" spc="-1" strike="noStrike">
              <a:solidFill>
                <a:srgbClr val="222222"/>
              </a:solidFill>
              <a:latin typeface="Arial"/>
            </a:endParaRPr>
          </a:p>
          <a:p>
            <a:pPr lvl="1" marL="727920" indent="-280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used by the Materials Management , Production Planning modules and Sales and Distribution module</a:t>
            </a:r>
            <a:r>
              <a:rPr b="0" lang="en-US" sz="2400" spc="-1" strike="noStrike">
                <a:solidFill>
                  <a:srgbClr val="222222"/>
                </a:solidFill>
                <a:latin typeface="Arial"/>
              </a:rPr>
              <a:t>.</a:t>
            </a:r>
            <a:endParaRPr b="0" lang="en-US" sz="2400" spc="-1" strike="noStrike">
              <a:solidFill>
                <a:srgbClr val="222222"/>
              </a:solidFill>
              <a:latin typeface="Arial"/>
            </a:endParaRPr>
          </a:p>
          <a:p>
            <a:pPr marL="335880" indent="-3358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Organizational structures</a:t>
            </a:r>
            <a:endParaRPr b="0" lang="en-US" sz="22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AP ERP system allows the user to define various ways to group customers and salespeople</a:t>
            </a:r>
            <a:endParaRPr b="0" lang="en-US" sz="18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22"/>
                </a:solidFill>
                <a:latin typeface="Arial"/>
              </a:rPr>
              <a:t>Distribution Channel</a:t>
            </a:r>
            <a:endParaRPr b="0" lang="en-US" sz="1800" spc="-1" strike="noStrike">
              <a:solidFill>
                <a:srgbClr val="222222"/>
              </a:solidFill>
              <a:latin typeface="Arial"/>
            </a:endParaRPr>
          </a:p>
          <a:p>
            <a:pPr lvl="1" marL="727920" indent="-28008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allows the user to define different ways for materials to be sold and distributed to the customer</a:t>
            </a:r>
            <a:endParaRPr b="0" lang="en-US" sz="1600" spc="-1" strike="noStrike">
              <a:solidFill>
                <a:srgbClr val="222222"/>
              </a:solidFill>
              <a:latin typeface="Arial"/>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4E2E-0BDB-47B8-9CC6-FA3EF68DB2D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6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hen a sales order is saved, SAP ERP system assigns a document number to the sales order transaction</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When the sales order is ready to be processed by the warehouse, </a:t>
            </a:r>
            <a:r>
              <a:rPr b="1" lang="en-US" sz="2000" spc="-1" strike="noStrike">
                <a:solidFill>
                  <a:srgbClr val="222222"/>
                </a:solidFill>
                <a:latin typeface="Arial"/>
              </a:rPr>
              <a:t>a delivery document </a:t>
            </a:r>
            <a:r>
              <a:rPr b="0" lang="en-US" sz="2000" spc="-1" strike="noStrike">
                <a:solidFill>
                  <a:srgbClr val="222222"/>
                </a:solidFill>
                <a:latin typeface="Arial"/>
              </a:rPr>
              <a:t>will be created</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inally, when the bill (invoice) is prepared for the customer, the </a:t>
            </a:r>
            <a:r>
              <a:rPr b="1" lang="en-US" sz="2000" spc="-1" strike="noStrike">
                <a:solidFill>
                  <a:srgbClr val="222222"/>
                </a:solidFill>
                <a:latin typeface="Arial"/>
              </a:rPr>
              <a:t>invoice number </a:t>
            </a:r>
            <a:r>
              <a:rPr b="0" lang="en-US" sz="2000" spc="-1" strike="noStrike">
                <a:solidFill>
                  <a:srgbClr val="222222"/>
                </a:solidFill>
                <a:latin typeface="Arial"/>
              </a:rPr>
              <a:t>will be created</a:t>
            </a:r>
            <a:endParaRPr b="0" lang="en-US" sz="20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P ERP system keeps track of the document numbers for the sales order</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mployees can track status of an order while it is in process or research it after shipping</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Document flow </a:t>
            </a:r>
            <a:r>
              <a:rPr b="0" lang="en-US" sz="2600" spc="-1" strike="noStrike">
                <a:solidFill>
                  <a:srgbClr val="222222"/>
                </a:solidFill>
                <a:latin typeface="Arial"/>
              </a:rPr>
              <a:t>in SAP ERP: linked set of document numbers related to an order</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1313-D281-413D-A3B0-E9548BB4173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aking an Order in SAP ERP (cont’d.)</a:t>
            </a:r>
            <a:endParaRPr b="0" lang="en-US" sz="3600" spc="-1" strike="noStrike">
              <a:solidFill>
                <a:srgbClr val="222222"/>
              </a:solidFill>
              <a:latin typeface="Arial"/>
            </a:endParaRPr>
          </a:p>
        </p:txBody>
      </p:sp>
      <p:sp>
        <p:nvSpPr>
          <p:cNvPr id="271" name="Text Box 7"/>
          <p:cNvSpPr/>
          <p:nvPr/>
        </p:nvSpPr>
        <p:spPr>
          <a:xfrm>
            <a:off x="762120" y="556272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9  The Document Flow tool, which links sales order documents</a:t>
            </a:r>
            <a:endParaRPr b="0" lang="en-US" sz="1800" spc="-1" strike="noStrike">
              <a:solidFill>
                <a:srgbClr val="ffffff"/>
              </a:solidFill>
              <a:latin typeface="Times New Roman"/>
            </a:endParaRPr>
          </a:p>
        </p:txBody>
      </p:sp>
      <p:pic>
        <p:nvPicPr>
          <p:cNvPr id="272" name="Picture 4" descr="Fig03-09"/>
          <p:cNvPicPr/>
          <p:nvPr/>
        </p:nvPicPr>
        <p:blipFill>
          <a:blip r:embed="rId1">
            <a:lum bright="-6000"/>
          </a:blip>
          <a:srcRect l="0" t="0" r="0" b="6928"/>
          <a:stretch/>
        </p:blipFill>
        <p:spPr>
          <a:xfrm>
            <a:off x="1143000" y="1600200"/>
            <a:ext cx="7184880" cy="358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FC22-8A33-4CFE-B598-C655067BA0D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iscount Pricing in SAP ERP</a:t>
            </a:r>
            <a:endParaRPr b="0" lang="en-US" sz="3600" spc="-1" strike="noStrike">
              <a:solidFill>
                <a:srgbClr val="222222"/>
              </a:solidFill>
              <a:latin typeface="Arial"/>
            </a:endParaRPr>
          </a:p>
        </p:txBody>
      </p:sp>
      <p:sp>
        <p:nvSpPr>
          <p:cNvPr id="27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a company installs an ERP system, it can configure it for a number of pricing strateg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Various kinds of discounts can be allowed</a:t>
            </a:r>
            <a:endParaRPr b="0" lang="en-US" sz="26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based on item number or for all items, based on unit price or total order value</a:t>
            </a:r>
            <a:endParaRPr b="0" lang="en-US" sz="18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s a safeguard, system can enforce limits on the size of discounts</a:t>
            </a:r>
            <a:endParaRPr b="0" lang="en-US" sz="26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To keep salespeople from offering unprofitable or unapproved discounts.</a:t>
            </a:r>
            <a:endParaRPr b="0" lang="en-US" sz="18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Condition techniqu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ontrol mechanism developed by SAP to accommodate various ways that companies offer price discounts</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C1DE-BA4C-4BAA-9192-93D024B569C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Discount Pricing in SAP ERP (cont’d.)</a:t>
            </a:r>
            <a:endParaRPr b="0" lang="en-US" sz="3600" spc="-1" strike="noStrike">
              <a:solidFill>
                <a:srgbClr val="222222"/>
              </a:solidFill>
              <a:latin typeface="Arial"/>
            </a:endParaRPr>
          </a:p>
        </p:txBody>
      </p:sp>
      <p:sp>
        <p:nvSpPr>
          <p:cNvPr id="280" name="Text Box 7"/>
          <p:cNvSpPr/>
          <p:nvPr/>
        </p:nvSpPr>
        <p:spPr>
          <a:xfrm>
            <a:off x="990720" y="580536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0  Pricing conditions for sales order</a:t>
            </a:r>
            <a:endParaRPr b="0" lang="en-US" sz="1800" spc="-1" strike="noStrike">
              <a:solidFill>
                <a:srgbClr val="ffffff"/>
              </a:solidFill>
              <a:latin typeface="Times New Roman"/>
            </a:endParaRPr>
          </a:p>
        </p:txBody>
      </p:sp>
      <p:pic>
        <p:nvPicPr>
          <p:cNvPr id="281" name="Picture 5" descr="Fig03-10"/>
          <p:cNvPicPr/>
          <p:nvPr/>
        </p:nvPicPr>
        <p:blipFill>
          <a:blip r:embed="rId1">
            <a:lum bright="-6000"/>
          </a:blip>
          <a:srcRect l="0" t="0" r="0" b="5720"/>
          <a:stretch/>
        </p:blipFill>
        <p:spPr>
          <a:xfrm>
            <a:off x="990720" y="1371600"/>
            <a:ext cx="7304040" cy="4419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1D13-F7C8-435B-99BA-2C91F7EE760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egration of Sales and Accounting</a:t>
            </a:r>
            <a:endParaRPr b="0" lang="en-US" sz="3600" spc="-1" strike="noStrike">
              <a:solidFill>
                <a:srgbClr val="222222"/>
              </a:solidFill>
              <a:latin typeface="Arial"/>
            </a:endParaRPr>
          </a:p>
        </p:txBody>
      </p:sp>
      <p:sp>
        <p:nvSpPr>
          <p:cNvPr id="28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integrate Accounting with all business process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a sales order is recorded, related accounting data are updated automatically</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CEEC-DD95-4076-BFE4-39A6438CF08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egration of Sales and Accounting (cont’d.)</a:t>
            </a:r>
            <a:endParaRPr b="0" lang="en-US" sz="3600" spc="-1" strike="noStrike">
              <a:solidFill>
                <a:srgbClr val="222222"/>
              </a:solidFill>
              <a:latin typeface="Arial"/>
            </a:endParaRPr>
          </a:p>
        </p:txBody>
      </p:sp>
      <p:sp>
        <p:nvSpPr>
          <p:cNvPr id="289" name="Text Box 7"/>
          <p:cNvSpPr/>
          <p:nvPr/>
        </p:nvSpPr>
        <p:spPr>
          <a:xfrm>
            <a:off x="990720" y="556272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2  Accounting detail for the West Hills sales order</a:t>
            </a:r>
            <a:endParaRPr b="0" lang="en-US" sz="1800" spc="-1" strike="noStrike">
              <a:solidFill>
                <a:srgbClr val="ffffff"/>
              </a:solidFill>
              <a:latin typeface="Times New Roman"/>
            </a:endParaRPr>
          </a:p>
        </p:txBody>
      </p:sp>
      <p:pic>
        <p:nvPicPr>
          <p:cNvPr id="290" name="Picture 5" descr="Fig03-12"/>
          <p:cNvPicPr/>
          <p:nvPr/>
        </p:nvPicPr>
        <p:blipFill>
          <a:blip r:embed="rId1">
            <a:lum bright="-6000"/>
          </a:blip>
          <a:srcRect l="0" t="0" r="0" b="7345"/>
          <a:stretch/>
        </p:blipFill>
        <p:spPr>
          <a:xfrm>
            <a:off x="1017720" y="1828800"/>
            <a:ext cx="7211880" cy="3505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77FC-30E9-4B2E-AF3B-379BD3AF484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ustomer Relationship Management</a:t>
            </a:r>
            <a:endParaRPr b="0" lang="en-US" sz="3600" spc="-1" strike="noStrike">
              <a:solidFill>
                <a:srgbClr val="222222"/>
              </a:solidFill>
              <a:latin typeface="Arial"/>
            </a:endParaRPr>
          </a:p>
        </p:txBody>
      </p:sp>
      <p:sp>
        <p:nvSpPr>
          <p:cNvPr id="29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anies without a good connection between their workers and their customers run the risk of losing busin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Customer relationship management (CRM) software </a:t>
            </a:r>
            <a:r>
              <a:rPr b="0" lang="en-US" sz="2600" spc="-1" strike="noStrike">
                <a:solidFill>
                  <a:srgbClr val="222222"/>
                </a:solidFill>
                <a:latin typeface="Arial"/>
              </a:rPr>
              <a:t>can help companies streamline their interactions with customer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On-demand </a:t>
            </a:r>
            <a:r>
              <a:rPr b="0" lang="en-US" sz="2600" spc="-1" strike="noStrike">
                <a:solidFill>
                  <a:srgbClr val="222222"/>
                </a:solidFill>
                <a:latin typeface="Arial"/>
              </a:rPr>
              <a:t>CRM: software and computer equipment reside with CRM provider</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897A-1617-4AE3-B2E3-F2C01D430A4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re CRM Activities</a:t>
            </a:r>
            <a:endParaRPr b="0" lang="en-US" sz="3600" spc="-1" strike="noStrike">
              <a:solidFill>
                <a:srgbClr val="222222"/>
              </a:solidFill>
              <a:latin typeface="Arial"/>
            </a:endParaRPr>
          </a:p>
        </p:txBody>
      </p:sp>
      <p:sp>
        <p:nvSpPr>
          <p:cNvPr id="29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ne-to-one marketing</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nce a customer is categorized, the company can tailor products, promotions, and pricing accordingly</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ross-selling, up-selling</a:t>
            </a:r>
            <a:endParaRPr b="0" lang="en-US" sz="18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les force automation (SFA)</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an automatically route certain customers who contact the company to a particular sales representativ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recast customer needs, based on the customer’s history and transactions</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les campaign management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rganize a marketing campaign</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FA6AB-43DF-4202-A990-D49392F7F96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roduction</a:t>
            </a:r>
            <a:endParaRPr b="0" lang="en-US" sz="3600" spc="-1" strike="noStrike">
              <a:solidFill>
                <a:srgbClr val="222222"/>
              </a:solidFill>
              <a:latin typeface="Arial"/>
            </a:endParaRPr>
          </a:p>
        </p:txBody>
      </p:sp>
      <p:sp>
        <p:nvSpPr>
          <p:cNvPr id="1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tter Snacker (F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ictitious company that makes healthy snack ba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oes not have an integrated information system</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keting and Sales (M/S) is the focal point of many of FS’s activiti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S’s M/S information systems are not well integrated with company’s other information syste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y-wide use of transaction data is inefficient</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re CRM Activities (Con’d.)</a:t>
            </a:r>
            <a:endParaRPr b="0" lang="en-US" sz="3600" spc="-1" strike="noStrike">
              <a:solidFill>
                <a:srgbClr val="222222"/>
              </a:solidFill>
              <a:latin typeface="Arial"/>
            </a:endParaRPr>
          </a:p>
        </p:txBody>
      </p:sp>
      <p:sp>
        <p:nvSpPr>
          <p:cNvPr id="300" name=""/>
          <p:cNvSpPr txBox="1"/>
          <p:nvPr/>
        </p:nvSpPr>
        <p:spPr>
          <a:xfrm>
            <a:off x="533520" y="167652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keting encyclopedias</a:t>
            </a:r>
            <a:endParaRPr b="0" lang="en-US" sz="2600" spc="-1" strike="noStrike">
              <a:solidFill>
                <a:srgbClr val="222222"/>
              </a:solidFill>
              <a:latin typeface="Arial"/>
            </a:endParaRPr>
          </a:p>
          <a:p>
            <a:pPr lvl="1" marL="735480" indent="-28296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s an application with an online interface to a database of information that a sales person might want to help a customer make a purchase decision. </a:t>
            </a:r>
            <a:endParaRPr b="0" lang="en-US" sz="2000" spc="-1" strike="noStrike">
              <a:solidFill>
                <a:srgbClr val="222222"/>
              </a:solidFill>
              <a:latin typeface="Arial"/>
            </a:endParaRPr>
          </a:p>
          <a:p>
            <a:pPr lvl="1" marL="735480" indent="-28296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nformation in the database might include brochures, product details,…</a:t>
            </a:r>
            <a:endParaRPr b="0" lang="en-US" sz="20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all center automation</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When customers call a company to get assistance with a company’s products, representatives can query a knowledge</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agement database containing information about the product</a:t>
            </a:r>
            <a:endParaRPr b="0" lang="en-US" sz="2400" spc="-1" strike="noStrike">
              <a:solidFill>
                <a:srgbClr val="222222"/>
              </a:solidFill>
              <a:latin typeface="Arial"/>
            </a:endParaRPr>
          </a:p>
        </p:txBody>
      </p:sp>
      <p:sp>
        <p:nvSpPr>
          <p:cNvPr id="30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9F11-B1C7-476C-A234-EABE14DFB30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F0AF4-9F48-42A4-987D-B1848046856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a:t>
            </a:r>
            <a:endParaRPr b="0" lang="en-US" sz="3600" spc="-1" strike="noStrike">
              <a:solidFill>
                <a:srgbClr val="222222"/>
              </a:solidFill>
              <a:latin typeface="Arial"/>
            </a:endParaRPr>
          </a:p>
        </p:txBody>
      </p:sp>
      <p:sp>
        <p:nvSpPr>
          <p:cNvPr id="30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amples of tools that provide CRM functionality within the SAP ERP system</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ontact management tool</a:t>
            </a:r>
            <a:endParaRPr b="0" lang="en-US" sz="2200" spc="-1" strike="noStrike">
              <a:solidFill>
                <a:srgbClr val="222222"/>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contact manager</a:t>
            </a:r>
            <a:r>
              <a:rPr b="0" lang="en-US" sz="1800" spc="-1" strike="noStrike">
                <a:solidFill>
                  <a:srgbClr val="000000"/>
                </a:solidFill>
                <a:latin typeface="Arial"/>
              </a:rPr>
              <a:t> is a software program that enables users to easily store and find contact information, such as names, addresses and telephone numbers</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To make sure that information about sales contacts is available throughout the organization </a:t>
            </a:r>
            <a:endParaRPr b="0" lang="en-US" sz="1800" spc="-1" strike="noStrike">
              <a:solidFill>
                <a:srgbClr val="222222"/>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activity manager</a:t>
            </a:r>
            <a:endParaRPr b="0" lang="en-US" sz="22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 tool for tracking the sales activities and revenue of a sales team</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upports a strategic and organized approach to sales activity planning and can help make sure that follow-up activities are accomplished</a:t>
            </a:r>
            <a:endParaRPr b="0" lang="en-US" sz="1800" spc="-1" strike="noStrike">
              <a:solidFill>
                <a:srgbClr val="222222"/>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B603-EED5-4FF3-9ACE-4C9FFCB2631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9" name="Text Box 7"/>
          <p:cNvSpPr/>
          <p:nvPr/>
        </p:nvSpPr>
        <p:spPr>
          <a:xfrm>
            <a:off x="990720" y="5867280"/>
            <a:ext cx="761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4  SAP ERP sales activity manager</a:t>
            </a:r>
            <a:endParaRPr b="0" lang="en-US" sz="1800" spc="-1" strike="noStrike">
              <a:solidFill>
                <a:srgbClr val="ffffff"/>
              </a:solidFill>
              <a:latin typeface="Times New Roman"/>
            </a:endParaRPr>
          </a:p>
        </p:txBody>
      </p:sp>
      <p:pic>
        <p:nvPicPr>
          <p:cNvPr id="310" name="Picture 6" descr="Fig03-14"/>
          <p:cNvPicPr/>
          <p:nvPr/>
        </p:nvPicPr>
        <p:blipFill>
          <a:blip r:embed="rId1"/>
          <a:srcRect l="0" t="0" r="0" b="5856"/>
          <a:stretch/>
        </p:blipFill>
        <p:spPr>
          <a:xfrm>
            <a:off x="990720" y="533520"/>
            <a:ext cx="7202520" cy="525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12" name=""/>
          <p:cNvSpPr txBox="1"/>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mploying a separate CRM system that communicates with the ERP system</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31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1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44CC-B305-4606-8AA2-EDD90C3D69C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1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F334-2B71-47F0-B022-4FD48ED3CAE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17" name="Text Box 7"/>
          <p:cNvSpPr/>
          <p:nvPr/>
        </p:nvSpPr>
        <p:spPr>
          <a:xfrm>
            <a:off x="2286000" y="580536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5  SAP CRM system landscape</a:t>
            </a:r>
            <a:endParaRPr b="0" lang="en-US" sz="1800" spc="-1" strike="noStrike">
              <a:solidFill>
                <a:srgbClr val="ffffff"/>
              </a:solidFill>
              <a:latin typeface="Times New Roman"/>
            </a:endParaRPr>
          </a:p>
        </p:txBody>
      </p:sp>
      <p:pic>
        <p:nvPicPr>
          <p:cNvPr id="318" name="Picture 3" descr="Fig03-15"/>
          <p:cNvPicPr/>
          <p:nvPr/>
        </p:nvPicPr>
        <p:blipFill>
          <a:blip r:embed="rId1">
            <a:lum bright="-6000"/>
          </a:blip>
          <a:srcRect l="0" t="0" r="0" b="4963"/>
          <a:stretch/>
        </p:blipFill>
        <p:spPr>
          <a:xfrm>
            <a:off x="2333520" y="1487520"/>
            <a:ext cx="4524480" cy="4227480"/>
          </a:xfrm>
          <a:prstGeom prst="rect">
            <a:avLst/>
          </a:prstGeom>
          <a:ln w="0">
            <a:noFill/>
          </a:ln>
        </p:spPr>
      </p:pic>
      <p:sp>
        <p:nvSpPr>
          <p:cNvPr id="3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2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CE632-D84D-4194-B1FA-C0E143270F0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2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SAP ERP system </a:t>
            </a:r>
            <a:r>
              <a:rPr b="0" lang="en-US" sz="2200" spc="-1" strike="noStrike">
                <a:solidFill>
                  <a:srgbClr val="222222"/>
                </a:solidFill>
                <a:latin typeface="Arial"/>
              </a:rPr>
              <a:t>processes business transactions and provides much of the raw data for CRM</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SAP’s Business Warehouse</a:t>
            </a:r>
            <a:r>
              <a:rPr b="0" lang="en-US" sz="2200" spc="-1" strike="noStrike">
                <a:solidFill>
                  <a:srgbClr val="222222"/>
                </a:solidFill>
                <a:latin typeface="Arial"/>
              </a:rPr>
              <a:t>: system for reporting and analysis of transactional data that makes use of data mining techniques.</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y analyzing sales transactions using data mining, firms can discover trends and patterns to use in planning marketing activities.</a:t>
            </a:r>
            <a:endParaRPr b="0" lang="en-US" sz="20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Advanced Planner and Optimizer (APO):</a:t>
            </a:r>
            <a:r>
              <a:rPr b="0" lang="en-US" sz="2200" spc="-1" strike="noStrike">
                <a:solidFill>
                  <a:srgbClr val="222222"/>
                </a:solidFill>
                <a:latin typeface="Arial"/>
              </a:rPr>
              <a:t>is a component of SAP’s Supply Chain Management (SCM)</a:t>
            </a:r>
            <a:endParaRPr b="0" lang="en-US" sz="22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upports efficient planning of the supply chain</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PO’s role in the CRM process is to provide higher levels of customer support through its global available-to-promise (ATP) capabilities</a:t>
            </a:r>
            <a:endParaRPr b="0" lang="en-US" sz="18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25" name=""/>
          <p:cNvSpPr txBox="1"/>
          <p:nvPr/>
        </p:nvSpPr>
        <p:spPr>
          <a:xfrm>
            <a:off x="533520" y="1676520"/>
            <a:ext cx="8076960" cy="4572000"/>
          </a:xfrm>
          <a:prstGeom prst="rect">
            <a:avLst/>
          </a:prstGeom>
          <a:noFill/>
          <a:ln w="0">
            <a:noFill/>
          </a:ln>
        </p:spPr>
        <p:txBody>
          <a:bodyPr anchor="t">
            <a:normAutofit/>
          </a:bodyPr>
          <a:p>
            <a:pPr marL="343080" indent="-343080">
              <a:spcBef>
                <a:spcPts val="7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Arial"/>
              </a:rPr>
              <a:t>SAP’s approach to CRM is to provide a set of tools to manage the three basic task areas , related to customers: marketing, sales, and service</a:t>
            </a:r>
            <a:endParaRPr b="0" lang="en-US" sz="2800" spc="-1" strike="noStrike">
              <a:solidFill>
                <a:srgbClr val="222222"/>
              </a:solidFill>
              <a:latin typeface="Arial"/>
            </a:endParaRPr>
          </a:p>
          <a:p>
            <a:pPr marL="343080" indent="-343080">
              <a:spcBef>
                <a:spcPts val="7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222"/>
                </a:solidFill>
                <a:latin typeface="Arial"/>
              </a:rPr>
              <a:t>These task areas contribute to the cultivation of the customer relationship</a:t>
            </a:r>
            <a:endParaRPr b="0" lang="en-US" sz="2800" spc="-1" strike="noStrike">
              <a:solidFill>
                <a:srgbClr val="222222"/>
              </a:solidFill>
              <a:latin typeface="Arial"/>
            </a:endParaRPr>
          </a:p>
          <a:p>
            <a:pPr marL="343080" indent="-343080">
              <a:spcBef>
                <a:spcPts val="7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22222"/>
              </a:solidFill>
              <a:latin typeface="Arial"/>
            </a:endParaRPr>
          </a:p>
        </p:txBody>
      </p:sp>
      <p:sp>
        <p:nvSpPr>
          <p:cNvPr id="32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2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C4DF-A24F-4677-8BD6-1F6D37CAA1E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2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5838-83E9-4458-AA4E-1E10A17DB0E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3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 phases of the cultivation of customer relationship:</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spect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 potential new customer (or potential new business opportunity with an existing customer) is evaluated, and</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development activities (emails, sales calls, mailings, etc.) are planned to develop the prospective busines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Marketing tasks overcome in this phase.</a:t>
            </a:r>
            <a:endParaRPr b="0" lang="en-US" sz="2200" spc="-1" strike="noStrike">
              <a:solidFill>
                <a:srgbClr val="222222"/>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sp>
        <p:nvSpPr>
          <p:cNvPr id="333" name=""/>
          <p:cNvSpPr txBox="1"/>
          <p:nvPr/>
        </p:nvSpPr>
        <p:spPr>
          <a:xfrm>
            <a:off x="609120" y="1752480"/>
            <a:ext cx="807732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quir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lespeople develop business prospects into customers</a:t>
            </a:r>
            <a:endParaRPr b="0" lang="en-US" sz="22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les tasks (processing inquiries, quotes, and eventually sales orders) become increasingly important in this phase</a:t>
            </a:r>
            <a:endParaRPr b="0" lang="en-US" sz="20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rvic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ervice tasks (including technical support, warranty work, product returns, fixing quality problems, and</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omplaint handling) are critical to maintaining customer satisfaction.</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34"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35"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B3F0-A46B-42B2-8BF9-98EF3236D88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37"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taining</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king sure that current customers are satisfied by timely delivery of quality products and services at a fair price</a:t>
            </a:r>
            <a:endParaRPr b="0" lang="en-US" sz="22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 SAP CRM, the customer development cycle (prospecting, acquiring, servicing, and retaining) is supported by contact channels</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the methods the company uses to communicate with its customers (phone, fax, and email, mobile technologies and the Internet)</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338"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39"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B4FF8-9BA2-4E6B-9913-A2792E58CE1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1412-47AD-4B75-9ACC-BC0E626EEF7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verview of Fitter Snacker</a:t>
            </a:r>
            <a:endParaRPr b="0" lang="en-US" sz="3600" spc="-1" strike="noStrike">
              <a:solidFill>
                <a:srgbClr val="222222"/>
              </a:solidFill>
              <a:latin typeface="Arial"/>
            </a:endParaRPr>
          </a:p>
        </p:txBody>
      </p:sp>
      <p:sp>
        <p:nvSpPr>
          <p:cNvPr id="1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ufactures and sells two types of nutritious snack bars: </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NRG-A: “advanced energ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NRG-B: “body building protein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as organized its sales force into two groups, known as divis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Wholesale Divis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irect Sales Division</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1" name=""/>
          <p:cNvSpPr txBox="1"/>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nother set of tools in SAP CRM is Marketing and Campaign Management.</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ompanies invest significant sums of money in marketing campaigns</a:t>
            </a:r>
            <a:endParaRPr b="0" lang="en-US" sz="18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ee figure 3-16</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Marketing and campaign planning </a:t>
            </a:r>
            <a:r>
              <a:rPr b="0" lang="en-US" sz="2000" spc="-1" strike="noStrike">
                <a:solidFill>
                  <a:srgbClr val="222222"/>
                </a:solidFill>
                <a:latin typeface="Arial"/>
              </a:rPr>
              <a:t>includes task scheduling, resource allocation, and budgeting.</a:t>
            </a:r>
            <a:endParaRPr b="0" lang="en-US" sz="20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These planning tasks are executed in conjunction with target group creation tasks,</a:t>
            </a:r>
            <a:endParaRPr b="0" lang="en-US" sz="22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which use data from the SAP ERP system (SAP BW) </a:t>
            </a:r>
            <a:endParaRPr b="0" lang="en-US" sz="2000" spc="-1" strike="noStrike">
              <a:solidFill>
                <a:srgbClr val="222222"/>
              </a:solidFill>
              <a:latin typeface="Arial"/>
            </a:endParaRPr>
          </a:p>
          <a:p>
            <a:pPr lvl="3" marL="16002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to categorize the company’s customers, offering them more individual product and service promotions.</a:t>
            </a:r>
            <a:endParaRPr b="0" lang="en-US" sz="18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34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4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AFA1-C287-4A24-9550-815B16493A0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5" name=""/>
          <p:cNvSpPr txBox="1"/>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ampaign Execution Activity Management tool</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help manage the execution of the marketing campaign,</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which can include handling sales calls, mailings, personalized emails, and Web-based promotional activities directed to the targeted group of customers</a:t>
            </a:r>
            <a:endParaRPr b="0" lang="en-US" sz="2200" spc="-1" strike="noStrike">
              <a:solidFill>
                <a:srgbClr val="222222"/>
              </a:solidFill>
              <a:latin typeface="Arial"/>
            </a:endParaRPr>
          </a:p>
          <a:p>
            <a:pPr lvl="3" marL="16002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or example, the status of a planned customer phone call will remain open until the call is completed.</a:t>
            </a:r>
            <a:endParaRPr b="0" lang="en-US" sz="18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Campaign Analysis tool</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ows the company to evaluate the success of the campaign so it can incorporate improvements in the next marketing campaign</a:t>
            </a:r>
            <a:r>
              <a:rPr b="0" lang="en-US" sz="2400" spc="-1" strike="noStrike">
                <a:solidFill>
                  <a:srgbClr val="222222"/>
                </a:solidFill>
                <a:latin typeface="Arial"/>
              </a:rPr>
              <a:t>.</a:t>
            </a:r>
            <a:endParaRPr b="0" lang="en-US" sz="2400" spc="-1" strike="noStrike">
              <a:solidFill>
                <a:srgbClr val="222222"/>
              </a:solidFill>
              <a:latin typeface="Arial"/>
            </a:endParaRPr>
          </a:p>
        </p:txBody>
      </p:sp>
      <p:sp>
        <p:nvSpPr>
          <p:cNvPr id="34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4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CC3E-902E-4E53-8EFC-7F899A8B57C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4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655E-3195-4266-BFA9-13DD5944A32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s CRM Software (cont’d.)</a:t>
            </a:r>
            <a:endParaRPr b="0" lang="en-US" sz="3600" spc="-1" strike="noStrike">
              <a:solidFill>
                <a:srgbClr val="222222"/>
              </a:solidFill>
              <a:latin typeface="Arial"/>
            </a:endParaRPr>
          </a:p>
        </p:txBody>
      </p:sp>
      <p:pic>
        <p:nvPicPr>
          <p:cNvPr id="351" name="Picture 6" descr="Fig03-16"/>
          <p:cNvPicPr/>
          <p:nvPr/>
        </p:nvPicPr>
        <p:blipFill>
          <a:blip r:embed="rId1">
            <a:lum bright="-6000"/>
          </a:blip>
          <a:srcRect l="0" t="0" r="0" b="7042"/>
          <a:stretch/>
        </p:blipFill>
        <p:spPr>
          <a:xfrm>
            <a:off x="1981080" y="1447920"/>
            <a:ext cx="5029200" cy="3124080"/>
          </a:xfrm>
          <a:prstGeom prst="rect">
            <a:avLst/>
          </a:prstGeom>
          <a:ln w="0">
            <a:noFill/>
          </a:ln>
        </p:spPr>
      </p:pic>
      <p:sp>
        <p:nvSpPr>
          <p:cNvPr id="352" name="TextBox 6"/>
          <p:cNvSpPr/>
          <p:nvPr/>
        </p:nvSpPr>
        <p:spPr>
          <a:xfrm>
            <a:off x="1981080" y="4648320"/>
            <a:ext cx="53341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 3-16 shows how SAP CRM supports marketing and campaign management. The top half of this diagram represents planning activities, while the bottom half represents execution and evaluation activit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5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8BA5-E657-4DDD-983E-A441DD7F48F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Benefits of CRM</a:t>
            </a:r>
            <a:endParaRPr b="0" lang="en-US" sz="3600" spc="-1" strike="noStrike">
              <a:solidFill>
                <a:srgbClr val="222222"/>
              </a:solidFill>
              <a:latin typeface="Arial"/>
            </a:endParaRPr>
          </a:p>
        </p:txBody>
      </p:sp>
      <p:sp>
        <p:nvSpPr>
          <p:cNvPr id="3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Lower costs</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RM can lead to operational efficiencies, such as better response times in call center operations</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igher revenue</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egmenting customers leads to better selling opportunities and revenue increases.</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mproved strategy and performance measurement</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stalling and operating an ERP system requires management and staff to think of the company as a </a:t>
            </a:r>
            <a:r>
              <a:rPr b="0" lang="en-US" sz="2000" spc="-1" strike="noStrike">
                <a:solidFill>
                  <a:srgbClr val="222222"/>
                </a:solidFill>
                <a:latin typeface="Arial"/>
              </a:rPr>
              <a:t>whole</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or example, should salespeople be rewarded for exceeding sales quotas, and marketing people rewarded for finding new customers</a:t>
            </a:r>
            <a:endParaRPr b="0" lang="en-US" sz="18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5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4CD4-C3A9-47F3-B4A2-10B06E635FA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36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tter Snacker’s unintegrated information systems are at the root of an inefficient and costly sales order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 ERP system such as SAP ERP treats a sale as a sequence of related func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luding: taking orders, setting prices, checking product availability, checking the customer’s credit line, arranging for delivery, billing the customer, and collecting pay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 SAP ERP, all these transactions, or documents, are electronically linked</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6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B6FF-1C33-4513-8A85-94E59C684E5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6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stalling an ERP system means making various configuration decis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figuration decisions reflect management’s view of how transactions should be recorded and later used for decision making</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central database contai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ables of master data: relatively permanent data about customers, suppliers, material, and inventor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ransaction data tables: store relatively temporary data such as sales orders and invoice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6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C787-A87B-477F-A773-6C0C0FF4000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6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6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stomer relationship management (CRM) syste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uild on the organizational value that ERP provid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ecifically increase the flexibility of the company’s common database regarding customer servic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Various kinds of CRM software are availab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be installed in-house or on-demand</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C56E-6568-4137-880A-A5324D3F401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verview of Fitter Snacker (cont’d.)</a:t>
            </a:r>
            <a:endParaRPr b="0" lang="en-US" sz="3600" spc="-1" strike="noStrike">
              <a:solidFill>
                <a:srgbClr val="222222"/>
              </a:solidFill>
              <a:latin typeface="Arial"/>
            </a:endParaRPr>
          </a:p>
        </p:txBody>
      </p:sp>
      <p:sp>
        <p:nvSpPr>
          <p:cNvPr id="1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e two sales divisions differ in terms of quantities of orders and pricing ter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lls snack bars under the Fitter Snacker brand nam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ackages the bars in store-brand wrappers for some chain store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C5CC-28A2-4779-9F4C-0313C5B2577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blems with Fitter Snacker’s Sales Process</a:t>
            </a:r>
            <a:endParaRPr b="0" lang="en-US" sz="3600" spc="-1" strike="noStrike">
              <a:solidFill>
                <a:srgbClr val="222222"/>
              </a:solidFill>
              <a:latin typeface="Arial"/>
            </a:endParaRPr>
          </a:p>
        </p:txBody>
      </p:sp>
      <p:sp>
        <p:nvSpPr>
          <p:cNvPr id="16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of Fitter Snacker’s sales orders have problems, such a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orrect pricing</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cessive calls to the customer for inform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lays in processing order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issed delivery date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A1B9-FA8D-4262-8C69-C86C0622971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blems with Fitter Snacker’s Sales Process (cont’d.)</a:t>
            </a:r>
            <a:endParaRPr b="0" lang="en-US" sz="3600" spc="-1" strike="noStrike">
              <a:solidFill>
                <a:srgbClr val="222222"/>
              </a:solidFill>
              <a:latin typeface="Arial"/>
            </a:endParaRPr>
          </a:p>
        </p:txBody>
      </p:sp>
      <p:sp>
        <p:nvSpPr>
          <p:cNvPr id="16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easons for problem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S has separate information systems throughout the company for three functional area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ales order system</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arehouse system</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ccounting system</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igh number of transactions that are handled manuall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formation stored in the three systems is not available in real tim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944F-D793-4B7D-972C-395823B76B7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7" name="Footer Placeholder 2"/>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68" name="Slide Number Placeholder 3"/>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698D-E64E-444A-B93C-E6B12027462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9" name="Text Box 7"/>
          <p:cNvSpPr/>
          <p:nvPr/>
        </p:nvSpPr>
        <p:spPr>
          <a:xfrm>
            <a:off x="2590920" y="5805360"/>
            <a:ext cx="601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3-1  The sales process</a:t>
            </a:r>
            <a:endParaRPr b="0" lang="en-US" sz="1800" spc="-1" strike="noStrike">
              <a:solidFill>
                <a:srgbClr val="ffffff"/>
              </a:solidFill>
              <a:latin typeface="Times New Roman"/>
            </a:endParaRPr>
          </a:p>
        </p:txBody>
      </p:sp>
      <p:sp>
        <p:nvSpPr>
          <p:cNvPr id="170" name="Rectangle 7"/>
          <p:cNvSpPr/>
          <p:nvPr/>
        </p:nvSpPr>
        <p:spPr>
          <a:xfrm>
            <a:off x="533520" y="3808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1" name="Picture 10" descr="Fig03-01"/>
          <p:cNvPicPr/>
          <p:nvPr/>
        </p:nvPicPr>
        <p:blipFill>
          <a:blip r:embed="rId1">
            <a:lum bright="-6000"/>
          </a:blip>
          <a:srcRect l="0" t="0" r="0" b="4155"/>
          <a:stretch/>
        </p:blipFill>
        <p:spPr>
          <a:xfrm>
            <a:off x="2658960" y="1905120"/>
            <a:ext cx="4122720" cy="3886200"/>
          </a:xfrm>
          <a:prstGeom prst="rect">
            <a:avLst/>
          </a:prstGeom>
          <a:ln w="0">
            <a:noFill/>
          </a:ln>
        </p:spPr>
      </p:pic>
      <p:sp>
        <p:nvSpPr>
          <p:cNvPr id="172" name="Rectangle 11"/>
          <p:cNvSpPr/>
          <p:nvPr/>
        </p:nvSpPr>
        <p:spPr>
          <a:xfrm>
            <a:off x="533520" y="380880"/>
            <a:ext cx="80769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blems with Fitter Snacker’s Sales Process (cont’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
  <dcterms:modified xsi:type="dcterms:W3CDTF">2014-09-02T07:41:36Z</dcterms:modified>
  <cp:revision>605</cp:revision>
  <dc:subject/>
  <dc:title>Chapter 3</dc:title>
</cp:coreProperties>
</file>