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E9B2-E9ED-41A5-B9F2-7FCF9AEBF8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E908-7C2F-4508-B9E9-4010A1FFFB9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121A-3ACC-41C9-8FA5-BE8AB16AEAF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C01A-AE67-4466-97F8-B38D6A7E10D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BE41-35C9-4626-912A-17917338EA7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CC71-C1DE-4536-98D6-71263CB59FD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61DA-9AC8-4901-9BBB-950FCF49DE5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025E-02A3-4913-95B9-9AE5F1F106A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6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9AB5-74BB-44D2-AC06-7D629CBF5AC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98B9-3D85-473A-BCD1-C2132234975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FAC8-B73B-4D6B-8A74-449D285379A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7E7A-22BA-428A-BC85-56C4800895A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9CE7-F265-4522-BD8C-1414B0E6F21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6D79-A6EB-4941-B3A9-D4B921962A7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7FBE-CA96-4272-B640-6A9E65CD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EFA-F32F-42F2-AD98-057442DE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4B8-D9BA-48DE-952F-0BB017A6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9AB-71A4-4081-BFEB-87678D67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BF0-033C-4093-832A-61161C87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6672-F94D-4914-9B16-DE97C5FD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4F0-AD6B-4479-BB50-15BE8606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E56-50CC-47BB-B42F-847C079F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CF6-7C8F-4C19-8F3E-4FCF7205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C17-E905-41EC-8368-1C9B7D80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982-DE39-4E80-80F5-217CA40E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DC5-F5EC-477E-9F23-1175043B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C5C1-1B5D-4FE8-980E-3B9BB879B08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Business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esearch Methods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illiam G. Zikmund</a:t>
            </a:r>
            <a:br>
              <a:rPr sz="2800"/>
            </a:b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3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ory Buil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Propositions 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opositi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re statements concerned with the relationships among concept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685800" y="297180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ypothe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proposition that is empirically testable. It is an empirical statement concerned with the relationship among varia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2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ariab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nything that may assume different numerical value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80880" y="34308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2800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80880" y="1981080"/>
            <a:ext cx="8534520" cy="4496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81d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5270400" y="4495680"/>
            <a:ext cx="3111480" cy="1739880"/>
          </a:xfrm>
          <a:prstGeom prst="roundRect">
            <a:avLst>
              <a:gd name="adj" fmla="val 12412"/>
            </a:avLst>
          </a:prstGeom>
          <a:solidFill>
            <a:srgbClr val="7fdfda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29160" y="4608360"/>
            <a:ext cx="27939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lways mak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our sales call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 d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609480" y="4419720"/>
            <a:ext cx="3111480" cy="1739880"/>
          </a:xfrm>
          <a:prstGeom prst="roundRect">
            <a:avLst>
              <a:gd name="adj" fmla="val 12412"/>
            </a:avLst>
          </a:prstGeom>
          <a:solidFill>
            <a:srgbClr val="64cd5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68240" y="4532400"/>
            <a:ext cx="27939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ollar bonus f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ales volum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ver quo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Freeform 8"/>
          <p:cNvSpPr/>
          <p:nvPr/>
        </p:nvSpPr>
        <p:spPr>
          <a:xfrm>
            <a:off x="3890880" y="4952880"/>
            <a:ext cx="1216080" cy="48744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66" h="307">
                <a:moveTo>
                  <a:pt x="0" y="153"/>
                </a:moveTo>
                <a:lnTo>
                  <a:pt x="153" y="306"/>
                </a:lnTo>
                <a:lnTo>
                  <a:pt x="153" y="229"/>
                </a:lnTo>
                <a:lnTo>
                  <a:pt x="612" y="229"/>
                </a:lnTo>
                <a:lnTo>
                  <a:pt x="612" y="306"/>
                </a:lnTo>
                <a:lnTo>
                  <a:pt x="765" y="153"/>
                </a:lnTo>
                <a:lnTo>
                  <a:pt x="612" y="0"/>
                </a:lnTo>
                <a:lnTo>
                  <a:pt x="612" y="76"/>
                </a:lnTo>
                <a:lnTo>
                  <a:pt x="153" y="76"/>
                </a:lnTo>
                <a:lnTo>
                  <a:pt x="153" y="0"/>
                </a:lnTo>
                <a:lnTo>
                  <a:pt x="0" y="153"/>
                </a:lnTo>
              </a:path>
            </a:pathLst>
          </a:custGeom>
          <a:solidFill>
            <a:srgbClr val="ff9933"/>
          </a:solidFill>
          <a:ln cap="rnd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5410080" y="1676520"/>
            <a:ext cx="2819520" cy="1752480"/>
          </a:xfrm>
          <a:prstGeom prst="roundRect">
            <a:avLst>
              <a:gd name="adj" fmla="val 12412"/>
            </a:avLst>
          </a:prstGeom>
          <a:solidFill>
            <a:srgbClr val="f76681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568840" y="1790640"/>
            <a:ext cx="2502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ncept 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(Habit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Freeform 11"/>
          <p:cNvSpPr/>
          <p:nvPr/>
        </p:nvSpPr>
        <p:spPr>
          <a:xfrm>
            <a:off x="3962520" y="2362320"/>
            <a:ext cx="1216080" cy="48708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487080"/>
              <a:gd name="textAreaBottom" fmla="*/ 487440 h 487080"/>
            </a:gdLst>
            <a:ahLst/>
            <a:rect l="textAreaLeft" t="textAreaTop" r="textAreaRight" b="textAreaBottom"/>
            <a:pathLst>
              <a:path w="766" h="307">
                <a:moveTo>
                  <a:pt x="0" y="153"/>
                </a:moveTo>
                <a:lnTo>
                  <a:pt x="153" y="306"/>
                </a:lnTo>
                <a:lnTo>
                  <a:pt x="153" y="229"/>
                </a:lnTo>
                <a:lnTo>
                  <a:pt x="612" y="229"/>
                </a:lnTo>
                <a:lnTo>
                  <a:pt x="612" y="306"/>
                </a:lnTo>
                <a:lnTo>
                  <a:pt x="765" y="153"/>
                </a:lnTo>
                <a:lnTo>
                  <a:pt x="612" y="0"/>
                </a:lnTo>
                <a:lnTo>
                  <a:pt x="612" y="76"/>
                </a:lnTo>
                <a:lnTo>
                  <a:pt x="153" y="76"/>
                </a:lnTo>
                <a:lnTo>
                  <a:pt x="153" y="0"/>
                </a:lnTo>
                <a:lnTo>
                  <a:pt x="0" y="153"/>
                </a:lnTo>
              </a:path>
            </a:pathLst>
          </a:custGeom>
          <a:solidFill>
            <a:srgbClr val="ff9933"/>
          </a:solidFill>
          <a:ln cap="rnd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2362320" y="3697200"/>
            <a:ext cx="5257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Hypothesis at Empirical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1828800" y="762120"/>
            <a:ext cx="589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838080" y="1676520"/>
            <a:ext cx="2819520" cy="1752480"/>
          </a:xfrm>
          <a:prstGeom prst="roundRect">
            <a:avLst>
              <a:gd name="adj" fmla="val 12412"/>
            </a:avLst>
          </a:prstGeom>
          <a:solidFill>
            <a:srgbClr val="e9e975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996840" y="1790640"/>
            <a:ext cx="2502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ncept 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(Reinforcemen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roposition at Abstract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Scientific Method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use of a set of prescribed procedures for establishing and connecting theoretical statements about events and for predicting events yet unknow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685800" y="655308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© 2002 Southwestern College Publishing. All rights reserved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  <a:ea typeface="Arial"/>
              </a:rPr>
              <a:t>–</a:t>
            </a:r>
            <a:fld id="{F2E44114-D933-4ACB-B209-C720A868C8AD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9900"/>
                </a:solidFill>
                <a:latin typeface="Times New Roman"/>
              </a:rPr>
              <a:t>Empirical Evidence help us predict future reality through abstract concept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17" name="Picture 4" descr="08-03"/>
          <p:cNvPicPr/>
          <p:nvPr/>
        </p:nvPicPr>
        <p:blipFill>
          <a:blip r:embed="rId1"/>
          <a:stretch/>
        </p:blipFill>
        <p:spPr>
          <a:xfrm>
            <a:off x="214200" y="914400"/>
            <a:ext cx="8786880" cy="56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1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eductive Reasoning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ogical process of deriving a conclusion from a known premise or something known to be tru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 know that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ll managers are human beings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2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we also know that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John Smith is a manager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12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n we can deduce that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John Smith is a human being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.2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Inductive Reasoning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ogical process of establishing a general proposition on the basis of observation of particular fa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managers that have ever been seen are human being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fore all managers are human being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/>
          <p:cNvSpPr/>
          <p:nvPr/>
        </p:nvSpPr>
        <p:spPr>
          <a:xfrm>
            <a:off x="235080" y="2901960"/>
            <a:ext cx="2120760" cy="1359000"/>
          </a:xfrm>
          <a:custGeom>
            <a:avLst/>
            <a:gdLst>
              <a:gd name="textAreaLeft" fmla="*/ 0 w 2120760"/>
              <a:gd name="textAreaRight" fmla="*/ 2121120 w 212076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18160" y="3032280"/>
            <a:ext cx="15001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relevant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xis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68440" y="2901960"/>
            <a:ext cx="2121120" cy="1359000"/>
          </a:xfrm>
          <a:custGeom>
            <a:avLst/>
            <a:gdLst>
              <a:gd name="textAreaLeft" fmla="*/ 0 w 2121120"/>
              <a:gd name="textAreaRight" fmla="*/ 2121120 w 212112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2429640" y="3032280"/>
            <a:ext cx="1739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ormula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oncepts &amp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roposi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502160" y="2901960"/>
            <a:ext cx="2120760" cy="1359000"/>
          </a:xfrm>
          <a:custGeom>
            <a:avLst/>
            <a:gdLst>
              <a:gd name="textAreaLeft" fmla="*/ 0 w 2120760"/>
              <a:gd name="textAreaRight" fmla="*/ 2121120 w 212076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57b4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577760" y="3048120"/>
            <a:ext cx="1629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tat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of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ypothe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6635880" y="2901960"/>
            <a:ext cx="2120760" cy="1359000"/>
          </a:xfrm>
          <a:custGeom>
            <a:avLst/>
            <a:gdLst>
              <a:gd name="textAreaLeft" fmla="*/ 0 w 2120760"/>
              <a:gd name="textAreaRight" fmla="*/ 2121120 w 212076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6769800" y="3184560"/>
            <a:ext cx="1247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esig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researc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073160" y="4730760"/>
            <a:ext cx="2120760" cy="1359000"/>
          </a:xfrm>
          <a:custGeom>
            <a:avLst/>
            <a:gdLst>
              <a:gd name="textAreaLeft" fmla="*/ 0 w 2120760"/>
              <a:gd name="textAreaRight" fmla="*/ 2121120 w 212076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3192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1131480" y="4876920"/>
            <a:ext cx="1300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Acquir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mpiric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3276720" y="4800600"/>
            <a:ext cx="2120760" cy="1359000"/>
          </a:xfrm>
          <a:custGeom>
            <a:avLst/>
            <a:gdLst>
              <a:gd name="textAreaLeft" fmla="*/ 0 w 2120760"/>
              <a:gd name="textAreaRight" fmla="*/ 2121120 w 212076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341880" y="4861080"/>
            <a:ext cx="1402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Analyze &amp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valuat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5416560" y="4730760"/>
            <a:ext cx="2120760" cy="1359000"/>
          </a:xfrm>
          <a:custGeom>
            <a:avLst/>
            <a:gdLst>
              <a:gd name="textAreaLeft" fmla="*/ 0 w 2120760"/>
              <a:gd name="textAreaRight" fmla="*/ 2121120 w 212076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5475600" y="4861080"/>
            <a:ext cx="1684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rovi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xplanation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tate ne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 Scientific Method: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n Overview  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hapter </a:t>
            </a: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: 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ory Building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904760" y="1828800"/>
            <a:ext cx="6553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1. Definition of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 Levels of Realit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5144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1. Constra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5144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2.2. Proposi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ientific Meth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3.1. Deductive Reaso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3.2. Inductive Reaso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1. Definition of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ory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herent set of general propositions used as principles of explanation of the apparent relationships of certain observed phenomen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85800" y="4572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Purposes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 Theory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derstan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edi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Theorie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ories are nets cast to catch what we call “the world”: to rationalize, to explain, and to master it. We endeavor to make the mesh ever finer and fin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arl R. Popp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 Levels of Reality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stract level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cepts 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</a:rPr>
              <a:t>&amp;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opositions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 theory development, the level of knowledge expressing a concept that exists only as an idea or a quality apart from an objec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mpirical level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ariables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</a:rPr>
              <a:t> &amp;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ypotheses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</a:rPr>
              <a:t>): </a:t>
            </a:r>
            <a:r>
              <a:rPr b="0" lang="tr-TR" sz="32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el of knowledge reflecting that which is verifiable by experience or observ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9900"/>
                </a:solidFill>
                <a:latin typeface="Times New Roman"/>
              </a:rPr>
              <a:t>2.1.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oncept (or Construct)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generalized idea about a class of objects, attributes, occurrences, or processes that has been given a na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ilding blocks tha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stract realit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dership,” “productivity,” and “moral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oss national product,” “asset,” and “inflation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3"/>
          <p:cNvSpPr/>
          <p:nvPr/>
        </p:nvSpPr>
        <p:spPr>
          <a:xfrm>
            <a:off x="3657600" y="1905120"/>
            <a:ext cx="1828800" cy="1523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CONCEP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905120" y="5791320"/>
            <a:ext cx="683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BSERVATION OF OBJECT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D EVENTS (REALIT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579132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mpiric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232560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7"/>
          <p:cNvSpPr/>
          <p:nvPr/>
        </p:nvSpPr>
        <p:spPr>
          <a:xfrm>
            <a:off x="2057400" y="5715000"/>
            <a:ext cx="5106960" cy="144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217" h="1">
                <a:moveTo>
                  <a:pt x="0" y="0"/>
                </a:moveTo>
                <a:lnTo>
                  <a:pt x="3216" y="0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4343400" y="3505320"/>
            <a:ext cx="487440" cy="2135160"/>
          </a:xfrm>
          <a:custGeom>
            <a:avLst/>
            <a:gdLst>
              <a:gd name="textAreaLeft" fmla="*/ 0 w 487440"/>
              <a:gd name="textAreaRight" fmla="*/ 487800 w 48744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307" h="1345">
                <a:moveTo>
                  <a:pt x="153" y="0"/>
                </a:moveTo>
                <a:lnTo>
                  <a:pt x="306" y="269"/>
                </a:lnTo>
                <a:lnTo>
                  <a:pt x="229" y="269"/>
                </a:lnTo>
                <a:lnTo>
                  <a:pt x="229" y="1075"/>
                </a:lnTo>
                <a:lnTo>
                  <a:pt x="306" y="1075"/>
                </a:lnTo>
                <a:lnTo>
                  <a:pt x="153" y="1344"/>
                </a:lnTo>
                <a:lnTo>
                  <a:pt x="0" y="1075"/>
                </a:lnTo>
                <a:lnTo>
                  <a:pt x="76" y="1075"/>
                </a:lnTo>
                <a:lnTo>
                  <a:pt x="76" y="269"/>
                </a:lnTo>
                <a:lnTo>
                  <a:pt x="0" y="269"/>
                </a:lnTo>
                <a:lnTo>
                  <a:pt x="153" y="0"/>
                </a:lnTo>
              </a:path>
            </a:pathLst>
          </a:custGeom>
          <a:solidFill>
            <a:srgbClr val="7fdfda"/>
          </a:solidFill>
          <a:ln cap="rnd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oncepts are Abstractions of Reality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8" name="Freeform 7"/>
          <p:cNvSpPr/>
          <p:nvPr/>
        </p:nvSpPr>
        <p:spPr>
          <a:xfrm>
            <a:off x="2133720" y="5715000"/>
            <a:ext cx="5106960" cy="144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217" h="1">
                <a:moveTo>
                  <a:pt x="0" y="0"/>
                </a:moveTo>
                <a:lnTo>
                  <a:pt x="3216" y="0"/>
                </a:lnTo>
              </a:path>
            </a:pathLst>
          </a:custGeom>
          <a:noFill/>
          <a:ln cap="rnd" w="507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434400" y="2666880"/>
            <a:ext cx="2595960" cy="5191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Vegetation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429000" y="3589200"/>
            <a:ext cx="2590920" cy="51912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ruit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454920" y="4503600"/>
            <a:ext cx="2557800" cy="51912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anana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416400" y="5418000"/>
            <a:ext cx="2603520" cy="519120"/>
          </a:xfrm>
          <a:prstGeom prst="rect">
            <a:avLst/>
          </a:prstGeom>
          <a:solidFill>
            <a:srgbClr val="fda4b5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ality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AutoShape 7"/>
          <p:cNvSpPr/>
          <p:nvPr/>
        </p:nvSpPr>
        <p:spPr>
          <a:xfrm flipH="1">
            <a:off x="4349880" y="3282840"/>
            <a:ext cx="596880" cy="216000"/>
          </a:xfrm>
          <a:prstGeom prst="upArrow">
            <a:avLst>
              <a:gd name="adj1" fmla="val 50000"/>
              <a:gd name="adj2" fmla="val 49931"/>
            </a:avLst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 flipH="1">
            <a:off x="4349880" y="4197240"/>
            <a:ext cx="596880" cy="216000"/>
          </a:xfrm>
          <a:prstGeom prst="upArrow">
            <a:avLst>
              <a:gd name="adj1" fmla="val 50000"/>
              <a:gd name="adj2" fmla="val 49931"/>
            </a:avLst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AutoShape 9"/>
          <p:cNvSpPr/>
          <p:nvPr/>
        </p:nvSpPr>
        <p:spPr>
          <a:xfrm flipH="1">
            <a:off x="4349880" y="5111640"/>
            <a:ext cx="596880" cy="216000"/>
          </a:xfrm>
          <a:prstGeom prst="upArrow">
            <a:avLst>
              <a:gd name="adj1" fmla="val 50000"/>
              <a:gd name="adj2" fmla="val 49931"/>
            </a:avLst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Rectangle 10"/>
          <p:cNvSpPr/>
          <p:nvPr/>
        </p:nvSpPr>
        <p:spPr>
          <a:xfrm flipH="1" rot="16200000">
            <a:off x="5296320" y="3922200"/>
            <a:ext cx="419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ingly more abstra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 flipV="1">
            <a:off x="7010280" y="2750760"/>
            <a:ext cx="0" cy="3414600"/>
          </a:xfrm>
          <a:prstGeom prst="line">
            <a:avLst/>
          </a:prstGeom>
          <a:ln w="5076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2068560" cy="3772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A Ladder Of Abstraction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For Concept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ory Building</a:t>
            </a:r>
            <a:r>
              <a:rPr b="0" lang="tr-TR" sz="40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 A Process Of Increasing Abstraction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235320" y="2674800"/>
            <a:ext cx="2862360" cy="5320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333600" y="2666880"/>
            <a:ext cx="283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eories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300480" y="3589200"/>
            <a:ext cx="2863800" cy="53208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306600" y="3641760"/>
            <a:ext cx="2850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opositions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286080" y="4503600"/>
            <a:ext cx="2903760" cy="532080"/>
          </a:xfrm>
          <a:prstGeom prst="rect">
            <a:avLst/>
          </a:prstGeom>
          <a:solidFill>
            <a:srgbClr val="f76681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291480" y="4556160"/>
            <a:ext cx="2893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ncepts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2668680" y="5418000"/>
            <a:ext cx="4252680" cy="959040"/>
          </a:xfrm>
          <a:prstGeom prst="rect">
            <a:avLst/>
          </a:prstGeom>
          <a:solidFill>
            <a:srgbClr val="fda4b5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678040" y="5470560"/>
            <a:ext cx="4235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bservation of ob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events (reality )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AutoShape 11"/>
          <p:cNvSpPr/>
          <p:nvPr/>
        </p:nvSpPr>
        <p:spPr>
          <a:xfrm flipH="1">
            <a:off x="4349880" y="3282840"/>
            <a:ext cx="596880" cy="216000"/>
          </a:xfrm>
          <a:prstGeom prst="upArrow">
            <a:avLst>
              <a:gd name="adj1" fmla="val 50000"/>
              <a:gd name="adj2" fmla="val 49931"/>
            </a:avLst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AutoShape 12"/>
          <p:cNvSpPr/>
          <p:nvPr/>
        </p:nvSpPr>
        <p:spPr>
          <a:xfrm flipH="1">
            <a:off x="4349880" y="4197240"/>
            <a:ext cx="596880" cy="216000"/>
          </a:xfrm>
          <a:prstGeom prst="upArrow">
            <a:avLst>
              <a:gd name="adj1" fmla="val 50000"/>
              <a:gd name="adj2" fmla="val 49931"/>
            </a:avLst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AutoShape 13"/>
          <p:cNvSpPr/>
          <p:nvPr/>
        </p:nvSpPr>
        <p:spPr>
          <a:xfrm flipH="1">
            <a:off x="4349880" y="5111640"/>
            <a:ext cx="596880" cy="216000"/>
          </a:xfrm>
          <a:prstGeom prst="upArrow">
            <a:avLst>
              <a:gd name="adj1" fmla="val 50000"/>
              <a:gd name="adj2" fmla="val 49931"/>
            </a:avLst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Rectangle 14"/>
          <p:cNvSpPr/>
          <p:nvPr/>
        </p:nvSpPr>
        <p:spPr>
          <a:xfrm flipH="1" rot="16200000">
            <a:off x="5372280" y="4074480"/>
            <a:ext cx="403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ingly more abstra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Line 15"/>
          <p:cNvSpPr/>
          <p:nvPr/>
        </p:nvSpPr>
        <p:spPr>
          <a:xfrm flipV="1">
            <a:off x="7010280" y="2750760"/>
            <a:ext cx="0" cy="3414600"/>
          </a:xfrm>
          <a:prstGeom prst="line">
            <a:avLst/>
          </a:prstGeom>
          <a:ln w="5076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47:22Z</dcterms:created>
  <dc:creator>zikmund</dc:creator>
  <dc:description/>
  <dc:language>en-US</dc:language>
  <cp:lastModifiedBy>Soad</cp:lastModifiedBy>
  <dcterms:modified xsi:type="dcterms:W3CDTF">2016-09-23T13:41:27Z</dcterms:modified>
  <cp:revision>374</cp:revision>
  <dc:subject>Chapter 1</dc:subject>
  <dc:title>Business Research Methods  William G. Zikmund</dc:title>
</cp:coreProperties>
</file>