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69A-FDB0-40BA-A82B-E60B890F3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57D8-E168-45C2-B15C-ECDE55DB4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assemblies : a unit assembled separately but designed to be incorporated with other units into a larger manufactured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132-2799-4467-884F-9688A847A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ts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الشوفان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sins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زبيب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22C8-E0F9-414A-BB43-357130675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C4E-CA05-4722-A70C-CCBF4A55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ion run: A group of similar or related goods that is produced by using a particular group of manufacturing procedures, processes or 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long run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factors of production are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ing or carrying costs: storage, insurance, investment, pilferage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 or ordering costs: cost involved in placing an order or setting up the equipment to make the produ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023-6869-4D0E-9BBE-B503DA1F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etitive manufacturing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uous production of identical products during a manufacturing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932C-FA9F-43A3-9EFD-B3F2E97E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ize ; de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713-D41F-46FE-A0D5-027CD935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4E8F3-6D01-4830-9EBA-32AA1E3DF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ADEC-531D-4F67-8AEB-51D3733D5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66EA-FA15-4AD3-A5B3-F5DB0B952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49477-881D-44DA-9D6D-573B149C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85F55-4750-4157-AA7E-771150E1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E4423-6E12-4C50-A47D-E5FFAB0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081C-CAAD-447C-B400-DEDCC575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DF562-698A-479F-A398-420DE59A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38FAB-B3A0-4A0F-84C4-AF5C3C48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C785-29FF-41EE-8A25-18F3227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4696B-E1DD-4A44-A2BD-9A35EA4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250F-E5F5-45B8-B37C-B711C08E5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9205C-FBE8-4854-8B12-5216587B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EECE5-9F67-496F-8B37-F85C7D92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09B23-EE94-4A45-BCB5-704ADD10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102D5-883F-43A3-806C-A11932D0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B7539-7F9C-448B-9EA9-16D2A4C0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92FC4-B631-4FB4-A0B7-813FAC1C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BE118-5B38-4350-845E-A5FB5EB3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EDC34-8258-4485-BDBA-45BB44DB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A688C-7311-46C5-8D80-DE1E2A23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60BD6-C70A-401E-B7F7-D2A4619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6A97D-B6EB-4D0A-A5E7-7E4E1B059D2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14693-5928-4364-A973-A8DEDD77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BACB2-8C9D-43F5-84CF-579FD13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72CD7-5D6D-4F70-B504-B01F49D8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EFC117-176D-41BB-852C-E08C4054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36C8D-23DE-465A-BECE-EE7586B0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64BA9-98BB-4A3C-867E-DFB0BD35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97FAA-F2D7-4DA6-A21A-52006A8F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84F60-8D67-4927-B15F-860E891BE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34D82-3200-4B27-A2AB-416B2A1CB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F3882-E0AB-4120-8F7C-4D8A7D724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3F58-55C6-48A2-AF98-3437EC955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2D592-C99C-4703-A661-E5C9A1CD0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3CDC-8E34-4ADF-A239-2114D5864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867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24120"/>
            <a:ext cx="2057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072-4082-4244-B4C3-5C4DA6B691B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707-4F83-4BC9-98F0-F73BD80E424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AC03-5ACD-4BA4-B103-ADB20F4A872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Concepts in Enterprise Resource Planning</a:t>
            </a:r>
            <a:br>
              <a:rPr sz="4400"/>
            </a:br>
            <a:r>
              <a:rPr b="0" i="1" lang="en-US" sz="4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222222"/>
                </a:solidFill>
                <a:latin typeface="Arial"/>
              </a:rPr>
              <a:t>4th Edition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120" y="44193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Chapter Four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222222"/>
                </a:solidFill>
                <a:latin typeface="Arial"/>
              </a:rPr>
              <a:t>Production and Supply Chain Management Information Systems</a:t>
            </a:r>
            <a:endParaRPr b="0" lang="en-US" sz="3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D587-2CB1-45D5-A890-C4D0D46A845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D568-E6F4-4B90-8533-C7C6F5D03F7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Production Problem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Inventory probl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manager lacks systematic method for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eeting anticipated sales demand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Adjusting production to reflect actual sale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Accounting and purchasing problem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not have a good way to calculate the day-to-day costs of Fitter’s production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Uses standard costs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normal costs of manufacturing a produc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each batch of bars it produces, Fitter can estimate direct costs (materials and labor) and indirect costs (factory overhead)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nufacturing costs = The number of batches produced is multiplied by the standard cost of a batch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tion and Accounting must periodically compare standard costs with actual costs and then adjust the accounts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1BD-78E2-4642-A57B-6625D2AA903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Production Plann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ee important principles for production planning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Work from sales forecast and current inventory levels to create an “aggregate” (“combined”) production plan for all produc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lans are made for groups of related produc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time increment used in aggregate planning is frequently a month or a quarter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reak down aggregate plan into more specific production plans for individual products and smaller time interval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production plan to determine raw material requiremen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Example: A consumer products company may group by product type (e.g., shampoo, laundry detergent, and disposable diapers)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aggregate production plan for Fitter will combine the only two products, NRG-A and NRG-B bars using a monthly time increment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4F4C-04CB-48D8-BC25-6FDA0A30F50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AP ERP Approach to Production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0" y="580536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  The production plann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Fig04-02"/>
          <p:cNvPicPr/>
          <p:nvPr/>
        </p:nvPicPr>
        <p:blipFill>
          <a:blip r:embed="rId1"/>
          <a:srcRect l="0" t="0" r="0" b="6327"/>
          <a:stretch/>
        </p:blipFill>
        <p:spPr>
          <a:xfrm>
            <a:off x="2705040" y="1600200"/>
            <a:ext cx="361944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SAP ERP Approach to Production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les forecasting is the process of predicting future demand for a company’s products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les and operations planning (SOP) is the process of determining what the company will produ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n the </a:t>
            </a: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Demand management step, the production plan is broken down into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maller time units, such as weekly or even daily to meet demand for individual products.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222222"/>
                </a:solidFill>
                <a:latin typeface="Arial"/>
              </a:rPr>
              <a:t>Materials requirements planning (MRP) process determines the amount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nd timing of raw material ord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create raw materials purchase orders in the </a:t>
            </a:r>
            <a:r>
              <a:rPr b="0" i="1" lang="en-US" sz="1600" spc="-1" strike="noStrike">
                <a:solidFill>
                  <a:srgbClr val="222222"/>
                </a:solidFill>
                <a:latin typeface="Arial"/>
              </a:rPr>
              <a:t>Purchasing step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he detailed production schedule will determine when the production line will switch between the RG-A and NRG-B bar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222222"/>
              </a:buClr>
              <a:buFont typeface="Caslon224Std-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Caslon224Std-Book"/>
              </a:rPr>
              <a:t>manage daily operations in t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he </a:t>
            </a:r>
            <a:r>
              <a:rPr b="0" i="1" lang="en-US" sz="1800" spc="-1" strike="noStrike">
                <a:solidFill>
                  <a:srgbClr val="222222"/>
                </a:solidFill>
                <a:latin typeface="Arial"/>
              </a:rPr>
              <a:t>Production proces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B48-CD94-4687-848C-AFEEA9E6713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7D22-12EC-4611-874A-B15ADB84EB7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S’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has no formal way of developing a sales forecast and sharing it with Produc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AP’s ERP system takes an integrated approach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enever a sale is recorded in Sales and Distribution (SD) module, quantity sold is recorded as a consumption value for that materi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imple forecasting techniqu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a prior period’s sales and then adjust those figures for current condi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To make a forecast for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’s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Use previous year’s sales data in combination with marketing initiatives to increase sale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35B4-B337-45E2-90A3-7E3B9756E9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38080" y="56386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3  Fitter Snacker’s sales forecast for January through Ju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Fig04-03"/>
          <p:cNvPicPr/>
          <p:nvPr/>
        </p:nvPicPr>
        <p:blipFill>
          <a:blip r:embed="rId1"/>
          <a:srcRect l="0" t="0" r="0" b="14352"/>
          <a:stretch/>
        </p:blipFill>
        <p:spPr>
          <a:xfrm>
            <a:off x="990720" y="1447920"/>
            <a:ext cx="6476760" cy="1979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8"/>
          <p:cNvSpPr/>
          <p:nvPr/>
        </p:nvSpPr>
        <p:spPr>
          <a:xfrm>
            <a:off x="914400" y="342900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get accurate base figures for last year’s sales, this promotional increase must be subtracted from the previous year’s sales nu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tter’s Marketing and Sales Department anticipates a 3 percent growth in sales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t year, based on current trends and on research reported in trade publ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Forecas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Exercise 4.2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llowing the format of the spreadsheet in Figure 4-3, develop a spreadsheet to forecast Fitter’s sales for July through December. Calculate the base projection using the previous year’s values (shown in Figure 4-4), and factor in the 3 percent estimated growth rate. Assume that the special marketing promotion last year resulted in an increase in sales of 200 cases for July, and that a special marketing promotion this year will result in an increase in sales for July of 400 cases.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17E6-F286-4E83-8398-497BED83E0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62485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54DD-108B-4C1E-9F18-FCE9BA27F62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ales and operations planning (SOP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: sales forecast provided by Marke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utput: production plan designed to balance market demand with production capacit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ion plan is the input to the next step, demand managemen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489-2566-4D89-A01F-10DAE7840A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57200" y="5653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5  Fitter Snacker’s sales and operations plan for January through Ju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5" descr="Fig04-05"/>
          <p:cNvPicPr/>
          <p:nvPr/>
        </p:nvPicPr>
        <p:blipFill>
          <a:blip r:embed="rId1"/>
          <a:srcRect l="0" t="0" r="0" b="15211"/>
          <a:stretch/>
        </p:blipFill>
        <p:spPr>
          <a:xfrm>
            <a:off x="457200" y="1752480"/>
            <a:ext cx="8153280" cy="19116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"/>
          <p:cNvSpPr/>
          <p:nvPr/>
        </p:nvSpPr>
        <p:spPr>
          <a:xfrm>
            <a:off x="457200" y="3809880"/>
            <a:ext cx="822960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pacity  calculation ( next slid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termine the capacity utilization for each month by dividing the production plan amount (line 2) by the available capacity (line 5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and 8 in Figure 4-5 disaggregate the planned production shown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 line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based on the breakdown of 70 percent NRG-A and  30 percent NRG-B snack b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apacity each month is calculated in terms of the number of shipping cases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200 bars per minute × 60minutes per hour × 8 hours per day = 96,000 bars per day, which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96,000 bars per day ÷ 24 bars per box ÷ 12 boxes per case) equals 333.3 cases per day 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f you multiply the number of working days in a month by the production capacity of 333.3 shipping cases per day, you get the monthly capacity in shipping cases, which is shown in line 5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B792-444A-4466-A658-0374A217FEC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F96-2865-410C-9091-EF20442F470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AD47-641B-4233-8BCA-0D123AF8FEF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fter completing this chapter, you will be able to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the steps in the production planning process of a high-volume manufacturer such as Fitter Snack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Fitter Snacker’s production and materials management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how a structured process for Supply Chain Management planning enhances efficiency and decision mak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scribe how production planning data in an ERP system can be shared with suppliers to increase supply chain efficien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792-E66C-443B-B5E2-FF21B6AD8E4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SAP ERP, sales forecast can be made using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Historical sales data from the Sales and Distribution (SD) module, or 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put from plans developed in Controlling (CO) modu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CO modul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fit goals for company can be s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ed to estimate the sales levels needed to meet the profit goal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2559-197C-47AD-87EC-18D0754F512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47920" y="58816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6  Sales and operations planning scree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5" descr="Fig04-06"/>
          <p:cNvPicPr/>
          <p:nvPr/>
        </p:nvPicPr>
        <p:blipFill>
          <a:blip r:embed="rId1"/>
          <a:srcRect l="0" t="0" r="0" b="7168"/>
          <a:stretch/>
        </p:blipFill>
        <p:spPr>
          <a:xfrm>
            <a:off x="1828800" y="1752480"/>
            <a:ext cx="558468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151-62B1-4CBD-A7EE-A9AE6CF2C0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ough-cut planning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mon term in manufacturing means: Disaggregated to generate detailed production schedul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Once SAP ERP system generates a forecast, the planner can view the results graphically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nother feature of the SAP ERP sales and operations planning process is the integration of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Rough-cut capacity planning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pplies simple capacity-estimating techniques to the production plan to see if the techniques are feasib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6647-46BC-4B63-B7FD-798A9A09F1E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90720" y="5562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9  Forecasting results presented graphically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5" descr="Fig04-09"/>
          <p:cNvPicPr/>
          <p:nvPr/>
        </p:nvPicPr>
        <p:blipFill>
          <a:blip r:embed="rId1"/>
          <a:srcRect l="0" t="0" r="0" b="7922"/>
          <a:stretch/>
        </p:blipFill>
        <p:spPr>
          <a:xfrm>
            <a:off x="609480" y="1828800"/>
            <a:ext cx="655488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F61-564B-442F-846C-7D36DABB59F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isaggregating the sales and operations pla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anies typically develop sales and operations plans for product group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P ERP system allows any number of products to be assigned to a product group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ales and operation plan disaggregat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ion plan quantities specified for the group are transferred to the individual products that make up the group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A479-6253-4FC9-9EDD-A0B711F4BD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362320" y="56386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1  Product group structure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5" descr="Fig04-11"/>
          <p:cNvPicPr/>
          <p:nvPr/>
        </p:nvPicPr>
        <p:blipFill>
          <a:blip r:embed="rId1"/>
          <a:srcRect l="0" t="0" r="0" b="6758"/>
          <a:stretch/>
        </p:blipFill>
        <p:spPr>
          <a:xfrm>
            <a:off x="533520" y="1752480"/>
            <a:ext cx="7175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D31F-681C-449D-93C6-C8E7CF8EA46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ales and Operations Plann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457200" y="58053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2  Stock/Requirements List for NRG-A bars after disaggreg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Fig04-12"/>
          <p:cNvPicPr/>
          <p:nvPr/>
        </p:nvPicPr>
        <p:blipFill>
          <a:blip r:embed="rId1"/>
          <a:srcRect l="0" t="0" r="6207" b="5510"/>
          <a:stretch/>
        </p:blipFill>
        <p:spPr>
          <a:xfrm>
            <a:off x="2514600" y="1646280"/>
            <a:ext cx="41497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90B-C423-4E12-839B-06EF5CA30D83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mand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Links the sales and operations planning process with detailed scheduling and materials requirements planning proces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utput: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master production schedule (MP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tion plan for all finished good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Fitter Snacker,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PS i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n input to detailed scheduling, which determines what bars to make and when to make them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so an input to the materials requirements planning process, which determines what raw materials to order to support the production schedul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51" name="Picture 5" descr="Fig04-02"/>
          <p:cNvPicPr/>
          <p:nvPr/>
        </p:nvPicPr>
        <p:blipFill>
          <a:blip r:embed="rId1"/>
          <a:srcRect l="0" t="0" r="0" b="6327"/>
          <a:stretch/>
        </p:blipFill>
        <p:spPr>
          <a:xfrm>
            <a:off x="7086600" y="48006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1219320" y="4876920"/>
            <a:ext cx="563868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and management process splits Fitter’s monthly production planning  values into finer time peri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D8A4-B153-4B85-AF27-921B62CDE0B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mand Management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5720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4  Fitter Snacker’s production plan for January: The first five weeks of production are followed by a day-by-day disaggregation of week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or the weekly plan, the 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master production schedule MPS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 plan for NRG-A bars in week 1 was calculated as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(4,134 cases in January [the monthly demand from Figure 4-5] ÷ 21 working days in month of January) × 5 working days in Week 1 = 984.3 cases per week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9B1C-F709-4EDC-857C-3197233485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F0CD-0976-4061-BB36-CE69F81383C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ore some Supply Chain Management functions (SCM) in an ERP syst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xplore Fitter’s SCM problems and how ERP can help fix them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blems scheduling product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s warehouse is not adequately stocked, and customer orders cannot be filled in a timely fashion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 February, the MPS for NRG-A bars in Week 5 was calculated as 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Because Week 5 consists of the last day in January and the first four days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) 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(4,134 cases in January [monthly demand] ÷ 21 working days in month of January) × 1 working day in Week 5 = 196.9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(4,198 cases in February [monthly demand] ÷ 20 working days in month of February) × 4 working days in Week 5 = 839.6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eek 5 Total = 196.9 + 839.6 = 1,036.5 ca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EDE-34F6-469D-BF21-FC2156C6622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DDA-1F5D-4738-AAC6-D259681C1FF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termines required quantity and timing of the production or purchase of subassemblies and raw materials needed to support master production schedule MP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Bill of material (BOM)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list of the materials (including quantities) needed to make a produc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0852-D53B-40BC-92C5-A99E4BD7591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143000" y="556272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6  The bill of material (BOM) for Fitter Snacker’s NRG ba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5" descr="Fig04-16"/>
          <p:cNvPicPr/>
          <p:nvPr/>
        </p:nvPicPr>
        <p:blipFill>
          <a:blip r:embed="rId1"/>
          <a:srcRect l="0" t="0" r="39763" b="7526"/>
          <a:stretch/>
        </p:blipFill>
        <p:spPr>
          <a:xfrm>
            <a:off x="2824200" y="1738440"/>
            <a:ext cx="33480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A6E-F6AF-45C1-A070-51B2EB1FFC4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Lead times and lot siz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ead time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umulative time required for the supplier to receive and process the order, take the material out of stock, package it, load it on a truck, and deliver it to the manufactur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Lot sizing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ermining production quantities ( for raw materials produced in-house) and order quantities (for purchased items).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477120"/>
            <a:ext cx="5867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2A9B-1DAF-49AE-89E8-5DAEDD758F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(MRP)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685800" y="37339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4-17  The MRP record for oats in NRG bars, weeks 1 through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210040"/>
          </a:xfrm>
          <a:prstGeom prst="rect">
            <a:avLst/>
          </a:prstGeom>
          <a:ln w="0">
            <a:noFill/>
          </a:ln>
        </p:spPr>
      </p:pic>
      <p:sp>
        <p:nvSpPr>
          <p:cNvPr id="284" name="TextBox 7"/>
          <p:cNvSpPr/>
          <p:nvPr/>
        </p:nvSpPr>
        <p:spPr>
          <a:xfrm>
            <a:off x="838080" y="3995640"/>
            <a:ext cx="7543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Each mixer mixes dough in 500-pound batches (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se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Each shipping case weighs 72 pounds (not including packaging), so to convert shipping cases to 500-pound batches, multiply the number of shipping cases b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72 pounds per case, and then divide by 500 pounds per batch (see line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Fitter uses 300 pounds of oats per batch of NRG-A bar and 250 pounds of oats per batch of NRG-B ba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NRG-A: 142 batches × 300 lb. per batch = 42,60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NRG-B: 61 batches × 250 lb. per batch = 15,25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•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</a:rPr>
              <a:t>Total = 57,850 lb. oa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3657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Scheduled receipts, shows the expected timing of orders of materials that have already been placed.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 orders in multiples of the 44,000-pound lot size</a:t>
            </a: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here is a two-week lead time for oat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ned receipts, shows when planned orders will arrive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2222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Planned orders ,shows th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quantity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that the MRP calculation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recommends ordering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, and it is th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output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from the MRP process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hat purchasing uses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to determine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what to order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produce the product, </a:t>
            </a:r>
            <a:r>
              <a:rPr b="1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and when </a:t>
            </a:r>
            <a:r>
              <a:rPr b="0" lang="en-US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order it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D479-E4C5-49BC-B4FA-14274760663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2222"/>
                </a:solidFill>
                <a:latin typeface="Arial"/>
              </a:rPr>
              <a:t>Exercise 4.5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Develop an MRP record, similar to the one in Figure 4-17, for wheat germ for the five weeks of January. Wheat germ must be ordered in bulk-container quantities, so the planned orders must be in multiples of 2,000 pounds. Use a lead time of one week and an initial on-hand inventory of 3,184 pounds; assume that an order of 8,000 pounds is scheduled for receipt during Week 1.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C863-AE5B-4267-9A55-2738F34D468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45A3-3C98-4DFE-9D20-3FF897E1637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RP list shows results of MRP calculation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MRP process creates planned orders to meet dependent requirements (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Dependent requirements represent the demand for oats created by the planned orders for snack bars—the demand for oats </a:t>
            </a:r>
            <a:r>
              <a:rPr b="0" i="1" lang="en-US" sz="1800" spc="-1" strike="noStrike">
                <a:solidFill>
                  <a:srgbClr val="222222"/>
                </a:solidFill>
                <a:latin typeface="Arial"/>
              </a:rPr>
              <a:t>depends on the production plans for snack bars</a:t>
            </a:r>
            <a:r>
              <a:rPr b="0" i="1" lang="en-US" sz="2000" spc="-1" strike="noStrike">
                <a:solidFill>
                  <a:srgbClr val="222222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tock/Requirements List shows: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lanned ord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urchase requisitions (PurRqs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urchase orders (POitem)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lanner can convert a planned order to a purchase order from Stock/Requirements List by double-clicking the planned order lin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0018-1A07-4F7F-A173-3E31C3B78E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514600" y="5881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8  The MRP list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5" descr="Fig04-18"/>
          <p:cNvPicPr/>
          <p:nvPr/>
        </p:nvPicPr>
        <p:blipFill>
          <a:blip r:embed="rId1"/>
          <a:srcRect l="0" t="0" r="0" b="4178"/>
          <a:stretch/>
        </p:blipFill>
        <p:spPr>
          <a:xfrm>
            <a:off x="1143000" y="1600200"/>
            <a:ext cx="65530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11C-76F9-4DB9-BF2F-2FDBB6F47F6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828800" y="58816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9  The Stock/Requirements List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Fig04-19"/>
          <p:cNvPicPr/>
          <p:nvPr/>
        </p:nvPicPr>
        <p:blipFill>
          <a:blip r:embed="rId1"/>
          <a:srcRect l="0" t="0" r="0" b="4337"/>
          <a:stretch/>
        </p:blipFill>
        <p:spPr>
          <a:xfrm>
            <a:off x="2514600" y="1622520"/>
            <a:ext cx="415908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385-48CF-4F26-BC6B-6D2BBB69EE9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To meet customer demand efficiently, Fitter Snacker must: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forecast of customer dem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velop a production schedule to meet the estimated deman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is a good tool for developing and executing production plan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Goal of production planning is to schedule production economical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9895-4371-4D73-BCE2-DE139F0967C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terials Requirements Planning in SAP ERP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d information system allows Purchasing to make the best decision on a vendor based on relevant, up-to-date informa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Purchasing employee decides which vendor to use, the purchase order is transmitted to vendo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ystem can be configured to fax order to vendor, transmit it electronically through EDI (electronic data interchange), or send it over the Interne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305-7788-49E8-B347-685736133546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Detailed plan of what is to be produced, considering machine capacity and available labo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One key decision in detailed production scheduling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How long to make the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production runs(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A group of similar or related goods that is produced by using a particular group of manufacturing procedures, processes or conditions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or each produc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run length requires a balance between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setup cos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cost involved in placing an order or setting up the equipment to make the product , etc) and </a:t>
            </a: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holding costs </a:t>
            </a: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(storage, insurance, investment) to minimize total costs to the company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F6D3-5558-4819-9286-4C0CD226465E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uses repetitive manufactur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22222"/>
                </a:solidFill>
                <a:latin typeface="Arial"/>
              </a:rPr>
              <a:t>Repetitive manufacturing </a:t>
            </a: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vironment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usually involve production lines that are switched from one product to another similar product (The continuous production of identical products during a manufacturing cycle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lines are scheduled for a period of time, rather than for a specific number of i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3AF5-B0BF-45E2-B703-74C0365328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219320" y="595800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2  Repetitive manufacturing planning table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Picture 5" descr="Fig04-22"/>
          <p:cNvPicPr/>
          <p:nvPr/>
        </p:nvPicPr>
        <p:blipFill>
          <a:blip r:embed="rId1"/>
          <a:srcRect l="0" t="0" r="0" b="4706"/>
          <a:stretch/>
        </p:blipFill>
        <p:spPr>
          <a:xfrm>
            <a:off x="1447920" y="1371600"/>
            <a:ext cx="62071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7C9D-1FFF-4E4B-AC31-A2BE02A6D82D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tailed Schedul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Production runs should be decided by evaluating the cost of equipment setup and holding inventor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tegrated information system simplifies this analysi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Automatically collects accounting information that allows managers to better evaluate schedule trade-offs in terms of costs to compan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0656-D402-481F-ABDB-CBF580838CEB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the manufacturing plant, ERP packages do not directly connect with production machin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Data can be entered into SAP ERP through a PC on the shop floor, scanned using barcode or RFID technology (Radio frequency identification ), or entered using a mobile devic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In an integrated ERP system, the accounting impact of a material transaction can be recorded automaticall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C2C5-D4A0-4AD8-99FB-84729F31D464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Once F’S accepts shipment, Receiving must notify SAP ERP system of the arrival and acceptance of the material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Goods receipt transa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Receiving department must match goods receipt with purchase order that initiated it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hen receipt is successfully recorded, SAP ERP system immediately records the increase in inventory levels for the material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0BD3-7ECA-4D07-81E3-F8A05EFE587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viding Production Data to Accounting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676520" y="58816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3  Goods receipt screen in SAP E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Picture 5" descr="Fig04-23"/>
          <p:cNvPicPr/>
          <p:nvPr/>
        </p:nvPicPr>
        <p:blipFill>
          <a:blip r:embed="rId1">
            <a:lum bright="-6000"/>
          </a:blip>
          <a:srcRect l="0" t="0" r="0" b="6684"/>
          <a:stretch/>
        </p:blipFill>
        <p:spPr>
          <a:xfrm>
            <a:off x="1752480" y="1652760"/>
            <a:ext cx="573084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88F-923C-4056-ABC3-E606F740AD7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and Supplier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is part of a supply chai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tarts with farmers growing oats and whea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nds with a customer buying an NRG bar from a retail stor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s can play a key role in collaborative planning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0C8-020C-411D-B6C0-DBDA4775FCD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and Supplier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Working with suppliers in a collaborative fashion requires trust among all parti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Company opens its records to its supplier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uppliers can read company’s data because of common data forma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Reductions in paperwork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Savings in time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Other efficiency improvements translate into cost savings for the company and the suppli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Allows all parties to eliminate from the supply chain costs that do not add value to the product (such as inventory, overtime, changeovers, and spoilage), while simultaneously improving customer service.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78D1-B326-4167-B671-10D2FA501F4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ree general approaches to productio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Make-to-stock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ems: 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s are manufactured based on demand foreca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de for inventory (the “stock”) in anticipation of sales ord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accuracy of the forecasts will prevent excess inventory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for example, cameras, canned corn and book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Make-to-order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roducts are not built until a confirmed order for products is received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Items are produced to fill specific customer ord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usually take this approach when producing items that are too expensive , or items are  configured to customer specifications.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example, airplanes and large industrial equipmen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2C36-1DD3-4232-BAC1-C867A023666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22222"/>
                </a:solidFill>
                <a:latin typeface="Arial"/>
              </a:rPr>
              <a:t>Supply chain</a:t>
            </a: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all activities that occur between the growing or mining of raw materials and the appearance of finished products on the store shelf</a:t>
            </a:r>
            <a:endParaRPr b="0" lang="en-US" sz="23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 Fitter’s NRG bars starts with farmers growing oats and wheat, and it ends with a customer buying a bar from a retail store.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22222"/>
                </a:solidFill>
                <a:latin typeface="Arial"/>
              </a:rPr>
              <a:t>Traditional supply chain</a:t>
            </a:r>
            <a:endParaRPr b="0" lang="en-US" sz="23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formation is passed through the supply chain reactively, as participants increase their product ord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nherent time lags cause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F8D-B49C-405A-89F2-D7CF4B135E60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685800" y="5334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24  Supply chain management (SCM) from raw materials to consu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8" name="Picture 5" descr="Fig04-24"/>
          <p:cNvPicPr/>
          <p:nvPr/>
        </p:nvPicPr>
        <p:blipFill>
          <a:blip r:embed="rId1"/>
          <a:srcRect l="0" t="0" r="0" b="11487"/>
          <a:stretch/>
        </p:blipFill>
        <p:spPr>
          <a:xfrm>
            <a:off x="685800" y="2362320"/>
            <a:ext cx="7815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E041-0DFA-4657-8F02-C5129A6E18F7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Traditional Supply Chain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DI and ERP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efore ERP systems were available, companies could be linked with customers and suppliers through electronic data interchange (EDI) syst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ell-developed ERP system can facilitate SC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Needed production planning and purchasing systems already in plac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With ERP system, sharing production plans along the supply chain can occur in real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C2B-784C-4F64-9AF9-3A3CD79642A1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easures of Suc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Performance measurements (</a:t>
            </a:r>
            <a:r>
              <a:rPr b="1" lang="en-US" sz="2200" spc="-1" strike="noStrike">
                <a:solidFill>
                  <a:srgbClr val="222222"/>
                </a:solidFill>
                <a:latin typeface="Arial"/>
              </a:rPr>
              <a:t>Metrics)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Show the effects of better supply chain managemen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Cash-to-cash cycle time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Time between paying for raw materials and collecting cash from customer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In one study, the cash-to-cash cycle time for companies with efficient supply chain management processes was a month, whereas the cycle averaged 100 days for those companies without effective supply chain management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22"/>
                </a:solidFill>
                <a:latin typeface="Arial"/>
              </a:rPr>
              <a:t>Total supply chain management costs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Include cost of buying and handling inventory, processing orders, and information systems support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In one study, companies with efficient SCM processes incurred costs equal to 5 percent of sales. By contrast, companies without SCM incurred costs of up to 12 percent of sales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FE63-FE66-4FA2-92CE-EF84C4D3976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easures of Suc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Other metrics have been developed to measure what is happening between a company and its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itial fill rat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ercentage of the order that the supplier provided in the first shipmen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Initial order lead tim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ime needed for the supplier to fill the order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On-time performance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If supplier agreed to requested delivery dates, tracks how often supplier actually met those date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0D72-7C96-4DAD-AE88-DC9C6EF9A9AC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RP system can improve the efficiency of production and purchasing process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fficiency begins with Marketing sharing a sales forecast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Production plan is created based on sales forecast and shared with Purchasing so raw materials can be ordered properl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8BD-84BA-4972-9ADB-B0C5439105D8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can do production planning without an ERP system, but an ERP system increases company’s efficienc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ERP system that contains materials requirements planning allows Production to be linked to Purchasing and Accounting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his data sharing increases a company’s overall efficiency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5FFA-2D71-4EAF-924B-DE9D3EABD25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Companies are building on their ERP systems and integrated systems philosophy to practice supply chain management (SCM)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CM: company looks at itself as part of a larger process that includes customers and supplier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Using information more efficiently along the entire chain can result in significant cost saving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plexity of the global supply chain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Developing a planning system that effectively coordinates information technology and people is a considerable challenge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oduction Overview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Assemble-to-orde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r: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items produced using a combination of make-to-stock and make-to-order process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the final product is assembled for a specific order from a selection of make-to-stock component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3" marL="1200240" indent="-34308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Example, Personal computers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62BA-9DE5-4CF4-B352-7224D735A652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B978-99D4-4EAB-805F-BA4BBE0563A9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Manufacturing Proc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 uses make-to-stock production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371600" y="57294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4-1  Fitter Snacker’s manufacturing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Fig04-01"/>
          <p:cNvPicPr/>
          <p:nvPr/>
        </p:nvPicPr>
        <p:blipFill>
          <a:blip r:embed="rId1">
            <a:lum bright="-12000"/>
          </a:blip>
          <a:srcRect l="3724" t="0" r="0" b="14677"/>
          <a:stretch/>
        </p:blipFill>
        <p:spPr>
          <a:xfrm>
            <a:off x="1371600" y="2462040"/>
            <a:ext cx="6477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AE5-157D-4D3D-B224-3A5C088C5AF5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Manufacturing Process (cont’d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Snack bar line can produce 200 bars a minute, or 3,000 pounds of bars per hour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ach bar weighs four ounces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Entire production line operates on one shift a day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2222"/>
                </a:solidFill>
                <a:latin typeface="Arial"/>
              </a:rPr>
              <a:t>Fitter Snacker’s production sequence</a:t>
            </a:r>
            <a:endParaRPr b="0" lang="en-US" sz="26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See Figure 4-1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22222"/>
                </a:solidFill>
                <a:latin typeface="Arial"/>
              </a:rPr>
              <a:t>Switching the production line from one type of snack bar to the other takes 30 minutes</a:t>
            </a:r>
            <a:endParaRPr b="0" lang="en-US" sz="2200" spc="-1" strike="noStrike">
              <a:solidFill>
                <a:srgbClr val="22222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2222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producing two products in one day results in a half-hour loss of </a:t>
            </a:r>
            <a:r>
              <a:rPr b="1" lang="en-US" sz="1800" spc="-1" strike="noStrike">
                <a:solidFill>
                  <a:srgbClr val="222222"/>
                </a:solidFill>
                <a:latin typeface="Arial"/>
              </a:rPr>
              <a:t>capacity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during the changeover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Capacity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number of bars that can be produced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Concepts in Enterprise Resource Planning, 4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553080" y="6324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81ED-0446-4C29-B57E-0A212A3E5ADA}" type="slidenum">
              <a:rPr b="0" lang="en-US" sz="1400" spc="-1" strike="noStrike">
                <a:solidFill>
                  <a:srgbClr val="2222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tter Snacker’s Production Probl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Fitter Snacker has problems deciding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how many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bars to make and </a:t>
            </a:r>
            <a:r>
              <a:rPr b="0" i="1" lang="en-US" sz="2400" spc="-1" strike="noStrike">
                <a:solidFill>
                  <a:srgbClr val="222222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to make them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22"/>
                </a:solidFill>
                <a:latin typeface="Arial"/>
              </a:rPr>
              <a:t>Communication problems</a:t>
            </a:r>
            <a:endParaRPr b="0" lang="en-US" sz="24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FS’s Marketing and Sales personnel do not share information with Production personnel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arketing and Sales frequently excludes Production from meetings,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neglects to consult Production when planning sales promotions, 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forgets to notify Production when it takes an exceptionally large order.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2222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2222"/>
                </a:solidFill>
                <a:latin typeface="Arial"/>
              </a:rPr>
              <a:t>Production personnel find it hard to deal with sudden increases in demand</a:t>
            </a:r>
            <a:endParaRPr b="0" lang="en-US" sz="20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22"/>
                </a:solidFill>
                <a:latin typeface="Arial"/>
              </a:rPr>
              <a:t>warehouse inventories are depleted</a:t>
            </a:r>
            <a:endParaRPr b="0" lang="en-US" sz="1600" spc="-1" strike="noStrike">
              <a:solidFill>
                <a:srgbClr val="222222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2222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22"/>
                </a:solidFill>
                <a:latin typeface="Arial"/>
              </a:rPr>
              <a:t>Might cause shortages or stockout</a:t>
            </a:r>
            <a:endParaRPr b="0" lang="en-US" sz="18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7T23:29:22Z</dcterms:created>
  <dc:creator/>
  <dc:description/>
  <dc:language>en-US</dc:language>
  <cp:lastModifiedBy/>
  <dcterms:modified xsi:type="dcterms:W3CDTF">2014-09-02T07:42:06Z</dcterms:modified>
  <cp:revision>635</cp:revision>
  <dc:subject/>
  <dc:title>Chapter 4</dc:title>
</cp:coreProperties>
</file>