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E9EB4-F66E-481A-814F-137E68DC0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3BEAC-FBC0-4F9A-B111-EBEFFF7699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assemblies : a unit assembled separately but designed to be incorporated with other units into a larger manufactured produ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C3AD1-6B68-46FA-8527-EC809284B9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ats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الشوفان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sins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زبيب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8350-CEB9-4181-BB29-71A1221D8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81198-1D50-4FD3-B240-6C35FDB7CD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duction run: A group of similar or related goods that is produced by using a particular group of manufacturing procedures, processes or condi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e long run,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l factors of production are var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lding or carrying costs: storage, insurance, investment, pilferage, etc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up or ordering costs: cost involved in placing an order or setting up the equipment to make the product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02089-0F23-42CC-8519-20738EEC5D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etitive manufacturing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tinuous production of identical products during a manufacturing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E0307-CB08-40DD-A67B-BB194299E8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imize ; dep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52180-E7EB-4B8F-A0BA-749D89BF8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DAC32-F1ED-47D9-BD83-C5DD1D4AB4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3B0B5-E6C8-4A36-B47E-D03FB43C4D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1FC8B-E253-4C9F-A413-3FBDA82161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84DC3-206A-4870-A546-ACB1CE3E20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7C177C-BC99-4CB2-ADA0-C7D70857F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A35915-AAB2-41E1-B27E-F3056B4BB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8A414E-7A37-4C22-9862-FA24BD44E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ADE37D-092F-4B2C-8DCE-D669FEFC9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9367BB-EA37-4C9A-B415-229CD179D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A659D0-5D4D-49A2-BA04-7C854D2AD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A095EA-48FF-4686-8840-7B8FA5D5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9DC98-7A13-499E-B17C-B703AFE618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0CCB7E-E398-40AA-B27D-4F06C76B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077DF5-F47B-4261-A3F1-C745A25D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66467F-0494-4969-BA2F-19A11F1C4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C04422-6093-44B6-BCD0-3EBC9A138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DC5A99-1D0A-4B16-9B00-75494C8F4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448D1F-8118-419D-81BD-2509231A0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B3F6A1-44E6-4CB0-B5E6-8B00A49ED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740B79-572E-4EE0-9A9B-4E45DEDAA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7124F0-7362-47A3-AE28-20221EC4B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4DF665-08B3-491F-98CE-1F8BD1C09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4BA05-1506-4A13-84F9-5A3E390C1AA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BF5031-EDF2-4FEF-9DCD-3D9788763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6B5B54-0494-4A86-884F-11DE3DE6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758503-543F-45F8-8FD4-B4010E85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ED2314-FD29-40AC-AF2D-E68467F5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3F2455-6EBB-42BC-BD3B-42C7E3A1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FC292A-C1FA-4208-A54C-4E4B55D91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3B9E41-4DE9-4CE2-AC76-7A0B57B94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CECD1-03AE-40A6-936B-1259FFE1BE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6E4D8-5EA0-44A4-A7EC-B7974FBC98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8A2BB-1E57-4297-AD31-331BC6B335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CC86A-9136-4656-A0BB-D564E3FEE3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FC7A5-E4F7-4CD6-AD79-3D8CF87CDF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9EC4E-B78F-4711-9CB3-27C9186A4E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520" y="6324120"/>
            <a:ext cx="5867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24120"/>
            <a:ext cx="2057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21163-562C-4912-B8F7-8B69633C14E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Concepts in Enterprise Resource Planning, 4th E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F635F-46C0-4CA3-B590-2949F590AC4B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Concepts in Enterprise Resource Planning, 4th E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2BF83-052C-4B4B-8767-4D463FB477DF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14479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2222"/>
                </a:solidFill>
                <a:latin typeface="Arial"/>
              </a:rPr>
              <a:t>Concepts in Enterprise Resource Planning</a:t>
            </a:r>
            <a:br>
              <a:rPr sz="4400"/>
            </a:br>
            <a:r>
              <a:rPr b="0" i="1" lang="en-US" sz="44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222222"/>
                </a:solidFill>
                <a:latin typeface="Arial"/>
              </a:rPr>
              <a:t>4th Edition</a:t>
            </a:r>
            <a:endParaRPr b="0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09120" y="4419360"/>
            <a:ext cx="80773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222222"/>
                </a:solidFill>
                <a:latin typeface="Arial"/>
              </a:rPr>
              <a:t>Chapter Four</a:t>
            </a:r>
            <a:endParaRPr b="0" lang="en-US" sz="3400" spc="-1" strike="noStrike">
              <a:solidFill>
                <a:srgbClr val="222222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222222"/>
                </a:solidFill>
                <a:latin typeface="Arial"/>
              </a:rPr>
              <a:t>Production and Supply Chain Management Information Systems</a:t>
            </a:r>
            <a:endParaRPr b="0" lang="en-US" sz="3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E165A-7409-4AB7-9881-9AF33E1242DC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2F2FC-3310-4F3B-8EE6-1C112387BA1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Fitter Snacker’s Production Problem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22222"/>
                </a:solidFill>
                <a:latin typeface="Arial"/>
              </a:rPr>
              <a:t>Inventory problems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Production manager lacks systematic method for: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Meeting anticipated sales demand</a:t>
            </a: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Adjusting production to reflect actual sales</a:t>
            </a: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22222"/>
                </a:solidFill>
                <a:latin typeface="Arial"/>
              </a:rPr>
              <a:t>Accounting and purchasing problems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not have a good way to calculate the day-to-day costs of Fitter’s production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22222"/>
                </a:solidFill>
                <a:latin typeface="Arial"/>
              </a:rPr>
              <a:t>Uses standard costs</a:t>
            </a: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normal costs of manufacturing a product</a:t>
            </a: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For each batch of bars it produces, Fitter can estimate direct costs (materials and labor) and indirect costs (factory overhead)</a:t>
            </a: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manufacturing costs = The number of batches produced is multiplied by the standard cost of a batch</a:t>
            </a: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Production and Accounting must periodically compare standard costs with actual costs and then adjust the accounts.</a:t>
            </a: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3190B-2402-4E00-9CFA-B228BBF9E16A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he Production Planning Proces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hree important principles for production planning: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Work from sales forecast and current inventory levels to create an “aggregate” (“combined”) production plan for all products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plans are made for groups of related products</a:t>
            </a: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the time increment used in aggregate planning is frequently a month or a quarter</a:t>
            </a: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Break down aggregate plan into more specific production plans for individual products and smaller time intervals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Use production plan to determine raw material requirements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Example: A consumer products company may group by product type (e.g., shampoo, laundry detergent, and disposable diapers).</a:t>
            </a: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The aggregate production plan for Fitter will combine the only two products, NRG-A and NRG-B bars using a monthly time increment.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2191F-B919-4964-90D6-809D552307F2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he SAP ERP Approach to Production Planning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2286000" y="580536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4-2  The production planning 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Picture 5" descr="Fig04-02"/>
          <p:cNvPicPr/>
          <p:nvPr/>
        </p:nvPicPr>
        <p:blipFill>
          <a:blip r:embed="rId1"/>
          <a:srcRect l="0" t="0" r="0" b="6327"/>
          <a:stretch/>
        </p:blipFill>
        <p:spPr>
          <a:xfrm>
            <a:off x="2705040" y="1600200"/>
            <a:ext cx="361944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he SAP ERP Approach to Production Planning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Sales forecasting is the process of predicting future demand for a company’s products.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Sales and operations planning (SOP) is the process of determining what the company will produce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In the </a:t>
            </a:r>
            <a:r>
              <a:rPr b="0" i="1" lang="en-US" sz="2200" spc="-1" strike="noStrike">
                <a:solidFill>
                  <a:srgbClr val="222222"/>
                </a:solidFill>
                <a:latin typeface="Arial"/>
              </a:rPr>
              <a:t>Demand management step, the production plan is broken down into </a:t>
            </a: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smaller time units, such as weekly or even daily to meet demand for individual products.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The </a:t>
            </a:r>
            <a:r>
              <a:rPr b="0" i="1" lang="en-US" sz="2000" spc="-1" strike="noStrike">
                <a:solidFill>
                  <a:srgbClr val="222222"/>
                </a:solidFill>
                <a:latin typeface="Arial"/>
              </a:rPr>
              <a:t>Materials requirements planning (MRP) process determines the amount </a:t>
            </a: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and timing of raw material orders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22"/>
                </a:solidFill>
                <a:latin typeface="Arial"/>
              </a:rPr>
              <a:t>create raw materials purchase orders in the </a:t>
            </a:r>
            <a:r>
              <a:rPr b="0" i="1" lang="en-US" sz="1600" spc="-1" strike="noStrike">
                <a:solidFill>
                  <a:srgbClr val="222222"/>
                </a:solidFill>
                <a:latin typeface="Arial"/>
              </a:rPr>
              <a:t>Purchasing step</a:t>
            </a:r>
            <a:endParaRPr b="0" lang="en-US" sz="1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the detailed production schedule will determine when the production line will switch between the RG-A and NRG-B bars.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222222"/>
              </a:buClr>
              <a:buFont typeface="Caslon224Std-Boo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Caslon224Std-Book"/>
              </a:rPr>
              <a:t>manage daily operations in t</a:t>
            </a: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he </a:t>
            </a:r>
            <a:r>
              <a:rPr b="0" i="1" lang="en-US" sz="1800" spc="-1" strike="noStrike">
                <a:solidFill>
                  <a:srgbClr val="222222"/>
                </a:solidFill>
                <a:latin typeface="Arial"/>
              </a:rPr>
              <a:t>Production process</a:t>
            </a: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4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46555-ADAF-4196-A264-3A43DD7B778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EE114-8470-4386-A4A3-44CA005F7D03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ales Forecasting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S’s </a:t>
            </a: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has no formal way of developing a sales forecast and sharing it with Production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SAP’s ERP system takes an integrated approach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Whenever a sale is recorded in Sales and Distribution (SD) module, quantity sold is recorded as a consumption value for that material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Simple forecasting technique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Use a prior period’s sales and then adjust those figures for current conditions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To make a forecast for </a:t>
            </a: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FS’s </a:t>
            </a: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: 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Use previous year’s sales data in combination with marketing initiatives to increase sales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51293-6915-4BA6-B797-9FB6AE648A0C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ales Forecasting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838080" y="563868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4-3  Fitter Snacker’s sales forecast for January through Ju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Picture 5" descr="Fig04-03"/>
          <p:cNvPicPr/>
          <p:nvPr/>
        </p:nvPicPr>
        <p:blipFill>
          <a:blip r:embed="rId1"/>
          <a:srcRect l="0" t="0" r="0" b="14352"/>
          <a:stretch/>
        </p:blipFill>
        <p:spPr>
          <a:xfrm>
            <a:off x="990720" y="1447920"/>
            <a:ext cx="6476760" cy="1979640"/>
          </a:xfrm>
          <a:prstGeom prst="rect">
            <a:avLst/>
          </a:prstGeom>
          <a:ln w="0">
            <a:noFill/>
          </a:ln>
        </p:spPr>
      </p:pic>
      <p:sp>
        <p:nvSpPr>
          <p:cNvPr id="195" name="TextBox 8"/>
          <p:cNvSpPr/>
          <p:nvPr/>
        </p:nvSpPr>
        <p:spPr>
          <a:xfrm>
            <a:off x="914400" y="3429000"/>
            <a:ext cx="7543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get accurate base figures for last year’s sales, this promotional increase must be subtracted from the previous year’s sales numb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tter’s Marketing and Sales Department anticipates a 3 percent growth in sales o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st year, based on current trends and on research reported in trade public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ales Forecasting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2222"/>
                </a:solidFill>
                <a:latin typeface="Arial"/>
              </a:rPr>
              <a:t>Exercise 4.2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Following the format of the spreadsheet in Figure 4-3, develop a spreadsheet to forecast Fitter’s sales for July through December. Calculate the base projection using the previous year’s values (shown in Figure 4-4), and factor in the 3 percent estimated growth rate. Assume that the special marketing promotion last year resulted in an increase in sales of 200 cases for July, and that a special marketing promotion this year will result in an increase in sales for July of 400 cases.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8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B2EEE-2D59-4F81-8AAD-B8D9D18F014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1600200" y="4648320"/>
            <a:ext cx="62485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42769-0565-42EB-99F0-BBB03C62DC7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ales and Operations Planning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ales and operations planning (SOP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nput: sales forecast provided by Marketing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Output: production plan designed to balance market demand with production capacit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Production plan is the input to the next step, demand management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5C894-1F10-4A73-BDCE-A3888D76EB4A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ales and Operations Planning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457200" y="565308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4-5  Fitter Snacker’s sales and operations plan for January through Ju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Picture 5" descr="Fig04-05"/>
          <p:cNvPicPr/>
          <p:nvPr/>
        </p:nvPicPr>
        <p:blipFill>
          <a:blip r:embed="rId1"/>
          <a:srcRect l="0" t="0" r="0" b="15211"/>
          <a:stretch/>
        </p:blipFill>
        <p:spPr>
          <a:xfrm>
            <a:off x="457200" y="1752480"/>
            <a:ext cx="8153280" cy="1911600"/>
          </a:xfrm>
          <a:prstGeom prst="rect">
            <a:avLst/>
          </a:prstGeom>
          <a:ln w="0">
            <a:noFill/>
          </a:ln>
        </p:spPr>
      </p:pic>
      <p:sp>
        <p:nvSpPr>
          <p:cNvPr id="210" name="TextBox 7"/>
          <p:cNvSpPr/>
          <p:nvPr/>
        </p:nvSpPr>
        <p:spPr>
          <a:xfrm>
            <a:off x="457200" y="3809880"/>
            <a:ext cx="8229600" cy="16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pacity  calculation ( next slide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 determine the capacity utilization for each month by dividing the production plan amount (line 2) by the available capacity (line 5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 and 8 in Figure 4-5 disaggregate the planned production shown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 line 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based on the breakdown of 70 percent NRG-A and  30 percent NRG-B snack ba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apacity each month is calculated in terms of the number of shipping cases.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200 bars per minute × 60minutes per hour × 8 hours per day = 96,000 bars per day, which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(96,000 bars per day ÷ 24 bars per box ÷ 12 boxes per case) equals 333.3 cases per day .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f you multiply the number of working days in a month by the production capacity of 333.3 shipping cases per day, you get the monthly capacity in shipping cases, which is shown in line 5.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3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CC199-7854-41A8-BC28-E30403FFFB5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Slide Number Placeholder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72A8-3A7A-4781-AA74-3BD7B24065CA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0AF7B-D29A-4FD8-B3E0-5031FDC59288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fter completing this chapter, you will be able to: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escribe the steps in the production planning process of a high-volume manufacturer such as Fitter Snack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escribe Fitter Snacker’s production and materials management problem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escribe how a structured process for Supply Chain Management planning enhances efficiency and decision making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escribe how production planning data in an ERP system can be shared with suppliers to increase supply chain efficienc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B4880-3B5C-4031-BCA1-F84A8821E81C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ales and Operations Planning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 SAP ERP, sales forecast can be made using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Historical sales data from the Sales and Distribution (SD) module, or 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nput from plans developed in Controlling (CO) modu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 the CO modul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fit goals for company can be se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used to estimate the sales levels needed to meet the profit goals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E2B79-0786-43C6-A8C2-3257188B5B3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ales and Operations Planning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1447920" y="5881680"/>
            <a:ext cx="716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4-6  Sales and operations planning screen in SAP ER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" name="Picture 5" descr="Fig04-06"/>
          <p:cNvPicPr/>
          <p:nvPr/>
        </p:nvPicPr>
        <p:blipFill>
          <a:blip r:embed="rId1"/>
          <a:srcRect l="0" t="0" r="0" b="7168"/>
          <a:stretch/>
        </p:blipFill>
        <p:spPr>
          <a:xfrm>
            <a:off x="1828800" y="1752480"/>
            <a:ext cx="5584680" cy="40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327A4-EC46-4351-8800-E2AEDA1CAC9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ales and Operations Planning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Rough-cut planning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: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mmon term in manufacturing means: Disaggregated to generate detailed production schedul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Once SAP ERP system generates a forecast, the planner can view the results graphically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nother feature of the SAP ERP sales and operations planning process is the integration of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222222"/>
                </a:solidFill>
                <a:latin typeface="Arial"/>
              </a:rPr>
              <a:t>Rough-cut capacity planning 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pplies simple capacity-estimating techniques to the production plan to see if the techniques are feasib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A31A1-F60B-41DD-B0AF-D3643603B7C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ales and Operations Planning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990720" y="556272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4-9  Forecasting results presented graphically in SAP ER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2" name="Picture 5" descr="Fig04-09"/>
          <p:cNvPicPr/>
          <p:nvPr/>
        </p:nvPicPr>
        <p:blipFill>
          <a:blip r:embed="rId1"/>
          <a:srcRect l="0" t="0" r="0" b="7922"/>
          <a:stretch/>
        </p:blipFill>
        <p:spPr>
          <a:xfrm>
            <a:off x="609480" y="1828800"/>
            <a:ext cx="655488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78F23-3271-455E-A4A3-EF6BC07B6628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ales and Operations Planning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isaggregating the sales and operations pla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mpanies typically develop sales and operations plans for product group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AP ERP system allows any number of products to be assigned to a product group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ales and operation plan disaggregate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Production plan quantities specified for the group are transferred to the individual products that make up the group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D28B3-D1E3-4D65-AFC0-C42FDBEA305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ales and Operations Planning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2362320" y="56386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4-11  Product group structure in SAP ER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1" name="Picture 5" descr="Fig04-11"/>
          <p:cNvPicPr/>
          <p:nvPr/>
        </p:nvPicPr>
        <p:blipFill>
          <a:blip r:embed="rId1"/>
          <a:srcRect l="0" t="0" r="0" b="6758"/>
          <a:stretch/>
        </p:blipFill>
        <p:spPr>
          <a:xfrm>
            <a:off x="533520" y="1752480"/>
            <a:ext cx="71755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6B439-C300-4921-AA69-7406F0B0CF18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ales and Operations Planning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457200" y="580536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4-12  Stock/Requirements List for NRG-A bars after disaggreg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Picture 5" descr="Fig04-12"/>
          <p:cNvPicPr/>
          <p:nvPr/>
        </p:nvPicPr>
        <p:blipFill>
          <a:blip r:embed="rId1"/>
          <a:srcRect l="0" t="0" r="6207" b="5510"/>
          <a:stretch/>
        </p:blipFill>
        <p:spPr>
          <a:xfrm>
            <a:off x="2514600" y="1646280"/>
            <a:ext cx="414972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3E57-40A5-4590-8F64-24A6B5EB2BE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Demand Managemen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Links the sales and operations planning process with detailed scheduling and materials requirements planning processes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Output: </a:t>
            </a:r>
            <a:r>
              <a:rPr b="1" lang="en-US" sz="2000" spc="-1" strike="noStrike">
                <a:solidFill>
                  <a:srgbClr val="222222"/>
                </a:solidFill>
                <a:latin typeface="Arial"/>
              </a:rPr>
              <a:t>master production schedule (MPS)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Production plan for all finished goods</a:t>
            </a: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For Fitter Snacker, </a:t>
            </a: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MPS is</a:t>
            </a: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222222"/>
                </a:solidFill>
                <a:latin typeface="Arial"/>
              </a:rPr>
              <a:t>an input to detailed scheduling, which determines what bars to make and when to make them</a:t>
            </a:r>
            <a:endParaRPr b="0" lang="en-US" sz="1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22"/>
                </a:solidFill>
                <a:latin typeface="Arial"/>
              </a:rPr>
              <a:t>Also an input to the materials requirements planning process, which determines what raw materials to order to support the production schedule</a:t>
            </a:r>
            <a:endParaRPr b="0" lang="en-US" sz="1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251" name="Picture 5" descr="Fig04-02"/>
          <p:cNvPicPr/>
          <p:nvPr/>
        </p:nvPicPr>
        <p:blipFill>
          <a:blip r:embed="rId1"/>
          <a:srcRect l="0" t="0" r="0" b="6327"/>
          <a:stretch/>
        </p:blipFill>
        <p:spPr>
          <a:xfrm>
            <a:off x="7086600" y="4800600"/>
            <a:ext cx="2057400" cy="1828800"/>
          </a:xfrm>
          <a:prstGeom prst="rect">
            <a:avLst/>
          </a:prstGeom>
          <a:ln w="0">
            <a:noFill/>
          </a:ln>
        </p:spPr>
      </p:pic>
      <p:sp>
        <p:nvSpPr>
          <p:cNvPr id="252" name="TextBox 6"/>
          <p:cNvSpPr/>
          <p:nvPr/>
        </p:nvSpPr>
        <p:spPr>
          <a:xfrm>
            <a:off x="1219320" y="4876920"/>
            <a:ext cx="563868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mand management process splits Fitter’s monthly production planning  values into finer time perio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01DCB-54CD-4DB9-8715-63FD19433EA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Demand Management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457200" y="55627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4-14  Fitter Snacker’s production plan for January: The first five weeks of production are followed by a day-by-day disaggregation of week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7" name="Picture 7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6197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or the weekly plan, the </a:t>
            </a: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master production schedule MPS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 plan for NRG-A bars in week 1 was calculated as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(4,134 cases in January [the monthly demand from Figure 4-5] ÷ 21 working days in month of January) × 5 working days in Week 1 = 984.3 cases per week.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1C870-FEDC-436C-A5D5-D89DD8B60FF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DC023-9046-4200-8D7A-E9A852021B2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xplore some Supply Chain Management functions (SCM) in an ERP system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xplore Fitter’s SCM problems and how ERP can help fix them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problems scheduling production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its warehouse is not adequately stocked, and customer orders cannot be filled in a timely fashion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n February, the MPS for NRG-A bars in Week 5 was calculated as (</a:t>
            </a: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Because Week 5 consists of the last day in January and the first four days</a:t>
            </a: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) :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(4,134 cases in January [monthly demand] ÷ 21 working days in month of January) × 1 working day in Week 5 = 196.9 cases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(4,198 cases in February [monthly demand] ÷ 20 working days in month of February) × 4 working days in Week 5 = 839.6 cases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Week 5 Total = 196.9 + 839.6 = 1,036.5 cases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4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81B6B-F2D1-402E-B18A-9417CA7F27F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D4279-3AD6-455A-97E3-36E9C53E52C8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terials Requirements Planning (MRP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etermines required quantity and timing of the production or purchase of subassemblies and raw materials needed to support master production schedule MP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Bill of material (BOM)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list of the materials (including quantities) needed to make a produc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861BC-C34B-4237-A9EB-9C4D9B3A796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terials Requirements Planning (MRP)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1143000" y="556272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4-16  The bill of material (BOM) for Fitter Snacker’s NRG ba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4" name="Picture 5" descr="Fig04-16"/>
          <p:cNvPicPr/>
          <p:nvPr/>
        </p:nvPicPr>
        <p:blipFill>
          <a:blip r:embed="rId1"/>
          <a:srcRect l="0" t="0" r="39763" b="7526"/>
          <a:stretch/>
        </p:blipFill>
        <p:spPr>
          <a:xfrm>
            <a:off x="2824200" y="1738440"/>
            <a:ext cx="33480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7E2E7-AC69-4A1F-B639-0AE691AC931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terials Requirements Planning (MRP)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Lead times and lot siz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Lead time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umulative time required for the supplier to receive and process the order, take the material out of stock, package it, load it on a truck, and deliver it to the manufactur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Lot sizing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etermining production quantities ( for raw materials produced in-house) and order quantities (for purchased items).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5"/>
          <p:cNvSpPr/>
          <p:nvPr/>
        </p:nvSpPr>
        <p:spPr>
          <a:xfrm>
            <a:off x="609480" y="6477120"/>
            <a:ext cx="5867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EA39A-1B97-42B0-8F60-51A206901C0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terials Requirements Planning (MRP)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685800" y="3733920"/>
            <a:ext cx="77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gure 4-17  The MRP record for oats in NRG bars, weeks 1 through 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3" name="Picture 7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8001000" cy="2210040"/>
          </a:xfrm>
          <a:prstGeom prst="rect">
            <a:avLst/>
          </a:prstGeom>
          <a:ln w="0">
            <a:noFill/>
          </a:ln>
        </p:spPr>
      </p:pic>
      <p:sp>
        <p:nvSpPr>
          <p:cNvPr id="284" name="TextBox 7"/>
          <p:cNvSpPr/>
          <p:nvPr/>
        </p:nvSpPr>
        <p:spPr>
          <a:xfrm>
            <a:off x="838080" y="3995640"/>
            <a:ext cx="75438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22"/>
                </a:solidFill>
                <a:latin typeface="Times New Roman"/>
              </a:rPr>
              <a:t>Each mixer mixes dough in 500-pound batches ( </a:t>
            </a:r>
            <a:r>
              <a:rPr b="0" lang="en-US" sz="16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se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ure 4-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22"/>
                </a:solidFill>
                <a:latin typeface="Times New Roman"/>
              </a:rPr>
              <a:t>Each shipping case weighs 72 pounds (not including packaging), so to convert shipping cases to 500-pound batches, multiply the number of shipping cases b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22"/>
                </a:solidFill>
                <a:latin typeface="Times New Roman"/>
              </a:rPr>
              <a:t>72 pounds per case, and then divide by 500 pounds per batch (see line3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22"/>
                </a:solidFill>
                <a:latin typeface="Times New Roman"/>
              </a:rPr>
              <a:t>Fitter uses 300 pounds of oats per batch of NRG-A bar and 250 pounds of oats per batch of NRG-B bar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22"/>
                </a:solidFill>
                <a:latin typeface="Times New Roman"/>
              </a:rPr>
              <a:t>NRG-A: 142 batches × 300 lb. per batch = 42,600 lb. oa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22"/>
                </a:solidFill>
                <a:latin typeface="Times New Roman"/>
              </a:rPr>
              <a:t>• </a:t>
            </a:r>
            <a:r>
              <a:rPr b="0" lang="en-US" sz="1600" spc="-1" strike="noStrike">
                <a:solidFill>
                  <a:srgbClr val="222222"/>
                </a:solidFill>
                <a:latin typeface="Times New Roman"/>
              </a:rPr>
              <a:t>NRG-B: 61 batches × 250 lb. per batch = 15,250 lb. oa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22"/>
                </a:solidFill>
                <a:latin typeface="Times New Roman"/>
              </a:rPr>
              <a:t>• </a:t>
            </a:r>
            <a:r>
              <a:rPr b="0" lang="en-US" sz="1600" spc="-1" strike="noStrike">
                <a:solidFill>
                  <a:srgbClr val="222222"/>
                </a:solidFill>
                <a:latin typeface="Times New Roman"/>
              </a:rPr>
              <a:t>Total = 57,850 lb. oa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36576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2222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Scheduled receipts, shows the expected timing of orders of materials that have already been placed.</a:t>
            </a:r>
            <a:r>
              <a:rPr b="0" lang="en-US" sz="1600" spc="-1" strike="noStrike">
                <a:solidFill>
                  <a:srgbClr val="222222"/>
                </a:solidFill>
                <a:latin typeface="Arial"/>
              </a:rPr>
              <a:t> (</a:t>
            </a:r>
            <a:r>
              <a:rPr b="0" lang="en-US" sz="16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Plan orders in multiples of the 44,000-pound lot size</a:t>
            </a:r>
            <a:r>
              <a:rPr b="0" lang="en-US" sz="1600" spc="-1" strike="noStrike">
                <a:solidFill>
                  <a:srgbClr val="222222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222222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00"/>
              </a:spcBef>
              <a:buClr>
                <a:srgbClr val="22222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There is a two-week lead time for oats</a:t>
            </a:r>
            <a:endParaRPr b="0" lang="en-US" sz="1600" spc="-1" strike="noStrike">
              <a:solidFill>
                <a:srgbClr val="222222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2222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Planned receipts, shows when planned orders will arrive</a:t>
            </a:r>
            <a:endParaRPr b="0" lang="en-US" sz="1600" spc="-1" strike="noStrike">
              <a:solidFill>
                <a:srgbClr val="222222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2222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Planned orders ,shows the </a:t>
            </a:r>
            <a:r>
              <a:rPr b="1" lang="en-US" sz="16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quantity</a:t>
            </a:r>
            <a:r>
              <a:rPr b="0" lang="en-US" sz="16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 that the MRP calculation </a:t>
            </a:r>
            <a:r>
              <a:rPr b="1" lang="en-US" sz="16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recommends ordering</a:t>
            </a:r>
            <a:r>
              <a:rPr b="0" lang="en-US" sz="16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, and it is the </a:t>
            </a:r>
            <a:r>
              <a:rPr b="1" lang="en-US" sz="16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output</a:t>
            </a:r>
            <a:r>
              <a:rPr b="0" lang="en-US" sz="16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 from the MRP process </a:t>
            </a:r>
            <a:r>
              <a:rPr b="1" lang="en-US" sz="16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that purchasing uses</a:t>
            </a:r>
            <a:r>
              <a:rPr b="0" lang="en-US" sz="16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 to determine </a:t>
            </a:r>
            <a:r>
              <a:rPr b="1" lang="en-US" sz="16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what to order </a:t>
            </a:r>
            <a:r>
              <a:rPr b="0" lang="en-US" sz="16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to produce the product, </a:t>
            </a:r>
            <a:r>
              <a:rPr b="1" lang="en-US" sz="16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and when </a:t>
            </a:r>
            <a:r>
              <a:rPr b="0" lang="en-US" sz="16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to order it.</a:t>
            </a:r>
            <a:endParaRPr b="0" lang="en-US" sz="1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87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D5228-8E98-4991-A929-1F921DF59C93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9" name="Picture 7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80010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2222"/>
                </a:solidFill>
                <a:latin typeface="Arial"/>
              </a:rPr>
              <a:t>Exercise 4.5</a:t>
            </a:r>
            <a:br>
              <a:rPr sz="3600"/>
            </a:b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evelop an MRP record, similar to the one in Figure 4-17, for wheat germ for the five weeks of January. Wheat germ must be ordered in bulk-container quantities, so the planned orders must be in multiples of 2,000 pounds. Use a lead time of one week and an initial on-hand inventory of 3,184 pounds; assume that an order of 8,000 pounds is scheduled for receipt during Week 1.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78D0C-9AB8-4BF9-8872-32293B62A368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16756-3401-4CC9-8815-BB52F429854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terials Requirements Planning in SAP ERP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MRP list shows results of MRP calculations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MRP process creates planned orders to meet dependent requirements (</a:t>
            </a: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Dependent requirements represent the demand for oats created by the planned orders for snack bars—the demand for oats </a:t>
            </a:r>
            <a:r>
              <a:rPr b="0" i="1" lang="en-US" sz="1800" spc="-1" strike="noStrike">
                <a:solidFill>
                  <a:srgbClr val="222222"/>
                </a:solidFill>
                <a:latin typeface="Arial"/>
              </a:rPr>
              <a:t>depends on the production plans for snack bars</a:t>
            </a:r>
            <a:r>
              <a:rPr b="0" i="1" lang="en-US" sz="2000" spc="-1" strike="noStrike">
                <a:solidFill>
                  <a:srgbClr val="222222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Stock/Requirements List shows: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Planned orders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Purchase requisitions (PurRqs)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Purchase orders (POitem)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Planner can convert a planned order to a purchase order from Stock/Requirements List by double-clicking the planned order line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526B4-30F2-4C75-B0E4-88B62BAFC2A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terials Requirements Planning in SAP ERP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2514600" y="58816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4-18  The MRP list in SAP ER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2" name="Picture 5" descr="Fig04-18"/>
          <p:cNvPicPr/>
          <p:nvPr/>
        </p:nvPicPr>
        <p:blipFill>
          <a:blip r:embed="rId1"/>
          <a:srcRect l="0" t="0" r="0" b="4178"/>
          <a:stretch/>
        </p:blipFill>
        <p:spPr>
          <a:xfrm>
            <a:off x="1143000" y="1600200"/>
            <a:ext cx="6553080" cy="41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4B7FE-E6E8-41EF-B198-B7AC2D017FB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terials Requirements Planning in SAP ERP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1828800" y="588168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4-19  The Stock/Requirements List in SAP ER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7" name="Picture 5" descr="Fig04-19"/>
          <p:cNvPicPr/>
          <p:nvPr/>
        </p:nvPicPr>
        <p:blipFill>
          <a:blip r:embed="rId1"/>
          <a:srcRect l="0" t="0" r="0" b="4337"/>
          <a:stretch/>
        </p:blipFill>
        <p:spPr>
          <a:xfrm>
            <a:off x="2514600" y="1622520"/>
            <a:ext cx="415908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D5ADF-EB56-4807-8213-B1F4506D1338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roduction Overview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o meet customer demand efficiently, Fitter Snacker must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evelop a forecast of customer deman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evelop a production schedule to meet the estimated deman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RP system is a good tool for developing and executing production plan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Goal of production planning is to schedule production economicall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86108-33B3-4696-969E-DDF5ABE2609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terials Requirements Planning in SAP ERP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tegrated information system allows Purchasing to make the best decision on a vendor based on relevant, up-to-date informa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Once Purchasing employee decides which vendor to use, the purchase order is transmitted to vendo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ystem can be configured to fax order to vendor, transmit it electronically through EDI (electronic data interchange), or send it over the Interne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D0F6A-E291-4378-989D-5554A1A8186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Detailed Scheduling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etailed plan of what is to be produced, considering machine capacity and available labo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One key decision in detailed production scheduling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How long to make the </a:t>
            </a:r>
            <a:r>
              <a:rPr b="1" lang="en-US" sz="2000" spc="-1" strike="noStrike">
                <a:solidFill>
                  <a:srgbClr val="222222"/>
                </a:solidFill>
                <a:latin typeface="Arial"/>
              </a:rPr>
              <a:t>production runs(</a:t>
            </a: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A group of similar or related goods that is produced by using a particular group of manufacturing procedures, processes or conditions </a:t>
            </a:r>
            <a:r>
              <a:rPr b="1" lang="en-US" sz="2000" spc="-1" strike="noStrike">
                <a:solidFill>
                  <a:srgbClr val="222222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for each product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Production run length requires a balance between </a:t>
            </a:r>
            <a:r>
              <a:rPr b="1" lang="en-US" sz="2000" spc="-1" strike="noStrike">
                <a:solidFill>
                  <a:srgbClr val="222222"/>
                </a:solidFill>
                <a:latin typeface="Arial"/>
              </a:rPr>
              <a:t>setup costs </a:t>
            </a: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(cost involved in placing an order or setting up the equipment to make the product , etc) and </a:t>
            </a:r>
            <a:r>
              <a:rPr b="1" lang="en-US" sz="2000" spc="-1" strike="noStrike">
                <a:solidFill>
                  <a:srgbClr val="222222"/>
                </a:solidFill>
                <a:latin typeface="Arial"/>
              </a:rPr>
              <a:t>holding costs </a:t>
            </a: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(storage, insurance, investment) to minimize total costs to the company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07176-F354-4009-8AB3-0D6C7DD9BB4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Detailed Scheduling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tter Snacker uses repetitive manufactur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Repetitive manufacturing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nvironment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usually involve production lines that are switched from one product to another similar product (The continuous production of identical products during a manufacturing cycle)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duction lines are scheduled for a period of time, rather than for a specific number of item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3450B-441E-4F3F-9E89-FBA37CFB3E2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Detailed Scheduling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1219320" y="5958000"/>
            <a:ext cx="73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4-22  Repetitive manufacturing planning table in SAP ER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4" name="Picture 5" descr="Fig04-22"/>
          <p:cNvPicPr/>
          <p:nvPr/>
        </p:nvPicPr>
        <p:blipFill>
          <a:blip r:embed="rId1"/>
          <a:srcRect l="0" t="0" r="0" b="4706"/>
          <a:stretch/>
        </p:blipFill>
        <p:spPr>
          <a:xfrm>
            <a:off x="1447920" y="1371600"/>
            <a:ext cx="620712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6C771-5782-46B2-A320-66D263BE2B0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Detailed Scheduling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roduction runs should be decided by evaluating the cost of equipment setup and holding inventor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tegrated information system simplifies this analysi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utomatically collects accounting information that allows managers to better evaluate schedule trade-offs in terms of costs to compan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E301A-AA46-4CC0-A49C-7EA34FF86ED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roviding Production Data to Accounting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 the manufacturing plant, ERP packages do not directly connect with production machin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Data can be entered into SAP ERP through a PC on the shop floor, scanned using barcode or RFID technology (Radio frequency identification ), or entered using a mobile device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 an integrated ERP system, the accounting impact of a material transaction can be recorded automaticall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CACE1-1DCD-4EE5-A4A0-44CA275A258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roviding Production Data to Accounting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Once F’S accepts shipment, Receiving must notify SAP ERP system of the arrival and acceptance of the materia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Goods receipt transac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Receiving department must match goods receipt with purchase order that initiated it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When receipt is successfully recorded, SAP ERP system immediately records the increase in inventory levels for the material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C3B97-E58D-4866-A0BD-4237D0DB137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roviding Production Data to Accounting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1676520" y="5881680"/>
            <a:ext cx="69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4-23  Goods receipt screen in SAP ER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1" name="Picture 5" descr="Fig04-23"/>
          <p:cNvPicPr/>
          <p:nvPr/>
        </p:nvPicPr>
        <p:blipFill>
          <a:blip r:embed="rId1">
            <a:lum bright="-6000"/>
          </a:blip>
          <a:srcRect l="0" t="0" r="0" b="6684"/>
          <a:stretch/>
        </p:blipFill>
        <p:spPr>
          <a:xfrm>
            <a:off x="1752480" y="1652760"/>
            <a:ext cx="573084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6E65A-A22D-4ECE-B7E5-E860CF2ED0EC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ERP and Supplier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tter Snacker is part of a supply chai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tarts with farmers growing oats and whea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nds with a customer buying an NRG bar from a retail stor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RP systems can play a key role in collaborative plann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6ABCA-ADCE-40BC-9255-227F2CDD15E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ERP and Supplier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Working with suppliers in a collaborative fashion requires trust among all parties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Company opens its records to its suppliers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Suppliers can read company’s data because of common data formats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Advantages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Reductions in paperwork</a:t>
            </a: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Savings in time</a:t>
            </a: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Other efficiency improvements translate into cost savings for the company and the suppliers</a:t>
            </a: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22"/>
                </a:solidFill>
                <a:latin typeface="Arial"/>
              </a:rPr>
              <a:t>Allows all parties to eliminate from the supply chain costs that do not add value to the product (such as inventory, overtime, changeovers, and spoilage), while simultaneously improving customer service.</a:t>
            </a:r>
            <a:endParaRPr b="0" lang="en-US" sz="1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1215-E989-481D-9075-3BA3444AF7F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roduction Overview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hree general approaches to produc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222222"/>
                </a:solidFill>
                <a:latin typeface="Arial"/>
              </a:rPr>
              <a:t>Make-to-stock </a:t>
            </a: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items: 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products are manufactured based on demand forecasts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22222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made for inventory (the “stock”) in anticipation of sales orders</a:t>
            </a: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22222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accuracy of the forecasts will prevent excess inventory</a:t>
            </a: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22222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22"/>
                </a:solidFill>
                <a:latin typeface="Arial"/>
              </a:rPr>
              <a:t>for example, cameras, canned corn and books</a:t>
            </a:r>
            <a:endParaRPr b="0" lang="en-US" sz="1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222222"/>
                </a:solidFill>
                <a:latin typeface="Arial"/>
              </a:rPr>
              <a:t>Make-to-order </a:t>
            </a: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products are not built until a confirmed order for products is received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22222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Items are produced to fill specific customer orders</a:t>
            </a: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22222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usually take this approach when producing items that are too expensive , or items are  configured to customer specifications. </a:t>
            </a: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22222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for example, airplanes and large industrial equipment</a:t>
            </a: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4C3DE-AF35-4B5B-995E-EAD3DCEC4A73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he Traditional Supply Chain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222222"/>
                </a:solidFill>
                <a:latin typeface="Arial"/>
              </a:rPr>
              <a:t>Supply chain</a:t>
            </a:r>
            <a:r>
              <a:rPr b="0" lang="en-US" sz="2300" spc="-1" strike="noStrike">
                <a:solidFill>
                  <a:srgbClr val="222222"/>
                </a:solidFill>
                <a:latin typeface="Arial"/>
              </a:rPr>
              <a:t>:</a:t>
            </a:r>
            <a:r>
              <a:rPr b="1" lang="en-US" sz="23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222222"/>
                </a:solidFill>
                <a:latin typeface="Arial"/>
              </a:rPr>
              <a:t>all activities that occur between the growing or mining of raw materials and the appearance of finished products on the store shelf</a:t>
            </a:r>
            <a:endParaRPr b="0" lang="en-US" sz="23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for Fitter’s NRG bars starts with farmers growing oats and wheat, and it ends with a customer buying a bar from a retail store. </a:t>
            </a: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22222"/>
                </a:solidFill>
                <a:latin typeface="Arial"/>
              </a:rPr>
              <a:t>Traditional supply chain</a:t>
            </a:r>
            <a:endParaRPr b="0" lang="en-US" sz="23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nformation is passed through the supply chain reactively, as participants increase their product ord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nherent time lags cause problem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48276-9F5C-4767-9DB8-A659F306005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he Traditional Supply Chain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57" name="Text Box 4"/>
          <p:cNvSpPr/>
          <p:nvPr/>
        </p:nvSpPr>
        <p:spPr>
          <a:xfrm>
            <a:off x="685800" y="533412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4-24  Supply chain management (SCM) from raw materials to consum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8" name="Picture 5" descr="Fig04-24"/>
          <p:cNvPicPr/>
          <p:nvPr/>
        </p:nvPicPr>
        <p:blipFill>
          <a:blip r:embed="rId1"/>
          <a:srcRect l="0" t="0" r="0" b="11487"/>
          <a:stretch/>
        </p:blipFill>
        <p:spPr>
          <a:xfrm>
            <a:off x="685800" y="2362320"/>
            <a:ext cx="781524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27F16-8AF6-4EEA-9ECE-885F6331CBDC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he Traditional Supply Chain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DI and ERP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Before ERP systems were available, companies could be linked with customers and suppliers through electronic data interchange (EDI) system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Well-developed ERP system can facilitate SCM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Needed production planning and purchasing systems already in place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With ERP system, sharing production plans along the supply chain can occur in real tim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2A2ED-194B-40EA-A51A-16B9C7F806B8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he Measures of Succes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Performance measurements (</a:t>
            </a:r>
            <a:r>
              <a:rPr b="1" lang="en-US" sz="2200" spc="-1" strike="noStrike">
                <a:solidFill>
                  <a:srgbClr val="222222"/>
                </a:solidFill>
                <a:latin typeface="Arial"/>
              </a:rPr>
              <a:t>Metrics)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Show the effects of better supply chain management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2222"/>
                </a:solidFill>
                <a:latin typeface="Arial"/>
              </a:rPr>
              <a:t>Cash-to-cash cycle time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Time between paying for raw materials and collecting cash from customer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22222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In one study, the cash-to-cash cycle time for companies with efficient supply chain management processes was a month, whereas the cycle averaged 100 days for those companies without effective supply chain management.</a:t>
            </a: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2222"/>
                </a:solidFill>
                <a:latin typeface="Arial"/>
              </a:rPr>
              <a:t>Total supply chain management costs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Include cost of buying and handling inventory, processing orders, and information systems support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22222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22"/>
                </a:solidFill>
                <a:latin typeface="Arial"/>
              </a:rPr>
              <a:t>In one study, companies with efficient SCM processes incurred costs equal to 5 percent of sales. By contrast, companies without SCM incurred costs of up to 12 percent of sales</a:t>
            </a:r>
            <a:endParaRPr b="0" lang="en-US" sz="1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00179-133C-4FC7-8023-B0A5650DAB33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he Measures of Succes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Other metrics have been developed to measure what is happening between a company and its suppli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Initial fill rat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ercentage of the order that the supplier provided in the first shipmen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Initial order lead tim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ime needed for the supplier to fill the ord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On-time performanc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f supplier agreed to requested delivery dates, tracks how often supplier actually met those dat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4B63A-60A1-4C7D-A3C3-9904E6846BE8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RP system can improve the efficiency of production and purchasing process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fficiency begins with Marketing sharing a sales forecas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duction plan is created based on sales forecast and shared with Purchasing so raw materials can be ordered properl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F133C-566A-417B-B009-2080E2AD554C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mmary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mpanies can do production planning without an ERP system, but an ERP system increases company’s efficienc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RP system that contains materials requirements planning allows Production to be linked to Purchasing and Accounting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his data sharing increases a company’s overall efficienc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1ED94-BA41-40B3-81FC-656A8E54A5C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mmary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mpanies are building on their ERP systems and integrated systems philosophy to practice supply chain management (SCM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CM: company looks at itself as part of a larger process that includes customers and suppli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Using information more efficiently along the entire chain can result in significant cost saving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mplexity of the global supply chai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Developing a planning system that effectively coordinates information technology and people is a considerable challenge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roduction Overview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222222"/>
                </a:solidFill>
                <a:latin typeface="Arial"/>
              </a:rPr>
              <a:t>Assemble-to-orde</a:t>
            </a:r>
            <a:r>
              <a:rPr b="0" i="1" lang="en-US" sz="2400" spc="-1" strike="noStrike">
                <a:solidFill>
                  <a:srgbClr val="222222"/>
                </a:solidFill>
                <a:latin typeface="Arial"/>
              </a:rPr>
              <a:t>r: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743040" indent="-34308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items produced using a combination of make-to-stock and make-to-order processes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3" marL="1200240" indent="-343080">
              <a:spcBef>
                <a:spcPts val="451"/>
              </a:spcBef>
              <a:buClr>
                <a:srgbClr val="22222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the final product is assembled for a specific order from a selection of make-to-stock components</a:t>
            </a: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  <a:p>
            <a:pPr lvl="3" marL="1200240" indent="-343080">
              <a:spcBef>
                <a:spcPts val="451"/>
              </a:spcBef>
              <a:buClr>
                <a:srgbClr val="22222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Example, Personal computers</a:t>
            </a: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3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FDAD8-445D-48AA-ABCA-F4A08885223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Slide Number Placeholder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C3329-CF78-4C27-AA19-D4AB59DC3B1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Fitter Snacker’s Manufacturing Proces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tter Snacker uses make-to-stock produc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1371600" y="572940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4-1  Fitter Snacker’s manufacturing 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Picture 5" descr="Fig04-01"/>
          <p:cNvPicPr/>
          <p:nvPr/>
        </p:nvPicPr>
        <p:blipFill>
          <a:blip r:embed="rId1">
            <a:lum bright="-12000"/>
          </a:blip>
          <a:srcRect l="3724" t="0" r="0" b="14677"/>
          <a:stretch/>
        </p:blipFill>
        <p:spPr>
          <a:xfrm>
            <a:off x="1371600" y="2462040"/>
            <a:ext cx="647712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B4BA1-AEB3-445B-BFDA-6630F6AB3FC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Fitter Snacker’s Manufacturing Proces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nack bar line can produce 200 bars a minute, or 3,000 pounds of bars per hou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ach bar weighs four ounc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ntire production line operates on one shift a da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tter Snacker’s production sequenc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ee Figure 4-1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Switching the production line from one type of snack bar to the other takes 30 minutes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22222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producing two products in one day results in a half-hour loss of </a:t>
            </a:r>
            <a:r>
              <a:rPr b="1" lang="en-US" sz="1800" spc="-1" strike="noStrike">
                <a:solidFill>
                  <a:srgbClr val="222222"/>
                </a:solidFill>
                <a:latin typeface="Arial"/>
              </a:rPr>
              <a:t>capacity</a:t>
            </a: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 during the changeover</a:t>
            </a: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Capacity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number of bars that can be produce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4ED88-BBAE-4A5D-9A0E-30F8F4A438FF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Fitter Snacker’s Production Problem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0769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itter Snacker has problems deciding </a:t>
            </a:r>
            <a:r>
              <a:rPr b="0" i="1" lang="en-US" sz="2400" spc="-1" strike="noStrike">
                <a:solidFill>
                  <a:srgbClr val="222222"/>
                </a:solidFill>
                <a:latin typeface="Arial"/>
              </a:rPr>
              <a:t>how many 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bars to make and </a:t>
            </a:r>
            <a:r>
              <a:rPr b="0" i="1" lang="en-US" sz="2400" spc="-1" strike="noStrike">
                <a:solidFill>
                  <a:srgbClr val="222222"/>
                </a:solidFill>
                <a:latin typeface="Arial"/>
              </a:rPr>
              <a:t>when 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o make them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mmunication problem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FS’s Marketing and Sales personnel do not share information with Production personnel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Marketing and Sales frequently excludes Production from meetings,</a:t>
            </a: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neglects to consult Production when planning sales promotions, </a:t>
            </a: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forgets to notify Production when it takes an exceptionally large order.</a:t>
            </a: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Production personnel find it hard to deal with sudden increases in demand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22"/>
                </a:solidFill>
                <a:latin typeface="Arial"/>
              </a:rPr>
              <a:t>warehouse inventories are depleted</a:t>
            </a:r>
            <a:endParaRPr b="0" lang="en-US" sz="1600" spc="-1" strike="noStrike">
              <a:solidFill>
                <a:srgbClr val="222222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Might cause shortages or stockout</a:t>
            </a: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7T23:29:22Z</dcterms:created>
  <dc:creator/>
  <dc:description/>
  <dc:language>en-US</dc:language>
  <cp:lastModifiedBy/>
  <dcterms:modified xsi:type="dcterms:W3CDTF">2014-09-02T07:42:06Z</dcterms:modified>
  <cp:revision>635</cp:revision>
  <dc:subject/>
  <dc:title>Chapter 4</dc:title>
</cp:coreProperties>
</file>