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7.jpeg" ContentType="image/jpeg"/>
  <Override PartName="/ppt/media/image4.jpeg" ContentType="image/jpeg"/>
  <Override PartName="/ppt/media/image25.png" ContentType="image/png"/>
  <Override PartName="/ppt/media/whoosh.wav" ContentType="audio/x-wav"/>
  <Override PartName="/ppt/media/image5.png" ContentType="image/png"/>
  <Override PartName="/ppt/media/image10.png" ContentType="image/png"/>
  <Override PartName="/ppt/media/image8.png" ContentType="image/png"/>
  <Override PartName="/ppt/media/carbrake.wav" ContentType="audio/x-wav"/>
  <Override PartName="/ppt/media/image11.png" ContentType="image/png"/>
  <Override PartName="/ppt/media/image9.png" ContentType="image/png"/>
  <Override PartName="/ppt/media/image26.jpeg" ContentType="image/jpeg"/>
  <Override PartName="/ppt/media/image27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media/type.wav" ContentType="audio/x-wav"/>
  <Override PartName="/ppt/media/image19.png" ContentType="image/png"/>
  <Override PartName="/ppt/media/image21.png" ContentType="image/png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CD9C-B59F-4C33-9F59-2E83ACD3BB6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22480" y="65412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2960" y="4344480"/>
            <a:ext cx="5030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17520" y="4646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7520" y="48736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7520" y="5099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7520" y="53262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7520" y="5551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17520" y="5778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17520" y="6005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7520" y="6230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17520" y="6458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17520" y="6683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17520" y="6910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17520" y="7137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7520" y="73627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7520" y="7589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17520" y="78152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17520" y="8042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17520" y="82677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22480" y="65412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2960" y="4344480"/>
            <a:ext cx="5030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7520" y="4646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17520" y="48736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17520" y="5099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7520" y="53262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17520" y="5551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7520" y="5778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17520" y="6005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7520" y="6230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7520" y="6458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7520" y="6683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17520" y="6910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17520" y="7137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17520" y="73627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17520" y="7589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17520" y="78152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7520" y="8042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7520" y="82677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output is a function of the interplay of multiple physiologic paramet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volume is influenced in a predictable or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eload first influences contract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combined effect of preload and contractility then influences the    afterload respon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Only after the stroke volume is established does the heart rate respond to adjust the final cardiac outpu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oad can be simply stated as the volume stretching the ventricular muscle prior to ejection.  Afterload is the resistance to flow from the circulatory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ility has historically been the most difficult parameter to measure in the clinical setting. It clearly is the most important parameter that is affected by cardiac pathology and cardioactive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ility has historically been the most difficult parameter to measure in the clinical setting. It clearly is the most important parameter that is affected by cardiac pathology and cardioactive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22480" y="65412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2960" y="4344480"/>
            <a:ext cx="5030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7520" y="4646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7520" y="48736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17520" y="5099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17520" y="53262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17520" y="5551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7520" y="5778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7520" y="6005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17520" y="6230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17520" y="6458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17520" y="6683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17520" y="6910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17520" y="7137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17520" y="73627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17520" y="7589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17520" y="78152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17520" y="8042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17520" y="82677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7D0-8F3A-41C8-93CA-5A69E7BD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609-B360-41CA-B3BC-3E1613F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B8B-983F-4C16-9FE0-A21FD2B4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FB8-487C-4454-B287-9F2160E8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A6C6-D79D-46CA-9088-51DCAB0F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E475-1A35-41C6-8895-B44768B5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507B-9471-490A-9700-08FB935B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DFD8-63A2-4156-8A55-9339ABF3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371F-D3A9-404B-A5E2-F8EC738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CB40-37C8-4AA6-94AF-9359ADB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AE6-B4E2-4137-8C88-712A8919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0D1-0FE4-4611-8D13-FE5962B2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25AC-95A5-46B3-ADBE-0EB6351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0B48-7A9F-481B-9A43-BEC6723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E57A-FC54-4363-8168-163B2B5B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E5DF-4CD8-41F5-808D-AE966543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8E95-32C7-4741-A71B-752546A0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075-D760-4AAB-949A-33F72F21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CC0-AA18-4D8C-806F-7FB09945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299-DD25-4DC0-90A4-34BF5D8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250-0B2F-4984-BFEF-6EFECE24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B22-54C5-45C0-A4C9-3B28A427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EC2-159D-4B0F-BE6C-1604D689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60E-09C5-4B19-9306-A89873A8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D61B-7E44-4D10-81B7-8B18EEBD0B21}" type="slidenum">
              <a:rPr b="0" lang="ar-SA" sz="14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B685-F7BA-4086-8350-DC46F5FEB811}" type="slidenum">
              <a:rPr b="0" lang="ar-SA" sz="14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ucy@sdu.edu.cn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68360" y="260280"/>
            <a:ext cx="80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LIU Chuan Yong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刘传勇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Institute of Physiology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Medical School of SDU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Tel 88381175 (lab)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88382098 (office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Email: 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Times New Roman"/>
                <a:hlinkClick r:id="rId1"/>
              </a:rPr>
              <a:t>liucy@sdu.edu.c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Website: www.physiology.sdu.edu.c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FOfficeDoc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50920" y="2349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vent backward regurgit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 low resistance to forward flow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45000" y="533520"/>
            <a:ext cx="35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rt Valv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tion 1 The Heart as a Pum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Cardiac Cycle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period from the end of one heart contraction to the end of the nex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580000" cy="4883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943600" y="266688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rdiac Cycle 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302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stole is longer than syst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quence of systole and diast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ac Cycle: diastole and systo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rcRect l="4810" t="5000" r="0" b="1669"/>
          <a:stretch/>
        </p:blipFill>
        <p:spPr>
          <a:xfrm>
            <a:off x="609480" y="1523880"/>
            <a:ext cx="8077320" cy="45691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295280" y="5791320"/>
            <a:ext cx="1371600" cy="533160"/>
          </a:xfrm>
          <a:prstGeom prst="wedgeRoundRectCallout">
            <a:avLst>
              <a:gd name="adj1" fmla="val 59259"/>
              <a:gd name="adj2" fmla="val -180060"/>
              <a:gd name="adj3" fmla="val 1666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iastol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6019920"/>
            <a:ext cx="1371600" cy="533160"/>
          </a:xfrm>
          <a:prstGeom prst="wedgeRoundRectCallout">
            <a:avLst>
              <a:gd name="adj1" fmla="val 39467"/>
              <a:gd name="adj2" fmla="val -192263"/>
              <a:gd name="adj3" fmla="val 1666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ystol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152280"/>
            <a:ext cx="91440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 The Phases of the Cardiac Cycl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 of isometric (isovolumetric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or isovolumic) contra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279520"/>
            <a:ext cx="563868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vents: ventricular contraction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ventricular pressure rise 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trioventricular valve close 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ventricular pressure increase sharpl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: 0.05 sec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ortance: enable the ventricular pressure to rise from 0 to the level of aortic pressure (after-load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616720" y="685800"/>
            <a:ext cx="3527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 of eje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vents: ventricular contraction continuously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ventricular pressure rise above the arterial pressure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milumar valves open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lood pours out of the ventricle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3170160"/>
            <a:ext cx="89154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0880" y="1066680"/>
            <a:ext cx="7772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 ejection period (0.10s, 60% of the stroke volume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d ejection period (0.15s, 40% of the stroke volume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3) Period of isometric (isovolumic) relax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1371600"/>
            <a:ext cx="4067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ts: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tricular muscle relax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entricular pressure fall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than the aortic pressure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ortic valve close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entricular pressure fall sharpl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5105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HAPTER 4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 marL="284040" indent="-28404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CARDIOVASCULAR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04920" y="144792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: 0.06-0.08 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ortance: Enable the ventricular pressure fall to the level near the atrial pressur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914400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4) Period of filling of the ventricl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vents: Ventricular muscle relax continuously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ventricular pressure is equal or lower than the atrial pressure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trioventricular valve open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52680"/>
            <a:ext cx="38098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accumulated in the atria rushes into the ventricular chambers quickly from the atrium to the ventricle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886200" y="2933640"/>
            <a:ext cx="4095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99072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 of rapid filling.  (0.11s, amount of filling, 2/3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 of reduced filling (0.22s, little blood fills into the ventricle)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5) Atrial systol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ignificance, 30% of the filling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e of major importance in determining the final cardiac output during high output states or in the failing heart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3147840"/>
            <a:ext cx="91440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FT VENTRICULAR PRESSURE/VOLUME P/V LOO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1752480" y="1828800"/>
            <a:ext cx="0" cy="4267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52480" y="6095880"/>
            <a:ext cx="5791320" cy="0"/>
          </a:xfrm>
          <a:prstGeom prst="line">
            <a:avLst/>
          </a:prstGeom>
          <a:ln w="12600">
            <a:solidFill>
              <a:srgbClr val="ffc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-2512440" y="3459960"/>
            <a:ext cx="5842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Times New Roman"/>
              </a:rPr>
              <a:t>LEFT VENTRICULAR PRESSURE (mmHg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49360" y="6384960"/>
            <a:ext cx="538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imes New Roman"/>
              </a:rPr>
              <a:t>LEFT VENTRICULAR VOLUME (ml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384880"/>
            <a:ext cx="3430440" cy="460440"/>
          </a:xfrm>
          <a:custGeom>
            <a:avLst/>
            <a:gdLst/>
            <a:ahLst/>
            <a:rect l="l" t="t" r="r" b="b"/>
            <a:pathLst>
              <a:path w="2161" h="290">
                <a:moveTo>
                  <a:pt x="0" y="64"/>
                </a:moveTo>
                <a:lnTo>
                  <a:pt x="43" y="107"/>
                </a:lnTo>
                <a:lnTo>
                  <a:pt x="65" y="139"/>
                </a:lnTo>
                <a:lnTo>
                  <a:pt x="97" y="171"/>
                </a:lnTo>
                <a:lnTo>
                  <a:pt x="129" y="182"/>
                </a:lnTo>
                <a:lnTo>
                  <a:pt x="151" y="193"/>
                </a:lnTo>
                <a:lnTo>
                  <a:pt x="236" y="203"/>
                </a:lnTo>
                <a:lnTo>
                  <a:pt x="301" y="225"/>
                </a:lnTo>
                <a:lnTo>
                  <a:pt x="365" y="235"/>
                </a:lnTo>
                <a:lnTo>
                  <a:pt x="397" y="246"/>
                </a:lnTo>
                <a:lnTo>
                  <a:pt x="429" y="246"/>
                </a:lnTo>
                <a:lnTo>
                  <a:pt x="451" y="257"/>
                </a:lnTo>
                <a:lnTo>
                  <a:pt x="483" y="257"/>
                </a:lnTo>
                <a:lnTo>
                  <a:pt x="515" y="257"/>
                </a:lnTo>
                <a:lnTo>
                  <a:pt x="547" y="268"/>
                </a:lnTo>
                <a:lnTo>
                  <a:pt x="579" y="268"/>
                </a:lnTo>
                <a:lnTo>
                  <a:pt x="611" y="268"/>
                </a:lnTo>
                <a:lnTo>
                  <a:pt x="633" y="278"/>
                </a:lnTo>
                <a:lnTo>
                  <a:pt x="665" y="278"/>
                </a:lnTo>
                <a:lnTo>
                  <a:pt x="697" y="278"/>
                </a:lnTo>
                <a:lnTo>
                  <a:pt x="783" y="289"/>
                </a:lnTo>
                <a:lnTo>
                  <a:pt x="847" y="289"/>
                </a:lnTo>
                <a:lnTo>
                  <a:pt x="890" y="289"/>
                </a:lnTo>
                <a:lnTo>
                  <a:pt x="922" y="289"/>
                </a:lnTo>
                <a:lnTo>
                  <a:pt x="954" y="289"/>
                </a:lnTo>
                <a:lnTo>
                  <a:pt x="986" y="289"/>
                </a:lnTo>
                <a:lnTo>
                  <a:pt x="1018" y="289"/>
                </a:lnTo>
                <a:lnTo>
                  <a:pt x="1040" y="289"/>
                </a:lnTo>
                <a:lnTo>
                  <a:pt x="1072" y="289"/>
                </a:lnTo>
                <a:lnTo>
                  <a:pt x="1104" y="289"/>
                </a:lnTo>
                <a:lnTo>
                  <a:pt x="1147" y="289"/>
                </a:lnTo>
                <a:lnTo>
                  <a:pt x="1190" y="289"/>
                </a:lnTo>
                <a:lnTo>
                  <a:pt x="1233" y="289"/>
                </a:lnTo>
                <a:lnTo>
                  <a:pt x="1265" y="289"/>
                </a:lnTo>
                <a:lnTo>
                  <a:pt x="1297" y="289"/>
                </a:lnTo>
                <a:lnTo>
                  <a:pt x="1329" y="289"/>
                </a:lnTo>
                <a:lnTo>
                  <a:pt x="1361" y="278"/>
                </a:lnTo>
                <a:lnTo>
                  <a:pt x="1383" y="278"/>
                </a:lnTo>
                <a:lnTo>
                  <a:pt x="1415" y="268"/>
                </a:lnTo>
                <a:lnTo>
                  <a:pt x="1447" y="257"/>
                </a:lnTo>
                <a:lnTo>
                  <a:pt x="1479" y="246"/>
                </a:lnTo>
                <a:lnTo>
                  <a:pt x="1511" y="235"/>
                </a:lnTo>
                <a:lnTo>
                  <a:pt x="1533" y="235"/>
                </a:lnTo>
                <a:lnTo>
                  <a:pt x="1565" y="214"/>
                </a:lnTo>
                <a:lnTo>
                  <a:pt x="1597" y="214"/>
                </a:lnTo>
                <a:lnTo>
                  <a:pt x="1629" y="193"/>
                </a:lnTo>
                <a:lnTo>
                  <a:pt x="1661" y="182"/>
                </a:lnTo>
                <a:lnTo>
                  <a:pt x="1704" y="171"/>
                </a:lnTo>
                <a:lnTo>
                  <a:pt x="1736" y="150"/>
                </a:lnTo>
                <a:lnTo>
                  <a:pt x="1768" y="139"/>
                </a:lnTo>
                <a:lnTo>
                  <a:pt x="1790" y="128"/>
                </a:lnTo>
                <a:lnTo>
                  <a:pt x="1811" y="96"/>
                </a:lnTo>
                <a:lnTo>
                  <a:pt x="1843" y="75"/>
                </a:lnTo>
                <a:lnTo>
                  <a:pt x="1865" y="53"/>
                </a:lnTo>
                <a:lnTo>
                  <a:pt x="1897" y="21"/>
                </a:lnTo>
                <a:lnTo>
                  <a:pt x="1929" y="10"/>
                </a:lnTo>
                <a:lnTo>
                  <a:pt x="1961" y="0"/>
                </a:lnTo>
                <a:lnTo>
                  <a:pt x="1993" y="0"/>
                </a:lnTo>
                <a:lnTo>
                  <a:pt x="2015" y="0"/>
                </a:lnTo>
                <a:lnTo>
                  <a:pt x="2047" y="0"/>
                </a:lnTo>
                <a:lnTo>
                  <a:pt x="2079" y="0"/>
                </a:lnTo>
                <a:lnTo>
                  <a:pt x="2111" y="0"/>
                </a:lnTo>
                <a:lnTo>
                  <a:pt x="2143" y="0"/>
                </a:lnTo>
                <a:lnTo>
                  <a:pt x="2160" y="16"/>
                </a:lnTo>
              </a:path>
            </a:pathLst>
          </a:custGeom>
          <a:noFill/>
          <a:ln cap="rnd" w="507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248520" y="3276720"/>
            <a:ext cx="0" cy="21333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9420000">
            <a:off x="816840" y="2274120"/>
            <a:ext cx="5660280" cy="42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819520" y="2437920"/>
            <a:ext cx="0" cy="304812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70160" y="5311800"/>
            <a:ext cx="40464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41400" y="5235480"/>
            <a:ext cx="38772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80040" y="5464080"/>
            <a:ext cx="38772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84960" y="3025800"/>
            <a:ext cx="40464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98240" y="2263680"/>
            <a:ext cx="37080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58720" y="2048040"/>
            <a:ext cx="35424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6095880"/>
            <a:ext cx="0" cy="763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20840" y="6126120"/>
            <a:ext cx="56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6095880"/>
            <a:ext cx="0" cy="763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78240" y="6126120"/>
            <a:ext cx="56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15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6095880"/>
            <a:ext cx="0" cy="763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59240" y="61261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55400" y="58514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52480" y="2209680"/>
            <a:ext cx="76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26800" y="196524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4648320"/>
            <a:ext cx="76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79080" y="44798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3352680"/>
            <a:ext cx="76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79080" y="3108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480" y="44280"/>
            <a:ext cx="85345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5076720" cy="44402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-28800" y="380880"/>
            <a:ext cx="92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 changes in the atria,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aves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81000"/>
            <a:ext cx="4211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 wave, the atrial contra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 wave, bulging of the A-V valves when the ventricles begin to contract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35268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wave, at the end of ventricle contraction,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used by the accumulated blood in the atria while the A-V valves are clos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042920" y="1855800"/>
            <a:ext cx="62658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sounds heard over the cardiac region produced by the functioning of the heart.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7440" y="3049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t Soun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492360" cy="28386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924360" y="0"/>
            <a:ext cx="49910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t of the heart 300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: 75/min, 10000 beats /day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million beats /year, 2.5 billion beats/lif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0ml/beat, 7200 l/day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0920" y="4149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he work of the heart in one life is equivalent to lifting 30 tons to the Mount Everes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55627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1f08"/>
                </a:solidFill>
                <a:latin typeface="Times New Roman"/>
              </a:rPr>
              <a:t>The busy and hard working heart!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384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Sou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1- first soun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trioventricular valves and surrounding fluid vibrations as valves close at beginning of ventricular systo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2340000" y="2278080"/>
            <a:ext cx="5737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91440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2- second sound closure of aortic and pulmonary semilunar valves at beginning of ventricular diastol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3- third soun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ibrations of the ventricular walls when suddenly distended by the rush of blood from the atri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132000" y="2576520"/>
            <a:ext cx="53643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5371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ARDIAC CYC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181840" cy="64756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962520" y="1677960"/>
            <a:ext cx="4097160" cy="1548000"/>
          </a:xfrm>
          <a:custGeom>
            <a:avLst/>
            <a:gdLst/>
            <a:ahLst/>
            <a:rect l="l" t="t" r="r" b="b"/>
            <a:pathLst>
              <a:path w="2581" h="975">
                <a:moveTo>
                  <a:pt x="0" y="911"/>
                </a:moveTo>
                <a:lnTo>
                  <a:pt x="52" y="921"/>
                </a:lnTo>
                <a:lnTo>
                  <a:pt x="84" y="921"/>
                </a:lnTo>
                <a:lnTo>
                  <a:pt x="116" y="910"/>
                </a:lnTo>
                <a:lnTo>
                  <a:pt x="138" y="910"/>
                </a:lnTo>
                <a:lnTo>
                  <a:pt x="170" y="910"/>
                </a:lnTo>
                <a:lnTo>
                  <a:pt x="202" y="910"/>
                </a:lnTo>
                <a:lnTo>
                  <a:pt x="234" y="899"/>
                </a:lnTo>
                <a:lnTo>
                  <a:pt x="266" y="889"/>
                </a:lnTo>
                <a:lnTo>
                  <a:pt x="288" y="878"/>
                </a:lnTo>
                <a:lnTo>
                  <a:pt x="320" y="857"/>
                </a:lnTo>
                <a:lnTo>
                  <a:pt x="330" y="835"/>
                </a:lnTo>
                <a:lnTo>
                  <a:pt x="330" y="803"/>
                </a:lnTo>
                <a:lnTo>
                  <a:pt x="341" y="771"/>
                </a:lnTo>
                <a:lnTo>
                  <a:pt x="341" y="739"/>
                </a:lnTo>
                <a:lnTo>
                  <a:pt x="341" y="717"/>
                </a:lnTo>
                <a:lnTo>
                  <a:pt x="341" y="685"/>
                </a:lnTo>
                <a:lnTo>
                  <a:pt x="352" y="653"/>
                </a:lnTo>
                <a:lnTo>
                  <a:pt x="352" y="621"/>
                </a:lnTo>
                <a:lnTo>
                  <a:pt x="363" y="589"/>
                </a:lnTo>
                <a:lnTo>
                  <a:pt x="373" y="567"/>
                </a:lnTo>
                <a:lnTo>
                  <a:pt x="373" y="535"/>
                </a:lnTo>
                <a:lnTo>
                  <a:pt x="373" y="503"/>
                </a:lnTo>
                <a:lnTo>
                  <a:pt x="384" y="471"/>
                </a:lnTo>
                <a:lnTo>
                  <a:pt x="384" y="439"/>
                </a:lnTo>
                <a:lnTo>
                  <a:pt x="384" y="407"/>
                </a:lnTo>
                <a:lnTo>
                  <a:pt x="395" y="385"/>
                </a:lnTo>
                <a:lnTo>
                  <a:pt x="395" y="353"/>
                </a:lnTo>
                <a:lnTo>
                  <a:pt x="395" y="321"/>
                </a:lnTo>
                <a:lnTo>
                  <a:pt x="416" y="289"/>
                </a:lnTo>
                <a:lnTo>
                  <a:pt x="427" y="257"/>
                </a:lnTo>
                <a:lnTo>
                  <a:pt x="438" y="235"/>
                </a:lnTo>
                <a:lnTo>
                  <a:pt x="459" y="203"/>
                </a:lnTo>
                <a:lnTo>
                  <a:pt x="491" y="182"/>
                </a:lnTo>
                <a:lnTo>
                  <a:pt x="513" y="160"/>
                </a:lnTo>
                <a:lnTo>
                  <a:pt x="534" y="128"/>
                </a:lnTo>
                <a:lnTo>
                  <a:pt x="566" y="96"/>
                </a:lnTo>
                <a:lnTo>
                  <a:pt x="588" y="75"/>
                </a:lnTo>
                <a:lnTo>
                  <a:pt x="598" y="53"/>
                </a:lnTo>
                <a:lnTo>
                  <a:pt x="620" y="43"/>
                </a:lnTo>
                <a:lnTo>
                  <a:pt x="652" y="32"/>
                </a:lnTo>
                <a:lnTo>
                  <a:pt x="684" y="21"/>
                </a:lnTo>
                <a:lnTo>
                  <a:pt x="716" y="11"/>
                </a:lnTo>
                <a:lnTo>
                  <a:pt x="738" y="11"/>
                </a:lnTo>
                <a:lnTo>
                  <a:pt x="770" y="0"/>
                </a:lnTo>
                <a:lnTo>
                  <a:pt x="802" y="0"/>
                </a:lnTo>
                <a:lnTo>
                  <a:pt x="834" y="11"/>
                </a:lnTo>
                <a:lnTo>
                  <a:pt x="855" y="43"/>
                </a:lnTo>
                <a:lnTo>
                  <a:pt x="877" y="53"/>
                </a:lnTo>
                <a:lnTo>
                  <a:pt x="888" y="75"/>
                </a:lnTo>
                <a:lnTo>
                  <a:pt x="909" y="107"/>
                </a:lnTo>
                <a:lnTo>
                  <a:pt x="941" y="128"/>
                </a:lnTo>
                <a:lnTo>
                  <a:pt x="952" y="150"/>
                </a:lnTo>
                <a:lnTo>
                  <a:pt x="984" y="171"/>
                </a:lnTo>
                <a:lnTo>
                  <a:pt x="984" y="193"/>
                </a:lnTo>
                <a:lnTo>
                  <a:pt x="1016" y="225"/>
                </a:lnTo>
                <a:lnTo>
                  <a:pt x="1048" y="246"/>
                </a:lnTo>
                <a:lnTo>
                  <a:pt x="1059" y="268"/>
                </a:lnTo>
                <a:lnTo>
                  <a:pt x="1070" y="300"/>
                </a:lnTo>
                <a:lnTo>
                  <a:pt x="1080" y="332"/>
                </a:lnTo>
                <a:lnTo>
                  <a:pt x="1102" y="353"/>
                </a:lnTo>
                <a:lnTo>
                  <a:pt x="1102" y="375"/>
                </a:lnTo>
                <a:lnTo>
                  <a:pt x="1112" y="407"/>
                </a:lnTo>
                <a:lnTo>
                  <a:pt x="1123" y="439"/>
                </a:lnTo>
                <a:lnTo>
                  <a:pt x="1145" y="450"/>
                </a:lnTo>
                <a:lnTo>
                  <a:pt x="1155" y="482"/>
                </a:lnTo>
                <a:lnTo>
                  <a:pt x="1155" y="514"/>
                </a:lnTo>
                <a:lnTo>
                  <a:pt x="1177" y="535"/>
                </a:lnTo>
                <a:lnTo>
                  <a:pt x="1198" y="557"/>
                </a:lnTo>
                <a:lnTo>
                  <a:pt x="1220" y="578"/>
                </a:lnTo>
                <a:lnTo>
                  <a:pt x="1230" y="600"/>
                </a:lnTo>
                <a:lnTo>
                  <a:pt x="1252" y="621"/>
                </a:lnTo>
                <a:lnTo>
                  <a:pt x="1262" y="653"/>
                </a:lnTo>
                <a:lnTo>
                  <a:pt x="1273" y="675"/>
                </a:lnTo>
                <a:lnTo>
                  <a:pt x="1295" y="707"/>
                </a:lnTo>
                <a:lnTo>
                  <a:pt x="1305" y="739"/>
                </a:lnTo>
                <a:lnTo>
                  <a:pt x="1327" y="760"/>
                </a:lnTo>
                <a:lnTo>
                  <a:pt x="1327" y="782"/>
                </a:lnTo>
                <a:lnTo>
                  <a:pt x="1348" y="814"/>
                </a:lnTo>
                <a:lnTo>
                  <a:pt x="1370" y="835"/>
                </a:lnTo>
                <a:lnTo>
                  <a:pt x="1370" y="857"/>
                </a:lnTo>
                <a:lnTo>
                  <a:pt x="1402" y="878"/>
                </a:lnTo>
                <a:lnTo>
                  <a:pt x="1434" y="899"/>
                </a:lnTo>
                <a:lnTo>
                  <a:pt x="1466" y="910"/>
                </a:lnTo>
                <a:lnTo>
                  <a:pt x="1498" y="921"/>
                </a:lnTo>
                <a:lnTo>
                  <a:pt x="1520" y="921"/>
                </a:lnTo>
                <a:lnTo>
                  <a:pt x="1552" y="932"/>
                </a:lnTo>
                <a:lnTo>
                  <a:pt x="1584" y="942"/>
                </a:lnTo>
                <a:lnTo>
                  <a:pt x="1616" y="942"/>
                </a:lnTo>
                <a:lnTo>
                  <a:pt x="1648" y="953"/>
                </a:lnTo>
                <a:lnTo>
                  <a:pt x="1670" y="953"/>
                </a:lnTo>
                <a:lnTo>
                  <a:pt x="1702" y="953"/>
                </a:lnTo>
                <a:lnTo>
                  <a:pt x="1734" y="964"/>
                </a:lnTo>
                <a:lnTo>
                  <a:pt x="1766" y="964"/>
                </a:lnTo>
                <a:lnTo>
                  <a:pt x="1798" y="974"/>
                </a:lnTo>
                <a:lnTo>
                  <a:pt x="1820" y="974"/>
                </a:lnTo>
                <a:lnTo>
                  <a:pt x="1852" y="974"/>
                </a:lnTo>
                <a:lnTo>
                  <a:pt x="1884" y="974"/>
                </a:lnTo>
                <a:lnTo>
                  <a:pt x="1916" y="974"/>
                </a:lnTo>
                <a:lnTo>
                  <a:pt x="1948" y="964"/>
                </a:lnTo>
                <a:lnTo>
                  <a:pt x="1970" y="953"/>
                </a:lnTo>
                <a:lnTo>
                  <a:pt x="2002" y="953"/>
                </a:lnTo>
                <a:lnTo>
                  <a:pt x="2034" y="953"/>
                </a:lnTo>
                <a:lnTo>
                  <a:pt x="2066" y="953"/>
                </a:lnTo>
                <a:lnTo>
                  <a:pt x="2098" y="953"/>
                </a:lnTo>
                <a:lnTo>
                  <a:pt x="2130" y="953"/>
                </a:lnTo>
                <a:lnTo>
                  <a:pt x="2152" y="953"/>
                </a:lnTo>
                <a:lnTo>
                  <a:pt x="2184" y="953"/>
                </a:lnTo>
                <a:lnTo>
                  <a:pt x="2216" y="953"/>
                </a:lnTo>
                <a:lnTo>
                  <a:pt x="2248" y="953"/>
                </a:lnTo>
                <a:lnTo>
                  <a:pt x="2280" y="942"/>
                </a:lnTo>
                <a:lnTo>
                  <a:pt x="2302" y="942"/>
                </a:lnTo>
                <a:lnTo>
                  <a:pt x="2334" y="932"/>
                </a:lnTo>
                <a:lnTo>
                  <a:pt x="2366" y="932"/>
                </a:lnTo>
                <a:lnTo>
                  <a:pt x="2398" y="932"/>
                </a:lnTo>
                <a:lnTo>
                  <a:pt x="2430" y="932"/>
                </a:lnTo>
                <a:lnTo>
                  <a:pt x="2452" y="932"/>
                </a:lnTo>
                <a:lnTo>
                  <a:pt x="2484" y="921"/>
                </a:lnTo>
                <a:lnTo>
                  <a:pt x="2516" y="910"/>
                </a:lnTo>
                <a:lnTo>
                  <a:pt x="2548" y="910"/>
                </a:lnTo>
                <a:lnTo>
                  <a:pt x="2580" y="910"/>
                </a:lnTo>
                <a:lnTo>
                  <a:pt x="2544" y="911"/>
                </a:lnTo>
              </a:path>
            </a:pathLst>
          </a:custGeom>
          <a:noFill/>
          <a:ln cap="rnd" w="50760">
            <a:solidFill>
              <a:srgbClr val="ff8b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1660680"/>
            <a:ext cx="4192560" cy="550800"/>
          </a:xfrm>
          <a:custGeom>
            <a:avLst/>
            <a:gdLst/>
            <a:ahLst/>
            <a:rect l="l" t="t" r="r" b="b"/>
            <a:pathLst>
              <a:path w="2641" h="347">
                <a:moveTo>
                  <a:pt x="0" y="298"/>
                </a:moveTo>
                <a:lnTo>
                  <a:pt x="46" y="289"/>
                </a:lnTo>
                <a:lnTo>
                  <a:pt x="68" y="289"/>
                </a:lnTo>
                <a:lnTo>
                  <a:pt x="100" y="289"/>
                </a:lnTo>
                <a:lnTo>
                  <a:pt x="132" y="300"/>
                </a:lnTo>
                <a:lnTo>
                  <a:pt x="164" y="300"/>
                </a:lnTo>
                <a:lnTo>
                  <a:pt x="186" y="300"/>
                </a:lnTo>
                <a:lnTo>
                  <a:pt x="218" y="300"/>
                </a:lnTo>
                <a:lnTo>
                  <a:pt x="250" y="300"/>
                </a:lnTo>
                <a:lnTo>
                  <a:pt x="282" y="311"/>
                </a:lnTo>
                <a:lnTo>
                  <a:pt x="314" y="311"/>
                </a:lnTo>
                <a:lnTo>
                  <a:pt x="336" y="311"/>
                </a:lnTo>
                <a:lnTo>
                  <a:pt x="368" y="311"/>
                </a:lnTo>
                <a:lnTo>
                  <a:pt x="400" y="321"/>
                </a:lnTo>
                <a:lnTo>
                  <a:pt x="432" y="321"/>
                </a:lnTo>
                <a:lnTo>
                  <a:pt x="453" y="289"/>
                </a:lnTo>
                <a:lnTo>
                  <a:pt x="475" y="268"/>
                </a:lnTo>
                <a:lnTo>
                  <a:pt x="486" y="246"/>
                </a:lnTo>
                <a:lnTo>
                  <a:pt x="496" y="214"/>
                </a:lnTo>
                <a:lnTo>
                  <a:pt x="518" y="204"/>
                </a:lnTo>
                <a:lnTo>
                  <a:pt x="518" y="182"/>
                </a:lnTo>
                <a:lnTo>
                  <a:pt x="550" y="161"/>
                </a:lnTo>
                <a:lnTo>
                  <a:pt x="561" y="139"/>
                </a:lnTo>
                <a:lnTo>
                  <a:pt x="582" y="107"/>
                </a:lnTo>
                <a:lnTo>
                  <a:pt x="603" y="75"/>
                </a:lnTo>
                <a:lnTo>
                  <a:pt x="625" y="64"/>
                </a:lnTo>
                <a:lnTo>
                  <a:pt x="646" y="32"/>
                </a:lnTo>
                <a:lnTo>
                  <a:pt x="668" y="22"/>
                </a:lnTo>
                <a:lnTo>
                  <a:pt x="700" y="22"/>
                </a:lnTo>
                <a:lnTo>
                  <a:pt x="732" y="11"/>
                </a:lnTo>
                <a:lnTo>
                  <a:pt x="764" y="11"/>
                </a:lnTo>
                <a:lnTo>
                  <a:pt x="786" y="0"/>
                </a:lnTo>
                <a:lnTo>
                  <a:pt x="818" y="0"/>
                </a:lnTo>
                <a:lnTo>
                  <a:pt x="850" y="11"/>
                </a:lnTo>
                <a:lnTo>
                  <a:pt x="871" y="43"/>
                </a:lnTo>
                <a:lnTo>
                  <a:pt x="893" y="54"/>
                </a:lnTo>
                <a:lnTo>
                  <a:pt x="925" y="75"/>
                </a:lnTo>
                <a:lnTo>
                  <a:pt x="957" y="96"/>
                </a:lnTo>
                <a:lnTo>
                  <a:pt x="989" y="107"/>
                </a:lnTo>
                <a:lnTo>
                  <a:pt x="1021" y="129"/>
                </a:lnTo>
                <a:lnTo>
                  <a:pt x="1043" y="129"/>
                </a:lnTo>
                <a:lnTo>
                  <a:pt x="1075" y="150"/>
                </a:lnTo>
                <a:lnTo>
                  <a:pt x="1085" y="182"/>
                </a:lnTo>
                <a:lnTo>
                  <a:pt x="1107" y="193"/>
                </a:lnTo>
                <a:lnTo>
                  <a:pt x="1139" y="193"/>
                </a:lnTo>
                <a:lnTo>
                  <a:pt x="1171" y="182"/>
                </a:lnTo>
                <a:lnTo>
                  <a:pt x="1193" y="193"/>
                </a:lnTo>
                <a:lnTo>
                  <a:pt x="1225" y="182"/>
                </a:lnTo>
                <a:lnTo>
                  <a:pt x="1257" y="182"/>
                </a:lnTo>
                <a:lnTo>
                  <a:pt x="1289" y="182"/>
                </a:lnTo>
                <a:lnTo>
                  <a:pt x="1321" y="171"/>
                </a:lnTo>
                <a:lnTo>
                  <a:pt x="1343" y="171"/>
                </a:lnTo>
                <a:lnTo>
                  <a:pt x="1375" y="182"/>
                </a:lnTo>
                <a:lnTo>
                  <a:pt x="1407" y="193"/>
                </a:lnTo>
                <a:lnTo>
                  <a:pt x="1439" y="214"/>
                </a:lnTo>
                <a:lnTo>
                  <a:pt x="1471" y="225"/>
                </a:lnTo>
                <a:lnTo>
                  <a:pt x="1493" y="236"/>
                </a:lnTo>
                <a:lnTo>
                  <a:pt x="1525" y="246"/>
                </a:lnTo>
                <a:lnTo>
                  <a:pt x="1557" y="257"/>
                </a:lnTo>
                <a:lnTo>
                  <a:pt x="1589" y="268"/>
                </a:lnTo>
                <a:lnTo>
                  <a:pt x="1621" y="268"/>
                </a:lnTo>
                <a:lnTo>
                  <a:pt x="1643" y="279"/>
                </a:lnTo>
                <a:lnTo>
                  <a:pt x="1675" y="289"/>
                </a:lnTo>
                <a:lnTo>
                  <a:pt x="1707" y="289"/>
                </a:lnTo>
                <a:lnTo>
                  <a:pt x="1739" y="289"/>
                </a:lnTo>
                <a:lnTo>
                  <a:pt x="1771" y="289"/>
                </a:lnTo>
                <a:lnTo>
                  <a:pt x="1793" y="289"/>
                </a:lnTo>
                <a:lnTo>
                  <a:pt x="1825" y="289"/>
                </a:lnTo>
                <a:lnTo>
                  <a:pt x="1857" y="289"/>
                </a:lnTo>
                <a:lnTo>
                  <a:pt x="1889" y="300"/>
                </a:lnTo>
                <a:lnTo>
                  <a:pt x="1921" y="300"/>
                </a:lnTo>
                <a:lnTo>
                  <a:pt x="1943" y="311"/>
                </a:lnTo>
                <a:lnTo>
                  <a:pt x="1975" y="311"/>
                </a:lnTo>
                <a:lnTo>
                  <a:pt x="2007" y="311"/>
                </a:lnTo>
                <a:lnTo>
                  <a:pt x="2039" y="311"/>
                </a:lnTo>
                <a:lnTo>
                  <a:pt x="2071" y="311"/>
                </a:lnTo>
                <a:lnTo>
                  <a:pt x="2093" y="311"/>
                </a:lnTo>
                <a:lnTo>
                  <a:pt x="2125" y="311"/>
                </a:lnTo>
                <a:lnTo>
                  <a:pt x="2157" y="311"/>
                </a:lnTo>
                <a:lnTo>
                  <a:pt x="2189" y="311"/>
                </a:lnTo>
                <a:lnTo>
                  <a:pt x="2221" y="311"/>
                </a:lnTo>
                <a:lnTo>
                  <a:pt x="2253" y="311"/>
                </a:lnTo>
                <a:lnTo>
                  <a:pt x="2275" y="311"/>
                </a:lnTo>
                <a:lnTo>
                  <a:pt x="2307" y="311"/>
                </a:lnTo>
                <a:lnTo>
                  <a:pt x="2339" y="311"/>
                </a:lnTo>
                <a:lnTo>
                  <a:pt x="2371" y="321"/>
                </a:lnTo>
                <a:lnTo>
                  <a:pt x="2403" y="321"/>
                </a:lnTo>
                <a:lnTo>
                  <a:pt x="2425" y="321"/>
                </a:lnTo>
                <a:lnTo>
                  <a:pt x="2457" y="332"/>
                </a:lnTo>
                <a:lnTo>
                  <a:pt x="2489" y="332"/>
                </a:lnTo>
                <a:lnTo>
                  <a:pt x="2521" y="332"/>
                </a:lnTo>
                <a:lnTo>
                  <a:pt x="2553" y="332"/>
                </a:lnTo>
                <a:lnTo>
                  <a:pt x="2575" y="332"/>
                </a:lnTo>
                <a:lnTo>
                  <a:pt x="2607" y="332"/>
                </a:lnTo>
                <a:lnTo>
                  <a:pt x="2640" y="346"/>
                </a:lnTo>
              </a:path>
            </a:pathLst>
          </a:custGeom>
          <a:noFill/>
          <a:ln cap="rnd" w="507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2987640"/>
            <a:ext cx="4119480" cy="187200"/>
          </a:xfrm>
          <a:custGeom>
            <a:avLst/>
            <a:gdLst/>
            <a:ahLst/>
            <a:rect l="l" t="t" r="r" b="b"/>
            <a:pathLst>
              <a:path w="2595" h="118">
                <a:moveTo>
                  <a:pt x="2" y="86"/>
                </a:moveTo>
                <a:lnTo>
                  <a:pt x="0" y="42"/>
                </a:lnTo>
                <a:lnTo>
                  <a:pt x="22" y="42"/>
                </a:lnTo>
                <a:lnTo>
                  <a:pt x="54" y="21"/>
                </a:lnTo>
                <a:lnTo>
                  <a:pt x="86" y="21"/>
                </a:lnTo>
                <a:lnTo>
                  <a:pt x="118" y="10"/>
                </a:lnTo>
                <a:lnTo>
                  <a:pt x="140" y="10"/>
                </a:lnTo>
                <a:lnTo>
                  <a:pt x="172" y="10"/>
                </a:lnTo>
                <a:lnTo>
                  <a:pt x="193" y="32"/>
                </a:lnTo>
                <a:lnTo>
                  <a:pt x="215" y="32"/>
                </a:lnTo>
                <a:lnTo>
                  <a:pt x="247" y="42"/>
                </a:lnTo>
                <a:lnTo>
                  <a:pt x="257" y="64"/>
                </a:lnTo>
                <a:lnTo>
                  <a:pt x="279" y="64"/>
                </a:lnTo>
                <a:lnTo>
                  <a:pt x="311" y="74"/>
                </a:lnTo>
                <a:lnTo>
                  <a:pt x="343" y="85"/>
                </a:lnTo>
                <a:lnTo>
                  <a:pt x="365" y="85"/>
                </a:lnTo>
                <a:lnTo>
                  <a:pt x="397" y="74"/>
                </a:lnTo>
                <a:lnTo>
                  <a:pt x="429" y="64"/>
                </a:lnTo>
                <a:lnTo>
                  <a:pt x="461" y="64"/>
                </a:lnTo>
                <a:lnTo>
                  <a:pt x="493" y="64"/>
                </a:lnTo>
                <a:lnTo>
                  <a:pt x="515" y="64"/>
                </a:lnTo>
                <a:lnTo>
                  <a:pt x="547" y="64"/>
                </a:lnTo>
                <a:lnTo>
                  <a:pt x="579" y="64"/>
                </a:lnTo>
                <a:lnTo>
                  <a:pt x="611" y="64"/>
                </a:lnTo>
                <a:lnTo>
                  <a:pt x="643" y="64"/>
                </a:lnTo>
                <a:lnTo>
                  <a:pt x="665" y="64"/>
                </a:lnTo>
                <a:lnTo>
                  <a:pt x="697" y="64"/>
                </a:lnTo>
                <a:lnTo>
                  <a:pt x="729" y="64"/>
                </a:lnTo>
                <a:lnTo>
                  <a:pt x="761" y="64"/>
                </a:lnTo>
                <a:lnTo>
                  <a:pt x="793" y="64"/>
                </a:lnTo>
                <a:lnTo>
                  <a:pt x="815" y="64"/>
                </a:lnTo>
                <a:lnTo>
                  <a:pt x="847" y="64"/>
                </a:lnTo>
                <a:lnTo>
                  <a:pt x="879" y="64"/>
                </a:lnTo>
                <a:lnTo>
                  <a:pt x="911" y="53"/>
                </a:lnTo>
                <a:lnTo>
                  <a:pt x="943" y="53"/>
                </a:lnTo>
                <a:lnTo>
                  <a:pt x="975" y="53"/>
                </a:lnTo>
                <a:lnTo>
                  <a:pt x="997" y="42"/>
                </a:lnTo>
                <a:lnTo>
                  <a:pt x="1029" y="32"/>
                </a:lnTo>
                <a:lnTo>
                  <a:pt x="1061" y="32"/>
                </a:lnTo>
                <a:lnTo>
                  <a:pt x="1093" y="32"/>
                </a:lnTo>
                <a:lnTo>
                  <a:pt x="1125" y="32"/>
                </a:lnTo>
                <a:lnTo>
                  <a:pt x="1147" y="32"/>
                </a:lnTo>
                <a:lnTo>
                  <a:pt x="1179" y="21"/>
                </a:lnTo>
                <a:lnTo>
                  <a:pt x="1211" y="21"/>
                </a:lnTo>
                <a:lnTo>
                  <a:pt x="1243" y="21"/>
                </a:lnTo>
                <a:lnTo>
                  <a:pt x="1275" y="21"/>
                </a:lnTo>
                <a:lnTo>
                  <a:pt x="1297" y="10"/>
                </a:lnTo>
                <a:lnTo>
                  <a:pt x="1329" y="10"/>
                </a:lnTo>
                <a:lnTo>
                  <a:pt x="1361" y="10"/>
                </a:lnTo>
                <a:lnTo>
                  <a:pt x="1393" y="0"/>
                </a:lnTo>
                <a:lnTo>
                  <a:pt x="1414" y="32"/>
                </a:lnTo>
                <a:lnTo>
                  <a:pt x="1436" y="53"/>
                </a:lnTo>
                <a:lnTo>
                  <a:pt x="1468" y="74"/>
                </a:lnTo>
                <a:lnTo>
                  <a:pt x="1500" y="85"/>
                </a:lnTo>
                <a:lnTo>
                  <a:pt x="1522" y="85"/>
                </a:lnTo>
                <a:lnTo>
                  <a:pt x="1554" y="85"/>
                </a:lnTo>
                <a:lnTo>
                  <a:pt x="1586" y="85"/>
                </a:lnTo>
                <a:lnTo>
                  <a:pt x="1618" y="85"/>
                </a:lnTo>
                <a:lnTo>
                  <a:pt x="1650" y="96"/>
                </a:lnTo>
                <a:lnTo>
                  <a:pt x="1672" y="96"/>
                </a:lnTo>
                <a:lnTo>
                  <a:pt x="1704" y="107"/>
                </a:lnTo>
                <a:lnTo>
                  <a:pt x="1736" y="107"/>
                </a:lnTo>
                <a:lnTo>
                  <a:pt x="1768" y="117"/>
                </a:lnTo>
                <a:lnTo>
                  <a:pt x="1800" y="117"/>
                </a:lnTo>
                <a:lnTo>
                  <a:pt x="1822" y="117"/>
                </a:lnTo>
                <a:lnTo>
                  <a:pt x="1854" y="117"/>
                </a:lnTo>
                <a:lnTo>
                  <a:pt x="1886" y="117"/>
                </a:lnTo>
                <a:lnTo>
                  <a:pt x="1918" y="117"/>
                </a:lnTo>
                <a:lnTo>
                  <a:pt x="1950" y="117"/>
                </a:lnTo>
                <a:lnTo>
                  <a:pt x="1972" y="117"/>
                </a:lnTo>
                <a:lnTo>
                  <a:pt x="2004" y="117"/>
                </a:lnTo>
                <a:lnTo>
                  <a:pt x="2047" y="117"/>
                </a:lnTo>
                <a:lnTo>
                  <a:pt x="2079" y="117"/>
                </a:lnTo>
                <a:lnTo>
                  <a:pt x="2111" y="117"/>
                </a:lnTo>
                <a:lnTo>
                  <a:pt x="2143" y="117"/>
                </a:lnTo>
                <a:lnTo>
                  <a:pt x="2175" y="107"/>
                </a:lnTo>
                <a:lnTo>
                  <a:pt x="2218" y="96"/>
                </a:lnTo>
                <a:lnTo>
                  <a:pt x="2250" y="96"/>
                </a:lnTo>
                <a:lnTo>
                  <a:pt x="2282" y="85"/>
                </a:lnTo>
                <a:lnTo>
                  <a:pt x="2304" y="85"/>
                </a:lnTo>
                <a:lnTo>
                  <a:pt x="2336" y="74"/>
                </a:lnTo>
                <a:lnTo>
                  <a:pt x="2368" y="74"/>
                </a:lnTo>
                <a:lnTo>
                  <a:pt x="2400" y="64"/>
                </a:lnTo>
                <a:lnTo>
                  <a:pt x="2432" y="64"/>
                </a:lnTo>
                <a:lnTo>
                  <a:pt x="2454" y="53"/>
                </a:lnTo>
                <a:lnTo>
                  <a:pt x="2486" y="53"/>
                </a:lnTo>
                <a:lnTo>
                  <a:pt x="2518" y="53"/>
                </a:lnTo>
                <a:lnTo>
                  <a:pt x="2550" y="53"/>
                </a:lnTo>
                <a:lnTo>
                  <a:pt x="2582" y="53"/>
                </a:lnTo>
                <a:lnTo>
                  <a:pt x="2594" y="38"/>
                </a:lnTo>
              </a:path>
            </a:pathLst>
          </a:custGeom>
          <a:noFill/>
          <a:ln cap="rnd" w="507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4343400"/>
            <a:ext cx="4116240" cy="1177920"/>
          </a:xfrm>
          <a:custGeom>
            <a:avLst/>
            <a:gdLst/>
            <a:ahLst/>
            <a:rect l="l" t="t" r="r" b="b"/>
            <a:pathLst>
              <a:path w="2593" h="742">
                <a:moveTo>
                  <a:pt x="0" y="48"/>
                </a:moveTo>
                <a:lnTo>
                  <a:pt x="95" y="56"/>
                </a:lnTo>
                <a:lnTo>
                  <a:pt x="127" y="56"/>
                </a:lnTo>
                <a:lnTo>
                  <a:pt x="159" y="35"/>
                </a:lnTo>
                <a:lnTo>
                  <a:pt x="191" y="24"/>
                </a:lnTo>
                <a:lnTo>
                  <a:pt x="223" y="24"/>
                </a:lnTo>
                <a:lnTo>
                  <a:pt x="245" y="24"/>
                </a:lnTo>
                <a:lnTo>
                  <a:pt x="277" y="24"/>
                </a:lnTo>
                <a:lnTo>
                  <a:pt x="309" y="24"/>
                </a:lnTo>
                <a:lnTo>
                  <a:pt x="341" y="24"/>
                </a:lnTo>
                <a:lnTo>
                  <a:pt x="373" y="24"/>
                </a:lnTo>
                <a:lnTo>
                  <a:pt x="395" y="24"/>
                </a:lnTo>
                <a:lnTo>
                  <a:pt x="427" y="35"/>
                </a:lnTo>
                <a:lnTo>
                  <a:pt x="448" y="67"/>
                </a:lnTo>
                <a:lnTo>
                  <a:pt x="470" y="88"/>
                </a:lnTo>
                <a:lnTo>
                  <a:pt x="491" y="120"/>
                </a:lnTo>
                <a:lnTo>
                  <a:pt x="502" y="142"/>
                </a:lnTo>
                <a:lnTo>
                  <a:pt x="523" y="174"/>
                </a:lnTo>
                <a:lnTo>
                  <a:pt x="523" y="206"/>
                </a:lnTo>
                <a:lnTo>
                  <a:pt x="534" y="238"/>
                </a:lnTo>
                <a:lnTo>
                  <a:pt x="555" y="270"/>
                </a:lnTo>
                <a:lnTo>
                  <a:pt x="566" y="292"/>
                </a:lnTo>
                <a:lnTo>
                  <a:pt x="588" y="324"/>
                </a:lnTo>
                <a:lnTo>
                  <a:pt x="620" y="345"/>
                </a:lnTo>
                <a:lnTo>
                  <a:pt x="630" y="367"/>
                </a:lnTo>
                <a:lnTo>
                  <a:pt x="630" y="399"/>
                </a:lnTo>
                <a:lnTo>
                  <a:pt x="641" y="431"/>
                </a:lnTo>
                <a:lnTo>
                  <a:pt x="663" y="452"/>
                </a:lnTo>
                <a:lnTo>
                  <a:pt x="673" y="474"/>
                </a:lnTo>
                <a:lnTo>
                  <a:pt x="695" y="495"/>
                </a:lnTo>
                <a:lnTo>
                  <a:pt x="716" y="527"/>
                </a:lnTo>
                <a:lnTo>
                  <a:pt x="727" y="549"/>
                </a:lnTo>
                <a:lnTo>
                  <a:pt x="759" y="570"/>
                </a:lnTo>
                <a:lnTo>
                  <a:pt x="791" y="602"/>
                </a:lnTo>
                <a:lnTo>
                  <a:pt x="802" y="624"/>
                </a:lnTo>
                <a:lnTo>
                  <a:pt x="823" y="656"/>
                </a:lnTo>
                <a:lnTo>
                  <a:pt x="845" y="666"/>
                </a:lnTo>
                <a:lnTo>
                  <a:pt x="877" y="677"/>
                </a:lnTo>
                <a:lnTo>
                  <a:pt x="909" y="677"/>
                </a:lnTo>
                <a:lnTo>
                  <a:pt x="930" y="699"/>
                </a:lnTo>
                <a:lnTo>
                  <a:pt x="952" y="709"/>
                </a:lnTo>
                <a:lnTo>
                  <a:pt x="984" y="720"/>
                </a:lnTo>
                <a:lnTo>
                  <a:pt x="1016" y="731"/>
                </a:lnTo>
                <a:lnTo>
                  <a:pt x="1048" y="741"/>
                </a:lnTo>
                <a:lnTo>
                  <a:pt x="1070" y="741"/>
                </a:lnTo>
                <a:lnTo>
                  <a:pt x="1102" y="741"/>
                </a:lnTo>
                <a:lnTo>
                  <a:pt x="1134" y="741"/>
                </a:lnTo>
                <a:lnTo>
                  <a:pt x="1166" y="731"/>
                </a:lnTo>
                <a:lnTo>
                  <a:pt x="1198" y="731"/>
                </a:lnTo>
                <a:lnTo>
                  <a:pt x="1220" y="731"/>
                </a:lnTo>
                <a:lnTo>
                  <a:pt x="1252" y="731"/>
                </a:lnTo>
                <a:lnTo>
                  <a:pt x="1284" y="731"/>
                </a:lnTo>
                <a:lnTo>
                  <a:pt x="1316" y="731"/>
                </a:lnTo>
                <a:lnTo>
                  <a:pt x="1337" y="709"/>
                </a:lnTo>
                <a:lnTo>
                  <a:pt x="1359" y="688"/>
                </a:lnTo>
                <a:lnTo>
                  <a:pt x="1391" y="677"/>
                </a:lnTo>
                <a:lnTo>
                  <a:pt x="1423" y="666"/>
                </a:lnTo>
                <a:lnTo>
                  <a:pt x="1445" y="645"/>
                </a:lnTo>
                <a:lnTo>
                  <a:pt x="1477" y="634"/>
                </a:lnTo>
                <a:lnTo>
                  <a:pt x="1498" y="602"/>
                </a:lnTo>
                <a:lnTo>
                  <a:pt x="1520" y="591"/>
                </a:lnTo>
                <a:lnTo>
                  <a:pt x="1530" y="559"/>
                </a:lnTo>
                <a:lnTo>
                  <a:pt x="1552" y="549"/>
                </a:lnTo>
                <a:lnTo>
                  <a:pt x="1573" y="527"/>
                </a:lnTo>
                <a:lnTo>
                  <a:pt x="1595" y="516"/>
                </a:lnTo>
                <a:lnTo>
                  <a:pt x="1616" y="484"/>
                </a:lnTo>
                <a:lnTo>
                  <a:pt x="1627" y="452"/>
                </a:lnTo>
                <a:lnTo>
                  <a:pt x="1659" y="420"/>
                </a:lnTo>
                <a:lnTo>
                  <a:pt x="1691" y="399"/>
                </a:lnTo>
                <a:lnTo>
                  <a:pt x="1712" y="377"/>
                </a:lnTo>
                <a:lnTo>
                  <a:pt x="1734" y="367"/>
                </a:lnTo>
                <a:lnTo>
                  <a:pt x="1745" y="345"/>
                </a:lnTo>
                <a:lnTo>
                  <a:pt x="1777" y="334"/>
                </a:lnTo>
                <a:lnTo>
                  <a:pt x="1809" y="313"/>
                </a:lnTo>
                <a:lnTo>
                  <a:pt x="1841" y="281"/>
                </a:lnTo>
                <a:lnTo>
                  <a:pt x="1873" y="281"/>
                </a:lnTo>
                <a:lnTo>
                  <a:pt x="1884" y="259"/>
                </a:lnTo>
                <a:lnTo>
                  <a:pt x="1916" y="238"/>
                </a:lnTo>
                <a:lnTo>
                  <a:pt x="1948" y="227"/>
                </a:lnTo>
                <a:lnTo>
                  <a:pt x="1970" y="217"/>
                </a:lnTo>
                <a:lnTo>
                  <a:pt x="1991" y="195"/>
                </a:lnTo>
                <a:lnTo>
                  <a:pt x="2023" y="174"/>
                </a:lnTo>
                <a:lnTo>
                  <a:pt x="2045" y="163"/>
                </a:lnTo>
                <a:lnTo>
                  <a:pt x="2077" y="152"/>
                </a:lnTo>
                <a:lnTo>
                  <a:pt x="2109" y="131"/>
                </a:lnTo>
                <a:lnTo>
                  <a:pt x="2141" y="120"/>
                </a:lnTo>
                <a:lnTo>
                  <a:pt x="2173" y="109"/>
                </a:lnTo>
                <a:lnTo>
                  <a:pt x="2205" y="88"/>
                </a:lnTo>
                <a:lnTo>
                  <a:pt x="2227" y="88"/>
                </a:lnTo>
                <a:lnTo>
                  <a:pt x="2259" y="77"/>
                </a:lnTo>
                <a:lnTo>
                  <a:pt x="2291" y="67"/>
                </a:lnTo>
                <a:lnTo>
                  <a:pt x="2323" y="67"/>
                </a:lnTo>
                <a:lnTo>
                  <a:pt x="2355" y="67"/>
                </a:lnTo>
                <a:lnTo>
                  <a:pt x="2377" y="67"/>
                </a:lnTo>
                <a:lnTo>
                  <a:pt x="2409" y="67"/>
                </a:lnTo>
                <a:lnTo>
                  <a:pt x="2441" y="67"/>
                </a:lnTo>
                <a:lnTo>
                  <a:pt x="2473" y="67"/>
                </a:lnTo>
                <a:lnTo>
                  <a:pt x="2496" y="48"/>
                </a:lnTo>
                <a:lnTo>
                  <a:pt x="2484" y="24"/>
                </a:lnTo>
                <a:lnTo>
                  <a:pt x="2505" y="2"/>
                </a:lnTo>
                <a:lnTo>
                  <a:pt x="2527" y="2"/>
                </a:lnTo>
                <a:lnTo>
                  <a:pt x="2559" y="2"/>
                </a:lnTo>
                <a:lnTo>
                  <a:pt x="2591" y="2"/>
                </a:lnTo>
                <a:lnTo>
                  <a:pt x="2592" y="0"/>
                </a:lnTo>
              </a:path>
            </a:pathLst>
          </a:custGeom>
          <a:noFill/>
          <a:ln cap="rnd" w="507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3557520" y="525240"/>
            <a:ext cx="1447560" cy="641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00"/>
                </a:solidFill>
                <a:latin typeface="Times New Roman"/>
              </a:rPr>
              <a:t>Atrial Systole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0680" y="2666880"/>
            <a:ext cx="883080" cy="702360"/>
          </a:xfrm>
          <a:prstGeom prst="rect">
            <a:avLst/>
          </a:prstGeom>
          <a:solidFill>
            <a:srgbClr val="ffe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Times New Roman"/>
              </a:rPr>
              <a:t>Mitral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Times New Roman"/>
              </a:rPr>
              <a:t>Clos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666880" y="2971800"/>
            <a:ext cx="1676520" cy="76320"/>
          </a:xfrm>
          <a:prstGeom prst="line">
            <a:avLst/>
          </a:prstGeom>
          <a:ln w="507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3584160" y="758880"/>
            <a:ext cx="1854360" cy="335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f273e"/>
                </a:solidFill>
                <a:latin typeface="Times New Roman"/>
              </a:rPr>
              <a:t>Isovolumic contract</a:t>
            </a:r>
            <a:r>
              <a:rPr b="0" lang="zh-CN" sz="1400" spc="-1" strike="noStrike">
                <a:solidFill>
                  <a:srgbClr val="af273e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9240" y="1477800"/>
            <a:ext cx="899640" cy="702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ortic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pen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1752480"/>
            <a:ext cx="1904760" cy="304920"/>
          </a:xfrm>
          <a:prstGeom prst="line">
            <a:avLst/>
          </a:prstGeom>
          <a:ln w="507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33680" y="4937040"/>
            <a:ext cx="442800" cy="5086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73e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af273e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4095000" y="662400"/>
            <a:ext cx="1555200" cy="36684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273e"/>
                </a:solidFill>
                <a:latin typeface="Times New Roman"/>
              </a:rPr>
              <a:t>Rapid Ejection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4561200" y="642600"/>
            <a:ext cx="1623600" cy="335880"/>
          </a:xfrm>
          <a:prstGeom prst="rect">
            <a:avLst/>
          </a:prstGeom>
          <a:solidFill>
            <a:srgbClr val="ffe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duced Ejection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5036400" y="669240"/>
            <a:ext cx="1674000" cy="335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f273e"/>
                </a:solidFill>
                <a:latin typeface="Times New Roman"/>
              </a:rPr>
              <a:t>Isovolumic Relax.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07720" y="1706400"/>
            <a:ext cx="835920" cy="702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ortic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os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638680" y="1981080"/>
            <a:ext cx="2743200" cy="76320"/>
          </a:xfrm>
          <a:prstGeom prst="line">
            <a:avLst/>
          </a:prstGeom>
          <a:ln w="507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5617440" y="628560"/>
            <a:ext cx="1472760" cy="5187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Rapid Ventricular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Filling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23200" y="2468520"/>
            <a:ext cx="819000" cy="702360"/>
          </a:xfrm>
          <a:prstGeom prst="rect">
            <a:avLst/>
          </a:prstGeom>
          <a:solidFill>
            <a:srgbClr val="ffe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Times New Roman"/>
              </a:rPr>
              <a:t>Mitral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Times New Roman"/>
              </a:rPr>
              <a:t>open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084360" y="2852640"/>
            <a:ext cx="2057400" cy="76320"/>
          </a:xfrm>
          <a:prstGeom prst="line">
            <a:avLst/>
          </a:prstGeom>
          <a:ln w="507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29320" y="5775480"/>
            <a:ext cx="442800" cy="5086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6078960" y="671400"/>
            <a:ext cx="1920960" cy="579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Reduced Ventricular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Filling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7214760" y="601560"/>
            <a:ext cx="1447920" cy="641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00"/>
                </a:solidFill>
                <a:latin typeface="Times New Roman"/>
              </a:rPr>
              <a:t>Atrial Systole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5400000">
            <a:off x="-273960" y="1577160"/>
            <a:ext cx="1549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&gt;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8240760" y="5635080"/>
            <a:ext cx="97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&gt;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FOfficeDoc1"/>
          <p:cNvGraphicFramePr/>
          <p:nvPr/>
        </p:nvGraphicFramePr>
        <p:xfrm>
          <a:off x="0" y="65160"/>
          <a:ext cx="9144000" cy="67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160"/>
                    <a:ext cx="9144000" cy="67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I Cardiac Outp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roke Volume – The volume pumped by the heart with each beat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end diastole volume – end systole volume, about 70 m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Ejection Fraction – Stroke volume accounts for the percentage of the end diastolic volume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stroke volume / end diastole volume X 100%, normal range, 55-65%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I Cardiac Outp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Minute Volume, or Cardiac Output – the volume of the blood pumped by one ventricle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stroke volume X heart r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varies with sex, age, and exerci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ardiac Index, the cardiac output per square meter of body surface are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malized data for different size individuals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mal range is about 3.0 – 3.5 L/min/m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67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ants of Cardiac Output (CO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3504960"/>
            <a:ext cx="23148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e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4419720"/>
            <a:ext cx="231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60" indent="-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art Rate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37400" y="3505320"/>
            <a:ext cx="210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load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19640" y="170028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tractility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0800000">
            <a:off x="6063840" y="3552480"/>
            <a:ext cx="746280" cy="431640"/>
          </a:xfrm>
          <a:custGeom>
            <a:avLst/>
            <a:gdLst>
              <a:gd name="textAreaLeft" fmla="*/ 116640 w 746280"/>
              <a:gd name="textAreaRight" fmla="*/ 653040 w 746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60800" y="3571920"/>
            <a:ext cx="744480" cy="431640"/>
          </a:xfrm>
          <a:custGeom>
            <a:avLst/>
            <a:gdLst>
              <a:gd name="textAreaLeft" fmla="*/ 116280 w 744480"/>
              <a:gd name="textAreaRight" fmla="*/ 651600 w 7444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70280" y="5324400"/>
            <a:ext cx="2319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20" indent="-2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rdiac Output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0280" y="3267000"/>
            <a:ext cx="2319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160" indent="-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roke Volum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4533480" y="2732040"/>
            <a:ext cx="838080" cy="384120"/>
          </a:xfrm>
          <a:custGeom>
            <a:avLst/>
            <a:gdLst>
              <a:gd name="textAreaLeft" fmla="*/ 130680 w 838080"/>
              <a:gd name="textAreaRight" fmla="*/ 733320 w 83808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4533480" y="4637160"/>
            <a:ext cx="838440" cy="384120"/>
          </a:xfrm>
          <a:custGeom>
            <a:avLst/>
            <a:gdLst>
              <a:gd name="textAreaLeft" fmla="*/ 131040 w 838440"/>
              <a:gd name="textAreaRight" fmla="*/ 733680 w 83844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4572000"/>
            <a:ext cx="744480" cy="431640"/>
          </a:xfrm>
          <a:custGeom>
            <a:avLst/>
            <a:gdLst>
              <a:gd name="textAreaLeft" fmla="*/ 116280 w 744480"/>
              <a:gd name="textAreaRight" fmla="*/ 651600 w 7444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75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Pre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ount of stretch on the ventricular myocardium prior to contr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Aft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he arterial pressure (or some other measure of the force) that a ventricle must overcome while it contracts during eje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edance to ventricular eje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spcAft>
                <a:spcPts val="601"/>
              </a:spcAft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Contract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941040" indent="-506520"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yocardium’s intrinsic ability to efficiently contract and empty the ventricl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41040" indent="-506520"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independent of preload &amp; afterload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9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9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7920" y="1600200"/>
            <a:ext cx="784656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Determinants of Cardiac Output</a:t>
            </a:r>
            <a:endParaRPr b="0" lang="en-US" sz="43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1.  Preload</a:t>
            </a:r>
            <a:endParaRPr b="0" lang="en-US" sz="43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N FUNCTIONS OF THE CIRCULATORY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ansport and distribute essential substances to the tissues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emove metabolic byproducts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djustment of oxygen and nutrient supply in different physiologic states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egulation of body temperature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umoral communication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80880" y="1447560"/>
            <a:ext cx="83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load = ventricular filling or volum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35812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8800" y="4419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0"/>
            <a:ext cx="7925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Determinants of Cardiac Output- Preload</a:t>
            </a:r>
            <a:endParaRPr b="0" lang="en-US" sz="43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79280" y="2317680"/>
            <a:ext cx="86868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684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load approximated by measuring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Central venous pressure (CVP) = right atrial pressur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Pulmonary capillary diastolic wedge pressure (PCWP) = LVED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ameters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CV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mm Hg (normal range 1 - 5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PCW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mm Hg (normal range 2 - 13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04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ants of Cardiac Output - Preloa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ank-Starling Mechanism of the Hea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intrinsic ability of the heart to adapt to changing volumes of inflowing bl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ank - Starling mechanism of the heart: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789360" cy="55627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962520" y="1219320"/>
            <a:ext cx="51814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ft ventricle (LV) function curve, or Frank - Starling curve (1914):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103176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mal range of the LVEDP, 5-6 mmHg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103176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Optimal initial preload, 15-20 mmHg (Sarcomere, 2.0 – 2.2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84040" indent="-2840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hen the LVEDP &gt; 20 mmHg, LV work is maintained at almost the same level, does not change with the increase of LVEDP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84040" indent="-2840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84040" indent="-2840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ncept of heterometric regula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tors determining the preload (LVEDP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 of the ventricle diastole (filling) – heart r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peed of the venous return (difference between the venous pressure and atrial pressure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mportance of the heterometeric regul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 general, heterometric regulation plays only a short-time role, such as during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body posture change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rtery pressure increase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nbalance of ventricular output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 other conditions, such as exercise, cardiac output is mainly regulated by homometric regulation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04920" y="901800"/>
            <a:ext cx="8458200" cy="59562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228240" y="1440"/>
            <a:ext cx="88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ants of Cardiac Output - Afterloa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hort time change of the arterial pressur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ransit arterial pressure rise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sovolumetric contraction phase become longer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eriod of ejection shorter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troke volume less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re blood left in the ventricle lef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VEDP increase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ough heterometeric regulation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troke volume return to normal in next beat.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9144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ong time high arterial pressure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ough neural and humoral regulation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troke volume is maintained at normal level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thogenesis of the cardiovascular system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1600200"/>
            <a:ext cx="914400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ntractility (neural and humoral regulation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ympathetic nerve (norepinephrine) or the epinephrine and norepinephrine (adrenal gland) enhance the strength and the velocity of the cardiac contraction.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change of myocardial property is independent of the preload.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 call it the contractility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mportance: exert a long – time influence on the cardiac outpu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ants of Cardiac Output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tractility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stemic and Pulmonary Circul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55640" y="80028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601"/>
              </a:spcAft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Contract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yocardium’s intrinsic ability to efficiently contract and empty the ventricl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independent of preload &amp; afterload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3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8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3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687920" cy="60199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ction of Sympathetic Stimul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"/>
          <p:cNvSpPr/>
          <p:nvPr/>
        </p:nvSpPr>
        <p:spPr>
          <a:xfrm>
            <a:off x="4876920" y="762120"/>
            <a:ext cx="426708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mpathetic nerve stimulation increases cardiac contractility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 rest the heart is under sympathetic tone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adrenaline enhances calcium entry into cardiac cells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asympathetic stimulation has little affect on contractility due to the innervation pattern of the heart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ESSURE/VOLUME RELATIONSHIPS UNDER DIFFERENT CONDI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419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15960" y="6102360"/>
            <a:ext cx="444600" cy="520560"/>
          </a:xfrm>
          <a:prstGeom prst="upArrow">
            <a:avLst>
              <a:gd name="adj1" fmla="val 50000"/>
              <a:gd name="adj2" fmla="val 58537"/>
            </a:avLst>
          </a:prstGeom>
          <a:solidFill>
            <a:srgbClr val="ff9933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04200" y="6149880"/>
            <a:ext cx="1587240" cy="458280"/>
          </a:xfrm>
          <a:prstGeom prst="rect">
            <a:avLst/>
          </a:prstGeom>
          <a:solidFill>
            <a:srgbClr val="99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ELOAD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6880" y="6102360"/>
            <a:ext cx="444240" cy="520560"/>
          </a:xfrm>
          <a:prstGeom prst="upArrow">
            <a:avLst>
              <a:gd name="adj1" fmla="val 50000"/>
              <a:gd name="adj2" fmla="val 58584"/>
            </a:avLst>
          </a:prstGeom>
          <a:solidFill>
            <a:srgbClr val="ff9933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95480" y="6149880"/>
            <a:ext cx="1992600" cy="458280"/>
          </a:xfrm>
          <a:prstGeom prst="rect">
            <a:avLst/>
          </a:prstGeom>
          <a:solidFill>
            <a:srgbClr val="99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FTERLOAD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50080" y="6102360"/>
            <a:ext cx="444240" cy="520560"/>
          </a:xfrm>
          <a:prstGeom prst="upArrow">
            <a:avLst>
              <a:gd name="adj1" fmla="val 50000"/>
              <a:gd name="adj2" fmla="val 58584"/>
            </a:avLst>
          </a:prstGeom>
          <a:solidFill>
            <a:srgbClr val="ff9933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62720" y="6149880"/>
            <a:ext cx="2619000" cy="458280"/>
          </a:xfrm>
          <a:prstGeom prst="rect">
            <a:avLst/>
          </a:prstGeom>
          <a:solidFill>
            <a:srgbClr val="99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RACTILIT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23623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range of the heart rate 60 – 100 beats/mi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in physiological limit?, the higher the heart rate, the more blood that the heart pump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ants of Cardiac Output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3600" spc="-1" strike="noStrike">
                <a:solidFill>
                  <a:srgbClr val="fe1f08"/>
                </a:solidFill>
                <a:latin typeface="Times New Roman"/>
              </a:rPr>
              <a:t>The heart rat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6436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248520" y="23004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, at rest (without any regulation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, during exercise (with humoral and neural regulation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685800"/>
            <a:ext cx="9144000" cy="32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Cardiac Output Reser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ximal cardiac output subtracts the normal value.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flects the ability of the heart to adapt the change of environment  (internal or external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1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6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5029200" cy="4557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5029200" y="2286000"/>
            <a:ext cx="4114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level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diastole volume 160 ml (reserve 15ml)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systole residual volume 20 ml (reserve 55ml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heart rate (without the stroke volume decrease )180 beats/min (reserve 105 beats/min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cardiac output (160 – 20) X 180 = 25.2 L/mi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0"/>
            <a:ext cx="91440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rang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diastole volume 145ml – end systole volume 75ml = stroke volume 70 ml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 rate 75 beats/mi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 cardiac output = 70 X 75 = 5.25 L /mi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3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8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3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eart location in the ches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091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. Heart Chamb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533520" y="1028880"/>
            <a:ext cx="7772400" cy="582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. Heart Chamb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9144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pumps bloo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ulmonary circulation  from right ventric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Left Hear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receives oxygenated blood from pulmonary circul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pumps blood into systemic circul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5580000" y="620640"/>
            <a:ext cx="356400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/>
          <p:nvPr/>
        </p:nvSpPr>
        <p:spPr>
          <a:xfrm>
            <a:off x="0" y="1003320"/>
            <a:ext cx="594360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Right Hear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receives venous bloo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fro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systemic circulation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ia superior and inferior vena cava into right atrium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. Heart Valv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392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trioventricul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. tricuspid--between RA and RV; three leafle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. mitral--between LA and LV; two leafle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Semilun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. pulmonic--three leafle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. aortic--three leafle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4284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4:37:25Z</dcterms:created>
  <dc:creator>LCY</dc:creator>
  <dc:description/>
  <dc:language>en-US</dc:language>
  <cp:lastModifiedBy>ZonaNet</cp:lastModifiedBy>
  <dcterms:modified xsi:type="dcterms:W3CDTF">2008-05-03T03:42:08Z</dcterms:modified>
  <cp:revision>109</cp:revision>
  <dc:subject/>
  <dc:title>PowerPoint 演示文稿</dc:title>
</cp:coreProperties>
</file>