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7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7.jpeg" ContentType="image/jpeg"/>
  <Override PartName="/ppt/media/image4.jpeg" ContentType="image/jpeg"/>
  <Override PartName="/ppt/media/image25.png" ContentType="image/png"/>
  <Override PartName="/ppt/media/whoosh.wav" ContentType="audio/x-wav"/>
  <Override PartName="/ppt/media/image5.png" ContentType="image/png"/>
  <Override PartName="/ppt/media/image10.png" ContentType="image/png"/>
  <Override PartName="/ppt/media/image8.png" ContentType="image/png"/>
  <Override PartName="/ppt/media/carbrake.wav" ContentType="audio/x-wav"/>
  <Override PartName="/ppt/media/image11.png" ContentType="image/png"/>
  <Override PartName="/ppt/media/image9.png" ContentType="image/png"/>
  <Override PartName="/ppt/media/image26.jpeg" ContentType="image/jpeg"/>
  <Override PartName="/ppt/media/image27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13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6.jpeg" ContentType="image/jpeg"/>
  <Override PartName="/ppt/media/type.wav" ContentType="audio/x-wav"/>
  <Override PartName="/ppt/media/image19.png" ContentType="image/png"/>
  <Override PartName="/ppt/media/image21.png" ContentType="image/png"/>
  <Override PartName="/ppt/media/camera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230F-555F-45D4-A6B5-23DF7AD6169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22480" y="65412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2960" y="4344480"/>
            <a:ext cx="503064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17520" y="464652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17520" y="487368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17520" y="509904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17520" y="532620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217520" y="55515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217520" y="57783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17520" y="600552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17520" y="623088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17520" y="645804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17520" y="668340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217520" y="69105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217520" y="71373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17520" y="736272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217520" y="758988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17520" y="781524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17520" y="804240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217520" y="82677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22480" y="65412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2960" y="4344480"/>
            <a:ext cx="503064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17520" y="464652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17520" y="487368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17520" y="509904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17520" y="532620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217520" y="55515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17520" y="57783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217520" y="600552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217520" y="623088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17520" y="645804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17520" y="668340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17520" y="69105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217520" y="71373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217520" y="736272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217520" y="758988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17520" y="781524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7520" y="804240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7520" y="82677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output is a function of the interplay of multiple physiologic parameter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ke volume is influenced in a predictable ord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reload first influences contractil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combined effect of preload and contractility then influences the    afterload respon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Only after the stroke volume is established does the heart rate respond to adjust the final cardiac outpu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load can be simply stated as the volume stretching the ventricular muscle prior to ejection.  Afterload is the resistance to flow from the circulatory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ctility has historically been the most difficult parameter to measure in the clinical setting. It clearly is the most important parameter that is affected by cardiac pathology and cardioactive med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ctility has historically been the most difficult parameter to measure in the clinical setting. It clearly is the most important parameter that is affected by cardiac pathology and cardioactive med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22480" y="65412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2960" y="4344480"/>
            <a:ext cx="503064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17520" y="464652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17520" y="487368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17520" y="509904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17520" y="532620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17520" y="55515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17520" y="57783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217520" y="600552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217520" y="623088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17520" y="645804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17520" y="668340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17520" y="69105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217520" y="71373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17520" y="736272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217520" y="758988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17520" y="781524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17520" y="804240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17520" y="8267760"/>
            <a:ext cx="44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3121-E523-42FE-8FC6-A1BA9593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CAD-3821-4C0F-81ED-6D401555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CAB8-F89C-485A-B901-C52925F1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27BD-AB35-4A2D-9C90-8C5300DB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03B2-671F-4090-8C78-852CAC52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E64C-7881-4C1A-A572-AAB4A74C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EAF6-77DB-4BA9-B147-2F480258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0C5D-8BEB-4CB8-974D-B7086D84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EAFB-6C53-4B64-8A14-935F4467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D620-8C27-4CA6-BCC8-B6FDD3DF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ADD7-2AFC-4FF8-9A55-6545DAD3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EDE3-001B-4101-BFDF-0BBF71D4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87A4-CC9A-463E-95BF-3D2FDC7A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4B46-A4C8-4810-B0C8-14395F1A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08D9-BD62-41BA-AFEE-2BF0ECE5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0262-0194-4B85-8BFD-9D003E92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5151-1DD3-4990-A3D6-FA514288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D330-9D2F-4367-9EBB-9C8F857A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C39-5D0C-46D2-A322-D9D5E75B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13B-6539-49EB-A029-8FE33B09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BAE-7703-4990-86A9-4825B681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8C72-CE88-4036-ADBC-6BCD53A1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61C0-950B-4FAE-BC47-2CB907E8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102-4506-4C5C-B28B-BAAFFB7A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B90C-FACF-47FF-BAB8-BE96848F3562}" type="slidenum">
              <a:rPr b="0" lang="ar-SA" sz="14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5E6C-C0D9-4315-B54A-076D79FFB151}" type="slidenum">
              <a:rPr b="0" lang="ar-SA" sz="14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iucy@sdu.edu.cn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rbrak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68360" y="260280"/>
            <a:ext cx="8028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LIU Chuan Yong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刘传勇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Institute of Physiology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Medical School of SDU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Tel 88381175 (lab)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88382098 (office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Email: </a:t>
            </a:r>
            <a:r>
              <a:rPr b="0" lang="zh-CN" sz="3600" spc="-1" strike="noStrike" u="sng">
                <a:solidFill>
                  <a:srgbClr val="ff3399"/>
                </a:solidFill>
                <a:uFillTx/>
                <a:latin typeface="Times New Roman"/>
                <a:hlinkClick r:id="rId1"/>
              </a:rPr>
              <a:t>liucy@sdu.edu.cn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Website: www.physiology.sdu.edu.cn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FOfficeDoc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50920" y="234936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event backward regurgitation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vide low resistance to forward flow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45000" y="533520"/>
            <a:ext cx="35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eart Valv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ction 1 The Heart as a Pump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I Cardiac Cycle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period from the end of one heart contraction to the end of the nex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5580000" cy="48830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5943600" y="2666880"/>
            <a:ext cx="289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ardiac Cycle 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302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astole is longer than systo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equence of systole and diasto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rdiac Cycle: diastole and systo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rcRect l="4810" t="5000" r="0" b="1669"/>
          <a:stretch/>
        </p:blipFill>
        <p:spPr>
          <a:xfrm>
            <a:off x="609480" y="1523880"/>
            <a:ext cx="8077320" cy="45691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295280" y="5791320"/>
            <a:ext cx="1371600" cy="533160"/>
          </a:xfrm>
          <a:prstGeom prst="wedgeRoundRectCallout">
            <a:avLst>
              <a:gd name="adj1" fmla="val 59259"/>
              <a:gd name="adj2" fmla="val -180060"/>
              <a:gd name="adj3" fmla="val 16667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iastole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95880" y="6019920"/>
            <a:ext cx="1371600" cy="533160"/>
          </a:xfrm>
          <a:prstGeom prst="wedgeRoundRectCallout">
            <a:avLst>
              <a:gd name="adj1" fmla="val 39467"/>
              <a:gd name="adj2" fmla="val -192263"/>
              <a:gd name="adj3" fmla="val 16667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ystole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152280"/>
            <a:ext cx="914400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 The Phases of the Cardiac Cycl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eriod of isometric (isovolumetric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or isovolumic) contraction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2279520"/>
            <a:ext cx="563868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Events: ventricular contraction</a:t>
            </a:r>
            <a:r>
              <a:rPr b="0" lang="zh-CN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ventricular pressure rise </a:t>
            </a:r>
            <a:r>
              <a:rPr b="0" lang="zh-CN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trioventricular valve close </a:t>
            </a:r>
            <a:r>
              <a:rPr b="0" lang="zh-CN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e ventricular pressure increase sharply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eriod: 0.05 sec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ortance: enable the ventricular pressure to rise from 0 to the level of aortic pressure (after-load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616720" y="685800"/>
            <a:ext cx="3527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914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zh-CN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eriod of ejection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Events: ventricular contraction continuously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e ventricular pressure rise above the arterial pressure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emilumar valves open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lood pours out of the ventricle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3170160"/>
            <a:ext cx="891540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0880" y="1066680"/>
            <a:ext cx="7772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pid ejection period (0.10s, 60% of the stroke volume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d ejection period (0.15s, 40% of the stroke volume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380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3) Period of isometric (isovolumic) relax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1371600"/>
            <a:ext cx="40672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ts: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ntricular muscle relax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entricular pressure fall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than the aortic pressure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ortic valve close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entricular pressure fall sharply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038480" y="1676520"/>
            <a:ext cx="51055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9144000" cy="20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HAPTER 4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  <a:p>
            <a:pPr marL="284040" indent="-28404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CARDIOVASCULAR SYSTE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019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04920" y="144792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eriod: 0.06-0.08 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ortance: Enable the ventricular pressure fall to the level near the atrial pressure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0" y="0"/>
            <a:ext cx="914400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4) Period of filling of the ventricle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Events: Ventricular muscle relax continuously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e ventricular pressure is equal or lower than the atrial pressure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trioventricular valve open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352680"/>
            <a:ext cx="38098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accumulated in the atria rushes into the ventricular chambers quickly from the atrium to the ventricle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3886200" y="2933640"/>
            <a:ext cx="40957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99072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od of rapid filling.  (0.11s, amount of filling, 2/3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od of reduced filling (0.22s, little blood fills into the ventricle)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5) Atrial systole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ignificance, 30% of the filling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Be of major importance in determining the final cardiac output during high output states or in the failing heart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0" y="3147840"/>
            <a:ext cx="914400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EFT VENTRICULAR PRESSURE/VOLUME P/V LOO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"/>
          <p:cNvSpPr/>
          <p:nvPr/>
        </p:nvSpPr>
        <p:spPr>
          <a:xfrm>
            <a:off x="1752480" y="1828800"/>
            <a:ext cx="0" cy="4267080"/>
          </a:xfrm>
          <a:prstGeom prst="line">
            <a:avLst/>
          </a:prstGeom>
          <a:ln w="12600">
            <a:solidFill>
              <a:srgbClr val="ffcc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752480" y="6095880"/>
            <a:ext cx="5791320" cy="0"/>
          </a:xfrm>
          <a:prstGeom prst="line">
            <a:avLst/>
          </a:prstGeom>
          <a:ln w="12600">
            <a:solidFill>
              <a:srgbClr val="ffcc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-2512440" y="3459960"/>
            <a:ext cx="5842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Times New Roman"/>
              </a:rPr>
              <a:t>LEFT VENTRICULAR PRESSURE (mmHg)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49360" y="6384960"/>
            <a:ext cx="5384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imes New Roman"/>
              </a:rPr>
              <a:t>LEFT VENTRICULAR VOLUME (ml)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5384880"/>
            <a:ext cx="3430440" cy="460440"/>
          </a:xfrm>
          <a:custGeom>
            <a:avLst/>
            <a:gdLst/>
            <a:ahLst/>
            <a:rect l="l" t="t" r="r" b="b"/>
            <a:pathLst>
              <a:path w="2161" h="290">
                <a:moveTo>
                  <a:pt x="0" y="64"/>
                </a:moveTo>
                <a:lnTo>
                  <a:pt x="43" y="107"/>
                </a:lnTo>
                <a:lnTo>
                  <a:pt x="65" y="139"/>
                </a:lnTo>
                <a:lnTo>
                  <a:pt x="97" y="171"/>
                </a:lnTo>
                <a:lnTo>
                  <a:pt x="129" y="182"/>
                </a:lnTo>
                <a:lnTo>
                  <a:pt x="151" y="193"/>
                </a:lnTo>
                <a:lnTo>
                  <a:pt x="236" y="203"/>
                </a:lnTo>
                <a:lnTo>
                  <a:pt x="301" y="225"/>
                </a:lnTo>
                <a:lnTo>
                  <a:pt x="365" y="235"/>
                </a:lnTo>
                <a:lnTo>
                  <a:pt x="397" y="246"/>
                </a:lnTo>
                <a:lnTo>
                  <a:pt x="429" y="246"/>
                </a:lnTo>
                <a:lnTo>
                  <a:pt x="451" y="257"/>
                </a:lnTo>
                <a:lnTo>
                  <a:pt x="483" y="257"/>
                </a:lnTo>
                <a:lnTo>
                  <a:pt x="515" y="257"/>
                </a:lnTo>
                <a:lnTo>
                  <a:pt x="547" y="268"/>
                </a:lnTo>
                <a:lnTo>
                  <a:pt x="579" y="268"/>
                </a:lnTo>
                <a:lnTo>
                  <a:pt x="611" y="268"/>
                </a:lnTo>
                <a:lnTo>
                  <a:pt x="633" y="278"/>
                </a:lnTo>
                <a:lnTo>
                  <a:pt x="665" y="278"/>
                </a:lnTo>
                <a:lnTo>
                  <a:pt x="697" y="278"/>
                </a:lnTo>
                <a:lnTo>
                  <a:pt x="783" y="289"/>
                </a:lnTo>
                <a:lnTo>
                  <a:pt x="847" y="289"/>
                </a:lnTo>
                <a:lnTo>
                  <a:pt x="890" y="289"/>
                </a:lnTo>
                <a:lnTo>
                  <a:pt x="922" y="289"/>
                </a:lnTo>
                <a:lnTo>
                  <a:pt x="954" y="289"/>
                </a:lnTo>
                <a:lnTo>
                  <a:pt x="986" y="289"/>
                </a:lnTo>
                <a:lnTo>
                  <a:pt x="1018" y="289"/>
                </a:lnTo>
                <a:lnTo>
                  <a:pt x="1040" y="289"/>
                </a:lnTo>
                <a:lnTo>
                  <a:pt x="1072" y="289"/>
                </a:lnTo>
                <a:lnTo>
                  <a:pt x="1104" y="289"/>
                </a:lnTo>
                <a:lnTo>
                  <a:pt x="1147" y="289"/>
                </a:lnTo>
                <a:lnTo>
                  <a:pt x="1190" y="289"/>
                </a:lnTo>
                <a:lnTo>
                  <a:pt x="1233" y="289"/>
                </a:lnTo>
                <a:lnTo>
                  <a:pt x="1265" y="289"/>
                </a:lnTo>
                <a:lnTo>
                  <a:pt x="1297" y="289"/>
                </a:lnTo>
                <a:lnTo>
                  <a:pt x="1329" y="289"/>
                </a:lnTo>
                <a:lnTo>
                  <a:pt x="1361" y="278"/>
                </a:lnTo>
                <a:lnTo>
                  <a:pt x="1383" y="278"/>
                </a:lnTo>
                <a:lnTo>
                  <a:pt x="1415" y="268"/>
                </a:lnTo>
                <a:lnTo>
                  <a:pt x="1447" y="257"/>
                </a:lnTo>
                <a:lnTo>
                  <a:pt x="1479" y="246"/>
                </a:lnTo>
                <a:lnTo>
                  <a:pt x="1511" y="235"/>
                </a:lnTo>
                <a:lnTo>
                  <a:pt x="1533" y="235"/>
                </a:lnTo>
                <a:lnTo>
                  <a:pt x="1565" y="214"/>
                </a:lnTo>
                <a:lnTo>
                  <a:pt x="1597" y="214"/>
                </a:lnTo>
                <a:lnTo>
                  <a:pt x="1629" y="193"/>
                </a:lnTo>
                <a:lnTo>
                  <a:pt x="1661" y="182"/>
                </a:lnTo>
                <a:lnTo>
                  <a:pt x="1704" y="171"/>
                </a:lnTo>
                <a:lnTo>
                  <a:pt x="1736" y="150"/>
                </a:lnTo>
                <a:lnTo>
                  <a:pt x="1768" y="139"/>
                </a:lnTo>
                <a:lnTo>
                  <a:pt x="1790" y="128"/>
                </a:lnTo>
                <a:lnTo>
                  <a:pt x="1811" y="96"/>
                </a:lnTo>
                <a:lnTo>
                  <a:pt x="1843" y="75"/>
                </a:lnTo>
                <a:lnTo>
                  <a:pt x="1865" y="53"/>
                </a:lnTo>
                <a:lnTo>
                  <a:pt x="1897" y="21"/>
                </a:lnTo>
                <a:lnTo>
                  <a:pt x="1929" y="10"/>
                </a:lnTo>
                <a:lnTo>
                  <a:pt x="1961" y="0"/>
                </a:lnTo>
                <a:lnTo>
                  <a:pt x="1993" y="0"/>
                </a:lnTo>
                <a:lnTo>
                  <a:pt x="2015" y="0"/>
                </a:lnTo>
                <a:lnTo>
                  <a:pt x="2047" y="0"/>
                </a:lnTo>
                <a:lnTo>
                  <a:pt x="2079" y="0"/>
                </a:lnTo>
                <a:lnTo>
                  <a:pt x="2111" y="0"/>
                </a:lnTo>
                <a:lnTo>
                  <a:pt x="2143" y="0"/>
                </a:lnTo>
                <a:lnTo>
                  <a:pt x="2160" y="16"/>
                </a:lnTo>
              </a:path>
            </a:pathLst>
          </a:custGeom>
          <a:noFill/>
          <a:ln cap="rnd" w="507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248520" y="3276720"/>
            <a:ext cx="0" cy="21333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9420000">
            <a:off x="816840" y="2274120"/>
            <a:ext cx="5660280" cy="421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819520" y="2437920"/>
            <a:ext cx="0" cy="304812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70160" y="5311800"/>
            <a:ext cx="404640" cy="45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641400" y="5235480"/>
            <a:ext cx="387720" cy="45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80040" y="5464080"/>
            <a:ext cx="387720" cy="45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384960" y="3025800"/>
            <a:ext cx="404640" cy="45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098240" y="2263680"/>
            <a:ext cx="370800" cy="45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58720" y="2048040"/>
            <a:ext cx="354240" cy="45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343400" y="6095880"/>
            <a:ext cx="0" cy="763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020840" y="6126120"/>
            <a:ext cx="569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66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24480" y="6095880"/>
            <a:ext cx="0" cy="763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78240" y="6126120"/>
            <a:ext cx="569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66"/>
                </a:solidFill>
                <a:latin typeface="Times New Roman"/>
              </a:rPr>
              <a:t>150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828800" y="6095880"/>
            <a:ext cx="0" cy="763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59240" y="61261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66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355400" y="58514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752480" y="2209680"/>
            <a:ext cx="763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126800" y="1965240"/>
            <a:ext cx="642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120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52480" y="4648320"/>
            <a:ext cx="763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79080" y="44798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752480" y="3352680"/>
            <a:ext cx="763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79080" y="31082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609480" y="44280"/>
            <a:ext cx="853452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4067280" y="2133720"/>
            <a:ext cx="5076720" cy="44402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-28800" y="380880"/>
            <a:ext cx="92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sure changes in the atria,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aves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981000"/>
            <a:ext cx="42116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 wave, the atrial contraction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 wave, bulging of the A-V valves when the ventricles begin to contract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335268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9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9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 wave, at the end of ventricle contraction,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aused by the accumulated blood in the atria while the A-V valves are closed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042920" y="1855800"/>
            <a:ext cx="626580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3124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e sounds heard over the cardiac region produced by the functioning of the heart.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7440" y="30492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rt Soun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3492360" cy="28386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3924360" y="0"/>
            <a:ext cx="499104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ight of the heart 300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: 75/min, 10000 beats /day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million beats /year, 2.5 billion beats/lif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0ml/beat, 7200 l/day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0920" y="414972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The work of the heart in one life is equivalent to lifting 30 tons to the Mount Everes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0880" y="556272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1f08"/>
                </a:solidFill>
                <a:latin typeface="Times New Roman"/>
              </a:rPr>
              <a:t>The busy and hard working heart!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384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art Soun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1- first sound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trioventricular valves and surrounding fluid vibrations as valves close at beginning of ventricular systo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2340000" y="2278080"/>
            <a:ext cx="573732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0"/>
            <a:ext cx="914400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e1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2- second sound closure of aortic and pulmonary semilunar valves at beginning of ventricular diastol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e1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3- third soun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ibrations of the ventricular walls when suddenly distended by the rush of blood from the atria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132000" y="2576520"/>
            <a:ext cx="536436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53719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CARDIAC CYCL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181840" cy="64756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3962520" y="1677960"/>
            <a:ext cx="4097160" cy="1548000"/>
          </a:xfrm>
          <a:custGeom>
            <a:avLst/>
            <a:gdLst/>
            <a:ahLst/>
            <a:rect l="l" t="t" r="r" b="b"/>
            <a:pathLst>
              <a:path w="2581" h="975">
                <a:moveTo>
                  <a:pt x="0" y="911"/>
                </a:moveTo>
                <a:lnTo>
                  <a:pt x="52" y="921"/>
                </a:lnTo>
                <a:lnTo>
                  <a:pt x="84" y="921"/>
                </a:lnTo>
                <a:lnTo>
                  <a:pt x="116" y="910"/>
                </a:lnTo>
                <a:lnTo>
                  <a:pt x="138" y="910"/>
                </a:lnTo>
                <a:lnTo>
                  <a:pt x="170" y="910"/>
                </a:lnTo>
                <a:lnTo>
                  <a:pt x="202" y="910"/>
                </a:lnTo>
                <a:lnTo>
                  <a:pt x="234" y="899"/>
                </a:lnTo>
                <a:lnTo>
                  <a:pt x="266" y="889"/>
                </a:lnTo>
                <a:lnTo>
                  <a:pt x="288" y="878"/>
                </a:lnTo>
                <a:lnTo>
                  <a:pt x="320" y="857"/>
                </a:lnTo>
                <a:lnTo>
                  <a:pt x="330" y="835"/>
                </a:lnTo>
                <a:lnTo>
                  <a:pt x="330" y="803"/>
                </a:lnTo>
                <a:lnTo>
                  <a:pt x="341" y="771"/>
                </a:lnTo>
                <a:lnTo>
                  <a:pt x="341" y="739"/>
                </a:lnTo>
                <a:lnTo>
                  <a:pt x="341" y="717"/>
                </a:lnTo>
                <a:lnTo>
                  <a:pt x="341" y="685"/>
                </a:lnTo>
                <a:lnTo>
                  <a:pt x="352" y="653"/>
                </a:lnTo>
                <a:lnTo>
                  <a:pt x="352" y="621"/>
                </a:lnTo>
                <a:lnTo>
                  <a:pt x="363" y="589"/>
                </a:lnTo>
                <a:lnTo>
                  <a:pt x="373" y="567"/>
                </a:lnTo>
                <a:lnTo>
                  <a:pt x="373" y="535"/>
                </a:lnTo>
                <a:lnTo>
                  <a:pt x="373" y="503"/>
                </a:lnTo>
                <a:lnTo>
                  <a:pt x="384" y="471"/>
                </a:lnTo>
                <a:lnTo>
                  <a:pt x="384" y="439"/>
                </a:lnTo>
                <a:lnTo>
                  <a:pt x="384" y="407"/>
                </a:lnTo>
                <a:lnTo>
                  <a:pt x="395" y="385"/>
                </a:lnTo>
                <a:lnTo>
                  <a:pt x="395" y="353"/>
                </a:lnTo>
                <a:lnTo>
                  <a:pt x="395" y="321"/>
                </a:lnTo>
                <a:lnTo>
                  <a:pt x="416" y="289"/>
                </a:lnTo>
                <a:lnTo>
                  <a:pt x="427" y="257"/>
                </a:lnTo>
                <a:lnTo>
                  <a:pt x="438" y="235"/>
                </a:lnTo>
                <a:lnTo>
                  <a:pt x="459" y="203"/>
                </a:lnTo>
                <a:lnTo>
                  <a:pt x="491" y="182"/>
                </a:lnTo>
                <a:lnTo>
                  <a:pt x="513" y="160"/>
                </a:lnTo>
                <a:lnTo>
                  <a:pt x="534" y="128"/>
                </a:lnTo>
                <a:lnTo>
                  <a:pt x="566" y="96"/>
                </a:lnTo>
                <a:lnTo>
                  <a:pt x="588" y="75"/>
                </a:lnTo>
                <a:lnTo>
                  <a:pt x="598" y="53"/>
                </a:lnTo>
                <a:lnTo>
                  <a:pt x="620" y="43"/>
                </a:lnTo>
                <a:lnTo>
                  <a:pt x="652" y="32"/>
                </a:lnTo>
                <a:lnTo>
                  <a:pt x="684" y="21"/>
                </a:lnTo>
                <a:lnTo>
                  <a:pt x="716" y="11"/>
                </a:lnTo>
                <a:lnTo>
                  <a:pt x="738" y="11"/>
                </a:lnTo>
                <a:lnTo>
                  <a:pt x="770" y="0"/>
                </a:lnTo>
                <a:lnTo>
                  <a:pt x="802" y="0"/>
                </a:lnTo>
                <a:lnTo>
                  <a:pt x="834" y="11"/>
                </a:lnTo>
                <a:lnTo>
                  <a:pt x="855" y="43"/>
                </a:lnTo>
                <a:lnTo>
                  <a:pt x="877" y="53"/>
                </a:lnTo>
                <a:lnTo>
                  <a:pt x="888" y="75"/>
                </a:lnTo>
                <a:lnTo>
                  <a:pt x="909" y="107"/>
                </a:lnTo>
                <a:lnTo>
                  <a:pt x="941" y="128"/>
                </a:lnTo>
                <a:lnTo>
                  <a:pt x="952" y="150"/>
                </a:lnTo>
                <a:lnTo>
                  <a:pt x="984" y="171"/>
                </a:lnTo>
                <a:lnTo>
                  <a:pt x="984" y="193"/>
                </a:lnTo>
                <a:lnTo>
                  <a:pt x="1016" y="225"/>
                </a:lnTo>
                <a:lnTo>
                  <a:pt x="1048" y="246"/>
                </a:lnTo>
                <a:lnTo>
                  <a:pt x="1059" y="268"/>
                </a:lnTo>
                <a:lnTo>
                  <a:pt x="1070" y="300"/>
                </a:lnTo>
                <a:lnTo>
                  <a:pt x="1080" y="332"/>
                </a:lnTo>
                <a:lnTo>
                  <a:pt x="1102" y="353"/>
                </a:lnTo>
                <a:lnTo>
                  <a:pt x="1102" y="375"/>
                </a:lnTo>
                <a:lnTo>
                  <a:pt x="1112" y="407"/>
                </a:lnTo>
                <a:lnTo>
                  <a:pt x="1123" y="439"/>
                </a:lnTo>
                <a:lnTo>
                  <a:pt x="1145" y="450"/>
                </a:lnTo>
                <a:lnTo>
                  <a:pt x="1155" y="482"/>
                </a:lnTo>
                <a:lnTo>
                  <a:pt x="1155" y="514"/>
                </a:lnTo>
                <a:lnTo>
                  <a:pt x="1177" y="535"/>
                </a:lnTo>
                <a:lnTo>
                  <a:pt x="1198" y="557"/>
                </a:lnTo>
                <a:lnTo>
                  <a:pt x="1220" y="578"/>
                </a:lnTo>
                <a:lnTo>
                  <a:pt x="1230" y="600"/>
                </a:lnTo>
                <a:lnTo>
                  <a:pt x="1252" y="621"/>
                </a:lnTo>
                <a:lnTo>
                  <a:pt x="1262" y="653"/>
                </a:lnTo>
                <a:lnTo>
                  <a:pt x="1273" y="675"/>
                </a:lnTo>
                <a:lnTo>
                  <a:pt x="1295" y="707"/>
                </a:lnTo>
                <a:lnTo>
                  <a:pt x="1305" y="739"/>
                </a:lnTo>
                <a:lnTo>
                  <a:pt x="1327" y="760"/>
                </a:lnTo>
                <a:lnTo>
                  <a:pt x="1327" y="782"/>
                </a:lnTo>
                <a:lnTo>
                  <a:pt x="1348" y="814"/>
                </a:lnTo>
                <a:lnTo>
                  <a:pt x="1370" y="835"/>
                </a:lnTo>
                <a:lnTo>
                  <a:pt x="1370" y="857"/>
                </a:lnTo>
                <a:lnTo>
                  <a:pt x="1402" y="878"/>
                </a:lnTo>
                <a:lnTo>
                  <a:pt x="1434" y="899"/>
                </a:lnTo>
                <a:lnTo>
                  <a:pt x="1466" y="910"/>
                </a:lnTo>
                <a:lnTo>
                  <a:pt x="1498" y="921"/>
                </a:lnTo>
                <a:lnTo>
                  <a:pt x="1520" y="921"/>
                </a:lnTo>
                <a:lnTo>
                  <a:pt x="1552" y="932"/>
                </a:lnTo>
                <a:lnTo>
                  <a:pt x="1584" y="942"/>
                </a:lnTo>
                <a:lnTo>
                  <a:pt x="1616" y="942"/>
                </a:lnTo>
                <a:lnTo>
                  <a:pt x="1648" y="953"/>
                </a:lnTo>
                <a:lnTo>
                  <a:pt x="1670" y="953"/>
                </a:lnTo>
                <a:lnTo>
                  <a:pt x="1702" y="953"/>
                </a:lnTo>
                <a:lnTo>
                  <a:pt x="1734" y="964"/>
                </a:lnTo>
                <a:lnTo>
                  <a:pt x="1766" y="964"/>
                </a:lnTo>
                <a:lnTo>
                  <a:pt x="1798" y="974"/>
                </a:lnTo>
                <a:lnTo>
                  <a:pt x="1820" y="974"/>
                </a:lnTo>
                <a:lnTo>
                  <a:pt x="1852" y="974"/>
                </a:lnTo>
                <a:lnTo>
                  <a:pt x="1884" y="974"/>
                </a:lnTo>
                <a:lnTo>
                  <a:pt x="1916" y="974"/>
                </a:lnTo>
                <a:lnTo>
                  <a:pt x="1948" y="964"/>
                </a:lnTo>
                <a:lnTo>
                  <a:pt x="1970" y="953"/>
                </a:lnTo>
                <a:lnTo>
                  <a:pt x="2002" y="953"/>
                </a:lnTo>
                <a:lnTo>
                  <a:pt x="2034" y="953"/>
                </a:lnTo>
                <a:lnTo>
                  <a:pt x="2066" y="953"/>
                </a:lnTo>
                <a:lnTo>
                  <a:pt x="2098" y="953"/>
                </a:lnTo>
                <a:lnTo>
                  <a:pt x="2130" y="953"/>
                </a:lnTo>
                <a:lnTo>
                  <a:pt x="2152" y="953"/>
                </a:lnTo>
                <a:lnTo>
                  <a:pt x="2184" y="953"/>
                </a:lnTo>
                <a:lnTo>
                  <a:pt x="2216" y="953"/>
                </a:lnTo>
                <a:lnTo>
                  <a:pt x="2248" y="953"/>
                </a:lnTo>
                <a:lnTo>
                  <a:pt x="2280" y="942"/>
                </a:lnTo>
                <a:lnTo>
                  <a:pt x="2302" y="942"/>
                </a:lnTo>
                <a:lnTo>
                  <a:pt x="2334" y="932"/>
                </a:lnTo>
                <a:lnTo>
                  <a:pt x="2366" y="932"/>
                </a:lnTo>
                <a:lnTo>
                  <a:pt x="2398" y="932"/>
                </a:lnTo>
                <a:lnTo>
                  <a:pt x="2430" y="932"/>
                </a:lnTo>
                <a:lnTo>
                  <a:pt x="2452" y="932"/>
                </a:lnTo>
                <a:lnTo>
                  <a:pt x="2484" y="921"/>
                </a:lnTo>
                <a:lnTo>
                  <a:pt x="2516" y="910"/>
                </a:lnTo>
                <a:lnTo>
                  <a:pt x="2548" y="910"/>
                </a:lnTo>
                <a:lnTo>
                  <a:pt x="2580" y="910"/>
                </a:lnTo>
                <a:lnTo>
                  <a:pt x="2544" y="911"/>
                </a:lnTo>
              </a:path>
            </a:pathLst>
          </a:custGeom>
          <a:noFill/>
          <a:ln cap="rnd" w="50760">
            <a:solidFill>
              <a:srgbClr val="ff8b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86200" y="1660680"/>
            <a:ext cx="4192560" cy="550800"/>
          </a:xfrm>
          <a:custGeom>
            <a:avLst/>
            <a:gdLst/>
            <a:ahLst/>
            <a:rect l="l" t="t" r="r" b="b"/>
            <a:pathLst>
              <a:path w="2641" h="347">
                <a:moveTo>
                  <a:pt x="0" y="298"/>
                </a:moveTo>
                <a:lnTo>
                  <a:pt x="46" y="289"/>
                </a:lnTo>
                <a:lnTo>
                  <a:pt x="68" y="289"/>
                </a:lnTo>
                <a:lnTo>
                  <a:pt x="100" y="289"/>
                </a:lnTo>
                <a:lnTo>
                  <a:pt x="132" y="300"/>
                </a:lnTo>
                <a:lnTo>
                  <a:pt x="164" y="300"/>
                </a:lnTo>
                <a:lnTo>
                  <a:pt x="186" y="300"/>
                </a:lnTo>
                <a:lnTo>
                  <a:pt x="218" y="300"/>
                </a:lnTo>
                <a:lnTo>
                  <a:pt x="250" y="300"/>
                </a:lnTo>
                <a:lnTo>
                  <a:pt x="282" y="311"/>
                </a:lnTo>
                <a:lnTo>
                  <a:pt x="314" y="311"/>
                </a:lnTo>
                <a:lnTo>
                  <a:pt x="336" y="311"/>
                </a:lnTo>
                <a:lnTo>
                  <a:pt x="368" y="311"/>
                </a:lnTo>
                <a:lnTo>
                  <a:pt x="400" y="321"/>
                </a:lnTo>
                <a:lnTo>
                  <a:pt x="432" y="321"/>
                </a:lnTo>
                <a:lnTo>
                  <a:pt x="453" y="289"/>
                </a:lnTo>
                <a:lnTo>
                  <a:pt x="475" y="268"/>
                </a:lnTo>
                <a:lnTo>
                  <a:pt x="486" y="246"/>
                </a:lnTo>
                <a:lnTo>
                  <a:pt x="496" y="214"/>
                </a:lnTo>
                <a:lnTo>
                  <a:pt x="518" y="204"/>
                </a:lnTo>
                <a:lnTo>
                  <a:pt x="518" y="182"/>
                </a:lnTo>
                <a:lnTo>
                  <a:pt x="550" y="161"/>
                </a:lnTo>
                <a:lnTo>
                  <a:pt x="561" y="139"/>
                </a:lnTo>
                <a:lnTo>
                  <a:pt x="582" y="107"/>
                </a:lnTo>
                <a:lnTo>
                  <a:pt x="603" y="75"/>
                </a:lnTo>
                <a:lnTo>
                  <a:pt x="625" y="64"/>
                </a:lnTo>
                <a:lnTo>
                  <a:pt x="646" y="32"/>
                </a:lnTo>
                <a:lnTo>
                  <a:pt x="668" y="22"/>
                </a:lnTo>
                <a:lnTo>
                  <a:pt x="700" y="22"/>
                </a:lnTo>
                <a:lnTo>
                  <a:pt x="732" y="11"/>
                </a:lnTo>
                <a:lnTo>
                  <a:pt x="764" y="11"/>
                </a:lnTo>
                <a:lnTo>
                  <a:pt x="786" y="0"/>
                </a:lnTo>
                <a:lnTo>
                  <a:pt x="818" y="0"/>
                </a:lnTo>
                <a:lnTo>
                  <a:pt x="850" y="11"/>
                </a:lnTo>
                <a:lnTo>
                  <a:pt x="871" y="43"/>
                </a:lnTo>
                <a:lnTo>
                  <a:pt x="893" y="54"/>
                </a:lnTo>
                <a:lnTo>
                  <a:pt x="925" y="75"/>
                </a:lnTo>
                <a:lnTo>
                  <a:pt x="957" y="96"/>
                </a:lnTo>
                <a:lnTo>
                  <a:pt x="989" y="107"/>
                </a:lnTo>
                <a:lnTo>
                  <a:pt x="1021" y="129"/>
                </a:lnTo>
                <a:lnTo>
                  <a:pt x="1043" y="129"/>
                </a:lnTo>
                <a:lnTo>
                  <a:pt x="1075" y="150"/>
                </a:lnTo>
                <a:lnTo>
                  <a:pt x="1085" y="182"/>
                </a:lnTo>
                <a:lnTo>
                  <a:pt x="1107" y="193"/>
                </a:lnTo>
                <a:lnTo>
                  <a:pt x="1139" y="193"/>
                </a:lnTo>
                <a:lnTo>
                  <a:pt x="1171" y="182"/>
                </a:lnTo>
                <a:lnTo>
                  <a:pt x="1193" y="193"/>
                </a:lnTo>
                <a:lnTo>
                  <a:pt x="1225" y="182"/>
                </a:lnTo>
                <a:lnTo>
                  <a:pt x="1257" y="182"/>
                </a:lnTo>
                <a:lnTo>
                  <a:pt x="1289" y="182"/>
                </a:lnTo>
                <a:lnTo>
                  <a:pt x="1321" y="171"/>
                </a:lnTo>
                <a:lnTo>
                  <a:pt x="1343" y="171"/>
                </a:lnTo>
                <a:lnTo>
                  <a:pt x="1375" y="182"/>
                </a:lnTo>
                <a:lnTo>
                  <a:pt x="1407" y="193"/>
                </a:lnTo>
                <a:lnTo>
                  <a:pt x="1439" y="214"/>
                </a:lnTo>
                <a:lnTo>
                  <a:pt x="1471" y="225"/>
                </a:lnTo>
                <a:lnTo>
                  <a:pt x="1493" y="236"/>
                </a:lnTo>
                <a:lnTo>
                  <a:pt x="1525" y="246"/>
                </a:lnTo>
                <a:lnTo>
                  <a:pt x="1557" y="257"/>
                </a:lnTo>
                <a:lnTo>
                  <a:pt x="1589" y="268"/>
                </a:lnTo>
                <a:lnTo>
                  <a:pt x="1621" y="268"/>
                </a:lnTo>
                <a:lnTo>
                  <a:pt x="1643" y="279"/>
                </a:lnTo>
                <a:lnTo>
                  <a:pt x="1675" y="289"/>
                </a:lnTo>
                <a:lnTo>
                  <a:pt x="1707" y="289"/>
                </a:lnTo>
                <a:lnTo>
                  <a:pt x="1739" y="289"/>
                </a:lnTo>
                <a:lnTo>
                  <a:pt x="1771" y="289"/>
                </a:lnTo>
                <a:lnTo>
                  <a:pt x="1793" y="289"/>
                </a:lnTo>
                <a:lnTo>
                  <a:pt x="1825" y="289"/>
                </a:lnTo>
                <a:lnTo>
                  <a:pt x="1857" y="289"/>
                </a:lnTo>
                <a:lnTo>
                  <a:pt x="1889" y="300"/>
                </a:lnTo>
                <a:lnTo>
                  <a:pt x="1921" y="300"/>
                </a:lnTo>
                <a:lnTo>
                  <a:pt x="1943" y="311"/>
                </a:lnTo>
                <a:lnTo>
                  <a:pt x="1975" y="311"/>
                </a:lnTo>
                <a:lnTo>
                  <a:pt x="2007" y="311"/>
                </a:lnTo>
                <a:lnTo>
                  <a:pt x="2039" y="311"/>
                </a:lnTo>
                <a:lnTo>
                  <a:pt x="2071" y="311"/>
                </a:lnTo>
                <a:lnTo>
                  <a:pt x="2093" y="311"/>
                </a:lnTo>
                <a:lnTo>
                  <a:pt x="2125" y="311"/>
                </a:lnTo>
                <a:lnTo>
                  <a:pt x="2157" y="311"/>
                </a:lnTo>
                <a:lnTo>
                  <a:pt x="2189" y="311"/>
                </a:lnTo>
                <a:lnTo>
                  <a:pt x="2221" y="311"/>
                </a:lnTo>
                <a:lnTo>
                  <a:pt x="2253" y="311"/>
                </a:lnTo>
                <a:lnTo>
                  <a:pt x="2275" y="311"/>
                </a:lnTo>
                <a:lnTo>
                  <a:pt x="2307" y="311"/>
                </a:lnTo>
                <a:lnTo>
                  <a:pt x="2339" y="311"/>
                </a:lnTo>
                <a:lnTo>
                  <a:pt x="2371" y="321"/>
                </a:lnTo>
                <a:lnTo>
                  <a:pt x="2403" y="321"/>
                </a:lnTo>
                <a:lnTo>
                  <a:pt x="2425" y="321"/>
                </a:lnTo>
                <a:lnTo>
                  <a:pt x="2457" y="332"/>
                </a:lnTo>
                <a:lnTo>
                  <a:pt x="2489" y="332"/>
                </a:lnTo>
                <a:lnTo>
                  <a:pt x="2521" y="332"/>
                </a:lnTo>
                <a:lnTo>
                  <a:pt x="2553" y="332"/>
                </a:lnTo>
                <a:lnTo>
                  <a:pt x="2575" y="332"/>
                </a:lnTo>
                <a:lnTo>
                  <a:pt x="2607" y="332"/>
                </a:lnTo>
                <a:lnTo>
                  <a:pt x="2640" y="346"/>
                </a:lnTo>
              </a:path>
            </a:pathLst>
          </a:custGeom>
          <a:noFill/>
          <a:ln cap="rnd" w="507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59280" y="2987640"/>
            <a:ext cx="4119480" cy="187200"/>
          </a:xfrm>
          <a:custGeom>
            <a:avLst/>
            <a:gdLst/>
            <a:ahLst/>
            <a:rect l="l" t="t" r="r" b="b"/>
            <a:pathLst>
              <a:path w="2595" h="118">
                <a:moveTo>
                  <a:pt x="2" y="86"/>
                </a:moveTo>
                <a:lnTo>
                  <a:pt x="0" y="42"/>
                </a:lnTo>
                <a:lnTo>
                  <a:pt x="22" y="42"/>
                </a:lnTo>
                <a:lnTo>
                  <a:pt x="54" y="21"/>
                </a:lnTo>
                <a:lnTo>
                  <a:pt x="86" y="21"/>
                </a:lnTo>
                <a:lnTo>
                  <a:pt x="118" y="10"/>
                </a:lnTo>
                <a:lnTo>
                  <a:pt x="140" y="10"/>
                </a:lnTo>
                <a:lnTo>
                  <a:pt x="172" y="10"/>
                </a:lnTo>
                <a:lnTo>
                  <a:pt x="193" y="32"/>
                </a:lnTo>
                <a:lnTo>
                  <a:pt x="215" y="32"/>
                </a:lnTo>
                <a:lnTo>
                  <a:pt x="247" y="42"/>
                </a:lnTo>
                <a:lnTo>
                  <a:pt x="257" y="64"/>
                </a:lnTo>
                <a:lnTo>
                  <a:pt x="279" y="64"/>
                </a:lnTo>
                <a:lnTo>
                  <a:pt x="311" y="74"/>
                </a:lnTo>
                <a:lnTo>
                  <a:pt x="343" y="85"/>
                </a:lnTo>
                <a:lnTo>
                  <a:pt x="365" y="85"/>
                </a:lnTo>
                <a:lnTo>
                  <a:pt x="397" y="74"/>
                </a:lnTo>
                <a:lnTo>
                  <a:pt x="429" y="64"/>
                </a:lnTo>
                <a:lnTo>
                  <a:pt x="461" y="64"/>
                </a:lnTo>
                <a:lnTo>
                  <a:pt x="493" y="64"/>
                </a:lnTo>
                <a:lnTo>
                  <a:pt x="515" y="64"/>
                </a:lnTo>
                <a:lnTo>
                  <a:pt x="547" y="64"/>
                </a:lnTo>
                <a:lnTo>
                  <a:pt x="579" y="64"/>
                </a:lnTo>
                <a:lnTo>
                  <a:pt x="611" y="64"/>
                </a:lnTo>
                <a:lnTo>
                  <a:pt x="643" y="64"/>
                </a:lnTo>
                <a:lnTo>
                  <a:pt x="665" y="64"/>
                </a:lnTo>
                <a:lnTo>
                  <a:pt x="697" y="64"/>
                </a:lnTo>
                <a:lnTo>
                  <a:pt x="729" y="64"/>
                </a:lnTo>
                <a:lnTo>
                  <a:pt x="761" y="64"/>
                </a:lnTo>
                <a:lnTo>
                  <a:pt x="793" y="64"/>
                </a:lnTo>
                <a:lnTo>
                  <a:pt x="815" y="64"/>
                </a:lnTo>
                <a:lnTo>
                  <a:pt x="847" y="64"/>
                </a:lnTo>
                <a:lnTo>
                  <a:pt x="879" y="64"/>
                </a:lnTo>
                <a:lnTo>
                  <a:pt x="911" y="53"/>
                </a:lnTo>
                <a:lnTo>
                  <a:pt x="943" y="53"/>
                </a:lnTo>
                <a:lnTo>
                  <a:pt x="975" y="53"/>
                </a:lnTo>
                <a:lnTo>
                  <a:pt x="997" y="42"/>
                </a:lnTo>
                <a:lnTo>
                  <a:pt x="1029" y="32"/>
                </a:lnTo>
                <a:lnTo>
                  <a:pt x="1061" y="32"/>
                </a:lnTo>
                <a:lnTo>
                  <a:pt x="1093" y="32"/>
                </a:lnTo>
                <a:lnTo>
                  <a:pt x="1125" y="32"/>
                </a:lnTo>
                <a:lnTo>
                  <a:pt x="1147" y="32"/>
                </a:lnTo>
                <a:lnTo>
                  <a:pt x="1179" y="21"/>
                </a:lnTo>
                <a:lnTo>
                  <a:pt x="1211" y="21"/>
                </a:lnTo>
                <a:lnTo>
                  <a:pt x="1243" y="21"/>
                </a:lnTo>
                <a:lnTo>
                  <a:pt x="1275" y="21"/>
                </a:lnTo>
                <a:lnTo>
                  <a:pt x="1297" y="10"/>
                </a:lnTo>
                <a:lnTo>
                  <a:pt x="1329" y="10"/>
                </a:lnTo>
                <a:lnTo>
                  <a:pt x="1361" y="10"/>
                </a:lnTo>
                <a:lnTo>
                  <a:pt x="1393" y="0"/>
                </a:lnTo>
                <a:lnTo>
                  <a:pt x="1414" y="32"/>
                </a:lnTo>
                <a:lnTo>
                  <a:pt x="1436" y="53"/>
                </a:lnTo>
                <a:lnTo>
                  <a:pt x="1468" y="74"/>
                </a:lnTo>
                <a:lnTo>
                  <a:pt x="1500" y="85"/>
                </a:lnTo>
                <a:lnTo>
                  <a:pt x="1522" y="85"/>
                </a:lnTo>
                <a:lnTo>
                  <a:pt x="1554" y="85"/>
                </a:lnTo>
                <a:lnTo>
                  <a:pt x="1586" y="85"/>
                </a:lnTo>
                <a:lnTo>
                  <a:pt x="1618" y="85"/>
                </a:lnTo>
                <a:lnTo>
                  <a:pt x="1650" y="96"/>
                </a:lnTo>
                <a:lnTo>
                  <a:pt x="1672" y="96"/>
                </a:lnTo>
                <a:lnTo>
                  <a:pt x="1704" y="107"/>
                </a:lnTo>
                <a:lnTo>
                  <a:pt x="1736" y="107"/>
                </a:lnTo>
                <a:lnTo>
                  <a:pt x="1768" y="117"/>
                </a:lnTo>
                <a:lnTo>
                  <a:pt x="1800" y="117"/>
                </a:lnTo>
                <a:lnTo>
                  <a:pt x="1822" y="117"/>
                </a:lnTo>
                <a:lnTo>
                  <a:pt x="1854" y="117"/>
                </a:lnTo>
                <a:lnTo>
                  <a:pt x="1886" y="117"/>
                </a:lnTo>
                <a:lnTo>
                  <a:pt x="1918" y="117"/>
                </a:lnTo>
                <a:lnTo>
                  <a:pt x="1950" y="117"/>
                </a:lnTo>
                <a:lnTo>
                  <a:pt x="1972" y="117"/>
                </a:lnTo>
                <a:lnTo>
                  <a:pt x="2004" y="117"/>
                </a:lnTo>
                <a:lnTo>
                  <a:pt x="2047" y="117"/>
                </a:lnTo>
                <a:lnTo>
                  <a:pt x="2079" y="117"/>
                </a:lnTo>
                <a:lnTo>
                  <a:pt x="2111" y="117"/>
                </a:lnTo>
                <a:lnTo>
                  <a:pt x="2143" y="117"/>
                </a:lnTo>
                <a:lnTo>
                  <a:pt x="2175" y="107"/>
                </a:lnTo>
                <a:lnTo>
                  <a:pt x="2218" y="96"/>
                </a:lnTo>
                <a:lnTo>
                  <a:pt x="2250" y="96"/>
                </a:lnTo>
                <a:lnTo>
                  <a:pt x="2282" y="85"/>
                </a:lnTo>
                <a:lnTo>
                  <a:pt x="2304" y="85"/>
                </a:lnTo>
                <a:lnTo>
                  <a:pt x="2336" y="74"/>
                </a:lnTo>
                <a:lnTo>
                  <a:pt x="2368" y="74"/>
                </a:lnTo>
                <a:lnTo>
                  <a:pt x="2400" y="64"/>
                </a:lnTo>
                <a:lnTo>
                  <a:pt x="2432" y="64"/>
                </a:lnTo>
                <a:lnTo>
                  <a:pt x="2454" y="53"/>
                </a:lnTo>
                <a:lnTo>
                  <a:pt x="2486" y="53"/>
                </a:lnTo>
                <a:lnTo>
                  <a:pt x="2518" y="53"/>
                </a:lnTo>
                <a:lnTo>
                  <a:pt x="2550" y="53"/>
                </a:lnTo>
                <a:lnTo>
                  <a:pt x="2582" y="53"/>
                </a:lnTo>
                <a:lnTo>
                  <a:pt x="2594" y="38"/>
                </a:lnTo>
              </a:path>
            </a:pathLst>
          </a:custGeom>
          <a:noFill/>
          <a:ln cap="rnd" w="507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62520" y="4343400"/>
            <a:ext cx="4116240" cy="1177920"/>
          </a:xfrm>
          <a:custGeom>
            <a:avLst/>
            <a:gdLst/>
            <a:ahLst/>
            <a:rect l="l" t="t" r="r" b="b"/>
            <a:pathLst>
              <a:path w="2593" h="742">
                <a:moveTo>
                  <a:pt x="0" y="48"/>
                </a:moveTo>
                <a:lnTo>
                  <a:pt x="95" y="56"/>
                </a:lnTo>
                <a:lnTo>
                  <a:pt x="127" y="56"/>
                </a:lnTo>
                <a:lnTo>
                  <a:pt x="159" y="35"/>
                </a:lnTo>
                <a:lnTo>
                  <a:pt x="191" y="24"/>
                </a:lnTo>
                <a:lnTo>
                  <a:pt x="223" y="24"/>
                </a:lnTo>
                <a:lnTo>
                  <a:pt x="245" y="24"/>
                </a:lnTo>
                <a:lnTo>
                  <a:pt x="277" y="24"/>
                </a:lnTo>
                <a:lnTo>
                  <a:pt x="309" y="24"/>
                </a:lnTo>
                <a:lnTo>
                  <a:pt x="341" y="24"/>
                </a:lnTo>
                <a:lnTo>
                  <a:pt x="373" y="24"/>
                </a:lnTo>
                <a:lnTo>
                  <a:pt x="395" y="24"/>
                </a:lnTo>
                <a:lnTo>
                  <a:pt x="427" y="35"/>
                </a:lnTo>
                <a:lnTo>
                  <a:pt x="448" y="67"/>
                </a:lnTo>
                <a:lnTo>
                  <a:pt x="470" y="88"/>
                </a:lnTo>
                <a:lnTo>
                  <a:pt x="491" y="120"/>
                </a:lnTo>
                <a:lnTo>
                  <a:pt x="502" y="142"/>
                </a:lnTo>
                <a:lnTo>
                  <a:pt x="523" y="174"/>
                </a:lnTo>
                <a:lnTo>
                  <a:pt x="523" y="206"/>
                </a:lnTo>
                <a:lnTo>
                  <a:pt x="534" y="238"/>
                </a:lnTo>
                <a:lnTo>
                  <a:pt x="555" y="270"/>
                </a:lnTo>
                <a:lnTo>
                  <a:pt x="566" y="292"/>
                </a:lnTo>
                <a:lnTo>
                  <a:pt x="588" y="324"/>
                </a:lnTo>
                <a:lnTo>
                  <a:pt x="620" y="345"/>
                </a:lnTo>
                <a:lnTo>
                  <a:pt x="630" y="367"/>
                </a:lnTo>
                <a:lnTo>
                  <a:pt x="630" y="399"/>
                </a:lnTo>
                <a:lnTo>
                  <a:pt x="641" y="431"/>
                </a:lnTo>
                <a:lnTo>
                  <a:pt x="663" y="452"/>
                </a:lnTo>
                <a:lnTo>
                  <a:pt x="673" y="474"/>
                </a:lnTo>
                <a:lnTo>
                  <a:pt x="695" y="495"/>
                </a:lnTo>
                <a:lnTo>
                  <a:pt x="716" y="527"/>
                </a:lnTo>
                <a:lnTo>
                  <a:pt x="727" y="549"/>
                </a:lnTo>
                <a:lnTo>
                  <a:pt x="759" y="570"/>
                </a:lnTo>
                <a:lnTo>
                  <a:pt x="791" y="602"/>
                </a:lnTo>
                <a:lnTo>
                  <a:pt x="802" y="624"/>
                </a:lnTo>
                <a:lnTo>
                  <a:pt x="823" y="656"/>
                </a:lnTo>
                <a:lnTo>
                  <a:pt x="845" y="666"/>
                </a:lnTo>
                <a:lnTo>
                  <a:pt x="877" y="677"/>
                </a:lnTo>
                <a:lnTo>
                  <a:pt x="909" y="677"/>
                </a:lnTo>
                <a:lnTo>
                  <a:pt x="930" y="699"/>
                </a:lnTo>
                <a:lnTo>
                  <a:pt x="952" y="709"/>
                </a:lnTo>
                <a:lnTo>
                  <a:pt x="984" y="720"/>
                </a:lnTo>
                <a:lnTo>
                  <a:pt x="1016" y="731"/>
                </a:lnTo>
                <a:lnTo>
                  <a:pt x="1048" y="741"/>
                </a:lnTo>
                <a:lnTo>
                  <a:pt x="1070" y="741"/>
                </a:lnTo>
                <a:lnTo>
                  <a:pt x="1102" y="741"/>
                </a:lnTo>
                <a:lnTo>
                  <a:pt x="1134" y="741"/>
                </a:lnTo>
                <a:lnTo>
                  <a:pt x="1166" y="731"/>
                </a:lnTo>
                <a:lnTo>
                  <a:pt x="1198" y="731"/>
                </a:lnTo>
                <a:lnTo>
                  <a:pt x="1220" y="731"/>
                </a:lnTo>
                <a:lnTo>
                  <a:pt x="1252" y="731"/>
                </a:lnTo>
                <a:lnTo>
                  <a:pt x="1284" y="731"/>
                </a:lnTo>
                <a:lnTo>
                  <a:pt x="1316" y="731"/>
                </a:lnTo>
                <a:lnTo>
                  <a:pt x="1337" y="709"/>
                </a:lnTo>
                <a:lnTo>
                  <a:pt x="1359" y="688"/>
                </a:lnTo>
                <a:lnTo>
                  <a:pt x="1391" y="677"/>
                </a:lnTo>
                <a:lnTo>
                  <a:pt x="1423" y="666"/>
                </a:lnTo>
                <a:lnTo>
                  <a:pt x="1445" y="645"/>
                </a:lnTo>
                <a:lnTo>
                  <a:pt x="1477" y="634"/>
                </a:lnTo>
                <a:lnTo>
                  <a:pt x="1498" y="602"/>
                </a:lnTo>
                <a:lnTo>
                  <a:pt x="1520" y="591"/>
                </a:lnTo>
                <a:lnTo>
                  <a:pt x="1530" y="559"/>
                </a:lnTo>
                <a:lnTo>
                  <a:pt x="1552" y="549"/>
                </a:lnTo>
                <a:lnTo>
                  <a:pt x="1573" y="527"/>
                </a:lnTo>
                <a:lnTo>
                  <a:pt x="1595" y="516"/>
                </a:lnTo>
                <a:lnTo>
                  <a:pt x="1616" y="484"/>
                </a:lnTo>
                <a:lnTo>
                  <a:pt x="1627" y="452"/>
                </a:lnTo>
                <a:lnTo>
                  <a:pt x="1659" y="420"/>
                </a:lnTo>
                <a:lnTo>
                  <a:pt x="1691" y="399"/>
                </a:lnTo>
                <a:lnTo>
                  <a:pt x="1712" y="377"/>
                </a:lnTo>
                <a:lnTo>
                  <a:pt x="1734" y="367"/>
                </a:lnTo>
                <a:lnTo>
                  <a:pt x="1745" y="345"/>
                </a:lnTo>
                <a:lnTo>
                  <a:pt x="1777" y="334"/>
                </a:lnTo>
                <a:lnTo>
                  <a:pt x="1809" y="313"/>
                </a:lnTo>
                <a:lnTo>
                  <a:pt x="1841" y="281"/>
                </a:lnTo>
                <a:lnTo>
                  <a:pt x="1873" y="281"/>
                </a:lnTo>
                <a:lnTo>
                  <a:pt x="1884" y="259"/>
                </a:lnTo>
                <a:lnTo>
                  <a:pt x="1916" y="238"/>
                </a:lnTo>
                <a:lnTo>
                  <a:pt x="1948" y="227"/>
                </a:lnTo>
                <a:lnTo>
                  <a:pt x="1970" y="217"/>
                </a:lnTo>
                <a:lnTo>
                  <a:pt x="1991" y="195"/>
                </a:lnTo>
                <a:lnTo>
                  <a:pt x="2023" y="174"/>
                </a:lnTo>
                <a:lnTo>
                  <a:pt x="2045" y="163"/>
                </a:lnTo>
                <a:lnTo>
                  <a:pt x="2077" y="152"/>
                </a:lnTo>
                <a:lnTo>
                  <a:pt x="2109" y="131"/>
                </a:lnTo>
                <a:lnTo>
                  <a:pt x="2141" y="120"/>
                </a:lnTo>
                <a:lnTo>
                  <a:pt x="2173" y="109"/>
                </a:lnTo>
                <a:lnTo>
                  <a:pt x="2205" y="88"/>
                </a:lnTo>
                <a:lnTo>
                  <a:pt x="2227" y="88"/>
                </a:lnTo>
                <a:lnTo>
                  <a:pt x="2259" y="77"/>
                </a:lnTo>
                <a:lnTo>
                  <a:pt x="2291" y="67"/>
                </a:lnTo>
                <a:lnTo>
                  <a:pt x="2323" y="67"/>
                </a:lnTo>
                <a:lnTo>
                  <a:pt x="2355" y="67"/>
                </a:lnTo>
                <a:lnTo>
                  <a:pt x="2377" y="67"/>
                </a:lnTo>
                <a:lnTo>
                  <a:pt x="2409" y="67"/>
                </a:lnTo>
                <a:lnTo>
                  <a:pt x="2441" y="67"/>
                </a:lnTo>
                <a:lnTo>
                  <a:pt x="2473" y="67"/>
                </a:lnTo>
                <a:lnTo>
                  <a:pt x="2496" y="48"/>
                </a:lnTo>
                <a:lnTo>
                  <a:pt x="2484" y="24"/>
                </a:lnTo>
                <a:lnTo>
                  <a:pt x="2505" y="2"/>
                </a:lnTo>
                <a:lnTo>
                  <a:pt x="2527" y="2"/>
                </a:lnTo>
                <a:lnTo>
                  <a:pt x="2559" y="2"/>
                </a:lnTo>
                <a:lnTo>
                  <a:pt x="2591" y="2"/>
                </a:lnTo>
                <a:lnTo>
                  <a:pt x="2592" y="0"/>
                </a:lnTo>
              </a:path>
            </a:pathLst>
          </a:custGeom>
          <a:noFill/>
          <a:ln cap="rnd" w="507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3557520" y="525240"/>
            <a:ext cx="1447560" cy="6411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0000"/>
                </a:solidFill>
                <a:latin typeface="Times New Roman"/>
              </a:rPr>
              <a:t>Atrial Systole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750680" y="2666880"/>
            <a:ext cx="883080" cy="702360"/>
          </a:xfrm>
          <a:prstGeom prst="rect">
            <a:avLst/>
          </a:prstGeom>
          <a:solidFill>
            <a:srgbClr val="ffe1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00"/>
                </a:solidFill>
                <a:latin typeface="Times New Roman"/>
              </a:rPr>
              <a:t>Mitral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00"/>
                </a:solidFill>
                <a:latin typeface="Times New Roman"/>
              </a:rPr>
              <a:t>Close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666880" y="2971800"/>
            <a:ext cx="1676520" cy="76320"/>
          </a:xfrm>
          <a:prstGeom prst="line">
            <a:avLst/>
          </a:prstGeom>
          <a:ln w="507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3584160" y="758880"/>
            <a:ext cx="1854360" cy="335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f273e"/>
                </a:solidFill>
                <a:latin typeface="Times New Roman"/>
              </a:rPr>
              <a:t>Isovolumic contract</a:t>
            </a:r>
            <a:r>
              <a:rPr b="0" lang="zh-CN" sz="1400" spc="-1" strike="noStrike">
                <a:solidFill>
                  <a:srgbClr val="af273e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59240" y="1477800"/>
            <a:ext cx="899640" cy="7023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ortic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pen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0920" y="1752480"/>
            <a:ext cx="1904760" cy="304920"/>
          </a:xfrm>
          <a:prstGeom prst="line">
            <a:avLst/>
          </a:prstGeom>
          <a:ln w="507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33680" y="4937040"/>
            <a:ext cx="442800" cy="5086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273e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af273e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6200000">
            <a:off x="4095000" y="662400"/>
            <a:ext cx="1555200" cy="366840"/>
          </a:xfrm>
          <a:prstGeom prst="rect">
            <a:avLst/>
          </a:pr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273e"/>
                </a:solidFill>
                <a:latin typeface="Times New Roman"/>
              </a:rPr>
              <a:t>Rapid Ejection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16200000">
            <a:off x="4561200" y="642600"/>
            <a:ext cx="1623600" cy="335880"/>
          </a:xfrm>
          <a:prstGeom prst="rect">
            <a:avLst/>
          </a:prstGeom>
          <a:solidFill>
            <a:srgbClr val="ffe1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duced Ejection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5036400" y="669240"/>
            <a:ext cx="1674000" cy="335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f273e"/>
                </a:solidFill>
                <a:latin typeface="Times New Roman"/>
              </a:rPr>
              <a:t>Isovolumic Relax.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307720" y="1706400"/>
            <a:ext cx="835920" cy="7023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ortic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lose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5638680" y="1981080"/>
            <a:ext cx="2743200" cy="76320"/>
          </a:xfrm>
          <a:prstGeom prst="line">
            <a:avLst/>
          </a:prstGeom>
          <a:ln w="507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rot="16200000">
            <a:off x="5617440" y="628560"/>
            <a:ext cx="1472760" cy="51876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Times New Roman"/>
              </a:rPr>
              <a:t>Rapid Ventricular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99"/>
                </a:solidFill>
                <a:latin typeface="Times New Roman"/>
              </a:rPr>
              <a:t>Filling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23200" y="2468520"/>
            <a:ext cx="819000" cy="702360"/>
          </a:xfrm>
          <a:prstGeom prst="rect">
            <a:avLst/>
          </a:prstGeom>
          <a:solidFill>
            <a:srgbClr val="ffe1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00"/>
                </a:solidFill>
                <a:latin typeface="Times New Roman"/>
              </a:rPr>
              <a:t>Mitral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00"/>
                </a:solidFill>
                <a:latin typeface="Times New Roman"/>
              </a:rPr>
              <a:t>opens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6084360" y="2852640"/>
            <a:ext cx="2057400" cy="76320"/>
          </a:xfrm>
          <a:prstGeom prst="line">
            <a:avLst/>
          </a:prstGeom>
          <a:ln w="507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29320" y="5775480"/>
            <a:ext cx="442800" cy="5086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3300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6200000">
            <a:off x="6078960" y="671400"/>
            <a:ext cx="1920960" cy="5792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99"/>
                </a:solidFill>
                <a:latin typeface="Times New Roman"/>
              </a:rPr>
              <a:t>Reduced Ventricular 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99"/>
                </a:solidFill>
                <a:latin typeface="Times New Roman"/>
              </a:rPr>
              <a:t>Filling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7214760" y="601560"/>
            <a:ext cx="1447920" cy="6411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0000"/>
                </a:solidFill>
                <a:latin typeface="Times New Roman"/>
              </a:rPr>
              <a:t>Atrial Systole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5400000">
            <a:off x="-273960" y="1577160"/>
            <a:ext cx="1549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&gt;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5400000">
            <a:off x="8240760" y="5635080"/>
            <a:ext cx="97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&gt;D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FOfficeDoc1"/>
          <p:cNvGraphicFramePr/>
          <p:nvPr/>
        </p:nvGraphicFramePr>
        <p:xfrm>
          <a:off x="0" y="65160"/>
          <a:ext cx="9144000" cy="67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160"/>
                    <a:ext cx="9144000" cy="67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II Cardiac Outpu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troke Volume – The volume pumped by the heart with each beat,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 end diastole volume – end systole volume, about 70 m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 Ejection Fraction – Stroke volume accounts for the percentage of the end diastolic volume,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 stroke volume / end diastole volume X 100%, normal range, 55-65%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II Cardiac Outpu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Minute Volume, or Cardiac Output – the volume of the blood pumped by one ventricle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stroke volume X heart rate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varies with sex, age, and exerci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Cardiac Index, the cardiac output per square meter of body surface area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ormalized data for different size individuals,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ormal range is about 3.0 – 3.5 L/min/m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677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terminants of Cardiac Output (CO)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3504960"/>
            <a:ext cx="23148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e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"/>
          <p:cNvSpPr/>
          <p:nvPr/>
        </p:nvSpPr>
        <p:spPr>
          <a:xfrm>
            <a:off x="1676520" y="4419720"/>
            <a:ext cx="2319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160" indent="-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art Rate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37400" y="3505320"/>
            <a:ext cx="210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fterload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419640" y="170028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80" indent="-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tractility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10800000">
            <a:off x="6063840" y="3552480"/>
            <a:ext cx="746280" cy="431640"/>
          </a:xfrm>
          <a:custGeom>
            <a:avLst/>
            <a:gdLst>
              <a:gd name="textAreaLeft" fmla="*/ 116640 w 746280"/>
              <a:gd name="textAreaRight" fmla="*/ 653040 w 7462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60800" y="3571920"/>
            <a:ext cx="744480" cy="431640"/>
          </a:xfrm>
          <a:custGeom>
            <a:avLst/>
            <a:gdLst>
              <a:gd name="textAreaLeft" fmla="*/ 116280 w 744480"/>
              <a:gd name="textAreaRight" fmla="*/ 651600 w 7444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70280" y="5324400"/>
            <a:ext cx="2319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520" indent="-2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ardiac Output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70280" y="3267000"/>
            <a:ext cx="2319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160" indent="-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roke Volum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5400000">
            <a:off x="4533480" y="2732040"/>
            <a:ext cx="838080" cy="384120"/>
          </a:xfrm>
          <a:custGeom>
            <a:avLst/>
            <a:gdLst>
              <a:gd name="textAreaLeft" fmla="*/ 130680 w 838080"/>
              <a:gd name="textAreaRight" fmla="*/ 733320 w 83808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5400000">
            <a:off x="4533480" y="4637160"/>
            <a:ext cx="838440" cy="384120"/>
          </a:xfrm>
          <a:custGeom>
            <a:avLst/>
            <a:gdLst>
              <a:gd name="textAreaLeft" fmla="*/ 131040 w 838440"/>
              <a:gd name="textAreaRight" fmla="*/ 733680 w 83844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09880" y="4572000"/>
            <a:ext cx="744480" cy="431640"/>
          </a:xfrm>
          <a:custGeom>
            <a:avLst/>
            <a:gdLst>
              <a:gd name="textAreaLeft" fmla="*/ 116280 w 744480"/>
              <a:gd name="textAreaRight" fmla="*/ 651600 w 7444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9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4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9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75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Pre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ount of stretch on the ventricular myocardium prior to contrac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Aft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the arterial pressure (or some other measure of the force) that a ventricle must overcome while it contracts during ejec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edance to ventricular ejec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99"/>
              </a:spcBef>
              <a:spcAft>
                <a:spcPts val="601"/>
              </a:spcAft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Black"/>
              </a:rPr>
              <a:t>Contractil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941040" indent="-506520">
              <a:spcBef>
                <a:spcPts val="700"/>
              </a:spcBef>
              <a:buClr>
                <a:srgbClr val="fe1f0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yocardium’s intrinsic ability to efficiently contract and empty the ventricl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941040" indent="-506520">
              <a:spcBef>
                <a:spcPts val="700"/>
              </a:spcBef>
              <a:buClr>
                <a:srgbClr val="fe1f0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(independent of preload &amp; afterload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9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4" dur="5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9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7920" y="1600200"/>
            <a:ext cx="7846560" cy="17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Determinants of Cardiac Output</a:t>
            </a:r>
            <a:endParaRPr b="0" lang="en-US" sz="43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1.  Preload</a:t>
            </a:r>
            <a:endParaRPr b="0" lang="en-US" sz="43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N FUNCTIONS OF THE CIRCULATORY SYSTE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e1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ransport and distribute essential substances to the tissues.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e1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Remove metabolic byproducts.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e1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djustment of oxygen and nutrient supply in different physiologic states.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e1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Regulation of body temperature.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e1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umoral communication.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80880" y="1447560"/>
            <a:ext cx="83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load = ventricular filling or volum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35812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828800" y="4419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0"/>
            <a:ext cx="79250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Determinants of Cardiac Output- Preload</a:t>
            </a:r>
            <a:endParaRPr b="0" lang="en-US" sz="43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179280" y="2317680"/>
            <a:ext cx="86868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6840" y="14475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load approximated by measuring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Central venous pressure (CVP) = right atrial pressur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Pulmonary capillary diastolic wedge pressure (PCWP) = LVEDP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ameters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CV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mm Hg (normal range 1 - 5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PCW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mm Hg (normal range 2 - 13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304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terminants of Cardiac Output - Preload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6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1" dur="5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6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rank-Starling Mechanism of the Hea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intrinsic ability of the heart to adapt to changing volumes of inflowing bl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rank - Starling mechanism of the heart: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3789360" cy="556272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3962520" y="1219320"/>
            <a:ext cx="51814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eft ventricle (LV) function curve, or Frank - Starling curve (1914):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lvl="1" marL="103176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rmal range of the LVEDP, 5-6 mmHg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lvl="1" marL="103176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Optimal initial preload, 15-20 mmHg (Sarcomere, 2.0 – 2.2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µ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m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marL="284040" indent="-28404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When the LVEDP &gt; 20 mmHg, LV work is maintained at almost the same level, does not change with the increase of LVEDP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marL="284040" indent="-28404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echanism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marL="284040" indent="-28404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oncept of heterometric regulation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actors determining the preload (LVEDP)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eriod of the ventricle diastole (filling) – heart rat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peed of the venous return (difference between the venous pressure and atrial pressure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8207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mportance of the heterometeric regul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n general, heterometric regulation plays only a short-time role, such as during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e body posture change,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rtery pressure increase,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unbalance of ventricular outputs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n other conditions, such as exercise, cardiac output is mainly regulated by homometric regulation</a:t>
            </a:r>
            <a:r>
              <a:rPr b="0" lang="zh-CN" sz="28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304920" y="901800"/>
            <a:ext cx="8458200" cy="595620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228240" y="1440"/>
            <a:ext cx="88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terminants of Cardiac Output - Afterload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hort time change of the arterial pressur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ransit arterial pressure rise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sovolumetric contraction phase become longer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eriod of ejection shorter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troke volume less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re blood left in the ventricle lef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LVEDP increase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rough heterometeric regulation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troke volume return to normal in next beat.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2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7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2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7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2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7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2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7" dur="5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2" dur="500"/>
                                        <p:tgtEl>
                                          <p:spTgt spid="5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91440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Long time high arterial pressure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rough neural and humoral regulation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stroke volume is maintained at normal level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thogenesis of the cardiovascular system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1600200"/>
            <a:ext cx="9144000" cy="53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ntractility (neural and humoral regulation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ympathetic nerve (norepinephrine) or the epinephrine and norepinephrine (adrenal gland) enhance the strength and the velocity of the cardiac contraction.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change of myocardial property is independent of the preload.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 call it the contractility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mportance: exert a long – time influence on the cardiac outpu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terminants of Cardiac Output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Contractility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ystemic and Pulmonary Circula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755640" y="800280"/>
            <a:ext cx="807732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spcAft>
                <a:spcPts val="601"/>
              </a:spcAft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Black"/>
              </a:rPr>
              <a:t>Contractil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spcBef>
                <a:spcPts val="700"/>
              </a:spcBef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yocardium’s intrinsic ability to efficiently contract and empty the ventricl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20720" indent="-277200">
              <a:spcBef>
                <a:spcPts val="700"/>
              </a:spcBef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(independent of preload &amp; afterload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3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8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3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4687920" cy="601992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ction of Sympathetic Stimul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"/>
          <p:cNvSpPr/>
          <p:nvPr/>
        </p:nvSpPr>
        <p:spPr>
          <a:xfrm>
            <a:off x="4876920" y="762120"/>
            <a:ext cx="4267080" cy="59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ympathetic nerve stimulation increases cardiac contractility.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t rest the heart is under sympathetic tone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radrenaline enhances calcium entry into cardiac cells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rasympathetic stimulation has little affect on contractility due to the innervation pattern of the heart.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0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5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0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5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ESSURE/VOLUME RELATIONSHIPS UNDER DIFFERENT CONDITIO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839440" cy="441972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615960" y="6102360"/>
            <a:ext cx="444600" cy="520560"/>
          </a:xfrm>
          <a:prstGeom prst="upArrow">
            <a:avLst>
              <a:gd name="adj1" fmla="val 50000"/>
              <a:gd name="adj2" fmla="val 58537"/>
            </a:avLst>
          </a:prstGeom>
          <a:solidFill>
            <a:srgbClr val="ff9933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04200" y="6149880"/>
            <a:ext cx="1587240" cy="458280"/>
          </a:xfrm>
          <a:prstGeom prst="rect">
            <a:avLst/>
          </a:prstGeom>
          <a:solidFill>
            <a:srgbClr val="99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RELOAD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206880" y="6102360"/>
            <a:ext cx="444240" cy="520560"/>
          </a:xfrm>
          <a:prstGeom prst="upArrow">
            <a:avLst>
              <a:gd name="adj1" fmla="val 50000"/>
              <a:gd name="adj2" fmla="val 58584"/>
            </a:avLst>
          </a:prstGeom>
          <a:solidFill>
            <a:srgbClr val="ff9933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95480" y="6149880"/>
            <a:ext cx="1992600" cy="458280"/>
          </a:xfrm>
          <a:prstGeom prst="rect">
            <a:avLst/>
          </a:prstGeom>
          <a:solidFill>
            <a:srgbClr val="99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FTERLOAD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950080" y="6102360"/>
            <a:ext cx="444240" cy="520560"/>
          </a:xfrm>
          <a:prstGeom prst="upArrow">
            <a:avLst>
              <a:gd name="adj1" fmla="val 50000"/>
              <a:gd name="adj2" fmla="val 58584"/>
            </a:avLst>
          </a:prstGeom>
          <a:solidFill>
            <a:srgbClr val="ff9933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62720" y="6149880"/>
            <a:ext cx="2619000" cy="458280"/>
          </a:xfrm>
          <a:prstGeom prst="rect">
            <a:avLst/>
          </a:prstGeom>
          <a:solidFill>
            <a:srgbClr val="99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NTRACTILITY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236232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range of the heart rate 60 – 100 beats/mi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in physiological limit?, the higher the heart rate, the more blood that the heart pump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terminants of Cardiac Output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3600" spc="-1" strike="noStrike">
                <a:solidFill>
                  <a:srgbClr val="fe1f08"/>
                </a:solidFill>
                <a:latin typeface="Times New Roman"/>
              </a:rPr>
              <a:t>The heart rat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6436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6248520" y="230040"/>
            <a:ext cx="2895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, at rest (without any regulation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, during exercise (with humoral and neural regulation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685800"/>
            <a:ext cx="9144000" cy="32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 Cardiac Output Reser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ximal cardiac output subtracts the normal value.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reflects the ability of the heart to adapt the change of environment  (internal or external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6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1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6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2300400"/>
            <a:ext cx="5029200" cy="45576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5029200" y="2286000"/>
            <a:ext cx="41148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al level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al diastole volume 160 ml (reserve 15ml);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al systole residual volume 20 ml (reserve 55ml)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al heart rate (without the stroke volume decrease )180 beats/min (reserve 105 beats/min)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al cardiac output (160 – 20) X 180 = 25.2 L/min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0"/>
            <a:ext cx="914400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rang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diastole volume 145ml – end systole volume 75ml = stroke volume 70 ml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rt rate 75 beats/min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l cardiac output = 70 X 75 = 5.25 L /min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3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8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8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3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8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3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8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3" dur="5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. Heart location in the ches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50911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B. Heart Chamb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533520" y="1028880"/>
            <a:ext cx="7772400" cy="582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B. Heart Chamb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3716280"/>
            <a:ext cx="91440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 pumps bloo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ulmonary circulation  from right ventric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Left Hear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 receives oxygenated blood from pulmonary circul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1f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 pumps blood into systemic circul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5580000" y="620640"/>
            <a:ext cx="3564000" cy="26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4" name=""/>
          <p:cNvSpPr/>
          <p:nvPr/>
        </p:nvSpPr>
        <p:spPr>
          <a:xfrm>
            <a:off x="0" y="1003320"/>
            <a:ext cx="594360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Right Hear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receives venous bloo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宋体"/>
              </a:rPr>
              <a:t>fro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systemic circulation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ia superior and inferior vena cava into right atrium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. Heart Valv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4392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trioventricul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8380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. tricuspid--between RA and RV; three leafle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8380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. mitral--between LA and LV; two leafle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 Semilun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. pulmonic--three leafle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. aortic--three leafle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859280" y="2060640"/>
            <a:ext cx="42847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4:37:25Z</dcterms:created>
  <dc:creator>LCY</dc:creator>
  <dc:description/>
  <dc:language>en-US</dc:language>
  <cp:lastModifiedBy>ZonaNet</cp:lastModifiedBy>
  <dcterms:modified xsi:type="dcterms:W3CDTF">2008-05-03T03:42:08Z</dcterms:modified>
  <cp:revision>109</cp:revision>
  <dc:subject/>
  <dc:title>PowerPoint 演示文稿</dc:title>
</cp:coreProperties>
</file>