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6407-14A2-4061-8B6E-0FA2611C56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DABA-34CE-41D5-B373-B8583FDC3F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4D20-B366-4FAB-A23A-AEF52F3B2D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7A2-5B06-42F6-9883-53668BDF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728-1A19-4A9B-94D5-78304BD2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F0E-3D77-4D67-95BE-F4855300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5C7-1873-4826-9822-07F17179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CBE-AB99-4B9A-BD78-3C8518B4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AE8-5391-48A7-B24F-3ED2B0B2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FB5-68A0-4939-BAF6-59CF2A11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F5A-471D-46BF-8DCE-D0778000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8E6-4C3E-4680-93D9-22D5998D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75C-23B2-49B5-A547-06C55D06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ABD-7962-4E4A-8D6B-A41201BF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E01-189A-47FD-BD73-1E3CD794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A92A-728B-4342-899E-AD86FDD681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539640" y="3471840"/>
            <a:ext cx="7993080" cy="71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man Resource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06480" y="1484280"/>
            <a:ext cx="7256520" cy="144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200720" cy="79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lection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3"/>
          <p:cNvSpPr/>
          <p:nvPr/>
        </p:nvSpPr>
        <p:spPr>
          <a:xfrm>
            <a:off x="3365640" y="1841400"/>
            <a:ext cx="2425680" cy="7495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"/>
          <p:cNvSpPr/>
          <p:nvPr/>
        </p:nvSpPr>
        <p:spPr>
          <a:xfrm>
            <a:off x="698400" y="2527200"/>
            <a:ext cx="2425680" cy="7495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5"/>
          <p:cNvSpPr/>
          <p:nvPr/>
        </p:nvSpPr>
        <p:spPr>
          <a:xfrm>
            <a:off x="5956200" y="2527200"/>
            <a:ext cx="2425680" cy="7495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956200" y="4280040"/>
            <a:ext cx="2425680" cy="74916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Paper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3441600" y="4965840"/>
            <a:ext cx="2425680" cy="74916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Ability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8"/>
          <p:cNvSpPr/>
          <p:nvPr/>
        </p:nvSpPr>
        <p:spPr>
          <a:xfrm>
            <a:off x="698400" y="4280040"/>
            <a:ext cx="2425680" cy="74916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Perform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9"/>
          <p:cNvSpPr/>
          <p:nvPr/>
        </p:nvSpPr>
        <p:spPr>
          <a:xfrm>
            <a:off x="3213000" y="3137040"/>
            <a:ext cx="2578320" cy="1282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0"/>
          <p:cNvSpPr/>
          <p:nvPr/>
        </p:nvSpPr>
        <p:spPr>
          <a:xfrm flipH="1" rot="13020000">
            <a:off x="2792520" y="3174480"/>
            <a:ext cx="444600" cy="369000"/>
          </a:xfrm>
          <a:prstGeom prst="rightArrow">
            <a:avLst>
              <a:gd name="adj1" fmla="val 50000"/>
              <a:gd name="adj2" fmla="val 60260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1"/>
          <p:cNvSpPr/>
          <p:nvPr/>
        </p:nvSpPr>
        <p:spPr>
          <a:xfrm flipH="1" rot="19080000">
            <a:off x="5841360" y="3174840"/>
            <a:ext cx="444600" cy="368640"/>
          </a:xfrm>
          <a:prstGeom prst="rightArrow">
            <a:avLst>
              <a:gd name="adj1" fmla="val 50000"/>
              <a:gd name="adj2" fmla="val 60319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2"/>
          <p:cNvSpPr/>
          <p:nvPr/>
        </p:nvSpPr>
        <p:spPr>
          <a:xfrm flipH="1" rot="16200000">
            <a:off x="4431240" y="2679840"/>
            <a:ext cx="368280" cy="3682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3"/>
          <p:cNvSpPr/>
          <p:nvPr/>
        </p:nvSpPr>
        <p:spPr>
          <a:xfrm rot="16200000">
            <a:off x="4432320" y="4508280"/>
            <a:ext cx="368280" cy="3682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4"/>
          <p:cNvSpPr/>
          <p:nvPr/>
        </p:nvSpPr>
        <p:spPr>
          <a:xfrm flipH="1" rot="8760000">
            <a:off x="3092040" y="4218840"/>
            <a:ext cx="368280" cy="3682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5"/>
          <p:cNvSpPr/>
          <p:nvPr/>
        </p:nvSpPr>
        <p:spPr>
          <a:xfrm flipH="1" rot="2220000">
            <a:off x="5529960" y="4219560"/>
            <a:ext cx="368640" cy="36828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333000"/>
            <a:ext cx="8440560" cy="8636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Training &amp;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3720" y="1341360"/>
            <a:ext cx="845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801720" indent="-351000">
              <a:spcBef>
                <a:spcPts val="601"/>
              </a:spcBef>
              <a:buClr>
                <a:srgbClr val="6600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Calibri"/>
              </a:rPr>
              <a:t>Training:</a:t>
            </a:r>
            <a:r>
              <a:rPr b="1" lang="en-US" sz="2400" spc="-1" strike="noStrike">
                <a:solidFill>
                  <a:srgbClr val="660033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 organizational members how to perform current job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6856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 worker’s acquire skills to perform effectiv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68560" indent="-451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spcBef>
                <a:spcPts val="601"/>
              </a:spcBef>
              <a:buClr>
                <a:srgbClr val="6600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Calibri"/>
              </a:rPr>
              <a:t>Development:</a:t>
            </a:r>
            <a:r>
              <a:rPr b="1" lang="en-US" sz="2400" spc="-1" strike="noStrike">
                <a:solidFill>
                  <a:srgbClr val="660033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worker’s skills to enable them to take on new du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366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used more often at lower levels of firm, development is common with manag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366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ssessment should be taken first to determine who needs which program and what topics should be stres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333000"/>
            <a:ext cx="8440560" cy="8636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ypes of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308240" y="2749680"/>
            <a:ext cx="2577960" cy="749160"/>
          </a:xfrm>
          <a:prstGeom prst="rect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423040" y="2749680"/>
            <a:ext cx="2577960" cy="749160"/>
          </a:xfrm>
          <a:prstGeom prst="rect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841400" y="5340240"/>
            <a:ext cx="1435320" cy="9781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pprentic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908440" y="4121280"/>
            <a:ext cx="1434960" cy="9777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n-the-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>
            <a:off x="2521080" y="3583080"/>
            <a:ext cx="0" cy="1751040"/>
          </a:xfrm>
          <a:prstGeom prst="line">
            <a:avLst/>
          </a:prstGeom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5"/>
          <p:cNvGrpSpPr/>
          <p:nvPr/>
        </p:nvGrpSpPr>
        <p:grpSpPr>
          <a:xfrm>
            <a:off x="793800" y="4121280"/>
            <a:ext cx="2127240" cy="977760"/>
            <a:chOff x="793800" y="4121280"/>
            <a:chExt cx="2127240" cy="977760"/>
          </a:xfrm>
        </p:grpSpPr>
        <p:sp>
          <p:nvSpPr>
            <p:cNvPr id="100" name="Rectangle 6"/>
            <p:cNvSpPr/>
            <p:nvPr/>
          </p:nvSpPr>
          <p:spPr>
            <a:xfrm>
              <a:off x="793800" y="4121280"/>
              <a:ext cx="1435320" cy="97776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lassro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2313000" y="4648320"/>
              <a:ext cx="608040" cy="0"/>
            </a:xfrm>
            <a:prstGeom prst="line">
              <a:avLst/>
            </a:prstGeom>
            <a:ln w="763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Rectangle 13"/>
          <p:cNvSpPr/>
          <p:nvPr/>
        </p:nvSpPr>
        <p:spPr>
          <a:xfrm>
            <a:off x="7023240" y="4121280"/>
            <a:ext cx="1434960" cy="977760"/>
          </a:xfrm>
          <a:prstGeom prst="rect">
            <a:avLst/>
          </a:prstGeom>
          <a:solidFill>
            <a:srgbClr val="500093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n-the-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6635880" y="3583080"/>
            <a:ext cx="0" cy="2208240"/>
          </a:xfrm>
          <a:prstGeom prst="line">
            <a:avLst/>
          </a:prstGeom>
          <a:ln w="7632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4889520" y="4121280"/>
            <a:ext cx="2127240" cy="977760"/>
            <a:chOff x="4889520" y="4121280"/>
            <a:chExt cx="2127240" cy="977760"/>
          </a:xfrm>
        </p:grpSpPr>
        <p:sp>
          <p:nvSpPr>
            <p:cNvPr id="105" name="Rectangle 11"/>
            <p:cNvSpPr/>
            <p:nvPr/>
          </p:nvSpPr>
          <p:spPr>
            <a:xfrm>
              <a:off x="4889520" y="4121280"/>
              <a:ext cx="1435320" cy="9777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lassro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6408720" y="4648320"/>
              <a:ext cx="608040" cy="0"/>
            </a:xfrm>
            <a:prstGeom prst="line">
              <a:avLst/>
            </a:prstGeom>
            <a:ln w="7632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4"/>
          <p:cNvGrpSpPr/>
          <p:nvPr/>
        </p:nvGrpSpPr>
        <p:grpSpPr>
          <a:xfrm>
            <a:off x="4889520" y="5283360"/>
            <a:ext cx="3568680" cy="977760"/>
            <a:chOff x="4889520" y="5283360"/>
            <a:chExt cx="3568680" cy="977760"/>
          </a:xfrm>
        </p:grpSpPr>
        <p:sp>
          <p:nvSpPr>
            <p:cNvPr id="108" name="Rectangle 12"/>
            <p:cNvSpPr/>
            <p:nvPr/>
          </p:nvSpPr>
          <p:spPr>
            <a:xfrm>
              <a:off x="7023240" y="5283360"/>
              <a:ext cx="1434960" cy="9777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For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du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8720" y="5810040"/>
              <a:ext cx="608040" cy="0"/>
            </a:xfrm>
            <a:prstGeom prst="line">
              <a:avLst/>
            </a:prstGeom>
            <a:ln w="7632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7"/>
            <p:cNvSpPr/>
            <p:nvPr/>
          </p:nvSpPr>
          <p:spPr>
            <a:xfrm>
              <a:off x="4889520" y="5283360"/>
              <a:ext cx="1434960" cy="9777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Vari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xper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Line 18"/>
          <p:cNvSpPr/>
          <p:nvPr/>
        </p:nvSpPr>
        <p:spPr>
          <a:xfrm>
            <a:off x="3970440" y="3124080"/>
            <a:ext cx="1446120" cy="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365640" y="1511280"/>
            <a:ext cx="2577960" cy="749160"/>
          </a:xfrm>
          <a:prstGeom prst="rect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4730760" y="2344680"/>
            <a:ext cx="0" cy="7603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52080"/>
            <a:ext cx="8136000" cy="7729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ypes of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09200" y="1341360"/>
            <a:ext cx="7729560" cy="50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Classroom Instruction:</a:t>
            </a: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ers acquire skills in classro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use of videos, role-playing,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On-the-Job Training:</a:t>
            </a: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occurs in the work setting as worker does the jo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given by co-workers and can be done continuous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Apprenticeships:</a:t>
            </a: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er engages with a leading worker to learn a sk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6840" y="404280"/>
            <a:ext cx="8440560" cy="79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Performance Appraisal and 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400" y="1341360"/>
            <a:ext cx="83199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rformance Appraisa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valuation of employees’ job performance and contributions to their organiz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rformance Feedback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through which managers share performance appraisal information, give subordinates an opportunity to reflect on their own performance, and develop with subordinates, plans for the fu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5336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1  Types of Performance Apprai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1483920"/>
            <a:ext cx="839124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1040" indent="-514440">
              <a:spcBef>
                <a:spcPts val="700"/>
              </a:spcBef>
              <a:buClr>
                <a:srgbClr val="660033"/>
              </a:buClr>
              <a:buSzPct val="99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0033"/>
                </a:solidFill>
                <a:uFillTx/>
                <a:latin typeface="Calibri"/>
              </a:rPr>
              <a:t>Trait Appraisa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ing subordinates on personal characteristics that are relevant to job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sadvantages of trait apprais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s with a particular trait may choose not to use that particular trait on the jo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ts and performance are not always obviously lin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difficult to give feedback on tra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6840" y="333360"/>
            <a:ext cx="8440560" cy="79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1. Types of Performance Apprais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1341000"/>
            <a:ext cx="85899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 startAt="2"/>
              <a:tabLst>
                <a:tab algn="l" pos="717480"/>
                <a:tab algn="l" pos="108252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1" i="1" lang="en-US" sz="2800" spc="-1" strike="noStrike" u="sng">
                <a:solidFill>
                  <a:srgbClr val="660033"/>
                </a:solidFill>
                <a:uFillTx/>
                <a:latin typeface="Calibri"/>
              </a:rPr>
              <a:t>Behavior Appraisals</a:t>
            </a: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worker does the jo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22520" indent="-314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17480"/>
                <a:tab algn="l" pos="108252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es on what a worker does and provides good feedback op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 startAt="2"/>
              <a:tabLst>
                <a:tab algn="l" pos="717480"/>
                <a:tab algn="l" pos="108252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1" i="1" lang="en-US" sz="2800" spc="-1" strike="noStrike" u="sng">
                <a:solidFill>
                  <a:srgbClr val="660033"/>
                </a:solidFill>
                <a:uFillTx/>
                <a:latin typeface="Calibri"/>
              </a:rPr>
              <a:t>Results appraisals</a:t>
            </a: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s based o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worker achie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22520" indent="-314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17480"/>
                <a:tab algn="l" pos="108252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les reps are usually evaluated on what they sel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 startAt="2"/>
              <a:tabLst>
                <a:tab algn="l" pos="717480"/>
                <a:tab algn="l" pos="108252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1" i="1" lang="en-US" sz="2800" spc="-1" strike="noStrike" u="sng">
                <a:solidFill>
                  <a:srgbClr val="660033"/>
                </a:solidFill>
                <a:uFillTx/>
                <a:latin typeface="Calibri"/>
              </a:rPr>
              <a:t>Objective appraisals</a:t>
            </a: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SzPct val="81000"/>
              <a:buFont typeface="Arial"/>
              <a:buChar char="–"/>
              <a:tabLst>
                <a:tab algn="l" pos="717480"/>
                <a:tab algn="l" pos="108252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es performance based on facts (e.g., sales figur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o Appraises Performa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3625920" y="1663560"/>
            <a:ext cx="1816200" cy="9018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ervi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1263600" y="2882880"/>
            <a:ext cx="1816200" cy="9018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6064200" y="3035160"/>
            <a:ext cx="1816200" cy="9018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stomer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5911920" y="5245200"/>
            <a:ext cx="1816200" cy="9014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1568520" y="5321160"/>
            <a:ext cx="1816200" cy="9018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3549600" y="3263760"/>
            <a:ext cx="2044800" cy="2044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urc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rai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3036960" y="3436920"/>
            <a:ext cx="709560" cy="25236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3189240" y="4986360"/>
            <a:ext cx="633600" cy="58248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4533840" y="2598840"/>
            <a:ext cx="0" cy="63324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 flipH="1">
            <a:off x="5348160" y="3513240"/>
            <a:ext cx="735120" cy="17604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H="1" flipV="1">
            <a:off x="5271840" y="4986360"/>
            <a:ext cx="734760" cy="58248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480600"/>
            <a:ext cx="8440560" cy="7333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2 Effective Feedback 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484280"/>
            <a:ext cx="8353440" cy="494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9040" indent="-38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specific and focus on correct behavior. Provide a suggested impr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8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Focus on problem-solving and improvement, not critic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8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Express confidence in worker’s ability to impr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8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Use formal and informal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8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Treat subordinates with respect and praise achiev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8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Set a timetable for agreed chan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6840720" cy="865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Pay and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mployees’ base salaries, pay raises, and bon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d by characteristics of the organization and the job and levels of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s are based on membership in an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2240" y="380520"/>
            <a:ext cx="8001000" cy="8874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uman Resource Manag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66840" y="1447560"/>
            <a:ext cx="841536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0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Resource Management includes all activities used to attract and retain employees and to ensure they perform at a high level in meeting organizational go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These activities are made up of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Recruitment and sel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raining and develo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Performance evaluation and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Pay and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Labor rel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Pay and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000" y="148428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Pay leve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relative position of an organization’s incentives in comparison with those of other firms in the same industry employing similar kinds of wor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rs can decide to offer low, average or high relative sala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salaries attract and retain high performers but raise costs; low salaries can cause turnover and lack of motivation but provide lower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41708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 Labor 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341360"/>
            <a:ext cx="8358120" cy="518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abor  Rel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s all activities managers perform to ensure there is a good relationship with labor un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n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 worker’s interests to management in organiz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wer that a manager has over an individual worker causes workers to join together in unions to try to prevent th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480960"/>
            <a:ext cx="7948800" cy="8604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onents of a HRM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89440" y="1752480"/>
            <a:ext cx="1600200" cy="135756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crui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amp;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11240" y="3052800"/>
            <a:ext cx="1600200" cy="13572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5"/>
          <p:cNvSpPr/>
          <p:nvPr/>
        </p:nvSpPr>
        <p:spPr>
          <a:xfrm>
            <a:off x="2496960" y="5037120"/>
            <a:ext cx="1600200" cy="13572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y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w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6"/>
          <p:cNvSpPr/>
          <p:nvPr/>
        </p:nvSpPr>
        <p:spPr>
          <a:xfrm>
            <a:off x="4915080" y="5037120"/>
            <a:ext cx="1600200" cy="13572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aluat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7"/>
          <p:cNvSpPr/>
          <p:nvPr/>
        </p:nvSpPr>
        <p:spPr>
          <a:xfrm>
            <a:off x="5867280" y="3052800"/>
            <a:ext cx="1600200" cy="13572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ini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 flipV="1">
            <a:off x="3322800" y="2820600"/>
            <a:ext cx="682560" cy="45396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3543480" y="3730680"/>
            <a:ext cx="2293920" cy="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3543480" y="3824280"/>
            <a:ext cx="2000160" cy="11844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2809800" y="4440240"/>
            <a:ext cx="390600" cy="56844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 flipH="1" flipV="1">
            <a:off x="5253120" y="2889000"/>
            <a:ext cx="852480" cy="45396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3"/>
          <p:cNvSpPr/>
          <p:nvPr/>
        </p:nvSpPr>
        <p:spPr>
          <a:xfrm flipV="1">
            <a:off x="3836880" y="3709800"/>
            <a:ext cx="2073240" cy="154908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4"/>
          <p:cNvSpPr/>
          <p:nvPr/>
        </p:nvSpPr>
        <p:spPr>
          <a:xfrm flipV="1">
            <a:off x="6033960" y="4394160"/>
            <a:ext cx="536760" cy="72864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4056120" y="5784840"/>
            <a:ext cx="828720" cy="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4714920" y="3139920"/>
            <a:ext cx="976320" cy="186876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7"/>
          <p:cNvSpPr/>
          <p:nvPr/>
        </p:nvSpPr>
        <p:spPr>
          <a:xfrm flipH="1">
            <a:off x="3860640" y="3139920"/>
            <a:ext cx="852480" cy="20736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57120"/>
            <a:ext cx="8137440" cy="6955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RM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267920"/>
            <a:ext cx="853416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HRM Functions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uld be consistent with the others, organization structure, and strategy. 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Main functions ar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633240" indent="-268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Recruitment and Selection :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633240" indent="-268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to attract and hire new employees who have the abilities, skills, and experiences that will help an organization achieve its goal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633240" indent="-268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Training &amp; Development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es that organizational members develop the skills and abilities that will enable them to perform their jobs effectively in the present and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s in technology and the environment require that organizational members learn new techniques and ways of wo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633240" indent="-268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4200" y="128592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9072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Performance Appraisal and feedback: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vides managers with the information they need to make good human resources decisions about how to train, motivate, and reward organizational member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eedback from performance appraisal serves a developmental purpose for members of an organiz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Pay and Benefit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45720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performing employees should be rewarded with salaries raises, bonus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33360" indent="-249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pay provides additional motiv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33360" indent="-249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ts, such as health insurance, reward membership in fi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RM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480600"/>
            <a:ext cx="8440560" cy="733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RM Compon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357200"/>
            <a:ext cx="853416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801720" indent="-351000">
              <a:spcBef>
                <a:spcPts val="700"/>
              </a:spcBef>
              <a:buClr>
                <a:srgbClr val="c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Labor rel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need an effective relationship with work unions that represent wor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ons help establish pay, and working condi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46280" indent="-4082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management moves to a decentralized structure,   HRM should be adjusted as wel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11280" y="357120"/>
            <a:ext cx="8137440" cy="6955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RM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6620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1  Recrui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9280" y="1285920"/>
            <a:ext cx="8678880" cy="528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63680" indent="-29556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External recruiting</a:t>
            </a:r>
            <a:r>
              <a:rPr b="0" i="1" lang="en-US" sz="2800" spc="-1" strike="noStrike">
                <a:solidFill>
                  <a:srgbClr val="660033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look outside the firm for people who have not worked at the firm bef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rs advertise in newspapers, hold open houses, recruit at universities, and on the Intern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rnal recruitment is difficult since many new jobs have specific skill nee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9556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Internal Recruiting</a:t>
            </a:r>
            <a:r>
              <a:rPr b="0" i="1" lang="en-US" sz="2800" spc="-1" strike="noStrike">
                <a:solidFill>
                  <a:srgbClr val="a50021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sitions filled within the fi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al recruiting has several benefi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ers know the firm’s culture, may not have new ide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rs likely already know the candid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dvancement can motivate employe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6480" y="333360"/>
            <a:ext cx="838188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2.  Selec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880" y="1267920"/>
            <a:ext cx="8382240" cy="518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20560" indent="-3524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ter a pool of applicants are identified, qualifications related to the job requirements are determine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352440">
              <a:spcBef>
                <a:spcPts val="649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60033"/>
                </a:solidFill>
                <a:latin typeface="Calibri"/>
              </a:rPr>
              <a:t>Background Information:</a:t>
            </a:r>
            <a:r>
              <a:rPr b="0" lang="en-US" sz="2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des education, prior employment, college major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352440">
              <a:spcBef>
                <a:spcPts val="649"/>
              </a:spcBef>
              <a:buClr>
                <a:srgbClr val="660033"/>
              </a:buClr>
              <a:buSzPct val="101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60033"/>
                </a:solidFill>
                <a:latin typeface="Calibri"/>
              </a:rPr>
              <a:t>Interview:</a:t>
            </a:r>
            <a:r>
              <a:rPr b="1" lang="en-US" sz="2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most all firms use one of two typ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252440" indent="-450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uctured interview: managers ask each person the same job-related ques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252440" indent="-450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structured interview: held like a normal convers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352440">
              <a:spcBef>
                <a:spcPts val="649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60033"/>
                </a:solidFill>
                <a:latin typeface="Calibri"/>
              </a:rPr>
              <a:t>Physical Ability Test:</a:t>
            </a:r>
            <a:r>
              <a:rPr b="1" lang="en-US" sz="2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asure strength &amp; end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252440" indent="-450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od for physically demanding job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4920" y="1197000"/>
            <a:ext cx="8381880" cy="54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17480" indent="-352440">
              <a:spcBef>
                <a:spcPts val="601"/>
              </a:spcBef>
              <a:buClr>
                <a:srgbClr val="a50021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660033"/>
                </a:solidFill>
                <a:latin typeface="Calibri"/>
              </a:rPr>
              <a:t>Paper &amp; Pencil Tests:</a:t>
            </a:r>
            <a:r>
              <a:rPr b="1" lang="en-US" sz="2400" spc="-1" strike="noStrike">
                <a:solidFill>
                  <a:srgbClr val="3c0023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ither an ability and personality t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5108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ility test: assess if applicant has right skills for the jo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5108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onality test: seek traits relevant to job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5108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sure test is a good predictor of job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352440">
              <a:spcBef>
                <a:spcPts val="601"/>
              </a:spcBef>
              <a:buClr>
                <a:srgbClr val="a50021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  </a:t>
            </a:r>
            <a:r>
              <a:rPr b="1" i="1" lang="en-US" sz="2400" spc="-1" strike="noStrike">
                <a:solidFill>
                  <a:srgbClr val="660033"/>
                </a:solidFill>
                <a:latin typeface="Calibri"/>
              </a:rPr>
              <a:t>Performance Tests:</a:t>
            </a:r>
            <a:r>
              <a:rPr b="1" lang="en-US" sz="2400" spc="-1" strike="noStrike">
                <a:solidFill>
                  <a:srgbClr val="3c0023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job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5108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ing speed test is one examp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5108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ment Center: candidates assessed on job-related activities over a period of a few d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352440">
              <a:spcBef>
                <a:spcPts val="601"/>
              </a:spcBef>
              <a:buClr>
                <a:srgbClr val="a50021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  </a:t>
            </a:r>
            <a:r>
              <a:rPr b="1" i="1" lang="en-US" sz="2400" spc="-1" strike="noStrike">
                <a:solidFill>
                  <a:srgbClr val="660033"/>
                </a:solidFill>
                <a:latin typeface="Calibri"/>
              </a:rPr>
              <a:t>References:</a:t>
            </a:r>
            <a:r>
              <a:rPr b="1" lang="en-US" sz="2400" spc="-1" strike="noStrike">
                <a:solidFill>
                  <a:srgbClr val="3c0023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ide people provide honest  information  about candidat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5108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hard to get accurate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480" y="333360"/>
            <a:ext cx="838188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2.  Selec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4T15:01:44Z</dcterms:created>
  <dc:creator>Authorized Gateway Customer</dc:creator>
  <dc:description/>
  <dc:language>en-US</dc:language>
  <cp:lastModifiedBy>User</cp:lastModifiedBy>
  <cp:lastPrinted>2009-04-22T19:24:48Z</cp:lastPrinted>
  <dcterms:modified xsi:type="dcterms:W3CDTF">2016-10-29T17:45:56Z</dcterms:modified>
  <cp:revision>40</cp:revision>
  <dc:subject/>
  <dc:title>Chapter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P:\C_Tepper\Jones_all\Jones_PPTfin\JPEG_Thumbnail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