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33B-A2CF-4727-872F-4D92A912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194-5D5B-4955-BC16-CB56A3F7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18D-44E3-4736-ABFF-99D8130B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DA2-3FB5-4D3B-A7F3-04512BAB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B9E-AD7C-4959-8706-5F91D78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EFA-7852-4A03-871F-3DF4A47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69E-9F63-4161-B565-E580D8D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0B3-C8E1-42C9-A2A8-FE8AE7FD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367-D9F7-4B0E-8823-423424DE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878-D5D2-43C3-9AE1-BE9B126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E7E-6836-4D89-B587-1DB9730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E77-0679-40A0-9F36-590958C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DD5D-F312-46A4-8964-5F08D18EFEE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6840" y="0"/>
            <a:ext cx="84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Documents and Settings\user\Desktop\IMG_3958.PNG"/>
          <p:cNvPicPr/>
          <p:nvPr/>
        </p:nvPicPr>
        <p:blipFill>
          <a:blip r:embed="rId1"/>
          <a:stretch/>
        </p:blipFill>
        <p:spPr>
          <a:xfrm>
            <a:off x="0" y="-2924280"/>
            <a:ext cx="9144000" cy="12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20:58:29Z</dcterms:created>
  <dc:creator>User</dc:creator>
  <dc:description/>
  <dc:language>en-US</dc:language>
  <cp:lastModifiedBy>user</cp:lastModifiedBy>
  <dcterms:modified xsi:type="dcterms:W3CDTF">2016-03-02T06:40:23Z</dcterms:modified>
  <cp:revision>5</cp:revision>
  <dc:subject/>
  <dc:title>Slide 1</dc:title>
</cp:coreProperties>
</file>