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B2B1-5014-4132-9945-DD5D5D75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38B5-3CEF-4FB9-95D4-59C143E4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1580-14EE-4CEE-BA3B-BBBA5CE1B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8E41-CB99-47A3-9065-B96D7FBF7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F0EE-7D4A-4A96-8228-4B75FC87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118E-EC88-4EC4-AF42-A7CA5790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3CEA-C8C2-4D01-8ADD-3351B7A7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873B-EC33-45D2-A2D0-6430607A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95B3-F47C-4604-A965-D03CCC13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26D1-846F-4251-98D8-AE730CB6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E455-E7C9-4496-B81B-0D90D081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7363-4FE1-44B4-8B78-C21FB1C1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CF45-629A-4165-913D-89FF9E750D4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66840" y="0"/>
            <a:ext cx="841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9780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AutoShape 2"/>
          <p:cNvSpPr/>
          <p:nvPr/>
        </p:nvSpPr>
        <p:spPr>
          <a:xfrm>
            <a:off x="894708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894708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C:\Documents and Settings\user\Desktop\IMG_3958.PNG"/>
          <p:cNvPicPr/>
          <p:nvPr/>
        </p:nvPicPr>
        <p:blipFill>
          <a:blip r:embed="rId1"/>
          <a:stretch/>
        </p:blipFill>
        <p:spPr>
          <a:xfrm>
            <a:off x="0" y="-2924280"/>
            <a:ext cx="9144000" cy="12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9T20:58:29Z</dcterms:created>
  <dc:creator>User</dc:creator>
  <dc:description/>
  <dc:language>en-US</dc:language>
  <cp:lastModifiedBy>user</cp:lastModifiedBy>
  <dcterms:modified xsi:type="dcterms:W3CDTF">2016-03-02T06:40:23Z</dcterms:modified>
  <cp:revision>5</cp:revision>
  <dc:subject/>
  <dc:title>Slide 1</dc:title>
</cp:coreProperties>
</file>