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BFE-5449-4443-8F86-DA6B26F6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7AA-F92A-48DD-8C07-F79D29E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98B-1522-4EC3-BAF2-D6C13E16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D2F-399A-4F5C-A517-E34F65F2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0FE-4046-456C-9FE8-0BDE161D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41E-BB1F-4E54-B03D-E6BC776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D00-536A-4D0C-8C25-46B3D248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B45-A034-4CF8-BDF9-CC69A7E9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D65-2587-468A-8788-7C9DDAC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495-1FFD-44BB-961C-61530ED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560-4FC4-495C-B9D6-EF3A67B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490-04F1-43ED-9A06-916ED20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86BD-9975-4624-846C-E41553D26A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6840" y="0"/>
            <a:ext cx="84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user\Desktop\IMG_3958.PNG"/>
          <p:cNvPicPr/>
          <p:nvPr/>
        </p:nvPicPr>
        <p:blipFill>
          <a:blip r:embed="rId1"/>
          <a:stretch/>
        </p:blipFill>
        <p:spPr>
          <a:xfrm>
            <a:off x="0" y="-2924280"/>
            <a:ext cx="9144000" cy="12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20:58:29Z</dcterms:created>
  <dc:creator>User</dc:creator>
  <dc:description/>
  <dc:language>en-US</dc:language>
  <cp:lastModifiedBy>maram</cp:lastModifiedBy>
  <dcterms:modified xsi:type="dcterms:W3CDTF">2017-02-10T17:03:52Z</dcterms:modified>
  <cp:revision>5</cp:revision>
  <dc:subject/>
  <dc:title>Slide 1</dc:title>
</cp:coreProperties>
</file>