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86F-38E4-44F5-92EF-513F189F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8E5-9AB0-49C0-A005-04CBF8AB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33B-AC3B-4020-BE71-938724A4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4A6-F614-43C6-A1E6-28762C7D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8A4-7EE8-45EB-B22E-063967B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CCD-6342-49C6-B953-8342104A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8A4-CDA0-4876-81E1-AF535644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ACE-2C8C-4BA0-BB0A-5382D904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368-25DB-41C2-BD75-8DC0212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630-ADAF-4C1C-A024-026FE4D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4D4-A034-4BBF-814A-188169A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13B-DBCC-4378-8C09-C4764F9E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4C0-1080-475C-BA1E-29F2D65D20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6840" y="0"/>
            <a:ext cx="84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89470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C:\Documents and Settings\user\Desktop\IMG_3958.PNG"/>
          <p:cNvPicPr/>
          <p:nvPr/>
        </p:nvPicPr>
        <p:blipFill>
          <a:blip r:embed="rId1"/>
          <a:stretch/>
        </p:blipFill>
        <p:spPr>
          <a:xfrm>
            <a:off x="0" y="-2924280"/>
            <a:ext cx="9144000" cy="12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20:58:29Z</dcterms:created>
  <dc:creator>User</dc:creator>
  <dc:description/>
  <dc:language>en-US</dc:language>
  <cp:lastModifiedBy>maram</cp:lastModifiedBy>
  <dcterms:modified xsi:type="dcterms:W3CDTF">2017-02-10T17:03:52Z</dcterms:modified>
  <cp:revision>5</cp:revision>
  <dc:subject/>
  <dc:title>Slide 1</dc:title>
</cp:coreProperties>
</file>