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8BD4-73D2-4606-9FB6-719302E0A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895A-09B8-4B64-8F64-2449CE64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D7C8-4D20-4AB5-89EB-756E55D63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7C33-28FD-4D24-B97A-DB67FB905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B3AE-8F52-472B-864A-98B9334F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5A55-4CC9-439A-9D5C-C5037923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E7E8-25E4-4470-8BC9-62DB0A42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A704-5BBE-4480-A666-6E6C4040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2F48-2BA9-44F2-92F7-9C869089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B97D-60F3-49B2-9A8F-A025B5C0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F18A-5C40-4A1C-B39C-1D9EA5EE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CBC4-4489-4AAD-B309-29BD0C84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80DB-347C-4EB8-9804-BD74DFA483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 word and its relatives: deri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5.3  Adverbs derived from adj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OECIOUSLY and DIOECIOUS –distinct lexemes (different word class) but not distinct lexical ite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rivational processes– change the word class of the bases to which they apply, unlike inflec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no-morphemic adverbs (OFTEN,SELDOM,NEVER,SOON), and some other adverbs are morphologically complex without containing –ly (NOWHERE,EVERYWHERE,TODAY,YESTERDAY), conversion—FAST, HARD (derived from adjective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.4. Nouns derived from nou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all derivational processes change word cla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 5-9 (pg.49) :lexical items, unpredictable mean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‘gappiness’ helps to confirm that these affixes are derivational rather than inflectional even though they do not change the word cla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.4  Cont…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examples GLASWEGIAN, LOGICIAN and HISTORIAN illustrates at least superficially, the possibility that the base for a derivational process may be bound rather than fre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ASWEGIAN contains an idiosyncratic bound allomorph Glasweg-  of the free morpheme Glasgow, which is also the only word form belonging to the lexeme GLASG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5.5 Nouns derived from members of other word clas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ouns derived from adjectives and from verbs are extremely numerou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ffixes used to derive nouns from adjective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0-12 (pg. 50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perty of being X, where X is the base adjectiv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rmed from bases other than the freeform of the corresponding adjective, e.g. FEROCITY from feroc-(not ferocious), CONSERVATISM from conservat- (not conservative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l nouns in –ity are lexical item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.6 Adjectives derived from ad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fixes predomin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adjectives –most dictionaries may not even list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ith allomorphs such as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l-ir-im as i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ANGIBLE, ILLEGAL, IRRESPONSIBLE, IMPOSSIBLE –see examples (22), the use of IN is more restric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difier very and the comparative construction (more… than) show that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teresting, drunk and damage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adjectives—examples (2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ffixes that form adjectives from verb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- -able to be Xed: breakable, readable, reiable, watach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- ent,-ant “tending to X”: repellent, expectant, convers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.7: Adjectives derived from members of other word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-ive ‘tending to X’: repulsive, explosive, specul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ffixes that form adjectives from nouns (27)-(3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.8 Verbs derived from verb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fixes– re and negative ones such as un, de, dis (31)-(3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at the columns in (35): Intransitive and Trans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itive verbs are ones with an ‘object’ noun phrase, usually indicating the thing or person that is the goal of the action of the ver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36) a. Jill laid the book on the t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The book lay on the 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ansitive verbs, such as lay in (36b), lack such an obj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ransitive verbs in (35) are all causative –’cause to X’ where X stands for the meaning of the corresponding intrans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olve conversion as in (3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.9. Verbs derived from members of other word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affixes for deriving verbs from nouns are: (38)-(4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bs derived by replacing the final voiceless consonant of a noun with a voiced one, perhaps with some vowel change too (41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uffixes –ise and –ify can derive verbs from adjectival bases too, as in NATIONALISE, TENDERISE, INTENSIFY and PURIF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.1 Relationships between lexe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uffix –ance is not one of the small class of suffixes (so- called “inflectional” suffixes) whose use is tightly determined by gramm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sort of suffix is it th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rivational– all aspects of word structure involving affixation that is not inflection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chapter shows how derivation works in Englis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the roots they are attached are bound (e.g. CAUTERISE, SANITISE, PETRIFY, SATISFY, MAGNIFY),it is often impossibe to decide whether these roots are fundamentally nominal or adjectiv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uffix –ate is the sa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ffixes play a larger role than prefixes in English derivational morph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prefix to be mentioned–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en, with an allomorph 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use to become X’ or ‘cause to possess or enter X’ from a few adjectives and nouns: ENFEEBLE,ENSLAVE,EMPOWER,ENRAGE, ENTHRONE,ENTOM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jectives BOLD and LIVE as bases, the prefix en: EMBOLDEN, ENLIV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e.g. TIGHTEN, LOOSEN,STIFFEN,WEAKEN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DEN,REDDEN,DEEPEN,TOUGHE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verbs have either an intransitive meaning ‘become X’ or an transitive one ‘ cause to become X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turns out that the adjectives that can be bases for deriving –en verbs are all monosyllabic and all end in plosives (the sounds usually spelled p,b,t,d, © k and g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  -- STRENGTH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listed in dictionary-- -ly,un-,-ing,-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.1  Con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– what lexeme could this b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a plural form –performances, so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erformanc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re two forms of the lexeme PERFORMA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lationship is one of lexemes not of word forms. (PERFORM and PERFORM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rivational morphology is concerned with one kind of relationship between lexem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.1   Con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re, the concern is with relationships involving affixation, and the grammatical and semantic tasks that such affixation can perfor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ase– partially complete word form to which an affix is attached so as to create either an inflected word form or a new lexem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bases are roots, whether bound (e.g. wive, the base for wives) or free (e.g. cat, base for cat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thers contain a root and one or more affixes, helpful as the base for helpfulnes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.2  Word classes and conver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d classes= parts of speech= lexical catego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 and PERFORMANCE –do they belong to the same word clas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– PERFORMANCE has two word forms, and PERFORM has 4 word f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 is a verb, PERFORMANCE is a noun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the basis on syntactic and inflectional behavior, not of mea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.2  Con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  and RESEM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RESEMBLE a ‘doing word’ or ‘describing word’? (e.g. TALL, INTEREST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EMBLE has a set of forms 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embles, resembled, resembling and resemb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classify words such as PERFORM and RESEMBLE as ‘doing words’ would be to mislead us into neglecting the syntactic and inflectional parallels that justify them as verb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.2  Con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oes that mean, then, that a lexeme cannot have both noun forms (singular and plural) and verb form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lexemes HOPE and FEAR both have verb (she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hoped/feare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for the future) and noun forms (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hope/fea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for the futur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mbivalent– noun-like in its grammatical behavior (e.g. DOOR, SISTER, DESK, JOY) or purely verb-like (e.g. HEAR, SPEAK, WRITE, BELIEV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.2 Con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glish in particula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pare HOPE and FEAR as verbs with other verbs that can be followed by that-clauses, as in (1) and (2):  pg. 4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do you notice about the nouns in (2)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ve a suffix added to the basic form of the verb in (1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verbal construction in (1) is basic, the nominal construction in (2) being derived from i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.2  Con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at HOPE and FEAR– they are also derived from  verbs even though they carry no affi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called ‘zero-derived’ which is called conver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sion– a lexeme belonging to one class can simply be ‘converted’ to another, without any overt change in shap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THER– the noun form is more bas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8:58:13Z</dcterms:created>
  <dc:creator>Noorchya Yahya</dc:creator>
  <dc:description/>
  <dc:language>en-US</dc:language>
  <cp:lastModifiedBy>Noorchaya Yahya</cp:lastModifiedBy>
  <dcterms:modified xsi:type="dcterms:W3CDTF">2014-04-13T06:30:34Z</dcterms:modified>
  <cp:revision>22</cp:revision>
  <dc:subject/>
  <dc:title>Chapter 5</dc:title>
</cp:coreProperties>
</file>