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D95A-B1B3-45C3-A457-97573362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CBD-23EC-4EDB-9A0A-891B84A9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B18-D49C-4713-849A-9C5BC834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20F-DF9E-413F-8629-759BAC09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A309-481E-4ECF-B9E8-D357AD7D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4C3-79A2-4CBC-ABF4-42F69D92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DE5-B709-4F19-B570-001E6EB6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0DD-4A84-44C7-AC81-6464B29A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C3E-AF46-41FA-B688-C7B5DE3D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342-23D0-4CAE-AFB3-48FA01CB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B19A-FF42-4FB7-AD4B-136454CE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0720-CC6B-4823-B6DC-2A46699B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A86A-437A-4D8B-AAF7-62B93A76C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word and its relatives: der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.3  Adverbs derived from ad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OECIOUSLY and DIOECIOUS –distinct lexemes (different word class) but not distinct lexical it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rivational processes– change the word class of the bases to which they apply, unlike infle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no-morphemic adverbs (OFTEN,SELDOM,NEVER,SOON), and some other adverbs are morphologically complex without containing –ly (NOWHERE,EVERYWHERE,TODAY,YESTERDAY), conversion—FAST, HARD (derived from adjectiv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4. Nouns derived from nou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all derivational processes change word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5-9 (pg.49) :lexical items, unpredictable mean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‘gappiness’ helps to confirm that these affixes are derivational rather than inflectional even though they do not change the word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4  Cont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examples GLASWEGIAN, LOGICIAN and HISTORIAN illustrates at least superficially, the possibility that the base for a derivational process may be bound rather than f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ASWEGIAN contains an idiosyncratic bound allomorph Glasweg-  of the free morpheme Glasgow, which is also the only word form belonging to the lexeme GLASG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.5 Nouns derived from members of other word cla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ouns derived from adjectives and from verbs are extremely numerou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ffixes used to derive nouns from adjectiv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0-12 (pg. 50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perty of being X, where X is the base adjectiv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med from bases other than the freeform of the corresponding adjective, e.g. FEROCITY from feroc-(not ferocious), CONSERVATISM from conservat- (not conservative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nouns in –ity are lexical ite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6 Adjectives derived from ad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ixes predomi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adjectives –most dictionaries may not even list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allomorphs such a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l-ir-im as i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NGIBLE, ILLEGAL, IRRESPONSIBLE, IMPOSSIBLE –see examples (22), the use of IN is more restri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ifier very and the comparative construction (more… than) show tha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teresting, drunk and damag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adjectives—examples (2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ffixes that form adjectives from verb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-able to be Xed: breakable, readable, reiable, watach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ent,-ant “tending to X”: repellent, expectant, convers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7: Adjectives derived from members of other word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ive ‘tending to X’: repulsive, explosive, specul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ffixes that form adjectives from nouns (27)-(3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8 Verbs derived from 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ixes– re and negative ones such as un, de, dis (31)-(3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columns in (35): Intransitive and Trans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itive verbs are ones with an ‘object’ noun phrase, usually indicating the thing or person that is the goal of the action of the ver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6) a. Jill laid the book on the 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The book lay on the 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ansitive verbs, such as lay in (36b), lack such a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ansitive verbs in (35) are all causative –’cause to X’ where X stands for the meaning of the corresponding intrans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 conversion as in (3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9. Verbs derived from members of other word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affixes for deriving verbs from nouns are: (38)-(4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s derived by replacing the final voiceless consonant of a noun with a voiced one, perhaps with some vowel change too (4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ffixes –ise and –ify can derive verbs from adjectival bases too, as in NATIONALISE, TENDERISE, INTENSIFY and PURIF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1 Relationships between lexe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ffix –ance is not one of the small class of suffixes (so- called “inflectional” suffixes) whose use is tightly determined by gramm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ort of suffix is it th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ivational– all aspects of word structure involving affixation that is not inflection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hapter shows how derivation works in Engl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the roots they are attached are bound (e.g. CAUTERISE, SANITISE, PETRIFY, SATISFY, MAGNIFY),it is often impossibe to decide whether these roots are fundamentally nominal or adjectiv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ffix –ate is the s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ffixes play a larger role than prefixes in English derivational morp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prefix to be mentioned–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en, with an allomorph 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 to become X’ or ‘cause to possess or enter X’ from a few adjectives and nouns: ENFEEBLE,ENSLAVE,EMPOWER,ENRAGE, ENTHRONE,ENTOM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ectives BOLD and LIVE as bases, the prefix en: EMBOLDEN, ENLI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.g. TIGHTEN, LOOSEN,STIFFEN,WEAKE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DEN,REDDEN,DEEPEN,TOUGH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verbs have either an intransitive meaning ‘become X’ or an transitive one ‘ cause to become X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turns out that the adjectives that can be bases for deriving –en verbs are all monosyllabic and all end in plosives (the sounds usually spelled p,b,t,d, © k and 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  -- STRENGT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listed in dictionary-- -ly,un-,-ing,-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1 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– what lexeme could this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 plural form –performances, s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erforman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two forms of the lexeme PERFORM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lationship is one of lexemes not of word forms. (PERFORM and PERFORM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ivational morphology is concerned with one kind of relationship between lexe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1  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re, the concern is with relationships involving affixation, and the grammatical and semantic tasks that such affixation can perfor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se– partially complete word form to which an affix is attached so as to create either an inflected word form or a new lexe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bases are roots, whether bound (e.g. wive, the base for wives) or free (e.g. cat, base for cat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s contain a root and one or more affixes, helpful as the base for helpfuln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2  Word classes and conve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d classes= parts of speech= lexical categ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 and PERFORMANCE –do they belong to the same word cla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– PERFORMANCE has two word forms, and PERFORM has 4 word 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 is a verb, PERFORMANCE is a nou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basis on syntactic and inflectional behavior, not of mea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2 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  and RESEM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RESEMBLE a ‘doing word’ or ‘describing word’? (e.g. TALL, INTEREST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MBLE has a set of forms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embles, resembled, resembling and resem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classify words such as PERFORM and RESEMBLE as ‘doing words’ would be to mislead us into neglecting the syntactic and inflectional parallels that justify them as verb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2 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es that mean, then, that a lexeme cannot have both noun forms (singular and plural) and verb form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exemes HOPE and FEAR both have verb (sh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hoped/feare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or the future) and noun forms (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hope/fea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or the futur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mbivalent– noun-like in its grammatical behavior (e.g. DOOR, SISTER, DESK, JOY) or purely verb-like (e.g. HEAR, SPEAK, WRITE, BELIEV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2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glish in particula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are HOPE and FEAR as verbs with other verbs that can be followed by that-clauses, as in (1) and (2):  pg. 4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do you notice about the nouns in (2)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ve a suffix added to the basic form of the verb in (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verbal construction in (1) is basic, the nominal construction in (2) being derived from 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2 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HOPE and FEAR– they are also derived from  verbs even though they carry no affi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called ‘zero-derived’ which is called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sion– a lexeme belonging to one class can simply be ‘converted’ to another, without any overt change in sha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THER– the noun form is more bas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8:58:13Z</dcterms:created>
  <dc:creator>Noorchya Yahya</dc:creator>
  <dc:description/>
  <dc:language>en-US</dc:language>
  <cp:lastModifiedBy>Noorchaya Yahya</cp:lastModifiedBy>
  <dcterms:modified xsi:type="dcterms:W3CDTF">2014-04-13T06:30:34Z</dcterms:modified>
  <cp:revision>22</cp:revision>
  <dc:subject/>
  <dc:title>Chapter 5</dc:title>
</cp:coreProperties>
</file>