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21E6DA6-D635-481A-B68B-A44985E49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187D56B-A899-44F0-B654-4A1FF3599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4DC95F6-FA10-46A4-8C0F-361A06B588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2D464B8-47F3-4495-BBFD-B6F23AB848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0D73B07-C31D-4F34-9E1A-E8568ECF9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73A13AF-D17D-4ADB-A924-182D80FB64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52D834E-F9EA-4FF1-A343-2C93C093C2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E9CF848-41FB-47A4-A119-461482EA7D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02ACC37-CC20-4CEB-B057-3F15EEB57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25FB93A-2667-4788-B01C-D35488D5F7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EEA5B94-F4A5-47F0-BC01-4B3CC0A75F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64A333E-FF59-4642-BDD8-0BA03DEF7B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180D4D6-9C65-4903-B5EC-E644EF99A3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17F8D1D-3D8E-49F1-B8E5-90D54E7423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8B7AD57-B490-4A53-ADC4-1C7A9C8E7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24E38995-8FA3-4CBA-97E4-0EA31208F4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40B402C-95A2-47DF-9C6C-598BC6F73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750710A-97AD-481B-B80F-3B4EE773ED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19F75DB-5AB3-4C99-B518-5714AD420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6C190A4-4209-4C6E-8D46-997B449246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5DA54E9-7451-46A0-BA85-674FDFB85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AA529B4-DF7C-42B5-93A5-1BA4F0D568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DD11C-59A9-4A7B-A12E-0FF50737E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AF67-D537-4605-908D-4242853A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705A5-4DBC-40D7-8144-1FBB6BB92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BCCB0-76ED-4CDA-A2E0-8C53FDD12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F85F-9543-40D0-A456-CC8E4641E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85B15-3E62-45E4-B088-2FF199894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CD1E-ED6E-41FC-8444-B310B0D3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C3DF0-1829-4FB4-A7BF-65FBECA31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9874E-D882-48FD-B76F-F079C34F5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D87C-4D87-4C76-A073-098AF7DD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6C015-4A3A-47B3-9C06-E6FD2CF5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08B5-9149-43C4-9EB3-27D497382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301760" y="1260360"/>
            <a:ext cx="6470640" cy="43023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000000"/>
                </a:solidFill>
                <a:latin typeface="바탕"/>
              </a:rPr>
              <a:t>Chapter 5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r>
              <a:rPr b="1" lang="en-US" sz="3800" spc="-1" strike="noStrike">
                <a:solidFill>
                  <a:srgbClr val="000000"/>
                </a:solidFill>
                <a:latin typeface="바탕"/>
              </a:rPr>
              <a:t>Introduction to Valuation: The Time Value of Money</a:t>
            </a:r>
            <a:endParaRPr b="0" lang="en-US" sz="38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7"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BBD4E37-AFE3-4E27-B5DE-F10CFCB73D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7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0" name="Rectangle 1028"/>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2608E1C-8964-40F7-ABEB-43AEA612E1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2"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ntractual agreements, interest is computed more often, e.g. semi-annually, quarterly, monthly or even da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r bank pays an annual percentage rate (APR) of 8% on deposits but computes interest twice a year, the resulting effective interest rate (EAR) is compute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4" name=""/>
          <p:cNvSpPr txBox="1"/>
          <p:nvPr/>
        </p:nvSpPr>
        <p:spPr>
          <a:xfrm>
            <a:off x="380880" y="1447560"/>
            <a:ext cx="8305920" cy="41907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R = </a:t>
            </a:r>
            <a:r>
              <a:rPr b="1" lang="en-US" sz="4000" spc="-1" strike="noStrike">
                <a:solidFill>
                  <a:srgbClr val="000000"/>
                </a:solidFill>
                <a:latin typeface="Arial"/>
              </a:rPr>
              <a:t>(</a:t>
            </a:r>
            <a:r>
              <a:rPr b="0" lang="en-US" sz="3200" spc="-1" strike="noStrike">
                <a:solidFill>
                  <a:srgbClr val="000000"/>
                </a:solidFill>
                <a:latin typeface="Arial"/>
              </a:rPr>
              <a:t>1+ (APR/M)</a:t>
            </a:r>
            <a:r>
              <a:rPr b="1" lang="en-US" sz="4000" spc="-1" strike="noStrike">
                <a:solidFill>
                  <a:srgbClr val="000000"/>
                </a:solidFill>
                <a:latin typeface="Arial"/>
              </a:rPr>
              <a:t>)</a:t>
            </a:r>
            <a:r>
              <a:rPr b="1" lang="en-US" sz="3200" spc="-1" strike="noStrike" baseline="30000">
                <a:solidFill>
                  <a:srgbClr val="000000"/>
                </a:solidFill>
                <a:latin typeface="Arial"/>
              </a:rPr>
              <a:t>m</a:t>
            </a:r>
            <a:r>
              <a:rPr b="0" lang="en-US" sz="3200" spc="-1" strike="noStrike">
                <a:solidFill>
                  <a:srgbClr val="000000"/>
                </a:solidFill>
                <a:latin typeface="Arial"/>
              </a:rPr>
              <a:t>  -  1  =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4000" spc="-1" strike="noStrike">
                <a:solidFill>
                  <a:srgbClr val="000000"/>
                </a:solidFill>
                <a:latin typeface="Arial"/>
              </a:rPr>
              <a:t>(</a:t>
            </a:r>
            <a:r>
              <a:rPr b="0" lang="en-US" sz="3200" spc="-1" strike="noStrike">
                <a:solidFill>
                  <a:srgbClr val="000000"/>
                </a:solidFill>
                <a:latin typeface="Arial"/>
              </a:rPr>
              <a:t>1+ (0.08/2)</a:t>
            </a:r>
            <a:r>
              <a:rPr b="1" lang="en-US" sz="4000" spc="-1" strike="noStrike">
                <a:solidFill>
                  <a:srgbClr val="000000"/>
                </a:solidFill>
                <a:latin typeface="Arial"/>
              </a:rPr>
              <a:t>)</a:t>
            </a:r>
            <a:r>
              <a:rPr b="1" lang="en-US" sz="3200" spc="-1" strike="noStrike" baseline="30000">
                <a:solidFill>
                  <a:srgbClr val="000000"/>
                </a:solidFill>
                <a:latin typeface="Arial"/>
              </a:rPr>
              <a:t>2</a:t>
            </a:r>
            <a:r>
              <a:rPr b="0" lang="en-US" sz="3200" spc="-1" strike="noStrike">
                <a:solidFill>
                  <a:srgbClr val="000000"/>
                </a:solidFill>
                <a:latin typeface="Arial"/>
              </a:rPr>
              <a:t>  -1  = 0.0816  = 8.1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represents the number of compounding intervals in a ye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number of compounding intervals increases, so does the 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855AA95-FF5C-46EA-A646-D2DD55D6EC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8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7C00A07-6CF6-49F7-9645-ADB32EDBC1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8D7C21F-60D9-4184-A815-F9EF6B3655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33BF0E4-6D55-4C1D-A80D-33A4BAB463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9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F5F1B53-366D-4B9F-A5B7-8174E61999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2E09D77-1B1F-4C2D-9B31-D91378F1AD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36AC690-2D36-4935-B850-91922F758C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EA9F831-B416-4E3C-972E-559539047E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0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429B736-2D9E-4D1E-8863-89CC5384AE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6C9DE8B-4697-4F4C-A801-3828669130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03FBD58-EB88-4D35-9BEC-44AB5F9017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16"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1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B6FF8F1-3F83-4090-B782-3E44121972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0"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03D7A3B-8E7A-43D6-AF2F-B1974B94A4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2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8B41B56-746B-44B4-BE3F-9223D7788F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25"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7465B70-1A9F-4427-956C-4AAEF1C0B0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8FA3A99-8CDD-42A8-A681-FB7DB56964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5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4D93F6D-BB41-48D2-AD27-A30ED37B7A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1"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A72F091-B1C3-4DAE-887E-C9EAC732B9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34BA918-D0E6-420E-8068-CB06AF7F6D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7"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6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797E758-D9C7-4804-AE32-0BF95C0C05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0"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682D0CD-FBD7-4B8D-98C9-9ACDD7AF7E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3"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4"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83C91FE-1278-47E0-B9A9-924BCF09CC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dell</cp:lastModifiedBy>
  <dcterms:modified xsi:type="dcterms:W3CDTF">2014-03-09T04:46:31Z</dcterms:modified>
  <cp:revision>58</cp:revision>
  <dc:subject/>
  <dc:title>Introduction to Valuation: The Time Value of Money</dc:title>
</cp:coreProperties>
</file>