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DB12220-DCC3-4AB0-BCD0-27FA41FF34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B0A6684-7811-415F-898A-FFDD03ABD7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DAC867B-F0E8-4F2F-BF91-97D05C8ADA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2D18461-AB5E-49C4-9441-25011A362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44D5897-B2CE-4A60-955D-64FD9AB8BD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09066B5-060E-4487-9A48-A60D9D5AC7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31C30ED-AC9E-418E-8FA2-9EBA15BC62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DEB2F5F-2CE1-4D10-B11D-B82CC215A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FA27251-DE21-4863-AE3F-0008AE9E74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D9F5BE2-89CF-47C2-9969-8E810DD93C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20EEE34-20D7-45C6-826E-CDF53EF9D0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87EDF26-B264-46F0-916C-AC0FC459A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9F8338D-72F0-4917-94BE-03C705565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8014CB0-CCE0-4F80-83D0-D4C116DBD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8E8A4EB-887A-4FA6-AFA4-6C6B807CC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7A9CE7E-8F18-4A6D-A40C-CB5CCCAB3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6D796A5-6CBB-400A-ABB4-B87593E85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06DEB77-B040-4E94-B8D2-FC62D818E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AA09ED4-7FFB-4CF0-BD8A-8AB0A4EC8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5A228730-63DF-4FD9-A25D-A8098A37E2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41F8E80-1F97-4B4E-9833-F0B9C0B309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D2B8DAC-C702-4FDE-8226-E98880ACD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007E7-7FF2-456E-B6E5-14306B10E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AD2F-5CB6-41A3-8620-0172E414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31F0C-0CE5-4E5B-8235-DC6A79FDD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6189B-E2DF-422E-8C93-46196B80C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8599-0DEE-4249-BCA3-71A2091FD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595B-2C17-4F45-9153-353DC13E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615B-226B-4C62-BAC0-9A31C9C44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8818-EC1C-468B-89F1-49E5ED37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DCC9-9EA7-47C3-ADC6-8F5B75B7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35B3-C344-4942-AAD4-A99DF7D1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2BCE-E315-406E-9567-F99AA7E5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0C67-0AD2-43DE-ACD9-F6A509C6A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647064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000000"/>
                </a:solidFill>
                <a:latin typeface="바탕"/>
              </a:rPr>
              <a:t>Chapter 5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Introduction to Valuation: The Time Value of Money</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7"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2CD195A-A5B3-4694-B0A8-F32DDBD1E5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7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0"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7BA93F9-301A-4ABE-91BD-C8DE75FFD9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ntractual agreements, interest is computed more often, e.g. semi-annually, quarterly, monthly or even da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r bank pays an annual percentage rate (APR) of 8% on deposits but computes interest twice a year, the resulting effective interest rate (EAR) is compute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4" name=""/>
          <p:cNvSpPr txBox="1"/>
          <p:nvPr/>
        </p:nvSpPr>
        <p:spPr>
          <a:xfrm>
            <a:off x="380880" y="1447560"/>
            <a:ext cx="8305920" cy="41907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R = </a:t>
            </a:r>
            <a:r>
              <a:rPr b="1" lang="en-US" sz="4000" spc="-1" strike="noStrike">
                <a:solidFill>
                  <a:srgbClr val="000000"/>
                </a:solidFill>
                <a:latin typeface="Arial"/>
              </a:rPr>
              <a:t>(</a:t>
            </a:r>
            <a:r>
              <a:rPr b="0" lang="en-US" sz="3200" spc="-1" strike="noStrike">
                <a:solidFill>
                  <a:srgbClr val="000000"/>
                </a:solidFill>
                <a:latin typeface="Arial"/>
              </a:rPr>
              <a:t>1+ (APR/M)</a:t>
            </a:r>
            <a:r>
              <a:rPr b="1" lang="en-US" sz="4000" spc="-1" strike="noStrike">
                <a:solidFill>
                  <a:srgbClr val="000000"/>
                </a:solidFill>
                <a:latin typeface="Arial"/>
              </a:rPr>
              <a:t>)</a:t>
            </a:r>
            <a:r>
              <a:rPr b="1" lang="en-US" sz="3200" spc="-1" strike="noStrike" baseline="30000">
                <a:solidFill>
                  <a:srgbClr val="000000"/>
                </a:solidFill>
                <a:latin typeface="Arial"/>
              </a:rPr>
              <a:t>m</a:t>
            </a:r>
            <a:r>
              <a:rPr b="0" lang="en-US" sz="3200" spc="-1" strike="noStrike">
                <a:solidFill>
                  <a:srgbClr val="000000"/>
                </a:solidFill>
                <a:latin typeface="Arial"/>
              </a:rPr>
              <a:t>  -  1  =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4000" spc="-1" strike="noStrike">
                <a:solidFill>
                  <a:srgbClr val="000000"/>
                </a:solidFill>
                <a:latin typeface="Arial"/>
              </a:rPr>
              <a:t>(</a:t>
            </a:r>
            <a:r>
              <a:rPr b="0" lang="en-US" sz="3200" spc="-1" strike="noStrike">
                <a:solidFill>
                  <a:srgbClr val="000000"/>
                </a:solidFill>
                <a:latin typeface="Arial"/>
              </a:rPr>
              <a:t>1+ (0.08/2)</a:t>
            </a:r>
            <a:r>
              <a:rPr b="1" lang="en-US" sz="4000" spc="-1" strike="noStrike">
                <a:solidFill>
                  <a:srgbClr val="000000"/>
                </a:solidFill>
                <a:latin typeface="Arial"/>
              </a:rPr>
              <a:t>)</a:t>
            </a:r>
            <a:r>
              <a:rPr b="1" lang="en-US" sz="3200" spc="-1" strike="noStrike" baseline="30000">
                <a:solidFill>
                  <a:srgbClr val="000000"/>
                </a:solidFill>
                <a:latin typeface="Arial"/>
              </a:rPr>
              <a:t>2</a:t>
            </a:r>
            <a:r>
              <a:rPr b="0" lang="en-US" sz="3200" spc="-1" strike="noStrike">
                <a:solidFill>
                  <a:srgbClr val="000000"/>
                </a:solidFill>
                <a:latin typeface="Arial"/>
              </a:rPr>
              <a:t>  -1  = 0.0816  = 8.1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represents the number of compounding intervals in a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number of compounding intervals increases, so does the 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DEA5FEC-6778-4522-88A0-FB8CFB9C0A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8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D054CF6-58D4-46F1-AF96-8F03E8F89C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D9C0CE1-2905-4EEF-BD55-18705F60AA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5AC1728-EF8F-470F-A08B-FFDDF30430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9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116D402-1C4F-44CA-AD66-B2CFFA0557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825EDC6-ABC6-40FF-9D05-5488EA91C5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619A0CC-E5F1-425E-91DD-4931D39B85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2171B2F-91DB-4969-A451-5CD05575B6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0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A3DA4AA-5013-4D41-B940-DB636C6D81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154F7BB-14E4-4178-92C1-20496FFCB8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E2A5329-72E5-4105-951A-E7E8F8ACD0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16"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6812F43-378E-43C4-A174-834B201520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D43600D-B9E2-49EA-B50E-7BA0940030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CA0B311-3C35-434A-B09F-20DCE2FE0A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6B0B6D7-5B32-4286-8A23-45C1A0BC5E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88F4CE1-2A2E-4850-B754-4813498384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5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A6145C6-B5AA-432C-9D45-D1E666B15A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1"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ACB7826-D593-40E2-A858-3A1EDC6A4C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EEC9225-4C03-400D-B62C-14CF9327B9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7"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6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41B1220-43C5-4962-AE27-EE3847D7F1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0"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C3CAC1A-4C7A-49A4-A9BC-A83238B102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3"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4"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1D2553E-6716-4B44-B360-29DF99D9D8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dell</cp:lastModifiedBy>
  <dcterms:modified xsi:type="dcterms:W3CDTF">2014-03-09T04:46:31Z</dcterms:modified>
  <cp:revision>58</cp:revision>
  <dc:subject/>
  <dc:title>Introduction to Valuation: The Time Value of Money</dc:title>
</cp:coreProperties>
</file>