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088-A23D-4A15-A8C7-264AF4FA6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EAAD-2A33-436F-A891-DC368979D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questionable :doubt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600B-5E64-4494-B6AB-0ED3F4A5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pecific: prescri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E8BE-7646-4A85-A5F6-AB54969AE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finition of 'Stockholders' Equity‘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portion of the balance sheet that represents the capital received from investors in exchange for stock (paid-in capital), donated capital and retained ear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9743-5EF9-443F-944F-6E84B477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قائمة الدخل يتم فيها تقيد الأيرادات والمصاريف الخاصة بالمنشاة والفرق بينهما هو صافي الأيرادات او أرباح الشركة وهذه المعادلة التي يتوجب على كل محاسب ان يستوعبها </a:t>
            </a:r>
            <a:br>
              <a:rPr sz="1200"/>
            </a:br>
            <a:br>
              <a:rPr sz="1200"/>
            </a:b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أيرادات – المصاريف = الربح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evenuse - Expenses =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7416-9D5D-43AC-8210-1CB4AAD8D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i·mul·ta·ne·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1407-E6A8-4DE8-B647-43C72BC0A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5B0E-2208-432F-9BB6-3DCDFFCDC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D814-4C99-4384-9DE3-092354E30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3BA3-79C5-4457-9CE1-BC7A7A254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0A59-334A-4737-8823-65F16B735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40A07-BE88-4DD2-B514-4EA44C97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F3F4E-2697-4C30-AC6D-B4776D4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4D232-9EFE-4E32-BCD3-E6CD353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AA6C9-BF13-491E-8147-59E85AE5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541E1-A028-4B1C-B37E-6A922AFF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51515-0871-452D-8174-98BE3C8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218FF-E02C-41D6-84F5-EAE191E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B097-BB07-48E0-9795-02628E110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2A442-3599-4530-962F-333F252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57E09-B808-4C48-A8A6-705CBE5D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6B029-F68F-48FD-BA5D-783BA117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D4301-780C-4FAA-BEC4-667DE1AE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7D8B3-29E7-4675-ADCF-B5095EDB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46FD76-8A84-4499-AAB2-8F0F6B68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D4472-75CB-4E9E-9772-3F764887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49A76-8736-4E25-954C-C4DB98D7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CEB001-DBFB-46C2-A13A-A5120C17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AA904-1DA4-4C63-B9DF-663F7360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5D84-836C-477C-AFF2-8997DDC498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70C17-EB48-43FA-B0C1-B67D216B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607A99-F000-4D6B-8DC8-C1D7871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FF224-7E55-4BD5-9F47-048DAE9E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4DFC1-1351-4306-A414-C420C6B4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782F4-083D-4B05-A555-1BE3829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D918A-25B9-4AAC-BCBB-8FA28C03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E567C-7DFB-4127-AACF-E5132CF6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4CE86-AC71-46BE-9C73-3422D2E53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F45F9-7BD0-4F2B-B539-BC420096F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8F48-B65B-44A8-94A8-AE6DBCC1A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2BE32-E2E9-4992-A136-C63FC8EC5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76AEF-5B2B-4521-916C-7879D59E5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D5E4-9783-408E-A4E4-CC399F369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039D-E6C0-43ED-BBA3-4F9B992243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B97C-7902-4F6B-A95B-3D6D8733CFE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451-4032-48D5-9530-B3C153ABF09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Five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Accounting in ERP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276-BEBC-49F1-A5D3-919FA5250CA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E948-4031-437C-ACA4-3918CD4B315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perational Decision-Making Problem: Credit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tegrated information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ut-of-date or inaccurate accounting data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use problems when a company is making operational decis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dustrial credit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’s credit management procedur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dit management in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17EC-DB85-4711-8A66-9553F1F5745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dustrial Credit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redit management requires a good balance between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ranting sufficient credit to support sales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ing sure that the company does not lose too much mone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ting a limit on how much money a customer can owe at any one time and then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onitoring that limit as orders come in and payments are receiv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BEF-D470-4F3A-9ADD-20F27A54B7E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dustrial Credit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make this system work,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sales representative needs to have access to up-to-date accounts receivable balances for all customer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arise if Marketing and Accounting have unintegrated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may not immediately record sales and/or payment receip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should not arise with an integrated information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s receivable is immediately updat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7431-9B91-4CC3-8574-7C0076F8E3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Credit Management Procedur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 sales clerk refers to a weekly printout of a customer’s current balance and credit limit to see if credit should be grant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ales data are transferred to Accounting by disk three times a week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clerk can use sales input to prepare a customer invo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must make any adjustments for partial shipments before preparing the invo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accuracy of the adjustment process depends on whether the warehouse transmits order changes to Accounting in a timely fashion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ccounting clerks process customer pay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48B-1383-473C-B18C-B67922737D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redit Management in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would allow FS to set a credit limit for each custom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y can configure any number of credit-check options in SAP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instance, at order creation, at creation of the delivery document, or at the goods issu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s of using SAP ERP to manage cred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cess is autom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are available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6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redit management configur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Figure 5-6 shows the credit-checking process in Figure 5-5 applied to a specific customer, Health Express.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Health Express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has a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credit limit of $1,000 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and currently has used $590 of this limit. If Health Express places an order for snack bars that totals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more than $410</a:t>
            </a: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, the order </a:t>
            </a:r>
            <a:r>
              <a:rPr b="1" lang="en-US" sz="1400" spc="-1" strike="noStrike">
                <a:solidFill>
                  <a:srgbClr val="222222"/>
                </a:solidFill>
                <a:latin typeface="Arial"/>
              </a:rPr>
              <a:t>will be blocked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907-111B-49F0-86E5-A1ECB072577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3581280" y="914400"/>
            <a:ext cx="50292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400B-4D13-490C-AF73-6A693D66234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 Profitability Analys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Business managers use accounting data to perform profitability analyses of a company and its produc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hen data are inaccurate or incomplete, the analyses are flaw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in reasons for inaccurate or incomplete data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consistent recordkeep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accurate inventory costing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blems consolidating data from subsidia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618-3CD6-4DDA-BD6E-2236541883A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consistent Recordkeep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ach of FS’s marketing divisions maintains its own records and keeps track of sales data different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aper records might be inaccurate or missing, making validity of the final report questionabl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ithout integrated information systems, accounting and reporting to management requires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orking around limitations of information systems to produce useful outpu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RP system minimizes or eliminates these problems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cause both divisions record and store their data in the same way, in the same database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AD81-474C-46B8-A4A6-034A952C747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rrectly calculating inventory cos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ne of the most important and challenging accounting tasks in any manufacturing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ventory cost accounting backgroun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ufactured item’s cost has three element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raw materi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labor employed directly in production of i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Overhead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all other cos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uch as factory utilities, factory managers’ salaries, storage, insurance,…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3ED9-F6AA-41BD-85A8-A95C6709EEF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ventory cost accounting background (cont’d.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Direct co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materials and lab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be estimated fairly accurate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direct cost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overhead i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ifficult to associate with specific product(s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common method is to use total machine hou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568160" indent="-223920">
              <a:spcBef>
                <a:spcPts val="349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f  $1,000 per machine hour. And fitter can make 10,000 bars in an hour, then each bar would be allocated $0.10 of overhead ($1,000 ÷ 10,000).</a:t>
            </a:r>
            <a:endParaRPr b="0" lang="en-US" sz="14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itter Snacker’s use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Standard costs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 for each batch of bars it produces (As explained in Chapter 4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Example (see next slide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ost variances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: differences between actual costs and standard co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B43F-7601-4A80-9CB2-BBF32E6DE90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74B4-7B09-4427-BAEB-09B92B8CB33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the differences between financial and managerial account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dentify and describe problems associated with accounting and financial reporting in unintegrated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how ERP systems can help solve accounting and financial reporting problems in an unintegrated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scribe how the Enron scandal and the Sarbanes-Oxley Act have affected accounting information syst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Explain accounting and management-reporting benefits that accrue from having an ERP system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example, Fitter might determine that each NRG-A bar should cost $0.75 to mak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iven month, Fitter makes 1 million NRG-A ba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ing the standard cost, it would increase its balance sheet inventory account by $750,000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ssume that the company sells 800,000 bars in the month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n the income statement, the cost of the sales would be shown as $600,000 (800,000 × $0.75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inventory account would be reduced by $600,000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ost variances=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$750,000 - $600,000 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605-33B9-44D4-AB69-510EBEB5AE3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C56-573F-45D4-8FE6-0A6DEB2B6B5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ERP and inventory cost accoun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any companies with unintegrated accounting systems analyze their cost variances infrequentl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ften, they do not know how much it actually costs to produce a unit of a produ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551960" indent="-2214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Fitter has an opportunity to sell 300,000 NRG-A bars to a new customer (The customer wants a price of $0.90 per bar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f FS had an ERP system, employees throughout the company would have recorded costs in a company-wide database as they occurre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ERP system configurations allow analysts to track costs using many bas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lowing an analyst to play “what if” with product profitability decision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DE41-8C9D-4186-A1D0-4F69EB5AE2B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accurate Inventory Costing Syst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 costing examp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uppose Fitter Snacker wishes to update standard costs for NRG-A ba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 cost analysis for NRG-A ba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 cost analysis in SAP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Product cost variant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 method for developing a product cost in an ERP syst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57200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B270-95E4-4303-973E-D83900E077F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281240" y="144360"/>
            <a:ext cx="635796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calculate the bar cost 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209.82 /(24 bars/box)(12 boxes/case) = .72 / ba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xercise 5.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stimate the COGM and COGS on a per-case basis for the NRG-B bar using the production information in Figure 4-16 and the following product cost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Use the same direct labor costs and overhead percentages shown in the NRG-A bar product cost analysis in Figure 5-8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ACF5-4D2F-4A70-A32C-BC300AAF123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1371600" y="4343400"/>
            <a:ext cx="4114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1BD-B20C-4346-8B2D-F510F2AF4D6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anies with Subsidiar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 balances for each entity must be compiled and forwarded to the home offi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nsolidated statement for the company as a whole must be creat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Currency trans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blems when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urrency translation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is needed for a subsidiary’s acc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Intercompany transa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ransactions that occur between companies and their subsidiar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219-9197-4B70-BCEC-AADFDBEA491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nagement Reporting with ERP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enerating the right reports for the right situation is often challeng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out an ERP system, the job of tracking all the numbers that need to go into a report is a monumental undertaking 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ERP system, vast amount of information is available for reporting purpo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741D-3D4A-4B18-946D-110ADF99FA8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Flow for Customer Serv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n ERP system, all transactions in all areas of a company get posted in a centralized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transaction posted in SAP ERP gets its own unique document numb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llows quick access to the data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, document numbers for related transactions are associated in the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n electronic audit trai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34AB-258B-4E9F-A729-BFE4B581E3B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Flow for Customer Servic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219320" y="55627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0  Document flow of a transactio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Fig05-10"/>
          <p:cNvPicPr/>
          <p:nvPr/>
        </p:nvPicPr>
        <p:blipFill>
          <a:blip r:embed="rId1">
            <a:lum bright="-6000"/>
          </a:blip>
          <a:srcRect l="0" t="0" r="0" b="8063"/>
          <a:stretch/>
        </p:blipFill>
        <p:spPr>
          <a:xfrm>
            <a:off x="1219320" y="1870200"/>
            <a:ext cx="671832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71E-2444-42FE-8D52-12798D2D33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ilt-In Management-Reporting and Analysis Tool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ccounting records maintained in the common databas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dvantage of using a database is the ability to query the records to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e standard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swer ad hoc ques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provides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data warehouse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in each major modu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warehouse: repository for data from various sourc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70D5-12C5-48AE-8EA5-007D412BF25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reas of account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nagerial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Financial account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cumenting all transactions of a company that have an impact on the financial state of the fir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documented transactions to create reports for external parties and agen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orts, or financial statements, must follow prescribed rules and guidelines of various agenci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FC54-9579-48E5-85C3-30FC63CC0A8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nron Collap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ctober 16, 2001: Enron was one of the world’s largest electricity and natural gas trade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Reported a $618 million third-quarter loss and disclosed a $1.2 billion reduction in shareholder equ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Securities and Exchange Commission (SEC) inquiry into possible conflict of interest related to company’s dealings with partnerships run by CFO Fastow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D161-41AF-473D-BD11-3A0C6F1814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nron Collapse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Volume of financial contracts was far greater than volume of contracts to actually deliver commoditi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ome partnerships were faked to mask billions of dollars in deb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ron’s financial statements had been audited by Arthur Andersen, a highly regarded accounting fir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Andersen employees on the Enron engagement team were instructed to destroy documentation relating to Enr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E90-DC69-45A9-8A05-46F76ED74C8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come of the Enron Scandal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hareholders lost an estimated $40 billion dollar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ousands of workers lost their job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31 individuals were either charged or pled guilty to criminal charg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Jurors convicted accounting firm Arthur Andersen for obstructing justice by destroying Enron docu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Congress passed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 was designed to prevent the kind of fraud and abuse that led to the Enron downf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5FCF-7ECB-4733-83A4-A151D82F2A5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rbanes-Oxley Ac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.S. Congress passed Sarbanes-Oxley Act of 2002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t was designed to prevent the kind of fraud and abuse that led to the Enron downfall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signed to encourage top management accountability in firms that are publicly traded in the United Stat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1F8-0A0F-4983-B250-5EB2EA0CE11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mplications of the Sarbanes-Oxley Act for ERP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meet the internal control report requirement, a company mus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ocument the controls that are in pla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Verify that the controls are not subject to error or manipu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with ERP systems in place will have an easier time complying with the Sarbanes-Oxley Act than will companies without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3A49-4653-4D51-AF1B-FEBE32C6E52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rchiv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software offers very few ways to delete i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ata are removed from SAP ERP system only after they have been recorded to media (tape backup, DVD-R) for permanent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Archive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 permanent storag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systems keep track of when data are created or changed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hange Recor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ED8B-F0BC-42A5-BF58-1DF472685C4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er Authoriz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P ERP has sophisticated user administration tools that allow different levels of authorization managemen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sure that employees can perform only the transactions required for their job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file Generat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vides a simple method for selecting functions that a user should be allowed to perfor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772-0C0E-4E09-9B18-5AAF2EB8082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752480" y="5881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3  Role for material management master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5" descr="Fig05-13"/>
          <p:cNvPicPr/>
          <p:nvPr/>
        </p:nvPicPr>
        <p:blipFill>
          <a:blip r:embed="rId1">
            <a:lum bright="-6000"/>
          </a:blip>
          <a:srcRect l="0" t="0" r="0" b="4353"/>
          <a:stretch/>
        </p:blipFill>
        <p:spPr>
          <a:xfrm>
            <a:off x="1919160" y="297000"/>
            <a:ext cx="531972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CC32-EF6F-4697-9F8C-F618EF7903F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tting limits on the size of transaction an employee can proces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an SAP ERP system, this is done using tolerance group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lerance grou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eset limits on an employee’s ability to post transac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t limits on the dollar value for a single item in a document as well as the total value of docu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B5A-406F-44E4-AA52-FC47371929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066680" y="58053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4  Default tolerance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5" descr="Fig05-14"/>
          <p:cNvPicPr/>
          <p:nvPr/>
        </p:nvPicPr>
        <p:blipFill>
          <a:blip r:embed="rId1">
            <a:lum bright="-6000"/>
          </a:blip>
          <a:srcRect l="0" t="0" r="0" b="5820"/>
          <a:stretch/>
        </p:blipFill>
        <p:spPr>
          <a:xfrm>
            <a:off x="1111320" y="609480"/>
            <a:ext cx="719460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B8E-2E00-464B-9C78-DF2EFDDD29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financial statements: balance sheets and income stat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Balance shee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tement that shows account balances such as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sh hel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ed to company by custome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ost of raw materials and finished-goods inventor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ong-term assets such as building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ed to vendors, banks, and other creditor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mounts owners have invested in compan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2FB9-0F28-41B4-99A0-E6C40490B2E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nancial Transparenc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provide the ability to drill down from a report to the source documents (transactions) that created i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kes it easier for auditors to confirm the integrity of repor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With a properly configured and managed ERP system, there are direct links between the company’s financial statements and individual transactions that make up the statements,so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raud and abuse can be detected more easi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A84-10F6-45E5-8B1D-39A73F1393D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need accounting systems to record transactions and generate financial state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nintegrated information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ing data might not be curr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cause problems for sales representatives trying to make operational decision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can be inaccu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Can affect decision making and therefore profitabilit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C342-4CA7-4F69-B4ED-35BD9A55CE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osing the books at the end of an accounting period can be difficult with an unintegrated IS, but is relatively easy with an integrated 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losing the books means zeroing out temporary account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ing an integrated IS and a common database to record accounting data has important inventory cost-accounting benef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lead to more accurate product cost calculation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an help managers determine which products are profitable and which are no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CA04-505C-42CB-B19E-FABF8C8DF4A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Use of an integrated system and a common database to record accounting data has important management-reporting benefi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uilt-in drill-down and query tools availa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rbanes-Oxley Act, 2002 U.S. federal regul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ritten and passed in the wake of Enron collaps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moted management accountability by requiring extra financial approval and repor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ystems can help companies meet the requirements of this legisla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1917-6B77-44C2-AB11-29E8EAC3CEAF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752480" y="5881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1  Fitter Snacker sample balance she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5" descr="Fig05-01"/>
          <p:cNvPicPr/>
          <p:nvPr/>
        </p:nvPicPr>
        <p:blipFill>
          <a:blip r:embed="rId1">
            <a:lum bright="-6000"/>
          </a:blip>
          <a:srcRect l="0" t="0" r="0" b="4893"/>
          <a:stretch/>
        </p:blipFill>
        <p:spPr>
          <a:xfrm>
            <a:off x="1828800" y="460440"/>
            <a:ext cx="572292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E206-C72A-4E4B-B8E5-97780D58666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Activitie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Income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Profit and loss (P&amp;L) stat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hows company’s sales, cost of sales, and profit or loss for a period of time (typically a quarter or year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tegrated information system simplifies the process of closing the books and preparing financial statement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anagerial accounting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s a field of accounting that analyzes and provides cost information to the internal management for the purposes of planning, controlling and decision making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Cost accounts are not preserved under Management Accounting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necessary data from financial statements and cost ledgers are analyzed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57D3-3C35-4B83-8C54-D46C324214F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19320" y="5881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5-2  Fitter Snacker sample income 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Fig05-02"/>
          <p:cNvPicPr/>
          <p:nvPr/>
        </p:nvPicPr>
        <p:blipFill>
          <a:blip r:embed="rId1">
            <a:lum bright="-6000"/>
          </a:blip>
          <a:srcRect l="0" t="0" r="0" b="5088"/>
          <a:stretch/>
        </p:blipFill>
        <p:spPr>
          <a:xfrm>
            <a:off x="1295280" y="457200"/>
            <a:ext cx="667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A7B5-81C9-479F-80FA-15EE3C2442C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ERP for Accounting Inform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blems associated with unintegrated syst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ata sharing usually did not occur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ccounting’s data were often out of dat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ccounting personnel had to do significant research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, with its centralized database, avoids these problem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raditional accounting, company’s accounts are kept in a record called a 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general ledge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0A77-713A-4491-8CCB-5D274B00B08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Using ERP for Accounting Informatio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SAP ERP system, input to general ledger occurs simultaneously with business transactio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Many SAP ERP modules cause transaction data to be entered into general ledger, includ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Distribution (SD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Materials Management (MM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nancial Accounting (FI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ntrolling (CO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uman Resources (HR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sset Management (AM)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2:40Z</dcterms:modified>
  <cp:revision>643</cp:revision>
  <dc:subject/>
  <dc:title>Chapter 5</dc:title>
</cp:coreProperties>
</file>