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FA61-AE11-402D-88DE-DC41CA2F9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DF5F-0931-4E74-800E-6038FCF9B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questionable :doubt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7A9E-1668-4C9D-8505-A3D14518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pecific: prescri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8BBC-F90E-4CE9-8959-D399CE2F5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finition of 'Stockholders' Equity‘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rtion of the balance sheet that represents the capital received from investors in exchange for stock (paid-in capital), donated capital and retained ear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604D-40B6-410E-859F-13E5F89BA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قائمة الدخل يتم فيها تقيد الأيرادات والمصاريف الخاصة بالمنشاة والفرق بينهما هو صافي الأيرادات او أرباح الشركة وهذه المعادلة التي يتوجب على كل محاسب ان يستوعبها </a:t>
            </a:r>
            <a:br>
              <a:rPr sz="1200"/>
            </a:br>
            <a:br>
              <a:rPr sz="1200"/>
            </a:b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يرادات – المصاريف = الربح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evenuse - Expenses =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2C4C-6582-4100-B5E8-2E7350158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·mul·ta·ne·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27DB-4D67-4E1E-8482-9613EB11B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497A-6AD4-4762-AA2C-E1162BD04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27D9-4B24-49B7-B8CF-E83BA710C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F5FF-969A-42F4-8079-4157A48AB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70CD-CA69-473B-A639-4D48807EA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62A5B-CFD1-4FC8-B092-F1EA4CFF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B3A29-82EE-4E94-BE43-C4182D0A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1D1AF-5F9D-475F-8CBE-70521C97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6F07C-F6B5-4CC2-9F2F-3CD4DC95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947ED-F1AC-4DAE-B8DB-0DB4ADFE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92913-552B-4EE6-8861-042E3D38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D2B7-C5B8-4C7E-AD7F-A44D78C5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30A5-FDB8-4503-8CBF-72AFC9450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93E8C-8012-4AF0-A1E0-A89B7FF0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28E92-1541-4DF8-A374-BABD0A75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75E64-AB41-4C07-8108-75E5476B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183A6-79A0-4D30-A4D7-BA8DFC6F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780D-E952-4E89-B022-BC2A16C1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A9179-A152-4E3F-829D-12923FDE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AFAD4-CDB6-4D1D-B274-16468CB1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A57DE-4073-43C1-A581-8635D872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1B9B1-DC5D-42ED-835B-BD02482A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D1FB5-B36C-4AFD-923A-850AC859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F945-06EE-4B0A-8613-DF3F6FD473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CE078-BEC9-4C91-BEB0-F652EEE1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04273-16A0-42A3-A1DD-6DE851DF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E5681-470E-4DEC-B911-8144C8A2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91FFA-32A5-4095-8CB7-DCE594B3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072AC-7B0A-4CC2-9787-E0E5F8A9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9D638-448D-4A24-8417-36EC534F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48BCF-9B2C-4D7C-B70B-C75BEE15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76A1-4770-4077-B2FE-0070D10D0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DD23-E575-4F28-A400-15BF7D71F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C013-2103-4902-B644-35A9BCC5F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3285-84BB-46D0-B864-CE0960ABD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6DAA-95BE-4603-8E09-D935601FE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2585-8E27-441C-8B92-AF575A7BF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D0B0-1CC5-4B89-A013-B88DAB302C9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FC3-2814-4C78-A3F9-ED064CF5DF5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B531-F7C5-4FEE-B601-AF0CF5D3A7B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4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Fiv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Accounting in ERP System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AB55-2C1B-42BD-9794-BBA3F915A97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1E89-6C0F-4B8A-9BBC-A21B891D348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perational Decision-Making Problem: Credit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integrated information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ut-of-date or inaccurate accounting data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cause problems when a company is making operational decision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ustrial credit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’s credit management proced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dit management in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9786-2BC5-452D-A607-EDE2C4569CE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dustrial Credit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dit management requires a good balance betwee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ranting sufficient credit to support sale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sure that the company does not lose too much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tting a limit on how much money a customer can owe at any one time and then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nitoring that limit as orders come in and payments are receiv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4EFD-B759-411D-B952-0B8685D6F7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dustrial Credit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o make this system work,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sales representative needs to have access to up-to-date accounts receivable balances for all customer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blems arise if Marketing and Accounting have unintegrated information syst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ing may not immediately record sales and/or payment receip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blems should not arise with an integrated information syste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s receivable is immediately updated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318D-A98D-46F9-AAAB-BEBA83FCD15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Credit Management Proced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S sales clerk refers to a weekly printout of a customer’s current balance and credit limit to see if credit should be granted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ales data are transferred to Accounting by disk three times a week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ing clerk can use sales input to prepare a customer invoic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ing must make any adjustments for partial shipments before preparing the invoic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he accuracy of the adjustment process depends on whether the warehouse transmits order changes to Accounting in a timely fashion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ing clerks process customer paymen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5D37-FEA9-4389-BC6D-581CDAD63C7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dit Management in SAP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would allow FS to set a credit limit for each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 can configure any number of credit-check options in SAP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r instance, at order creation, at creation of the delivery document, or at the goods issu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tages of using SAP ERP to manage cred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cess is automat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are available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6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dit management configu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Figure 5-6 shows the credit-checking process in Figure 5-5 applied to a specific customer, Health Express.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Health Express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s a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credit limit of $1,000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d currently has used $590 of this limit. If Health Express places an order for snack bars that totals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more than $410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, the order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will be blocked.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6AD4-B2A2-4769-BB62-5342424BD03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50292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7280-9F78-4DA1-B14E-A12DE833F3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duct Profitability Analys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 managers use accounting data to perform profitability analyses of a company and its produc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data are inaccurate or incomplete, the analyses are flaw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in reasons for inaccurate or incomplet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onsistent recordkeep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accurate inventory costing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blems consolidating data from subsidia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64CA-715A-41F2-88E9-5F57E098D0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consistent Recordkeep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ach of FS’s marketing divisions maintains its own records and keeps track of sales data different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aper records might be inaccurate or missing, making validity of the final report question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ithout integrated information systems, accounting and reporting to management requires: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orking around limitations of information systems to produce useful outpu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RP system minimizes or eliminates these problem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cause both divisions record and store their data in the same way, in the same database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5E90-69DD-4FA8-B372-260A2DB61BA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accurate Inventory Costing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rrectly calculating inventory cos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of the most important and challenging accounting tasks in any manufacturing compan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ventory cost accounting backgroun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ufactured item’s cost has three elements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st of raw material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st of labor employed directly in production of ite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Overhead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all other cos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ch as factory utilities, factory managers’ salaries, storage, insurance,….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91FF-040F-4F93-8245-951FDA1236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accurate Inventory Costing System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ventory cost accounting background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Direct co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materials and lab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be estimated fairly accurate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Indirect co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overhead i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ifficult to associate with specific product(s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common method is to use total machine hou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568160" indent="-2239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If  $1,000 per machine hour. And fitter can make 10,000 bars in an hour, then each bar would be allocated $0.10 of overhead ($1,000 ÷ 10,000).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itter Snacker’s uses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Standard costs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 for each batch of bars it produces (As explained in Chapter 4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Example (see next slide)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Cost variances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: differences between actual costs and standard co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4600-D287-4F8B-9B09-7A60B077578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0859-D398-4C9B-A90D-9278023DBB9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scribe the differences between financial and managerial accounting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dentify and describe problems associated with accounting and financial reporting in unintegrated information syst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scribe how ERP systems can help solve accounting and financial reporting problems in an unintegrated syste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scribe how the Enron scandal and the Sarbanes-Oxley Act have affected accounting information syst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xplain accounting and management-reporting benefits that accrue from having an ERP syste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r example, Fitter might determine that each NRG-A bar should cost $0.75 to mak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given month, Fitter makes 1 million NRG-A ba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Using the standard cost, it would increase its balance sheet inventory account by $750,000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ssume that the company sells 800,000 bars in the month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n the income statement, the cost of the sales would be shown as $600,000 (800,000 × $0.75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he inventory account would be reduced by $600,000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Cost variances=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$750,000 - $600,000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4A9A-DE7A-4729-87E6-CBD8C5C59D4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6ADE-2943-4502-8100-07D91CFDA7E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accurate Inventory Costing System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RP and inventory cost accoun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y companies with unintegrated accounting systems analyze their cost variances infrequentl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Often, they do not know how much it actually costs to produce a unit of a produc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551960" indent="-22140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Fitter has an opportunity to sell 300,000 NRG-A bars to a new customer (The customer wants a price of $0.90 per bar)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f FS had an ERP system, employees throughout the company would have recorded costs in a company-wide database as they occurred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ERP system configurations allow analysts to track costs using many bas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allowing an analyst to play “what if” with product profitability decision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7515-8AA9-4371-A07A-18263E9FE93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accurate Inventory Costing System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 costing examp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se Fitter Snacker wishes to update standard costs for NRG-A ba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cost analysis for NRG-A b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 cost analysis in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roduct cost variant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method for developing a product cost in an ERP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76960" cy="457200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D0CE-A23A-4FA6-9ED8-DCD7B0ACAA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1281240" y="144360"/>
            <a:ext cx="635796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alculate the bar cost 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209.82 /(24 bars/box)(12 boxes/case) = .72 / ba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xercise 5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stimate the COGM and COGS on a per-case basis for the NRG-B bar using the production information in Figure 4-16 and the following product costs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Use the same direct labor costs and overhead percentages shown in the NRG-A bar product cost analysis in Figure 5-8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D0FD-3977-46F8-A609-6962A518A9C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4114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A50-35BF-4A49-9188-BDDD241F6D2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anies with Subsidiar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 balances for each entity must be compiled and forwarded to the home off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solidated statement for the company as a whole must be creat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urrency trans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blems when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urrency translation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is needed for a subsidiary’s accou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rcompany transa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nsactions that occur between companies and their subsidia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D003-0C5D-4D29-A852-879570EC0D5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Reporting with ERP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ting the right reports for the right situation is often challeng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out an ERP system, the job of tracking all the numbers that need to go into a report is a monumental undertaking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ERP system, vast amount of information is available for reporting purpo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290D-5CEC-468C-ABA6-7EF1D5DFC85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ocument Flow for Customer Servi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n ERP system, all transactions in all areas of a company get posted in a centralized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transaction posted in SAP ERP gets its own unique document numb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quick access to th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SAP ERP, document numbers for related transactions are associated in the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an electronic audit trai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856A-C354-4F26-9A79-45B7360EDD7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ocument Flow for Customer Servi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219320" y="55627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10  Document flow of a transaction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Fig05-10"/>
          <p:cNvPicPr/>
          <p:nvPr/>
        </p:nvPicPr>
        <p:blipFill>
          <a:blip r:embed="rId1">
            <a:lum bright="-6000"/>
          </a:blip>
          <a:srcRect l="0" t="0" r="0" b="8063"/>
          <a:stretch/>
        </p:blipFill>
        <p:spPr>
          <a:xfrm>
            <a:off x="1219320" y="1870200"/>
            <a:ext cx="671832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AEE6-CAFE-4234-BF7F-88A6C11498E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ilt-In Management-Reporting and Analysis Too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records maintained in the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tage of using a database is the ability to query the records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e standard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swer ad hoc ques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provides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ata warehous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in each major modu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warehouse: repository for data from various sour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21EE-8984-46C7-BBC4-816FA7B3887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ctivi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as of account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accoun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rial accoun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inancial accoun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cumenting all transactions of a company that have an impact on the financial state of the fir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ing documented transactions to create reports for external parties and agen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ports, or financial statements, must follow prescribed rules and guidelines of various agen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7050-C907-4AD2-AE88-A43018C07E4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nron Collaps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ctober 16, 2001: Enron was one of the world’s largest electricity and natural gas trad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ported a $618 million third-quarter loss and disclosed a $1.2 billion reduction in shareholder equ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.S. Securities and Exchange Commission (SEC) inquiry into possible conflict of interest related to company’s dealings with partnerships run by CFO Fastow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CF61-5F00-4945-A650-DC35F130A57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nron Collaps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olume of financial contracts was far greater than volume of contracts to actually deliver commodi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partnerships were faked to mask billions of dollars in deb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ron’s financial statements had been audited by Arthur Andersen, a highly regarded accounting fir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dersen employees on the Enron engagement team were instructed to destroy documentation relating to Enr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7FBD-55C9-4738-BD75-2E93B9DFBF0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utcome of the Enron Scandal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eholders lost an estimated $40 billion doll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ousands of workers lost their job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31 individuals were either charged or pled guilty to criminal char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Jurors convicted accounting firm Arthur Andersen for obstructing justice by destroying Enron docu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.S. Congress passed Sarbanes-Oxley Act of 200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 was designed to prevent the kind of fraud and abuse that led to the Enron downfa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FE2A-D9C4-479A-9198-04CFB760B7F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rbanes-Oxley Ac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.S. Congress passed Sarbanes-Oxley Act of 200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 was designed to prevent the kind of fraud and abuse that led to the Enron downfa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igned to encourage top management accountability in firms that are publicly traded in the United Stat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A21F-EFFF-4427-9A74-CE65CD1AD81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ications of the Sarbanes-Oxley Act for ERP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meet the internal control report requirement, a company must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cument the controls that are in pl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erify that the controls are not subject to error or manipul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with ERP systems in place will have an easier time complying with the Sarbanes-Oxley Act than will companies without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9E4D-7CDD-448D-89A6-8F896539694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rchiv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software offers very few ways to delete i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are removed from SAP ERP system only after they have been recorded to media (tape backup, DVD-R) for permanent stor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rchiv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permanent stor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systems keep track of when data are created or chang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hange Recor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2BC3-4BF2-44F3-A427-414F927292D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er Authoriz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has sophisticated user administration tools that allow different levels of authorizatio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sure that employees can perform only the transactions required for their job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file Generat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a simple method for selecting functions that a user should be allowed to perfor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A1E6-136D-42DB-B089-C57B6DB9E3F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752480" y="58816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13  Role for material management master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5" descr="Fig05-13"/>
          <p:cNvPicPr/>
          <p:nvPr/>
        </p:nvPicPr>
        <p:blipFill>
          <a:blip r:embed="rId1">
            <a:lum bright="-6000"/>
          </a:blip>
          <a:srcRect l="0" t="0" r="0" b="4353"/>
          <a:stretch/>
        </p:blipFill>
        <p:spPr>
          <a:xfrm>
            <a:off x="1919160" y="297000"/>
            <a:ext cx="531972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F904-5AA8-46C6-A0D0-6DEDAAB6FBF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olerance Grou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tting limits on the size of transaction an employee can pro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an SAP ERP system, this is done using tolerance group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lerance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eset limits on an employee’s ability to post transa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limits on the dollar value for a single item in a document as well as the total value of docu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8187-8608-4282-9054-4C13625D2D4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1066680" y="58053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14  Default tolerance 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5" descr="Fig05-14"/>
          <p:cNvPicPr/>
          <p:nvPr/>
        </p:nvPicPr>
        <p:blipFill>
          <a:blip r:embed="rId1">
            <a:lum bright="-6000"/>
          </a:blip>
          <a:srcRect l="0" t="0" r="0" b="5820"/>
          <a:stretch/>
        </p:blipFill>
        <p:spPr>
          <a:xfrm>
            <a:off x="1111320" y="609480"/>
            <a:ext cx="719460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FC61-90D2-4C7C-9422-35C4350544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ctivit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mon financial statements: balance sheets and income state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alance she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atement that shows account balances such as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sh hel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mounts owed to company by custome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st of raw materials and finished-goods inventor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Long-term assets such as building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mounts owed to vendors, banks, and other credito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mounts owners have invested in compan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BEC7-6752-40A1-96D9-99915A9BA46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nancial Transparenc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provide the ability to drill down from a report to the source documents (transactions) that created 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es it easier for auditors to confirm the integrity of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 properly configured and managed ERP system, there are direct links between the company’s financial statements and individual transactions that make up the statements,so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raud and abuse can be detected more easi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A6EB-6F92-4275-B938-51D827B5F07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need accounting systems to record transactions and generate financial state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integrated information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ing data might not be curr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cause problems for sales representatives trying to make operational decision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can be inaccura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affect decision making and therefore profitabilit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3943-22DE-4BBA-BB0F-EB23880A2AE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osing the books at the end of an accounting period can be difficult with an unintegrated IS, but is relatively easy with an integrated I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losing the books means zeroing out temporary accou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an integrated IS and a common database to record accounting data has important inventory cost-accounting benef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lead to more accurate product cost calcul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help managers determine which products are profitable and which are n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D7FB-7151-4672-86C7-9F31A524F07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of an integrated system and a common database to record accounting data has important management-reporting benef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ilt-in drill-down and query tools avai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rbanes-Oxley Act, 2002 U.S. federal regu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ritten and passed in the wake of Enron collap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moted management accountability by requiring extra financial approval and repor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ystems can help companies meet the requirements of this legisl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6811-C354-496B-9F05-3B61105BDD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752480" y="58816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1  Fitter Snacker sample balance she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Fig05-01"/>
          <p:cNvPicPr/>
          <p:nvPr/>
        </p:nvPicPr>
        <p:blipFill>
          <a:blip r:embed="rId1">
            <a:lum bright="-6000"/>
          </a:blip>
          <a:srcRect l="0" t="0" r="0" b="4893"/>
          <a:stretch/>
        </p:blipFill>
        <p:spPr>
          <a:xfrm>
            <a:off x="1828800" y="460440"/>
            <a:ext cx="57229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3FB0-C86C-486D-95B8-4B47D1FBA7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ctivit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Profit and loss (P&amp;L) stat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hows company’s sales, cost of sales, and profit or loss for a period of time (typically a quarter or year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tegrated information system simplifies the process of closing the books and preparing financial statemen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Managerial accounting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s a field of accounting that analyzes and provides cost information to the internal management for the purposes of planning, controlling and decision making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Cost accounts are not preserved under Management Accounting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he necessary data from financial statements and cost ledgers are analyzed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BA24-B03C-41CA-BCE1-9765F0EBFE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19320" y="5881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2  Fitter Snacker sample income sta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Fig05-02"/>
          <p:cNvPicPr/>
          <p:nvPr/>
        </p:nvPicPr>
        <p:blipFill>
          <a:blip r:embed="rId1">
            <a:lum bright="-6000"/>
          </a:blip>
          <a:srcRect l="0" t="0" r="0" b="5088"/>
          <a:stretch/>
        </p:blipFill>
        <p:spPr>
          <a:xfrm>
            <a:off x="1295280" y="457200"/>
            <a:ext cx="667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6A85-2D0E-4E00-8E44-4A7A9E5F11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ERP for Accounting Inform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ssociated with unintegrated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sharing usually did not occur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ccounting’s data were often out of dat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ing personnel had to do significant research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, with its centralized database, avoids these probl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raditional accounting, company’s accounts are kept in a record called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general led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3EE2-31B0-429D-AED3-714763B7CE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ERP for Accounting Inform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he SAP ERP system, input to general ledger occurs simultaneously with business transa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y SAP ERP modules cause transaction data to be entered into general ledger, includ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and Distribution (SD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terials Management (MM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Accounting (FI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olling (CO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uman Resources (HR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set Management (AM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2:40Z</dcterms:modified>
  <cp:revision>643</cp:revision>
  <dc:subject/>
  <dc:title>Chapter 5</dc:title>
</cp:coreProperties>
</file>