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48.png" ContentType="image/png"/>
  <Override PartName="/ppt/media/image253.wmf" ContentType="image/x-wmf"/>
  <Override PartName="/ppt/media/image247.png" ContentType="image/png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15.png" ContentType="image/png"/>
  <Override PartName="/ppt/media/image121.wmf" ContentType="image/x-wmf"/>
  <Override PartName="/ppt/media/image246.wmf" ContentType="image/x-wmf"/>
  <Override PartName="/ppt/media/image244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04.png" ContentType="image/png"/>
  <Override PartName="/ppt/media/image110.wmf" ContentType="image/x-wmf"/>
  <Override PartName="/ppt/media/image237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40.wmf" ContentType="image/x-wmf"/>
  <Override PartName="/ppt/media/image6.png" ContentType="image/png"/>
  <Override PartName="/ppt/media/image218.wmf" ContentType="image/x-wmf"/>
  <Override PartName="/ppt/media/image47.wmf" ContentType="image/x-wmf"/>
  <Override PartName="/ppt/media/image175.wmf" ContentType="image/x-wmf"/>
  <Override PartName="/ppt/media/image33.wmf" ContentType="image/x-wmf"/>
  <Override PartName="/ppt/media/image142.wmf" ContentType="image/x-wmf"/>
  <Override PartName="/ppt/media/image2.wmf" ContentType="image/x-wmf"/>
  <Override PartName="/ppt/media/image14.wmf" ContentType="image/x-wmf"/>
  <Override PartName="/ppt/media/image17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9.wmf" ContentType="image/x-wmf"/>
  <Override PartName="/ppt/media/image31.wmf" ContentType="image/x-wmf"/>
  <Override PartName="/ppt/media/image86.wmf" ContentType="image/x-wmf"/>
  <Override PartName="/ppt/media/image18.wmf" ContentType="image/x-wmf"/>
  <Override PartName="/ppt/media/image3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132.wmf" ContentType="image/x-wmf"/>
  <Override PartName="/ppt/media/image65.png" ContentType="image/png"/>
  <Override PartName="/ppt/media/image71.wmf" ContentType="image/x-wmf"/>
  <Override PartName="/ppt/media/image25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133.wmf" ContentType="image/x-wmf"/>
  <Override PartName="/ppt/media/image23.wmf" ContentType="image/x-wmf"/>
  <Override PartName="/ppt/media/image91.wmf" ContentType="image/x-wmf"/>
  <Override PartName="/ppt/media/image66.png" ContentType="image/png"/>
  <Override PartName="/ppt/media/image72.wmf" ContentType="image/x-wmf"/>
  <Override PartName="/ppt/media/image24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61.wmf" ContentType="image/x-wmf"/>
  <Override PartName="/ppt/media/image282.png" ContentType="image/png"/>
  <Override PartName="/ppt/media/image62.wmf" ContentType="image/x-wmf"/>
  <Override PartName="/ppt/media/image283.png" ContentType="image/png"/>
  <Override PartName="/ppt/media/image63.wmf" ContentType="image/x-wmf"/>
  <Override PartName="/ppt/media/image64.wmf" ContentType="image/x-wmf"/>
  <Override PartName="/ppt/media/image67.wmf" ContentType="image/x-wmf"/>
  <Override PartName="/ppt/media/image288.png" ContentType="image/png"/>
  <Override PartName="/ppt/media/image68.wmf" ContentType="image/x-wmf"/>
  <Override PartName="/ppt/media/image73.wmf" ContentType="image/x-wmf"/>
  <Override PartName="/ppt/media/image74.wmf" ContentType="image/x-wmf"/>
  <Override PartName="/ppt/media/image77.wmf" ContentType="image/x-wmf"/>
  <Override PartName="/ppt/media/image78.wmf" ContentType="image/x-wmf"/>
  <Override PartName="/ppt/media/image236.wmf" ContentType="image/x-wmf"/>
  <Override PartName="/ppt/media/image79.wmf" ContentType="image/x-wmf"/>
  <Override PartName="/ppt/media/image260.wmf" ContentType="image/x-wmf"/>
  <Override PartName="/ppt/media/image261.wmf" ContentType="image/x-wmf"/>
  <Override PartName="/ppt/media/image262.wmf" ContentType="image/x-wmf"/>
  <Override PartName="/ppt/media/image263.wmf" ContentType="image/x-wmf"/>
  <Override PartName="/ppt/media/image202.wmf" ContentType="image/x-wmf"/>
  <Override PartName="/ppt/media/image267.wmf" ContentType="image/x-wmf"/>
  <Override PartName="/ppt/media/image271.wmf" ContentType="image/x-wmf"/>
  <Override PartName="/ppt/media/image203.wmf" ContentType="image/x-wmf"/>
  <Override PartName="/ppt/media/image274.wmf" ContentType="image/x-wmf"/>
  <Override PartName="/ppt/media/image206.wmf" ContentType="image/x-wmf"/>
  <Override PartName="/ppt/media/image16.wmf" ContentType="image/x-wmf"/>
  <Override PartName="/ppt/media/image84.wmf" ContentType="image/x-wmf"/>
  <Override PartName="/ppt/media/image59.png" ContentType="image/png"/>
  <Override PartName="/ppt/media/image194.wmf" ContentType="image/x-wmf"/>
  <Override PartName="/ppt/media/image126.wmf" ContentType="image/x-wmf"/>
  <Override PartName="/ppt/media/image280.wmf" ContentType="image/x-wmf"/>
  <Override PartName="/ppt/media/image286.wmf" ContentType="image/x-wmf"/>
  <Override PartName="/ppt/media/image152.png" ContentType="image/png"/>
  <Override PartName="/ppt/media/image212.wmf" ContentType="image/x-wmf"/>
  <Override PartName="/ppt/media/image99.wmf" ContentType="image/x-wmf"/>
  <Override PartName="/ppt/media/image291.wmf" ContentType="image/x-wmf"/>
  <Override PartName="/ppt/media/image223.wmf" ContentType="image/x-wmf"/>
  <Override PartName="/ppt/media/image89.wmf" ContentType="image/x-wmf"/>
  <Override PartName="/ppt/media/image69.wmf" ContentType="image/x-wmf"/>
  <Override PartName="/ppt/media/image120.wmf" ContentType="image/x-wmf"/>
  <Override PartName="/ppt/media/image290.wmf" ContentType="image/x-wmf"/>
  <Override PartName="/ppt/media/image222.wmf" ContentType="image/x-wmf"/>
  <Override PartName="/ppt/media/image20.png" ContentType="image/png"/>
  <Override PartName="/ppt/media/image88.wmf" ContentType="image/x-wmf"/>
  <Override PartName="/ppt/media/image287.png" ContentType="image/png"/>
  <Override PartName="/ppt/media/image32.wmf" ContentType="image/x-wmf"/>
  <Override PartName="/ppt/media/image29.wmf" ContentType="image/x-wmf"/>
  <Override PartName="/ppt/media/image97.wmf" ContentType="image/x-wmf"/>
  <Override PartName="/ppt/media/image270.wmf" ContentType="image/x-wmf"/>
  <Override PartName="/ppt/media/image264.png" ContentType="image/png"/>
  <Override PartName="/ppt/media/image43.wmf" ContentType="image/x-wmf"/>
  <Override PartName="/ppt/media/image90.wmf" ContentType="image/x-wmf"/>
  <Override PartName="/ppt/media/image108.png" ContentType="image/png"/>
  <Override PartName="/ppt/media/image114.wmf" ContentType="image/x-wmf"/>
  <Override PartName="/ppt/media/image182.wmf" ContentType="image/x-wmf"/>
  <Override PartName="/ppt/media/image284.wmf" ContentType="image/x-wmf"/>
  <Override PartName="/ppt/media/image4.png" ContentType="image/png"/>
  <Override PartName="/ppt/media/image216.wmf" ContentType="image/x-wmf"/>
  <Override PartName="/ppt/media/image266.wmf" ContentType="image/x-wmf"/>
  <Override PartName="/ppt/media/image112.wmf" ContentType="image/x-wmf"/>
  <Override PartName="/ppt/media/image180.wmf" ContentType="image/x-wmf"/>
  <Override PartName="/ppt/media/image265.wmf" ContentType="image/x-wmf"/>
  <Override PartName="/ppt/media/image281.wmf" ContentType="image/x-wmf"/>
  <Override PartName="/ppt/media/image153.png" ContentType="image/png"/>
  <Override PartName="/ppt/media/image213.wmf" ContentType="image/x-wmf"/>
  <Override PartName="/ppt/media/image10.wmf" ContentType="image/x-wmf"/>
  <Override PartName="/ppt/media/image277.wmf" ContentType="image/x-wmf"/>
  <Override PartName="/ppt/media/image209.wmf" ContentType="image/x-wmf"/>
  <Override PartName="/ppt/media/image190.wmf" ContentType="image/x-wmf"/>
  <Override PartName="/ppt/media/image122.wmf" ContentType="image/x-wmf"/>
  <Override PartName="/ppt/media/image125.wmf" ContentType="image/x-wmf"/>
  <Override PartName="/ppt/media/image193.wmf" ContentType="image/x-wmf"/>
  <Override PartName="/ppt/media/image28.wmf" ContentType="image/x-wmf"/>
  <Override PartName="/ppt/media/image96.wmf" ContentType="image/x-wmf"/>
  <Override PartName="/ppt/media/image124.wmf" ContentType="image/x-wmf"/>
  <Override PartName="/ppt/media/image192.wmf" ContentType="image/x-wmf"/>
  <Override PartName="/ppt/media/image113.wmf" ContentType="image/x-wmf"/>
  <Override PartName="/ppt/media/image181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98.wmf" ContentType="image/x-wmf"/>
  <Override PartName="/ppt/media/image19.wmf" ContentType="image/x-wmf"/>
  <Override PartName="/ppt/media/image87.wmf" ContentType="image/x-wmf"/>
  <Override PartName="/ppt/media/image117.wmf" ContentType="image/x-wmf"/>
  <Override PartName="/ppt/media/image273.wmf" ContentType="image/x-wmf"/>
  <Override PartName="/ppt/media/image103.wmf" ContentType="image/x-wmf"/>
  <Override PartName="/ppt/media/image171.wmf" ContentType="image/x-wmf"/>
  <Override PartName="/ppt/media/image272.wmf" ContentType="image/x-wmf"/>
  <Override PartName="/ppt/media/image204.wmf" ContentType="image/x-wmf"/>
  <Override PartName="/ppt/media/image102.wmf" ContentType="image/x-wmf"/>
  <Override PartName="/ppt/media/image170.wmf" ContentType="image/x-wmf"/>
  <Override PartName="/ppt/media/image285.wmf" ContentType="image/x-wmf"/>
  <Override PartName="/ppt/media/image5.png" ContentType="image/png"/>
  <Override PartName="/ppt/media/image217.wmf" ContentType="image/x-wmf"/>
  <Override PartName="/ppt/media/image174.wmf" ContentType="image/x-wmf"/>
  <Override PartName="/ppt/media/image82.wmf" ContentType="image/x-wmf"/>
  <Override PartName="/ppt/media/image106.wmf" ContentType="image/x-wmf"/>
  <Override PartName="/ppt/media/image173.wmf" ContentType="image/x-wmf"/>
  <Override PartName="/ppt/media/image76.wmf" ContentType="image/x-wmf"/>
  <Override PartName="/ppt/media/image232.wmf" ContentType="image/x-wmf"/>
  <Override PartName="/ppt/media/image276.wmf" ContentType="image/x-wmf"/>
  <Override PartName="/ppt/media/image148.png" ContentType="image/png"/>
  <Override PartName="/ppt/media/image208.wmf" ContentType="image/x-wmf"/>
  <Override PartName="/ppt/media/image275.wmf" ContentType="image/x-wmf"/>
  <Override PartName="/ppt/media/image147.png" ContentType="image/png"/>
  <Override PartName="/ppt/media/image207.wmf" ContentType="image/x-wmf"/>
  <Override PartName="/ppt/media/image11.wmf" ContentType="image/x-wmf"/>
  <Override PartName="/ppt/media/image8.wmf" ContentType="image/x-wmf"/>
  <Override PartName="/ppt/media/image30.wmf" ContentType="image/x-wmf"/>
  <Override PartName="/ppt/media/image1.wmf" ContentType="image/x-wmf"/>
  <Override PartName="/ppt/media/image13.wmf" ContentType="image/x-wmf"/>
  <Override PartName="/ppt/media/image75.png" ContentType="image/png"/>
  <Override PartName="/ppt/media/image105.wmf" ContentType="image/x-wmf"/>
  <Override PartName="/ppt/media/image81.wmf" ContentType="image/x-wmf"/>
  <Override PartName="/ppt/media/image243.wmf" ContentType="image/x-wmf"/>
  <Override PartName="/ppt/media/image39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127.wmf" ContentType="image/x-wmf"/>
  <Override PartName="/ppt/media/image195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54.png" ContentType="image/png"/>
  <Override PartName="/ppt/media/image60.wmf" ContentType="image/x-wmf"/>
  <Override PartName="/ppt/media/image7.png" ContentType="image/png"/>
  <Override PartName="/ppt/media/image219.wmf" ContentType="image/x-wmf"/>
  <Override PartName="/ppt/media/image41.wmf" ContentType="image/x-wmf"/>
  <Override PartName="/ppt/media/image42.wmf" ContentType="image/x-wmf"/>
  <Override PartName="/ppt/media/image38.png" ContentType="image/png"/>
  <Override PartName="/ppt/media/image44.wmf" ContentType="image/x-wmf"/>
  <Override PartName="/ppt/media/image70.wmf" ContentType="image/x-wmf"/>
  <Override PartName="/ppt/media/image48.png" ContentType="image/png"/>
  <Override PartName="/ppt/media/image183.wmf" ContentType="image/x-wmf"/>
  <Override PartName="/ppt/media/image45.png" ContentType="image/png"/>
  <Override PartName="/ppt/media/image51.wmf" ContentType="image/x-wmf"/>
  <Override PartName="/ppt/media/image123.wmf" ContentType="image/x-wmf"/>
  <Override PartName="/ppt/media/image93.png" ContentType="image/png"/>
  <Override PartName="/ppt/media/image50.wmf" ContentType="image/x-wmf"/>
  <Override PartName="/ppt/media/image46.png" ContentType="image/png"/>
  <Override PartName="/ppt/media/image52.wmf" ContentType="image/x-wmf"/>
  <Override PartName="/ppt/media/image53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60.wmf" ContentType="image/x-wmf"/>
  <Override PartName="/ppt/media/image154.png" ContentType="image/png"/>
  <Override PartName="/ppt/media/image214.wmf" ContentType="image/x-wmf"/>
  <Override PartName="/ppt/media/image289.wmf" ContentType="image/x-wmf"/>
  <Override PartName="/ppt/media/image155.png" ContentType="image/png"/>
  <Override PartName="/ppt/media/image215.wmf" ContentType="image/x-wmf"/>
  <Override PartName="/ppt/media/image156.wmf" ContentType="image/x-wmf"/>
  <Override PartName="/ppt/media/image157.wmf" ContentType="image/x-wmf"/>
  <Override PartName="/ppt/media/image158.wmf" ContentType="image/x-wmf"/>
  <Override PartName="/ppt/media/image159.wmf" ContentType="image/x-wmf"/>
  <Override PartName="/ppt/media/image161.png" ContentType="image/png"/>
  <Override PartName="/ppt/media/image22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2.wmf" ContentType="image/x-wmf"/>
  <Override PartName="/ppt/media/image176.wmf" ContentType="image/x-wmf"/>
  <Override PartName="/ppt/media/image178.wmf" ContentType="image/x-wmf"/>
  <Override PartName="/ppt/media/image179.wmf" ContentType="image/x-wmf"/>
  <Override PartName="/ppt/media/image191.wmf" ContentType="image/x-wmf"/>
  <Override PartName="/ppt/media/image185.png" ContentType="image/png"/>
  <Override PartName="/ppt/media/image239.png" ContentType="image/png"/>
  <Override PartName="/ppt/media/image245.wmf" ContentType="image/x-wmf"/>
  <Override PartName="/ppt/media/image111.png" ContentType="image/png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05.png" ContentType="image/png"/>
  <Override PartName="/ppt/media/image211.wmf" ContentType="image/x-wmf"/>
  <Override PartName="/ppt/media/image220.wmf" ContentType="image/x-wmf"/>
  <Override PartName="/ppt/media/image2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B4DC-E5CE-412F-A813-271FDFF9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C23-719F-4424-AAC3-0CDD3F8E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4D68-F7CB-4490-89C1-9F8DDE56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AD4-28F4-4996-A7FF-E870B387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0F8-1AD8-4EAB-8FD9-864A6A0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BA7-56DB-4022-9639-A54F31E4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715-33D2-4463-A1D8-95693E92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712-A78A-4C30-9116-52655A8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281-0B6F-4EA8-AC18-E63EE33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CF4-8654-439D-B2C0-D1679F31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C29-29D7-48AE-9E36-24D9E5D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9DA-DB87-4B32-81BD-8FD41176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4AF-5535-47A0-9F1C-ABFFA19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D26-28AC-4FA0-8911-5F6C10B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923-14B0-4FF3-82B3-605FCDD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5DF1-5150-4335-B2B8-285CC46F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3"/>
          <p:cNvSpPr/>
          <p:nvPr/>
        </p:nvSpPr>
        <p:spPr>
          <a:xfrm>
            <a:off x="380880" y="533520"/>
            <a:ext cx="914400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4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3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0.wmf"/><Relationship Id="rId7" Type="http://schemas.openxmlformats.org/officeDocument/2006/relationships/image" Target="../media/image111.png"/><Relationship Id="rId8" Type="http://schemas.openxmlformats.org/officeDocument/2006/relationships/image" Target="../media/image108.png"/><Relationship Id="rId9" Type="http://schemas.openxmlformats.org/officeDocument/2006/relationships/image" Target="../media/image108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3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image" Target="../media/image1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4.wmf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8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1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1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60.wmf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2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9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4.wm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5.png"/><Relationship Id="rId3" Type="http://schemas.openxmlformats.org/officeDocument/2006/relationships/image" Target="../media/image108.png"/><Relationship Id="rId4" Type="http://schemas.openxmlformats.org/officeDocument/2006/relationships/image" Target="../media/image108.png"/><Relationship Id="rId5" Type="http://schemas.openxmlformats.org/officeDocument/2006/relationships/image" Target="../media/image10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8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89.wmf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5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1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7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1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1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2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21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222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223.wmf"/><Relationship Id="rId3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8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9.wmf"/><Relationship Id="rId3" Type="http://schemas.openxmlformats.org/officeDocument/2006/relationships/image" Target="../media/image15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8.wmf"/><Relationship Id="rId2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9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2.wmf"/><Relationship Id="rId9" Type="http://schemas.openxmlformats.org/officeDocument/2006/relationships/image" Target="../media/image108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3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6.wmf"/><Relationship Id="rId7" Type="http://schemas.openxmlformats.org/officeDocument/2006/relationships/image" Target="../media/image247.png"/><Relationship Id="rId8" Type="http://schemas.openxmlformats.org/officeDocument/2006/relationships/image" Target="../media/image24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4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5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5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5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3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54.wm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5.wmf"/><Relationship Id="rId2" Type="http://schemas.openxmlformats.org/officeDocument/2006/relationships/image" Target="../media/image25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6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6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6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63.wmf"/><Relationship Id="rId1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9.wmf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7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80.wmf"/><Relationship Id="rId2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1.wmf"/><Relationship Id="rId2" Type="http://schemas.openxmlformats.org/officeDocument/2006/relationships/image" Target="../media/image255.wmf"/><Relationship Id="rId3" Type="http://schemas.openxmlformats.org/officeDocument/2006/relationships/image" Target="../media/image282.png"/><Relationship Id="rId4" Type="http://schemas.openxmlformats.org/officeDocument/2006/relationships/image" Target="../media/image28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86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7.png"/><Relationship Id="rId2" Type="http://schemas.openxmlformats.org/officeDocument/2006/relationships/image" Target="../media/image2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1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2040" y="-98280"/>
            <a:ext cx="58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5 Magnetosta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44520" y="1125360"/>
            <a:ext cx="715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The Lorentz Forc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The Biot-Savar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The Divergence and Cur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4 Magnetic Vector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6176880" y="3141720"/>
          <a:ext cx="304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3141720"/>
                    <a:ext cx="304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048"/>
          <p:cNvGraphicFramePr/>
          <p:nvPr/>
        </p:nvGraphicFramePr>
        <p:xfrm>
          <a:off x="3657600" y="1371600"/>
          <a:ext cx="408312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4083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2"/>
          <p:cNvSpPr/>
          <p:nvPr/>
        </p:nvSpPr>
        <p:spPr>
          <a:xfrm>
            <a:off x="286560" y="2556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73840" y="76212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in a wire is the charge per unit tim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ive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953960" y="266688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s 1A = 1 C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35320" y="37339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segment of current-carrying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295280" y="5805360"/>
            <a:ext cx="30099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295280" y="4343400"/>
            <a:ext cx="5639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17"/>
          <p:cNvGraphicFramePr/>
          <p:nvPr/>
        </p:nvGraphicFramePr>
        <p:xfrm>
          <a:off x="776160" y="2349360"/>
          <a:ext cx="3060720" cy="13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2349360"/>
                    <a:ext cx="306072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8"/>
          <p:cNvGraphicFramePr/>
          <p:nvPr/>
        </p:nvGraphicFramePr>
        <p:xfrm>
          <a:off x="1434960" y="4365720"/>
          <a:ext cx="48135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4960" y="4365720"/>
                    <a:ext cx="4813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9"/>
          <p:cNvGraphicFramePr/>
          <p:nvPr/>
        </p:nvGraphicFramePr>
        <p:xfrm>
          <a:off x="2192400" y="5157720"/>
          <a:ext cx="17524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2400" y="5157720"/>
                    <a:ext cx="1752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21"/>
          <p:cNvGraphicFramePr/>
          <p:nvPr/>
        </p:nvGraphicFramePr>
        <p:xfrm>
          <a:off x="1424160" y="5907240"/>
          <a:ext cx="247644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4160" y="5907240"/>
                    <a:ext cx="2476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4"/>
          <p:cNvGraphicFramePr/>
          <p:nvPr/>
        </p:nvGraphicFramePr>
        <p:xfrm>
          <a:off x="5529240" y="5229360"/>
          <a:ext cx="1003320" cy="36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29240" y="5229360"/>
                    <a:ext cx="1003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D:\ACDSee32\EM\CH5\5.6.TIF"/>
          <p:cNvPicPr/>
          <p:nvPr/>
        </p:nvPicPr>
        <p:blipFill>
          <a:blip r:embed="rId1"/>
          <a:stretch/>
        </p:blipFill>
        <p:spPr>
          <a:xfrm>
            <a:off x="4419720" y="587520"/>
            <a:ext cx="4495680" cy="2155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839880" y="8380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ur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19440" y="25909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er unit length-perpendicular-to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91440" y="373392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surface curr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447920" y="4221000"/>
            <a:ext cx="6248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955960" y="344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b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3"/>
          <p:cNvGraphicFramePr/>
          <p:nvPr/>
        </p:nvGraphicFramePr>
        <p:xfrm>
          <a:off x="1459080" y="1268280"/>
          <a:ext cx="11430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9080" y="1268280"/>
                    <a:ext cx="114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4"/>
          <p:cNvGraphicFramePr/>
          <p:nvPr/>
        </p:nvGraphicFramePr>
        <p:xfrm>
          <a:off x="1281240" y="3068640"/>
          <a:ext cx="49021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1240" y="3068640"/>
                    <a:ext cx="4902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5"/>
          <p:cNvGraphicFramePr/>
          <p:nvPr/>
        </p:nvGraphicFramePr>
        <p:xfrm>
          <a:off x="1568520" y="4365720"/>
          <a:ext cx="500364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68520" y="4365720"/>
                    <a:ext cx="500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6"/>
          <p:cNvGraphicFramePr/>
          <p:nvPr/>
        </p:nvGraphicFramePr>
        <p:xfrm>
          <a:off x="3708360" y="5157720"/>
          <a:ext cx="146052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5157720"/>
                    <a:ext cx="14605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864000" y="11826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current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779040" y="266688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er unit area-perpendicular-to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55160" y="386064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on a volume curr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992160" y="5567400"/>
            <a:ext cx="357984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D:\ACDSee32\EM\CH5\5.7.TIF"/>
          <p:cNvPicPr/>
          <p:nvPr/>
        </p:nvPicPr>
        <p:blipFill>
          <a:blip r:embed="rId1"/>
          <a:stretch/>
        </p:blipFill>
        <p:spPr>
          <a:xfrm>
            <a:off x="4267080" y="914400"/>
            <a:ext cx="2514600" cy="1765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3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14"/>
          <p:cNvGraphicFramePr/>
          <p:nvPr/>
        </p:nvGraphicFramePr>
        <p:xfrm>
          <a:off x="2573280" y="1557360"/>
          <a:ext cx="11556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3280" y="1557360"/>
                    <a:ext cx="1155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5"/>
          <p:cNvGraphicFramePr/>
          <p:nvPr/>
        </p:nvGraphicFramePr>
        <p:xfrm>
          <a:off x="1281240" y="3213000"/>
          <a:ext cx="467352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1240" y="3213000"/>
                    <a:ext cx="4673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6"/>
          <p:cNvGraphicFramePr/>
          <p:nvPr/>
        </p:nvGraphicFramePr>
        <p:xfrm>
          <a:off x="1208160" y="4365720"/>
          <a:ext cx="317484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08160" y="4365720"/>
                    <a:ext cx="3174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7"/>
          <p:cNvGraphicFramePr/>
          <p:nvPr/>
        </p:nvGraphicFramePr>
        <p:xfrm>
          <a:off x="2400480" y="5084640"/>
          <a:ext cx="147312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00480" y="5084640"/>
                    <a:ext cx="14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1208160" y="5661000"/>
          <a:ext cx="25779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08160" y="5661000"/>
                    <a:ext cx="25779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8560" y="838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5680" y="1981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D:\ACDSee32\EM\CH5\5.8.TIF"/>
          <p:cNvPicPr/>
          <p:nvPr/>
        </p:nvPicPr>
        <p:blipFill>
          <a:blip r:embed="rId1"/>
          <a:stretch/>
        </p:blipFill>
        <p:spPr>
          <a:xfrm>
            <a:off x="6248520" y="762120"/>
            <a:ext cx="2133360" cy="199368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3"/>
          <p:cNvGrpSpPr/>
          <p:nvPr/>
        </p:nvGrpSpPr>
        <p:grpSpPr>
          <a:xfrm>
            <a:off x="6019560" y="3809880"/>
            <a:ext cx="2743560" cy="990720"/>
            <a:chOff x="6019560" y="3809880"/>
            <a:chExt cx="2743560" cy="990720"/>
          </a:xfrm>
        </p:grpSpPr>
        <p:sp>
          <p:nvSpPr>
            <p:cNvPr id="266" name="Rectangle 7"/>
            <p:cNvSpPr/>
            <p:nvPr/>
          </p:nvSpPr>
          <p:spPr>
            <a:xfrm>
              <a:off x="6553080" y="3809880"/>
              <a:ext cx="17528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>
              <a:off x="8305920" y="41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9"/>
            <p:cNvSpPr/>
            <p:nvPr/>
          </p:nvSpPr>
          <p:spPr>
            <a:xfrm flipH="1">
              <a:off x="6019560" y="4114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14"/>
          <p:cNvSpPr/>
          <p:nvPr/>
        </p:nvSpPr>
        <p:spPr>
          <a:xfrm flipV="1">
            <a:off x="7391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67057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0102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4674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4771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777240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72388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830592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6095880" y="3581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38560" y="4191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1523880" y="4419720"/>
            <a:ext cx="22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 what is J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iform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992880" y="5410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8" descr="D:\ACDSee32\EM\CH5\5.4.4.TIF"/>
          <p:cNvPicPr/>
          <p:nvPr/>
        </p:nvPicPr>
        <p:blipFill>
          <a:blip r:embed="rId2"/>
          <a:stretch/>
        </p:blipFill>
        <p:spPr>
          <a:xfrm>
            <a:off x="5181480" y="5029200"/>
            <a:ext cx="2971800" cy="1201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9"/>
          <p:cNvSpPr/>
          <p:nvPr/>
        </p:nvSpPr>
        <p:spPr>
          <a:xfrm>
            <a:off x="28080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>
            <a:off x="6858000" y="1066680"/>
            <a:ext cx="228600" cy="2286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3"/>
          <p:cNvGraphicFramePr/>
          <p:nvPr/>
        </p:nvGraphicFramePr>
        <p:xfrm>
          <a:off x="1712880" y="981000"/>
          <a:ext cx="3098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2880" y="981000"/>
                    <a:ext cx="3098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34"/>
          <p:cNvGraphicFramePr/>
          <p:nvPr/>
        </p:nvGraphicFramePr>
        <p:xfrm>
          <a:off x="1784520" y="2421000"/>
          <a:ext cx="229860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4520" y="2421000"/>
                    <a:ext cx="22986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5"/>
          <p:cNvGraphicFramePr/>
          <p:nvPr/>
        </p:nvGraphicFramePr>
        <p:xfrm>
          <a:off x="1943280" y="5526000"/>
          <a:ext cx="125712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3280" y="5526000"/>
                    <a:ext cx="12571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36"/>
          <p:cNvGraphicFramePr/>
          <p:nvPr/>
        </p:nvGraphicFramePr>
        <p:xfrm>
          <a:off x="7050240" y="2941560"/>
          <a:ext cx="7110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50240" y="2941560"/>
                    <a:ext cx="711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37"/>
          <p:cNvGraphicFramePr/>
          <p:nvPr/>
        </p:nvGraphicFramePr>
        <p:xfrm>
          <a:off x="6537240" y="1773360"/>
          <a:ext cx="21600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37240" y="1773360"/>
                    <a:ext cx="216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38"/>
          <p:cNvGraphicFramePr/>
          <p:nvPr/>
        </p:nvGraphicFramePr>
        <p:xfrm>
          <a:off x="5313240" y="3933720"/>
          <a:ext cx="71136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13240" y="3933720"/>
                    <a:ext cx="711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9"/>
          <p:cNvGraphicFramePr/>
          <p:nvPr/>
        </p:nvGraphicFramePr>
        <p:xfrm>
          <a:off x="8840880" y="3933720"/>
          <a:ext cx="71100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Object 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840880" y="3933720"/>
                    <a:ext cx="7110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40"/>
          <p:cNvGraphicFramePr/>
          <p:nvPr/>
        </p:nvGraphicFramePr>
        <p:xfrm>
          <a:off x="7184880" y="981000"/>
          <a:ext cx="254160" cy="34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Object 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84880" y="981000"/>
                    <a:ext cx="254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1024"/>
          <p:cNvGraphicFramePr/>
          <p:nvPr/>
        </p:nvGraphicFramePr>
        <p:xfrm>
          <a:off x="6681960" y="907920"/>
          <a:ext cx="3078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960" y="907920"/>
                    <a:ext cx="30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6"/>
          <p:cNvSpPr/>
          <p:nvPr/>
        </p:nvSpPr>
        <p:spPr>
          <a:xfrm>
            <a:off x="269280" y="87300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= 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the total current in th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275400" y="14828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299880" y="255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8047080" y="1539720"/>
          <a:ext cx="355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7080" y="1539720"/>
                    <a:ext cx="355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2"/>
          <p:cNvGraphicFramePr/>
          <p:nvPr/>
        </p:nvGraphicFramePr>
        <p:xfrm>
          <a:off x="8653320" y="1484280"/>
          <a:ext cx="5461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53320" y="1484280"/>
                    <a:ext cx="546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5"/>
          <p:cNvGraphicFramePr/>
          <p:nvPr/>
        </p:nvGraphicFramePr>
        <p:xfrm>
          <a:off x="1163520" y="1676520"/>
          <a:ext cx="3403800" cy="15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3520" y="1676520"/>
                    <a:ext cx="340380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6"/>
          <p:cNvGraphicFramePr/>
          <p:nvPr/>
        </p:nvGraphicFramePr>
        <p:xfrm>
          <a:off x="3459240" y="6143760"/>
          <a:ext cx="29336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9240" y="6143760"/>
                    <a:ext cx="293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7"/>
          <p:cNvGraphicFramePr/>
          <p:nvPr/>
        </p:nvGraphicFramePr>
        <p:xfrm>
          <a:off x="1255680" y="4699080"/>
          <a:ext cx="701028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5680" y="4699080"/>
                    <a:ext cx="70102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051"/>
          <p:cNvGrpSpPr/>
          <p:nvPr/>
        </p:nvGrpSpPr>
        <p:grpSpPr>
          <a:xfrm>
            <a:off x="3657600" y="692280"/>
            <a:ext cx="2058840" cy="506160"/>
            <a:chOff x="3657600" y="692280"/>
            <a:chExt cx="2058840" cy="506160"/>
          </a:xfrm>
        </p:grpSpPr>
        <p:graphicFrame>
          <p:nvGraphicFramePr>
            <p:cNvPr id="317" name="Object 2051"/>
            <p:cNvGraphicFramePr/>
            <p:nvPr/>
          </p:nvGraphicFramePr>
          <p:xfrm>
            <a:off x="3657600" y="817920"/>
            <a:ext cx="2058840" cy="38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20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817920"/>
                      <a:ext cx="2058840" cy="38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Line 2053"/>
            <p:cNvSpPr/>
            <p:nvPr/>
          </p:nvSpPr>
          <p:spPr>
            <a:xfrm>
              <a:off x="3885840" y="10209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54"/>
            <p:cNvSpPr/>
            <p:nvPr/>
          </p:nvSpPr>
          <p:spPr>
            <a:xfrm>
              <a:off x="3794040" y="692280"/>
              <a:ext cx="122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56"/>
          <p:cNvGrpSpPr/>
          <p:nvPr/>
        </p:nvGrpSpPr>
        <p:grpSpPr>
          <a:xfrm>
            <a:off x="3384720" y="4003560"/>
            <a:ext cx="5241600" cy="863640"/>
            <a:chOff x="3384720" y="4003560"/>
            <a:chExt cx="5241600" cy="863640"/>
          </a:xfrm>
        </p:grpSpPr>
        <p:sp>
          <p:nvSpPr>
            <p:cNvPr id="322" name="Text Box 2058"/>
            <p:cNvSpPr/>
            <p:nvPr/>
          </p:nvSpPr>
          <p:spPr>
            <a:xfrm>
              <a:off x="3384720" y="4195440"/>
              <a:ext cx="27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inuity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059"/>
            <p:cNvSpPr/>
            <p:nvPr/>
          </p:nvSpPr>
          <p:spPr>
            <a:xfrm>
              <a:off x="6465600" y="4003560"/>
              <a:ext cx="21607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2060"/>
          <p:cNvSpPr/>
          <p:nvPr/>
        </p:nvSpPr>
        <p:spPr>
          <a:xfrm>
            <a:off x="1219320" y="2849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061"/>
          <p:cNvSpPr/>
          <p:nvPr/>
        </p:nvSpPr>
        <p:spPr>
          <a:xfrm>
            <a:off x="1219320" y="3154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62"/>
          <p:cNvSpPr/>
          <p:nvPr/>
        </p:nvSpPr>
        <p:spPr>
          <a:xfrm>
            <a:off x="536760" y="3398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63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3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6"/>
          <p:cNvGraphicFramePr/>
          <p:nvPr/>
        </p:nvGraphicFramePr>
        <p:xfrm>
          <a:off x="776160" y="1268280"/>
          <a:ext cx="28321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6160" y="1268280"/>
                    <a:ext cx="2832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7"/>
          <p:cNvGraphicFramePr/>
          <p:nvPr/>
        </p:nvGraphicFramePr>
        <p:xfrm>
          <a:off x="719280" y="2082960"/>
          <a:ext cx="4813200" cy="13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" y="2082960"/>
                    <a:ext cx="48132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8"/>
          <p:cNvGraphicFramePr/>
          <p:nvPr/>
        </p:nvGraphicFramePr>
        <p:xfrm>
          <a:off x="6681960" y="4076640"/>
          <a:ext cx="16128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81960" y="4076640"/>
                    <a:ext cx="16128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10320" y="-270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1 Steady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707400" y="725400"/>
            <a:ext cx="86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ary charges       constant electric field: electr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currents            constant magnetic field: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024"/>
              <p:cNvSpPr txBox="1"/>
              <p:nvPr/>
            </p:nvSpPr>
            <p:spPr>
              <a:xfrm>
                <a:off x="3429000" y="83808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25"/>
              <p:cNvSpPr txBox="1"/>
              <p:nvPr/>
            </p:nvSpPr>
            <p:spPr>
              <a:xfrm>
                <a:off x="3429000" y="12193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Group 12"/>
          <p:cNvGrpSpPr/>
          <p:nvPr/>
        </p:nvGrpSpPr>
        <p:grpSpPr>
          <a:xfrm>
            <a:off x="1066680" y="2057400"/>
            <a:ext cx="3124440" cy="380880"/>
            <a:chOff x="1066680" y="2057400"/>
            <a:chExt cx="3124440" cy="380880"/>
          </a:xfrm>
        </p:grpSpPr>
        <p:sp>
          <p:nvSpPr>
            <p:cNvPr id="339" name="Line 6"/>
            <p:cNvSpPr/>
            <p:nvPr/>
          </p:nvSpPr>
          <p:spPr>
            <a:xfrm>
              <a:off x="1066680" y="20574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8"/>
            <p:cNvSpPr/>
            <p:nvPr/>
          </p:nvSpPr>
          <p:spPr>
            <a:xfrm>
              <a:off x="1066680" y="2438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"/>
            <p:cNvSpPr/>
            <p:nvPr/>
          </p:nvSpPr>
          <p:spPr>
            <a:xfrm>
              <a:off x="1828800" y="2286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027"/>
                <p:cNvSpPr txBox="1"/>
                <p:nvPr/>
              </p:nvSpPr>
              <p:spPr>
                <a:xfrm>
                  <a:off x="3200400" y="2133720"/>
                  <a:ext cx="1904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Text Box 13"/>
          <p:cNvSpPr/>
          <p:nvPr/>
        </p:nvSpPr>
        <p:spPr>
          <a:xfrm>
            <a:off x="4865760" y="20210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13"/>
          <p:cNvGraphicFramePr/>
          <p:nvPr/>
        </p:nvGraphicFramePr>
        <p:xfrm>
          <a:off x="1198440" y="2565360"/>
          <a:ext cx="30862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2565360"/>
                    <a:ext cx="3086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7"/>
          <p:cNvGraphicFramePr/>
          <p:nvPr/>
        </p:nvGraphicFramePr>
        <p:xfrm>
          <a:off x="4267080" y="5964120"/>
          <a:ext cx="1981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964120"/>
                    <a:ext cx="198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2"/>
          <p:cNvSpPr/>
          <p:nvPr/>
        </p:nvSpPr>
        <p:spPr>
          <a:xfrm>
            <a:off x="378720" y="-11160"/>
            <a:ext cx="87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The Magnetic Field of a Steady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72960" y="90792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: for a steady lin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914400" y="1447920"/>
            <a:ext cx="33526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72120" y="34686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ability of free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297440" y="4508640"/>
            <a:ext cx="50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 for surface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-Savart Law for volume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90320" y="611964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oving point 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6465960" y="6453360"/>
          <a:ext cx="246384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5960" y="6453360"/>
                    <a:ext cx="246384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18"/>
          <p:cNvGrpSpPr/>
          <p:nvPr/>
        </p:nvGrpSpPr>
        <p:grpSpPr>
          <a:xfrm>
            <a:off x="4500720" y="6021360"/>
            <a:ext cx="380880" cy="304920"/>
            <a:chOff x="4500720" y="6021360"/>
            <a:chExt cx="380880" cy="304920"/>
          </a:xfrm>
        </p:grpSpPr>
        <p:sp>
          <p:nvSpPr>
            <p:cNvPr id="357" name="Line 16"/>
            <p:cNvSpPr/>
            <p:nvPr/>
          </p:nvSpPr>
          <p:spPr>
            <a:xfrm flipH="1">
              <a:off x="4500720" y="60213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>
              <a:off x="4500720" y="60213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0"/>
          <p:cNvSpPr/>
          <p:nvPr/>
        </p:nvSpPr>
        <p:spPr>
          <a:xfrm>
            <a:off x="6400800" y="4221000"/>
            <a:ext cx="2438280" cy="96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6400800" y="5181480"/>
            <a:ext cx="2438280" cy="9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22"/>
          <p:cNvGraphicFramePr/>
          <p:nvPr/>
        </p:nvGraphicFramePr>
        <p:xfrm>
          <a:off x="1208160" y="1484280"/>
          <a:ext cx="273060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8160" y="1484280"/>
                    <a:ext cx="2730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23"/>
          <p:cNvGraphicFramePr/>
          <p:nvPr/>
        </p:nvGraphicFramePr>
        <p:xfrm>
          <a:off x="4535640" y="1773360"/>
          <a:ext cx="21333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1773360"/>
                    <a:ext cx="21333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24"/>
          <p:cNvGraphicFramePr/>
          <p:nvPr/>
        </p:nvGraphicFramePr>
        <p:xfrm>
          <a:off x="4592520" y="3284640"/>
          <a:ext cx="24638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2520" y="3284640"/>
                    <a:ext cx="246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25"/>
          <p:cNvGraphicFramePr/>
          <p:nvPr/>
        </p:nvGraphicFramePr>
        <p:xfrm>
          <a:off x="7483320" y="2205000"/>
          <a:ext cx="200664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83320" y="2205000"/>
                    <a:ext cx="2006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26"/>
          <p:cNvGraphicFramePr/>
          <p:nvPr/>
        </p:nvGraphicFramePr>
        <p:xfrm>
          <a:off x="6465960" y="4251240"/>
          <a:ext cx="2374920" cy="184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65960" y="4251240"/>
                    <a:ext cx="23749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048"/>
          <p:cNvGraphicFramePr/>
          <p:nvPr/>
        </p:nvGraphicFramePr>
        <p:xfrm>
          <a:off x="2865600" y="620640"/>
          <a:ext cx="295740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620640"/>
                    <a:ext cx="295740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2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993960" y="2209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457880" y="2708280"/>
            <a:ext cx="495000" cy="533520"/>
            <a:chOff x="4457880" y="2708280"/>
            <a:chExt cx="495000" cy="533520"/>
          </a:xfrm>
        </p:grpSpPr>
        <mc:AlternateContent>
          <mc:Choice xmlns:a14="http://schemas.microsoft.com/office/drawing/2010/main" Requires="a14">
            <p:sp>
              <p:nvSpPr>
                <p:cNvPr id="376" name="Object 2059"/>
                <p:cNvSpPr txBox="1"/>
                <p:nvPr/>
              </p:nvSpPr>
              <p:spPr>
                <a:xfrm>
                  <a:off x="4457880" y="2708280"/>
                  <a:ext cx="4950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/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Oval 8"/>
            <p:cNvSpPr/>
            <p:nvPr/>
          </p:nvSpPr>
          <p:spPr>
            <a:xfrm>
              <a:off x="4610160" y="301320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8"/>
          <p:cNvSpPr/>
          <p:nvPr/>
        </p:nvSpPr>
        <p:spPr>
          <a:xfrm>
            <a:off x="1209240" y="6140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an infinite w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21"/>
          <p:cNvGraphicFramePr/>
          <p:nvPr/>
        </p:nvGraphicFramePr>
        <p:xfrm>
          <a:off x="4363920" y="765000"/>
          <a:ext cx="1193760" cy="3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3920" y="765000"/>
                    <a:ext cx="119376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2"/>
          <p:cNvGraphicFramePr/>
          <p:nvPr/>
        </p:nvGraphicFramePr>
        <p:xfrm>
          <a:off x="4448160" y="2421000"/>
          <a:ext cx="3175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8160" y="2421000"/>
                    <a:ext cx="317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23"/>
          <p:cNvGraphicFramePr/>
          <p:nvPr/>
        </p:nvGraphicFramePr>
        <p:xfrm>
          <a:off x="3368520" y="1773360"/>
          <a:ext cx="190800" cy="20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68520" y="1773360"/>
                    <a:ext cx="1908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24"/>
          <p:cNvGraphicFramePr/>
          <p:nvPr/>
        </p:nvGraphicFramePr>
        <p:xfrm>
          <a:off x="4737240" y="1989000"/>
          <a:ext cx="241200" cy="2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7240" y="1989000"/>
                    <a:ext cx="2412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5"/>
          <p:cNvGraphicFramePr/>
          <p:nvPr/>
        </p:nvGraphicFramePr>
        <p:xfrm>
          <a:off x="4122720" y="1557360"/>
          <a:ext cx="25416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22720" y="1557360"/>
                    <a:ext cx="254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6"/>
          <p:cNvGraphicFramePr/>
          <p:nvPr/>
        </p:nvGraphicFramePr>
        <p:xfrm>
          <a:off x="1136520" y="2814480"/>
          <a:ext cx="3429000" cy="4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6520" y="2814480"/>
                    <a:ext cx="34290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27"/>
          <p:cNvGraphicFramePr/>
          <p:nvPr/>
        </p:nvGraphicFramePr>
        <p:xfrm>
          <a:off x="1136520" y="3078000"/>
          <a:ext cx="8407440" cy="927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6520" y="3078000"/>
                    <a:ext cx="84074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29"/>
          <p:cNvGraphicFramePr/>
          <p:nvPr/>
        </p:nvGraphicFramePr>
        <p:xfrm>
          <a:off x="1106640" y="4179960"/>
          <a:ext cx="6870600" cy="1841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06640" y="4179960"/>
                    <a:ext cx="6870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0"/>
          <p:cNvGraphicFramePr/>
          <p:nvPr/>
        </p:nvGraphicFramePr>
        <p:xfrm>
          <a:off x="5372280" y="6026040"/>
          <a:ext cx="2450880" cy="7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72280" y="6026040"/>
                    <a:ext cx="2450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31"/>
          <p:cNvGraphicFramePr/>
          <p:nvPr/>
        </p:nvGraphicFramePr>
        <p:xfrm>
          <a:off x="8265960" y="5950080"/>
          <a:ext cx="1168560" cy="787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65960" y="5950080"/>
                    <a:ext cx="1168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D:\ACDSee32\EM\CH5\5.11.TIF"/>
          <p:cNvPicPr/>
          <p:nvPr/>
        </p:nvPicPr>
        <p:blipFill>
          <a:blip r:embed="rId1"/>
          <a:stretch/>
        </p:blipFill>
        <p:spPr>
          <a:xfrm>
            <a:off x="1676520" y="838080"/>
            <a:ext cx="1550880" cy="2286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643920" y="17924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4"/>
          <p:cNvGrpSpPr/>
          <p:nvPr/>
        </p:nvGrpSpPr>
        <p:grpSpPr>
          <a:xfrm>
            <a:off x="5087520" y="1106640"/>
            <a:ext cx="3810960" cy="459720"/>
            <a:chOff x="5087520" y="1106640"/>
            <a:chExt cx="3810960" cy="459720"/>
          </a:xfrm>
        </p:grpSpPr>
        <p:sp>
          <p:nvSpPr>
            <p:cNvPr id="403" name="Text Box 5"/>
            <p:cNvSpPr/>
            <p:nvPr/>
          </p:nvSpPr>
          <p:spPr>
            <a:xfrm>
              <a:off x="5087520" y="1106640"/>
              <a:ext cx="38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ield at (2) due to    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028"/>
                <p:cNvSpPr txBox="1"/>
                <p:nvPr/>
              </p:nvSpPr>
              <p:spPr>
                <a:xfrm>
                  <a:off x="8153280" y="1143000"/>
                  <a:ext cx="228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5" name="Group 15"/>
          <p:cNvGrpSpPr/>
          <p:nvPr/>
        </p:nvGrpSpPr>
        <p:grpSpPr>
          <a:xfrm>
            <a:off x="5086080" y="2773440"/>
            <a:ext cx="3931200" cy="459720"/>
            <a:chOff x="5086080" y="2773440"/>
            <a:chExt cx="3931200" cy="459720"/>
          </a:xfrm>
        </p:grpSpPr>
        <p:sp>
          <p:nvSpPr>
            <p:cNvPr id="406" name="Text Box 12"/>
            <p:cNvSpPr/>
            <p:nvPr/>
          </p:nvSpPr>
          <p:spPr>
            <a:xfrm>
              <a:off x="5086080" y="2773440"/>
              <a:ext cx="39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force at (2) due to    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1027"/>
                <p:cNvSpPr txBox="1"/>
                <p:nvPr/>
              </p:nvSpPr>
              <p:spPr>
                <a:xfrm>
                  <a:off x="8305920" y="2809800"/>
                  <a:ext cx="228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8" name="Text Box 16"/>
          <p:cNvSpPr/>
          <p:nvPr/>
        </p:nvSpPr>
        <p:spPr>
          <a:xfrm>
            <a:off x="5121720" y="436572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per unit leng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5"/>
          <p:cNvGraphicFramePr/>
          <p:nvPr/>
        </p:nvGraphicFramePr>
        <p:xfrm>
          <a:off x="5457960" y="1628640"/>
          <a:ext cx="1739880" cy="7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57960" y="1628640"/>
                    <a:ext cx="1739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6"/>
          <p:cNvGraphicFramePr/>
          <p:nvPr/>
        </p:nvGraphicFramePr>
        <p:xfrm>
          <a:off x="5457960" y="3289320"/>
          <a:ext cx="226044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57960" y="3289320"/>
                    <a:ext cx="2260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7"/>
          <p:cNvGraphicFramePr/>
          <p:nvPr/>
        </p:nvGraphicFramePr>
        <p:xfrm>
          <a:off x="5462640" y="4873680"/>
          <a:ext cx="1650960" cy="78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2640" y="4873680"/>
                    <a:ext cx="1650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27"/>
          <p:cNvSpPr/>
          <p:nvPr/>
        </p:nvSpPr>
        <p:spPr>
          <a:xfrm>
            <a:off x="38088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1 Magnetic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920160" y="76212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s induce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029"/>
          <p:cNvGraphicFramePr/>
          <p:nvPr/>
        </p:nvGraphicFramePr>
        <p:xfrm>
          <a:off x="6500880" y="1892160"/>
          <a:ext cx="1609560" cy="7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0880" y="1892160"/>
                    <a:ext cx="16095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Oval 1044"/>
          <p:cNvSpPr/>
          <p:nvPr/>
        </p:nvSpPr>
        <p:spPr>
          <a:xfrm>
            <a:off x="5510160" y="2273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45"/>
          <p:cNvSpPr/>
          <p:nvPr/>
        </p:nvSpPr>
        <p:spPr>
          <a:xfrm>
            <a:off x="5600880" y="22766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53"/>
          <p:cNvGrpSpPr/>
          <p:nvPr/>
        </p:nvGrpSpPr>
        <p:grpSpPr>
          <a:xfrm>
            <a:off x="1146240" y="1403280"/>
            <a:ext cx="2314440" cy="2099520"/>
            <a:chOff x="1146240" y="1403280"/>
            <a:chExt cx="2314440" cy="2099520"/>
          </a:xfrm>
        </p:grpSpPr>
        <p:sp>
          <p:nvSpPr>
            <p:cNvPr id="60" name="Oval 1030"/>
            <p:cNvSpPr/>
            <p:nvPr/>
          </p:nvSpPr>
          <p:spPr>
            <a:xfrm>
              <a:off x="1616040" y="17841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031"/>
            <p:cNvSpPr/>
            <p:nvPr/>
          </p:nvSpPr>
          <p:spPr>
            <a:xfrm>
              <a:off x="2454120" y="17841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32"/>
            <p:cNvSpPr/>
            <p:nvPr/>
          </p:nvSpPr>
          <p:spPr>
            <a:xfrm>
              <a:off x="1844640" y="22413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033"/>
            <p:cNvSpPr/>
            <p:nvPr/>
          </p:nvSpPr>
          <p:spPr>
            <a:xfrm>
              <a:off x="2682720" y="2393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34"/>
            <p:cNvSpPr/>
            <p:nvPr/>
          </p:nvSpPr>
          <p:spPr>
            <a:xfrm>
              <a:off x="1996920" y="23936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035"/>
            <p:cNvSpPr/>
            <p:nvPr/>
          </p:nvSpPr>
          <p:spPr>
            <a:xfrm>
              <a:off x="1692360" y="2622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036"/>
            <p:cNvSpPr/>
            <p:nvPr/>
          </p:nvSpPr>
          <p:spPr>
            <a:xfrm>
              <a:off x="2301840" y="26985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37"/>
            <p:cNvSpPr/>
            <p:nvPr/>
          </p:nvSpPr>
          <p:spPr>
            <a:xfrm>
              <a:off x="2149560" y="201276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38"/>
            <p:cNvSpPr/>
            <p:nvPr/>
          </p:nvSpPr>
          <p:spPr>
            <a:xfrm>
              <a:off x="2454120" y="2850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039"/>
            <p:cNvSpPr/>
            <p:nvPr/>
          </p:nvSpPr>
          <p:spPr>
            <a:xfrm>
              <a:off x="1539720" y="224136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40"/>
                <p:cNvSpPr txBox="1"/>
                <p:nvPr/>
              </p:nvSpPr>
              <p:spPr>
                <a:xfrm>
                  <a:off x="1311120" y="2469960"/>
                  <a:ext cx="27936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041"/>
                <p:cNvSpPr txBox="1"/>
                <p:nvPr/>
              </p:nvSpPr>
              <p:spPr>
                <a:xfrm>
                  <a:off x="2606760" y="1403280"/>
                  <a:ext cx="25236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2" name="Object 1042"/>
            <p:cNvGraphicFramePr/>
            <p:nvPr/>
          </p:nvGraphicFramePr>
          <p:xfrm>
            <a:off x="1616040" y="1403280"/>
            <a:ext cx="279360" cy="36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Object 104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6040" y="1403280"/>
                      <a:ext cx="27936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Text Box 1043"/>
            <p:cNvSpPr/>
            <p:nvPr/>
          </p:nvSpPr>
          <p:spPr>
            <a:xfrm>
              <a:off x="1146240" y="304308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urce char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46"/>
            <p:cNvSpPr/>
            <p:nvPr/>
          </p:nvSpPr>
          <p:spPr>
            <a:xfrm>
              <a:off x="2835360" y="2545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048"/>
          <p:cNvSpPr/>
          <p:nvPr/>
        </p:nvSpPr>
        <p:spPr>
          <a:xfrm>
            <a:off x="6881760" y="2211480"/>
            <a:ext cx="304920" cy="75960"/>
          </a:xfrm>
          <a:prstGeom prst="rightArrow">
            <a:avLst>
              <a:gd name="adj1" fmla="val 50000"/>
              <a:gd name="adj2" fmla="val 1003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49"/>
          <p:cNvSpPr/>
          <p:nvPr/>
        </p:nvSpPr>
        <p:spPr>
          <a:xfrm>
            <a:off x="521676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052"/>
              <p:cNvSpPr txBox="1"/>
              <p:nvPr/>
            </p:nvSpPr>
            <p:spPr>
              <a:xfrm>
                <a:off x="5384880" y="1830240"/>
                <a:ext cx="253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4" descr="D:\ACDSee32\EM\CH1\add3.BMP"/>
          <p:cNvPicPr/>
          <p:nvPr/>
        </p:nvPicPr>
        <p:blipFill>
          <a:blip r:embed="rId1"/>
          <a:stretch/>
        </p:blipFill>
        <p:spPr>
          <a:xfrm>
            <a:off x="6537240" y="2128680"/>
            <a:ext cx="381240" cy="292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D:\ACDSee32\EM\CH1\add3.BMP"/>
          <p:cNvPicPr/>
          <p:nvPr/>
        </p:nvPicPr>
        <p:blipFill>
          <a:blip r:embed="rId2"/>
          <a:stretch/>
        </p:blipFill>
        <p:spPr>
          <a:xfrm>
            <a:off x="6608880" y="3137040"/>
            <a:ext cx="38088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20"/>
          <p:cNvGraphicFramePr/>
          <p:nvPr/>
        </p:nvGraphicFramePr>
        <p:xfrm>
          <a:off x="5119560" y="922320"/>
          <a:ext cx="2857680" cy="25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922320"/>
                    <a:ext cx="285768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9"/>
          <p:cNvGraphicFramePr/>
          <p:nvPr/>
        </p:nvGraphicFramePr>
        <p:xfrm>
          <a:off x="5424480" y="3530520"/>
          <a:ext cx="363204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4480" y="3530520"/>
                    <a:ext cx="36320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1" name="Picture 2" descr="D:\ACDSee32\EM\CH5\5.12.TIF"/>
          <p:cNvPicPr/>
          <p:nvPr/>
        </p:nvPicPr>
        <p:blipFill>
          <a:blip r:embed="rId7"/>
          <a:stretch/>
        </p:blipFill>
        <p:spPr>
          <a:xfrm>
            <a:off x="1447920" y="1295280"/>
            <a:ext cx="2395440" cy="31957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28080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.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"/>
          <p:cNvSpPr/>
          <p:nvPr/>
        </p:nvSpPr>
        <p:spPr>
          <a:xfrm flipH="1">
            <a:off x="7184880" y="2852640"/>
            <a:ext cx="43200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8"/>
          <p:cNvSpPr/>
          <p:nvPr/>
        </p:nvSpPr>
        <p:spPr>
          <a:xfrm flipH="1">
            <a:off x="5727600" y="3141720"/>
            <a:ext cx="4492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5459400" y="328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6"/>
          <p:cNvGrpSpPr/>
          <p:nvPr/>
        </p:nvGrpSpPr>
        <p:grpSpPr>
          <a:xfrm>
            <a:off x="6434280" y="3963960"/>
            <a:ext cx="955440" cy="507960"/>
            <a:chOff x="6434280" y="3963960"/>
            <a:chExt cx="955440" cy="507960"/>
          </a:xfrm>
        </p:grpSpPr>
        <p:pic>
          <p:nvPicPr>
            <p:cNvPr id="427" name="Picture 13" descr="D:\ACDSee32\EM\CH1\add3.BMP"/>
            <p:cNvPicPr/>
            <p:nvPr/>
          </p:nvPicPr>
          <p:blipFill>
            <a:blip r:embed="rId8"/>
            <a:stretch/>
          </p:blipFill>
          <p:spPr>
            <a:xfrm>
              <a:off x="7008840" y="3963960"/>
              <a:ext cx="380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4" descr="D:\ACDSee32\EM\CH1\add3.BMP"/>
            <p:cNvPicPr/>
            <p:nvPr/>
          </p:nvPicPr>
          <p:blipFill>
            <a:blip r:embed="rId9"/>
            <a:stretch/>
          </p:blipFill>
          <p:spPr>
            <a:xfrm>
              <a:off x="6434280" y="4179960"/>
              <a:ext cx="380880" cy="291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9" name="Object 16"/>
          <p:cNvGraphicFramePr/>
          <p:nvPr/>
        </p:nvGraphicFramePr>
        <p:xfrm>
          <a:off x="2284560" y="765000"/>
          <a:ext cx="723600" cy="29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0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4560" y="765000"/>
                    <a:ext cx="723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8"/>
          <p:cNvGraphicFramePr/>
          <p:nvPr/>
        </p:nvGraphicFramePr>
        <p:xfrm>
          <a:off x="5168880" y="4941720"/>
          <a:ext cx="2997360" cy="107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2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68880" y="4941720"/>
                    <a:ext cx="2997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49"/>
          <p:cNvGraphicFramePr/>
          <p:nvPr/>
        </p:nvGraphicFramePr>
        <p:xfrm>
          <a:off x="3513240" y="1566720"/>
          <a:ext cx="400032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1566720"/>
                    <a:ext cx="400032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Picture 37" descr="D:\ACDSee32\EM\CH5\5.14.TIF"/>
          <p:cNvPicPr/>
          <p:nvPr/>
        </p:nvPicPr>
        <p:blipFill>
          <a:blip r:embed="rId3"/>
          <a:stretch/>
        </p:blipFill>
        <p:spPr>
          <a:xfrm>
            <a:off x="0" y="3657600"/>
            <a:ext cx="3529080" cy="2878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374400" y="-27000"/>
            <a:ext cx="79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.1 an example: Straight-Line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1066680" y="914400"/>
            <a:ext cx="2057400" cy="1981080"/>
            <a:chOff x="1066680" y="914400"/>
            <a:chExt cx="2057400" cy="1981080"/>
          </a:xfrm>
        </p:grpSpPr>
        <p:grpSp>
          <p:nvGrpSpPr>
            <p:cNvPr id="438" name="Group 14"/>
            <p:cNvGrpSpPr/>
            <p:nvPr/>
          </p:nvGrpSpPr>
          <p:grpSpPr>
            <a:xfrm>
              <a:off x="1066680" y="914400"/>
              <a:ext cx="1905120" cy="1981080"/>
              <a:chOff x="1066680" y="914400"/>
              <a:chExt cx="1905120" cy="1981080"/>
            </a:xfrm>
          </p:grpSpPr>
          <p:sp>
            <p:nvSpPr>
              <p:cNvPr id="439" name="Oval 4"/>
              <p:cNvSpPr/>
              <p:nvPr/>
            </p:nvSpPr>
            <p:spPr>
              <a:xfrm>
                <a:off x="1066680" y="914400"/>
                <a:ext cx="1905120" cy="198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5"/>
              <p:cNvSpPr/>
              <p:nvPr/>
            </p:nvSpPr>
            <p:spPr>
              <a:xfrm>
                <a:off x="1523880" y="1447560"/>
                <a:ext cx="99072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41" name="Object 1040"/>
                  <p:cNvSpPr txBox="1"/>
                  <p:nvPr/>
                </p:nvSpPr>
                <p:spPr>
                  <a:xfrm>
                    <a:off x="1676160" y="1752480"/>
                    <a:ext cx="20160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42" name="Group 11"/>
              <p:cNvGrpSpPr/>
              <p:nvPr/>
            </p:nvGrpSpPr>
            <p:grpSpPr>
              <a:xfrm>
                <a:off x="1904760" y="1828800"/>
                <a:ext cx="228600" cy="228600"/>
                <a:chOff x="1904760" y="1828800"/>
                <a:chExt cx="228600" cy="228600"/>
              </a:xfrm>
            </p:grpSpPr>
            <p:sp>
              <p:nvSpPr>
                <p:cNvPr id="443" name="Oval 9"/>
                <p:cNvSpPr/>
                <p:nvPr/>
              </p:nvSpPr>
              <p:spPr>
                <a:xfrm>
                  <a:off x="1904760" y="1828800"/>
                  <a:ext cx="228600" cy="228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0"/>
                <p:cNvSpPr/>
                <p:nvPr/>
              </p:nvSpPr>
              <p:spPr>
                <a:xfrm>
                  <a:off x="1981080" y="1905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Line 12"/>
              <p:cNvSpPr/>
              <p:nvPr/>
            </p:nvSpPr>
            <p:spPr>
              <a:xfrm>
                <a:off x="1981080" y="19047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3"/>
              <p:cNvSpPr/>
              <p:nvPr/>
            </p:nvSpPr>
            <p:spPr>
              <a:xfrm>
                <a:off x="2134800" y="1828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Line 15"/>
            <p:cNvSpPr/>
            <p:nvPr/>
          </p:nvSpPr>
          <p:spPr>
            <a:xfrm>
              <a:off x="2971800" y="190476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 flipH="1">
              <a:off x="2819160" y="19047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>
              <a:off x="2514600" y="190476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 flipH="1">
              <a:off x="2361960" y="19047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Line 38"/>
          <p:cNvSpPr/>
          <p:nvPr/>
        </p:nvSpPr>
        <p:spPr>
          <a:xfrm>
            <a:off x="3505320" y="503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0"/>
          <p:cNvGrpSpPr/>
          <p:nvPr/>
        </p:nvGrpSpPr>
        <p:grpSpPr>
          <a:xfrm>
            <a:off x="4521240" y="5950080"/>
            <a:ext cx="1152000" cy="228600"/>
            <a:chOff x="4521240" y="5950080"/>
            <a:chExt cx="1152000" cy="228600"/>
          </a:xfrm>
        </p:grpSpPr>
        <p:sp>
          <p:nvSpPr>
            <p:cNvPr id="453" name="Line 44"/>
            <p:cNvSpPr/>
            <p:nvPr/>
          </p:nvSpPr>
          <p:spPr>
            <a:xfrm>
              <a:off x="4521240" y="5950080"/>
              <a:ext cx="0" cy="22860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5"/>
            <p:cNvSpPr/>
            <p:nvPr/>
          </p:nvSpPr>
          <p:spPr>
            <a:xfrm>
              <a:off x="5673240" y="5950080"/>
              <a:ext cx="0" cy="22860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9"/>
          <p:cNvGrpSpPr/>
          <p:nvPr/>
        </p:nvGrpSpPr>
        <p:grpSpPr>
          <a:xfrm>
            <a:off x="1371600" y="3132000"/>
            <a:ext cx="1471680" cy="493920"/>
            <a:chOff x="1371600" y="3132000"/>
            <a:chExt cx="1471680" cy="493920"/>
          </a:xfrm>
        </p:grpSpPr>
        <mc:AlternateContent>
          <mc:Choice xmlns:a14="http://schemas.microsoft.com/office/drawing/2010/main" Requires="a14">
            <p:sp>
              <p:nvSpPr>
                <p:cNvPr id="456" name="Object 1031"/>
                <p:cNvSpPr txBox="1"/>
                <p:nvPr/>
              </p:nvSpPr>
              <p:spPr>
                <a:xfrm>
                  <a:off x="1371600" y="3360600"/>
                  <a:ext cx="1904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457" name="Group 25"/>
            <p:cNvGrpSpPr/>
            <p:nvPr/>
          </p:nvGrpSpPr>
          <p:grpSpPr>
            <a:xfrm>
              <a:off x="1676520" y="3360600"/>
              <a:ext cx="228600" cy="228600"/>
              <a:chOff x="1676520" y="3360600"/>
              <a:chExt cx="228600" cy="228600"/>
            </a:xfrm>
          </p:grpSpPr>
          <p:sp>
            <p:nvSpPr>
              <p:cNvPr id="458" name="Oval 23"/>
              <p:cNvSpPr/>
              <p:nvPr/>
            </p:nvSpPr>
            <p:spPr>
              <a:xfrm>
                <a:off x="1676520" y="336060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4"/>
              <p:cNvSpPr/>
              <p:nvPr/>
            </p:nvSpPr>
            <p:spPr>
              <a:xfrm>
                <a:off x="1752480" y="3436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Line 26"/>
            <p:cNvSpPr/>
            <p:nvPr/>
          </p:nvSpPr>
          <p:spPr>
            <a:xfrm>
              <a:off x="1905120" y="3513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1032"/>
                <p:cNvSpPr txBox="1"/>
                <p:nvPr/>
              </p:nvSpPr>
              <p:spPr>
                <a:xfrm>
                  <a:off x="2286000" y="3132000"/>
                  <a:ext cx="201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Object 1033"/>
                <p:cNvSpPr txBox="1"/>
                <p:nvPr/>
              </p:nvSpPr>
              <p:spPr>
                <a:xfrm>
                  <a:off x="2666880" y="3360600"/>
                  <a:ext cx="176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Freeform 48"/>
            <p:cNvSpPr/>
            <p:nvPr/>
          </p:nvSpPr>
          <p:spPr>
            <a:xfrm>
              <a:off x="2120760" y="3335400"/>
              <a:ext cx="44640" cy="177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8" h="112">
                  <a:moveTo>
                    <a:pt x="16" y="112"/>
                  </a:moveTo>
                  <a:cubicBezTo>
                    <a:pt x="28" y="77"/>
                    <a:pt x="27" y="2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4" name="Object 45"/>
          <p:cNvGraphicFramePr/>
          <p:nvPr/>
        </p:nvGraphicFramePr>
        <p:xfrm>
          <a:off x="2576520" y="1557360"/>
          <a:ext cx="25416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5" name="Object 4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76520" y="155736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6"/>
          <p:cNvGraphicFramePr/>
          <p:nvPr/>
        </p:nvGraphicFramePr>
        <p:xfrm>
          <a:off x="3043080" y="1557360"/>
          <a:ext cx="25416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7" name="Object 4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3080" y="155736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47"/>
          <p:cNvGraphicFramePr/>
          <p:nvPr/>
        </p:nvGraphicFramePr>
        <p:xfrm>
          <a:off x="3792600" y="765000"/>
          <a:ext cx="1231920" cy="78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9" name="Object 4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92600" y="765000"/>
                    <a:ext cx="1231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50"/>
          <p:cNvGraphicFramePr/>
          <p:nvPr/>
        </p:nvGraphicFramePr>
        <p:xfrm>
          <a:off x="3646440" y="2924280"/>
          <a:ext cx="497844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1" name="Object 5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46440" y="2924280"/>
                    <a:ext cx="4978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51"/>
          <p:cNvGraphicFramePr/>
          <p:nvPr/>
        </p:nvGraphicFramePr>
        <p:xfrm>
          <a:off x="3490920" y="3860640"/>
          <a:ext cx="563868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3" name="Object 5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0920" y="3860640"/>
                    <a:ext cx="563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52"/>
          <p:cNvGraphicFramePr/>
          <p:nvPr/>
        </p:nvGraphicFramePr>
        <p:xfrm>
          <a:off x="4089240" y="4653000"/>
          <a:ext cx="2578320" cy="7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5" name="Object 5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9240" y="4653000"/>
                    <a:ext cx="2578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53"/>
          <p:cNvGraphicFramePr/>
          <p:nvPr/>
        </p:nvGraphicFramePr>
        <p:xfrm>
          <a:off x="3657600" y="5504040"/>
          <a:ext cx="4673520" cy="57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7" name="Object 5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57600" y="5504040"/>
                    <a:ext cx="4673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54"/>
          <p:cNvGraphicFramePr/>
          <p:nvPr/>
        </p:nvGraphicFramePr>
        <p:xfrm>
          <a:off x="3440160" y="6165720"/>
          <a:ext cx="1689120" cy="546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9" name="Object 5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40160" y="6165720"/>
                    <a:ext cx="1689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55"/>
          <p:cNvGraphicFramePr/>
          <p:nvPr/>
        </p:nvGraphicFramePr>
        <p:xfrm>
          <a:off x="5288040" y="6165720"/>
          <a:ext cx="1320840" cy="546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81" name="Object 5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88040" y="6165720"/>
                    <a:ext cx="1320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6"/>
          <p:cNvGraphicFramePr/>
          <p:nvPr/>
        </p:nvGraphicFramePr>
        <p:xfrm>
          <a:off x="6969240" y="6165720"/>
          <a:ext cx="1892160" cy="444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3" name="Object 5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969240" y="6165720"/>
                    <a:ext cx="1892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447480" y="-6480"/>
            <a:ext cx="64231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2 The Divergence and Cur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22080" y="569880"/>
            <a:ext cx="21225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iot-savar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5168880" y="3430440"/>
            <a:ext cx="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3657600" y="3429000"/>
            <a:ext cx="0" cy="1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8520120" y="6049800"/>
            <a:ext cx="0" cy="1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036"/>
              <p:cNvSpPr txBox="1"/>
              <p:nvPr/>
            </p:nvSpPr>
            <p:spPr>
              <a:xfrm>
                <a:off x="8440560" y="6286680"/>
                <a:ext cx="184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Line 23"/>
          <p:cNvSpPr/>
          <p:nvPr/>
        </p:nvSpPr>
        <p:spPr>
          <a:xfrm>
            <a:off x="3440160" y="6093000"/>
            <a:ext cx="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037"/>
              <p:cNvSpPr txBox="1"/>
              <p:nvPr/>
            </p:nvSpPr>
            <p:spPr>
              <a:xfrm>
                <a:off x="3368520" y="6323040"/>
                <a:ext cx="1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Line 26"/>
          <p:cNvSpPr/>
          <p:nvPr/>
        </p:nvSpPr>
        <p:spPr>
          <a:xfrm>
            <a:off x="4808520" y="5842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31"/>
          <p:cNvGraphicFramePr/>
          <p:nvPr/>
        </p:nvGraphicFramePr>
        <p:xfrm>
          <a:off x="6897600" y="44280"/>
          <a:ext cx="330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7600" y="44280"/>
                    <a:ext cx="330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34"/>
          <p:cNvGraphicFramePr/>
          <p:nvPr/>
        </p:nvGraphicFramePr>
        <p:xfrm>
          <a:off x="6686640" y="922320"/>
          <a:ext cx="14349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6640" y="922320"/>
                    <a:ext cx="1434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36"/>
          <p:cNvGraphicFramePr/>
          <p:nvPr/>
        </p:nvGraphicFramePr>
        <p:xfrm>
          <a:off x="6649920" y="2000160"/>
          <a:ext cx="298476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8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9920" y="2000160"/>
                    <a:ext cx="2984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40"/>
          <p:cNvGraphicFramePr/>
          <p:nvPr/>
        </p:nvGraphicFramePr>
        <p:xfrm>
          <a:off x="4952880" y="4724280"/>
          <a:ext cx="488952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724280"/>
                    <a:ext cx="4889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42"/>
          <p:cNvGraphicFramePr/>
          <p:nvPr/>
        </p:nvGraphicFramePr>
        <p:xfrm>
          <a:off x="4016520" y="5911920"/>
          <a:ext cx="73656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6520" y="5911920"/>
                    <a:ext cx="73656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43"/>
          <p:cNvGraphicFramePr/>
          <p:nvPr/>
        </p:nvGraphicFramePr>
        <p:xfrm>
          <a:off x="4089240" y="6114960"/>
          <a:ext cx="110520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89240" y="6114960"/>
                    <a:ext cx="1105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5"/>
          <p:cNvGraphicFramePr/>
          <p:nvPr/>
        </p:nvGraphicFramePr>
        <p:xfrm>
          <a:off x="776160" y="981000"/>
          <a:ext cx="2400480" cy="90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6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6160" y="981000"/>
                    <a:ext cx="2400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26"/>
          <p:cNvGraphicFramePr/>
          <p:nvPr/>
        </p:nvGraphicFramePr>
        <p:xfrm>
          <a:off x="744480" y="1824120"/>
          <a:ext cx="5727600" cy="189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8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4480" y="1824120"/>
                    <a:ext cx="57276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3584520" y="3645000"/>
          <a:ext cx="1904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4520" y="3645000"/>
                    <a:ext cx="190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097600" y="3645000"/>
          <a:ext cx="190440" cy="291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97600" y="3645000"/>
                    <a:ext cx="190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29"/>
          <p:cNvGraphicFramePr/>
          <p:nvPr/>
        </p:nvGraphicFramePr>
        <p:xfrm>
          <a:off x="776160" y="4005360"/>
          <a:ext cx="1409760" cy="35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4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6160" y="4005360"/>
                    <a:ext cx="1409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30"/>
          <p:cNvGraphicFramePr/>
          <p:nvPr/>
        </p:nvGraphicFramePr>
        <p:xfrm>
          <a:off x="3538440" y="4005360"/>
          <a:ext cx="170172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16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38440" y="4005360"/>
                    <a:ext cx="1701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31"/>
          <p:cNvGraphicFramePr/>
          <p:nvPr/>
        </p:nvGraphicFramePr>
        <p:xfrm>
          <a:off x="776160" y="4437000"/>
          <a:ext cx="3822840" cy="901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18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6160" y="4437000"/>
                    <a:ext cx="38228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32"/>
          <p:cNvGraphicFramePr/>
          <p:nvPr/>
        </p:nvGraphicFramePr>
        <p:xfrm>
          <a:off x="773280" y="5300640"/>
          <a:ext cx="8140680" cy="1447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20" name="Object 3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3280" y="5300640"/>
                    <a:ext cx="8140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4"/>
          <p:cNvSpPr/>
          <p:nvPr/>
        </p:nvSpPr>
        <p:spPr>
          <a:xfrm>
            <a:off x="6595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6524640" y="3357720"/>
                <a:ext cx="177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6909120" y="30686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 steady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089680" y="44067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5240880" y="555948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differ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874800" y="5950080"/>
            <a:ext cx="2133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6"/>
              <p:cNvSpPr txBox="1"/>
              <p:nvPr/>
            </p:nvSpPr>
            <p:spPr>
              <a:xfrm>
                <a:off x="5334120" y="5518080"/>
                <a:ext cx="177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8" name="Text Box 17"/>
          <p:cNvSpPr/>
          <p:nvPr/>
        </p:nvSpPr>
        <p:spPr>
          <a:xfrm>
            <a:off x="348480" y="-6480"/>
            <a:ext cx="10267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17"/>
          <p:cNvGraphicFramePr/>
          <p:nvPr/>
        </p:nvGraphicFramePr>
        <p:xfrm>
          <a:off x="920880" y="981000"/>
          <a:ext cx="42926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981000"/>
                    <a:ext cx="42926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8"/>
          <p:cNvGraphicFramePr/>
          <p:nvPr/>
        </p:nvGraphicFramePr>
        <p:xfrm>
          <a:off x="898560" y="2066760"/>
          <a:ext cx="6718320" cy="229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8560" y="2066760"/>
                    <a:ext cx="6718320" cy="22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3" name="Elbow Connector 19"/>
          <p:cNvCxnSpPr/>
          <p:nvPr/>
        </p:nvCxnSpPr>
        <p:spPr>
          <a:xfrm>
            <a:off x="4665600" y="4365720"/>
            <a:ext cx="504000" cy="288000"/>
          </a:xfrm>
          <a:prstGeom prst="bentConnector3">
            <a:avLst>
              <a:gd name="adj1" fmla="val 7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34" name="Object 19"/>
          <p:cNvGraphicFramePr/>
          <p:nvPr/>
        </p:nvGraphicFramePr>
        <p:xfrm>
          <a:off x="6465960" y="4441680"/>
          <a:ext cx="7365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5960" y="4441680"/>
                    <a:ext cx="736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20"/>
          <p:cNvGraphicFramePr/>
          <p:nvPr/>
        </p:nvGraphicFramePr>
        <p:xfrm>
          <a:off x="797040" y="4941720"/>
          <a:ext cx="574020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040" y="4941720"/>
                    <a:ext cx="5740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21"/>
          <p:cNvGraphicFramePr/>
          <p:nvPr/>
        </p:nvGraphicFramePr>
        <p:xfrm>
          <a:off x="920880" y="6021360"/>
          <a:ext cx="20318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9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6021360"/>
                    <a:ext cx="2031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293760" y="-4680"/>
            <a:ext cx="91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Applications of Amper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521280" y="65412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differ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167652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21640" y="2565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’s Law in integr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600200" y="3048120"/>
            <a:ext cx="227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79880" y="3716280"/>
            <a:ext cx="54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lectrostatics: Coulomb      Ga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gnetostatics: Bio-Savart      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3851280" y="3959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4248000" y="4319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01560" y="447840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standard current configurations which can be handl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mpere'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463680" y="5243400"/>
            <a:ext cx="33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straigh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finite solen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6"/>
          <p:cNvGraphicFramePr/>
          <p:nvPr/>
        </p:nvGraphicFramePr>
        <p:xfrm>
          <a:off x="1784520" y="1413000"/>
          <a:ext cx="16380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1413000"/>
                    <a:ext cx="16380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7"/>
          <p:cNvGraphicFramePr/>
          <p:nvPr/>
        </p:nvGraphicFramePr>
        <p:xfrm>
          <a:off x="949320" y="1994040"/>
          <a:ext cx="58039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9320" y="1994040"/>
                    <a:ext cx="5803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8"/>
          <p:cNvGraphicFramePr/>
          <p:nvPr/>
        </p:nvGraphicFramePr>
        <p:xfrm>
          <a:off x="1676520" y="3068640"/>
          <a:ext cx="2197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068640"/>
                    <a:ext cx="2197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D:\ACDSee32\EM\CH5\5.16.2.TIF"/>
          <p:cNvPicPr/>
          <p:nvPr/>
        </p:nvPicPr>
        <p:blipFill>
          <a:blip r:embed="rId1"/>
          <a:stretch/>
        </p:blipFill>
        <p:spPr>
          <a:xfrm>
            <a:off x="1143000" y="990720"/>
            <a:ext cx="2482920" cy="2514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8"/>
          <p:cNvGrpSpPr/>
          <p:nvPr/>
        </p:nvGrpSpPr>
        <p:grpSpPr>
          <a:xfrm>
            <a:off x="2895480" y="2895480"/>
            <a:ext cx="793440" cy="459720"/>
            <a:chOff x="2895480" y="2895480"/>
            <a:chExt cx="793440" cy="459720"/>
          </a:xfrm>
        </p:grpSpPr>
        <mc:AlternateContent>
          <mc:Choice xmlns:a14="http://schemas.microsoft.com/office/drawing/2010/main" Requires="a14">
            <p:sp>
              <p:nvSpPr>
                <p:cNvPr id="559" name="Object 1031"/>
                <p:cNvSpPr txBox="1"/>
                <p:nvPr/>
              </p:nvSpPr>
              <p:spPr>
                <a:xfrm>
                  <a:off x="2895480" y="3003480"/>
                  <a:ext cx="4827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0" name="Text Box 10"/>
            <p:cNvSpPr/>
            <p:nvPr/>
          </p:nvSpPr>
          <p:spPr>
            <a:xfrm>
              <a:off x="3339000" y="289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11"/>
          <p:cNvSpPr/>
          <p:nvPr/>
        </p:nvSpPr>
        <p:spPr>
          <a:xfrm>
            <a:off x="443160" y="57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5318280" y="14716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317200" y="14446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540000" y="357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9"/>
          <p:cNvGrpSpPr/>
          <p:nvPr/>
        </p:nvGrpSpPr>
        <p:grpSpPr>
          <a:xfrm>
            <a:off x="4984920" y="4570560"/>
            <a:ext cx="380880" cy="442800"/>
            <a:chOff x="4984920" y="4570560"/>
            <a:chExt cx="380880" cy="442800"/>
          </a:xfrm>
        </p:grpSpPr>
        <p:sp>
          <p:nvSpPr>
            <p:cNvPr id="566" name="Line 20"/>
            <p:cNvSpPr/>
            <p:nvPr/>
          </p:nvSpPr>
          <p:spPr>
            <a:xfrm>
              <a:off x="5137200" y="45705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7" name="Object 1030"/>
                <p:cNvSpPr txBox="1"/>
                <p:nvPr/>
              </p:nvSpPr>
              <p:spPr>
                <a:xfrm>
                  <a:off x="4984920" y="4799160"/>
                  <a:ext cx="3808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l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8" name="Picture 24" descr="D:\ACDSee32\EM\CH5\5.16.1.TIF"/>
          <p:cNvPicPr/>
          <p:nvPr/>
        </p:nvPicPr>
        <p:blipFill>
          <a:blip r:embed="rId2"/>
          <a:stretch/>
        </p:blipFill>
        <p:spPr>
          <a:xfrm>
            <a:off x="934920" y="3984480"/>
            <a:ext cx="3657600" cy="24688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26"/>
          <p:cNvSpPr/>
          <p:nvPr/>
        </p:nvSpPr>
        <p:spPr>
          <a:xfrm>
            <a:off x="1981080" y="19051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1027"/>
              <p:cNvSpPr txBox="1"/>
              <p:nvPr/>
            </p:nvSpPr>
            <p:spPr>
              <a:xfrm>
                <a:off x="1981080" y="1981080"/>
                <a:ext cx="1778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Object 23"/>
          <p:cNvGraphicFramePr/>
          <p:nvPr/>
        </p:nvGraphicFramePr>
        <p:xfrm>
          <a:off x="4737240" y="1092240"/>
          <a:ext cx="3047760" cy="21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092240"/>
                    <a:ext cx="304776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4"/>
          <p:cNvGraphicFramePr/>
          <p:nvPr/>
        </p:nvGraphicFramePr>
        <p:xfrm>
          <a:off x="4768920" y="3610080"/>
          <a:ext cx="313668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3610080"/>
                    <a:ext cx="31366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5"/>
          <p:cNvGraphicFramePr/>
          <p:nvPr/>
        </p:nvGraphicFramePr>
        <p:xfrm>
          <a:off x="4808520" y="5027760"/>
          <a:ext cx="3505320" cy="17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8520" y="5027760"/>
                    <a:ext cx="35053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1024"/>
          <p:cNvGraphicFramePr/>
          <p:nvPr/>
        </p:nvGraphicFramePr>
        <p:xfrm>
          <a:off x="3429000" y="1219320"/>
          <a:ext cx="254484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219320"/>
                    <a:ext cx="254484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Picture 13" descr="D:\ACDSee32\EM\CH5\5.17.2.TIF"/>
          <p:cNvPicPr/>
          <p:nvPr/>
        </p:nvPicPr>
        <p:blipFill>
          <a:blip r:embed="rId3"/>
          <a:stretch/>
        </p:blipFill>
        <p:spPr>
          <a:xfrm>
            <a:off x="2057400" y="3429000"/>
            <a:ext cx="2697120" cy="3062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D:\ACDSee32\EM\CH5\5.15.2.TIF"/>
          <p:cNvPicPr/>
          <p:nvPr/>
        </p:nvPicPr>
        <p:blipFill>
          <a:blip r:embed="rId4"/>
          <a:stretch/>
        </p:blipFill>
        <p:spPr>
          <a:xfrm>
            <a:off x="838080" y="3657600"/>
            <a:ext cx="1413000" cy="28526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44136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66840" y="57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4497480" y="2895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op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4497480" y="4495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oo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0" descr="D:\ACDSee32\EM\CH5\5.15.TIF"/>
          <p:cNvPicPr/>
          <p:nvPr/>
        </p:nvPicPr>
        <p:blipFill>
          <a:blip r:embed="rId5"/>
          <a:stretch/>
        </p:blipFill>
        <p:spPr>
          <a:xfrm>
            <a:off x="1143000" y="685800"/>
            <a:ext cx="2368440" cy="2514600"/>
          </a:xfrm>
          <a:prstGeom prst="rect">
            <a:avLst/>
          </a:prstGeom>
          <a:ln w="0">
            <a:noFill/>
          </a:ln>
        </p:spPr>
      </p:pic>
      <p:sp>
        <p:nvSpPr>
          <p:cNvPr id="586" name="Line 14"/>
          <p:cNvSpPr/>
          <p:nvPr/>
        </p:nvSpPr>
        <p:spPr>
          <a:xfrm flipV="1">
            <a:off x="18288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6"/>
          <p:cNvSpPr/>
          <p:nvPr/>
        </p:nvSpPr>
        <p:spPr>
          <a:xfrm flipV="1">
            <a:off x="22860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30"/>
              <p:cNvSpPr txBox="1"/>
              <p:nvPr/>
            </p:nvSpPr>
            <p:spPr>
              <a:xfrm>
                <a:off x="3962520" y="1828800"/>
                <a:ext cx="177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Object 19"/>
          <p:cNvGraphicFramePr/>
          <p:nvPr/>
        </p:nvGraphicFramePr>
        <p:xfrm>
          <a:off x="4794120" y="765000"/>
          <a:ext cx="4191120" cy="113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1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94120" y="765000"/>
                    <a:ext cx="41911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20"/>
          <p:cNvGraphicFramePr/>
          <p:nvPr/>
        </p:nvGraphicFramePr>
        <p:xfrm>
          <a:off x="1674720" y="565200"/>
          <a:ext cx="25416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3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4720" y="565200"/>
                    <a:ext cx="254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21"/>
          <p:cNvGraphicFramePr/>
          <p:nvPr/>
        </p:nvGraphicFramePr>
        <p:xfrm>
          <a:off x="2170080" y="620640"/>
          <a:ext cx="19044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5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70080" y="62064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22"/>
          <p:cNvGraphicFramePr/>
          <p:nvPr/>
        </p:nvGraphicFramePr>
        <p:xfrm>
          <a:off x="4819680" y="3429000"/>
          <a:ext cx="5029200" cy="107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7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19680" y="3429000"/>
                    <a:ext cx="50292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23"/>
          <p:cNvGraphicFramePr/>
          <p:nvPr/>
        </p:nvGraphicFramePr>
        <p:xfrm>
          <a:off x="4862520" y="5005440"/>
          <a:ext cx="4267080" cy="1663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9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62520" y="5005440"/>
                    <a:ext cx="42670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6" descr=""/>
          <p:cNvPicPr/>
          <p:nvPr/>
        </p:nvPicPr>
        <p:blipFill>
          <a:blip r:embed="rId1"/>
          <a:stretch/>
        </p:blipFill>
        <p:spPr>
          <a:xfrm>
            <a:off x="1784520" y="692280"/>
            <a:ext cx="5662440" cy="4392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"/>
          <p:cNvSpPr/>
          <p:nvPr/>
        </p:nvSpPr>
        <p:spPr>
          <a:xfrm>
            <a:off x="367200" y="577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073240" y="6308640"/>
            <a:ext cx="72230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36760" y="54165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2362320" y="114300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3124080" y="2895480"/>
            <a:ext cx="15264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2666880" y="2895480"/>
            <a:ext cx="15264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2819520" y="2590920"/>
            <a:ext cx="759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3352680" y="2514600"/>
            <a:ext cx="152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4038480" y="30481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16"/>
          <p:cNvGraphicFramePr/>
          <p:nvPr/>
        </p:nvGraphicFramePr>
        <p:xfrm>
          <a:off x="2965320" y="5048280"/>
          <a:ext cx="601992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5320" y="5048280"/>
                    <a:ext cx="60199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3" name="Object 1"/>
              <p:cNvSpPr txBox="1"/>
              <p:nvPr/>
            </p:nvSpPr>
            <p:spPr>
              <a:xfrm>
                <a:off x="3513240" y="141300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28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5.3.3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30"/>
          <p:cNvSpPr/>
          <p:nvPr/>
        </p:nvSpPr>
        <p:spPr>
          <a:xfrm flipH="1">
            <a:off x="5575320" y="467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13"/>
          <p:cNvGraphicFramePr/>
          <p:nvPr/>
        </p:nvGraphicFramePr>
        <p:xfrm>
          <a:off x="547560" y="907920"/>
          <a:ext cx="11937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907920"/>
                    <a:ext cx="1193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4"/>
          <p:cNvGraphicFramePr/>
          <p:nvPr/>
        </p:nvGraphicFramePr>
        <p:xfrm>
          <a:off x="2273400" y="692280"/>
          <a:ext cx="224784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3400" y="692280"/>
                    <a:ext cx="22478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5"/>
          <p:cNvGraphicFramePr/>
          <p:nvPr/>
        </p:nvGraphicFramePr>
        <p:xfrm>
          <a:off x="4815000" y="655560"/>
          <a:ext cx="2869920" cy="9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15000" y="655560"/>
                    <a:ext cx="28699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6"/>
          <p:cNvGraphicFramePr/>
          <p:nvPr/>
        </p:nvGraphicFramePr>
        <p:xfrm>
          <a:off x="2305080" y="1544760"/>
          <a:ext cx="538488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5080" y="1544760"/>
                    <a:ext cx="5384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18"/>
          <p:cNvGraphicFramePr/>
          <p:nvPr/>
        </p:nvGraphicFramePr>
        <p:xfrm>
          <a:off x="1206360" y="6453360"/>
          <a:ext cx="461016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6360" y="6453360"/>
                    <a:ext cx="4610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20"/>
          <p:cNvGraphicFramePr/>
          <p:nvPr/>
        </p:nvGraphicFramePr>
        <p:xfrm>
          <a:off x="414360" y="2984400"/>
          <a:ext cx="9191520" cy="313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7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60" y="2984400"/>
                    <a:ext cx="91915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Line 1030"/>
          <p:cNvSpPr/>
          <p:nvPr/>
        </p:nvSpPr>
        <p:spPr>
          <a:xfrm flipH="1">
            <a:off x="8599320" y="462744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30"/>
          <p:cNvSpPr/>
          <p:nvPr/>
        </p:nvSpPr>
        <p:spPr>
          <a:xfrm flipH="1">
            <a:off x="1784520" y="5203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030"/>
          <p:cNvSpPr/>
          <p:nvPr/>
        </p:nvSpPr>
        <p:spPr>
          <a:xfrm flipH="1">
            <a:off x="2119320" y="5708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Object 13"/>
          <p:cNvGraphicFramePr/>
          <p:nvPr/>
        </p:nvGraphicFramePr>
        <p:xfrm>
          <a:off x="1190520" y="6168960"/>
          <a:ext cx="642636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90520" y="6168960"/>
                    <a:ext cx="642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311040" y="1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The Vector Potenti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46640" y="1066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S.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1026"/>
              <p:cNvSpPr txBox="1"/>
              <p:nvPr/>
            </p:nvSpPr>
            <p:spPr>
              <a:xfrm>
                <a:off x="5823000" y="1143000"/>
                <a:ext cx="1866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027"/>
              <p:cNvSpPr txBox="1"/>
              <p:nvPr/>
            </p:nvSpPr>
            <p:spPr>
              <a:xfrm>
                <a:off x="7961400" y="1106640"/>
                <a:ext cx="1600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7" name="Group 8"/>
          <p:cNvGrpSpPr/>
          <p:nvPr/>
        </p:nvGrpSpPr>
        <p:grpSpPr>
          <a:xfrm>
            <a:off x="761760" y="1828800"/>
            <a:ext cx="8935920" cy="980280"/>
            <a:chOff x="761760" y="1828800"/>
            <a:chExt cx="8935920" cy="980280"/>
          </a:xfrm>
        </p:grpSpPr>
        <p:sp>
          <p:nvSpPr>
            <p:cNvPr id="638" name="Text Box 9"/>
            <p:cNvSpPr/>
            <p:nvPr/>
          </p:nvSpPr>
          <p:spPr>
            <a:xfrm>
              <a:off x="761760" y="182880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.S.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037"/>
                <p:cNvSpPr txBox="1"/>
                <p:nvPr/>
              </p:nvSpPr>
              <p:spPr>
                <a:xfrm>
                  <a:off x="5900760" y="1905120"/>
                  <a:ext cx="14443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Text Box 13"/>
            <p:cNvSpPr/>
            <p:nvPr/>
          </p:nvSpPr>
          <p:spPr>
            <a:xfrm>
              <a:off x="4902120" y="2349360"/>
              <a:ext cx="30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constant-like v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 flipV="1">
              <a:off x="7112880" y="2209320"/>
              <a:ext cx="82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Object 1038"/>
                <p:cNvSpPr txBox="1"/>
                <p:nvPr/>
              </p:nvSpPr>
              <p:spPr>
                <a:xfrm>
                  <a:off x="7977960" y="1905120"/>
                  <a:ext cx="171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∇</m:t>
                      </m:r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Text Box 16"/>
            <p:cNvSpPr/>
            <p:nvPr/>
          </p:nvSpPr>
          <p:spPr>
            <a:xfrm>
              <a:off x="8233560" y="23493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7"/>
            <p:cNvSpPr/>
            <p:nvPr/>
          </p:nvSpPr>
          <p:spPr>
            <a:xfrm flipV="1">
              <a:off x="8985600" y="2209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5" name="Object 1028"/>
              <p:cNvSpPr txBox="1"/>
              <p:nvPr/>
            </p:nvSpPr>
            <p:spPr>
              <a:xfrm>
                <a:off x="836640" y="3187800"/>
                <a:ext cx="239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Text Box 19"/>
          <p:cNvSpPr/>
          <p:nvPr/>
        </p:nvSpPr>
        <p:spPr>
          <a:xfrm>
            <a:off x="1164600" y="31114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vector potential in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789120" y="4460760"/>
            <a:ext cx="90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       that                 , can we find a function    to obtain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1030"/>
              <p:cNvSpPr txBox="1"/>
              <p:nvPr/>
            </p:nvSpPr>
            <p:spPr>
              <a:xfrm>
                <a:off x="2344680" y="4508640"/>
                <a:ext cx="304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031"/>
              <p:cNvSpPr txBox="1"/>
              <p:nvPr/>
            </p:nvSpPr>
            <p:spPr>
              <a:xfrm>
                <a:off x="3510000" y="4508640"/>
                <a:ext cx="11556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032"/>
              <p:cNvSpPr txBox="1"/>
              <p:nvPr/>
            </p:nvSpPr>
            <p:spPr>
              <a:xfrm>
                <a:off x="920880" y="4913280"/>
                <a:ext cx="1054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1" name="Object 1033"/>
          <p:cNvGraphicFramePr/>
          <p:nvPr/>
        </p:nvGraphicFramePr>
        <p:xfrm>
          <a:off x="2725560" y="4876920"/>
          <a:ext cx="16765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10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5560" y="4876920"/>
                    <a:ext cx="1676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Text Box 29"/>
          <p:cNvSpPr/>
          <p:nvPr/>
        </p:nvSpPr>
        <p:spPr>
          <a:xfrm>
            <a:off x="6698160" y="2751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034"/>
              <p:cNvSpPr txBox="1"/>
              <p:nvPr/>
            </p:nvSpPr>
            <p:spPr>
              <a:xfrm>
                <a:off x="7905600" y="457200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Rectangle 31"/>
          <p:cNvSpPr/>
          <p:nvPr/>
        </p:nvSpPr>
        <p:spPr>
          <a:xfrm>
            <a:off x="4038480" y="1828800"/>
            <a:ext cx="1447920" cy="44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2649600" y="48769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Object 30"/>
          <p:cNvGraphicFramePr/>
          <p:nvPr/>
        </p:nvGraphicFramePr>
        <p:xfrm>
          <a:off x="1857240" y="1128600"/>
          <a:ext cx="12574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128600"/>
                    <a:ext cx="12574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31"/>
          <p:cNvGraphicFramePr/>
          <p:nvPr/>
        </p:nvGraphicFramePr>
        <p:xfrm>
          <a:off x="1865160" y="1844640"/>
          <a:ext cx="1143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65160" y="1844640"/>
                    <a:ext cx="1143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32"/>
          <p:cNvGraphicFramePr/>
          <p:nvPr/>
        </p:nvGraphicFramePr>
        <p:xfrm>
          <a:off x="3440160" y="1844640"/>
          <a:ext cx="19303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0160" y="1844640"/>
                    <a:ext cx="193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3"/>
          <p:cNvGraphicFramePr/>
          <p:nvPr/>
        </p:nvGraphicFramePr>
        <p:xfrm>
          <a:off x="3440160" y="1125360"/>
          <a:ext cx="189216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4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0160" y="1125360"/>
                    <a:ext cx="1892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4"/>
          <p:cNvGraphicFramePr/>
          <p:nvPr/>
        </p:nvGraphicFramePr>
        <p:xfrm>
          <a:off x="2046240" y="3784680"/>
          <a:ext cx="571500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46240" y="3784680"/>
                    <a:ext cx="5715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26" descr="D:\ACDSee32\EM\CH5\5.1.TIF"/>
          <p:cNvPicPr/>
          <p:nvPr/>
        </p:nvPicPr>
        <p:blipFill>
          <a:blip r:embed="rId1"/>
          <a:stretch/>
        </p:blipFill>
        <p:spPr>
          <a:xfrm>
            <a:off x="533520" y="1371600"/>
            <a:ext cx="3962160" cy="366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27" descr="D:\ACDSee32\EM\CH5\5.2.TIF"/>
          <p:cNvPicPr/>
          <p:nvPr/>
        </p:nvPicPr>
        <p:blipFill>
          <a:blip r:embed="rId2"/>
          <a:stretch/>
        </p:blipFill>
        <p:spPr>
          <a:xfrm>
            <a:off x="5105520" y="1684440"/>
            <a:ext cx="4800600" cy="275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1028"/>
              <p:cNvSpPr txBox="1"/>
              <p:nvPr/>
            </p:nvSpPr>
            <p:spPr>
              <a:xfrm>
                <a:off x="8305920" y="3741840"/>
                <a:ext cx="685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030"/>
          <p:cNvSpPr/>
          <p:nvPr/>
        </p:nvSpPr>
        <p:spPr>
          <a:xfrm>
            <a:off x="279000" y="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353160" y="14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1025"/>
              <p:cNvSpPr txBox="1"/>
              <p:nvPr/>
            </p:nvSpPr>
            <p:spPr>
              <a:xfrm>
                <a:off x="5765760" y="5738760"/>
                <a:ext cx="176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9" name="Text Box 5"/>
          <p:cNvSpPr/>
          <p:nvPr/>
        </p:nvSpPr>
        <p:spPr>
          <a:xfrm>
            <a:off x="3344040" y="34290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33940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914400" y="22096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914400" y="3352680"/>
            <a:ext cx="173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914400" y="4191120"/>
            <a:ext cx="187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21"/>
          <p:cNvGraphicFramePr/>
          <p:nvPr/>
        </p:nvGraphicFramePr>
        <p:xfrm>
          <a:off x="849240" y="765000"/>
          <a:ext cx="304812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765000"/>
                    <a:ext cx="30481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22"/>
          <p:cNvGraphicFramePr/>
          <p:nvPr/>
        </p:nvGraphicFramePr>
        <p:xfrm>
          <a:off x="849240" y="1413000"/>
          <a:ext cx="20574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1413000"/>
                    <a:ext cx="20574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23"/>
          <p:cNvGraphicFramePr/>
          <p:nvPr/>
        </p:nvGraphicFramePr>
        <p:xfrm>
          <a:off x="912960" y="2205000"/>
          <a:ext cx="231120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205000"/>
                    <a:ext cx="2311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24"/>
          <p:cNvGraphicFramePr/>
          <p:nvPr/>
        </p:nvGraphicFramePr>
        <p:xfrm>
          <a:off x="920880" y="3425760"/>
          <a:ext cx="17143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1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425760"/>
                    <a:ext cx="1714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25"/>
          <p:cNvGraphicFramePr/>
          <p:nvPr/>
        </p:nvGraphicFramePr>
        <p:xfrm>
          <a:off x="920880" y="4187880"/>
          <a:ext cx="185400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4187880"/>
                    <a:ext cx="1854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26"/>
          <p:cNvGraphicFramePr/>
          <p:nvPr/>
        </p:nvGraphicFramePr>
        <p:xfrm>
          <a:off x="3746520" y="4378320"/>
          <a:ext cx="120636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6520" y="4378320"/>
                    <a:ext cx="1206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27"/>
          <p:cNvGraphicFramePr/>
          <p:nvPr/>
        </p:nvGraphicFramePr>
        <p:xfrm>
          <a:off x="923760" y="5229360"/>
          <a:ext cx="5613480" cy="85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7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23760" y="5229360"/>
                    <a:ext cx="561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28"/>
          <p:cNvGraphicFramePr/>
          <p:nvPr/>
        </p:nvGraphicFramePr>
        <p:xfrm>
          <a:off x="4952880" y="1268280"/>
          <a:ext cx="1562400" cy="87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1268280"/>
                    <a:ext cx="15624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29"/>
          <p:cNvGraphicFramePr/>
          <p:nvPr/>
        </p:nvGraphicFramePr>
        <p:xfrm>
          <a:off x="4970520" y="2205000"/>
          <a:ext cx="185400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1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70520" y="2205000"/>
                    <a:ext cx="1854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Object 1024"/>
          <p:cNvGraphicFramePr/>
          <p:nvPr/>
        </p:nvGraphicFramePr>
        <p:xfrm>
          <a:off x="3081240" y="620640"/>
          <a:ext cx="5670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620640"/>
                    <a:ext cx="5670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4" name="Picture 4" descr="D:\ACDSee32\EM\CH1\add3.BMP"/>
          <p:cNvPicPr/>
          <p:nvPr/>
        </p:nvPicPr>
        <p:blipFill>
          <a:blip r:embed="rId3"/>
          <a:stretch/>
        </p:blipFill>
        <p:spPr>
          <a:xfrm>
            <a:off x="2617920" y="3435480"/>
            <a:ext cx="304560" cy="233280"/>
          </a:xfrm>
          <a:prstGeom prst="rect">
            <a:avLst/>
          </a:prstGeom>
          <a:ln w="0">
            <a:noFill/>
          </a:ln>
        </p:spPr>
      </p:pic>
      <p:sp>
        <p:nvSpPr>
          <p:cNvPr id="695" name="Line 5"/>
          <p:cNvSpPr/>
          <p:nvPr/>
        </p:nvSpPr>
        <p:spPr>
          <a:xfrm flipH="1" flipV="1">
            <a:off x="3006360" y="3638520"/>
            <a:ext cx="577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316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53352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6760" y="2492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648960" y="34354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urface integration over      eas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1026"/>
              <p:cNvSpPr txBox="1"/>
              <p:nvPr/>
            </p:nvSpPr>
            <p:spPr>
              <a:xfrm>
                <a:off x="7545240" y="3240000"/>
                <a:ext cx="20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701" name="Text Box 16"/>
          <p:cNvSpPr/>
          <p:nvPr/>
        </p:nvSpPr>
        <p:spPr>
          <a:xfrm>
            <a:off x="802440" y="15573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iring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8" descr="D:\ACDSee32\EM\CH1\add3.BMP"/>
          <p:cNvPicPr/>
          <p:nvPr/>
        </p:nvPicPr>
        <p:blipFill>
          <a:blip r:embed="rId4"/>
          <a:stretch/>
        </p:blipFill>
        <p:spPr>
          <a:xfrm>
            <a:off x="7545240" y="3664080"/>
            <a:ext cx="30492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9" descr="D:\ACDSee32\EM\CH1\add3.BMP"/>
          <p:cNvPicPr/>
          <p:nvPr/>
        </p:nvPicPr>
        <p:blipFill>
          <a:blip r:embed="rId5"/>
          <a:stretch/>
        </p:blipFill>
        <p:spPr>
          <a:xfrm>
            <a:off x="2416320" y="4203720"/>
            <a:ext cx="304560" cy="23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4" name="Object 1033"/>
              <p:cNvSpPr txBox="1"/>
              <p:nvPr/>
            </p:nvSpPr>
            <p:spPr>
              <a:xfrm>
                <a:off x="4737240" y="1268280"/>
                <a:ext cx="234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034"/>
              <p:cNvSpPr txBox="1"/>
              <p:nvPr/>
            </p:nvSpPr>
            <p:spPr>
              <a:xfrm>
                <a:off x="3733920" y="2133720"/>
                <a:ext cx="304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6" name="Object 23"/>
          <p:cNvGraphicFramePr/>
          <p:nvPr/>
        </p:nvGraphicFramePr>
        <p:xfrm>
          <a:off x="4871880" y="555480"/>
          <a:ext cx="1194120" cy="4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1880" y="555480"/>
                    <a:ext cx="11941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24"/>
          <p:cNvGraphicFramePr/>
          <p:nvPr/>
        </p:nvGraphicFramePr>
        <p:xfrm>
          <a:off x="920880" y="2957400"/>
          <a:ext cx="2349360" cy="825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9" name="Object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0880" y="2957400"/>
                    <a:ext cx="2349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5"/>
          <p:cNvGraphicFramePr/>
          <p:nvPr/>
        </p:nvGraphicFramePr>
        <p:xfrm>
          <a:off x="880920" y="3905280"/>
          <a:ext cx="8331480" cy="281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1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80920" y="3905280"/>
                    <a:ext cx="8331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6"/>
          <p:cNvGraphicFramePr/>
          <p:nvPr/>
        </p:nvGraphicFramePr>
        <p:xfrm>
          <a:off x="6537240" y="4581360"/>
          <a:ext cx="2298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3" name="Object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37240" y="4581360"/>
                    <a:ext cx="2298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5316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Object 16"/>
          <p:cNvGraphicFramePr/>
          <p:nvPr/>
        </p:nvGraphicFramePr>
        <p:xfrm>
          <a:off x="736560" y="816120"/>
          <a:ext cx="916956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16120"/>
                    <a:ext cx="9169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17"/>
          <p:cNvGraphicFramePr/>
          <p:nvPr/>
        </p:nvGraphicFramePr>
        <p:xfrm>
          <a:off x="3078000" y="1844640"/>
          <a:ext cx="41785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8000" y="1844640"/>
                    <a:ext cx="41785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Object 18"/>
          <p:cNvGraphicFramePr/>
          <p:nvPr/>
        </p:nvGraphicFramePr>
        <p:xfrm>
          <a:off x="549360" y="2700360"/>
          <a:ext cx="84074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360" y="2700360"/>
                    <a:ext cx="8407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Object 19"/>
          <p:cNvGraphicFramePr/>
          <p:nvPr/>
        </p:nvGraphicFramePr>
        <p:xfrm>
          <a:off x="1370160" y="4068720"/>
          <a:ext cx="142236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0160" y="4068720"/>
                    <a:ext cx="1422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20"/>
          <p:cNvGraphicFramePr/>
          <p:nvPr/>
        </p:nvGraphicFramePr>
        <p:xfrm>
          <a:off x="577800" y="4479840"/>
          <a:ext cx="927108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800" y="4479840"/>
                    <a:ext cx="92710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21"/>
          <p:cNvGraphicFramePr/>
          <p:nvPr/>
        </p:nvGraphicFramePr>
        <p:xfrm>
          <a:off x="685800" y="5881680"/>
          <a:ext cx="8102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6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881680"/>
                    <a:ext cx="8102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7" name="Straight Arrow Connector 22"/>
          <p:cNvCxnSpPr/>
          <p:nvPr/>
        </p:nvCxnSpPr>
        <p:spPr>
          <a:xfrm>
            <a:off x="3583440" y="1268280"/>
            <a:ext cx="289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25"/>
          <p:cNvCxnSpPr/>
          <p:nvPr/>
        </p:nvCxnSpPr>
        <p:spPr>
          <a:xfrm flipH="1">
            <a:off x="6031800" y="1267920"/>
            <a:ext cx="36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53"/>
          <p:cNvCxnSpPr/>
          <p:nvPr/>
        </p:nvCxnSpPr>
        <p:spPr>
          <a:xfrm flipH="1">
            <a:off x="4088520" y="1844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0" name="Straight Connector 55"/>
          <p:cNvSpPr/>
          <p:nvPr/>
        </p:nvSpPr>
        <p:spPr>
          <a:xfrm>
            <a:off x="4089240" y="184464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60"/>
          <p:cNvSpPr/>
          <p:nvPr/>
        </p:nvSpPr>
        <p:spPr>
          <a:xfrm>
            <a:off x="355680" y="3860640"/>
            <a:ext cx="4384440" cy="938520"/>
          </a:xfrm>
          <a:custGeom>
            <a:avLst/>
            <a:gdLst/>
            <a:ahLst/>
            <a:rect l="l" t="t" r="r" b="b"/>
            <a:pathLst>
              <a:path w="4384306" h="938943">
                <a:moveTo>
                  <a:pt x="4384306" y="0"/>
                </a:moveTo>
                <a:cubicBezTo>
                  <a:pt x="4355496" y="9603"/>
                  <a:pt x="4328054" y="17756"/>
                  <a:pt x="4300486" y="30480"/>
                </a:cubicBezTo>
                <a:cubicBezTo>
                  <a:pt x="4279859" y="40000"/>
                  <a:pt x="4260671" y="52653"/>
                  <a:pt x="4239526" y="60960"/>
                </a:cubicBezTo>
                <a:cubicBezTo>
                  <a:pt x="4189431" y="80640"/>
                  <a:pt x="4139130" y="100432"/>
                  <a:pt x="4087126" y="114300"/>
                </a:cubicBezTo>
                <a:cubicBezTo>
                  <a:pt x="4062461" y="120877"/>
                  <a:pt x="4036256" y="118754"/>
                  <a:pt x="4010926" y="121920"/>
                </a:cubicBezTo>
                <a:cubicBezTo>
                  <a:pt x="3937329" y="131120"/>
                  <a:pt x="3987530" y="129629"/>
                  <a:pt x="3896626" y="144780"/>
                </a:cubicBezTo>
                <a:cubicBezTo>
                  <a:pt x="3873938" y="148561"/>
                  <a:pt x="3850765" y="148813"/>
                  <a:pt x="3828046" y="152400"/>
                </a:cubicBezTo>
                <a:cubicBezTo>
                  <a:pt x="3802460" y="156440"/>
                  <a:pt x="3777305" y="162866"/>
                  <a:pt x="3751846" y="167640"/>
                </a:cubicBezTo>
                <a:cubicBezTo>
                  <a:pt x="3736660" y="170487"/>
                  <a:pt x="3721327" y="172496"/>
                  <a:pt x="3706126" y="175260"/>
                </a:cubicBezTo>
                <a:cubicBezTo>
                  <a:pt x="3657992" y="184012"/>
                  <a:pt x="3674699" y="183015"/>
                  <a:pt x="3622306" y="190500"/>
                </a:cubicBezTo>
                <a:cubicBezTo>
                  <a:pt x="3543467" y="201763"/>
                  <a:pt x="3536994" y="199642"/>
                  <a:pt x="3439426" y="205740"/>
                </a:cubicBezTo>
                <a:lnTo>
                  <a:pt x="3066046" y="198120"/>
                </a:lnTo>
                <a:cubicBezTo>
                  <a:pt x="3055581" y="197725"/>
                  <a:pt x="3046039" y="190500"/>
                  <a:pt x="3035566" y="190500"/>
                </a:cubicBezTo>
                <a:cubicBezTo>
                  <a:pt x="2941552" y="190500"/>
                  <a:pt x="2847606" y="195580"/>
                  <a:pt x="2753626" y="198120"/>
                </a:cubicBezTo>
                <a:cubicBezTo>
                  <a:pt x="2730766" y="200660"/>
                  <a:pt x="2707600" y="201229"/>
                  <a:pt x="2685046" y="205740"/>
                </a:cubicBezTo>
                <a:cubicBezTo>
                  <a:pt x="2669294" y="208890"/>
                  <a:pt x="2655388" y="220677"/>
                  <a:pt x="2639326" y="220980"/>
                </a:cubicBezTo>
                <a:lnTo>
                  <a:pt x="2281186" y="213360"/>
                </a:lnTo>
                <a:cubicBezTo>
                  <a:pt x="2223900" y="203812"/>
                  <a:pt x="2239353" y="205749"/>
                  <a:pt x="2174506" y="198120"/>
                </a:cubicBezTo>
                <a:cubicBezTo>
                  <a:pt x="2151663" y="195433"/>
                  <a:pt x="2128696" y="193753"/>
                  <a:pt x="2105926" y="190500"/>
                </a:cubicBezTo>
                <a:cubicBezTo>
                  <a:pt x="2093105" y="188668"/>
                  <a:pt x="2080627" y="184849"/>
                  <a:pt x="2067826" y="182880"/>
                </a:cubicBezTo>
                <a:cubicBezTo>
                  <a:pt x="2047586" y="179766"/>
                  <a:pt x="2027186" y="177800"/>
                  <a:pt x="2006866" y="175260"/>
                </a:cubicBezTo>
                <a:lnTo>
                  <a:pt x="1473466" y="190500"/>
                </a:lnTo>
                <a:cubicBezTo>
                  <a:pt x="1437750" y="191892"/>
                  <a:pt x="1415784" y="200410"/>
                  <a:pt x="1382026" y="205740"/>
                </a:cubicBezTo>
                <a:cubicBezTo>
                  <a:pt x="1346545" y="211342"/>
                  <a:pt x="1310906" y="215900"/>
                  <a:pt x="1275346" y="220980"/>
                </a:cubicBezTo>
                <a:lnTo>
                  <a:pt x="1222006" y="228600"/>
                </a:lnTo>
                <a:cubicBezTo>
                  <a:pt x="1202420" y="235129"/>
                  <a:pt x="1189716" y="240013"/>
                  <a:pt x="1168666" y="243840"/>
                </a:cubicBezTo>
                <a:cubicBezTo>
                  <a:pt x="1150995" y="247053"/>
                  <a:pt x="1133129" y="249086"/>
                  <a:pt x="1115326" y="251460"/>
                </a:cubicBezTo>
                <a:cubicBezTo>
                  <a:pt x="1095028" y="254166"/>
                  <a:pt x="1074533" y="255521"/>
                  <a:pt x="1054366" y="259080"/>
                </a:cubicBezTo>
                <a:cubicBezTo>
                  <a:pt x="1031305" y="263150"/>
                  <a:pt x="1008910" y="270620"/>
                  <a:pt x="985786" y="274320"/>
                </a:cubicBezTo>
                <a:cubicBezTo>
                  <a:pt x="945344" y="280791"/>
                  <a:pt x="904265" y="282827"/>
                  <a:pt x="863866" y="289560"/>
                </a:cubicBezTo>
                <a:lnTo>
                  <a:pt x="772426" y="304800"/>
                </a:lnTo>
                <a:cubicBezTo>
                  <a:pt x="744448" y="309666"/>
                  <a:pt x="716785" y="316518"/>
                  <a:pt x="688606" y="320040"/>
                </a:cubicBezTo>
                <a:cubicBezTo>
                  <a:pt x="668286" y="322580"/>
                  <a:pt x="647846" y="324293"/>
                  <a:pt x="627646" y="327660"/>
                </a:cubicBezTo>
                <a:cubicBezTo>
                  <a:pt x="617316" y="329382"/>
                  <a:pt x="607459" y="333350"/>
                  <a:pt x="597166" y="335280"/>
                </a:cubicBezTo>
                <a:cubicBezTo>
                  <a:pt x="566795" y="340975"/>
                  <a:pt x="536206" y="345440"/>
                  <a:pt x="505726" y="350520"/>
                </a:cubicBezTo>
                <a:cubicBezTo>
                  <a:pt x="490486" y="353060"/>
                  <a:pt x="475301" y="355955"/>
                  <a:pt x="460006" y="358140"/>
                </a:cubicBezTo>
                <a:cubicBezTo>
                  <a:pt x="342959" y="374861"/>
                  <a:pt x="388175" y="364668"/>
                  <a:pt x="322846" y="381000"/>
                </a:cubicBezTo>
                <a:cubicBezTo>
                  <a:pt x="270121" y="416150"/>
                  <a:pt x="310189" y="391849"/>
                  <a:pt x="200926" y="434340"/>
                </a:cubicBezTo>
                <a:cubicBezTo>
                  <a:pt x="147852" y="454980"/>
                  <a:pt x="179031" y="446339"/>
                  <a:pt x="124726" y="457200"/>
                </a:cubicBezTo>
                <a:cubicBezTo>
                  <a:pt x="117106" y="462280"/>
                  <a:pt x="110057" y="468344"/>
                  <a:pt x="101866" y="472440"/>
                </a:cubicBezTo>
                <a:cubicBezTo>
                  <a:pt x="94682" y="476032"/>
                  <a:pt x="85980" y="476075"/>
                  <a:pt x="79006" y="480060"/>
                </a:cubicBezTo>
                <a:cubicBezTo>
                  <a:pt x="47891" y="497840"/>
                  <a:pt x="46621" y="505460"/>
                  <a:pt x="25666" y="533400"/>
                </a:cubicBezTo>
                <a:cubicBezTo>
                  <a:pt x="0" y="610397"/>
                  <a:pt x="1498" y="596916"/>
                  <a:pt x="25666" y="746760"/>
                </a:cubicBezTo>
                <a:cubicBezTo>
                  <a:pt x="26402" y="751322"/>
                  <a:pt x="70665" y="813692"/>
                  <a:pt x="79006" y="822960"/>
                </a:cubicBezTo>
                <a:cubicBezTo>
                  <a:pt x="123010" y="871853"/>
                  <a:pt x="119258" y="865035"/>
                  <a:pt x="170446" y="899160"/>
                </a:cubicBezTo>
                <a:lnTo>
                  <a:pt x="193306" y="914400"/>
                </a:lnTo>
                <a:cubicBezTo>
                  <a:pt x="208461" y="924503"/>
                  <a:pt x="220097" y="935157"/>
                  <a:pt x="239026" y="937260"/>
                </a:cubicBezTo>
                <a:cubicBezTo>
                  <a:pt x="254173" y="938943"/>
                  <a:pt x="269506" y="937260"/>
                  <a:pt x="284746" y="9372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Object 7"/>
          <p:cNvGraphicFramePr/>
          <p:nvPr/>
        </p:nvGraphicFramePr>
        <p:xfrm>
          <a:off x="849240" y="950760"/>
          <a:ext cx="5613480" cy="9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950760"/>
                    <a:ext cx="5613480" cy="9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8"/>
          <p:cNvGraphicFramePr/>
          <p:nvPr/>
        </p:nvGraphicFramePr>
        <p:xfrm>
          <a:off x="849240" y="2133720"/>
          <a:ext cx="4152960" cy="113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2133720"/>
                    <a:ext cx="415296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9"/>
          <p:cNvGraphicFramePr/>
          <p:nvPr/>
        </p:nvGraphicFramePr>
        <p:xfrm>
          <a:off x="844560" y="3413160"/>
          <a:ext cx="7924680" cy="18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560" y="3413160"/>
                    <a:ext cx="792468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10"/>
          <p:cNvGraphicFramePr/>
          <p:nvPr/>
        </p:nvGraphicFramePr>
        <p:xfrm>
          <a:off x="900000" y="5327640"/>
          <a:ext cx="7797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5327640"/>
                    <a:ext cx="7797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10"/>
          <p:cNvGraphicFramePr/>
          <p:nvPr/>
        </p:nvGraphicFramePr>
        <p:xfrm>
          <a:off x="1136520" y="1268280"/>
          <a:ext cx="7874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268280"/>
                    <a:ext cx="7874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1"/>
          <p:cNvGraphicFramePr/>
          <p:nvPr/>
        </p:nvGraphicFramePr>
        <p:xfrm>
          <a:off x="1168560" y="2158920"/>
          <a:ext cx="4432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8560" y="2158920"/>
                    <a:ext cx="4432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2"/>
          <p:cNvGraphicFramePr/>
          <p:nvPr/>
        </p:nvGraphicFramePr>
        <p:xfrm>
          <a:off x="1184400" y="3166920"/>
          <a:ext cx="8888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4400" y="3166920"/>
                    <a:ext cx="88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3"/>
          <p:cNvGraphicFramePr/>
          <p:nvPr/>
        </p:nvGraphicFramePr>
        <p:xfrm>
          <a:off x="1208160" y="4896000"/>
          <a:ext cx="4406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8160" y="4896000"/>
                    <a:ext cx="4406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4"/>
          <p:cNvGraphicFramePr/>
          <p:nvPr/>
        </p:nvGraphicFramePr>
        <p:xfrm>
          <a:off x="1208160" y="5759280"/>
          <a:ext cx="8636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08160" y="5759280"/>
                    <a:ext cx="86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Box 14"/>
          <p:cNvSpPr/>
          <p:nvPr/>
        </p:nvSpPr>
        <p:spPr>
          <a:xfrm>
            <a:off x="637920" y="7650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&g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5"/>
          <p:cNvSpPr/>
          <p:nvPr/>
        </p:nvSpPr>
        <p:spPr>
          <a:xfrm>
            <a:off x="710280" y="453564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D:\ACDSee32\EM\CH5\5.21.3.TIF"/>
          <p:cNvPicPr/>
          <p:nvPr/>
        </p:nvPicPr>
        <p:blipFill>
          <a:blip r:embed="rId1"/>
          <a:stretch/>
        </p:blipFill>
        <p:spPr>
          <a:xfrm>
            <a:off x="1066680" y="3733920"/>
            <a:ext cx="2849760" cy="3124080"/>
          </a:xfrm>
          <a:prstGeom prst="rect">
            <a:avLst/>
          </a:prstGeom>
          <a:ln w="0">
            <a:noFill/>
          </a:ln>
        </p:spPr>
      </p:pic>
      <p:sp>
        <p:nvSpPr>
          <p:cNvPr id="755" name="Text Box 3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4788000" y="990720"/>
            <a:ext cx="164880" cy="1295280"/>
          </a:xfrm>
          <a:custGeom>
            <a:avLst/>
            <a:gdLst>
              <a:gd name="textAreaLeft" fmla="*/ 105480 w 164880"/>
              <a:gd name="textAreaRight" fmla="*/ 165240 w 164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1027"/>
              <p:cNvSpPr txBox="1"/>
              <p:nvPr/>
            </p:nvSpPr>
            <p:spPr>
              <a:xfrm>
                <a:off x="6292800" y="1371600"/>
                <a:ext cx="46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028"/>
              <p:cNvSpPr txBox="1"/>
              <p:nvPr/>
            </p:nvSpPr>
            <p:spPr>
              <a:xfrm>
                <a:off x="1136520" y="566244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59" name="Object 1031"/>
          <p:cNvGraphicFramePr/>
          <p:nvPr/>
        </p:nvGraphicFramePr>
        <p:xfrm>
          <a:off x="8215200" y="836640"/>
          <a:ext cx="106992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0" name="Object 10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5200" y="836640"/>
                    <a:ext cx="1069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1" name="Object 1032"/>
              <p:cNvSpPr txBox="1"/>
              <p:nvPr/>
            </p:nvSpPr>
            <p:spPr>
              <a:xfrm>
                <a:off x="8223120" y="1844640"/>
                <a:ext cx="126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utsid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AutoShape 16"/>
          <p:cNvSpPr/>
          <p:nvPr/>
        </p:nvSpPr>
        <p:spPr>
          <a:xfrm>
            <a:off x="3956040" y="2666880"/>
            <a:ext cx="247680" cy="1600200"/>
          </a:xfrm>
          <a:custGeom>
            <a:avLst/>
            <a:gdLst>
              <a:gd name="textAreaLeft" fmla="*/ 158400 w 247680"/>
              <a:gd name="textAreaRight" fmla="*/ 248040 w 247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1035"/>
              <p:cNvSpPr txBox="1"/>
              <p:nvPr/>
            </p:nvSpPr>
            <p:spPr>
              <a:xfrm>
                <a:off x="7174080" y="2795760"/>
                <a:ext cx="218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1038"/>
              <p:cNvSpPr txBox="1"/>
              <p:nvPr/>
            </p:nvSpPr>
            <p:spPr>
              <a:xfrm>
                <a:off x="6310440" y="3276720"/>
                <a:ext cx="46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1041"/>
              <p:cNvSpPr txBox="1"/>
              <p:nvPr/>
            </p:nvSpPr>
            <p:spPr>
              <a:xfrm>
                <a:off x="8298000" y="2708280"/>
                <a:ext cx="1069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nsid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ct 1042"/>
              <p:cNvSpPr txBox="1"/>
              <p:nvPr/>
            </p:nvSpPr>
            <p:spPr>
              <a:xfrm>
                <a:off x="8305920" y="3789360"/>
                <a:ext cx="1260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utsid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1043"/>
              <p:cNvSpPr txBox="1"/>
              <p:nvPr/>
            </p:nvSpPr>
            <p:spPr>
              <a:xfrm>
                <a:off x="671400" y="4648320"/>
                <a:ext cx="2653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1051"/>
              <p:cNvSpPr txBox="1"/>
              <p:nvPr/>
            </p:nvSpPr>
            <p:spPr>
              <a:xfrm>
                <a:off x="2438280" y="4572000"/>
                <a:ext cx="201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9" name="Object 38"/>
          <p:cNvGraphicFramePr/>
          <p:nvPr/>
        </p:nvGraphicFramePr>
        <p:xfrm>
          <a:off x="776160" y="1125360"/>
          <a:ext cx="393696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0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6160" y="1125360"/>
                    <a:ext cx="39369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39"/>
          <p:cNvGraphicFramePr/>
          <p:nvPr/>
        </p:nvGraphicFramePr>
        <p:xfrm>
          <a:off x="4978440" y="692280"/>
          <a:ext cx="63504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2" name="Object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78440" y="692280"/>
                    <a:ext cx="635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40"/>
          <p:cNvGraphicFramePr/>
          <p:nvPr/>
        </p:nvGraphicFramePr>
        <p:xfrm>
          <a:off x="5024520" y="1628640"/>
          <a:ext cx="60948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24520" y="1628640"/>
                    <a:ext cx="609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Line 18"/>
          <p:cNvSpPr/>
          <p:nvPr/>
        </p:nvSpPr>
        <p:spPr>
          <a:xfrm>
            <a:off x="5097600" y="170028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5024520" y="76500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8"/>
          <p:cNvSpPr/>
          <p:nvPr/>
        </p:nvSpPr>
        <p:spPr>
          <a:xfrm>
            <a:off x="3440160" y="1773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Object 41"/>
          <p:cNvGraphicFramePr/>
          <p:nvPr/>
        </p:nvGraphicFramePr>
        <p:xfrm>
          <a:off x="6572160" y="907920"/>
          <a:ext cx="1117800" cy="36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9" name="Object 4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72160" y="907920"/>
                    <a:ext cx="11178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42"/>
          <p:cNvGraphicFramePr/>
          <p:nvPr/>
        </p:nvGraphicFramePr>
        <p:xfrm>
          <a:off x="6608880" y="1908000"/>
          <a:ext cx="1117440" cy="368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1" name="Object 4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08880" y="1908000"/>
                    <a:ext cx="111744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43"/>
          <p:cNvGraphicFramePr/>
          <p:nvPr/>
        </p:nvGraphicFramePr>
        <p:xfrm>
          <a:off x="849240" y="2349360"/>
          <a:ext cx="990720" cy="368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3" name="Object 4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9240" y="2349360"/>
                    <a:ext cx="990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Object 44"/>
          <p:cNvGraphicFramePr/>
          <p:nvPr/>
        </p:nvGraphicFramePr>
        <p:xfrm>
          <a:off x="1928880" y="2343240"/>
          <a:ext cx="1866960" cy="457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5" name="Object 4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28880" y="2343240"/>
                    <a:ext cx="1866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Object 45"/>
          <p:cNvGraphicFramePr/>
          <p:nvPr/>
        </p:nvGraphicFramePr>
        <p:xfrm>
          <a:off x="4191120" y="2565360"/>
          <a:ext cx="1841400" cy="787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87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91120" y="2565360"/>
                    <a:ext cx="1841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Object 46"/>
          <p:cNvGraphicFramePr/>
          <p:nvPr/>
        </p:nvGraphicFramePr>
        <p:xfrm>
          <a:off x="4183200" y="3500280"/>
          <a:ext cx="1993680" cy="939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89" name="Object 4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83200" y="3500280"/>
                    <a:ext cx="1993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47"/>
          <p:cNvGraphicFramePr/>
          <p:nvPr/>
        </p:nvGraphicFramePr>
        <p:xfrm>
          <a:off x="6608880" y="2781360"/>
          <a:ext cx="1117440" cy="368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91" name="Object 4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08880" y="278136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48"/>
          <p:cNvGraphicFramePr/>
          <p:nvPr/>
        </p:nvGraphicFramePr>
        <p:xfrm>
          <a:off x="6608880" y="3852720"/>
          <a:ext cx="1117440" cy="368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93" name="Object 4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608880" y="3852720"/>
                    <a:ext cx="1117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49"/>
          <p:cNvGraphicFramePr/>
          <p:nvPr/>
        </p:nvGraphicFramePr>
        <p:xfrm>
          <a:off x="3440160" y="4157640"/>
          <a:ext cx="203040" cy="279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95" name="Object 4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40160" y="4157640"/>
                    <a:ext cx="203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50"/>
          <p:cNvGraphicFramePr/>
          <p:nvPr/>
        </p:nvGraphicFramePr>
        <p:xfrm>
          <a:off x="4089240" y="4475160"/>
          <a:ext cx="1041480" cy="393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97" name="Object 50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089240" y="4475160"/>
                    <a:ext cx="104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51"/>
          <p:cNvGraphicFramePr/>
          <p:nvPr/>
        </p:nvGraphicFramePr>
        <p:xfrm>
          <a:off x="6032520" y="4403880"/>
          <a:ext cx="851040" cy="368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99" name="Object 51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032520" y="4403880"/>
                    <a:ext cx="851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52"/>
          <p:cNvGraphicFramePr/>
          <p:nvPr/>
        </p:nvGraphicFramePr>
        <p:xfrm>
          <a:off x="7329600" y="4479840"/>
          <a:ext cx="914400" cy="355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01" name="Object 52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329600" y="4479840"/>
                    <a:ext cx="91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53"/>
          <p:cNvGraphicFramePr/>
          <p:nvPr/>
        </p:nvGraphicFramePr>
        <p:xfrm>
          <a:off x="4016520" y="4943520"/>
          <a:ext cx="5549760" cy="1866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803" name="Object 5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016520" y="4943520"/>
                    <a:ext cx="55497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38"/>
          <p:cNvGraphicFramePr/>
          <p:nvPr/>
        </p:nvGraphicFramePr>
        <p:xfrm>
          <a:off x="2629080" y="3213000"/>
          <a:ext cx="1244520" cy="419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805" name="Object 3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629080" y="3213000"/>
                    <a:ext cx="1244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Object 9"/>
          <p:cNvGraphicFramePr/>
          <p:nvPr/>
        </p:nvGraphicFramePr>
        <p:xfrm>
          <a:off x="855720" y="1628640"/>
          <a:ext cx="59688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628640"/>
                    <a:ext cx="596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Text Box 2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Object 1028"/>
          <p:cNvGraphicFramePr/>
          <p:nvPr/>
        </p:nvGraphicFramePr>
        <p:xfrm>
          <a:off x="849240" y="3662280"/>
          <a:ext cx="254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240" y="3662280"/>
                    <a:ext cx="254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Box 7"/>
          <p:cNvSpPr/>
          <p:nvPr/>
        </p:nvSpPr>
        <p:spPr>
          <a:xfrm>
            <a:off x="278640" y="806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Object 10"/>
          <p:cNvGraphicFramePr/>
          <p:nvPr/>
        </p:nvGraphicFramePr>
        <p:xfrm>
          <a:off x="8172360" y="1844640"/>
          <a:ext cx="12445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1844640"/>
                    <a:ext cx="1244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12"/>
          <p:cNvGraphicFramePr/>
          <p:nvPr/>
        </p:nvGraphicFramePr>
        <p:xfrm>
          <a:off x="1193760" y="2709720"/>
          <a:ext cx="712476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3760" y="2709720"/>
                    <a:ext cx="7124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Box 16"/>
          <p:cNvSpPr/>
          <p:nvPr/>
        </p:nvSpPr>
        <p:spPr>
          <a:xfrm>
            <a:off x="1243800" y="36162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niform inside the spherical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Object 10"/>
          <p:cNvGraphicFramePr/>
          <p:nvPr/>
        </p:nvGraphicFramePr>
        <p:xfrm>
          <a:off x="1193760" y="907920"/>
          <a:ext cx="72396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3760" y="907920"/>
                    <a:ext cx="7239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35316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1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1025"/>
              <p:cNvSpPr txBox="1"/>
              <p:nvPr/>
            </p:nvSpPr>
            <p:spPr>
              <a:xfrm>
                <a:off x="1325520" y="1913040"/>
                <a:ext cx="4178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ℓ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Φ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1033"/>
              <p:cNvSpPr txBox="1"/>
              <p:nvPr/>
            </p:nvSpPr>
            <p:spPr>
              <a:xfrm>
                <a:off x="6099120" y="4737240"/>
                <a:ext cx="190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2" name="Text Box 16"/>
          <p:cNvSpPr/>
          <p:nvPr/>
        </p:nvSpPr>
        <p:spPr>
          <a:xfrm>
            <a:off x="1571760" y="4237560"/>
            <a:ext cx="546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1039"/>
              <p:cNvSpPr txBox="1"/>
              <p:nvPr/>
            </p:nvSpPr>
            <p:spPr>
              <a:xfrm>
                <a:off x="4289400" y="6489720"/>
                <a:ext cx="190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24" name="Object 1041"/>
          <p:cNvGraphicFramePr/>
          <p:nvPr/>
        </p:nvGraphicFramePr>
        <p:xfrm>
          <a:off x="1255680" y="4869000"/>
          <a:ext cx="2898720" cy="18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10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4869000"/>
                    <a:ext cx="289872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6" name="Picture 26" descr="D:\ACDSee32\EM\CH5\5.15.TIF"/>
          <p:cNvPicPr/>
          <p:nvPr/>
        </p:nvPicPr>
        <p:blipFill>
          <a:blip r:embed="rId3"/>
          <a:stretch/>
        </p:blipFill>
        <p:spPr>
          <a:xfrm>
            <a:off x="6753240" y="620640"/>
            <a:ext cx="2225520" cy="236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7" name="Object 1045"/>
              <p:cNvSpPr txBox="1"/>
              <p:nvPr/>
            </p:nvSpPr>
            <p:spPr>
              <a:xfrm>
                <a:off x="6226200" y="1219320"/>
                <a:ext cx="671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8" name="Object 30"/>
          <p:cNvGraphicFramePr/>
          <p:nvPr/>
        </p:nvGraphicFramePr>
        <p:xfrm>
          <a:off x="244440" y="647640"/>
          <a:ext cx="15750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9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440" y="647640"/>
                    <a:ext cx="1575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Object 31"/>
          <p:cNvGraphicFramePr/>
          <p:nvPr/>
        </p:nvGraphicFramePr>
        <p:xfrm>
          <a:off x="3800520" y="744480"/>
          <a:ext cx="311148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1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0520" y="744480"/>
                    <a:ext cx="311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Object 32"/>
          <p:cNvGraphicFramePr/>
          <p:nvPr/>
        </p:nvGraphicFramePr>
        <p:xfrm>
          <a:off x="781200" y="1341360"/>
          <a:ext cx="5713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3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1200" y="1341360"/>
                    <a:ext cx="571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33"/>
          <p:cNvGraphicFramePr/>
          <p:nvPr/>
        </p:nvGraphicFramePr>
        <p:xfrm>
          <a:off x="1292400" y="2509920"/>
          <a:ext cx="4381200" cy="97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5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2400" y="2509920"/>
                    <a:ext cx="43812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36"/>
          <p:cNvGraphicFramePr/>
          <p:nvPr/>
        </p:nvGraphicFramePr>
        <p:xfrm>
          <a:off x="1368360" y="3497400"/>
          <a:ext cx="5600880" cy="1155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3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68360" y="3497400"/>
                    <a:ext cx="56008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39"/>
          <p:cNvGraphicFramePr/>
          <p:nvPr/>
        </p:nvGraphicFramePr>
        <p:xfrm>
          <a:off x="1424160" y="4573440"/>
          <a:ext cx="850680" cy="368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39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24160" y="4573440"/>
                    <a:ext cx="850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0"/>
          <p:cNvGraphicFramePr/>
          <p:nvPr/>
        </p:nvGraphicFramePr>
        <p:xfrm>
          <a:off x="992160" y="4508640"/>
          <a:ext cx="46980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41" name="Object 4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2160" y="4508640"/>
                    <a:ext cx="469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41"/>
          <p:cNvGraphicFramePr/>
          <p:nvPr/>
        </p:nvGraphicFramePr>
        <p:xfrm>
          <a:off x="3944880" y="5013360"/>
          <a:ext cx="723960" cy="279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43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44880" y="5013360"/>
                    <a:ext cx="7239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43"/>
          <p:cNvGraphicFramePr/>
          <p:nvPr/>
        </p:nvGraphicFramePr>
        <p:xfrm>
          <a:off x="3944880" y="6173640"/>
          <a:ext cx="736560" cy="279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45" name="Object 4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4880" y="6173640"/>
                    <a:ext cx="73656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D:\ACDSee32\EM\CH5\5.22.TIF"/>
          <p:cNvPicPr/>
          <p:nvPr/>
        </p:nvPicPr>
        <p:blipFill>
          <a:blip r:embed="rId1"/>
          <a:stretch/>
        </p:blipFill>
        <p:spPr>
          <a:xfrm>
            <a:off x="2438280" y="2971800"/>
            <a:ext cx="5281560" cy="37386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403560" y="0"/>
            <a:ext cx="927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Summary and Magnetost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620120" y="2133720"/>
            <a:ext cx="1295280" cy="914400"/>
            <a:chOff x="7620120" y="2133720"/>
            <a:chExt cx="1295280" cy="914400"/>
          </a:xfrm>
        </p:grpSpPr>
        <p:sp>
          <p:nvSpPr>
            <p:cNvPr id="849" name="Oval 9"/>
            <p:cNvSpPr/>
            <p:nvPr/>
          </p:nvSpPr>
          <p:spPr>
            <a:xfrm>
              <a:off x="8077320" y="21337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853452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1"/>
            <p:cNvSpPr/>
            <p:nvPr/>
          </p:nvSpPr>
          <p:spPr>
            <a:xfrm>
              <a:off x="762012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1031"/>
                <p:cNvSpPr txBox="1"/>
                <p:nvPr/>
              </p:nvSpPr>
              <p:spPr>
                <a:xfrm>
                  <a:off x="8153280" y="2133720"/>
                  <a:ext cx="239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1032"/>
                <p:cNvSpPr txBox="1"/>
                <p:nvPr/>
              </p:nvSpPr>
              <p:spPr>
                <a:xfrm>
                  <a:off x="7696080" y="2743200"/>
                  <a:ext cx="239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4" name="Object 1033"/>
                <p:cNvSpPr txBox="1"/>
                <p:nvPr/>
              </p:nvSpPr>
              <p:spPr>
                <a:xfrm>
                  <a:off x="8610480" y="2743200"/>
                  <a:ext cx="25236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5" name="Object 1028"/>
              <p:cNvSpPr txBox="1"/>
              <p:nvPr/>
            </p:nvSpPr>
            <p:spPr>
              <a:xfrm>
                <a:off x="4883040" y="3236760"/>
                <a:ext cx="139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/>
                      <m:lim/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856" name="Picture 17" descr="D:\ACDSee32\EM\CH1\add3.BMP"/>
          <p:cNvPicPr/>
          <p:nvPr/>
        </p:nvPicPr>
        <p:blipFill>
          <a:blip r:embed="rId2"/>
          <a:stretch/>
        </p:blipFill>
        <p:spPr>
          <a:xfrm>
            <a:off x="7062840" y="1628640"/>
            <a:ext cx="338040" cy="2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7" name="Object 1029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Object 1030"/>
              <p:cNvSpPr txBox="1"/>
              <p:nvPr/>
            </p:nvSpPr>
            <p:spPr>
              <a:xfrm>
                <a:off x="4038480" y="5950080"/>
                <a:ext cx="1650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×</m:t>
                            </m:r>
                            <m:r>
                              <m:t xml:space="preserve">Ρ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Object 21"/>
          <p:cNvGraphicFramePr/>
          <p:nvPr/>
        </p:nvGraphicFramePr>
        <p:xfrm>
          <a:off x="1577880" y="1989000"/>
          <a:ext cx="11430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1989000"/>
                    <a:ext cx="1143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22"/>
          <p:cNvGraphicFramePr/>
          <p:nvPr/>
        </p:nvGraphicFramePr>
        <p:xfrm>
          <a:off x="3008160" y="1989000"/>
          <a:ext cx="13082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8160" y="1989000"/>
                    <a:ext cx="1308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20"/>
          <p:cNvGraphicFramePr/>
          <p:nvPr/>
        </p:nvGraphicFramePr>
        <p:xfrm>
          <a:off x="463680" y="981000"/>
          <a:ext cx="7441920" cy="97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981000"/>
                    <a:ext cx="74419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5" name="Picture 17" descr="D:\ACDSee32\EM\CH1\add3.BMP"/>
          <p:cNvPicPr/>
          <p:nvPr/>
        </p:nvPicPr>
        <p:blipFill>
          <a:blip r:embed="rId9"/>
          <a:stretch/>
        </p:blipFill>
        <p:spPr>
          <a:xfrm>
            <a:off x="3081240" y="3141720"/>
            <a:ext cx="338400" cy="2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Object 23"/>
          <p:cNvGraphicFramePr/>
          <p:nvPr/>
        </p:nvGraphicFramePr>
        <p:xfrm>
          <a:off x="909720" y="2522520"/>
          <a:ext cx="3035160" cy="97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7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9720" y="2522520"/>
                    <a:ext cx="30351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Object 29"/>
          <p:cNvGraphicFramePr/>
          <p:nvPr/>
        </p:nvGraphicFramePr>
        <p:xfrm>
          <a:off x="6572160" y="5987880"/>
          <a:ext cx="2629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5987880"/>
                    <a:ext cx="2629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0"/>
          <p:cNvGraphicFramePr/>
          <p:nvPr/>
        </p:nvGraphicFramePr>
        <p:xfrm>
          <a:off x="6558120" y="5589720"/>
          <a:ext cx="161280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8120" y="5589720"/>
                    <a:ext cx="1612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29"/>
          <p:cNvGraphicFramePr/>
          <p:nvPr/>
        </p:nvGraphicFramePr>
        <p:xfrm>
          <a:off x="4610160" y="3429000"/>
          <a:ext cx="400032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3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0160" y="3429000"/>
                    <a:ext cx="4000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Picture 2" descr="D:\ACDSee32\EM\CH5\5.24.TIF"/>
          <p:cNvPicPr/>
          <p:nvPr/>
        </p:nvPicPr>
        <p:blipFill>
          <a:blip r:embed="rId7"/>
          <a:stretch/>
        </p:blipFill>
        <p:spPr>
          <a:xfrm>
            <a:off x="4724280" y="1413000"/>
            <a:ext cx="4243680" cy="20239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D:\ACDSee32\EM\CH5\5.23.TIF"/>
          <p:cNvPicPr/>
          <p:nvPr/>
        </p:nvPicPr>
        <p:blipFill>
          <a:blip r:embed="rId8"/>
          <a:stretch/>
        </p:blipFill>
        <p:spPr>
          <a:xfrm>
            <a:off x="533520" y="907920"/>
            <a:ext cx="4038480" cy="239580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4"/>
          <p:cNvSpPr/>
          <p:nvPr/>
        </p:nvSpPr>
        <p:spPr>
          <a:xfrm>
            <a:off x="353160" y="14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1"/>
          <p:cNvSpPr/>
          <p:nvPr/>
        </p:nvSpPr>
        <p:spPr>
          <a:xfrm>
            <a:off x="1784520" y="537372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2"/>
          <p:cNvSpPr/>
          <p:nvPr/>
        </p:nvSpPr>
        <p:spPr>
          <a:xfrm flipH="1">
            <a:off x="4737240" y="5423040"/>
            <a:ext cx="79344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4"/>
          <p:cNvSpPr/>
          <p:nvPr/>
        </p:nvSpPr>
        <p:spPr>
          <a:xfrm>
            <a:off x="1857240" y="5848200"/>
            <a:ext cx="3672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5"/>
          <p:cNvSpPr/>
          <p:nvPr/>
        </p:nvSpPr>
        <p:spPr>
          <a:xfrm>
            <a:off x="495360" y="4797360"/>
            <a:ext cx="2512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Object 1031"/>
          <p:cNvGraphicFramePr/>
          <p:nvPr/>
        </p:nvGraphicFramePr>
        <p:xfrm>
          <a:off x="5473800" y="4840200"/>
          <a:ext cx="381456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2" name="Object 10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3800" y="4840200"/>
                    <a:ext cx="3814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18"/>
          <p:cNvSpPr/>
          <p:nvPr/>
        </p:nvSpPr>
        <p:spPr>
          <a:xfrm>
            <a:off x="5384880" y="4797360"/>
            <a:ext cx="396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Object 26"/>
          <p:cNvGraphicFramePr/>
          <p:nvPr/>
        </p:nvGraphicFramePr>
        <p:xfrm>
          <a:off x="4102200" y="2031840"/>
          <a:ext cx="91440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5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02200" y="2031840"/>
                    <a:ext cx="9144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27"/>
          <p:cNvGraphicFramePr/>
          <p:nvPr/>
        </p:nvGraphicFramePr>
        <p:xfrm>
          <a:off x="723960" y="909720"/>
          <a:ext cx="139680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7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960" y="909720"/>
                    <a:ext cx="1396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28"/>
          <p:cNvGraphicFramePr/>
          <p:nvPr/>
        </p:nvGraphicFramePr>
        <p:xfrm>
          <a:off x="692280" y="3530520"/>
          <a:ext cx="1523880" cy="546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9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280" y="3530520"/>
                    <a:ext cx="1523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27"/>
          <p:cNvGraphicFramePr/>
          <p:nvPr/>
        </p:nvGraphicFramePr>
        <p:xfrm>
          <a:off x="592200" y="4784760"/>
          <a:ext cx="234936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1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200" y="4784760"/>
                    <a:ext cx="2349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28"/>
          <p:cNvGraphicFramePr/>
          <p:nvPr/>
        </p:nvGraphicFramePr>
        <p:xfrm>
          <a:off x="1908000" y="5975280"/>
          <a:ext cx="3530880" cy="39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3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08000" y="5975280"/>
                    <a:ext cx="3530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6" descr="D:\ACDSee32\EM\CH5\5.3.2.TIF"/>
          <p:cNvPicPr/>
          <p:nvPr/>
        </p:nvPicPr>
        <p:blipFill>
          <a:blip r:embed="rId1"/>
          <a:stretch/>
        </p:blipFill>
        <p:spPr>
          <a:xfrm>
            <a:off x="7467480" y="2205000"/>
            <a:ext cx="1676520" cy="150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D:\ACDSee32\EM\CH5\5.3.1.TIF"/>
          <p:cNvPicPr/>
          <p:nvPr/>
        </p:nvPicPr>
        <p:blipFill>
          <a:blip r:embed="rId2"/>
          <a:stretch/>
        </p:blipFill>
        <p:spPr>
          <a:xfrm>
            <a:off x="685800" y="26668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83760" y="20574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1 Cyclotro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42040" y="47242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cyclotron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410080" y="4572000"/>
            <a:ext cx="141444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6123600" y="6132600"/>
            <a:ext cx="1433520" cy="651600"/>
            <a:chOff x="6123600" y="6132600"/>
            <a:chExt cx="1433520" cy="651600"/>
          </a:xfrm>
        </p:grpSpPr>
        <p:sp>
          <p:nvSpPr>
            <p:cNvPr id="89" name="Text Box 14"/>
            <p:cNvSpPr/>
            <p:nvPr/>
          </p:nvSpPr>
          <p:spPr>
            <a:xfrm>
              <a:off x="6123600" y="63244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 wa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 flipV="1">
              <a:off x="6634080" y="61326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841680" y="567540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electron cyclotron m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258880" y="53341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3465000" y="6132600"/>
            <a:ext cx="2077920" cy="727920"/>
            <a:chOff x="3465000" y="6132600"/>
            <a:chExt cx="2077920" cy="727920"/>
          </a:xfrm>
        </p:grpSpPr>
        <p:sp>
          <p:nvSpPr>
            <p:cNvPr id="94" name="AutoShape 20"/>
            <p:cNvSpPr/>
            <p:nvPr/>
          </p:nvSpPr>
          <p:spPr>
            <a:xfrm>
              <a:off x="5213160" y="6132600"/>
              <a:ext cx="82440" cy="228600"/>
            </a:xfrm>
            <a:prstGeom prst="upDownArrow">
              <a:avLst>
                <a:gd name="adj1" fmla="val 50000"/>
                <a:gd name="adj2" fmla="val 5520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1"/>
            <p:cNvSpPr/>
            <p:nvPr/>
          </p:nvSpPr>
          <p:spPr>
            <a:xfrm>
              <a:off x="3465000" y="64008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gh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2"/>
            <p:cNvSpPr/>
            <p:nvPr/>
          </p:nvSpPr>
          <p:spPr>
            <a:xfrm>
              <a:off x="4305240" y="6666120"/>
              <a:ext cx="32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3"/>
            <p:cNvSpPr/>
            <p:nvPr/>
          </p:nvSpPr>
          <p:spPr>
            <a:xfrm>
              <a:off x="4702320" y="6400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5"/>
          <p:cNvSpPr/>
          <p:nvPr/>
        </p:nvSpPr>
        <p:spPr>
          <a:xfrm>
            <a:off x="291960" y="3816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Magnetic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660120" y="13716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ntz Forc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20640" y="1219320"/>
            <a:ext cx="2603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581280" y="3573360"/>
            <a:ext cx="2997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tron frequenc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3886200" y="2819520"/>
            <a:ext cx="0" cy="152280"/>
          </a:xfrm>
          <a:prstGeom prst="line">
            <a:avLst/>
          </a:prstGeom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9"/>
          <p:cNvSpPr/>
          <p:nvPr/>
        </p:nvSpPr>
        <p:spPr>
          <a:xfrm>
            <a:off x="5486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6"/>
          <p:cNvGraphicFramePr/>
          <p:nvPr/>
        </p:nvGraphicFramePr>
        <p:xfrm>
          <a:off x="681120" y="701640"/>
          <a:ext cx="2184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120" y="701640"/>
                    <a:ext cx="2184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7"/>
          <p:cNvGraphicFramePr/>
          <p:nvPr/>
        </p:nvGraphicFramePr>
        <p:xfrm>
          <a:off x="689040" y="1341360"/>
          <a:ext cx="24638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9040" y="1341360"/>
                    <a:ext cx="2463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8"/>
          <p:cNvGraphicFramePr/>
          <p:nvPr/>
        </p:nvGraphicFramePr>
        <p:xfrm>
          <a:off x="3746520" y="2357280"/>
          <a:ext cx="16383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46520" y="2357280"/>
                    <a:ext cx="1638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9"/>
          <p:cNvGraphicFramePr/>
          <p:nvPr/>
        </p:nvGraphicFramePr>
        <p:xfrm>
          <a:off x="3728880" y="2924280"/>
          <a:ext cx="339120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8880" y="2924280"/>
                    <a:ext cx="33912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0"/>
          <p:cNvGraphicFramePr/>
          <p:nvPr/>
        </p:nvGraphicFramePr>
        <p:xfrm>
          <a:off x="4808520" y="3645000"/>
          <a:ext cx="193032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8520" y="3645000"/>
                    <a:ext cx="1930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1"/>
          <p:cNvGraphicFramePr/>
          <p:nvPr/>
        </p:nvGraphicFramePr>
        <p:xfrm>
          <a:off x="6343560" y="3933720"/>
          <a:ext cx="1130400" cy="59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Object 4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43560" y="3933720"/>
                    <a:ext cx="1130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2"/>
          <p:cNvGraphicFramePr/>
          <p:nvPr/>
        </p:nvGraphicFramePr>
        <p:xfrm>
          <a:off x="6427800" y="5572080"/>
          <a:ext cx="207000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Object 4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7800" y="5572080"/>
                    <a:ext cx="2070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43"/>
          <p:cNvGraphicFramePr/>
          <p:nvPr/>
        </p:nvGraphicFramePr>
        <p:xfrm>
          <a:off x="7832880" y="6381720"/>
          <a:ext cx="8888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9" name="Object 4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32880" y="6381720"/>
                    <a:ext cx="888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44"/>
          <p:cNvGraphicFramePr/>
          <p:nvPr/>
        </p:nvGraphicFramePr>
        <p:xfrm>
          <a:off x="5508720" y="4581360"/>
          <a:ext cx="1244520" cy="800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" name="Object 4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4581360"/>
                    <a:ext cx="12445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2"/>
          <p:cNvSpPr/>
          <p:nvPr/>
        </p:nvSpPr>
        <p:spPr>
          <a:xfrm>
            <a:off x="299880" y="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2505240" y="1519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Object 1028" descr=""/>
          <p:cNvPicPr/>
          <p:nvPr/>
        </p:nvPicPr>
        <p:blipFill>
          <a:blip r:embed="rId1"/>
          <a:stretch/>
        </p:blipFill>
        <p:spPr>
          <a:xfrm>
            <a:off x="7216920" y="4672080"/>
            <a:ext cx="176040" cy="3682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631800" y="4876920"/>
            <a:ext cx="3657600" cy="114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Object 1032" descr=""/>
          <p:cNvPicPr/>
          <p:nvPr/>
        </p:nvPicPr>
        <p:blipFill>
          <a:blip r:embed="rId2"/>
          <a:stretch/>
        </p:blipFill>
        <p:spPr>
          <a:xfrm>
            <a:off x="7684920" y="5638680"/>
            <a:ext cx="176400" cy="368280"/>
          </a:xfrm>
          <a:prstGeom prst="rect">
            <a:avLst/>
          </a:prstGeom>
          <a:ln w="0">
            <a:noFill/>
          </a:ln>
        </p:spPr>
      </p:pic>
      <p:sp>
        <p:nvSpPr>
          <p:cNvPr id="899" name="Line 15"/>
          <p:cNvSpPr/>
          <p:nvPr/>
        </p:nvSpPr>
        <p:spPr>
          <a:xfrm>
            <a:off x="5603760" y="4876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"/>
          <p:cNvSpPr/>
          <p:nvPr/>
        </p:nvSpPr>
        <p:spPr>
          <a:xfrm>
            <a:off x="5600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Object 17"/>
          <p:cNvGraphicFramePr/>
          <p:nvPr/>
        </p:nvGraphicFramePr>
        <p:xfrm>
          <a:off x="387360" y="765000"/>
          <a:ext cx="13971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" y="765000"/>
                    <a:ext cx="1397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8"/>
          <p:cNvGraphicFramePr/>
          <p:nvPr/>
        </p:nvGraphicFramePr>
        <p:xfrm>
          <a:off x="560520" y="1609560"/>
          <a:ext cx="39495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520" y="1609560"/>
                    <a:ext cx="3949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Object 19"/>
          <p:cNvGraphicFramePr/>
          <p:nvPr/>
        </p:nvGraphicFramePr>
        <p:xfrm>
          <a:off x="5770440" y="1628640"/>
          <a:ext cx="124488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0440" y="1628640"/>
                    <a:ext cx="1244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20"/>
          <p:cNvGraphicFramePr/>
          <p:nvPr/>
        </p:nvGraphicFramePr>
        <p:xfrm>
          <a:off x="560520" y="2565360"/>
          <a:ext cx="13078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520" y="2565360"/>
                    <a:ext cx="1307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9" name="Object 18"/>
          <p:cNvGraphicFramePr/>
          <p:nvPr/>
        </p:nvGraphicFramePr>
        <p:xfrm>
          <a:off x="566640" y="3187800"/>
          <a:ext cx="5016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0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640" y="3187800"/>
                    <a:ext cx="5016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1" name="Object 19"/>
          <p:cNvGraphicFramePr/>
          <p:nvPr/>
        </p:nvGraphicFramePr>
        <p:xfrm>
          <a:off x="601560" y="3794040"/>
          <a:ext cx="571500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2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560" y="3794040"/>
                    <a:ext cx="5715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20"/>
          <p:cNvGraphicFramePr/>
          <p:nvPr/>
        </p:nvGraphicFramePr>
        <p:xfrm>
          <a:off x="5830920" y="4941720"/>
          <a:ext cx="2362320" cy="87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4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30920" y="4941720"/>
                    <a:ext cx="236232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Object 22"/>
          <p:cNvGraphicFramePr/>
          <p:nvPr/>
        </p:nvGraphicFramePr>
        <p:xfrm>
          <a:off x="792000" y="5013360"/>
          <a:ext cx="3365640" cy="85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6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2000" y="5013360"/>
                    <a:ext cx="3365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D:\ACDSee32\EM\CH5\5.25.TIF"/>
          <p:cNvPicPr/>
          <p:nvPr/>
        </p:nvPicPr>
        <p:blipFill>
          <a:blip r:embed="rId1"/>
          <a:stretch/>
        </p:blipFill>
        <p:spPr>
          <a:xfrm>
            <a:off x="533520" y="749160"/>
            <a:ext cx="3429000" cy="267984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3"/>
          <p:cNvSpPr/>
          <p:nvPr/>
        </p:nvSpPr>
        <p:spPr>
          <a:xfrm>
            <a:off x="300960" y="14400"/>
            <a:ext cx="9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 Multipole Expansion of the Vector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6744960" y="2205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8"/>
          <p:cNvSpPr/>
          <p:nvPr/>
        </p:nvSpPr>
        <p:spPr>
          <a:xfrm>
            <a:off x="6537240" y="2492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5379840" y="5728320"/>
            <a:ext cx="546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Object 15"/>
          <p:cNvGraphicFramePr/>
          <p:nvPr/>
        </p:nvGraphicFramePr>
        <p:xfrm>
          <a:off x="4916520" y="1666800"/>
          <a:ext cx="198108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6520" y="1666800"/>
                    <a:ext cx="1981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16"/>
          <p:cNvGraphicFramePr/>
          <p:nvPr/>
        </p:nvGraphicFramePr>
        <p:xfrm>
          <a:off x="6969240" y="1700280"/>
          <a:ext cx="175248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240" y="1700280"/>
                    <a:ext cx="1752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17"/>
          <p:cNvGraphicFramePr/>
          <p:nvPr/>
        </p:nvGraphicFramePr>
        <p:xfrm>
          <a:off x="171360" y="3666960"/>
          <a:ext cx="967752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1360" y="3666960"/>
                    <a:ext cx="9677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Object 19"/>
          <p:cNvGraphicFramePr/>
          <p:nvPr/>
        </p:nvGraphicFramePr>
        <p:xfrm>
          <a:off x="3728880" y="3659040"/>
          <a:ext cx="914400" cy="292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9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28880" y="3659040"/>
                    <a:ext cx="9144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Object 20"/>
          <p:cNvGraphicFramePr/>
          <p:nvPr/>
        </p:nvGraphicFramePr>
        <p:xfrm>
          <a:off x="200160" y="4941720"/>
          <a:ext cx="8826480" cy="82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31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0160" y="4941720"/>
                    <a:ext cx="882648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Text Box 7"/>
          <p:cNvSpPr/>
          <p:nvPr/>
        </p:nvSpPr>
        <p:spPr>
          <a:xfrm>
            <a:off x="4937040" y="61088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6617880" y="6118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341280" y="1440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Object 1031" descr=""/>
          <p:cNvPicPr/>
          <p:nvPr/>
        </p:nvPicPr>
        <p:blipFill>
          <a:blip r:embed="rId1"/>
          <a:stretch/>
        </p:blipFill>
        <p:spPr>
          <a:xfrm>
            <a:off x="6465960" y="5157720"/>
            <a:ext cx="3047760" cy="34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6" name="Object 17"/>
          <p:cNvGraphicFramePr/>
          <p:nvPr/>
        </p:nvGraphicFramePr>
        <p:xfrm>
          <a:off x="441360" y="836640"/>
          <a:ext cx="603252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360" y="836640"/>
                    <a:ext cx="6032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8"/>
          <p:cNvGraphicFramePr/>
          <p:nvPr/>
        </p:nvGraphicFramePr>
        <p:xfrm>
          <a:off x="1336680" y="1936800"/>
          <a:ext cx="528336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9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6680" y="1936800"/>
                    <a:ext cx="5283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9"/>
          <p:cNvGraphicFramePr/>
          <p:nvPr/>
        </p:nvGraphicFramePr>
        <p:xfrm>
          <a:off x="7400880" y="981000"/>
          <a:ext cx="1308240" cy="4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1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00880" y="981000"/>
                    <a:ext cx="1308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21"/>
          <p:cNvGraphicFramePr/>
          <p:nvPr/>
        </p:nvGraphicFramePr>
        <p:xfrm>
          <a:off x="3219480" y="2550960"/>
          <a:ext cx="5549760" cy="546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3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19480" y="2550960"/>
                    <a:ext cx="5549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2"/>
          <p:cNvGraphicFramePr/>
          <p:nvPr/>
        </p:nvGraphicFramePr>
        <p:xfrm>
          <a:off x="3243240" y="3170160"/>
          <a:ext cx="207000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5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43240" y="3170160"/>
                    <a:ext cx="2070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23"/>
          <p:cNvGraphicFramePr/>
          <p:nvPr/>
        </p:nvGraphicFramePr>
        <p:xfrm>
          <a:off x="488880" y="3776760"/>
          <a:ext cx="4635720" cy="876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7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8880" y="3776760"/>
                    <a:ext cx="4635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24"/>
          <p:cNvGraphicFramePr/>
          <p:nvPr/>
        </p:nvGraphicFramePr>
        <p:xfrm>
          <a:off x="488880" y="4967280"/>
          <a:ext cx="248940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49" name="Object 2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8880" y="4967280"/>
                    <a:ext cx="2489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0" name="Object 25"/>
          <p:cNvGraphicFramePr/>
          <p:nvPr/>
        </p:nvGraphicFramePr>
        <p:xfrm>
          <a:off x="3860640" y="4944960"/>
          <a:ext cx="2171880" cy="787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1" name="Object 2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60640" y="4944960"/>
                    <a:ext cx="21718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Object 26"/>
          <p:cNvGraphicFramePr/>
          <p:nvPr/>
        </p:nvGraphicFramePr>
        <p:xfrm>
          <a:off x="3873600" y="6089760"/>
          <a:ext cx="901440" cy="291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53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73600" y="6089760"/>
                    <a:ext cx="901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4" name="Object 27"/>
          <p:cNvGraphicFramePr/>
          <p:nvPr/>
        </p:nvGraphicFramePr>
        <p:xfrm>
          <a:off x="5240160" y="5805360"/>
          <a:ext cx="2108520" cy="787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55" name="Object 2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40160" y="5805360"/>
                    <a:ext cx="21085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352440" y="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Object 1024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58" name="Object 1025" descr=""/>
          <p:cNvPicPr/>
          <p:nvPr/>
        </p:nvPicPr>
        <p:blipFill>
          <a:blip r:embed="rId2"/>
          <a:stretch/>
        </p:blipFill>
        <p:spPr>
          <a:xfrm>
            <a:off x="4863960" y="3244680"/>
            <a:ext cx="176400" cy="368640"/>
          </a:xfrm>
          <a:prstGeom prst="rect">
            <a:avLst/>
          </a:prstGeom>
          <a:ln w="0">
            <a:noFill/>
          </a:ln>
        </p:spPr>
      </p:pic>
      <p:sp>
        <p:nvSpPr>
          <p:cNvPr id="959" name="AutoShape 8"/>
          <p:cNvSpPr/>
          <p:nvPr/>
        </p:nvSpPr>
        <p:spPr>
          <a:xfrm>
            <a:off x="4457880" y="2590920"/>
            <a:ext cx="495000" cy="228600"/>
          </a:xfrm>
          <a:prstGeom prst="rightArrow">
            <a:avLst>
              <a:gd name="adj1" fmla="val 50000"/>
              <a:gd name="adj2" fmla="val 54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D:\ACDSee32\EM\CH5\5.26.TIF"/>
          <p:cNvPicPr/>
          <p:nvPr/>
        </p:nvPicPr>
        <p:blipFill>
          <a:blip r:embed="rId3"/>
          <a:stretch/>
        </p:blipFill>
        <p:spPr>
          <a:xfrm>
            <a:off x="533520" y="1066680"/>
            <a:ext cx="2933640" cy="26146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1" descr="D:\ACDSee32\EM\CH5\5.30.TIF"/>
          <p:cNvPicPr/>
          <p:nvPr/>
        </p:nvPicPr>
        <p:blipFill>
          <a:blip r:embed="rId4"/>
          <a:stretch/>
        </p:blipFill>
        <p:spPr>
          <a:xfrm>
            <a:off x="5257800" y="1844640"/>
            <a:ext cx="33908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2" name="Object 13"/>
          <p:cNvGraphicFramePr/>
          <p:nvPr/>
        </p:nvGraphicFramePr>
        <p:xfrm>
          <a:off x="3513240" y="1407960"/>
          <a:ext cx="7365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3240" y="1407960"/>
                    <a:ext cx="7365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14"/>
          <p:cNvGraphicFramePr/>
          <p:nvPr/>
        </p:nvGraphicFramePr>
        <p:xfrm>
          <a:off x="5470560" y="4267080"/>
          <a:ext cx="21463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0560" y="4267080"/>
                    <a:ext cx="2146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15"/>
          <p:cNvGraphicFramePr/>
          <p:nvPr/>
        </p:nvGraphicFramePr>
        <p:xfrm>
          <a:off x="4157640" y="3860640"/>
          <a:ext cx="1155600" cy="30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57640" y="3860640"/>
                    <a:ext cx="1155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TextBox 11"/>
          <p:cNvSpPr/>
          <p:nvPr/>
        </p:nvSpPr>
        <p:spPr>
          <a:xfrm>
            <a:off x="349920" y="692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D:\ACDSee32\EM\CH5\5.28.TIF"/>
          <p:cNvPicPr/>
          <p:nvPr/>
        </p:nvPicPr>
        <p:blipFill>
          <a:blip r:embed="rId1"/>
          <a:stretch/>
        </p:blipFill>
        <p:spPr>
          <a:xfrm>
            <a:off x="1623960" y="4289400"/>
            <a:ext cx="6858000" cy="2235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" descr="D:\ACDSee32\EM\CH5\5.27.TIF"/>
          <p:cNvPicPr/>
          <p:nvPr/>
        </p:nvPicPr>
        <p:blipFill>
          <a:blip r:embed="rId2"/>
          <a:stretch/>
        </p:blipFill>
        <p:spPr>
          <a:xfrm>
            <a:off x="533520" y="584280"/>
            <a:ext cx="3352680" cy="270036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4"/>
          <p:cNvSpPr/>
          <p:nvPr/>
        </p:nvSpPr>
        <p:spPr>
          <a:xfrm>
            <a:off x="341280" y="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.3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9"/>
          <p:cNvSpPr/>
          <p:nvPr/>
        </p:nvSpPr>
        <p:spPr>
          <a:xfrm>
            <a:off x="331200" y="642312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f a “pure” magnetic dip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0"/>
          <p:cNvSpPr/>
          <p:nvPr/>
        </p:nvSpPr>
        <p:spPr>
          <a:xfrm>
            <a:off x="4924080" y="642312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f a “physical” magnetic 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Object 11"/>
          <p:cNvGraphicFramePr/>
          <p:nvPr/>
        </p:nvGraphicFramePr>
        <p:xfrm>
          <a:off x="4727520" y="692280"/>
          <a:ext cx="2882880" cy="17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7520" y="692280"/>
                    <a:ext cx="288288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13"/>
          <p:cNvGraphicFramePr/>
          <p:nvPr/>
        </p:nvGraphicFramePr>
        <p:xfrm>
          <a:off x="784080" y="2852640"/>
          <a:ext cx="704880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" y="2852640"/>
                    <a:ext cx="7048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14"/>
          <p:cNvGraphicFramePr/>
          <p:nvPr/>
        </p:nvGraphicFramePr>
        <p:xfrm>
          <a:off x="1065240" y="3670200"/>
          <a:ext cx="347976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5240" y="3670200"/>
                    <a:ext cx="3479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1040" y="990720"/>
            <a:ext cx="75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960 EM : maser [ 1959 J.Schneider ; A.V. Gapono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51760" y="15238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: space [1958 R.Q. Twiss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36400" y="201780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76) K.R. Chu &amp; J.L. Hirshfield : physics in gyrotron/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9320" y="243828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 C.S. Wu &amp; L.C. Lee : EM in space 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39260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99040" y="289548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6 K.R. Chen &amp; K.R. Chu : ES in gyro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39280" y="365760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ion cyclotron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51880" y="4267080"/>
            <a:ext cx="568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 K.R.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n Lab. plasma [fusion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? Lab. &amp; space plasm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7163640" y="4648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6321600" y="2492280"/>
          <a:ext cx="10666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1600" y="2492280"/>
                    <a:ext cx="1066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5168880" y="3497400"/>
          <a:ext cx="208296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8880" y="3497400"/>
                    <a:ext cx="2082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7"/>
          <p:cNvGraphicFramePr/>
          <p:nvPr/>
        </p:nvGraphicFramePr>
        <p:xfrm>
          <a:off x="5681520" y="4724280"/>
          <a:ext cx="157500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81520" y="4724280"/>
                    <a:ext cx="15750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D:\ACDSee32\EM\CH5\5.4.TIF"/>
          <p:cNvPicPr/>
          <p:nvPr/>
        </p:nvPicPr>
        <p:blipFill>
          <a:blip r:embed="rId1"/>
          <a:stretch/>
        </p:blipFill>
        <p:spPr>
          <a:xfrm>
            <a:off x="5848200" y="573120"/>
            <a:ext cx="3353040" cy="2279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535320" y="762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7724160" y="7700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oi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209680" y="198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209680" y="1684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1447920" y="1684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536040" y="551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28080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371600" y="198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3"/>
          <p:cNvGraphicFramePr/>
          <p:nvPr/>
        </p:nvGraphicFramePr>
        <p:xfrm>
          <a:off x="1352520" y="1268280"/>
          <a:ext cx="26676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2520" y="1268280"/>
                    <a:ext cx="2667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2085840" y="1268280"/>
          <a:ext cx="30492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85840" y="1268280"/>
                    <a:ext cx="304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3513240" y="1557360"/>
          <a:ext cx="15746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13240" y="1557360"/>
                    <a:ext cx="1574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560520" y="2205000"/>
          <a:ext cx="4444920" cy="39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520" y="2205000"/>
                    <a:ext cx="4444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560520" y="2641680"/>
          <a:ext cx="264132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0520" y="2641680"/>
                    <a:ext cx="2641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3670200" y="2637000"/>
          <a:ext cx="2362320" cy="723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70200" y="2637000"/>
                    <a:ext cx="2362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9"/>
          <p:cNvGraphicFramePr/>
          <p:nvPr/>
        </p:nvGraphicFramePr>
        <p:xfrm>
          <a:off x="1819440" y="3429000"/>
          <a:ext cx="2197080" cy="431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0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19440" y="3429000"/>
                    <a:ext cx="2197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0"/>
          <p:cNvGraphicFramePr/>
          <p:nvPr/>
        </p:nvGraphicFramePr>
        <p:xfrm>
          <a:off x="482760" y="4027320"/>
          <a:ext cx="511812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2" name="Object 3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2760" y="4027320"/>
                    <a:ext cx="5118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1"/>
          <p:cNvGraphicFramePr/>
          <p:nvPr/>
        </p:nvGraphicFramePr>
        <p:xfrm>
          <a:off x="1190520" y="4869000"/>
          <a:ext cx="4267440" cy="64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4" name="Object 3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90520" y="4869000"/>
                    <a:ext cx="4267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3"/>
          <p:cNvGraphicFramePr/>
          <p:nvPr/>
        </p:nvGraphicFramePr>
        <p:xfrm>
          <a:off x="2286000" y="5589720"/>
          <a:ext cx="3530520" cy="457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6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86000" y="5589720"/>
                    <a:ext cx="3530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4"/>
          <p:cNvGraphicFramePr/>
          <p:nvPr/>
        </p:nvGraphicFramePr>
        <p:xfrm>
          <a:off x="2303640" y="6140520"/>
          <a:ext cx="3657600" cy="457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8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303640" y="6140520"/>
                    <a:ext cx="365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1512720" y="1557360"/>
            <a:ext cx="1495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9"/>
          <p:cNvGrpSpPr/>
          <p:nvPr/>
        </p:nvGrpSpPr>
        <p:grpSpPr>
          <a:xfrm>
            <a:off x="3316320" y="1916280"/>
            <a:ext cx="5740200" cy="1104840"/>
            <a:chOff x="3316320" y="1916280"/>
            <a:chExt cx="5740200" cy="1104840"/>
          </a:xfrm>
        </p:grpSpPr>
        <p:graphicFrame>
          <p:nvGraphicFramePr>
            <p:cNvPr id="171" name="Object 26"/>
            <p:cNvGraphicFramePr/>
            <p:nvPr/>
          </p:nvGraphicFramePr>
          <p:xfrm>
            <a:off x="3316320" y="1916280"/>
            <a:ext cx="5740200" cy="110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6320" y="1916280"/>
                      <a:ext cx="5740200" cy="11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AutoShape 16"/>
            <p:cNvSpPr/>
            <p:nvPr/>
          </p:nvSpPr>
          <p:spPr>
            <a:xfrm>
              <a:off x="4880160" y="2421000"/>
              <a:ext cx="228600" cy="75960"/>
            </a:xfrm>
            <a:prstGeom prst="rightArrow">
              <a:avLst>
                <a:gd name="adj1" fmla="val 50000"/>
                <a:gd name="adj2" fmla="val 752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20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038480" y="114300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2"/>
              <p:cNvSpPr txBox="1"/>
              <p:nvPr/>
            </p:nvSpPr>
            <p:spPr>
              <a:xfrm>
                <a:off x="4572000" y="114300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5334120" y="1143000"/>
                <a:ext cx="342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24"/>
          <p:cNvSpPr/>
          <p:nvPr/>
        </p:nvSpPr>
        <p:spPr>
          <a:xfrm flipH="1">
            <a:off x="4038120" y="1143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5"/>
          <p:cNvSpPr/>
          <p:nvPr/>
        </p:nvSpPr>
        <p:spPr>
          <a:xfrm>
            <a:off x="4038480" y="1219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5334120" y="12193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H="1">
            <a:off x="5334120" y="1143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3"/>
          <p:cNvGraphicFramePr/>
          <p:nvPr/>
        </p:nvGraphicFramePr>
        <p:xfrm>
          <a:off x="1208160" y="579600"/>
          <a:ext cx="4597200" cy="54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8160" y="579600"/>
                    <a:ext cx="45972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4"/>
          <p:cNvGraphicFramePr/>
          <p:nvPr/>
        </p:nvGraphicFramePr>
        <p:xfrm>
          <a:off x="1208160" y="1730520"/>
          <a:ext cx="160020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8160" y="1730520"/>
                    <a:ext cx="16002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7"/>
          <p:cNvGraphicFramePr/>
          <p:nvPr/>
        </p:nvGraphicFramePr>
        <p:xfrm>
          <a:off x="3341520" y="3284640"/>
          <a:ext cx="571500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1520" y="3284640"/>
                    <a:ext cx="57150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28"/>
          <p:cNvGraphicFramePr/>
          <p:nvPr/>
        </p:nvGraphicFramePr>
        <p:xfrm>
          <a:off x="1100160" y="4361040"/>
          <a:ext cx="3060720" cy="115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0160" y="4361040"/>
                    <a:ext cx="3060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29"/>
          <p:cNvGraphicFramePr/>
          <p:nvPr/>
        </p:nvGraphicFramePr>
        <p:xfrm>
          <a:off x="3440160" y="5416560"/>
          <a:ext cx="336528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40160" y="5416560"/>
                    <a:ext cx="3365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D:\ACDSee32\EM\CH5\5.4.1.TIF"/>
          <p:cNvPicPr/>
          <p:nvPr/>
        </p:nvPicPr>
        <p:blipFill>
          <a:blip r:embed="rId1"/>
          <a:stretch/>
        </p:blipFill>
        <p:spPr>
          <a:xfrm>
            <a:off x="533520" y="4292640"/>
            <a:ext cx="4114800" cy="192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1143000" y="2133720"/>
                <a:ext cx="2142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4"/>
          <p:cNvSpPr/>
          <p:nvPr/>
        </p:nvSpPr>
        <p:spPr>
          <a:xfrm>
            <a:off x="299880" y="-2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1054080" y="719280"/>
          <a:ext cx="32511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4080" y="719280"/>
                    <a:ext cx="32511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3"/>
          <p:cNvGraphicFramePr/>
          <p:nvPr/>
        </p:nvGraphicFramePr>
        <p:xfrm>
          <a:off x="1536840" y="1976400"/>
          <a:ext cx="5397480" cy="130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6840" y="1976400"/>
                    <a:ext cx="53974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4"/>
          <p:cNvGraphicFramePr/>
          <p:nvPr/>
        </p:nvGraphicFramePr>
        <p:xfrm>
          <a:off x="1589040" y="3284640"/>
          <a:ext cx="3721320" cy="57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89040" y="3284640"/>
                    <a:ext cx="3721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5"/>
          <p:cNvGraphicFramePr/>
          <p:nvPr/>
        </p:nvGraphicFramePr>
        <p:xfrm>
          <a:off x="5203800" y="3860640"/>
          <a:ext cx="176544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2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3800" y="3860640"/>
                    <a:ext cx="17654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6"/>
          <p:cNvGraphicFramePr/>
          <p:nvPr/>
        </p:nvGraphicFramePr>
        <p:xfrm>
          <a:off x="5143680" y="4521240"/>
          <a:ext cx="4241520" cy="90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4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3680" y="4521240"/>
                    <a:ext cx="4241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7"/>
          <p:cNvGraphicFramePr/>
          <p:nvPr/>
        </p:nvGraphicFramePr>
        <p:xfrm>
          <a:off x="6464160" y="5732640"/>
          <a:ext cx="3441960" cy="97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64160" y="5732640"/>
                    <a:ext cx="34419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13" descr="D:\ACDSee32\EM\CH5\5.4.2.TIF"/>
          <p:cNvPicPr/>
          <p:nvPr/>
        </p:nvPicPr>
        <p:blipFill>
          <a:blip r:embed="rId14"/>
          <a:stretch/>
        </p:blipFill>
        <p:spPr>
          <a:xfrm>
            <a:off x="3513240" y="5805360"/>
            <a:ext cx="289548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34960" y="73980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orces do no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D:\ACDSee32\EM\CH5\5.4.3.TIF"/>
          <p:cNvPicPr/>
          <p:nvPr/>
        </p:nvPicPr>
        <p:blipFill>
          <a:blip r:embed="rId1"/>
          <a:stretch/>
        </p:blipFill>
        <p:spPr>
          <a:xfrm>
            <a:off x="5715000" y="160020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8080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2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1149480" y="1557360"/>
          <a:ext cx="326376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9480" y="1557360"/>
                    <a:ext cx="326376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3:23:24Z</dcterms:created>
  <dc:creator>石育政</dc:creator>
  <dc:description/>
  <dc:language>en-US</dc:language>
  <cp:lastModifiedBy>Sausan Sawaf</cp:lastModifiedBy>
  <dcterms:modified xsi:type="dcterms:W3CDTF">2015-09-13T04:48:27Z</dcterms:modified>
  <cp:revision>187</cp:revision>
  <dc:subject/>
  <dc:title>無投影片標題</dc:title>
</cp:coreProperties>
</file>