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0110-91A2-4E16-A050-F4E7BEFDBD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icture of graph: preload, afterload and ejected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092-D211-43E2-A4F2-78D122C2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72B0-F38F-431C-A893-488714BD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FE4-2771-4721-90C4-F1784E71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837-8DBF-4BB2-BBE0-DDDA63F2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BB49-9199-4026-8C16-5478D74C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83D-9784-4E4B-9156-1E4C0B73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D0B-4FBF-48FA-B972-6C159F6C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5285-681C-43CD-966B-79BB901B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5DB1-72F5-4936-BC52-F64774EC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621-C0D9-4C68-8428-479E4952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26F-CB4A-4277-B3C6-C309428B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2B3-7196-4771-BEFF-E17AAF14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B6D8-3496-4220-83A4-01C43ED3A8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ntrol of Circulatio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nd Arterial Pres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rijn Ro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1219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del descri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 = HR * SV = HR * K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* P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rgans - Auto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pends on the organs’ metabolic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rteriolar vasodilation is caus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creased 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concen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creased C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denosine release (waste product of A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rgans – Central Nerv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84692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ympathetic activity (except in the brain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auses arteriolar vasoconstriction regulating mean arterial blood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484360" y="3357720"/>
          <a:ext cx="4608720" cy="299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3357720"/>
                    <a:ext cx="4608720" cy="29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rg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compliance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66294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rg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116000" y="2708280"/>
          <a:ext cx="6408720" cy="336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708280"/>
                    <a:ext cx="6408720" cy="33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rg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ode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= (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R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er      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(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*R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er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(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*R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er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et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37348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e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rg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916360" y="1980720"/>
            <a:ext cx="554184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 = HR * SV = HR * K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* 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(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*R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er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4508640"/>
            <a:ext cx="5184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 =               P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*HR*K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+HR*K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*R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</a:rPr>
              <a:t>per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*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/(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24360" y="50133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ardiovascular Physiology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ichard E. Klabunde,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cvphysiology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733920" y="1905120"/>
          <a:ext cx="5105160" cy="4064040"/>
        </p:xfrm>
        <a:graphic>
          <a:graphicData uri="http://schemas.openxmlformats.org/drawingml/2006/table">
            <a:tbl>
              <a:tblPr/>
              <a:tblGrid>
                <a:gridCol w="1846080"/>
                <a:gridCol w="515880"/>
                <a:gridCol w="274320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 sour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s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ostly paralle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25844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utoregulation (Frank-Starling princi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entral Nerv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uto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entral Nerv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mplete Model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art – Auto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rank-Starling in sh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ous retur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rdiac output 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art – Auto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0" t="0" r="10842" b="30939"/>
          <a:stretch/>
        </p:blipFill>
        <p:spPr>
          <a:xfrm>
            <a:off x="5003640" y="2133720"/>
            <a:ext cx="4140360" cy="2950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0200" y="5681520"/>
            <a:ext cx="58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nous retur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RV output 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rank-Starling principle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th constant afterload the RV end-systolic volume is independent of the end-diastolic volu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art – Auto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rank-Starling principle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he afterload of  the RV is independent of the LA preload. The lungs compensate by using more capilla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 outpu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V filling 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art – Autoreg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ide effect of Frank-Starl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 higher pressure in the RA influences the depolarisation rate of the SA-node, resulting in an increased heart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ous pressure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rt rate 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art – Central Nerv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21644" t="23966" r="30584" b="10193"/>
          <a:stretch/>
        </p:blipFill>
        <p:spPr>
          <a:xfrm>
            <a:off x="5364000" y="1989000"/>
            <a:ext cx="3302280" cy="3302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3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athetic nerves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ricles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heart rate and muscle contrac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sympathic nerves (vagi)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- and AV-node, atria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s hear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art – Central Nerv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1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loop is closed by baroreceptors on large arteries.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ing arterial pressure excites the baroreceptors, followed by a decrease in sympathetic activ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4:14:57Z</dcterms:created>
  <dc:creator>Marijn Rolf</dc:creator>
  <dc:description/>
  <dc:language>en-US</dc:language>
  <cp:lastModifiedBy>Marijn Rolf</cp:lastModifiedBy>
  <dcterms:modified xsi:type="dcterms:W3CDTF">2004-10-20T19:55:19Z</dcterms:modified>
  <cp:revision>10</cp:revision>
  <dc:subject/>
  <dc:title>Control of Circulation and Arterial Pressure</dc:title>
</cp:coreProperties>
</file>