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42CE-EC3F-4918-9191-81C4BC03B7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icture of graph: preload, afterload and ejected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1BA3-A3EF-48E1-9C0A-2761E782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7441-1ACF-40A3-98A3-E968A230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16DD-A1D3-4254-8B9F-861D081F1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B0E3-ACA1-498B-83C1-CB292272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9774-96BA-4888-9655-5E14A574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8CF2-0CA5-41FC-9E88-0BFB1286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8AB3-67C8-4390-9E73-C4DC795B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2A89-5B3F-4769-A703-A295F9DD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1B27-A83C-4777-A6FA-67895578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72F1-B76F-4F92-A7C1-67CBDCF8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2636-84B4-4D6A-BB92-A4FDF286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37C1-103C-4AB6-AF43-B4245D3B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E1EE-B559-4F23-899B-D9C306E124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ntrol of Circulatio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nd Arterial Pres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arijn Ro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12193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e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del descrip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O = HR * SV = HR * K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* P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rgans - Autoreg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pends on the organs’ metabolic n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rteriolar vasodilation is caused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creased O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concen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creased CO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denosine release (waste product of A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rgans – Central Nerve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84692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ympathetic activity (except in the brain)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auses arteriolar vasoconstriction regulating mean arterial blood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484360" y="3357720"/>
          <a:ext cx="4608720" cy="299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3357720"/>
                    <a:ext cx="4608720" cy="29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rg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compliance" descr=""/>
          <p:cNvPicPr/>
          <p:nvPr/>
        </p:nvPicPr>
        <p:blipFill>
          <a:blip r:embed="rId2"/>
          <a:stretch/>
        </p:blipFill>
        <p:spPr>
          <a:xfrm>
            <a:off x="1219320" y="1676520"/>
            <a:ext cx="662940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rg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4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116000" y="2708280"/>
          <a:ext cx="6408720" cy="336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2708280"/>
                    <a:ext cx="6408720" cy="33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rg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ode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 = (P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R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er      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C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C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(C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C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*R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er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(C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C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*R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er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et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373480" cy="20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ea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rga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916360" y="1980720"/>
            <a:ext cx="554184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 = HR * SV = HR * K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* P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(C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C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*R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er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4508640"/>
            <a:ext cx="51847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 =               P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*HR*K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1+HR*K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*R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</a:rPr>
              <a:t>per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*C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/(C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24360" y="501336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ardiovascular Physiology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ichard E. Klabunde, Ph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ttp://www.cvphysiology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733920" y="1905120"/>
          <a:ext cx="5105160" cy="4064040"/>
        </p:xfrm>
        <a:graphic>
          <a:graphicData uri="http://schemas.openxmlformats.org/drawingml/2006/table">
            <a:tbl>
              <a:tblPr/>
              <a:tblGrid>
                <a:gridCol w="1846080"/>
                <a:gridCol w="515880"/>
                <a:gridCol w="2743200"/>
              </a:tblGrid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si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 sour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is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ostly paralle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25844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utoregulation (Frank-Starling princip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entral Nerv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rg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utore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entral Nerv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omplete Model De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eart – Autoreg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rank-Starling in sho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ous retur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rdiac output 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eart – Autoreg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rcRect l="0" t="0" r="10842" b="30939"/>
          <a:stretch/>
        </p:blipFill>
        <p:spPr>
          <a:xfrm>
            <a:off x="5003640" y="2133720"/>
            <a:ext cx="4140360" cy="2950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40200" y="5681520"/>
            <a:ext cx="58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↑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nous retur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RV output 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3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rank-Starling principle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ith constant afterload the RV end-systolic volume is independent of the end-diastolic volu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eart – Autoreg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rank-Starling principle 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he afterload of  the RV is independent of the LA preload. The lungs compensate by using more capilla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V outpu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V filling 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eart – Autoreg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ide effect of Frank-Starl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 higher pressure in the RA influences the depolarisation rate of the SA-node, resulting in an increased heartr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ous pressure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art rate 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eart – Central Nerve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rcRect l="21644" t="23966" r="30584" b="10193"/>
          <a:stretch/>
        </p:blipFill>
        <p:spPr>
          <a:xfrm>
            <a:off x="5364000" y="1989000"/>
            <a:ext cx="3302280" cy="33022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3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pathetic nerves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ricles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s heart rate and muscle contract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sympathic nerves (vagi)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- and AV-node, atria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s heart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eart – Central Nerve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41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loop is closed by baroreceptors on large arteries.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ing arterial pressure excites the baroreceptors, followed by a decrease in sympathetic activi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14:14:57Z</dcterms:created>
  <dc:creator>Marijn Rolf</dc:creator>
  <dc:description/>
  <dc:language>en-US</dc:language>
  <cp:lastModifiedBy>Marijn Rolf</cp:lastModifiedBy>
  <dcterms:modified xsi:type="dcterms:W3CDTF">2004-10-20T19:55:19Z</dcterms:modified>
  <cp:revision>10</cp:revision>
  <dc:subject/>
  <dc:title>Control of Circulation and Arterial Pressure</dc:title>
</cp:coreProperties>
</file>